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0BD-447F-4EAE-B840-A92F48EC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BE5-E1DE-40A3-BC52-7EC763EA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7F6-7D5F-4678-8B8C-5E2F7C51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B5D-5440-4FB9-81C8-A367B386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9B0-0C77-410F-912D-85E530BF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BDF-8E8F-41EA-A352-C24A8CAF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C98-A4AB-43BA-B977-A65BC390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38A-C93D-4864-A9A6-E359261B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6019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823-E90D-4D98-B1A8-81FF1F65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F56-2538-47D0-BC7D-B7971C21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F59-7988-45F9-B27F-F7D31527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920-ADDE-4DD9-BCB2-788541BB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3241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D7DEE6-B455-4DD4-B9C1-7C302AFA4C84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90640" y="363600"/>
            <a:ext cx="670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COSITU</a:t>
            </a:r>
            <a:endParaRPr b="1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U model for the calculation of telephone service costs, tariffs and interconnection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3A4-52A7-493E-B412-520E67391C9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coming national, double transit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c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network of another national operat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nd-user located outside the charging area of the interconnection point and connected to the network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 to national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nsit call between two national operators via the network of the operator for which the calculations are mad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206-705A-4E2C-8C89-1842FA7DA2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ternational boundaries of network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itical boundar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always correspond 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boundaries of network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maginar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int in the middle of the international area delimits the international “half-circuit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omplet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ational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4038480"/>
            <a:ext cx="3047760" cy="175284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962520"/>
            <a:ext cx="3048120" cy="175248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48769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35812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2705040" y="4000320"/>
            <a:ext cx="685800" cy="3809880"/>
          </a:xfrm>
          <a:custGeom>
            <a:avLst/>
            <a:gdLst>
              <a:gd name="textAreaLeft" fmla="*/ 438120 w 685800"/>
              <a:gd name="textAreaRight" fmla="*/ 686160 w 6858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308"/>
                </a:lnTo>
                <a:cubicBezTo>
                  <a:pt x="10800" y="8208"/>
                  <a:pt x="5400" y="9108"/>
                  <a:pt x="0" y="9108"/>
                </a:cubicBezTo>
                <a:cubicBezTo>
                  <a:pt x="5400" y="9108"/>
                  <a:pt x="10800" y="10008"/>
                  <a:pt x="10800" y="109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E85-DBC1-4A39-955A-F8B76845D6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National boundaries of networks and the base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interconnect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thin a given jurisdiction, the interconnection poi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twork bounda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ts incurred within the boundaries of a network are endogenous co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hich the operat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liberty 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ro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cept for transit charges identified at transmission, pay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o other correspondents for terminal traffic are exogenous costs which are not counted in determining costs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969-539B-498E-B8DF-68ACA8F68C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dogenous costs and exogenou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286000"/>
            <a:ext cx="3048120" cy="175248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COUNTR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2209680"/>
            <a:ext cx="3048120" cy="175284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COUNTRY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31240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2324160" y="3161880"/>
            <a:ext cx="685800" cy="3809880"/>
          </a:xfrm>
          <a:custGeom>
            <a:avLst/>
            <a:gdLst>
              <a:gd name="textAreaLeft" fmla="*/ 438120 w 685800"/>
              <a:gd name="textAreaRight" fmla="*/ 686160 w 6858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308"/>
                </a:lnTo>
                <a:cubicBezTo>
                  <a:pt x="10800" y="8208"/>
                  <a:pt x="5400" y="9108"/>
                  <a:pt x="0" y="9108"/>
                </a:cubicBezTo>
                <a:cubicBezTo>
                  <a:pt x="5400" y="9108"/>
                  <a:pt x="10800" y="10008"/>
                  <a:pt x="10800" y="109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5562720"/>
            <a:ext cx="26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Endogenous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556272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Exogenous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324480" y="3352320"/>
            <a:ext cx="685800" cy="3581280"/>
          </a:xfrm>
          <a:custGeom>
            <a:avLst/>
            <a:gdLst>
              <a:gd name="textAreaLeft" fmla="*/ 438120 w 685800"/>
              <a:gd name="textAreaRight" fmla="*/ 686160 w 6858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739"/>
                </a:lnTo>
                <a:cubicBezTo>
                  <a:pt x="10800" y="8639"/>
                  <a:pt x="5400" y="9539"/>
                  <a:pt x="0" y="9539"/>
                </a:cubicBezTo>
                <a:cubicBezTo>
                  <a:pt x="5400" y="9539"/>
                  <a:pt x="10800" y="10439"/>
                  <a:pt x="10800" y="1133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19112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4648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E40-119D-4991-89F5-9EBF1CABF6C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ange managemen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storical cos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 price of equipment and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urrent cos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alling 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telecommunication equipment, curren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COSIT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costs as confirmed on the relevant 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808-CA5D-42A2-BA10-7E9E82A84D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tual costs versus optimum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s (even current costs) incur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ffer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ervice are not necessari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o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ice provision can be an important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tructural realities of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kind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 mar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hou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theless be consider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eme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274-354D-455B-8D2B-622D166BEE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3320" y="482400"/>
            <a:ext cx="466272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asic principles for cost model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par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e open availability of information used in the cost derivation process in order to allow comprehension of the final rate from the vantage point of an external analyst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185760" indent="-1857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acticabil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ability to implement a costing methodology with reasonable demands being placed on data availability and data processing in order to keep the costing exercise economical yet still useful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511-BE3D-4C26-878C-865B943234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usa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e demonstration of a clear cause-and-effect relationship between service delivery, on the one hand, and the network elements and other resources used to provide it, on the other hand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, taking account of relevant cost determinants (cost inducers)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E7D-A738-4959-9658-2074CF39DA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ibution to common cos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osting methodologies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hould provide for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 reasonable contribution to common costs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e provision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 forecast of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ost reduction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at result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from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 more efficient combination of resources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D81-C1B7-4A08-9B4B-63193F0207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Stages of cost-orientated </a:t>
            </a: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pric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ing allowed by </a:t>
            </a: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COSITU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981080"/>
            <a:ext cx="1447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ost of network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Operation and maintenanc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981080"/>
            <a:ext cx="16002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Amortization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Equipment price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ost of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1981080"/>
            <a:ext cx="16002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ost of functiona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Identifiable direct and indirect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Other common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ost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447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Unit endogenous cost of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Tax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Universal service oblig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1981080"/>
            <a:ext cx="17524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Cost-orientated endogenous tarif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Tariff rebalan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USO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219320"/>
            <a:ext cx="8229600" cy="609480"/>
          </a:xfrm>
          <a:custGeom>
            <a:avLst/>
            <a:gdLst>
              <a:gd name="textAreaLeft" fmla="*/ 1285920 w 8229600"/>
              <a:gd name="textAreaRight" fmla="*/ 7201080 w 8229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440-73BD-487E-96B9-8070906FCD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096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e:  The views expressed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 this paper are those of the author and do not necessarily represent the opinions of ITU or its members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terms and definitions used are the author’s own and can on no account be regarded as replacing the official ITU defini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267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pape-gorgui.toure@itu.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AF2-7F0F-44B4-BD2B-88F4C39862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ttom-up” or “Top-down”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ifference between these two metho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the cost o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work compon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is determin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Bottom-up (“scorched node” or “earth node”): a fictitious network is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worked out from an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n estimate of traffic needs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ased on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statistical data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op-down: th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existing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network is the source of all information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IT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mmodat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, the initial stage for the bottom-up 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025-7B83-4663-9688-BC71D0E3EAB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ull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costs or incremental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hod allocates all costs to all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cremen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hod allocates a cost variation to the var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from a previously established balance - i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ffic volume th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 terms of stri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ance wit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ules of cost orientation, the incremen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hod requires complete rotation on all services and an additional allocation of common co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lance operation (real or fictitious);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se i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ame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077-55FD-4FFC-9123-09FDEA46A8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ull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costs or incremental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a market where several players are competing, it is in the interests of a service provider to apply the incremen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thout rotation, to a given service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r is already competitive in the other services (“value chain” theor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ing a service by the increment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hod without rotation amounts to transferr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of that service to the oth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services (cro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idy!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economically speaking it is acceptable as long as it produces neither an increase in the price of the other services nor anti-competitive arbitrage, which make the market less 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0F1-7723-4A58-A9CD-46E2B67122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ull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costs or incremental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ev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d to determine costs and traffic, the COSITU model can accommodate th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IT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, however, be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mized for use of real information from the accounts and technical data of real network operators with a view to equitable allocation of costs to the servic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enera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llectively or separat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ITU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ffected b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chnological cho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 directl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ervices sold – retail or wholes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E9D-CAA3-4811-8681-F623C9512A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djuste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reciation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(1/3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ne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tio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accoun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 telecommunication oper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nevertheless possible to take account of the natural evolution of the price of equipme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specific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adjust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tio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D25-43E2-4924-9B0B-58B04D792F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019920" cy="3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djuste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reciation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(2/3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also be taken into accoun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i="1" lang="en-GB" sz="2400" spc="-1" strike="noStrike" baseline="-25000">
                <a:solidFill>
                  <a:srgbClr val="008000"/>
                </a:solidFill>
                <a:latin typeface="Times New Roman"/>
              </a:rPr>
              <a:t>0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  is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e value of one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SDR in the national currency in the year of acquisition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i="1" lang="en-GB" sz="2400" spc="-1" strike="noStrike" baseline="-25000">
                <a:solidFill>
                  <a:srgbClr val="008000"/>
                </a:solidFill>
                <a:latin typeface="Times New Roman"/>
              </a:rPr>
              <a:t>n 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the value of one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SDR in the national currency in year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N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stically, the age of the equipment of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rdinar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lecommunication network is D/2 (half the li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352680" y="2133720"/>
                <a:ext cx="18288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177-0B61-45C9-9945-ADACA4DFDE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djuste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reciation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(3/3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CC=AMO*((1+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D/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/(1-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D/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–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where: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 = adjustment to curren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O = amortization allow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annual average growth rate in the price of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average annual rate of currency de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ci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02B-6CAE-4BCD-B59E-B7F6584066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fficiency (1/2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iciency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combining the following fa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install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utiliz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verage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nnual growth rat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in number of subscribers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replenishment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period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D49-E4B0-49B1-B4C1-8B6E41A074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fficiency (2/2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’= Max(0 ;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 - K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*[(1+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1]</a:t>
            </a:r>
            <a:r>
              <a:rPr b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K ’ is the idle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K is the difference between the installed capacity and the utiliz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1" i="1" lang="en-GB" sz="2400" spc="-1" strike="noStrike" baseline="-25000">
                <a:solidFill>
                  <a:srgbClr val="008000"/>
                </a:solidFill>
                <a:latin typeface="Times New Roman"/>
              </a:rPr>
              <a:t>u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is the utiliz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τ is the annual average growth rat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in the number of subscribers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N is th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necessary extension time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C33-CE30-460E-ABDA-659A16E329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usalit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 of the local loop is not sensitive to variation in traffic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basic investment which serves the global net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 of the local loop must b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ver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custo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ough all the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D7C-AD01-4B77-B0F1-3F7020F558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(urban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raff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d sole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of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hich the calculations are m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ween users located in the same local charging 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(interurban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raff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d sole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of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hich the calculations are m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tw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s located in different local charging are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ational outgoing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nd-user connected to the network of the operator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international gatewa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orrespondent located outside the natio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707-FB25-4496-A0CE-17BAB58D23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perating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and maintenance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Purchases and variations in stock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ransport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Outside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services 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sonn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xes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her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ncial and similar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ing prov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610-FD9E-40DF-88AC-27C8E4C5599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st of capita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43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bined effect of debt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43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editors dema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43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wners demand divid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43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atio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s an idea of current return 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43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investors often demand a retu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keeping with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i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il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national financial mark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612320" y="1407600"/>
            <a:ext cx="60696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t_profit /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FAF-EF25-4A30-BA59-2AB5353FA7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ost of capita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apital asset pricing model (CAPM) gives an indication of how to determine a minimum return on equity in a given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47920" y="3381480"/>
                <a:ext cx="555624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sk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ate</m:t>
                                </m:r>
                              </m:sub>
                            </m:sSub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sub>
                        </m:sSub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sitivity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rke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isk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C24-328E-4D21-A318-0EA3D2429D7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alculating BETA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TA of a stock corresponds to the slope of regression of its profitability as compared to that of the market, in other words, by 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47920" y="2514600"/>
                <a:ext cx="5252760" cy="380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T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sSub>
                                              <m:e/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M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sSub>
                                              <m:e/>
                                              <m:sub>
                                                <m:r>
                                                  <m:t xml:space="preserve">M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</m:e>
                                    </m:bar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A6A-12BF-4F86-B6FB-633A20A778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BETA of major European group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4" name="fig_25-6" descr=""/>
          <p:cNvPicPr/>
          <p:nvPr/>
        </p:nvPicPr>
        <p:blipFill>
          <a:blip r:embed="rId1"/>
          <a:stretch/>
        </p:blipFill>
        <p:spPr>
          <a:xfrm>
            <a:off x="0" y="1617840"/>
            <a:ext cx="8763120" cy="34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756-564D-43EF-9633-37F9E396787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volution of risk premium in European marke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fig_27-3" descr="wpe7.gif (10629 octets)"/>
          <p:cNvPicPr/>
          <p:nvPr/>
        </p:nvPicPr>
        <p:blipFill>
          <a:blip r:embed="rId1"/>
          <a:stretch/>
        </p:blipFill>
        <p:spPr>
          <a:xfrm>
            <a:off x="571680" y="938160"/>
            <a:ext cx="8001000" cy="49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878-EBD0-4CF9-A707-F84ACB3517A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volution of risk premium in emerging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market countrie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fig_27-5" descr="wpe7.gif (10629 octets)"/>
          <p:cNvPicPr/>
          <p:nvPr/>
        </p:nvPicPr>
        <p:blipFill>
          <a:blip r:embed="rId1"/>
          <a:stretch/>
        </p:blipFill>
        <p:spPr>
          <a:xfrm>
            <a:off x="571680" y="938160"/>
            <a:ext cx="8001000" cy="49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741-2AF4-47A3-AD26-4B455705ED9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BETA: conclusion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llowing shows that the CAPM is useful in calculating expected returns on equity only if there is abundant and reliable data pertaining to the market in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ITU does not rely only on this approach, given the specificities of developing countr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has an additional approach, which is essentially a comparative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E25-2278-421F-8117-2F0150B2B7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Some basic fac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kets in developing countries are exposed to adverse circumstances of all kinds, the effects of which are, for the most part, measured in terms of monetary ris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loans on these markets (in the telecommunication sector) are in convertible currenc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w investors in these markets also have investments in international financial mar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93F-623C-4C58-AFD2-483DB62C24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onsequence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est rate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hard currency debts must be adjusted for the risk premium of the issuing markets and for local conditions using the currency depreciation ra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xpected rate-of-return must also be adjusted, on the basis of indications from the international financial market or the owners’ market of ori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648-4F6D-4AA1-9CBC-023E0F8E12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coming internat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user located outside the na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aries 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nd-user connected to the network of the operator 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international gatew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utgoing subreg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nd-user connected to the network of the operator 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international gatewa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correspondent located outside the na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n a country which can be accessed by terrestrial med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so used for tru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795-6652-4200-9C42-7A5F50CB79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alculating the risk premium linked to currency depreciat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90920" y="426672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 = average duration of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 = currency de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isk – free money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86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447920" y="1676520"/>
                <a:ext cx="5715000" cy="24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ε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ε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5A0-8DE8-449D-BEFC-2CA4520373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Returns on equity: Europ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0" name="annexe_roe" descr=""/>
          <p:cNvPicPr/>
          <p:nvPr/>
        </p:nvPicPr>
        <p:blipFill>
          <a:blip r:embed="rId1"/>
          <a:srcRect l="7762" t="0" r="0" b="0"/>
          <a:stretch/>
        </p:blipFill>
        <p:spPr>
          <a:xfrm>
            <a:off x="685800" y="1981080"/>
            <a:ext cx="8153280" cy="326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BD2-121B-4164-80B3-9658977F4529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Global interest rate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2" name="fig_29-9" descr="wpe3.gif (11608 octets)"/>
          <p:cNvPicPr/>
          <p:nvPr/>
        </p:nvPicPr>
        <p:blipFill>
          <a:blip r:embed="rId1"/>
          <a:stretch/>
        </p:blipFill>
        <p:spPr>
          <a:xfrm>
            <a:off x="457200" y="1295280"/>
            <a:ext cx="8153280" cy="507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7FF-E57C-4FC4-8A39-834987559E7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xampl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ing a telecommunication company expecting a return on equity of 6.6% in Europ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ing an interest rate of 5.8% over ten yea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rder for the enterprise to have an interest in investing in the market of a developing country where the differential currency depreciation rate is 3.5% per annum and to obtain the same return on capital in Euros over ten years, its expected rate of return in the local curr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need to be 10.93%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13E-C27E-4143-9395-E5600D107CF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he cost of capital: conclus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ITU is able to calculate, assuming a preponderant risk of inflation for telecommunication companies in developing countries (sector risk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~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arket risk -&gt; BET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~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1), the essential components of the cost of capital as adjusted to local condi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after the traditional formula for the cost of capital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5764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971800" y="5029200"/>
                <a:ext cx="43815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D9D-86BE-415F-B564-8A030F1FD2F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Special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special costs are easy to single out even where the operator does not have analytical cost accoun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Study of products and services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Charging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Advertising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Distribution network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Customer service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International activities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National activities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Provisions for bad debts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8C5-F463-446F-AC80-0F7F3D04BBE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Routing tabl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outing table is an essential instrument for cost-orientated charg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allows allocation to every service, according to the intensity of demand it places on each one, part of the resources needed for its produc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 driver used by COSITU is traffic volume (adjusted by the geographical correction coefficient) for network component cost al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6FB-80DC-476C-844A-283DE049C74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Unit costs and reference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n the basis of the routing table, COSITU allocates to services their share of each cost component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resulting cost of a service is divided by the corresponding real traffic volume in order to obtain the unit cost of the servic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t this stage, the COSITU server allows an online comparison with other telephone network operator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costs here are endogenous intrinsic costs which do not take into account the specific requirements of Sta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D88-6596-4919-B468-8317EB6D8F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Moving from costs to tariff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96C-7AF4-4BAD-9A96-C0F575A8C3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Other tariff elements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egulatory authority may impose constraints on the prices practised by a telecommunication service provi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Profit tax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ontribution to universal service obligations (USO) 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ccess deficit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DC6-58E3-4F6F-A719-31E49AA895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bregional inco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user loca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a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n a country which can be accessed by terrestrial media also used for trunk traffic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nd-user connected to the network of the operator 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international gatew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8FD-EADD-4B8E-A474-0D055EE298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Profit tax (1/2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operator’s profits are distributed betwe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Shareholders, through return on capital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 State, through statutory taxation of profits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areholders often demand an after-tax return on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20A-6A96-4353-AF2D-F5DB5D34B12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Profit tax (2/2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73160" y="2743200"/>
                <a:ext cx="646272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nefit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vy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vy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uity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Equit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22F-0CFC-4A69-BF37-306A4A0A0A64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ontribution to universal service obligation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tate may require a deduction from an operator’s revenue for the purpose of financing USO co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Os may or may not be combined with the access defic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 applicable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447920" y="4505400"/>
                <a:ext cx="640080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O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nefit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E5C-2A82-42D3-98CB-E5524A07E03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ccess deficit (1/4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ccess deficit may occur when the regulatory authority opposes cost-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bas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djustment of the following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 connection charge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 monthly subscription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 price per minute of a local call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The price per minute of a trunk call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DAB-90DB-464B-9416-C4BF2DE0F1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ccess deficit (2/4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redistributing the access deficit, it must be borne in mind that only local users pay the connection charge and monthly subscri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rge per minute for outgoing calls should be redu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90640" y="4083120"/>
                <a:ext cx="7439040" cy="18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Subscribers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sf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bscr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'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72C-CAB3-4DA3-AE3A-4C4B8F85231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ccess deficit (3/4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mount of the access deficit is obtained by the following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1680" y="4267080"/>
                <a:ext cx="9210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cal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'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ca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cal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k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'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o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eff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05A-3C17-4EEA-87AB-D9D5A991DE2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ccess deficit (4/4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D &gt; 0, the access deficit is reallocated to all telecommunication services provided by the operato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there is no deficit. The surplus may be allocated to local and trunk calls in order to reduce and rebalance their tariff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730-F540-4915-8F7B-464C8597F1A8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Generic formula for distribution of other tariff elemen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calculated, the profit tax, the access deficit and the contribution to universal service obligations must be allocated to the appropriate servi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eneric formula for this purpos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600200" y="3930480"/>
                <a:ext cx="5638680" cy="208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rif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ement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C24-2A8D-4844-876E-C6FD072D076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COSITU assumption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al transit offered if the third parties to be interconnected can be accessed inside the same tariff area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 (« Hot potatoe routing »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al traffic to/from international via a direct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 link 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ernational transit cent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certain specific applications, the model may need slight external reprocessing; the necessary elements are availab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report on unit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D5B-83C5-421A-8B9A-7D7A1420F64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ners in a peering agreement can meet at several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sure parity of costs incurred, backbones adopt the "hot potato" routing mech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Hot potato" routing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52520" y="5334120"/>
            <a:ext cx="85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SP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72440" y="4038480"/>
            <a:ext cx="85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imes New Roman"/>
              </a:rPr>
              <a:t>ISP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257800"/>
            <a:ext cx="5105520" cy="60948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3886200"/>
            <a:ext cx="4876560" cy="68580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4089240"/>
            <a:ext cx="5181840" cy="1689120"/>
          </a:xfrm>
          <a:custGeom>
            <a:avLst/>
            <a:gdLst/>
            <a:ahLst/>
            <a:rect l="l" t="t" r="r" b="b"/>
            <a:pathLst>
              <a:path w="3264" h="1064">
                <a:moveTo>
                  <a:pt x="3264" y="112"/>
                </a:moveTo>
                <a:cubicBezTo>
                  <a:pt x="3108" y="56"/>
                  <a:pt x="2952" y="0"/>
                  <a:pt x="2928" y="112"/>
                </a:cubicBezTo>
                <a:cubicBezTo>
                  <a:pt x="2904" y="224"/>
                  <a:pt x="3136" y="632"/>
                  <a:pt x="3120" y="784"/>
                </a:cubicBezTo>
                <a:cubicBezTo>
                  <a:pt x="3104" y="936"/>
                  <a:pt x="3216" y="984"/>
                  <a:pt x="2832" y="1024"/>
                </a:cubicBezTo>
                <a:cubicBezTo>
                  <a:pt x="2448" y="1064"/>
                  <a:pt x="1288" y="1040"/>
                  <a:pt x="816" y="1024"/>
                </a:cubicBezTo>
                <a:cubicBezTo>
                  <a:pt x="344" y="1008"/>
                  <a:pt x="136" y="952"/>
                  <a:pt x="0" y="92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975120"/>
            <a:ext cx="5181840" cy="1752480"/>
          </a:xfrm>
          <a:custGeom>
            <a:avLst/>
            <a:gdLst/>
            <a:ahLst/>
            <a:rect l="l" t="t" r="r" b="b"/>
            <a:pathLst>
              <a:path w="3264" h="1104">
                <a:moveTo>
                  <a:pt x="0" y="952"/>
                </a:moveTo>
                <a:cubicBezTo>
                  <a:pt x="172" y="1028"/>
                  <a:pt x="344" y="1104"/>
                  <a:pt x="432" y="1000"/>
                </a:cubicBezTo>
                <a:cubicBezTo>
                  <a:pt x="520" y="896"/>
                  <a:pt x="216" y="488"/>
                  <a:pt x="528" y="328"/>
                </a:cubicBezTo>
                <a:cubicBezTo>
                  <a:pt x="840" y="168"/>
                  <a:pt x="1848" y="80"/>
                  <a:pt x="2304" y="40"/>
                </a:cubicBezTo>
                <a:cubicBezTo>
                  <a:pt x="2760" y="0"/>
                  <a:pt x="3112" y="80"/>
                  <a:pt x="3264" y="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886200"/>
            <a:ext cx="60984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3809880"/>
            <a:ext cx="533160" cy="2210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5943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59436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EAE-70EE-4448-B7FD-C0F8188926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rnational to internat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between two non-subregional international correspond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gateway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rnational to subregional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from a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n-subregional international correspondent to a subregional correspond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gateway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20C-AAAA-4E0E-9A5E-FBF5F5DF53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Times New Roman"/>
              </a:rPr>
              <a:t>Interconnection of ISPs and mobiles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pe-gorgui.toure@itu.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57150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Note – </a:t>
            </a:r>
            <a:r>
              <a:rPr b="0" i="1" lang="fr-CH" sz="1400" spc="-1" strike="noStrike">
                <a:solidFill>
                  <a:srgbClr val="000000"/>
                </a:solidFill>
                <a:latin typeface="Times New Roman"/>
              </a:rPr>
              <a:t>The views expressed in this paper are those of the author and do not necessarily represent the opinions of ITU and its memb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99C-FD6D-4DC7-AB7C-074715CBE98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echnical requirements for interconnection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ition of interfaces in accordance with ITU-T recommendations (e.g. R2, SS7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ion of a physical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8000"/>
                </a:solidFill>
                <a:latin typeface="Times New Roman"/>
              </a:rPr>
              <a:t>Belonging to one of the parties;</a:t>
            </a:r>
            <a:endParaRPr b="1" i="1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8000"/>
                </a:solidFill>
                <a:latin typeface="Times New Roman"/>
              </a:rPr>
              <a:t>In co-ownership in accordance with the “half-circuit” regime;</a:t>
            </a:r>
            <a:endParaRPr b="1" i="1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8000"/>
                </a:solidFill>
                <a:latin typeface="Times New Roman"/>
              </a:rPr>
              <a:t>Composed of two one-way special bundles.</a:t>
            </a:r>
            <a:endParaRPr b="1" i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CBE-21B6-4822-B5DF-6559911A95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414520" y="1395360"/>
          <a:ext cx="47865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4520" y="1395360"/>
                    <a:ext cx="47865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BF5-D505-4920-BC3E-125F0B31DA2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Fixed network Access and switching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8600" y="2119320"/>
          <a:ext cx="8610480" cy="26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19320"/>
                    <a:ext cx="861048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 rot="16200000">
            <a:off x="7048440" y="39240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781000" y="2857320"/>
            <a:ext cx="457200" cy="5257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009-ADA2-4895-B22B-4D31B6DE2DB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Mobile network Acces and switching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0880" y="1523880"/>
          <a:ext cx="845820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4582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 rot="16200000">
            <a:off x="2781000" y="2857320"/>
            <a:ext cx="457200" cy="5257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7048440" y="39240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868-00CB-4F4E-9FA1-960A2895811F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pplication of COSITU to mobile network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ions of capacity and growth in mobile commun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BSC access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utiliz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BSC traffic growth adjusted to growth of utilized capacity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rmination of average monthly subscription taking into account the weight of prepaid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738-CA87-435B-A9DD-3268ECC296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Specific responsibilities of NRA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terconnection interfaces must be clearly specified and publicly availa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be part of the specifications common to all operators and be recognized during the licence awarding proce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asic principles for calculating interconnection charges, including those relating to discounts for volume, should be public and common to all operato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ffect of the application of USO policies should be borne by all network operators on an equitable bas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in objective of interconnection should be to maximize the economic advantages of externalities and reduce service costs/p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062-CF45-4C95-9FF1-09BD0FC4F1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Internet telephon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three ways of accessing the telephone network via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 dedicated link (including cyber cafes) with the ISP: no interconnection with other national operators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 domestic call terminating on a set of modems of an ISP connected to the Internet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A national call to a VoIP server connected to the Internet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s of providing an end-to-end service are different in each of the above situ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096-3574-4513-8801-3A430B5C2FF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16120" y="2422440"/>
            <a:ext cx="5798880" cy="3971880"/>
            <a:chOff x="816120" y="2422440"/>
            <a:chExt cx="5798880" cy="3971880"/>
          </a:xfrm>
        </p:grpSpPr>
        <p:sp>
          <p:nvSpPr>
            <p:cNvPr id="229" name=""/>
            <p:cNvSpPr/>
            <p:nvPr/>
          </p:nvSpPr>
          <p:spPr>
            <a:xfrm>
              <a:off x="816120" y="2422440"/>
              <a:ext cx="5798880" cy="3971880"/>
            </a:xfrm>
            <a:custGeom>
              <a:avLst/>
              <a:gdLst/>
              <a:ahLst/>
              <a:rect l="l" t="t" r="r" b="b"/>
              <a:pathLst>
                <a:path w="7306" h="5003">
                  <a:moveTo>
                    <a:pt x="0" y="1459"/>
                  </a:moveTo>
                  <a:lnTo>
                    <a:pt x="4592" y="1459"/>
                  </a:lnTo>
                  <a:lnTo>
                    <a:pt x="4592" y="0"/>
                  </a:lnTo>
                  <a:lnTo>
                    <a:pt x="7306" y="0"/>
                  </a:lnTo>
                  <a:lnTo>
                    <a:pt x="7306" y="5003"/>
                  </a:lnTo>
                  <a:lnTo>
                    <a:pt x="0" y="5003"/>
                  </a:lnTo>
                  <a:lnTo>
                    <a:pt x="0" y="1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61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49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827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5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493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84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177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50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84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1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5236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8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19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52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8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20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39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8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20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5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8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224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5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90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3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7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905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24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75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92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25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59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92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256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60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940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27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60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9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2868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95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28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636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97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302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97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5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987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32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53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0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33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668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00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338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68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0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35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0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6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703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03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36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7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0500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3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7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05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400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73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066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40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735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08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41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750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08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416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6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0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43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7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101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5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7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11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7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13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4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79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13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4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81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4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81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16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49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29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16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98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84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179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51400" y="3571920"/>
              <a:ext cx="79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459320" y="3538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459320" y="3505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459320" y="347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459320" y="34380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459320" y="3405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459320" y="3370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459320" y="3336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4459320" y="3303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4459320" y="3270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4459320" y="32364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4459320" y="320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459320" y="3168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459320" y="3134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459320" y="3102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459320" y="30686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459320" y="30351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459320" y="2999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459320" y="2967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459320" y="2933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459320" y="29005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459320" y="28670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4459320" y="28335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459320" y="2798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459320" y="2765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459320" y="2731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459320" y="26989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459320" y="26654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459320" y="2630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459320" y="2596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459320" y="2563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4459320" y="2530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459320" y="24966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59320" y="24638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459320" y="2428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704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03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370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05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3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38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72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052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38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721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07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40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36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06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402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75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08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41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0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43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7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10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43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7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1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4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7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11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4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79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134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4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80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14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48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815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484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83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16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500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8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166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51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850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8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5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8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19640" y="242244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5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86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19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546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88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2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133880" y="2422440"/>
            <a:ext cx="2482920" cy="3973680"/>
            <a:chOff x="4133880" y="2422440"/>
            <a:chExt cx="2482920" cy="3973680"/>
          </a:xfrm>
        </p:grpSpPr>
        <p:sp>
          <p:nvSpPr>
            <p:cNvPr id="430" name=""/>
            <p:cNvSpPr/>
            <p:nvPr/>
          </p:nvSpPr>
          <p:spPr>
            <a:xfrm>
              <a:off x="635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88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23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56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8972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23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563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91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15000" y="2432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15000" y="2465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15000" y="2500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15000" y="2533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256716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15000" y="2600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15000" y="2633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15000" y="2666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15000" y="2701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5000" y="2735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15000" y="2768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15000" y="2801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15000" y="2835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15000" y="2868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15000" y="2903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2936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15000" y="2970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15000" y="3003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15000" y="3036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3071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15000" y="3105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15000" y="3138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15000" y="3171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5000" y="3205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15000" y="3238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15000" y="3273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15000" y="3306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15000" y="3340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15000" y="3373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15000" y="3406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15000" y="3441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15000" y="3475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15000" y="3508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15000" y="3541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15000" y="3575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15000" y="3608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15000" y="3643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15000" y="3676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15000" y="3710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15000" y="3743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15000" y="3776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15000" y="3809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15000" y="3844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15000" y="3878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15000" y="3911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15000" y="3944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15000" y="3978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15000" y="4013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15000" y="4046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15000" y="4079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15000" y="4113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15000" y="4146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15000" y="4179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15000" y="4214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15000" y="4248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15000" y="4281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15000" y="4314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15000" y="4348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15000" y="4381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15000" y="4416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15000" y="4449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15000" y="4483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15000" y="4516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15000" y="4549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15000" y="4584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15000" y="4618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15000" y="4651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15000" y="4684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15000" y="4718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15000" y="4751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15000" y="4786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15000" y="4819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15000" y="4853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5000" y="4886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15000" y="4919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15000" y="4952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4987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15000" y="5021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15000" y="5054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15000" y="5087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15000" y="5121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15000" y="5156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15000" y="5189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15000" y="5222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15000" y="5256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15000" y="5289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15000" y="5322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15000" y="5357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15000" y="5391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15000" y="5424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15000" y="5457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15000" y="5491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15000" y="5524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15000" y="5559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15000" y="5592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15000" y="5626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15000" y="5659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15000" y="5692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15000" y="5727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15000" y="5761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15000" y="5794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15000" y="5827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15000" y="5861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15000" y="5894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5000" y="5929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15000" y="5962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15000" y="5996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15000" y="6029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15000" y="6062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15000" y="6095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15000" y="6130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15000" y="6164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15000" y="6197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15000" y="6230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15000" y="6264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15000" y="6299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15000" y="6332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15000" y="6365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590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55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524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49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45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42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38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635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32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6289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25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22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18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154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12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08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05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01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98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9526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91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88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85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81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5783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574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5716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568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564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5614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558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5548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51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5481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44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5412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38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534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53132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527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24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521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5178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514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11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076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043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5010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97628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94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4908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487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4842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8070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4773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47397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707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4673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638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4605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57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538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4505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4470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436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40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370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43369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430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268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423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42022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16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13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816120" y="1380960"/>
            <a:ext cx="5441760" cy="5015160"/>
            <a:chOff x="816120" y="1380960"/>
            <a:chExt cx="5441760" cy="5015160"/>
          </a:xfrm>
        </p:grpSpPr>
        <p:sp>
          <p:nvSpPr>
            <p:cNvPr id="631" name=""/>
            <p:cNvSpPr/>
            <p:nvPr/>
          </p:nvSpPr>
          <p:spPr>
            <a:xfrm flipH="1">
              <a:off x="4100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067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033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9985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396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932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89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3865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8307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796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37634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730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6972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661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3629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359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56184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529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494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3460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342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394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3360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32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292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3258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225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1910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15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123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90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3057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30222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2989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9559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2922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889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854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820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7871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754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27208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2685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2652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61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5855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55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517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484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45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2417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23839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34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316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228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249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2147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218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1474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114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208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045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201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979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1946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191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187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84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18108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177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1744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170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167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164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1609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7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54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50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47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144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14061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37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133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130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27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238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120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117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113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110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106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103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1003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96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93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90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86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16120" y="6380280"/>
              <a:ext cx="144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816120" y="6346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816120" y="6311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816120" y="6278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816120" y="6245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816120" y="6211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816120" y="6178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816120" y="6143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816120" y="6109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816120" y="6076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816120" y="6043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816120" y="6010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816120" y="5977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816120" y="5942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816120" y="5908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816120" y="5874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816120" y="5842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816120" y="5808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816120" y="5775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816120" y="5740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816120" y="5707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816120" y="5673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816120" y="5640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816120" y="5607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816120" y="5571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816120" y="5538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816120" y="5505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16120" y="5471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816120" y="5438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816120" y="5405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816120" y="5370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816120" y="5336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816120" y="5303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816120" y="5270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816120" y="5237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16120" y="5203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816120" y="5168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816120" y="5135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816120" y="5102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816120" y="5068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816120" y="5035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816120" y="5000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16120" y="4966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16120" y="4933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816120" y="4900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816120" y="4867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816120" y="4834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816120" y="4799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816120" y="4765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16120" y="4731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816120" y="4699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816120" y="4665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816120" y="4632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816120" y="4597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816120" y="4564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16120" y="4530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816120" y="4497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16120" y="4464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816120" y="4428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816120" y="4395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816120" y="4362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816120" y="4328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816120" y="4295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816120" y="4262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16120" y="4227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816120" y="4193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16120" y="4160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816120" y="4127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816120" y="4094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816120" y="4060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816120" y="4025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816120" y="3992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816120" y="3959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816120" y="3925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816120" y="3892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816120" y="3857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816120" y="3823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816120" y="3790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816120" y="3757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816120" y="3724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16120" y="3691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816120" y="3656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816120" y="3622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816120" y="3588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30960" y="4233960"/>
              <a:ext cx="450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65800" y="4622760"/>
              <a:ext cx="1555560" cy="233280"/>
            </a:xfrm>
            <a:custGeom>
              <a:avLst/>
              <a:gdLst/>
              <a:ahLst/>
              <a:rect l="l" t="t" r="r" b="b"/>
              <a:pathLst>
                <a:path w="1960" h="293">
                  <a:moveTo>
                    <a:pt x="72" y="276"/>
                  </a:moveTo>
                  <a:lnTo>
                    <a:pt x="60" y="272"/>
                  </a:lnTo>
                  <a:lnTo>
                    <a:pt x="47" y="262"/>
                  </a:lnTo>
                  <a:lnTo>
                    <a:pt x="37" y="247"/>
                  </a:lnTo>
                  <a:lnTo>
                    <a:pt x="30" y="226"/>
                  </a:lnTo>
                  <a:lnTo>
                    <a:pt x="23" y="202"/>
                  </a:lnTo>
                  <a:lnTo>
                    <a:pt x="19" y="175"/>
                  </a:lnTo>
                  <a:lnTo>
                    <a:pt x="17" y="147"/>
                  </a:lnTo>
                  <a:lnTo>
                    <a:pt x="19" y="119"/>
                  </a:lnTo>
                  <a:lnTo>
                    <a:pt x="23" y="92"/>
                  </a:lnTo>
                  <a:lnTo>
                    <a:pt x="30" y="67"/>
                  </a:lnTo>
                  <a:lnTo>
                    <a:pt x="37" y="46"/>
                  </a:lnTo>
                  <a:lnTo>
                    <a:pt x="47" y="32"/>
                  </a:lnTo>
                  <a:lnTo>
                    <a:pt x="60" y="22"/>
                  </a:lnTo>
                  <a:lnTo>
                    <a:pt x="72" y="18"/>
                  </a:lnTo>
                  <a:lnTo>
                    <a:pt x="85" y="22"/>
                  </a:lnTo>
                  <a:lnTo>
                    <a:pt x="97" y="32"/>
                  </a:lnTo>
                  <a:lnTo>
                    <a:pt x="106" y="46"/>
                  </a:lnTo>
                  <a:lnTo>
                    <a:pt x="115" y="67"/>
                  </a:lnTo>
                  <a:lnTo>
                    <a:pt x="122" y="92"/>
                  </a:lnTo>
                  <a:lnTo>
                    <a:pt x="125" y="119"/>
                  </a:lnTo>
                  <a:lnTo>
                    <a:pt x="127" y="147"/>
                  </a:lnTo>
                  <a:lnTo>
                    <a:pt x="125" y="175"/>
                  </a:lnTo>
                  <a:lnTo>
                    <a:pt x="122" y="202"/>
                  </a:lnTo>
                  <a:lnTo>
                    <a:pt x="115" y="226"/>
                  </a:lnTo>
                  <a:lnTo>
                    <a:pt x="106" y="247"/>
                  </a:lnTo>
                  <a:lnTo>
                    <a:pt x="97" y="262"/>
                  </a:lnTo>
                  <a:lnTo>
                    <a:pt x="85" y="272"/>
                  </a:lnTo>
                  <a:lnTo>
                    <a:pt x="72" y="276"/>
                  </a:lnTo>
                  <a:close/>
                  <a:moveTo>
                    <a:pt x="72" y="0"/>
                  </a:moveTo>
                  <a:lnTo>
                    <a:pt x="1887" y="0"/>
                  </a:lnTo>
                  <a:lnTo>
                    <a:pt x="1903" y="4"/>
                  </a:lnTo>
                  <a:lnTo>
                    <a:pt x="1917" y="13"/>
                  </a:lnTo>
                  <a:lnTo>
                    <a:pt x="1930" y="29"/>
                  </a:lnTo>
                  <a:lnTo>
                    <a:pt x="1942" y="48"/>
                  </a:lnTo>
                  <a:lnTo>
                    <a:pt x="1951" y="73"/>
                  </a:lnTo>
                  <a:lnTo>
                    <a:pt x="1958" y="101"/>
                  </a:lnTo>
                  <a:lnTo>
                    <a:pt x="1960" y="131"/>
                  </a:lnTo>
                  <a:lnTo>
                    <a:pt x="1960" y="163"/>
                  </a:lnTo>
                  <a:lnTo>
                    <a:pt x="1958" y="193"/>
                  </a:lnTo>
                  <a:lnTo>
                    <a:pt x="1951" y="221"/>
                  </a:lnTo>
                  <a:lnTo>
                    <a:pt x="1942" y="246"/>
                  </a:lnTo>
                  <a:lnTo>
                    <a:pt x="1930" y="265"/>
                  </a:lnTo>
                  <a:lnTo>
                    <a:pt x="1917" y="281"/>
                  </a:lnTo>
                  <a:lnTo>
                    <a:pt x="1903" y="290"/>
                  </a:lnTo>
                  <a:lnTo>
                    <a:pt x="1887" y="293"/>
                  </a:lnTo>
                  <a:lnTo>
                    <a:pt x="72" y="293"/>
                  </a:lnTo>
                  <a:lnTo>
                    <a:pt x="56" y="290"/>
                  </a:lnTo>
                  <a:lnTo>
                    <a:pt x="42" y="281"/>
                  </a:lnTo>
                  <a:lnTo>
                    <a:pt x="28" y="265"/>
                  </a:lnTo>
                  <a:lnTo>
                    <a:pt x="17" y="246"/>
                  </a:lnTo>
                  <a:lnTo>
                    <a:pt x="9" y="221"/>
                  </a:lnTo>
                  <a:lnTo>
                    <a:pt x="1" y="193"/>
                  </a:lnTo>
                  <a:lnTo>
                    <a:pt x="0" y="163"/>
                  </a:lnTo>
                  <a:lnTo>
                    <a:pt x="0" y="131"/>
                  </a:lnTo>
                  <a:lnTo>
                    <a:pt x="1" y="101"/>
                  </a:lnTo>
                  <a:lnTo>
                    <a:pt x="9" y="73"/>
                  </a:lnTo>
                  <a:lnTo>
                    <a:pt x="17" y="48"/>
                  </a:lnTo>
                  <a:lnTo>
                    <a:pt x="28" y="29"/>
                  </a:lnTo>
                  <a:lnTo>
                    <a:pt x="42" y="13"/>
                  </a:lnTo>
                  <a:lnTo>
                    <a:pt x="56" y="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614760" y="4738680"/>
              <a:ext cx="162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62520" y="4738680"/>
              <a:ext cx="379440" cy="777960"/>
            </a:xfrm>
            <a:custGeom>
              <a:avLst/>
              <a:gdLst/>
              <a:ahLst/>
              <a:rect l="l" t="t" r="r" b="b"/>
              <a:pathLst>
                <a:path w="479" h="979">
                  <a:moveTo>
                    <a:pt x="0" y="979"/>
                  </a:moveTo>
                  <a:lnTo>
                    <a:pt x="0" y="0"/>
                  </a:lnTo>
                  <a:lnTo>
                    <a:pt x="47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41960" y="4738680"/>
              <a:ext cx="182520" cy="777960"/>
            </a:xfrm>
            <a:custGeom>
              <a:avLst/>
              <a:gdLst/>
              <a:ahLst/>
              <a:rect l="l" t="t" r="r" b="b"/>
              <a:pathLst>
                <a:path w="230" h="979">
                  <a:moveTo>
                    <a:pt x="230" y="979"/>
                  </a:moveTo>
                  <a:lnTo>
                    <a:pt x="23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5241960" y="4738680"/>
              <a:ext cx="3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41960" y="3656160"/>
              <a:ext cx="253800" cy="1082520"/>
            </a:xfrm>
            <a:custGeom>
              <a:avLst/>
              <a:gdLst/>
              <a:ahLst/>
              <a:rect l="l" t="t" r="r" b="b"/>
              <a:pathLst>
                <a:path w="320" h="1364">
                  <a:moveTo>
                    <a:pt x="320" y="0"/>
                  </a:moveTo>
                  <a:lnTo>
                    <a:pt x="320" y="1364"/>
                  </a:lnTo>
                  <a:lnTo>
                    <a:pt x="0" y="136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13440" y="4738680"/>
              <a:ext cx="128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5241960" y="4738680"/>
              <a:ext cx="1015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35360" y="4675320"/>
              <a:ext cx="1216080" cy="128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05200" y="4683240"/>
              <a:ext cx="1128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P INTERNET BACKB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11120" y="1380960"/>
              <a:ext cx="2573640" cy="1295640"/>
            </a:xfrm>
            <a:custGeom>
              <a:avLst/>
              <a:gdLst/>
              <a:ahLst/>
              <a:rect l="l" t="t" r="r" b="b"/>
              <a:pathLst>
                <a:path w="3241" h="1630">
                  <a:moveTo>
                    <a:pt x="477" y="1210"/>
                  </a:moveTo>
                  <a:lnTo>
                    <a:pt x="514" y="1274"/>
                  </a:lnTo>
                  <a:lnTo>
                    <a:pt x="555" y="1334"/>
                  </a:lnTo>
                  <a:lnTo>
                    <a:pt x="602" y="1389"/>
                  </a:lnTo>
                  <a:lnTo>
                    <a:pt x="654" y="1440"/>
                  </a:lnTo>
                  <a:lnTo>
                    <a:pt x="708" y="1486"/>
                  </a:lnTo>
                  <a:lnTo>
                    <a:pt x="769" y="1525"/>
                  </a:lnTo>
                  <a:lnTo>
                    <a:pt x="830" y="1558"/>
                  </a:lnTo>
                  <a:lnTo>
                    <a:pt x="896" y="1586"/>
                  </a:lnTo>
                  <a:lnTo>
                    <a:pt x="963" y="1608"/>
                  </a:lnTo>
                  <a:lnTo>
                    <a:pt x="1030" y="1622"/>
                  </a:lnTo>
                  <a:lnTo>
                    <a:pt x="1101" y="1630"/>
                  </a:lnTo>
                  <a:lnTo>
                    <a:pt x="1170" y="1630"/>
                  </a:lnTo>
                  <a:lnTo>
                    <a:pt x="1239" y="1625"/>
                  </a:lnTo>
                  <a:lnTo>
                    <a:pt x="1308" y="1613"/>
                  </a:lnTo>
                  <a:lnTo>
                    <a:pt x="1377" y="1593"/>
                  </a:lnTo>
                  <a:lnTo>
                    <a:pt x="1442" y="1567"/>
                  </a:lnTo>
                  <a:lnTo>
                    <a:pt x="1504" y="1535"/>
                  </a:lnTo>
                  <a:lnTo>
                    <a:pt x="1564" y="1496"/>
                  </a:lnTo>
                  <a:lnTo>
                    <a:pt x="1620" y="1452"/>
                  </a:lnTo>
                  <a:lnTo>
                    <a:pt x="1677" y="1496"/>
                  </a:lnTo>
                  <a:lnTo>
                    <a:pt x="1737" y="1535"/>
                  </a:lnTo>
                  <a:lnTo>
                    <a:pt x="1801" y="1567"/>
                  </a:lnTo>
                  <a:lnTo>
                    <a:pt x="1866" y="1593"/>
                  </a:lnTo>
                  <a:lnTo>
                    <a:pt x="1933" y="1613"/>
                  </a:lnTo>
                  <a:lnTo>
                    <a:pt x="2002" y="1625"/>
                  </a:lnTo>
                  <a:lnTo>
                    <a:pt x="2071" y="1630"/>
                  </a:lnTo>
                  <a:lnTo>
                    <a:pt x="2142" y="1630"/>
                  </a:lnTo>
                  <a:lnTo>
                    <a:pt x="2211" y="1622"/>
                  </a:lnTo>
                  <a:lnTo>
                    <a:pt x="2280" y="1608"/>
                  </a:lnTo>
                  <a:lnTo>
                    <a:pt x="2345" y="1586"/>
                  </a:lnTo>
                  <a:lnTo>
                    <a:pt x="2410" y="1558"/>
                  </a:lnTo>
                  <a:lnTo>
                    <a:pt x="2472" y="1525"/>
                  </a:lnTo>
                  <a:lnTo>
                    <a:pt x="2532" y="1486"/>
                  </a:lnTo>
                  <a:lnTo>
                    <a:pt x="2587" y="1440"/>
                  </a:lnTo>
                  <a:lnTo>
                    <a:pt x="2638" y="1389"/>
                  </a:lnTo>
                  <a:lnTo>
                    <a:pt x="2686" y="1334"/>
                  </a:lnTo>
                  <a:lnTo>
                    <a:pt x="2727" y="1274"/>
                  </a:lnTo>
                  <a:lnTo>
                    <a:pt x="2764" y="1210"/>
                  </a:lnTo>
                  <a:lnTo>
                    <a:pt x="2813" y="1219"/>
                  </a:lnTo>
                  <a:lnTo>
                    <a:pt x="2863" y="1223"/>
                  </a:lnTo>
                  <a:lnTo>
                    <a:pt x="2912" y="1219"/>
                  </a:lnTo>
                  <a:lnTo>
                    <a:pt x="2960" y="1209"/>
                  </a:lnTo>
                  <a:lnTo>
                    <a:pt x="3008" y="1191"/>
                  </a:lnTo>
                  <a:lnTo>
                    <a:pt x="3052" y="1168"/>
                  </a:lnTo>
                  <a:lnTo>
                    <a:pt x="3093" y="1138"/>
                  </a:lnTo>
                  <a:lnTo>
                    <a:pt x="3130" y="1103"/>
                  </a:lnTo>
                  <a:lnTo>
                    <a:pt x="3163" y="1062"/>
                  </a:lnTo>
                  <a:lnTo>
                    <a:pt x="3190" y="1018"/>
                  </a:lnTo>
                  <a:lnTo>
                    <a:pt x="3211" y="970"/>
                  </a:lnTo>
                  <a:lnTo>
                    <a:pt x="3227" y="919"/>
                  </a:lnTo>
                  <a:lnTo>
                    <a:pt x="3238" y="868"/>
                  </a:lnTo>
                  <a:lnTo>
                    <a:pt x="3241" y="815"/>
                  </a:lnTo>
                  <a:lnTo>
                    <a:pt x="3238" y="762"/>
                  </a:lnTo>
                  <a:lnTo>
                    <a:pt x="3227" y="709"/>
                  </a:lnTo>
                  <a:lnTo>
                    <a:pt x="3211" y="660"/>
                  </a:lnTo>
                  <a:lnTo>
                    <a:pt x="3190" y="612"/>
                  </a:lnTo>
                  <a:lnTo>
                    <a:pt x="3163" y="568"/>
                  </a:lnTo>
                  <a:lnTo>
                    <a:pt x="3130" y="528"/>
                  </a:lnTo>
                  <a:lnTo>
                    <a:pt x="3093" y="492"/>
                  </a:lnTo>
                  <a:lnTo>
                    <a:pt x="3052" y="462"/>
                  </a:lnTo>
                  <a:lnTo>
                    <a:pt x="3008" y="439"/>
                  </a:lnTo>
                  <a:lnTo>
                    <a:pt x="2960" y="422"/>
                  </a:lnTo>
                  <a:lnTo>
                    <a:pt x="2912" y="411"/>
                  </a:lnTo>
                  <a:lnTo>
                    <a:pt x="2863" y="407"/>
                  </a:lnTo>
                  <a:lnTo>
                    <a:pt x="2813" y="409"/>
                  </a:lnTo>
                  <a:lnTo>
                    <a:pt x="2764" y="420"/>
                  </a:lnTo>
                  <a:lnTo>
                    <a:pt x="2727" y="356"/>
                  </a:lnTo>
                  <a:lnTo>
                    <a:pt x="2686" y="296"/>
                  </a:lnTo>
                  <a:lnTo>
                    <a:pt x="2638" y="242"/>
                  </a:lnTo>
                  <a:lnTo>
                    <a:pt x="2587" y="190"/>
                  </a:lnTo>
                  <a:lnTo>
                    <a:pt x="2532" y="145"/>
                  </a:lnTo>
                  <a:lnTo>
                    <a:pt x="2472" y="106"/>
                  </a:lnTo>
                  <a:lnTo>
                    <a:pt x="2410" y="70"/>
                  </a:lnTo>
                  <a:lnTo>
                    <a:pt x="2345" y="44"/>
                  </a:lnTo>
                  <a:lnTo>
                    <a:pt x="2280" y="23"/>
                  </a:lnTo>
                  <a:lnTo>
                    <a:pt x="2211" y="7"/>
                  </a:lnTo>
                  <a:lnTo>
                    <a:pt x="2142" y="0"/>
                  </a:lnTo>
                  <a:lnTo>
                    <a:pt x="2071" y="0"/>
                  </a:lnTo>
                  <a:lnTo>
                    <a:pt x="2002" y="5"/>
                  </a:lnTo>
                  <a:lnTo>
                    <a:pt x="1933" y="17"/>
                  </a:lnTo>
                  <a:lnTo>
                    <a:pt x="1866" y="37"/>
                  </a:lnTo>
                  <a:lnTo>
                    <a:pt x="1801" y="63"/>
                  </a:lnTo>
                  <a:lnTo>
                    <a:pt x="1737" y="95"/>
                  </a:lnTo>
                  <a:lnTo>
                    <a:pt x="1677" y="134"/>
                  </a:lnTo>
                  <a:lnTo>
                    <a:pt x="1620" y="178"/>
                  </a:lnTo>
                  <a:lnTo>
                    <a:pt x="1564" y="134"/>
                  </a:lnTo>
                  <a:lnTo>
                    <a:pt x="1504" y="95"/>
                  </a:lnTo>
                  <a:lnTo>
                    <a:pt x="1442" y="63"/>
                  </a:lnTo>
                  <a:lnTo>
                    <a:pt x="1377" y="37"/>
                  </a:lnTo>
                  <a:lnTo>
                    <a:pt x="1308" y="17"/>
                  </a:lnTo>
                  <a:lnTo>
                    <a:pt x="1239" y="5"/>
                  </a:lnTo>
                  <a:lnTo>
                    <a:pt x="1170" y="0"/>
                  </a:lnTo>
                  <a:lnTo>
                    <a:pt x="1101" y="0"/>
                  </a:lnTo>
                  <a:lnTo>
                    <a:pt x="1030" y="7"/>
                  </a:lnTo>
                  <a:lnTo>
                    <a:pt x="963" y="23"/>
                  </a:lnTo>
                  <a:lnTo>
                    <a:pt x="896" y="44"/>
                  </a:lnTo>
                  <a:lnTo>
                    <a:pt x="830" y="70"/>
                  </a:lnTo>
                  <a:lnTo>
                    <a:pt x="769" y="106"/>
                  </a:lnTo>
                  <a:lnTo>
                    <a:pt x="708" y="145"/>
                  </a:lnTo>
                  <a:lnTo>
                    <a:pt x="654" y="190"/>
                  </a:lnTo>
                  <a:lnTo>
                    <a:pt x="602" y="242"/>
                  </a:lnTo>
                  <a:lnTo>
                    <a:pt x="555" y="296"/>
                  </a:lnTo>
                  <a:lnTo>
                    <a:pt x="514" y="356"/>
                  </a:lnTo>
                  <a:lnTo>
                    <a:pt x="477" y="420"/>
                  </a:lnTo>
                  <a:lnTo>
                    <a:pt x="427" y="409"/>
                  </a:lnTo>
                  <a:lnTo>
                    <a:pt x="378" y="407"/>
                  </a:lnTo>
                  <a:lnTo>
                    <a:pt x="329" y="411"/>
                  </a:lnTo>
                  <a:lnTo>
                    <a:pt x="281" y="422"/>
                  </a:lnTo>
                  <a:lnTo>
                    <a:pt x="233" y="439"/>
                  </a:lnTo>
                  <a:lnTo>
                    <a:pt x="189" y="462"/>
                  </a:lnTo>
                  <a:lnTo>
                    <a:pt x="148" y="492"/>
                  </a:lnTo>
                  <a:lnTo>
                    <a:pt x="111" y="528"/>
                  </a:lnTo>
                  <a:lnTo>
                    <a:pt x="79" y="568"/>
                  </a:lnTo>
                  <a:lnTo>
                    <a:pt x="51" y="612"/>
                  </a:lnTo>
                  <a:lnTo>
                    <a:pt x="30" y="660"/>
                  </a:lnTo>
                  <a:lnTo>
                    <a:pt x="14" y="709"/>
                  </a:lnTo>
                  <a:lnTo>
                    <a:pt x="3" y="762"/>
                  </a:lnTo>
                  <a:lnTo>
                    <a:pt x="0" y="815"/>
                  </a:lnTo>
                  <a:lnTo>
                    <a:pt x="3" y="868"/>
                  </a:lnTo>
                  <a:lnTo>
                    <a:pt x="14" y="919"/>
                  </a:lnTo>
                  <a:lnTo>
                    <a:pt x="30" y="970"/>
                  </a:lnTo>
                  <a:lnTo>
                    <a:pt x="51" y="1018"/>
                  </a:lnTo>
                  <a:lnTo>
                    <a:pt x="79" y="1062"/>
                  </a:lnTo>
                  <a:lnTo>
                    <a:pt x="111" y="1103"/>
                  </a:lnTo>
                  <a:lnTo>
                    <a:pt x="148" y="1138"/>
                  </a:lnTo>
                  <a:lnTo>
                    <a:pt x="189" y="1168"/>
                  </a:lnTo>
                  <a:lnTo>
                    <a:pt x="233" y="1191"/>
                  </a:lnTo>
                  <a:lnTo>
                    <a:pt x="281" y="1209"/>
                  </a:lnTo>
                  <a:lnTo>
                    <a:pt x="329" y="1219"/>
                  </a:lnTo>
                  <a:lnTo>
                    <a:pt x="378" y="1223"/>
                  </a:lnTo>
                  <a:lnTo>
                    <a:pt x="427" y="1219"/>
                  </a:lnTo>
                  <a:lnTo>
                    <a:pt x="477" y="121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359720" y="18288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NAT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99320" y="2025720"/>
              <a:ext cx="851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395360" y="3879720"/>
              <a:ext cx="166680" cy="1987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07960" y="3892680"/>
              <a:ext cx="49320" cy="17280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6"/>
                  </a:lnTo>
                  <a:lnTo>
                    <a:pt x="62" y="171"/>
                  </a:lnTo>
                  <a:lnTo>
                    <a:pt x="62" y="210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0"/>
                  </a:lnTo>
                  <a:lnTo>
                    <a:pt x="0" y="171"/>
                  </a:lnTo>
                  <a:lnTo>
                    <a:pt x="9" y="156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71680" y="3892680"/>
              <a:ext cx="75960" cy="172800"/>
            </a:xfrm>
            <a:custGeom>
              <a:avLst/>
              <a:gdLst/>
              <a:ahLst/>
              <a:rect l="l" t="t" r="r" b="b"/>
              <a:pathLst>
                <a:path w="96" h="219">
                  <a:moveTo>
                    <a:pt x="0" y="78"/>
                  </a:moveTo>
                  <a:lnTo>
                    <a:pt x="43" y="78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2" y="78"/>
                  </a:moveTo>
                  <a:lnTo>
                    <a:pt x="96" y="78"/>
                  </a:lnTo>
                  <a:lnTo>
                    <a:pt x="96" y="0"/>
                  </a:lnTo>
                  <a:lnTo>
                    <a:pt x="52" y="0"/>
                  </a:lnTo>
                  <a:lnTo>
                    <a:pt x="52" y="78"/>
                  </a:lnTo>
                  <a:close/>
                  <a:moveTo>
                    <a:pt x="0" y="219"/>
                  </a:moveTo>
                  <a:lnTo>
                    <a:pt x="96" y="219"/>
                  </a:lnTo>
                  <a:lnTo>
                    <a:pt x="96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71680" y="3990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1000080" y="272880"/>
            <a:ext cx="7134120" cy="6121440"/>
            <a:chOff x="1000080" y="272880"/>
            <a:chExt cx="7134120" cy="6121440"/>
          </a:xfrm>
        </p:grpSpPr>
        <p:sp>
          <p:nvSpPr>
            <p:cNvPr id="832" name=""/>
            <p:cNvSpPr/>
            <p:nvPr/>
          </p:nvSpPr>
          <p:spPr>
            <a:xfrm>
              <a:off x="1471680" y="39844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71680" y="39783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71680" y="39718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71680" y="396540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12720" y="390672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512720" y="393876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12720" y="392256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71680" y="390672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71680" y="3938760"/>
              <a:ext cx="33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471680" y="392256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71680" y="404964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471680" y="403560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71680" y="4017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522440" y="4002120"/>
              <a:ext cx="14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496880" y="4002120"/>
              <a:ext cx="18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249200" y="4116240"/>
              <a:ext cx="459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97440" y="412416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52800" y="438120"/>
              <a:ext cx="496800" cy="495360"/>
            </a:xfrm>
            <a:custGeom>
              <a:avLst/>
              <a:gdLst/>
              <a:ahLst/>
              <a:rect l="l" t="t" r="r" b="b"/>
              <a:pathLst>
                <a:path w="626" h="625">
                  <a:moveTo>
                    <a:pt x="136" y="412"/>
                  </a:moveTo>
                  <a:lnTo>
                    <a:pt x="0" y="412"/>
                  </a:lnTo>
                  <a:lnTo>
                    <a:pt x="0" y="625"/>
                  </a:lnTo>
                  <a:lnTo>
                    <a:pt x="626" y="625"/>
                  </a:lnTo>
                  <a:lnTo>
                    <a:pt x="626" y="412"/>
                  </a:lnTo>
                  <a:lnTo>
                    <a:pt x="488" y="412"/>
                  </a:lnTo>
                  <a:lnTo>
                    <a:pt x="488" y="382"/>
                  </a:lnTo>
                  <a:lnTo>
                    <a:pt x="548" y="382"/>
                  </a:lnTo>
                  <a:lnTo>
                    <a:pt x="548" y="0"/>
                  </a:lnTo>
                  <a:lnTo>
                    <a:pt x="78" y="0"/>
                  </a:lnTo>
                  <a:lnTo>
                    <a:pt x="78" y="382"/>
                  </a:lnTo>
                  <a:lnTo>
                    <a:pt x="136" y="382"/>
                  </a:lnTo>
                  <a:lnTo>
                    <a:pt x="136" y="41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60800" y="76356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60800" y="73980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08400" y="779400"/>
              <a:ext cx="201600" cy="138240"/>
            </a:xfrm>
            <a:custGeom>
              <a:avLst/>
              <a:gdLst/>
              <a:ahLst/>
              <a:rect l="l" t="t" r="r" b="b"/>
              <a:pathLst>
                <a:path w="254" h="175">
                  <a:moveTo>
                    <a:pt x="0" y="175"/>
                  </a:moveTo>
                  <a:lnTo>
                    <a:pt x="206" y="175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175"/>
                  </a:lnTo>
                  <a:close/>
                  <a:moveTo>
                    <a:pt x="226" y="28"/>
                  </a:moveTo>
                  <a:lnTo>
                    <a:pt x="254" y="28"/>
                  </a:lnTo>
                  <a:lnTo>
                    <a:pt x="254" y="0"/>
                  </a:lnTo>
                  <a:lnTo>
                    <a:pt x="226" y="0"/>
                  </a:lnTo>
                  <a:lnTo>
                    <a:pt x="22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08400" y="82548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308400" y="87156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316320" y="849240"/>
              <a:ext cx="147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02000" y="833400"/>
              <a:ext cx="46080" cy="31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68640" y="473040"/>
              <a:ext cx="465120" cy="333360"/>
            </a:xfrm>
            <a:custGeom>
              <a:avLst/>
              <a:gdLst/>
              <a:ahLst/>
              <a:rect l="l" t="t" r="r" b="b"/>
              <a:pathLst>
                <a:path w="587" h="420">
                  <a:moveTo>
                    <a:pt x="492" y="300"/>
                  </a:moveTo>
                  <a:lnTo>
                    <a:pt x="513" y="300"/>
                  </a:lnTo>
                  <a:lnTo>
                    <a:pt x="513" y="292"/>
                  </a:lnTo>
                  <a:lnTo>
                    <a:pt x="492" y="292"/>
                  </a:lnTo>
                  <a:lnTo>
                    <a:pt x="492" y="300"/>
                  </a:lnTo>
                  <a:close/>
                  <a:moveTo>
                    <a:pt x="131" y="248"/>
                  </a:moveTo>
                  <a:lnTo>
                    <a:pt x="131" y="30"/>
                  </a:lnTo>
                  <a:lnTo>
                    <a:pt x="455" y="30"/>
                  </a:lnTo>
                  <a:lnTo>
                    <a:pt x="455" y="248"/>
                  </a:lnTo>
                  <a:lnTo>
                    <a:pt x="131" y="248"/>
                  </a:lnTo>
                  <a:close/>
                  <a:moveTo>
                    <a:pt x="117" y="264"/>
                  </a:moveTo>
                  <a:lnTo>
                    <a:pt x="469" y="264"/>
                  </a:lnTo>
                  <a:lnTo>
                    <a:pt x="469" y="14"/>
                  </a:lnTo>
                  <a:lnTo>
                    <a:pt x="485" y="14"/>
                  </a:lnTo>
                  <a:lnTo>
                    <a:pt x="485" y="0"/>
                  </a:lnTo>
                  <a:lnTo>
                    <a:pt x="103" y="0"/>
                  </a:lnTo>
                  <a:lnTo>
                    <a:pt x="103" y="278"/>
                  </a:lnTo>
                  <a:lnTo>
                    <a:pt x="117" y="278"/>
                  </a:lnTo>
                  <a:lnTo>
                    <a:pt x="117" y="264"/>
                  </a:lnTo>
                  <a:close/>
                  <a:moveTo>
                    <a:pt x="0" y="405"/>
                  </a:moveTo>
                  <a:lnTo>
                    <a:pt x="59" y="405"/>
                  </a:lnTo>
                  <a:lnTo>
                    <a:pt x="59" y="386"/>
                  </a:lnTo>
                  <a:lnTo>
                    <a:pt x="0" y="386"/>
                  </a:lnTo>
                  <a:lnTo>
                    <a:pt x="0" y="405"/>
                  </a:lnTo>
                  <a:close/>
                  <a:moveTo>
                    <a:pt x="342" y="420"/>
                  </a:moveTo>
                  <a:lnTo>
                    <a:pt x="469" y="420"/>
                  </a:lnTo>
                  <a:lnTo>
                    <a:pt x="469" y="411"/>
                  </a:lnTo>
                  <a:lnTo>
                    <a:pt x="342" y="411"/>
                  </a:lnTo>
                  <a:lnTo>
                    <a:pt x="342" y="420"/>
                  </a:lnTo>
                  <a:close/>
                  <a:moveTo>
                    <a:pt x="568" y="395"/>
                  </a:moveTo>
                  <a:lnTo>
                    <a:pt x="587" y="395"/>
                  </a:lnTo>
                  <a:lnTo>
                    <a:pt x="587" y="386"/>
                  </a:lnTo>
                  <a:lnTo>
                    <a:pt x="568" y="386"/>
                  </a:lnTo>
                  <a:lnTo>
                    <a:pt x="568" y="395"/>
                  </a:lnTo>
                  <a:close/>
                  <a:moveTo>
                    <a:pt x="568" y="414"/>
                  </a:moveTo>
                  <a:lnTo>
                    <a:pt x="587" y="414"/>
                  </a:lnTo>
                  <a:lnTo>
                    <a:pt x="587" y="405"/>
                  </a:lnTo>
                  <a:lnTo>
                    <a:pt x="568" y="405"/>
                  </a:lnTo>
                  <a:lnTo>
                    <a:pt x="568" y="4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14720" y="723960"/>
              <a:ext cx="37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32068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33004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00480" y="973080"/>
              <a:ext cx="4302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48360" y="98100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508920" y="109368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 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40880" y="120492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10360" y="272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10360" y="482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110360" y="558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10360" y="768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110360" y="844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10360" y="1054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10360" y="1130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10360" y="1339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10360" y="1415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10360" y="1625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10360" y="1701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10360" y="1911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110360" y="1987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10360" y="2197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10360" y="2273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10360" y="2482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10360" y="2558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110360" y="2768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10360" y="2844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10360" y="3054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10360" y="3130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10360" y="3340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10360" y="3416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10360" y="3625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10360" y="3701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110360" y="3911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10360" y="3987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110360" y="4197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10360" y="4273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10360" y="4483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10360" y="4559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10360" y="4768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10360" y="4844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10360" y="5054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10360" y="5130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10360" y="5340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10360" y="5416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10360" y="5626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10360" y="5702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110360" y="5911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10360" y="5987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10360" y="6197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110360" y="6273720"/>
              <a:ext cx="1800" cy="120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5400000">
              <a:off x="6785280" y="328140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und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146240" y="901800"/>
              <a:ext cx="164880" cy="198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160640" y="914400"/>
              <a:ext cx="48960" cy="17316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7"/>
                  </a:lnTo>
                  <a:lnTo>
                    <a:pt x="62" y="172"/>
                  </a:lnTo>
                  <a:lnTo>
                    <a:pt x="62" y="212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2"/>
                  </a:lnTo>
                  <a:lnTo>
                    <a:pt x="0" y="172"/>
                  </a:lnTo>
                  <a:lnTo>
                    <a:pt x="9" y="157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222200" y="914400"/>
              <a:ext cx="76320" cy="173160"/>
            </a:xfrm>
            <a:custGeom>
              <a:avLst/>
              <a:gdLst/>
              <a:ahLst/>
              <a:rect l="l" t="t" r="r" b="b"/>
              <a:pathLst>
                <a:path w="97" h="219">
                  <a:moveTo>
                    <a:pt x="0" y="78"/>
                  </a:moveTo>
                  <a:lnTo>
                    <a:pt x="44" y="78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3" y="78"/>
                  </a:moveTo>
                  <a:lnTo>
                    <a:pt x="97" y="78"/>
                  </a:lnTo>
                  <a:lnTo>
                    <a:pt x="97" y="0"/>
                  </a:lnTo>
                  <a:lnTo>
                    <a:pt x="53" y="0"/>
                  </a:lnTo>
                  <a:lnTo>
                    <a:pt x="53" y="78"/>
                  </a:lnTo>
                  <a:close/>
                  <a:moveTo>
                    <a:pt x="0" y="219"/>
                  </a:moveTo>
                  <a:lnTo>
                    <a:pt x="97" y="219"/>
                  </a:lnTo>
                  <a:lnTo>
                    <a:pt x="97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22200" y="1012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222200" y="100656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22200" y="10000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222200" y="99540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222200" y="98748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263600" y="92880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263600" y="96048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63600" y="94464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222200" y="9288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22200" y="9604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22200" y="9446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222200" y="10717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222200" y="10573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222200" y="1039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274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47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00080" y="1138320"/>
              <a:ext cx="4590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49760" y="114624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92720" y="5516640"/>
              <a:ext cx="662040" cy="496800"/>
            </a:xfrm>
            <a:custGeom>
              <a:avLst/>
              <a:gdLst/>
              <a:ahLst/>
              <a:rect l="l" t="t" r="r" b="b"/>
              <a:pathLst>
                <a:path w="835" h="625">
                  <a:moveTo>
                    <a:pt x="0" y="625"/>
                  </a:moveTo>
                  <a:lnTo>
                    <a:pt x="0" y="613"/>
                  </a:lnTo>
                  <a:lnTo>
                    <a:pt x="84" y="574"/>
                  </a:lnTo>
                  <a:lnTo>
                    <a:pt x="84" y="0"/>
                  </a:lnTo>
                  <a:lnTo>
                    <a:pt x="306" y="0"/>
                  </a:lnTo>
                  <a:lnTo>
                    <a:pt x="306" y="574"/>
                  </a:lnTo>
                  <a:lnTo>
                    <a:pt x="396" y="613"/>
                  </a:lnTo>
                  <a:lnTo>
                    <a:pt x="396" y="625"/>
                  </a:lnTo>
                  <a:lnTo>
                    <a:pt x="0" y="625"/>
                  </a:lnTo>
                  <a:close/>
                  <a:moveTo>
                    <a:pt x="334" y="539"/>
                  </a:moveTo>
                  <a:lnTo>
                    <a:pt x="412" y="539"/>
                  </a:lnTo>
                  <a:lnTo>
                    <a:pt x="499" y="560"/>
                  </a:lnTo>
                  <a:lnTo>
                    <a:pt x="499" y="604"/>
                  </a:lnTo>
                  <a:lnTo>
                    <a:pt x="412" y="604"/>
                  </a:lnTo>
                  <a:lnTo>
                    <a:pt x="412" y="625"/>
                  </a:lnTo>
                  <a:lnTo>
                    <a:pt x="757" y="625"/>
                  </a:lnTo>
                  <a:lnTo>
                    <a:pt x="757" y="604"/>
                  </a:lnTo>
                  <a:lnTo>
                    <a:pt x="670" y="604"/>
                  </a:lnTo>
                  <a:lnTo>
                    <a:pt x="670" y="560"/>
                  </a:lnTo>
                  <a:lnTo>
                    <a:pt x="757" y="539"/>
                  </a:lnTo>
                  <a:lnTo>
                    <a:pt x="835" y="539"/>
                  </a:lnTo>
                  <a:lnTo>
                    <a:pt x="835" y="157"/>
                  </a:lnTo>
                  <a:lnTo>
                    <a:pt x="334" y="157"/>
                  </a:lnTo>
                  <a:lnTo>
                    <a:pt x="334" y="539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59320" y="5972040"/>
              <a:ext cx="180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535720" y="5972040"/>
              <a:ext cx="144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13320" y="5672160"/>
              <a:ext cx="6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403960" y="5619600"/>
              <a:ext cx="88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81640" y="5537160"/>
              <a:ext cx="131760" cy="290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88000" y="599616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688000" y="596124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19600" y="5943600"/>
              <a:ext cx="27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75160" y="5846760"/>
              <a:ext cx="142920" cy="135000"/>
            </a:xfrm>
            <a:custGeom>
              <a:avLst/>
              <a:gdLst/>
              <a:ahLst/>
              <a:rect l="l" t="t" r="r" b="b"/>
              <a:pathLst>
                <a:path w="180" h="169">
                  <a:moveTo>
                    <a:pt x="0" y="104"/>
                  </a:moveTo>
                  <a:lnTo>
                    <a:pt x="14" y="10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4"/>
                  </a:lnTo>
                  <a:close/>
                  <a:moveTo>
                    <a:pt x="28" y="104"/>
                  </a:moveTo>
                  <a:lnTo>
                    <a:pt x="42" y="104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8" y="104"/>
                  </a:lnTo>
                  <a:close/>
                  <a:moveTo>
                    <a:pt x="54" y="104"/>
                  </a:moveTo>
                  <a:lnTo>
                    <a:pt x="69" y="104"/>
                  </a:lnTo>
                  <a:lnTo>
                    <a:pt x="69" y="0"/>
                  </a:lnTo>
                  <a:lnTo>
                    <a:pt x="54" y="0"/>
                  </a:lnTo>
                  <a:lnTo>
                    <a:pt x="54" y="104"/>
                  </a:lnTo>
                  <a:close/>
                  <a:moveTo>
                    <a:pt x="83" y="104"/>
                  </a:moveTo>
                  <a:lnTo>
                    <a:pt x="97" y="104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83" y="104"/>
                  </a:lnTo>
                  <a:close/>
                  <a:moveTo>
                    <a:pt x="111" y="104"/>
                  </a:moveTo>
                  <a:lnTo>
                    <a:pt x="125" y="104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111" y="104"/>
                  </a:lnTo>
                  <a:close/>
                  <a:moveTo>
                    <a:pt x="139" y="104"/>
                  </a:moveTo>
                  <a:lnTo>
                    <a:pt x="153" y="104"/>
                  </a:lnTo>
                  <a:lnTo>
                    <a:pt x="153" y="0"/>
                  </a:lnTo>
                  <a:lnTo>
                    <a:pt x="139" y="0"/>
                  </a:lnTo>
                  <a:lnTo>
                    <a:pt x="139" y="104"/>
                  </a:lnTo>
                  <a:close/>
                  <a:moveTo>
                    <a:pt x="166" y="104"/>
                  </a:moveTo>
                  <a:lnTo>
                    <a:pt x="180" y="104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66" y="104"/>
                  </a:lnTo>
                  <a:close/>
                  <a:moveTo>
                    <a:pt x="166" y="169"/>
                  </a:moveTo>
                  <a:lnTo>
                    <a:pt x="180" y="169"/>
                  </a:lnTo>
                  <a:lnTo>
                    <a:pt x="180" y="118"/>
                  </a:lnTo>
                  <a:lnTo>
                    <a:pt x="166" y="118"/>
                  </a:lnTo>
                  <a:lnTo>
                    <a:pt x="166" y="169"/>
                  </a:lnTo>
                  <a:close/>
                  <a:moveTo>
                    <a:pt x="139" y="169"/>
                  </a:moveTo>
                  <a:lnTo>
                    <a:pt x="153" y="169"/>
                  </a:lnTo>
                  <a:lnTo>
                    <a:pt x="153" y="118"/>
                  </a:lnTo>
                  <a:lnTo>
                    <a:pt x="139" y="118"/>
                  </a:lnTo>
                  <a:lnTo>
                    <a:pt x="139" y="169"/>
                  </a:lnTo>
                  <a:close/>
                  <a:moveTo>
                    <a:pt x="111" y="169"/>
                  </a:moveTo>
                  <a:lnTo>
                    <a:pt x="125" y="169"/>
                  </a:lnTo>
                  <a:lnTo>
                    <a:pt x="125" y="118"/>
                  </a:lnTo>
                  <a:lnTo>
                    <a:pt x="111" y="118"/>
                  </a:lnTo>
                  <a:lnTo>
                    <a:pt x="111" y="169"/>
                  </a:lnTo>
                  <a:close/>
                  <a:moveTo>
                    <a:pt x="83" y="169"/>
                  </a:moveTo>
                  <a:lnTo>
                    <a:pt x="97" y="169"/>
                  </a:lnTo>
                  <a:lnTo>
                    <a:pt x="97" y="118"/>
                  </a:lnTo>
                  <a:lnTo>
                    <a:pt x="83" y="118"/>
                  </a:lnTo>
                  <a:lnTo>
                    <a:pt x="83" y="169"/>
                  </a:lnTo>
                  <a:close/>
                  <a:moveTo>
                    <a:pt x="54" y="169"/>
                  </a:moveTo>
                  <a:lnTo>
                    <a:pt x="69" y="169"/>
                  </a:lnTo>
                  <a:lnTo>
                    <a:pt x="69" y="118"/>
                  </a:lnTo>
                  <a:lnTo>
                    <a:pt x="54" y="118"/>
                  </a:lnTo>
                  <a:lnTo>
                    <a:pt x="54" y="169"/>
                  </a:lnTo>
                  <a:close/>
                  <a:moveTo>
                    <a:pt x="28" y="169"/>
                  </a:moveTo>
                  <a:lnTo>
                    <a:pt x="42" y="169"/>
                  </a:lnTo>
                  <a:lnTo>
                    <a:pt x="42" y="118"/>
                  </a:lnTo>
                  <a:lnTo>
                    <a:pt x="28" y="118"/>
                  </a:lnTo>
                  <a:lnTo>
                    <a:pt x="28" y="169"/>
                  </a:lnTo>
                  <a:close/>
                  <a:moveTo>
                    <a:pt x="0" y="169"/>
                  </a:moveTo>
                  <a:lnTo>
                    <a:pt x="14" y="169"/>
                  </a:lnTo>
                  <a:lnTo>
                    <a:pt x="14" y="118"/>
                  </a:lnTo>
                  <a:lnTo>
                    <a:pt x="0" y="118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92800" y="554832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92800" y="5548320"/>
              <a:ext cx="109440" cy="11160"/>
            </a:xfrm>
            <a:custGeom>
              <a:avLst/>
              <a:gdLst/>
              <a:ahLst/>
              <a:rect l="l" t="t" r="r" b="b"/>
              <a:pathLst>
                <a:path w="138" h="14">
                  <a:moveTo>
                    <a:pt x="0" y="0"/>
                  </a:moveTo>
                  <a:lnTo>
                    <a:pt x="14" y="14"/>
                  </a:lnTo>
                  <a:lnTo>
                    <a:pt x="125" y="14"/>
                  </a:ln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92800" y="5599080"/>
              <a:ext cx="109440" cy="42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92800" y="5651640"/>
              <a:ext cx="10944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92800" y="5703840"/>
              <a:ext cx="109440" cy="39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92800" y="575460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5392800" y="5559480"/>
              <a:ext cx="111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92880" y="5559480"/>
              <a:ext cx="93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97480" y="57387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97480" y="573084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97480" y="57243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97480" y="5715000"/>
              <a:ext cx="73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97480" y="570852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446800" y="5610240"/>
              <a:ext cx="349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78480" y="5680080"/>
              <a:ext cx="15840" cy="4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78480" y="5708520"/>
              <a:ext cx="15840" cy="5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478480" y="5718240"/>
              <a:ext cx="15840" cy="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430960" y="5667480"/>
              <a:ext cx="511200" cy="263520"/>
            </a:xfrm>
            <a:custGeom>
              <a:avLst/>
              <a:gdLst/>
              <a:ahLst/>
              <a:rect l="l" t="t" r="r" b="b"/>
              <a:pathLst>
                <a:path w="645" h="334">
                  <a:moveTo>
                    <a:pt x="0" y="14"/>
                  </a:moveTo>
                  <a:lnTo>
                    <a:pt x="42" y="1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4"/>
                  </a:lnTo>
                  <a:close/>
                  <a:moveTo>
                    <a:pt x="622" y="334"/>
                  </a:moveTo>
                  <a:lnTo>
                    <a:pt x="645" y="334"/>
                  </a:lnTo>
                  <a:lnTo>
                    <a:pt x="645" y="327"/>
                  </a:lnTo>
                  <a:lnTo>
                    <a:pt x="622" y="327"/>
                  </a:lnTo>
                  <a:lnTo>
                    <a:pt x="622" y="334"/>
                  </a:lnTo>
                  <a:close/>
                  <a:moveTo>
                    <a:pt x="238" y="261"/>
                  </a:moveTo>
                  <a:lnTo>
                    <a:pt x="238" y="41"/>
                  </a:lnTo>
                  <a:lnTo>
                    <a:pt x="583" y="41"/>
                  </a:lnTo>
                  <a:lnTo>
                    <a:pt x="583" y="261"/>
                  </a:lnTo>
                  <a:lnTo>
                    <a:pt x="238" y="261"/>
                  </a:lnTo>
                  <a:close/>
                  <a:moveTo>
                    <a:pt x="222" y="275"/>
                  </a:moveTo>
                  <a:lnTo>
                    <a:pt x="599" y="275"/>
                  </a:lnTo>
                  <a:lnTo>
                    <a:pt x="599" y="27"/>
                  </a:lnTo>
                  <a:lnTo>
                    <a:pt x="615" y="27"/>
                  </a:lnTo>
                  <a:lnTo>
                    <a:pt x="615" y="13"/>
                  </a:lnTo>
                  <a:lnTo>
                    <a:pt x="206" y="13"/>
                  </a:lnTo>
                  <a:lnTo>
                    <a:pt x="206" y="23"/>
                  </a:lnTo>
                  <a:lnTo>
                    <a:pt x="206" y="290"/>
                  </a:lnTo>
                  <a:lnTo>
                    <a:pt x="222" y="290"/>
                  </a:lnTo>
                  <a:lnTo>
                    <a:pt x="222" y="2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557680" y="5925960"/>
              <a:ext cx="200160" cy="17640"/>
            </a:xfrm>
            <a:custGeom>
              <a:avLst/>
              <a:gdLst/>
              <a:ahLst/>
              <a:rect l="l" t="t" r="r" b="b"/>
              <a:pathLst>
                <a:path w="251" h="23">
                  <a:moveTo>
                    <a:pt x="0" y="0"/>
                  </a:moveTo>
                  <a:lnTo>
                    <a:pt x="251" y="0"/>
                  </a:lnTo>
                  <a:lnTo>
                    <a:pt x="251" y="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5657760" y="5925600"/>
              <a:ext cx="18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76800" y="6051600"/>
              <a:ext cx="8938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242680" y="6059520"/>
              <a:ext cx="82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net data Serv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14840" y="5516640"/>
              <a:ext cx="495360" cy="496800"/>
            </a:xfrm>
            <a:custGeom>
              <a:avLst/>
              <a:gdLst/>
              <a:ahLst/>
              <a:rect l="l" t="t" r="r" b="b"/>
              <a:pathLst>
                <a:path w="626" h="627">
                  <a:moveTo>
                    <a:pt x="0" y="470"/>
                  </a:moveTo>
                  <a:lnTo>
                    <a:pt x="117" y="470"/>
                  </a:lnTo>
                  <a:lnTo>
                    <a:pt x="214" y="489"/>
                  </a:lnTo>
                  <a:lnTo>
                    <a:pt x="214" y="509"/>
                  </a:lnTo>
                  <a:lnTo>
                    <a:pt x="117" y="509"/>
                  </a:lnTo>
                  <a:lnTo>
                    <a:pt x="117" y="528"/>
                  </a:lnTo>
                  <a:lnTo>
                    <a:pt x="39" y="528"/>
                  </a:lnTo>
                  <a:lnTo>
                    <a:pt x="39" y="627"/>
                  </a:lnTo>
                  <a:lnTo>
                    <a:pt x="587" y="627"/>
                  </a:lnTo>
                  <a:lnTo>
                    <a:pt x="587" y="528"/>
                  </a:lnTo>
                  <a:lnTo>
                    <a:pt x="509" y="528"/>
                  </a:lnTo>
                  <a:lnTo>
                    <a:pt x="509" y="509"/>
                  </a:lnTo>
                  <a:lnTo>
                    <a:pt x="410" y="509"/>
                  </a:lnTo>
                  <a:lnTo>
                    <a:pt x="410" y="489"/>
                  </a:lnTo>
                  <a:lnTo>
                    <a:pt x="509" y="470"/>
                  </a:lnTo>
                  <a:lnTo>
                    <a:pt x="626" y="470"/>
                  </a:lnTo>
                  <a:lnTo>
                    <a:pt x="626" y="0"/>
                  </a:lnTo>
                  <a:lnTo>
                    <a:pt x="0" y="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707000" y="593568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782960" y="5919840"/>
              <a:ext cx="1573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782960" y="5905440"/>
              <a:ext cx="157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07000" y="588960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51200" y="5564160"/>
              <a:ext cx="412920" cy="441360"/>
            </a:xfrm>
            <a:custGeom>
              <a:avLst/>
              <a:gdLst/>
              <a:ahLst/>
              <a:rect l="l" t="t" r="r" b="b"/>
              <a:pathLst>
                <a:path w="519" h="556">
                  <a:moveTo>
                    <a:pt x="49" y="503"/>
                  </a:moveTo>
                  <a:lnTo>
                    <a:pt x="146" y="503"/>
                  </a:lnTo>
                  <a:lnTo>
                    <a:pt x="146" y="489"/>
                  </a:lnTo>
                  <a:lnTo>
                    <a:pt x="49" y="489"/>
                  </a:lnTo>
                  <a:lnTo>
                    <a:pt x="49" y="503"/>
                  </a:lnTo>
                  <a:close/>
                  <a:moveTo>
                    <a:pt x="19" y="556"/>
                  </a:moveTo>
                  <a:lnTo>
                    <a:pt x="39" y="537"/>
                  </a:lnTo>
                  <a:lnTo>
                    <a:pt x="19" y="517"/>
                  </a:lnTo>
                  <a:lnTo>
                    <a:pt x="0" y="537"/>
                  </a:lnTo>
                  <a:lnTo>
                    <a:pt x="19" y="556"/>
                  </a:lnTo>
                  <a:close/>
                  <a:moveTo>
                    <a:pt x="49" y="313"/>
                  </a:moveTo>
                  <a:lnTo>
                    <a:pt x="49" y="39"/>
                  </a:lnTo>
                  <a:lnTo>
                    <a:pt x="480" y="39"/>
                  </a:lnTo>
                  <a:lnTo>
                    <a:pt x="480" y="313"/>
                  </a:lnTo>
                  <a:lnTo>
                    <a:pt x="49" y="313"/>
                  </a:lnTo>
                  <a:close/>
                  <a:moveTo>
                    <a:pt x="30" y="341"/>
                  </a:moveTo>
                  <a:lnTo>
                    <a:pt x="509" y="341"/>
                  </a:lnTo>
                  <a:lnTo>
                    <a:pt x="509" y="20"/>
                  </a:lnTo>
                  <a:lnTo>
                    <a:pt x="519" y="20"/>
                  </a:lnTo>
                  <a:lnTo>
                    <a:pt x="519" y="0"/>
                  </a:lnTo>
                  <a:lnTo>
                    <a:pt x="10" y="0"/>
                  </a:lnTo>
                  <a:lnTo>
                    <a:pt x="10" y="352"/>
                  </a:lnTo>
                  <a:lnTo>
                    <a:pt x="30" y="352"/>
                  </a:lnTo>
                  <a:lnTo>
                    <a:pt x="30" y="341"/>
                  </a:lnTo>
                  <a:close/>
                  <a:moveTo>
                    <a:pt x="489" y="390"/>
                  </a:moveTo>
                  <a:lnTo>
                    <a:pt x="519" y="390"/>
                  </a:lnTo>
                  <a:lnTo>
                    <a:pt x="519" y="382"/>
                  </a:lnTo>
                  <a:lnTo>
                    <a:pt x="489" y="382"/>
                  </a:lnTo>
                  <a:lnTo>
                    <a:pt x="489" y="3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99080" y="5989680"/>
              <a:ext cx="61920" cy="12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45080" y="595296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645080" y="596412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69908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74660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6892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79268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81644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0" y="7"/>
                  </a:lnTo>
                  <a:lnTo>
                    <a:pt x="8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387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6252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848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0" y="9"/>
                  </a:lnTo>
                  <a:lnTo>
                    <a:pt x="11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90860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9323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95468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9784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0076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24520" y="597060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4828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02240" y="6051600"/>
              <a:ext cx="51912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52640" y="605952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st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257880" y="4332240"/>
              <a:ext cx="189000" cy="803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29520" y="5056200"/>
              <a:ext cx="48960" cy="39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29520" y="4370400"/>
              <a:ext cx="48960" cy="42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281640" y="4331880"/>
              <a:ext cx="180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342120" y="4392720"/>
              <a:ext cx="23760" cy="382320"/>
            </a:xfrm>
            <a:custGeom>
              <a:avLst/>
              <a:gdLst/>
              <a:ahLst/>
              <a:rect l="l" t="t" r="r" b="b"/>
              <a:pathLst>
                <a:path w="30" h="482">
                  <a:moveTo>
                    <a:pt x="30" y="380"/>
                  </a:moveTo>
                  <a:lnTo>
                    <a:pt x="30" y="355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30" y="380"/>
                  </a:lnTo>
                  <a:close/>
                  <a:moveTo>
                    <a:pt x="30" y="431"/>
                  </a:moveTo>
                  <a:lnTo>
                    <a:pt x="30" y="406"/>
                  </a:lnTo>
                  <a:lnTo>
                    <a:pt x="0" y="406"/>
                  </a:lnTo>
                  <a:lnTo>
                    <a:pt x="0" y="431"/>
                  </a:lnTo>
                  <a:lnTo>
                    <a:pt x="30" y="431"/>
                  </a:lnTo>
                  <a:close/>
                  <a:moveTo>
                    <a:pt x="30" y="482"/>
                  </a:moveTo>
                  <a:lnTo>
                    <a:pt x="30" y="456"/>
                  </a:lnTo>
                  <a:lnTo>
                    <a:pt x="0" y="456"/>
                  </a:lnTo>
                  <a:lnTo>
                    <a:pt x="0" y="482"/>
                  </a:lnTo>
                  <a:lnTo>
                    <a:pt x="30" y="482"/>
                  </a:lnTo>
                  <a:close/>
                  <a:moveTo>
                    <a:pt x="30" y="304"/>
                  </a:moveTo>
                  <a:lnTo>
                    <a:pt x="30" y="279"/>
                  </a:lnTo>
                  <a:lnTo>
                    <a:pt x="0" y="279"/>
                  </a:lnTo>
                  <a:lnTo>
                    <a:pt x="0" y="304"/>
                  </a:lnTo>
                  <a:lnTo>
                    <a:pt x="30" y="304"/>
                  </a:lnTo>
                  <a:close/>
                  <a:moveTo>
                    <a:pt x="30" y="228"/>
                  </a:moveTo>
                  <a:lnTo>
                    <a:pt x="30" y="203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30" y="228"/>
                  </a:lnTo>
                  <a:close/>
                  <a:moveTo>
                    <a:pt x="30" y="177"/>
                  </a:moveTo>
                  <a:lnTo>
                    <a:pt x="30" y="152"/>
                  </a:lnTo>
                  <a:lnTo>
                    <a:pt x="0" y="152"/>
                  </a:lnTo>
                  <a:lnTo>
                    <a:pt x="0" y="177"/>
                  </a:lnTo>
                  <a:lnTo>
                    <a:pt x="30" y="177"/>
                  </a:lnTo>
                  <a:close/>
                  <a:moveTo>
                    <a:pt x="30" y="127"/>
                  </a:moveTo>
                  <a:lnTo>
                    <a:pt x="30" y="101"/>
                  </a:lnTo>
                  <a:lnTo>
                    <a:pt x="0" y="101"/>
                  </a:lnTo>
                  <a:lnTo>
                    <a:pt x="0" y="127"/>
                  </a:lnTo>
                  <a:lnTo>
                    <a:pt x="30" y="127"/>
                  </a:lnTo>
                  <a:close/>
                  <a:moveTo>
                    <a:pt x="30" y="76"/>
                  </a:moveTo>
                  <a:lnTo>
                    <a:pt x="30" y="51"/>
                  </a:lnTo>
                  <a:lnTo>
                    <a:pt x="0" y="51"/>
                  </a:lnTo>
                  <a:lnTo>
                    <a:pt x="0" y="76"/>
                  </a:lnTo>
                  <a:lnTo>
                    <a:pt x="30" y="76"/>
                  </a:lnTo>
                  <a:close/>
                  <a:moveTo>
                    <a:pt x="30" y="25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486480" y="4870440"/>
              <a:ext cx="13032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16200000">
              <a:off x="6412320" y="492552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18200" y="1157400"/>
              <a:ext cx="2016000" cy="1207800"/>
            </a:xfrm>
            <a:custGeom>
              <a:avLst/>
              <a:gdLst/>
              <a:ahLst/>
              <a:rect l="l" t="t" r="r" b="b"/>
              <a:pathLst>
                <a:path w="2539" h="1522">
                  <a:moveTo>
                    <a:pt x="373" y="1130"/>
                  </a:moveTo>
                  <a:lnTo>
                    <a:pt x="401" y="1188"/>
                  </a:lnTo>
                  <a:lnTo>
                    <a:pt x="434" y="1245"/>
                  </a:lnTo>
                  <a:lnTo>
                    <a:pt x="470" y="1296"/>
                  </a:lnTo>
                  <a:lnTo>
                    <a:pt x="510" y="1343"/>
                  </a:lnTo>
                  <a:lnTo>
                    <a:pt x="555" y="1386"/>
                  </a:lnTo>
                  <a:lnTo>
                    <a:pt x="601" y="1423"/>
                  </a:lnTo>
                  <a:lnTo>
                    <a:pt x="650" y="1455"/>
                  </a:lnTo>
                  <a:lnTo>
                    <a:pt x="699" y="1479"/>
                  </a:lnTo>
                  <a:lnTo>
                    <a:pt x="752" y="1501"/>
                  </a:lnTo>
                  <a:lnTo>
                    <a:pt x="806" y="1513"/>
                  </a:lnTo>
                  <a:lnTo>
                    <a:pt x="860" y="1520"/>
                  </a:lnTo>
                  <a:lnTo>
                    <a:pt x="915" y="1522"/>
                  </a:lnTo>
                  <a:lnTo>
                    <a:pt x="970" y="1516"/>
                  </a:lnTo>
                  <a:lnTo>
                    <a:pt x="1025" y="1504"/>
                  </a:lnTo>
                  <a:lnTo>
                    <a:pt x="1076" y="1486"/>
                  </a:lnTo>
                  <a:lnTo>
                    <a:pt x="1129" y="1462"/>
                  </a:lnTo>
                  <a:lnTo>
                    <a:pt x="1177" y="1432"/>
                  </a:lnTo>
                  <a:lnTo>
                    <a:pt x="1224" y="1396"/>
                  </a:lnTo>
                  <a:lnTo>
                    <a:pt x="1269" y="1356"/>
                  </a:lnTo>
                  <a:lnTo>
                    <a:pt x="1313" y="1396"/>
                  </a:lnTo>
                  <a:lnTo>
                    <a:pt x="1360" y="1432"/>
                  </a:lnTo>
                  <a:lnTo>
                    <a:pt x="1410" y="1462"/>
                  </a:lnTo>
                  <a:lnTo>
                    <a:pt x="1461" y="1486"/>
                  </a:lnTo>
                  <a:lnTo>
                    <a:pt x="1514" y="1504"/>
                  </a:lnTo>
                  <a:lnTo>
                    <a:pt x="1567" y="1516"/>
                  </a:lnTo>
                  <a:lnTo>
                    <a:pt x="1622" y="1522"/>
                  </a:lnTo>
                  <a:lnTo>
                    <a:pt x="1677" y="1520"/>
                  </a:lnTo>
                  <a:lnTo>
                    <a:pt x="1732" y="1513"/>
                  </a:lnTo>
                  <a:lnTo>
                    <a:pt x="1785" y="1501"/>
                  </a:lnTo>
                  <a:lnTo>
                    <a:pt x="1838" y="1479"/>
                  </a:lnTo>
                  <a:lnTo>
                    <a:pt x="1889" y="1455"/>
                  </a:lnTo>
                  <a:lnTo>
                    <a:pt x="1937" y="1423"/>
                  </a:lnTo>
                  <a:lnTo>
                    <a:pt x="1983" y="1386"/>
                  </a:lnTo>
                  <a:lnTo>
                    <a:pt x="2027" y="1343"/>
                  </a:lnTo>
                  <a:lnTo>
                    <a:pt x="2067" y="1296"/>
                  </a:lnTo>
                  <a:lnTo>
                    <a:pt x="2103" y="1245"/>
                  </a:lnTo>
                  <a:lnTo>
                    <a:pt x="2136" y="1188"/>
                  </a:lnTo>
                  <a:lnTo>
                    <a:pt x="2165" y="1130"/>
                  </a:lnTo>
                  <a:lnTo>
                    <a:pt x="2203" y="1139"/>
                  </a:lnTo>
                  <a:lnTo>
                    <a:pt x="2242" y="1142"/>
                  </a:lnTo>
                  <a:lnTo>
                    <a:pt x="2281" y="1137"/>
                  </a:lnTo>
                  <a:lnTo>
                    <a:pt x="2318" y="1128"/>
                  </a:lnTo>
                  <a:lnTo>
                    <a:pt x="2355" y="1112"/>
                  </a:lnTo>
                  <a:lnTo>
                    <a:pt x="2391" y="1089"/>
                  </a:lnTo>
                  <a:lnTo>
                    <a:pt x="2423" y="1061"/>
                  </a:lnTo>
                  <a:lnTo>
                    <a:pt x="2453" y="1029"/>
                  </a:lnTo>
                  <a:lnTo>
                    <a:pt x="2477" y="992"/>
                  </a:lnTo>
                  <a:lnTo>
                    <a:pt x="2499" y="950"/>
                  </a:lnTo>
                  <a:lnTo>
                    <a:pt x="2516" y="906"/>
                  </a:lnTo>
                  <a:lnTo>
                    <a:pt x="2529" y="860"/>
                  </a:lnTo>
                  <a:lnTo>
                    <a:pt x="2536" y="811"/>
                  </a:lnTo>
                  <a:lnTo>
                    <a:pt x="2539" y="761"/>
                  </a:lnTo>
                  <a:lnTo>
                    <a:pt x="2536" y="712"/>
                  </a:lnTo>
                  <a:lnTo>
                    <a:pt x="2529" y="662"/>
                  </a:lnTo>
                  <a:lnTo>
                    <a:pt x="2516" y="616"/>
                  </a:lnTo>
                  <a:lnTo>
                    <a:pt x="2499" y="572"/>
                  </a:lnTo>
                  <a:lnTo>
                    <a:pt x="2477" y="530"/>
                  </a:lnTo>
                  <a:lnTo>
                    <a:pt x="2453" y="493"/>
                  </a:lnTo>
                  <a:lnTo>
                    <a:pt x="2423" y="461"/>
                  </a:lnTo>
                  <a:lnTo>
                    <a:pt x="2391" y="433"/>
                  </a:lnTo>
                  <a:lnTo>
                    <a:pt x="2355" y="410"/>
                  </a:lnTo>
                  <a:lnTo>
                    <a:pt x="2318" y="394"/>
                  </a:lnTo>
                  <a:lnTo>
                    <a:pt x="2281" y="383"/>
                  </a:lnTo>
                  <a:lnTo>
                    <a:pt x="2242" y="380"/>
                  </a:lnTo>
                  <a:lnTo>
                    <a:pt x="2203" y="383"/>
                  </a:lnTo>
                  <a:lnTo>
                    <a:pt x="2165" y="392"/>
                  </a:lnTo>
                  <a:lnTo>
                    <a:pt x="2136" y="334"/>
                  </a:lnTo>
                  <a:lnTo>
                    <a:pt x="2103" y="278"/>
                  </a:lnTo>
                  <a:lnTo>
                    <a:pt x="2067" y="226"/>
                  </a:lnTo>
                  <a:lnTo>
                    <a:pt x="2027" y="179"/>
                  </a:lnTo>
                  <a:lnTo>
                    <a:pt x="1983" y="136"/>
                  </a:lnTo>
                  <a:lnTo>
                    <a:pt x="1937" y="99"/>
                  </a:lnTo>
                  <a:lnTo>
                    <a:pt x="1889" y="68"/>
                  </a:lnTo>
                  <a:lnTo>
                    <a:pt x="1838" y="43"/>
                  </a:lnTo>
                  <a:lnTo>
                    <a:pt x="1785" y="22"/>
                  </a:lnTo>
                  <a:lnTo>
                    <a:pt x="1732" y="9"/>
                  </a:lnTo>
                  <a:lnTo>
                    <a:pt x="1677" y="2"/>
                  </a:lnTo>
                  <a:lnTo>
                    <a:pt x="1622" y="0"/>
                  </a:lnTo>
                  <a:lnTo>
                    <a:pt x="1567" y="6"/>
                  </a:lnTo>
                  <a:lnTo>
                    <a:pt x="1514" y="18"/>
                  </a:lnTo>
                  <a:lnTo>
                    <a:pt x="1461" y="36"/>
                  </a:lnTo>
                  <a:lnTo>
                    <a:pt x="1410" y="60"/>
                  </a:lnTo>
                  <a:lnTo>
                    <a:pt x="1360" y="90"/>
                  </a:lnTo>
                  <a:lnTo>
                    <a:pt x="1313" y="126"/>
                  </a:lnTo>
                  <a:lnTo>
                    <a:pt x="1269" y="166"/>
                  </a:lnTo>
                  <a:lnTo>
                    <a:pt x="1224" y="126"/>
                  </a:lnTo>
                  <a:lnTo>
                    <a:pt x="1177" y="90"/>
                  </a:lnTo>
                  <a:lnTo>
                    <a:pt x="1129" y="60"/>
                  </a:lnTo>
                  <a:lnTo>
                    <a:pt x="1076" y="36"/>
                  </a:lnTo>
                  <a:lnTo>
                    <a:pt x="1025" y="18"/>
                  </a:lnTo>
                  <a:lnTo>
                    <a:pt x="970" y="6"/>
                  </a:lnTo>
                  <a:lnTo>
                    <a:pt x="915" y="0"/>
                  </a:lnTo>
                  <a:lnTo>
                    <a:pt x="860" y="2"/>
                  </a:lnTo>
                  <a:lnTo>
                    <a:pt x="806" y="9"/>
                  </a:lnTo>
                  <a:lnTo>
                    <a:pt x="752" y="22"/>
                  </a:lnTo>
                  <a:lnTo>
                    <a:pt x="699" y="43"/>
                  </a:lnTo>
                  <a:lnTo>
                    <a:pt x="650" y="68"/>
                  </a:lnTo>
                  <a:lnTo>
                    <a:pt x="601" y="99"/>
                  </a:lnTo>
                  <a:lnTo>
                    <a:pt x="555" y="136"/>
                  </a:lnTo>
                  <a:lnTo>
                    <a:pt x="510" y="179"/>
                  </a:lnTo>
                  <a:lnTo>
                    <a:pt x="470" y="226"/>
                  </a:lnTo>
                  <a:lnTo>
                    <a:pt x="434" y="278"/>
                  </a:lnTo>
                  <a:lnTo>
                    <a:pt x="401" y="334"/>
                  </a:lnTo>
                  <a:lnTo>
                    <a:pt x="373" y="392"/>
                  </a:lnTo>
                  <a:lnTo>
                    <a:pt x="334" y="383"/>
                  </a:lnTo>
                  <a:lnTo>
                    <a:pt x="295" y="380"/>
                  </a:lnTo>
                  <a:lnTo>
                    <a:pt x="256" y="383"/>
                  </a:lnTo>
                  <a:lnTo>
                    <a:pt x="219" y="394"/>
                  </a:lnTo>
                  <a:lnTo>
                    <a:pt x="182" y="410"/>
                  </a:lnTo>
                  <a:lnTo>
                    <a:pt x="146" y="433"/>
                  </a:lnTo>
                  <a:lnTo>
                    <a:pt x="114" y="461"/>
                  </a:lnTo>
                  <a:lnTo>
                    <a:pt x="86" y="493"/>
                  </a:lnTo>
                  <a:lnTo>
                    <a:pt x="60" y="530"/>
                  </a:lnTo>
                  <a:lnTo>
                    <a:pt x="39" y="572"/>
                  </a:lnTo>
                  <a:lnTo>
                    <a:pt x="21" y="616"/>
                  </a:lnTo>
                  <a:lnTo>
                    <a:pt x="8" y="662"/>
                  </a:lnTo>
                  <a:lnTo>
                    <a:pt x="1" y="712"/>
                  </a:lnTo>
                  <a:lnTo>
                    <a:pt x="0" y="761"/>
                  </a:lnTo>
                  <a:lnTo>
                    <a:pt x="1" y="811"/>
                  </a:lnTo>
                  <a:lnTo>
                    <a:pt x="8" y="860"/>
                  </a:lnTo>
                  <a:lnTo>
                    <a:pt x="21" y="906"/>
                  </a:lnTo>
                  <a:lnTo>
                    <a:pt x="39" y="950"/>
                  </a:lnTo>
                  <a:lnTo>
                    <a:pt x="60" y="992"/>
                  </a:lnTo>
                  <a:lnTo>
                    <a:pt x="86" y="1029"/>
                  </a:lnTo>
                  <a:lnTo>
                    <a:pt x="114" y="1061"/>
                  </a:lnTo>
                  <a:lnTo>
                    <a:pt x="146" y="1089"/>
                  </a:lnTo>
                  <a:lnTo>
                    <a:pt x="182" y="1112"/>
                  </a:lnTo>
                  <a:lnTo>
                    <a:pt x="219" y="1128"/>
                  </a:lnTo>
                  <a:lnTo>
                    <a:pt x="256" y="1137"/>
                  </a:lnTo>
                  <a:lnTo>
                    <a:pt x="295" y="1142"/>
                  </a:lnTo>
                  <a:lnTo>
                    <a:pt x="334" y="1139"/>
                  </a:lnTo>
                  <a:lnTo>
                    <a:pt x="373" y="113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63760" y="16588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62120" y="5423040"/>
              <a:ext cx="8128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95240" y="5430960"/>
              <a:ext cx="65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IT Voice 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12760" y="554364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621880" y="565452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CP/IP capabilit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24160" y="4094280"/>
              <a:ext cx="1290600" cy="12906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24160" y="4094280"/>
              <a:ext cx="1290600" cy="1263600"/>
            </a:xfrm>
            <a:custGeom>
              <a:avLst/>
              <a:gdLst/>
              <a:ahLst/>
              <a:rect l="l" t="t" r="r" b="b"/>
              <a:pathLst>
                <a:path w="1628" h="1592">
                  <a:moveTo>
                    <a:pt x="0" y="1592"/>
                  </a:moveTo>
                  <a:lnTo>
                    <a:pt x="813" y="1592"/>
                  </a:lnTo>
                  <a:lnTo>
                    <a:pt x="813" y="0"/>
                  </a:lnTo>
                  <a:lnTo>
                    <a:pt x="0" y="0"/>
                  </a:lnTo>
                  <a:lnTo>
                    <a:pt x="0" y="1592"/>
                  </a:lnTo>
                  <a:close/>
                  <a:moveTo>
                    <a:pt x="813" y="1592"/>
                  </a:moveTo>
                  <a:lnTo>
                    <a:pt x="1628" y="1592"/>
                  </a:lnTo>
                  <a:lnTo>
                    <a:pt x="1628" y="0"/>
                  </a:lnTo>
                  <a:lnTo>
                    <a:pt x="813" y="0"/>
                  </a:lnTo>
                  <a:lnTo>
                    <a:pt x="813" y="1592"/>
                  </a:lnTo>
                  <a:close/>
                  <a:moveTo>
                    <a:pt x="126" y="542"/>
                  </a:moveTo>
                  <a:lnTo>
                    <a:pt x="689" y="542"/>
                  </a:lnTo>
                  <a:lnTo>
                    <a:pt x="689" y="373"/>
                  </a:lnTo>
                  <a:lnTo>
                    <a:pt x="126" y="373"/>
                  </a:lnTo>
                  <a:lnTo>
                    <a:pt x="126" y="542"/>
                  </a:lnTo>
                  <a:close/>
                  <a:moveTo>
                    <a:pt x="126" y="881"/>
                  </a:moveTo>
                  <a:lnTo>
                    <a:pt x="689" y="881"/>
                  </a:lnTo>
                  <a:lnTo>
                    <a:pt x="689" y="593"/>
                  </a:lnTo>
                  <a:lnTo>
                    <a:pt x="126" y="593"/>
                  </a:lnTo>
                  <a:lnTo>
                    <a:pt x="126" y="881"/>
                  </a:lnTo>
                  <a:close/>
                  <a:moveTo>
                    <a:pt x="938" y="542"/>
                  </a:moveTo>
                  <a:lnTo>
                    <a:pt x="1502" y="542"/>
                  </a:lnTo>
                  <a:lnTo>
                    <a:pt x="1502" y="373"/>
                  </a:lnTo>
                  <a:lnTo>
                    <a:pt x="938" y="373"/>
                  </a:lnTo>
                  <a:lnTo>
                    <a:pt x="938" y="542"/>
                  </a:lnTo>
                  <a:close/>
                  <a:moveTo>
                    <a:pt x="938" y="763"/>
                  </a:moveTo>
                  <a:lnTo>
                    <a:pt x="1502" y="763"/>
                  </a:lnTo>
                  <a:lnTo>
                    <a:pt x="1502" y="593"/>
                  </a:lnTo>
                  <a:lnTo>
                    <a:pt x="938" y="593"/>
                  </a:lnTo>
                  <a:lnTo>
                    <a:pt x="938" y="76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24160" y="4202280"/>
              <a:ext cx="1290600" cy="10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25600" y="5369040"/>
              <a:ext cx="1287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68560" y="2676600"/>
              <a:ext cx="7920" cy="1266840"/>
            </a:xfrm>
            <a:custGeom>
              <a:avLst/>
              <a:gdLst/>
              <a:ahLst/>
              <a:rect l="l" t="t" r="r" b="b"/>
              <a:pathLst>
                <a:path w="11" h="1598">
                  <a:moveTo>
                    <a:pt x="11" y="0"/>
                  </a:moveTo>
                  <a:lnTo>
                    <a:pt x="11" y="158"/>
                  </a:lnTo>
                  <a:lnTo>
                    <a:pt x="0" y="158"/>
                  </a:lnTo>
                  <a:lnTo>
                    <a:pt x="0" y="15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22480" y="2676600"/>
              <a:ext cx="109800" cy="16344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69" y="0"/>
                  </a:lnTo>
                  <a:lnTo>
                    <a:pt x="138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4560" y="3929040"/>
              <a:ext cx="108000" cy="16524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138" y="0"/>
                  </a:moveTo>
                  <a:lnTo>
                    <a:pt x="69" y="206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84440" y="3303720"/>
              <a:ext cx="7714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94880" y="3311640"/>
              <a:ext cx="70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2 or SS7 circui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122800" y="2754360"/>
              <a:ext cx="746280" cy="495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146560" y="3146400"/>
              <a:ext cx="698760" cy="82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46560" y="2773440"/>
              <a:ext cx="698760" cy="333360"/>
            </a:xfrm>
            <a:custGeom>
              <a:avLst/>
              <a:gdLst/>
              <a:ahLst/>
              <a:rect l="l" t="t" r="r" b="b"/>
              <a:pathLst>
                <a:path w="880" h="418">
                  <a:moveTo>
                    <a:pt x="777" y="14"/>
                  </a:moveTo>
                  <a:lnTo>
                    <a:pt x="779" y="5"/>
                  </a:lnTo>
                  <a:lnTo>
                    <a:pt x="786" y="2"/>
                  </a:lnTo>
                  <a:lnTo>
                    <a:pt x="797" y="2"/>
                  </a:lnTo>
                  <a:lnTo>
                    <a:pt x="804" y="5"/>
                  </a:lnTo>
                  <a:lnTo>
                    <a:pt x="806" y="14"/>
                  </a:lnTo>
                  <a:lnTo>
                    <a:pt x="804" y="21"/>
                  </a:lnTo>
                  <a:lnTo>
                    <a:pt x="797" y="26"/>
                  </a:lnTo>
                  <a:lnTo>
                    <a:pt x="786" y="26"/>
                  </a:lnTo>
                  <a:lnTo>
                    <a:pt x="779" y="21"/>
                  </a:lnTo>
                  <a:lnTo>
                    <a:pt x="777" y="14"/>
                  </a:lnTo>
                  <a:close/>
                  <a:moveTo>
                    <a:pt x="659" y="14"/>
                  </a:moveTo>
                  <a:lnTo>
                    <a:pt x="662" y="5"/>
                  </a:lnTo>
                  <a:lnTo>
                    <a:pt x="669" y="2"/>
                  </a:lnTo>
                  <a:lnTo>
                    <a:pt x="678" y="2"/>
                  </a:lnTo>
                  <a:lnTo>
                    <a:pt x="685" y="5"/>
                  </a:lnTo>
                  <a:lnTo>
                    <a:pt x="689" y="14"/>
                  </a:lnTo>
                  <a:lnTo>
                    <a:pt x="685" y="21"/>
                  </a:lnTo>
                  <a:lnTo>
                    <a:pt x="678" y="26"/>
                  </a:lnTo>
                  <a:lnTo>
                    <a:pt x="669" y="26"/>
                  </a:lnTo>
                  <a:lnTo>
                    <a:pt x="662" y="21"/>
                  </a:lnTo>
                  <a:lnTo>
                    <a:pt x="659" y="14"/>
                  </a:lnTo>
                  <a:close/>
                  <a:moveTo>
                    <a:pt x="542" y="14"/>
                  </a:moveTo>
                  <a:lnTo>
                    <a:pt x="544" y="5"/>
                  </a:lnTo>
                  <a:lnTo>
                    <a:pt x="553" y="2"/>
                  </a:lnTo>
                  <a:lnTo>
                    <a:pt x="562" y="2"/>
                  </a:lnTo>
                  <a:lnTo>
                    <a:pt x="569" y="5"/>
                  </a:lnTo>
                  <a:lnTo>
                    <a:pt x="570" y="14"/>
                  </a:lnTo>
                  <a:lnTo>
                    <a:pt x="569" y="21"/>
                  </a:lnTo>
                  <a:lnTo>
                    <a:pt x="562" y="26"/>
                  </a:lnTo>
                  <a:lnTo>
                    <a:pt x="553" y="26"/>
                  </a:lnTo>
                  <a:lnTo>
                    <a:pt x="544" y="21"/>
                  </a:lnTo>
                  <a:lnTo>
                    <a:pt x="542" y="14"/>
                  </a:lnTo>
                  <a:close/>
                  <a:moveTo>
                    <a:pt x="424" y="14"/>
                  </a:moveTo>
                  <a:lnTo>
                    <a:pt x="427" y="5"/>
                  </a:lnTo>
                  <a:lnTo>
                    <a:pt x="434" y="2"/>
                  </a:lnTo>
                  <a:lnTo>
                    <a:pt x="443" y="2"/>
                  </a:lnTo>
                  <a:lnTo>
                    <a:pt x="450" y="5"/>
                  </a:lnTo>
                  <a:lnTo>
                    <a:pt x="454" y="14"/>
                  </a:lnTo>
                  <a:lnTo>
                    <a:pt x="450" y="21"/>
                  </a:lnTo>
                  <a:lnTo>
                    <a:pt x="443" y="26"/>
                  </a:lnTo>
                  <a:lnTo>
                    <a:pt x="434" y="26"/>
                  </a:lnTo>
                  <a:lnTo>
                    <a:pt x="427" y="21"/>
                  </a:lnTo>
                  <a:lnTo>
                    <a:pt x="424" y="14"/>
                  </a:lnTo>
                  <a:close/>
                  <a:moveTo>
                    <a:pt x="307" y="14"/>
                  </a:moveTo>
                  <a:lnTo>
                    <a:pt x="311" y="5"/>
                  </a:lnTo>
                  <a:lnTo>
                    <a:pt x="318" y="2"/>
                  </a:lnTo>
                  <a:lnTo>
                    <a:pt x="327" y="2"/>
                  </a:lnTo>
                  <a:lnTo>
                    <a:pt x="334" y="5"/>
                  </a:lnTo>
                  <a:lnTo>
                    <a:pt x="337" y="14"/>
                  </a:lnTo>
                  <a:lnTo>
                    <a:pt x="334" y="21"/>
                  </a:lnTo>
                  <a:lnTo>
                    <a:pt x="327" y="26"/>
                  </a:lnTo>
                  <a:lnTo>
                    <a:pt x="318" y="26"/>
                  </a:lnTo>
                  <a:lnTo>
                    <a:pt x="311" y="21"/>
                  </a:lnTo>
                  <a:lnTo>
                    <a:pt x="307" y="14"/>
                  </a:lnTo>
                  <a:close/>
                  <a:moveTo>
                    <a:pt x="189" y="14"/>
                  </a:moveTo>
                  <a:lnTo>
                    <a:pt x="192" y="5"/>
                  </a:lnTo>
                  <a:lnTo>
                    <a:pt x="199" y="2"/>
                  </a:lnTo>
                  <a:lnTo>
                    <a:pt x="208" y="2"/>
                  </a:lnTo>
                  <a:lnTo>
                    <a:pt x="217" y="5"/>
                  </a:lnTo>
                  <a:lnTo>
                    <a:pt x="219" y="14"/>
                  </a:lnTo>
                  <a:lnTo>
                    <a:pt x="217" y="21"/>
                  </a:lnTo>
                  <a:lnTo>
                    <a:pt x="208" y="26"/>
                  </a:lnTo>
                  <a:lnTo>
                    <a:pt x="199" y="26"/>
                  </a:lnTo>
                  <a:lnTo>
                    <a:pt x="192" y="21"/>
                  </a:lnTo>
                  <a:lnTo>
                    <a:pt x="189" y="14"/>
                  </a:lnTo>
                  <a:close/>
                  <a:moveTo>
                    <a:pt x="72" y="14"/>
                  </a:moveTo>
                  <a:lnTo>
                    <a:pt x="76" y="5"/>
                  </a:lnTo>
                  <a:lnTo>
                    <a:pt x="83" y="2"/>
                  </a:lnTo>
                  <a:lnTo>
                    <a:pt x="92" y="2"/>
                  </a:lnTo>
                  <a:lnTo>
                    <a:pt x="99" y="5"/>
                  </a:lnTo>
                  <a:lnTo>
                    <a:pt x="102" y="14"/>
                  </a:lnTo>
                  <a:lnTo>
                    <a:pt x="99" y="21"/>
                  </a:lnTo>
                  <a:lnTo>
                    <a:pt x="92" y="26"/>
                  </a:lnTo>
                  <a:lnTo>
                    <a:pt x="83" y="26"/>
                  </a:lnTo>
                  <a:lnTo>
                    <a:pt x="76" y="21"/>
                  </a:lnTo>
                  <a:lnTo>
                    <a:pt x="72" y="14"/>
                  </a:lnTo>
                  <a:close/>
                  <a:moveTo>
                    <a:pt x="116" y="418"/>
                  </a:moveTo>
                  <a:lnTo>
                    <a:pt x="175" y="418"/>
                  </a:lnTo>
                  <a:lnTo>
                    <a:pt x="175" y="0"/>
                  </a:lnTo>
                  <a:lnTo>
                    <a:pt x="116" y="0"/>
                  </a:lnTo>
                  <a:lnTo>
                    <a:pt x="116" y="418"/>
                  </a:lnTo>
                  <a:close/>
                  <a:moveTo>
                    <a:pt x="233" y="418"/>
                  </a:moveTo>
                  <a:lnTo>
                    <a:pt x="293" y="418"/>
                  </a:lnTo>
                  <a:lnTo>
                    <a:pt x="293" y="0"/>
                  </a:lnTo>
                  <a:lnTo>
                    <a:pt x="233" y="0"/>
                  </a:lnTo>
                  <a:lnTo>
                    <a:pt x="233" y="418"/>
                  </a:lnTo>
                  <a:close/>
                  <a:moveTo>
                    <a:pt x="351" y="418"/>
                  </a:moveTo>
                  <a:lnTo>
                    <a:pt x="410" y="418"/>
                  </a:lnTo>
                  <a:lnTo>
                    <a:pt x="410" y="0"/>
                  </a:lnTo>
                  <a:lnTo>
                    <a:pt x="351" y="0"/>
                  </a:lnTo>
                  <a:lnTo>
                    <a:pt x="351" y="418"/>
                  </a:lnTo>
                  <a:close/>
                  <a:moveTo>
                    <a:pt x="468" y="418"/>
                  </a:moveTo>
                  <a:lnTo>
                    <a:pt x="526" y="418"/>
                  </a:lnTo>
                  <a:lnTo>
                    <a:pt x="526" y="0"/>
                  </a:lnTo>
                  <a:lnTo>
                    <a:pt x="468" y="0"/>
                  </a:lnTo>
                  <a:lnTo>
                    <a:pt x="468" y="418"/>
                  </a:lnTo>
                  <a:close/>
                  <a:moveTo>
                    <a:pt x="586" y="418"/>
                  </a:moveTo>
                  <a:lnTo>
                    <a:pt x="645" y="418"/>
                  </a:lnTo>
                  <a:lnTo>
                    <a:pt x="645" y="0"/>
                  </a:lnTo>
                  <a:lnTo>
                    <a:pt x="586" y="0"/>
                  </a:lnTo>
                  <a:lnTo>
                    <a:pt x="586" y="418"/>
                  </a:lnTo>
                  <a:close/>
                  <a:moveTo>
                    <a:pt x="703" y="418"/>
                  </a:moveTo>
                  <a:lnTo>
                    <a:pt x="761" y="418"/>
                  </a:lnTo>
                  <a:lnTo>
                    <a:pt x="761" y="0"/>
                  </a:lnTo>
                  <a:lnTo>
                    <a:pt x="703" y="0"/>
                  </a:lnTo>
                  <a:lnTo>
                    <a:pt x="703" y="418"/>
                  </a:lnTo>
                  <a:close/>
                  <a:moveTo>
                    <a:pt x="821" y="418"/>
                  </a:moveTo>
                  <a:lnTo>
                    <a:pt x="880" y="418"/>
                  </a:lnTo>
                  <a:lnTo>
                    <a:pt x="880" y="0"/>
                  </a:lnTo>
                  <a:lnTo>
                    <a:pt x="821" y="0"/>
                  </a:lnTo>
                  <a:lnTo>
                    <a:pt x="821" y="418"/>
                  </a:lnTo>
                  <a:close/>
                  <a:moveTo>
                    <a:pt x="0" y="418"/>
                  </a:moveTo>
                  <a:lnTo>
                    <a:pt x="58" y="418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68880" y="3166920"/>
              <a:ext cx="652320" cy="41400"/>
            </a:xfrm>
            <a:custGeom>
              <a:avLst/>
              <a:gdLst/>
              <a:ahLst/>
              <a:rect l="l" t="t" r="r" b="b"/>
              <a:pathLst>
                <a:path w="822" h="51">
                  <a:moveTo>
                    <a:pt x="705" y="51"/>
                  </a:moveTo>
                  <a:lnTo>
                    <a:pt x="822" y="51"/>
                  </a:lnTo>
                  <a:lnTo>
                    <a:pt x="822" y="0"/>
                  </a:lnTo>
                  <a:lnTo>
                    <a:pt x="705" y="0"/>
                  </a:lnTo>
                  <a:lnTo>
                    <a:pt x="705" y="51"/>
                  </a:lnTo>
                  <a:close/>
                  <a:moveTo>
                    <a:pt x="528" y="51"/>
                  </a:moveTo>
                  <a:lnTo>
                    <a:pt x="647" y="51"/>
                  </a:lnTo>
                  <a:lnTo>
                    <a:pt x="647" y="0"/>
                  </a:lnTo>
                  <a:lnTo>
                    <a:pt x="528" y="0"/>
                  </a:lnTo>
                  <a:lnTo>
                    <a:pt x="528" y="51"/>
                  </a:lnTo>
                  <a:close/>
                  <a:moveTo>
                    <a:pt x="352" y="51"/>
                  </a:moveTo>
                  <a:lnTo>
                    <a:pt x="470" y="51"/>
                  </a:lnTo>
                  <a:lnTo>
                    <a:pt x="470" y="0"/>
                  </a:lnTo>
                  <a:lnTo>
                    <a:pt x="352" y="0"/>
                  </a:lnTo>
                  <a:lnTo>
                    <a:pt x="352" y="51"/>
                  </a:lnTo>
                  <a:close/>
                  <a:moveTo>
                    <a:pt x="177" y="51"/>
                  </a:moveTo>
                  <a:lnTo>
                    <a:pt x="293" y="51"/>
                  </a:lnTo>
                  <a:lnTo>
                    <a:pt x="293" y="0"/>
                  </a:lnTo>
                  <a:lnTo>
                    <a:pt x="177" y="0"/>
                  </a:lnTo>
                  <a:lnTo>
                    <a:pt x="177" y="51"/>
                  </a:lnTo>
                  <a:close/>
                  <a:moveTo>
                    <a:pt x="0" y="51"/>
                  </a:moveTo>
                  <a:lnTo>
                    <a:pt x="118" y="51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65560" y="3287880"/>
              <a:ext cx="37800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09480" y="329724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181480" y="3505320"/>
              <a:ext cx="638280" cy="150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213520" y="3562200"/>
              <a:ext cx="31680" cy="39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52920" y="3562200"/>
              <a:ext cx="3333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181480" y="3524400"/>
              <a:ext cx="638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68760" y="3571920"/>
              <a:ext cx="303480" cy="20520"/>
            </a:xfrm>
            <a:custGeom>
              <a:avLst/>
              <a:gdLst/>
              <a:ahLst/>
              <a:rect l="l" t="t" r="r" b="b"/>
              <a:pathLst>
                <a:path w="382" h="25">
                  <a:moveTo>
                    <a:pt x="80" y="25"/>
                  </a:moveTo>
                  <a:lnTo>
                    <a:pt x="101" y="25"/>
                  </a:lnTo>
                  <a:lnTo>
                    <a:pt x="101" y="0"/>
                  </a:lnTo>
                  <a:lnTo>
                    <a:pt x="80" y="0"/>
                  </a:lnTo>
                  <a:lnTo>
                    <a:pt x="80" y="25"/>
                  </a:lnTo>
                  <a:close/>
                  <a:moveTo>
                    <a:pt x="41" y="25"/>
                  </a:moveTo>
                  <a:lnTo>
                    <a:pt x="60" y="25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41" y="25"/>
                  </a:lnTo>
                  <a:close/>
                  <a:moveTo>
                    <a:pt x="0" y="25"/>
                  </a:moveTo>
                  <a:lnTo>
                    <a:pt x="20" y="2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5"/>
                  </a:lnTo>
                  <a:close/>
                  <a:moveTo>
                    <a:pt x="142" y="25"/>
                  </a:moveTo>
                  <a:lnTo>
                    <a:pt x="161" y="25"/>
                  </a:lnTo>
                  <a:lnTo>
                    <a:pt x="161" y="0"/>
                  </a:lnTo>
                  <a:lnTo>
                    <a:pt x="142" y="0"/>
                  </a:lnTo>
                  <a:lnTo>
                    <a:pt x="142" y="25"/>
                  </a:lnTo>
                  <a:close/>
                  <a:moveTo>
                    <a:pt x="202" y="25"/>
                  </a:moveTo>
                  <a:lnTo>
                    <a:pt x="221" y="25"/>
                  </a:lnTo>
                  <a:lnTo>
                    <a:pt x="221" y="0"/>
                  </a:lnTo>
                  <a:lnTo>
                    <a:pt x="202" y="0"/>
                  </a:lnTo>
                  <a:lnTo>
                    <a:pt x="202" y="25"/>
                  </a:lnTo>
                  <a:close/>
                  <a:moveTo>
                    <a:pt x="241" y="25"/>
                  </a:moveTo>
                  <a:lnTo>
                    <a:pt x="262" y="25"/>
                  </a:lnTo>
                  <a:lnTo>
                    <a:pt x="262" y="0"/>
                  </a:lnTo>
                  <a:lnTo>
                    <a:pt x="241" y="0"/>
                  </a:lnTo>
                  <a:lnTo>
                    <a:pt x="241" y="25"/>
                  </a:lnTo>
                  <a:close/>
                  <a:moveTo>
                    <a:pt x="281" y="25"/>
                  </a:moveTo>
                  <a:lnTo>
                    <a:pt x="303" y="25"/>
                  </a:lnTo>
                  <a:lnTo>
                    <a:pt x="303" y="0"/>
                  </a:lnTo>
                  <a:lnTo>
                    <a:pt x="281" y="0"/>
                  </a:lnTo>
                  <a:lnTo>
                    <a:pt x="281" y="25"/>
                  </a:lnTo>
                  <a:close/>
                  <a:moveTo>
                    <a:pt x="322" y="25"/>
                  </a:moveTo>
                  <a:lnTo>
                    <a:pt x="341" y="25"/>
                  </a:lnTo>
                  <a:lnTo>
                    <a:pt x="341" y="0"/>
                  </a:lnTo>
                  <a:lnTo>
                    <a:pt x="322" y="0"/>
                  </a:lnTo>
                  <a:lnTo>
                    <a:pt x="322" y="25"/>
                  </a:lnTo>
                  <a:close/>
                  <a:moveTo>
                    <a:pt x="363" y="25"/>
                  </a:moveTo>
                  <a:lnTo>
                    <a:pt x="382" y="25"/>
                  </a:lnTo>
                  <a:lnTo>
                    <a:pt x="382" y="0"/>
                  </a:lnTo>
                  <a:lnTo>
                    <a:pt x="363" y="0"/>
                  </a:lnTo>
                  <a:lnTo>
                    <a:pt x="363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065560" y="3693960"/>
              <a:ext cx="297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06600" y="370188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95760" y="3249720"/>
              <a:ext cx="180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884760" y="2028960"/>
              <a:ext cx="1611000" cy="636480"/>
            </a:xfrm>
            <a:custGeom>
              <a:avLst/>
              <a:gdLst/>
              <a:ahLst/>
              <a:rect l="l" t="t" r="r" b="b"/>
              <a:pathLst>
                <a:path w="2031" h="801">
                  <a:moveTo>
                    <a:pt x="0" y="0"/>
                  </a:moveTo>
                  <a:lnTo>
                    <a:pt x="2031" y="0"/>
                  </a:lnTo>
                  <a:lnTo>
                    <a:pt x="2031" y="80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64080" y="2657520"/>
              <a:ext cx="65160" cy="968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81" y="0"/>
                  </a:moveTo>
                  <a:lnTo>
                    <a:pt x="41" y="121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745160" y="1852560"/>
              <a:ext cx="5680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96640" y="186048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direction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862880" y="197316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60080" y="208440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448320" y="2365200"/>
              <a:ext cx="381240" cy="2373480"/>
            </a:xfrm>
            <a:custGeom>
              <a:avLst/>
              <a:gdLst/>
              <a:ahLst/>
              <a:rect l="l" t="t" r="r" b="b"/>
              <a:pathLst>
                <a:path w="479" h="2991">
                  <a:moveTo>
                    <a:pt x="479" y="0"/>
                  </a:moveTo>
                  <a:lnTo>
                    <a:pt x="479" y="2991"/>
                  </a:lnTo>
                  <a:lnTo>
                    <a:pt x="0" y="299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11120" y="1000080"/>
              <a:ext cx="908280" cy="380880"/>
            </a:xfrm>
            <a:custGeom>
              <a:avLst/>
              <a:gdLst/>
              <a:ahLst/>
              <a:rect l="l" t="t" r="r" b="b"/>
              <a:pathLst>
                <a:path w="1143" h="478">
                  <a:moveTo>
                    <a:pt x="0" y="0"/>
                  </a:moveTo>
                  <a:lnTo>
                    <a:pt x="1143" y="0"/>
                  </a:lnTo>
                  <a:lnTo>
                    <a:pt x="1143" y="4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1649520" y="2765520"/>
            <a:ext cx="569880" cy="1212840"/>
          </a:xfrm>
          <a:custGeom>
            <a:avLst/>
            <a:gdLst/>
            <a:ahLst/>
            <a:rect l="l" t="t" r="r" b="b"/>
            <a:pathLst>
              <a:path w="717" h="1529">
                <a:moveTo>
                  <a:pt x="717" y="0"/>
                </a:moveTo>
                <a:lnTo>
                  <a:pt x="717" y="1529"/>
                </a:lnTo>
                <a:lnTo>
                  <a:pt x="0" y="15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187720" y="2676600"/>
            <a:ext cx="63360" cy="96840"/>
          </a:xfrm>
          <a:custGeom>
            <a:avLst/>
            <a:gdLst/>
            <a:ahLst/>
            <a:rect l="l" t="t" r="r" b="b"/>
            <a:pathLst>
              <a:path w="81" h="122">
                <a:moveTo>
                  <a:pt x="0" y="122"/>
                </a:moveTo>
                <a:lnTo>
                  <a:pt x="40" y="0"/>
                </a:lnTo>
                <a:lnTo>
                  <a:pt x="81" y="122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62040" y="3946680"/>
            <a:ext cx="96840" cy="64800"/>
          </a:xfrm>
          <a:custGeom>
            <a:avLst/>
            <a:gdLst/>
            <a:ahLst/>
            <a:rect l="l" t="t" r="r" b="b"/>
            <a:pathLst>
              <a:path w="122" h="81">
                <a:moveTo>
                  <a:pt x="122" y="81"/>
                </a:moveTo>
                <a:lnTo>
                  <a:pt x="0" y="41"/>
                </a:lnTo>
                <a:lnTo>
                  <a:pt x="122" y="0"/>
                </a:lnTo>
                <a:lnTo>
                  <a:pt x="122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976480" y="933480"/>
            <a:ext cx="324000" cy="447480"/>
          </a:xfrm>
          <a:custGeom>
            <a:avLst/>
            <a:gdLst/>
            <a:ahLst/>
            <a:rect l="l" t="t" r="r" b="b"/>
            <a:pathLst>
              <a:path w="408" h="563">
                <a:moveTo>
                  <a:pt x="408" y="0"/>
                </a:moveTo>
                <a:lnTo>
                  <a:pt x="408" y="157"/>
                </a:lnTo>
                <a:lnTo>
                  <a:pt x="0" y="157"/>
                </a:lnTo>
                <a:lnTo>
                  <a:pt x="0" y="56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146240" y="4738680"/>
            <a:ext cx="663480" cy="662040"/>
          </a:xfrm>
          <a:custGeom>
            <a:avLst/>
            <a:gdLst/>
            <a:ahLst/>
            <a:rect l="l" t="t" r="r" b="b"/>
            <a:pathLst>
              <a:path w="836" h="833">
                <a:moveTo>
                  <a:pt x="251" y="492"/>
                </a:moveTo>
                <a:lnTo>
                  <a:pt x="585" y="492"/>
                </a:lnTo>
                <a:lnTo>
                  <a:pt x="585" y="455"/>
                </a:lnTo>
                <a:lnTo>
                  <a:pt x="251" y="455"/>
                </a:lnTo>
                <a:lnTo>
                  <a:pt x="251" y="492"/>
                </a:lnTo>
                <a:close/>
                <a:moveTo>
                  <a:pt x="85" y="455"/>
                </a:moveTo>
                <a:lnTo>
                  <a:pt x="751" y="455"/>
                </a:lnTo>
                <a:lnTo>
                  <a:pt x="751" y="0"/>
                </a:lnTo>
                <a:lnTo>
                  <a:pt x="85" y="0"/>
                </a:lnTo>
                <a:lnTo>
                  <a:pt x="85" y="455"/>
                </a:lnTo>
                <a:close/>
                <a:moveTo>
                  <a:pt x="168" y="607"/>
                </a:moveTo>
                <a:lnTo>
                  <a:pt x="668" y="607"/>
                </a:lnTo>
                <a:lnTo>
                  <a:pt x="668" y="492"/>
                </a:lnTo>
                <a:lnTo>
                  <a:pt x="168" y="492"/>
                </a:lnTo>
                <a:lnTo>
                  <a:pt x="168" y="607"/>
                </a:lnTo>
                <a:close/>
                <a:moveTo>
                  <a:pt x="628" y="607"/>
                </a:moveTo>
                <a:lnTo>
                  <a:pt x="244" y="607"/>
                </a:lnTo>
                <a:lnTo>
                  <a:pt x="0" y="607"/>
                </a:lnTo>
                <a:lnTo>
                  <a:pt x="0" y="833"/>
                </a:lnTo>
                <a:lnTo>
                  <a:pt x="836" y="833"/>
                </a:lnTo>
                <a:lnTo>
                  <a:pt x="836" y="607"/>
                </a:lnTo>
                <a:lnTo>
                  <a:pt x="628" y="607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362240" y="5265720"/>
            <a:ext cx="99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163520" y="5237280"/>
            <a:ext cx="50760" cy="2844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18"/>
                </a:moveTo>
                <a:lnTo>
                  <a:pt x="4" y="9"/>
                </a:lnTo>
                <a:lnTo>
                  <a:pt x="13" y="4"/>
                </a:lnTo>
                <a:lnTo>
                  <a:pt x="25" y="0"/>
                </a:lnTo>
                <a:lnTo>
                  <a:pt x="39" y="0"/>
                </a:lnTo>
                <a:lnTo>
                  <a:pt x="52" y="4"/>
                </a:lnTo>
                <a:lnTo>
                  <a:pt x="61" y="9"/>
                </a:lnTo>
                <a:lnTo>
                  <a:pt x="64" y="18"/>
                </a:lnTo>
                <a:lnTo>
                  <a:pt x="61" y="27"/>
                </a:lnTo>
                <a:lnTo>
                  <a:pt x="52" y="32"/>
                </a:lnTo>
                <a:lnTo>
                  <a:pt x="39" y="37"/>
                </a:lnTo>
                <a:lnTo>
                  <a:pt x="25" y="37"/>
                </a:lnTo>
                <a:lnTo>
                  <a:pt x="13" y="32"/>
                </a:lnTo>
                <a:lnTo>
                  <a:pt x="4" y="27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279440" y="4799160"/>
            <a:ext cx="397080" cy="2412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163520" y="5356080"/>
            <a:ext cx="628920" cy="30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727280" y="5235480"/>
            <a:ext cx="31680" cy="46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146240" y="529596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146240" y="532620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34604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7780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1544760" y="522108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76520" y="522144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19320" y="5440320"/>
            <a:ext cx="51732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268280" y="5448240"/>
            <a:ext cx="465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09720" y="4738680"/>
            <a:ext cx="514440" cy="552600"/>
          </a:xfrm>
          <a:custGeom>
            <a:avLst/>
            <a:gdLst/>
            <a:ahLst/>
            <a:rect l="l" t="t" r="r" b="b"/>
            <a:pathLst>
              <a:path w="647" h="695">
                <a:moveTo>
                  <a:pt x="647" y="0"/>
                </a:moveTo>
                <a:lnTo>
                  <a:pt x="492" y="0"/>
                </a:lnTo>
                <a:lnTo>
                  <a:pt x="492" y="695"/>
                </a:lnTo>
                <a:lnTo>
                  <a:pt x="0" y="6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19400" y="1380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274840" y="1474920"/>
            <a:ext cx="3348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328840" y="15685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384280" y="16621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438280" y="1755720"/>
            <a:ext cx="349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494080" y="18493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549520" y="19447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3520" y="20383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658960" y="2131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714760" y="2225520"/>
            <a:ext cx="3312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770200" y="2320920"/>
            <a:ext cx="3348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824200" y="2416320"/>
            <a:ext cx="3492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79640" y="2509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935440" y="2604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976480" y="138096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065400" y="1442880"/>
            <a:ext cx="54000" cy="3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154320" y="150660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241800" y="1571760"/>
            <a:ext cx="55440" cy="3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330720" y="1633680"/>
            <a:ext cx="540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19640" y="1697040"/>
            <a:ext cx="5364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08200" y="176040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97120" y="1824120"/>
            <a:ext cx="540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686040" y="188748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774960" y="1951200"/>
            <a:ext cx="558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863880" y="2014560"/>
            <a:ext cx="2088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29200" y="391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129200" y="423864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129200" y="439092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129200" y="454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129200" y="487044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129200" y="502128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29200" y="517212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129200" y="550080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29200" y="5651640"/>
            <a:ext cx="144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29200" y="1595520"/>
            <a:ext cx="496800" cy="396720"/>
          </a:xfrm>
          <a:custGeom>
            <a:avLst/>
            <a:gdLst/>
            <a:ahLst/>
            <a:rect l="l" t="t" r="r" b="b"/>
            <a:pathLst>
              <a:path w="627" h="499">
                <a:moveTo>
                  <a:pt x="0" y="250"/>
                </a:moveTo>
                <a:lnTo>
                  <a:pt x="3" y="212"/>
                </a:lnTo>
                <a:lnTo>
                  <a:pt x="14" y="176"/>
                </a:lnTo>
                <a:lnTo>
                  <a:pt x="31" y="141"/>
                </a:lnTo>
                <a:lnTo>
                  <a:pt x="54" y="109"/>
                </a:lnTo>
                <a:lnTo>
                  <a:pt x="84" y="79"/>
                </a:lnTo>
                <a:lnTo>
                  <a:pt x="118" y="55"/>
                </a:lnTo>
                <a:lnTo>
                  <a:pt x="157" y="33"/>
                </a:lnTo>
                <a:lnTo>
                  <a:pt x="199" y="17"/>
                </a:lnTo>
                <a:lnTo>
                  <a:pt x="243" y="5"/>
                </a:lnTo>
                <a:lnTo>
                  <a:pt x="289" y="0"/>
                </a:lnTo>
                <a:lnTo>
                  <a:pt x="337" y="0"/>
                </a:lnTo>
                <a:lnTo>
                  <a:pt x="383" y="5"/>
                </a:lnTo>
                <a:lnTo>
                  <a:pt x="427" y="17"/>
                </a:lnTo>
                <a:lnTo>
                  <a:pt x="470" y="33"/>
                </a:lnTo>
                <a:lnTo>
                  <a:pt x="509" y="55"/>
                </a:lnTo>
                <a:lnTo>
                  <a:pt x="542" y="79"/>
                </a:lnTo>
                <a:lnTo>
                  <a:pt x="572" y="109"/>
                </a:lnTo>
                <a:lnTo>
                  <a:pt x="595" y="141"/>
                </a:lnTo>
                <a:lnTo>
                  <a:pt x="613" y="176"/>
                </a:lnTo>
                <a:lnTo>
                  <a:pt x="623" y="212"/>
                </a:lnTo>
                <a:lnTo>
                  <a:pt x="627" y="250"/>
                </a:lnTo>
                <a:lnTo>
                  <a:pt x="623" y="288"/>
                </a:lnTo>
                <a:lnTo>
                  <a:pt x="613" y="323"/>
                </a:lnTo>
                <a:lnTo>
                  <a:pt x="595" y="358"/>
                </a:lnTo>
                <a:lnTo>
                  <a:pt x="572" y="390"/>
                </a:lnTo>
                <a:lnTo>
                  <a:pt x="542" y="420"/>
                </a:lnTo>
                <a:lnTo>
                  <a:pt x="509" y="445"/>
                </a:lnTo>
                <a:lnTo>
                  <a:pt x="470" y="466"/>
                </a:lnTo>
                <a:lnTo>
                  <a:pt x="427" y="483"/>
                </a:lnTo>
                <a:lnTo>
                  <a:pt x="383" y="494"/>
                </a:lnTo>
                <a:lnTo>
                  <a:pt x="337" y="499"/>
                </a:lnTo>
                <a:lnTo>
                  <a:pt x="289" y="499"/>
                </a:lnTo>
                <a:lnTo>
                  <a:pt x="243" y="494"/>
                </a:lnTo>
                <a:lnTo>
                  <a:pt x="199" y="483"/>
                </a:lnTo>
                <a:lnTo>
                  <a:pt x="157" y="466"/>
                </a:lnTo>
                <a:lnTo>
                  <a:pt x="118" y="445"/>
                </a:lnTo>
                <a:lnTo>
                  <a:pt x="84" y="420"/>
                </a:lnTo>
                <a:lnTo>
                  <a:pt x="54" y="390"/>
                </a:lnTo>
                <a:lnTo>
                  <a:pt x="31" y="358"/>
                </a:lnTo>
                <a:lnTo>
                  <a:pt x="14" y="323"/>
                </a:lnTo>
                <a:lnTo>
                  <a:pt x="3" y="288"/>
                </a:lnTo>
                <a:lnTo>
                  <a:pt x="0" y="250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357440" y="1693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52800" y="2836800"/>
            <a:ext cx="496800" cy="496800"/>
          </a:xfrm>
          <a:custGeom>
            <a:avLst/>
            <a:gdLst/>
            <a:ahLst/>
            <a:rect l="l" t="t" r="r" b="b"/>
            <a:pathLst>
              <a:path w="626" h="625">
                <a:moveTo>
                  <a:pt x="0" y="313"/>
                </a:moveTo>
                <a:lnTo>
                  <a:pt x="4" y="265"/>
                </a:lnTo>
                <a:lnTo>
                  <a:pt x="12" y="221"/>
                </a:lnTo>
                <a:lnTo>
                  <a:pt x="30" y="177"/>
                </a:lnTo>
                <a:lnTo>
                  <a:pt x="53" y="136"/>
                </a:lnTo>
                <a:lnTo>
                  <a:pt x="83" y="99"/>
                </a:lnTo>
                <a:lnTo>
                  <a:pt x="117" y="67"/>
                </a:lnTo>
                <a:lnTo>
                  <a:pt x="156" y="41"/>
                </a:lnTo>
                <a:lnTo>
                  <a:pt x="198" y="22"/>
                </a:lnTo>
                <a:lnTo>
                  <a:pt x="242" y="7"/>
                </a:lnTo>
                <a:lnTo>
                  <a:pt x="288" y="0"/>
                </a:lnTo>
                <a:lnTo>
                  <a:pt x="336" y="0"/>
                </a:lnTo>
                <a:lnTo>
                  <a:pt x="382" y="7"/>
                </a:lnTo>
                <a:lnTo>
                  <a:pt x="426" y="22"/>
                </a:lnTo>
                <a:lnTo>
                  <a:pt x="468" y="41"/>
                </a:lnTo>
                <a:lnTo>
                  <a:pt x="507" y="67"/>
                </a:lnTo>
                <a:lnTo>
                  <a:pt x="543" y="99"/>
                </a:lnTo>
                <a:lnTo>
                  <a:pt x="571" y="136"/>
                </a:lnTo>
                <a:lnTo>
                  <a:pt x="594" y="177"/>
                </a:lnTo>
                <a:lnTo>
                  <a:pt x="612" y="221"/>
                </a:lnTo>
                <a:lnTo>
                  <a:pt x="622" y="265"/>
                </a:lnTo>
                <a:lnTo>
                  <a:pt x="626" y="313"/>
                </a:lnTo>
                <a:lnTo>
                  <a:pt x="622" y="359"/>
                </a:lnTo>
                <a:lnTo>
                  <a:pt x="612" y="405"/>
                </a:lnTo>
                <a:lnTo>
                  <a:pt x="594" y="449"/>
                </a:lnTo>
                <a:lnTo>
                  <a:pt x="571" y="489"/>
                </a:lnTo>
                <a:lnTo>
                  <a:pt x="543" y="525"/>
                </a:lnTo>
                <a:lnTo>
                  <a:pt x="507" y="556"/>
                </a:lnTo>
                <a:lnTo>
                  <a:pt x="468" y="583"/>
                </a:lnTo>
                <a:lnTo>
                  <a:pt x="426" y="604"/>
                </a:lnTo>
                <a:lnTo>
                  <a:pt x="382" y="618"/>
                </a:lnTo>
                <a:lnTo>
                  <a:pt x="336" y="625"/>
                </a:lnTo>
                <a:lnTo>
                  <a:pt x="288" y="625"/>
                </a:lnTo>
                <a:lnTo>
                  <a:pt x="242" y="618"/>
                </a:lnTo>
                <a:lnTo>
                  <a:pt x="198" y="604"/>
                </a:lnTo>
                <a:lnTo>
                  <a:pt x="156" y="583"/>
                </a:lnTo>
                <a:lnTo>
                  <a:pt x="117" y="556"/>
                </a:lnTo>
                <a:lnTo>
                  <a:pt x="83" y="525"/>
                </a:lnTo>
                <a:lnTo>
                  <a:pt x="53" y="489"/>
                </a:lnTo>
                <a:lnTo>
                  <a:pt x="30" y="449"/>
                </a:lnTo>
                <a:lnTo>
                  <a:pt x="12" y="405"/>
                </a:lnTo>
                <a:lnTo>
                  <a:pt x="4" y="359"/>
                </a:lnTo>
                <a:lnTo>
                  <a:pt x="0" y="313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281040" y="2982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644480" y="2919240"/>
            <a:ext cx="497160" cy="497160"/>
          </a:xfrm>
          <a:custGeom>
            <a:avLst/>
            <a:gdLst/>
            <a:ahLst/>
            <a:rect l="l" t="t" r="r" b="b"/>
            <a:pathLst>
              <a:path w="625" h="624">
                <a:moveTo>
                  <a:pt x="0" y="312"/>
                </a:moveTo>
                <a:lnTo>
                  <a:pt x="3" y="266"/>
                </a:lnTo>
                <a:lnTo>
                  <a:pt x="12" y="220"/>
                </a:lnTo>
                <a:lnTo>
                  <a:pt x="30" y="176"/>
                </a:lnTo>
                <a:lnTo>
                  <a:pt x="53" y="135"/>
                </a:lnTo>
                <a:lnTo>
                  <a:pt x="83" y="98"/>
                </a:lnTo>
                <a:lnTo>
                  <a:pt x="116" y="67"/>
                </a:lnTo>
                <a:lnTo>
                  <a:pt x="155" y="40"/>
                </a:lnTo>
                <a:lnTo>
                  <a:pt x="198" y="21"/>
                </a:lnTo>
                <a:lnTo>
                  <a:pt x="242" y="7"/>
                </a:lnTo>
                <a:lnTo>
                  <a:pt x="289" y="0"/>
                </a:lnTo>
                <a:lnTo>
                  <a:pt x="335" y="0"/>
                </a:lnTo>
                <a:lnTo>
                  <a:pt x="381" y="7"/>
                </a:lnTo>
                <a:lnTo>
                  <a:pt x="427" y="21"/>
                </a:lnTo>
                <a:lnTo>
                  <a:pt x="468" y="40"/>
                </a:lnTo>
                <a:lnTo>
                  <a:pt x="507" y="67"/>
                </a:lnTo>
                <a:lnTo>
                  <a:pt x="542" y="98"/>
                </a:lnTo>
                <a:lnTo>
                  <a:pt x="570" y="135"/>
                </a:lnTo>
                <a:lnTo>
                  <a:pt x="593" y="176"/>
                </a:lnTo>
                <a:lnTo>
                  <a:pt x="611" y="220"/>
                </a:lnTo>
                <a:lnTo>
                  <a:pt x="622" y="266"/>
                </a:lnTo>
                <a:lnTo>
                  <a:pt x="625" y="312"/>
                </a:lnTo>
                <a:lnTo>
                  <a:pt x="622" y="358"/>
                </a:lnTo>
                <a:lnTo>
                  <a:pt x="611" y="404"/>
                </a:lnTo>
                <a:lnTo>
                  <a:pt x="593" y="448"/>
                </a:lnTo>
                <a:lnTo>
                  <a:pt x="570" y="488"/>
                </a:lnTo>
                <a:lnTo>
                  <a:pt x="542" y="524"/>
                </a:lnTo>
                <a:lnTo>
                  <a:pt x="507" y="555"/>
                </a:lnTo>
                <a:lnTo>
                  <a:pt x="468" y="582"/>
                </a:lnTo>
                <a:lnTo>
                  <a:pt x="427" y="603"/>
                </a:lnTo>
                <a:lnTo>
                  <a:pt x="381" y="617"/>
                </a:lnTo>
                <a:lnTo>
                  <a:pt x="335" y="624"/>
                </a:lnTo>
                <a:lnTo>
                  <a:pt x="289" y="624"/>
                </a:lnTo>
                <a:lnTo>
                  <a:pt x="242" y="617"/>
                </a:lnTo>
                <a:lnTo>
                  <a:pt x="198" y="603"/>
                </a:lnTo>
                <a:lnTo>
                  <a:pt x="155" y="582"/>
                </a:lnTo>
                <a:lnTo>
                  <a:pt x="116" y="555"/>
                </a:lnTo>
                <a:lnTo>
                  <a:pt x="83" y="524"/>
                </a:lnTo>
                <a:lnTo>
                  <a:pt x="53" y="488"/>
                </a:lnTo>
                <a:lnTo>
                  <a:pt x="30" y="448"/>
                </a:lnTo>
                <a:lnTo>
                  <a:pt x="12" y="404"/>
                </a:lnTo>
                <a:lnTo>
                  <a:pt x="3" y="358"/>
                </a:ln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872720" y="30654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3960" y="603360"/>
            <a:ext cx="165240" cy="198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76560" y="615960"/>
            <a:ext cx="47880" cy="173160"/>
          </a:xfrm>
          <a:custGeom>
            <a:avLst/>
            <a:gdLst/>
            <a:ahLst/>
            <a:rect l="l" t="t" r="r" b="b"/>
            <a:pathLst>
              <a:path w="60" h="218">
                <a:moveTo>
                  <a:pt x="0" y="47"/>
                </a:moveTo>
                <a:lnTo>
                  <a:pt x="0" y="8"/>
                </a:lnTo>
                <a:lnTo>
                  <a:pt x="9" y="0"/>
                </a:lnTo>
                <a:lnTo>
                  <a:pt x="53" y="0"/>
                </a:lnTo>
                <a:lnTo>
                  <a:pt x="60" y="8"/>
                </a:lnTo>
                <a:lnTo>
                  <a:pt x="60" y="47"/>
                </a:lnTo>
                <a:lnTo>
                  <a:pt x="53" y="63"/>
                </a:lnTo>
                <a:lnTo>
                  <a:pt x="53" y="157"/>
                </a:lnTo>
                <a:lnTo>
                  <a:pt x="60" y="172"/>
                </a:lnTo>
                <a:lnTo>
                  <a:pt x="60" y="211"/>
                </a:lnTo>
                <a:lnTo>
                  <a:pt x="53" y="218"/>
                </a:lnTo>
                <a:lnTo>
                  <a:pt x="9" y="218"/>
                </a:lnTo>
                <a:lnTo>
                  <a:pt x="0" y="211"/>
                </a:lnTo>
                <a:lnTo>
                  <a:pt x="0" y="172"/>
                </a:lnTo>
                <a:lnTo>
                  <a:pt x="9" y="157"/>
                </a:lnTo>
                <a:lnTo>
                  <a:pt x="9" y="63"/>
                </a:lnTo>
                <a:lnTo>
                  <a:pt x="0" y="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038480" y="615960"/>
            <a:ext cx="76320" cy="173160"/>
          </a:xfrm>
          <a:custGeom>
            <a:avLst/>
            <a:gdLst/>
            <a:ahLst/>
            <a:rect l="l" t="t" r="r" b="b"/>
            <a:pathLst>
              <a:path w="96" h="218">
                <a:moveTo>
                  <a:pt x="0" y="79"/>
                </a:moveTo>
                <a:lnTo>
                  <a:pt x="45" y="79"/>
                </a:lnTo>
                <a:lnTo>
                  <a:pt x="45" y="0"/>
                </a:lnTo>
                <a:lnTo>
                  <a:pt x="0" y="0"/>
                </a:lnTo>
                <a:lnTo>
                  <a:pt x="0" y="79"/>
                </a:lnTo>
                <a:close/>
                <a:moveTo>
                  <a:pt x="53" y="79"/>
                </a:moveTo>
                <a:lnTo>
                  <a:pt x="96" y="79"/>
                </a:lnTo>
                <a:lnTo>
                  <a:pt x="96" y="0"/>
                </a:lnTo>
                <a:lnTo>
                  <a:pt x="53" y="0"/>
                </a:lnTo>
                <a:lnTo>
                  <a:pt x="53" y="79"/>
                </a:lnTo>
                <a:close/>
                <a:moveTo>
                  <a:pt x="0" y="218"/>
                </a:moveTo>
                <a:lnTo>
                  <a:pt x="96" y="218"/>
                </a:lnTo>
                <a:lnTo>
                  <a:pt x="96" y="141"/>
                </a:lnTo>
                <a:lnTo>
                  <a:pt x="0" y="141"/>
                </a:lnTo>
                <a:lnTo>
                  <a:pt x="0" y="21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038480" y="7142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038480" y="70956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038480" y="7016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38480" y="69696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038480" y="69048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81320" y="63036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81320" y="66204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81320" y="64620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63036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38480" y="66204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038480" y="64620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038480" y="7732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038480" y="7588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038480" y="74304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089240" y="727200"/>
            <a:ext cx="180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064040" y="727200"/>
            <a:ext cx="144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17800" y="839880"/>
            <a:ext cx="4590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65680" y="847800"/>
            <a:ext cx="41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549600" y="701640"/>
            <a:ext cx="414360" cy="108000"/>
          </a:xfrm>
          <a:custGeom>
            <a:avLst/>
            <a:gdLst/>
            <a:ahLst/>
            <a:rect l="l" t="t" r="r" b="b"/>
            <a:pathLst>
              <a:path w="521" h="136">
                <a:moveTo>
                  <a:pt x="521" y="0"/>
                </a:moveTo>
                <a:lnTo>
                  <a:pt x="365" y="0"/>
                </a:lnTo>
                <a:lnTo>
                  <a:pt x="365" y="136"/>
                </a:lnTo>
                <a:lnTo>
                  <a:pt x="0" y="1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DB1-D4A8-4C22-979E-45744B02C2D1}" type="slidenum">
              <a:t>6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void regulatory arbitrag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ries banning Internet telephony may deprive their economies of major opportun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VoIP must not be introduced outside the general regulatory framework solely on account of the technology us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conomic efficiency of VoIP could be reduced if the rules of cost orientation are not applied to all segments of the network, wherever necessa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ver there is an access deficit, equitable allocation of the USO costs to all network operators, including VoIP providers, will be decisive for the general growth of the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7FC-7E50-487C-B6BD-F861410CFF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bregional to internat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from a subregional correspondent to a non-subregional international correspond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gateway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bregional to subreg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between two subregional correspond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gateway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E14-105F-4C06-B4C1-B47C6D04C0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ypes of VoIP call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different kinds of VoIP cal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1: a national end-user calling via link A (computer-to-computer/telephone)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2: a national end-user calling via link B (telephone-to-telephone)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3: an international ISP calling via link A (computer-to-computer termination: the connection must first be established locally);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C4: an international ISP calling via link B (computer/telephone-to-telephone termination).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29D-5E87-4277-BEFD-FC5BDD068A7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Fraudulent link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VoIP gateway of the ISP or the mobile network is connected to the network through subscriber lines and terminates calls on the latter at the price of a domestic call, the interconnection interface would no longer be in conformity with interconnection rul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be done by deviating normal telephone lines from their normal func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avoid this, type “A” links should be dedicated outgoing,  and consumption of type “C” links should be regularly monito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95A-3B78-4111-AA78-9A2EE0A201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762120" y="255600"/>
            <a:ext cx="7391160" cy="615636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1447920" y="3556080"/>
            <a:ext cx="1447560" cy="558720"/>
          </a:xfrm>
          <a:custGeom>
            <a:avLst/>
            <a:gdLst/>
            <a:ahLst/>
            <a:rect l="l" t="t" r="r" b="b"/>
            <a:pathLst>
              <a:path w="912" h="352">
                <a:moveTo>
                  <a:pt x="96" y="256"/>
                </a:moveTo>
                <a:cubicBezTo>
                  <a:pt x="48" y="228"/>
                  <a:pt x="0" y="200"/>
                  <a:pt x="0" y="160"/>
                </a:cubicBezTo>
                <a:cubicBezTo>
                  <a:pt x="0" y="120"/>
                  <a:pt x="40" y="32"/>
                  <a:pt x="96" y="16"/>
                </a:cubicBezTo>
                <a:cubicBezTo>
                  <a:pt x="152" y="0"/>
                  <a:pt x="240" y="32"/>
                  <a:pt x="336" y="64"/>
                </a:cubicBezTo>
                <a:cubicBezTo>
                  <a:pt x="432" y="96"/>
                  <a:pt x="576" y="160"/>
                  <a:pt x="672" y="208"/>
                </a:cubicBezTo>
                <a:cubicBezTo>
                  <a:pt x="768" y="256"/>
                  <a:pt x="872" y="336"/>
                  <a:pt x="912" y="35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A88-70AC-48CF-A157-560990CAB93A}" type="slidenum">
              <a:t>7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nalysis of C1 type calls (computer-to- computer/telephone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d user pays the price of a national call in order to access the ISP’s modem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re is an access deficit, the call will be subsidized but since it is an end-to-end domestic call, the Internet access will be treated as a value-added service, so no measures are needed for outgoing VoIP calls using this lin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a business-rate monthly subscription should be applied to the lines of this bundle. To avoid fraud, the lines should be dedicated outg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4CB-EAB8-4F59-8FDF-5E0000AA60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762120" y="255600"/>
            <a:ext cx="7391160" cy="615636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2819520" y="914400"/>
            <a:ext cx="2857320" cy="1828800"/>
          </a:xfrm>
          <a:custGeom>
            <a:avLst/>
            <a:gdLst/>
            <a:ahLst/>
            <a:rect l="l" t="t" r="r" b="b"/>
            <a:pathLst>
              <a:path w="1800" h="1152">
                <a:moveTo>
                  <a:pt x="288" y="0"/>
                </a:moveTo>
                <a:cubicBezTo>
                  <a:pt x="304" y="40"/>
                  <a:pt x="320" y="80"/>
                  <a:pt x="288" y="96"/>
                </a:cubicBezTo>
                <a:cubicBezTo>
                  <a:pt x="256" y="112"/>
                  <a:pt x="128" y="64"/>
                  <a:pt x="96" y="96"/>
                </a:cubicBezTo>
                <a:cubicBezTo>
                  <a:pt x="64" y="128"/>
                  <a:pt x="0" y="184"/>
                  <a:pt x="96" y="288"/>
                </a:cubicBezTo>
                <a:cubicBezTo>
                  <a:pt x="192" y="392"/>
                  <a:pt x="416" y="648"/>
                  <a:pt x="672" y="720"/>
                </a:cubicBezTo>
                <a:cubicBezTo>
                  <a:pt x="928" y="792"/>
                  <a:pt x="1464" y="648"/>
                  <a:pt x="1632" y="720"/>
                </a:cubicBezTo>
                <a:cubicBezTo>
                  <a:pt x="1800" y="792"/>
                  <a:pt x="1740" y="972"/>
                  <a:pt x="1680" y="1152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B97-9F8F-4DE0-880F-67CDF4C76932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nalysis of type C2 calls (telephone to telephone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 “B” links obey the interconnection rul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elephone network operator will bear the cost of an outgoing national call, the endogenous cost of which can easily be calculated with COSIT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akes account not only of CAPEX, OPEX and the costs of capital, but also taxes and part of the USO cos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ending on who collects the customer’s payments (direct/cascade method), there may be several types of arrangements between TPH and VoIP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DFD-3F16-4BA1-B5C9-0DF04927035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816120" y="2422440"/>
            <a:ext cx="5798880" cy="3971880"/>
            <a:chOff x="816120" y="2422440"/>
            <a:chExt cx="5798880" cy="3971880"/>
          </a:xfrm>
        </p:grpSpPr>
        <p:sp>
          <p:nvSpPr>
            <p:cNvPr id="1131" name=""/>
            <p:cNvSpPr/>
            <p:nvPr/>
          </p:nvSpPr>
          <p:spPr>
            <a:xfrm>
              <a:off x="816120" y="2422440"/>
              <a:ext cx="5798880" cy="3971880"/>
            </a:xfrm>
            <a:custGeom>
              <a:avLst/>
              <a:gdLst/>
              <a:ahLst/>
              <a:rect l="l" t="t" r="r" b="b"/>
              <a:pathLst>
                <a:path w="7306" h="5003">
                  <a:moveTo>
                    <a:pt x="0" y="1459"/>
                  </a:moveTo>
                  <a:lnTo>
                    <a:pt x="4592" y="1459"/>
                  </a:lnTo>
                  <a:lnTo>
                    <a:pt x="4592" y="0"/>
                  </a:lnTo>
                  <a:lnTo>
                    <a:pt x="7306" y="0"/>
                  </a:lnTo>
                  <a:lnTo>
                    <a:pt x="7306" y="5003"/>
                  </a:lnTo>
                  <a:lnTo>
                    <a:pt x="0" y="5003"/>
                  </a:lnTo>
                  <a:lnTo>
                    <a:pt x="0" y="1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161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49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827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915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9493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984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177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050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084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11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15236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8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219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252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8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20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539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8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420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5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488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5224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55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5890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23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657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905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724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575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792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825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859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892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9256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960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9940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027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060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09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12868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16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95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28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636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97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302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6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397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3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465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4987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532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5653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600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33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668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00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7338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768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80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835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6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0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936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9703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03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36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7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10500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13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17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5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0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73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066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40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735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408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41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4750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08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416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76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610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643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67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7101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745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77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11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4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87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913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94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979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013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04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081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11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14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81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16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249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829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16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498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84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4179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51400" y="3571920"/>
              <a:ext cx="79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4459320" y="3538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4459320" y="3505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4459320" y="347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4459320" y="34380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4459320" y="3405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4459320" y="3370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4459320" y="3336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4459320" y="3303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4459320" y="3270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4459320" y="32364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4459320" y="320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4459320" y="3168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4459320" y="3134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4459320" y="3102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4459320" y="30686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4459320" y="30351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4459320" y="2999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459320" y="2967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4459320" y="2933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4459320" y="29005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4459320" y="28670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4459320" y="28335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4459320" y="2798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4459320" y="2765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4459320" y="2731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459320" y="26989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4459320" y="26654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4459320" y="2630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4459320" y="2596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459320" y="2563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4459320" y="2530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4459320" y="24966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4459320" y="24638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4459320" y="2428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704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03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5370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5705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03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38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2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052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38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7721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07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840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8736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06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402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75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08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041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07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10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143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17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210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243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27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311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34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37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411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44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479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5134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54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580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14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648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6815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15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484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83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816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8500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88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9166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951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9850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18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5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08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119640" y="242244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15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186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219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2546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288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2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4133880" y="2422440"/>
            <a:ext cx="2482920" cy="3973680"/>
            <a:chOff x="4133880" y="2422440"/>
            <a:chExt cx="2482920" cy="3973680"/>
          </a:xfrm>
        </p:grpSpPr>
        <p:sp>
          <p:nvSpPr>
            <p:cNvPr id="1332" name=""/>
            <p:cNvSpPr/>
            <p:nvPr/>
          </p:nvSpPr>
          <p:spPr>
            <a:xfrm>
              <a:off x="635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8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423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56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48972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3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563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591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615000" y="2432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615000" y="2465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615000" y="2500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15000" y="2533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615000" y="256716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615000" y="2600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615000" y="2633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615000" y="2666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615000" y="2701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615000" y="2735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615000" y="2768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615000" y="2801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15000" y="2835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615000" y="2868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615000" y="2903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615000" y="2936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615000" y="2970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615000" y="3003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15000" y="3036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615000" y="3071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615000" y="3105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615000" y="3138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15000" y="3171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615000" y="3205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615000" y="3238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615000" y="3273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615000" y="3306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15000" y="3340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15000" y="3373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15000" y="3406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15000" y="3441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15000" y="3475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15000" y="3508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15000" y="3541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15000" y="3575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15000" y="3608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15000" y="3643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15000" y="3676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15000" y="3710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15000" y="3743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15000" y="3776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15000" y="3809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615000" y="3844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15000" y="3878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15000" y="3911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15000" y="3944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15000" y="3978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15000" y="4013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15000" y="4046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15000" y="4079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15000" y="4113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15000" y="4146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15000" y="4179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15000" y="4214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15000" y="4248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15000" y="4281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15000" y="4314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15000" y="4348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15000" y="4381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15000" y="4416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15000" y="4449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15000" y="4483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15000" y="4516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15000" y="4549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15000" y="4584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15000" y="4618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15000" y="4651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15000" y="4684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15000" y="4718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15000" y="4751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15000" y="4786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15000" y="4819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15000" y="4853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15000" y="4886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15000" y="4919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15000" y="4952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15000" y="4987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615000" y="5021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15000" y="5054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15000" y="5087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15000" y="5121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15000" y="5156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15000" y="5189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15000" y="5222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15000" y="5256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615000" y="5289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615000" y="5322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615000" y="5357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615000" y="5391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615000" y="5424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615000" y="5457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15000" y="5491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615000" y="5524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615000" y="5559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615000" y="5592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615000" y="5626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615000" y="5659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15000" y="5692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615000" y="5727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615000" y="5761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615000" y="5794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615000" y="5827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15000" y="5861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615000" y="5894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615000" y="5929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15000" y="5962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615000" y="5996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615000" y="6029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615000" y="6062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615000" y="6095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615000" y="6130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615000" y="6164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15000" y="6197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615000" y="6230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615000" y="6264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15000" y="6299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615000" y="6332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615000" y="6365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6590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655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6524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649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645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642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638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635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632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6289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625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622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618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6154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12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608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605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01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598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59526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91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588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585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581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5783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574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5716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68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64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5614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558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5548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551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5481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544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5412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538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534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53132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527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524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521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178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514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511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5076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5043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5010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497628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494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4908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487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4842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48070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4773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7397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707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4673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4638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605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57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4538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4505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4470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436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440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4370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43369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430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4268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423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42022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416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413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816120" y="1380960"/>
            <a:ext cx="5441760" cy="5015160"/>
            <a:chOff x="816120" y="1380960"/>
            <a:chExt cx="5441760" cy="5015160"/>
          </a:xfrm>
        </p:grpSpPr>
        <p:sp>
          <p:nvSpPr>
            <p:cNvPr id="1533" name=""/>
            <p:cNvSpPr/>
            <p:nvPr/>
          </p:nvSpPr>
          <p:spPr>
            <a:xfrm flipH="1">
              <a:off x="4100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4067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4033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39985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396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3932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389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3865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38307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3796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37634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3730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6972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3661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3629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359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356184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3529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3494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3460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342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3394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3360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332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3292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3258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3225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31910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315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3123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3090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3057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30222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2989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29559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922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889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2854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2820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27871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2754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27208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2685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2652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261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5855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255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2517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2484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245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2417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23839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234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2316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28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2249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22147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218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21474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2114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208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2045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201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1979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1946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191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187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184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18108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177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1744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170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167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164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609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157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154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150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147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14061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137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133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130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127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1238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120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117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113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110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06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103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1003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96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93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90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86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83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16120" y="6380280"/>
              <a:ext cx="144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6120" y="6346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816120" y="6311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816120" y="6278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816120" y="6245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816120" y="6211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816120" y="6178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816120" y="6143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816120" y="6109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816120" y="6076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816120" y="6043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816120" y="6010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816120" y="5977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816120" y="5942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816120" y="5908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816120" y="5874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816120" y="5842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816120" y="5808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816120" y="5775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816120" y="5740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816120" y="5707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816120" y="5673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816120" y="5640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816120" y="5607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816120" y="5571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816120" y="5538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816120" y="5505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816120" y="5471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816120" y="5438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816120" y="5405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816120" y="5370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816120" y="5336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816120" y="5303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816120" y="5270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816120" y="5237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816120" y="5203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816120" y="5168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816120" y="5135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816120" y="5102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816120" y="5068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816120" y="5035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816120" y="5000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816120" y="4966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816120" y="4933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816120" y="4900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816120" y="4867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V="1">
              <a:off x="816120" y="4834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816120" y="4799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816120" y="4765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816120" y="4731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16120" y="4699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816120" y="4665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816120" y="4632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816120" y="4597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816120" y="4564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816120" y="4530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816120" y="4497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816120" y="4464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816120" y="4428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816120" y="4395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816120" y="4362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816120" y="4328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816120" y="4295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816120" y="4262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816120" y="4227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816120" y="4193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816120" y="4160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816120" y="4127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816120" y="4094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816120" y="4060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V="1">
              <a:off x="816120" y="4025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816120" y="3992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816120" y="3959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816120" y="3925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816120" y="3892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816120" y="3857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816120" y="3823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816120" y="3790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816120" y="3757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816120" y="3724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816120" y="3691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816120" y="3656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816120" y="3622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816120" y="3588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930960" y="4233960"/>
              <a:ext cx="450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465800" y="4622760"/>
              <a:ext cx="1555560" cy="233280"/>
            </a:xfrm>
            <a:custGeom>
              <a:avLst/>
              <a:gdLst/>
              <a:ahLst/>
              <a:rect l="l" t="t" r="r" b="b"/>
              <a:pathLst>
                <a:path w="1960" h="293">
                  <a:moveTo>
                    <a:pt x="72" y="276"/>
                  </a:moveTo>
                  <a:lnTo>
                    <a:pt x="60" y="272"/>
                  </a:lnTo>
                  <a:lnTo>
                    <a:pt x="47" y="262"/>
                  </a:lnTo>
                  <a:lnTo>
                    <a:pt x="37" y="247"/>
                  </a:lnTo>
                  <a:lnTo>
                    <a:pt x="30" y="226"/>
                  </a:lnTo>
                  <a:lnTo>
                    <a:pt x="23" y="202"/>
                  </a:lnTo>
                  <a:lnTo>
                    <a:pt x="19" y="175"/>
                  </a:lnTo>
                  <a:lnTo>
                    <a:pt x="17" y="147"/>
                  </a:lnTo>
                  <a:lnTo>
                    <a:pt x="19" y="119"/>
                  </a:lnTo>
                  <a:lnTo>
                    <a:pt x="23" y="92"/>
                  </a:lnTo>
                  <a:lnTo>
                    <a:pt x="30" y="67"/>
                  </a:lnTo>
                  <a:lnTo>
                    <a:pt x="37" y="46"/>
                  </a:lnTo>
                  <a:lnTo>
                    <a:pt x="47" y="32"/>
                  </a:lnTo>
                  <a:lnTo>
                    <a:pt x="60" y="22"/>
                  </a:lnTo>
                  <a:lnTo>
                    <a:pt x="72" y="18"/>
                  </a:lnTo>
                  <a:lnTo>
                    <a:pt x="85" y="22"/>
                  </a:lnTo>
                  <a:lnTo>
                    <a:pt x="97" y="32"/>
                  </a:lnTo>
                  <a:lnTo>
                    <a:pt x="106" y="46"/>
                  </a:lnTo>
                  <a:lnTo>
                    <a:pt x="115" y="67"/>
                  </a:lnTo>
                  <a:lnTo>
                    <a:pt x="122" y="92"/>
                  </a:lnTo>
                  <a:lnTo>
                    <a:pt x="125" y="119"/>
                  </a:lnTo>
                  <a:lnTo>
                    <a:pt x="127" y="147"/>
                  </a:lnTo>
                  <a:lnTo>
                    <a:pt x="125" y="175"/>
                  </a:lnTo>
                  <a:lnTo>
                    <a:pt x="122" y="202"/>
                  </a:lnTo>
                  <a:lnTo>
                    <a:pt x="115" y="226"/>
                  </a:lnTo>
                  <a:lnTo>
                    <a:pt x="106" y="247"/>
                  </a:lnTo>
                  <a:lnTo>
                    <a:pt x="97" y="262"/>
                  </a:lnTo>
                  <a:lnTo>
                    <a:pt x="85" y="272"/>
                  </a:lnTo>
                  <a:lnTo>
                    <a:pt x="72" y="276"/>
                  </a:lnTo>
                  <a:close/>
                  <a:moveTo>
                    <a:pt x="72" y="0"/>
                  </a:moveTo>
                  <a:lnTo>
                    <a:pt x="1887" y="0"/>
                  </a:lnTo>
                  <a:lnTo>
                    <a:pt x="1903" y="4"/>
                  </a:lnTo>
                  <a:lnTo>
                    <a:pt x="1917" y="13"/>
                  </a:lnTo>
                  <a:lnTo>
                    <a:pt x="1930" y="29"/>
                  </a:lnTo>
                  <a:lnTo>
                    <a:pt x="1942" y="48"/>
                  </a:lnTo>
                  <a:lnTo>
                    <a:pt x="1951" y="73"/>
                  </a:lnTo>
                  <a:lnTo>
                    <a:pt x="1958" y="101"/>
                  </a:lnTo>
                  <a:lnTo>
                    <a:pt x="1960" y="131"/>
                  </a:lnTo>
                  <a:lnTo>
                    <a:pt x="1960" y="163"/>
                  </a:lnTo>
                  <a:lnTo>
                    <a:pt x="1958" y="193"/>
                  </a:lnTo>
                  <a:lnTo>
                    <a:pt x="1951" y="221"/>
                  </a:lnTo>
                  <a:lnTo>
                    <a:pt x="1942" y="246"/>
                  </a:lnTo>
                  <a:lnTo>
                    <a:pt x="1930" y="265"/>
                  </a:lnTo>
                  <a:lnTo>
                    <a:pt x="1917" y="281"/>
                  </a:lnTo>
                  <a:lnTo>
                    <a:pt x="1903" y="290"/>
                  </a:lnTo>
                  <a:lnTo>
                    <a:pt x="1887" y="293"/>
                  </a:lnTo>
                  <a:lnTo>
                    <a:pt x="72" y="293"/>
                  </a:lnTo>
                  <a:lnTo>
                    <a:pt x="56" y="290"/>
                  </a:lnTo>
                  <a:lnTo>
                    <a:pt x="42" y="281"/>
                  </a:lnTo>
                  <a:lnTo>
                    <a:pt x="28" y="265"/>
                  </a:lnTo>
                  <a:lnTo>
                    <a:pt x="17" y="246"/>
                  </a:lnTo>
                  <a:lnTo>
                    <a:pt x="9" y="221"/>
                  </a:lnTo>
                  <a:lnTo>
                    <a:pt x="1" y="193"/>
                  </a:lnTo>
                  <a:lnTo>
                    <a:pt x="0" y="163"/>
                  </a:lnTo>
                  <a:lnTo>
                    <a:pt x="0" y="131"/>
                  </a:lnTo>
                  <a:lnTo>
                    <a:pt x="1" y="101"/>
                  </a:lnTo>
                  <a:lnTo>
                    <a:pt x="9" y="73"/>
                  </a:lnTo>
                  <a:lnTo>
                    <a:pt x="17" y="48"/>
                  </a:lnTo>
                  <a:lnTo>
                    <a:pt x="28" y="29"/>
                  </a:lnTo>
                  <a:lnTo>
                    <a:pt x="42" y="13"/>
                  </a:lnTo>
                  <a:lnTo>
                    <a:pt x="56" y="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614760" y="4738680"/>
              <a:ext cx="162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862520" y="4738680"/>
              <a:ext cx="379440" cy="777960"/>
            </a:xfrm>
            <a:custGeom>
              <a:avLst/>
              <a:gdLst/>
              <a:ahLst/>
              <a:rect l="l" t="t" r="r" b="b"/>
              <a:pathLst>
                <a:path w="479" h="979">
                  <a:moveTo>
                    <a:pt x="0" y="979"/>
                  </a:moveTo>
                  <a:lnTo>
                    <a:pt x="0" y="0"/>
                  </a:lnTo>
                  <a:lnTo>
                    <a:pt x="47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241960" y="4738680"/>
              <a:ext cx="182520" cy="777960"/>
            </a:xfrm>
            <a:custGeom>
              <a:avLst/>
              <a:gdLst/>
              <a:ahLst/>
              <a:rect l="l" t="t" r="r" b="b"/>
              <a:pathLst>
                <a:path w="230" h="979">
                  <a:moveTo>
                    <a:pt x="230" y="979"/>
                  </a:moveTo>
                  <a:lnTo>
                    <a:pt x="23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5241960" y="4738680"/>
              <a:ext cx="3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241960" y="3656160"/>
              <a:ext cx="253800" cy="1082520"/>
            </a:xfrm>
            <a:custGeom>
              <a:avLst/>
              <a:gdLst/>
              <a:ahLst/>
              <a:rect l="l" t="t" r="r" b="b"/>
              <a:pathLst>
                <a:path w="320" h="1364">
                  <a:moveTo>
                    <a:pt x="320" y="0"/>
                  </a:moveTo>
                  <a:lnTo>
                    <a:pt x="320" y="1364"/>
                  </a:lnTo>
                  <a:lnTo>
                    <a:pt x="0" y="136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113440" y="4738680"/>
              <a:ext cx="128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5241960" y="4738680"/>
              <a:ext cx="1015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635360" y="4675320"/>
              <a:ext cx="1216080" cy="128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705200" y="4683240"/>
              <a:ext cx="1128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P INTERNET BACKB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11120" y="1380960"/>
              <a:ext cx="2573640" cy="1295640"/>
            </a:xfrm>
            <a:custGeom>
              <a:avLst/>
              <a:gdLst/>
              <a:ahLst/>
              <a:rect l="l" t="t" r="r" b="b"/>
              <a:pathLst>
                <a:path w="3241" h="1630">
                  <a:moveTo>
                    <a:pt x="477" y="1210"/>
                  </a:moveTo>
                  <a:lnTo>
                    <a:pt x="514" y="1274"/>
                  </a:lnTo>
                  <a:lnTo>
                    <a:pt x="555" y="1334"/>
                  </a:lnTo>
                  <a:lnTo>
                    <a:pt x="602" y="1389"/>
                  </a:lnTo>
                  <a:lnTo>
                    <a:pt x="654" y="1440"/>
                  </a:lnTo>
                  <a:lnTo>
                    <a:pt x="708" y="1486"/>
                  </a:lnTo>
                  <a:lnTo>
                    <a:pt x="769" y="1525"/>
                  </a:lnTo>
                  <a:lnTo>
                    <a:pt x="830" y="1558"/>
                  </a:lnTo>
                  <a:lnTo>
                    <a:pt x="896" y="1586"/>
                  </a:lnTo>
                  <a:lnTo>
                    <a:pt x="963" y="1608"/>
                  </a:lnTo>
                  <a:lnTo>
                    <a:pt x="1030" y="1622"/>
                  </a:lnTo>
                  <a:lnTo>
                    <a:pt x="1101" y="1630"/>
                  </a:lnTo>
                  <a:lnTo>
                    <a:pt x="1170" y="1630"/>
                  </a:lnTo>
                  <a:lnTo>
                    <a:pt x="1239" y="1625"/>
                  </a:lnTo>
                  <a:lnTo>
                    <a:pt x="1308" y="1613"/>
                  </a:lnTo>
                  <a:lnTo>
                    <a:pt x="1377" y="1593"/>
                  </a:lnTo>
                  <a:lnTo>
                    <a:pt x="1442" y="1567"/>
                  </a:lnTo>
                  <a:lnTo>
                    <a:pt x="1504" y="1535"/>
                  </a:lnTo>
                  <a:lnTo>
                    <a:pt x="1564" y="1496"/>
                  </a:lnTo>
                  <a:lnTo>
                    <a:pt x="1620" y="1452"/>
                  </a:lnTo>
                  <a:lnTo>
                    <a:pt x="1677" y="1496"/>
                  </a:lnTo>
                  <a:lnTo>
                    <a:pt x="1737" y="1535"/>
                  </a:lnTo>
                  <a:lnTo>
                    <a:pt x="1801" y="1567"/>
                  </a:lnTo>
                  <a:lnTo>
                    <a:pt x="1866" y="1593"/>
                  </a:lnTo>
                  <a:lnTo>
                    <a:pt x="1933" y="1613"/>
                  </a:lnTo>
                  <a:lnTo>
                    <a:pt x="2002" y="1625"/>
                  </a:lnTo>
                  <a:lnTo>
                    <a:pt x="2071" y="1630"/>
                  </a:lnTo>
                  <a:lnTo>
                    <a:pt x="2142" y="1630"/>
                  </a:lnTo>
                  <a:lnTo>
                    <a:pt x="2211" y="1622"/>
                  </a:lnTo>
                  <a:lnTo>
                    <a:pt x="2280" y="1608"/>
                  </a:lnTo>
                  <a:lnTo>
                    <a:pt x="2345" y="1586"/>
                  </a:lnTo>
                  <a:lnTo>
                    <a:pt x="2410" y="1558"/>
                  </a:lnTo>
                  <a:lnTo>
                    <a:pt x="2472" y="1525"/>
                  </a:lnTo>
                  <a:lnTo>
                    <a:pt x="2532" y="1486"/>
                  </a:lnTo>
                  <a:lnTo>
                    <a:pt x="2587" y="1440"/>
                  </a:lnTo>
                  <a:lnTo>
                    <a:pt x="2638" y="1389"/>
                  </a:lnTo>
                  <a:lnTo>
                    <a:pt x="2686" y="1334"/>
                  </a:lnTo>
                  <a:lnTo>
                    <a:pt x="2727" y="1274"/>
                  </a:lnTo>
                  <a:lnTo>
                    <a:pt x="2764" y="1210"/>
                  </a:lnTo>
                  <a:lnTo>
                    <a:pt x="2813" y="1219"/>
                  </a:lnTo>
                  <a:lnTo>
                    <a:pt x="2863" y="1223"/>
                  </a:lnTo>
                  <a:lnTo>
                    <a:pt x="2912" y="1219"/>
                  </a:lnTo>
                  <a:lnTo>
                    <a:pt x="2960" y="1209"/>
                  </a:lnTo>
                  <a:lnTo>
                    <a:pt x="3008" y="1191"/>
                  </a:lnTo>
                  <a:lnTo>
                    <a:pt x="3052" y="1168"/>
                  </a:lnTo>
                  <a:lnTo>
                    <a:pt x="3093" y="1138"/>
                  </a:lnTo>
                  <a:lnTo>
                    <a:pt x="3130" y="1103"/>
                  </a:lnTo>
                  <a:lnTo>
                    <a:pt x="3163" y="1062"/>
                  </a:lnTo>
                  <a:lnTo>
                    <a:pt x="3190" y="1018"/>
                  </a:lnTo>
                  <a:lnTo>
                    <a:pt x="3211" y="970"/>
                  </a:lnTo>
                  <a:lnTo>
                    <a:pt x="3227" y="919"/>
                  </a:lnTo>
                  <a:lnTo>
                    <a:pt x="3238" y="868"/>
                  </a:lnTo>
                  <a:lnTo>
                    <a:pt x="3241" y="815"/>
                  </a:lnTo>
                  <a:lnTo>
                    <a:pt x="3238" y="762"/>
                  </a:lnTo>
                  <a:lnTo>
                    <a:pt x="3227" y="709"/>
                  </a:lnTo>
                  <a:lnTo>
                    <a:pt x="3211" y="660"/>
                  </a:lnTo>
                  <a:lnTo>
                    <a:pt x="3190" y="612"/>
                  </a:lnTo>
                  <a:lnTo>
                    <a:pt x="3163" y="568"/>
                  </a:lnTo>
                  <a:lnTo>
                    <a:pt x="3130" y="528"/>
                  </a:lnTo>
                  <a:lnTo>
                    <a:pt x="3093" y="492"/>
                  </a:lnTo>
                  <a:lnTo>
                    <a:pt x="3052" y="462"/>
                  </a:lnTo>
                  <a:lnTo>
                    <a:pt x="3008" y="439"/>
                  </a:lnTo>
                  <a:lnTo>
                    <a:pt x="2960" y="422"/>
                  </a:lnTo>
                  <a:lnTo>
                    <a:pt x="2912" y="411"/>
                  </a:lnTo>
                  <a:lnTo>
                    <a:pt x="2863" y="407"/>
                  </a:lnTo>
                  <a:lnTo>
                    <a:pt x="2813" y="409"/>
                  </a:lnTo>
                  <a:lnTo>
                    <a:pt x="2764" y="420"/>
                  </a:lnTo>
                  <a:lnTo>
                    <a:pt x="2727" y="356"/>
                  </a:lnTo>
                  <a:lnTo>
                    <a:pt x="2686" y="296"/>
                  </a:lnTo>
                  <a:lnTo>
                    <a:pt x="2638" y="242"/>
                  </a:lnTo>
                  <a:lnTo>
                    <a:pt x="2587" y="190"/>
                  </a:lnTo>
                  <a:lnTo>
                    <a:pt x="2532" y="145"/>
                  </a:lnTo>
                  <a:lnTo>
                    <a:pt x="2472" y="106"/>
                  </a:lnTo>
                  <a:lnTo>
                    <a:pt x="2410" y="70"/>
                  </a:lnTo>
                  <a:lnTo>
                    <a:pt x="2345" y="44"/>
                  </a:lnTo>
                  <a:lnTo>
                    <a:pt x="2280" y="23"/>
                  </a:lnTo>
                  <a:lnTo>
                    <a:pt x="2211" y="7"/>
                  </a:lnTo>
                  <a:lnTo>
                    <a:pt x="2142" y="0"/>
                  </a:lnTo>
                  <a:lnTo>
                    <a:pt x="2071" y="0"/>
                  </a:lnTo>
                  <a:lnTo>
                    <a:pt x="2002" y="5"/>
                  </a:lnTo>
                  <a:lnTo>
                    <a:pt x="1933" y="17"/>
                  </a:lnTo>
                  <a:lnTo>
                    <a:pt x="1866" y="37"/>
                  </a:lnTo>
                  <a:lnTo>
                    <a:pt x="1801" y="63"/>
                  </a:lnTo>
                  <a:lnTo>
                    <a:pt x="1737" y="95"/>
                  </a:lnTo>
                  <a:lnTo>
                    <a:pt x="1677" y="134"/>
                  </a:lnTo>
                  <a:lnTo>
                    <a:pt x="1620" y="178"/>
                  </a:lnTo>
                  <a:lnTo>
                    <a:pt x="1564" y="134"/>
                  </a:lnTo>
                  <a:lnTo>
                    <a:pt x="1504" y="95"/>
                  </a:lnTo>
                  <a:lnTo>
                    <a:pt x="1442" y="63"/>
                  </a:lnTo>
                  <a:lnTo>
                    <a:pt x="1377" y="37"/>
                  </a:lnTo>
                  <a:lnTo>
                    <a:pt x="1308" y="17"/>
                  </a:lnTo>
                  <a:lnTo>
                    <a:pt x="1239" y="5"/>
                  </a:lnTo>
                  <a:lnTo>
                    <a:pt x="1170" y="0"/>
                  </a:lnTo>
                  <a:lnTo>
                    <a:pt x="1101" y="0"/>
                  </a:lnTo>
                  <a:lnTo>
                    <a:pt x="1030" y="7"/>
                  </a:lnTo>
                  <a:lnTo>
                    <a:pt x="963" y="23"/>
                  </a:lnTo>
                  <a:lnTo>
                    <a:pt x="896" y="44"/>
                  </a:lnTo>
                  <a:lnTo>
                    <a:pt x="830" y="70"/>
                  </a:lnTo>
                  <a:lnTo>
                    <a:pt x="769" y="106"/>
                  </a:lnTo>
                  <a:lnTo>
                    <a:pt x="708" y="145"/>
                  </a:lnTo>
                  <a:lnTo>
                    <a:pt x="654" y="190"/>
                  </a:lnTo>
                  <a:lnTo>
                    <a:pt x="602" y="242"/>
                  </a:lnTo>
                  <a:lnTo>
                    <a:pt x="555" y="296"/>
                  </a:lnTo>
                  <a:lnTo>
                    <a:pt x="514" y="356"/>
                  </a:lnTo>
                  <a:lnTo>
                    <a:pt x="477" y="420"/>
                  </a:lnTo>
                  <a:lnTo>
                    <a:pt x="427" y="409"/>
                  </a:lnTo>
                  <a:lnTo>
                    <a:pt x="378" y="407"/>
                  </a:lnTo>
                  <a:lnTo>
                    <a:pt x="329" y="411"/>
                  </a:lnTo>
                  <a:lnTo>
                    <a:pt x="281" y="422"/>
                  </a:lnTo>
                  <a:lnTo>
                    <a:pt x="233" y="439"/>
                  </a:lnTo>
                  <a:lnTo>
                    <a:pt x="189" y="462"/>
                  </a:lnTo>
                  <a:lnTo>
                    <a:pt x="148" y="492"/>
                  </a:lnTo>
                  <a:lnTo>
                    <a:pt x="111" y="528"/>
                  </a:lnTo>
                  <a:lnTo>
                    <a:pt x="79" y="568"/>
                  </a:lnTo>
                  <a:lnTo>
                    <a:pt x="51" y="612"/>
                  </a:lnTo>
                  <a:lnTo>
                    <a:pt x="30" y="660"/>
                  </a:lnTo>
                  <a:lnTo>
                    <a:pt x="14" y="709"/>
                  </a:lnTo>
                  <a:lnTo>
                    <a:pt x="3" y="762"/>
                  </a:lnTo>
                  <a:lnTo>
                    <a:pt x="0" y="815"/>
                  </a:lnTo>
                  <a:lnTo>
                    <a:pt x="3" y="868"/>
                  </a:lnTo>
                  <a:lnTo>
                    <a:pt x="14" y="919"/>
                  </a:lnTo>
                  <a:lnTo>
                    <a:pt x="30" y="970"/>
                  </a:lnTo>
                  <a:lnTo>
                    <a:pt x="51" y="1018"/>
                  </a:lnTo>
                  <a:lnTo>
                    <a:pt x="79" y="1062"/>
                  </a:lnTo>
                  <a:lnTo>
                    <a:pt x="111" y="1103"/>
                  </a:lnTo>
                  <a:lnTo>
                    <a:pt x="148" y="1138"/>
                  </a:lnTo>
                  <a:lnTo>
                    <a:pt x="189" y="1168"/>
                  </a:lnTo>
                  <a:lnTo>
                    <a:pt x="233" y="1191"/>
                  </a:lnTo>
                  <a:lnTo>
                    <a:pt x="281" y="1209"/>
                  </a:lnTo>
                  <a:lnTo>
                    <a:pt x="329" y="1219"/>
                  </a:lnTo>
                  <a:lnTo>
                    <a:pt x="378" y="1223"/>
                  </a:lnTo>
                  <a:lnTo>
                    <a:pt x="427" y="1219"/>
                  </a:lnTo>
                  <a:lnTo>
                    <a:pt x="477" y="121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59720" y="18288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NAT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99320" y="2025720"/>
              <a:ext cx="851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95360" y="3879720"/>
              <a:ext cx="166680" cy="1987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07960" y="3892680"/>
              <a:ext cx="49320" cy="17280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6"/>
                  </a:lnTo>
                  <a:lnTo>
                    <a:pt x="62" y="171"/>
                  </a:lnTo>
                  <a:lnTo>
                    <a:pt x="62" y="210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0"/>
                  </a:lnTo>
                  <a:lnTo>
                    <a:pt x="0" y="171"/>
                  </a:lnTo>
                  <a:lnTo>
                    <a:pt x="9" y="156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471680" y="3892680"/>
              <a:ext cx="75960" cy="172800"/>
            </a:xfrm>
            <a:custGeom>
              <a:avLst/>
              <a:gdLst/>
              <a:ahLst/>
              <a:rect l="l" t="t" r="r" b="b"/>
              <a:pathLst>
                <a:path w="96" h="219">
                  <a:moveTo>
                    <a:pt x="0" y="78"/>
                  </a:moveTo>
                  <a:lnTo>
                    <a:pt x="43" y="78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2" y="78"/>
                  </a:moveTo>
                  <a:lnTo>
                    <a:pt x="96" y="78"/>
                  </a:lnTo>
                  <a:lnTo>
                    <a:pt x="96" y="0"/>
                  </a:lnTo>
                  <a:lnTo>
                    <a:pt x="52" y="0"/>
                  </a:lnTo>
                  <a:lnTo>
                    <a:pt x="52" y="78"/>
                  </a:lnTo>
                  <a:close/>
                  <a:moveTo>
                    <a:pt x="0" y="219"/>
                  </a:moveTo>
                  <a:lnTo>
                    <a:pt x="96" y="219"/>
                  </a:lnTo>
                  <a:lnTo>
                    <a:pt x="96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471680" y="3990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1000080" y="272880"/>
            <a:ext cx="7134120" cy="6121440"/>
            <a:chOff x="1000080" y="272880"/>
            <a:chExt cx="7134120" cy="6121440"/>
          </a:xfrm>
        </p:grpSpPr>
        <p:sp>
          <p:nvSpPr>
            <p:cNvPr id="1734" name=""/>
            <p:cNvSpPr/>
            <p:nvPr/>
          </p:nvSpPr>
          <p:spPr>
            <a:xfrm>
              <a:off x="1471680" y="39844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471680" y="39783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471680" y="39718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71680" y="396540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512720" y="390672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12720" y="393876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512720" y="392256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71680" y="390672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71680" y="3938760"/>
              <a:ext cx="33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71680" y="392256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71680" y="404964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71680" y="403560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71680" y="4017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522440" y="4002120"/>
              <a:ext cx="14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96880" y="4002120"/>
              <a:ext cx="18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249200" y="4116240"/>
              <a:ext cx="459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297440" y="412416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052800" y="438120"/>
              <a:ext cx="496800" cy="495360"/>
            </a:xfrm>
            <a:custGeom>
              <a:avLst/>
              <a:gdLst/>
              <a:ahLst/>
              <a:rect l="l" t="t" r="r" b="b"/>
              <a:pathLst>
                <a:path w="626" h="625">
                  <a:moveTo>
                    <a:pt x="136" y="412"/>
                  </a:moveTo>
                  <a:lnTo>
                    <a:pt x="0" y="412"/>
                  </a:lnTo>
                  <a:lnTo>
                    <a:pt x="0" y="625"/>
                  </a:lnTo>
                  <a:lnTo>
                    <a:pt x="626" y="625"/>
                  </a:lnTo>
                  <a:lnTo>
                    <a:pt x="626" y="412"/>
                  </a:lnTo>
                  <a:lnTo>
                    <a:pt x="488" y="412"/>
                  </a:lnTo>
                  <a:lnTo>
                    <a:pt x="488" y="382"/>
                  </a:lnTo>
                  <a:lnTo>
                    <a:pt x="548" y="382"/>
                  </a:lnTo>
                  <a:lnTo>
                    <a:pt x="548" y="0"/>
                  </a:lnTo>
                  <a:lnTo>
                    <a:pt x="78" y="0"/>
                  </a:lnTo>
                  <a:lnTo>
                    <a:pt x="78" y="382"/>
                  </a:lnTo>
                  <a:lnTo>
                    <a:pt x="136" y="382"/>
                  </a:lnTo>
                  <a:lnTo>
                    <a:pt x="136" y="41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60800" y="76356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160800" y="73980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308400" y="779400"/>
              <a:ext cx="201600" cy="138240"/>
            </a:xfrm>
            <a:custGeom>
              <a:avLst/>
              <a:gdLst/>
              <a:ahLst/>
              <a:rect l="l" t="t" r="r" b="b"/>
              <a:pathLst>
                <a:path w="254" h="175">
                  <a:moveTo>
                    <a:pt x="0" y="175"/>
                  </a:moveTo>
                  <a:lnTo>
                    <a:pt x="206" y="175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175"/>
                  </a:lnTo>
                  <a:close/>
                  <a:moveTo>
                    <a:pt x="226" y="28"/>
                  </a:moveTo>
                  <a:lnTo>
                    <a:pt x="254" y="28"/>
                  </a:lnTo>
                  <a:lnTo>
                    <a:pt x="254" y="0"/>
                  </a:lnTo>
                  <a:lnTo>
                    <a:pt x="226" y="0"/>
                  </a:lnTo>
                  <a:lnTo>
                    <a:pt x="22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308400" y="82548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308400" y="87156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316320" y="849240"/>
              <a:ext cx="147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402000" y="833400"/>
              <a:ext cx="46080" cy="31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068640" y="473040"/>
              <a:ext cx="465120" cy="333360"/>
            </a:xfrm>
            <a:custGeom>
              <a:avLst/>
              <a:gdLst/>
              <a:ahLst/>
              <a:rect l="l" t="t" r="r" b="b"/>
              <a:pathLst>
                <a:path w="587" h="420">
                  <a:moveTo>
                    <a:pt x="492" y="300"/>
                  </a:moveTo>
                  <a:lnTo>
                    <a:pt x="513" y="300"/>
                  </a:lnTo>
                  <a:lnTo>
                    <a:pt x="513" y="292"/>
                  </a:lnTo>
                  <a:lnTo>
                    <a:pt x="492" y="292"/>
                  </a:lnTo>
                  <a:lnTo>
                    <a:pt x="492" y="300"/>
                  </a:lnTo>
                  <a:close/>
                  <a:moveTo>
                    <a:pt x="131" y="248"/>
                  </a:moveTo>
                  <a:lnTo>
                    <a:pt x="131" y="30"/>
                  </a:lnTo>
                  <a:lnTo>
                    <a:pt x="455" y="30"/>
                  </a:lnTo>
                  <a:lnTo>
                    <a:pt x="455" y="248"/>
                  </a:lnTo>
                  <a:lnTo>
                    <a:pt x="131" y="248"/>
                  </a:lnTo>
                  <a:close/>
                  <a:moveTo>
                    <a:pt x="117" y="264"/>
                  </a:moveTo>
                  <a:lnTo>
                    <a:pt x="469" y="264"/>
                  </a:lnTo>
                  <a:lnTo>
                    <a:pt x="469" y="14"/>
                  </a:lnTo>
                  <a:lnTo>
                    <a:pt x="485" y="14"/>
                  </a:lnTo>
                  <a:lnTo>
                    <a:pt x="485" y="0"/>
                  </a:lnTo>
                  <a:lnTo>
                    <a:pt x="103" y="0"/>
                  </a:lnTo>
                  <a:lnTo>
                    <a:pt x="103" y="278"/>
                  </a:lnTo>
                  <a:lnTo>
                    <a:pt x="117" y="278"/>
                  </a:lnTo>
                  <a:lnTo>
                    <a:pt x="117" y="264"/>
                  </a:lnTo>
                  <a:close/>
                  <a:moveTo>
                    <a:pt x="0" y="405"/>
                  </a:moveTo>
                  <a:lnTo>
                    <a:pt x="59" y="405"/>
                  </a:lnTo>
                  <a:lnTo>
                    <a:pt x="59" y="386"/>
                  </a:lnTo>
                  <a:lnTo>
                    <a:pt x="0" y="386"/>
                  </a:lnTo>
                  <a:lnTo>
                    <a:pt x="0" y="405"/>
                  </a:lnTo>
                  <a:close/>
                  <a:moveTo>
                    <a:pt x="342" y="420"/>
                  </a:moveTo>
                  <a:lnTo>
                    <a:pt x="469" y="420"/>
                  </a:lnTo>
                  <a:lnTo>
                    <a:pt x="469" y="411"/>
                  </a:lnTo>
                  <a:lnTo>
                    <a:pt x="342" y="411"/>
                  </a:lnTo>
                  <a:lnTo>
                    <a:pt x="342" y="420"/>
                  </a:lnTo>
                  <a:close/>
                  <a:moveTo>
                    <a:pt x="568" y="395"/>
                  </a:moveTo>
                  <a:lnTo>
                    <a:pt x="587" y="395"/>
                  </a:lnTo>
                  <a:lnTo>
                    <a:pt x="587" y="386"/>
                  </a:lnTo>
                  <a:lnTo>
                    <a:pt x="568" y="386"/>
                  </a:lnTo>
                  <a:lnTo>
                    <a:pt x="568" y="395"/>
                  </a:lnTo>
                  <a:close/>
                  <a:moveTo>
                    <a:pt x="568" y="414"/>
                  </a:moveTo>
                  <a:lnTo>
                    <a:pt x="587" y="414"/>
                  </a:lnTo>
                  <a:lnTo>
                    <a:pt x="587" y="405"/>
                  </a:lnTo>
                  <a:lnTo>
                    <a:pt x="568" y="405"/>
                  </a:lnTo>
                  <a:lnTo>
                    <a:pt x="568" y="4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114720" y="723960"/>
              <a:ext cx="37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32068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33004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300480" y="973080"/>
              <a:ext cx="4302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348360" y="98100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508920" y="109368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 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440880" y="120492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110360" y="272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110360" y="482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110360" y="558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110360" y="768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110360" y="844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110360" y="1054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110360" y="1130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110360" y="1339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110360" y="1415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110360" y="1625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110360" y="1701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110360" y="1911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110360" y="1987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110360" y="2197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110360" y="2273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110360" y="2482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110360" y="2558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110360" y="2768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110360" y="2844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110360" y="3054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110360" y="3130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10360" y="3340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10360" y="3416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10360" y="3625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110360" y="3701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110360" y="3911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110360" y="3987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110360" y="4197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110360" y="4273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110360" y="4483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110360" y="4559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110360" y="4768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110360" y="4844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110360" y="5054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110360" y="5130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110360" y="5340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110360" y="5416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110360" y="5626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110360" y="5702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110360" y="5911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110360" y="5987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110360" y="6197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110360" y="6273720"/>
              <a:ext cx="1800" cy="120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rot="5400000">
              <a:off x="6785280" y="328140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und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46240" y="901800"/>
              <a:ext cx="164880" cy="198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160640" y="914400"/>
              <a:ext cx="48960" cy="17316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7"/>
                  </a:lnTo>
                  <a:lnTo>
                    <a:pt x="62" y="172"/>
                  </a:lnTo>
                  <a:lnTo>
                    <a:pt x="62" y="212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2"/>
                  </a:lnTo>
                  <a:lnTo>
                    <a:pt x="0" y="172"/>
                  </a:lnTo>
                  <a:lnTo>
                    <a:pt x="9" y="157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222200" y="914400"/>
              <a:ext cx="76320" cy="173160"/>
            </a:xfrm>
            <a:custGeom>
              <a:avLst/>
              <a:gdLst/>
              <a:ahLst/>
              <a:rect l="l" t="t" r="r" b="b"/>
              <a:pathLst>
                <a:path w="97" h="219">
                  <a:moveTo>
                    <a:pt x="0" y="78"/>
                  </a:moveTo>
                  <a:lnTo>
                    <a:pt x="44" y="78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3" y="78"/>
                  </a:moveTo>
                  <a:lnTo>
                    <a:pt x="97" y="78"/>
                  </a:lnTo>
                  <a:lnTo>
                    <a:pt x="97" y="0"/>
                  </a:lnTo>
                  <a:lnTo>
                    <a:pt x="53" y="0"/>
                  </a:lnTo>
                  <a:lnTo>
                    <a:pt x="53" y="78"/>
                  </a:lnTo>
                  <a:close/>
                  <a:moveTo>
                    <a:pt x="0" y="219"/>
                  </a:moveTo>
                  <a:lnTo>
                    <a:pt x="97" y="219"/>
                  </a:lnTo>
                  <a:lnTo>
                    <a:pt x="97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222200" y="1012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222200" y="100656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222200" y="10000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222200" y="99540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222200" y="98748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263600" y="92880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263600" y="96048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263600" y="94464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222200" y="9288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222200" y="9604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22200" y="9446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222200" y="10717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222200" y="10573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222200" y="1039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274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247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000080" y="1138320"/>
              <a:ext cx="4590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049760" y="114624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292720" y="5516640"/>
              <a:ext cx="662040" cy="496800"/>
            </a:xfrm>
            <a:custGeom>
              <a:avLst/>
              <a:gdLst/>
              <a:ahLst/>
              <a:rect l="l" t="t" r="r" b="b"/>
              <a:pathLst>
                <a:path w="835" h="625">
                  <a:moveTo>
                    <a:pt x="0" y="625"/>
                  </a:moveTo>
                  <a:lnTo>
                    <a:pt x="0" y="613"/>
                  </a:lnTo>
                  <a:lnTo>
                    <a:pt x="84" y="574"/>
                  </a:lnTo>
                  <a:lnTo>
                    <a:pt x="84" y="0"/>
                  </a:lnTo>
                  <a:lnTo>
                    <a:pt x="306" y="0"/>
                  </a:lnTo>
                  <a:lnTo>
                    <a:pt x="306" y="574"/>
                  </a:lnTo>
                  <a:lnTo>
                    <a:pt x="396" y="613"/>
                  </a:lnTo>
                  <a:lnTo>
                    <a:pt x="396" y="625"/>
                  </a:lnTo>
                  <a:lnTo>
                    <a:pt x="0" y="625"/>
                  </a:lnTo>
                  <a:close/>
                  <a:moveTo>
                    <a:pt x="334" y="539"/>
                  </a:moveTo>
                  <a:lnTo>
                    <a:pt x="412" y="539"/>
                  </a:lnTo>
                  <a:lnTo>
                    <a:pt x="499" y="560"/>
                  </a:lnTo>
                  <a:lnTo>
                    <a:pt x="499" y="604"/>
                  </a:lnTo>
                  <a:lnTo>
                    <a:pt x="412" y="604"/>
                  </a:lnTo>
                  <a:lnTo>
                    <a:pt x="412" y="625"/>
                  </a:lnTo>
                  <a:lnTo>
                    <a:pt x="757" y="625"/>
                  </a:lnTo>
                  <a:lnTo>
                    <a:pt x="757" y="604"/>
                  </a:lnTo>
                  <a:lnTo>
                    <a:pt x="670" y="604"/>
                  </a:lnTo>
                  <a:lnTo>
                    <a:pt x="670" y="560"/>
                  </a:lnTo>
                  <a:lnTo>
                    <a:pt x="757" y="539"/>
                  </a:lnTo>
                  <a:lnTo>
                    <a:pt x="835" y="539"/>
                  </a:lnTo>
                  <a:lnTo>
                    <a:pt x="835" y="157"/>
                  </a:lnTo>
                  <a:lnTo>
                    <a:pt x="334" y="157"/>
                  </a:lnTo>
                  <a:lnTo>
                    <a:pt x="334" y="539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359320" y="5972040"/>
              <a:ext cx="180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535720" y="5972040"/>
              <a:ext cx="144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413320" y="5672160"/>
              <a:ext cx="6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403960" y="5619600"/>
              <a:ext cx="88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381640" y="5537160"/>
              <a:ext cx="131760" cy="290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688000" y="599616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688000" y="596124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19600" y="5943600"/>
              <a:ext cx="27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375160" y="5846760"/>
              <a:ext cx="142920" cy="135000"/>
            </a:xfrm>
            <a:custGeom>
              <a:avLst/>
              <a:gdLst/>
              <a:ahLst/>
              <a:rect l="l" t="t" r="r" b="b"/>
              <a:pathLst>
                <a:path w="180" h="169">
                  <a:moveTo>
                    <a:pt x="0" y="104"/>
                  </a:moveTo>
                  <a:lnTo>
                    <a:pt x="14" y="10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4"/>
                  </a:lnTo>
                  <a:close/>
                  <a:moveTo>
                    <a:pt x="28" y="104"/>
                  </a:moveTo>
                  <a:lnTo>
                    <a:pt x="42" y="104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8" y="104"/>
                  </a:lnTo>
                  <a:close/>
                  <a:moveTo>
                    <a:pt x="54" y="104"/>
                  </a:moveTo>
                  <a:lnTo>
                    <a:pt x="69" y="104"/>
                  </a:lnTo>
                  <a:lnTo>
                    <a:pt x="69" y="0"/>
                  </a:lnTo>
                  <a:lnTo>
                    <a:pt x="54" y="0"/>
                  </a:lnTo>
                  <a:lnTo>
                    <a:pt x="54" y="104"/>
                  </a:lnTo>
                  <a:close/>
                  <a:moveTo>
                    <a:pt x="83" y="104"/>
                  </a:moveTo>
                  <a:lnTo>
                    <a:pt x="97" y="104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83" y="104"/>
                  </a:lnTo>
                  <a:close/>
                  <a:moveTo>
                    <a:pt x="111" y="104"/>
                  </a:moveTo>
                  <a:lnTo>
                    <a:pt x="125" y="104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111" y="104"/>
                  </a:lnTo>
                  <a:close/>
                  <a:moveTo>
                    <a:pt x="139" y="104"/>
                  </a:moveTo>
                  <a:lnTo>
                    <a:pt x="153" y="104"/>
                  </a:lnTo>
                  <a:lnTo>
                    <a:pt x="153" y="0"/>
                  </a:lnTo>
                  <a:lnTo>
                    <a:pt x="139" y="0"/>
                  </a:lnTo>
                  <a:lnTo>
                    <a:pt x="139" y="104"/>
                  </a:lnTo>
                  <a:close/>
                  <a:moveTo>
                    <a:pt x="166" y="104"/>
                  </a:moveTo>
                  <a:lnTo>
                    <a:pt x="180" y="104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66" y="104"/>
                  </a:lnTo>
                  <a:close/>
                  <a:moveTo>
                    <a:pt x="166" y="169"/>
                  </a:moveTo>
                  <a:lnTo>
                    <a:pt x="180" y="169"/>
                  </a:lnTo>
                  <a:lnTo>
                    <a:pt x="180" y="118"/>
                  </a:lnTo>
                  <a:lnTo>
                    <a:pt x="166" y="118"/>
                  </a:lnTo>
                  <a:lnTo>
                    <a:pt x="166" y="169"/>
                  </a:lnTo>
                  <a:close/>
                  <a:moveTo>
                    <a:pt x="139" y="169"/>
                  </a:moveTo>
                  <a:lnTo>
                    <a:pt x="153" y="169"/>
                  </a:lnTo>
                  <a:lnTo>
                    <a:pt x="153" y="118"/>
                  </a:lnTo>
                  <a:lnTo>
                    <a:pt x="139" y="118"/>
                  </a:lnTo>
                  <a:lnTo>
                    <a:pt x="139" y="169"/>
                  </a:lnTo>
                  <a:close/>
                  <a:moveTo>
                    <a:pt x="111" y="169"/>
                  </a:moveTo>
                  <a:lnTo>
                    <a:pt x="125" y="169"/>
                  </a:lnTo>
                  <a:lnTo>
                    <a:pt x="125" y="118"/>
                  </a:lnTo>
                  <a:lnTo>
                    <a:pt x="111" y="118"/>
                  </a:lnTo>
                  <a:lnTo>
                    <a:pt x="111" y="169"/>
                  </a:lnTo>
                  <a:close/>
                  <a:moveTo>
                    <a:pt x="83" y="169"/>
                  </a:moveTo>
                  <a:lnTo>
                    <a:pt x="97" y="169"/>
                  </a:lnTo>
                  <a:lnTo>
                    <a:pt x="97" y="118"/>
                  </a:lnTo>
                  <a:lnTo>
                    <a:pt x="83" y="118"/>
                  </a:lnTo>
                  <a:lnTo>
                    <a:pt x="83" y="169"/>
                  </a:lnTo>
                  <a:close/>
                  <a:moveTo>
                    <a:pt x="54" y="169"/>
                  </a:moveTo>
                  <a:lnTo>
                    <a:pt x="69" y="169"/>
                  </a:lnTo>
                  <a:lnTo>
                    <a:pt x="69" y="118"/>
                  </a:lnTo>
                  <a:lnTo>
                    <a:pt x="54" y="118"/>
                  </a:lnTo>
                  <a:lnTo>
                    <a:pt x="54" y="169"/>
                  </a:lnTo>
                  <a:close/>
                  <a:moveTo>
                    <a:pt x="28" y="169"/>
                  </a:moveTo>
                  <a:lnTo>
                    <a:pt x="42" y="169"/>
                  </a:lnTo>
                  <a:lnTo>
                    <a:pt x="42" y="118"/>
                  </a:lnTo>
                  <a:lnTo>
                    <a:pt x="28" y="118"/>
                  </a:lnTo>
                  <a:lnTo>
                    <a:pt x="28" y="169"/>
                  </a:lnTo>
                  <a:close/>
                  <a:moveTo>
                    <a:pt x="0" y="169"/>
                  </a:moveTo>
                  <a:lnTo>
                    <a:pt x="14" y="169"/>
                  </a:lnTo>
                  <a:lnTo>
                    <a:pt x="14" y="118"/>
                  </a:lnTo>
                  <a:lnTo>
                    <a:pt x="0" y="118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392800" y="554832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392800" y="5548320"/>
              <a:ext cx="109440" cy="11160"/>
            </a:xfrm>
            <a:custGeom>
              <a:avLst/>
              <a:gdLst/>
              <a:ahLst/>
              <a:rect l="l" t="t" r="r" b="b"/>
              <a:pathLst>
                <a:path w="138" h="14">
                  <a:moveTo>
                    <a:pt x="0" y="0"/>
                  </a:moveTo>
                  <a:lnTo>
                    <a:pt x="14" y="14"/>
                  </a:lnTo>
                  <a:lnTo>
                    <a:pt x="125" y="14"/>
                  </a:ln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392800" y="5599080"/>
              <a:ext cx="109440" cy="42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392800" y="5651640"/>
              <a:ext cx="10944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392800" y="5703840"/>
              <a:ext cx="109440" cy="39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392800" y="575460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5392800" y="5559480"/>
              <a:ext cx="111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492880" y="5559480"/>
              <a:ext cx="93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397480" y="57387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397480" y="573084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397480" y="57243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397480" y="5715000"/>
              <a:ext cx="73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397480" y="570852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446800" y="5610240"/>
              <a:ext cx="349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478480" y="5680080"/>
              <a:ext cx="15840" cy="4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478480" y="5708520"/>
              <a:ext cx="15840" cy="5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478480" y="5718240"/>
              <a:ext cx="15840" cy="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430960" y="5667480"/>
              <a:ext cx="511200" cy="263520"/>
            </a:xfrm>
            <a:custGeom>
              <a:avLst/>
              <a:gdLst/>
              <a:ahLst/>
              <a:rect l="l" t="t" r="r" b="b"/>
              <a:pathLst>
                <a:path w="645" h="334">
                  <a:moveTo>
                    <a:pt x="0" y="14"/>
                  </a:moveTo>
                  <a:lnTo>
                    <a:pt x="42" y="1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4"/>
                  </a:lnTo>
                  <a:close/>
                  <a:moveTo>
                    <a:pt x="622" y="334"/>
                  </a:moveTo>
                  <a:lnTo>
                    <a:pt x="645" y="334"/>
                  </a:lnTo>
                  <a:lnTo>
                    <a:pt x="645" y="327"/>
                  </a:lnTo>
                  <a:lnTo>
                    <a:pt x="622" y="327"/>
                  </a:lnTo>
                  <a:lnTo>
                    <a:pt x="622" y="334"/>
                  </a:lnTo>
                  <a:close/>
                  <a:moveTo>
                    <a:pt x="238" y="261"/>
                  </a:moveTo>
                  <a:lnTo>
                    <a:pt x="238" y="41"/>
                  </a:lnTo>
                  <a:lnTo>
                    <a:pt x="583" y="41"/>
                  </a:lnTo>
                  <a:lnTo>
                    <a:pt x="583" y="261"/>
                  </a:lnTo>
                  <a:lnTo>
                    <a:pt x="238" y="261"/>
                  </a:lnTo>
                  <a:close/>
                  <a:moveTo>
                    <a:pt x="222" y="275"/>
                  </a:moveTo>
                  <a:lnTo>
                    <a:pt x="599" y="275"/>
                  </a:lnTo>
                  <a:lnTo>
                    <a:pt x="599" y="27"/>
                  </a:lnTo>
                  <a:lnTo>
                    <a:pt x="615" y="27"/>
                  </a:lnTo>
                  <a:lnTo>
                    <a:pt x="615" y="13"/>
                  </a:lnTo>
                  <a:lnTo>
                    <a:pt x="206" y="13"/>
                  </a:lnTo>
                  <a:lnTo>
                    <a:pt x="206" y="23"/>
                  </a:lnTo>
                  <a:lnTo>
                    <a:pt x="206" y="290"/>
                  </a:lnTo>
                  <a:lnTo>
                    <a:pt x="222" y="290"/>
                  </a:lnTo>
                  <a:lnTo>
                    <a:pt x="222" y="2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557680" y="5925960"/>
              <a:ext cx="200160" cy="17640"/>
            </a:xfrm>
            <a:custGeom>
              <a:avLst/>
              <a:gdLst/>
              <a:ahLst/>
              <a:rect l="l" t="t" r="r" b="b"/>
              <a:pathLst>
                <a:path w="251" h="23">
                  <a:moveTo>
                    <a:pt x="0" y="0"/>
                  </a:moveTo>
                  <a:lnTo>
                    <a:pt x="251" y="0"/>
                  </a:lnTo>
                  <a:lnTo>
                    <a:pt x="251" y="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5657760" y="5925600"/>
              <a:ext cx="18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76800" y="6051600"/>
              <a:ext cx="8938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242680" y="6059520"/>
              <a:ext cx="82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net data Serv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14840" y="5516640"/>
              <a:ext cx="495360" cy="496800"/>
            </a:xfrm>
            <a:custGeom>
              <a:avLst/>
              <a:gdLst/>
              <a:ahLst/>
              <a:rect l="l" t="t" r="r" b="b"/>
              <a:pathLst>
                <a:path w="626" h="627">
                  <a:moveTo>
                    <a:pt x="0" y="470"/>
                  </a:moveTo>
                  <a:lnTo>
                    <a:pt x="117" y="470"/>
                  </a:lnTo>
                  <a:lnTo>
                    <a:pt x="214" y="489"/>
                  </a:lnTo>
                  <a:lnTo>
                    <a:pt x="214" y="509"/>
                  </a:lnTo>
                  <a:lnTo>
                    <a:pt x="117" y="509"/>
                  </a:lnTo>
                  <a:lnTo>
                    <a:pt x="117" y="528"/>
                  </a:lnTo>
                  <a:lnTo>
                    <a:pt x="39" y="528"/>
                  </a:lnTo>
                  <a:lnTo>
                    <a:pt x="39" y="627"/>
                  </a:lnTo>
                  <a:lnTo>
                    <a:pt x="587" y="627"/>
                  </a:lnTo>
                  <a:lnTo>
                    <a:pt x="587" y="528"/>
                  </a:lnTo>
                  <a:lnTo>
                    <a:pt x="509" y="528"/>
                  </a:lnTo>
                  <a:lnTo>
                    <a:pt x="509" y="509"/>
                  </a:lnTo>
                  <a:lnTo>
                    <a:pt x="410" y="509"/>
                  </a:lnTo>
                  <a:lnTo>
                    <a:pt x="410" y="489"/>
                  </a:lnTo>
                  <a:lnTo>
                    <a:pt x="509" y="470"/>
                  </a:lnTo>
                  <a:lnTo>
                    <a:pt x="626" y="470"/>
                  </a:lnTo>
                  <a:lnTo>
                    <a:pt x="626" y="0"/>
                  </a:lnTo>
                  <a:lnTo>
                    <a:pt x="0" y="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707000" y="593568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782960" y="5919840"/>
              <a:ext cx="1573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82960" y="5905440"/>
              <a:ext cx="157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707000" y="588960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651200" y="5564160"/>
              <a:ext cx="412920" cy="441360"/>
            </a:xfrm>
            <a:custGeom>
              <a:avLst/>
              <a:gdLst/>
              <a:ahLst/>
              <a:rect l="l" t="t" r="r" b="b"/>
              <a:pathLst>
                <a:path w="519" h="556">
                  <a:moveTo>
                    <a:pt x="49" y="503"/>
                  </a:moveTo>
                  <a:lnTo>
                    <a:pt x="146" y="503"/>
                  </a:lnTo>
                  <a:lnTo>
                    <a:pt x="146" y="489"/>
                  </a:lnTo>
                  <a:lnTo>
                    <a:pt x="49" y="489"/>
                  </a:lnTo>
                  <a:lnTo>
                    <a:pt x="49" y="503"/>
                  </a:lnTo>
                  <a:close/>
                  <a:moveTo>
                    <a:pt x="19" y="556"/>
                  </a:moveTo>
                  <a:lnTo>
                    <a:pt x="39" y="537"/>
                  </a:lnTo>
                  <a:lnTo>
                    <a:pt x="19" y="517"/>
                  </a:lnTo>
                  <a:lnTo>
                    <a:pt x="0" y="537"/>
                  </a:lnTo>
                  <a:lnTo>
                    <a:pt x="19" y="556"/>
                  </a:lnTo>
                  <a:close/>
                  <a:moveTo>
                    <a:pt x="49" y="313"/>
                  </a:moveTo>
                  <a:lnTo>
                    <a:pt x="49" y="39"/>
                  </a:lnTo>
                  <a:lnTo>
                    <a:pt x="480" y="39"/>
                  </a:lnTo>
                  <a:lnTo>
                    <a:pt x="480" y="313"/>
                  </a:lnTo>
                  <a:lnTo>
                    <a:pt x="49" y="313"/>
                  </a:lnTo>
                  <a:close/>
                  <a:moveTo>
                    <a:pt x="30" y="341"/>
                  </a:moveTo>
                  <a:lnTo>
                    <a:pt x="509" y="341"/>
                  </a:lnTo>
                  <a:lnTo>
                    <a:pt x="509" y="20"/>
                  </a:lnTo>
                  <a:lnTo>
                    <a:pt x="519" y="20"/>
                  </a:lnTo>
                  <a:lnTo>
                    <a:pt x="519" y="0"/>
                  </a:lnTo>
                  <a:lnTo>
                    <a:pt x="10" y="0"/>
                  </a:lnTo>
                  <a:lnTo>
                    <a:pt x="10" y="352"/>
                  </a:lnTo>
                  <a:lnTo>
                    <a:pt x="30" y="352"/>
                  </a:lnTo>
                  <a:lnTo>
                    <a:pt x="30" y="341"/>
                  </a:lnTo>
                  <a:close/>
                  <a:moveTo>
                    <a:pt x="489" y="390"/>
                  </a:moveTo>
                  <a:lnTo>
                    <a:pt x="519" y="390"/>
                  </a:lnTo>
                  <a:lnTo>
                    <a:pt x="519" y="382"/>
                  </a:lnTo>
                  <a:lnTo>
                    <a:pt x="489" y="382"/>
                  </a:lnTo>
                  <a:lnTo>
                    <a:pt x="489" y="3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699080" y="5989680"/>
              <a:ext cx="61920" cy="12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645080" y="595296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645080" y="596412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69908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74660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76892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79268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81644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0" y="7"/>
                  </a:lnTo>
                  <a:lnTo>
                    <a:pt x="8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8387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86252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8848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0" y="9"/>
                  </a:lnTo>
                  <a:lnTo>
                    <a:pt x="11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90860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9323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95468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9784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00076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024520" y="597060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04828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02240" y="6051600"/>
              <a:ext cx="51912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652640" y="605952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st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257880" y="4332240"/>
              <a:ext cx="189000" cy="803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329520" y="5056200"/>
              <a:ext cx="48960" cy="39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329520" y="4370400"/>
              <a:ext cx="48960" cy="42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6281640" y="4331880"/>
              <a:ext cx="180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342120" y="4392720"/>
              <a:ext cx="23760" cy="382320"/>
            </a:xfrm>
            <a:custGeom>
              <a:avLst/>
              <a:gdLst/>
              <a:ahLst/>
              <a:rect l="l" t="t" r="r" b="b"/>
              <a:pathLst>
                <a:path w="30" h="482">
                  <a:moveTo>
                    <a:pt x="30" y="380"/>
                  </a:moveTo>
                  <a:lnTo>
                    <a:pt x="30" y="355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30" y="380"/>
                  </a:lnTo>
                  <a:close/>
                  <a:moveTo>
                    <a:pt x="30" y="431"/>
                  </a:moveTo>
                  <a:lnTo>
                    <a:pt x="30" y="406"/>
                  </a:lnTo>
                  <a:lnTo>
                    <a:pt x="0" y="406"/>
                  </a:lnTo>
                  <a:lnTo>
                    <a:pt x="0" y="431"/>
                  </a:lnTo>
                  <a:lnTo>
                    <a:pt x="30" y="431"/>
                  </a:lnTo>
                  <a:close/>
                  <a:moveTo>
                    <a:pt x="30" y="482"/>
                  </a:moveTo>
                  <a:lnTo>
                    <a:pt x="30" y="456"/>
                  </a:lnTo>
                  <a:lnTo>
                    <a:pt x="0" y="456"/>
                  </a:lnTo>
                  <a:lnTo>
                    <a:pt x="0" y="482"/>
                  </a:lnTo>
                  <a:lnTo>
                    <a:pt x="30" y="482"/>
                  </a:lnTo>
                  <a:close/>
                  <a:moveTo>
                    <a:pt x="30" y="304"/>
                  </a:moveTo>
                  <a:lnTo>
                    <a:pt x="30" y="279"/>
                  </a:lnTo>
                  <a:lnTo>
                    <a:pt x="0" y="279"/>
                  </a:lnTo>
                  <a:lnTo>
                    <a:pt x="0" y="304"/>
                  </a:lnTo>
                  <a:lnTo>
                    <a:pt x="30" y="304"/>
                  </a:lnTo>
                  <a:close/>
                  <a:moveTo>
                    <a:pt x="30" y="228"/>
                  </a:moveTo>
                  <a:lnTo>
                    <a:pt x="30" y="203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30" y="228"/>
                  </a:lnTo>
                  <a:close/>
                  <a:moveTo>
                    <a:pt x="30" y="177"/>
                  </a:moveTo>
                  <a:lnTo>
                    <a:pt x="30" y="152"/>
                  </a:lnTo>
                  <a:lnTo>
                    <a:pt x="0" y="152"/>
                  </a:lnTo>
                  <a:lnTo>
                    <a:pt x="0" y="177"/>
                  </a:lnTo>
                  <a:lnTo>
                    <a:pt x="30" y="177"/>
                  </a:lnTo>
                  <a:close/>
                  <a:moveTo>
                    <a:pt x="30" y="127"/>
                  </a:moveTo>
                  <a:lnTo>
                    <a:pt x="30" y="101"/>
                  </a:lnTo>
                  <a:lnTo>
                    <a:pt x="0" y="101"/>
                  </a:lnTo>
                  <a:lnTo>
                    <a:pt x="0" y="127"/>
                  </a:lnTo>
                  <a:lnTo>
                    <a:pt x="30" y="127"/>
                  </a:lnTo>
                  <a:close/>
                  <a:moveTo>
                    <a:pt x="30" y="76"/>
                  </a:moveTo>
                  <a:lnTo>
                    <a:pt x="30" y="51"/>
                  </a:lnTo>
                  <a:lnTo>
                    <a:pt x="0" y="51"/>
                  </a:lnTo>
                  <a:lnTo>
                    <a:pt x="0" y="76"/>
                  </a:lnTo>
                  <a:lnTo>
                    <a:pt x="30" y="76"/>
                  </a:lnTo>
                  <a:close/>
                  <a:moveTo>
                    <a:pt x="30" y="25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486480" y="4870440"/>
              <a:ext cx="13032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rot="16200000">
              <a:off x="6412320" y="492552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118200" y="1157400"/>
              <a:ext cx="2016000" cy="1207800"/>
            </a:xfrm>
            <a:custGeom>
              <a:avLst/>
              <a:gdLst/>
              <a:ahLst/>
              <a:rect l="l" t="t" r="r" b="b"/>
              <a:pathLst>
                <a:path w="2539" h="1522">
                  <a:moveTo>
                    <a:pt x="373" y="1130"/>
                  </a:moveTo>
                  <a:lnTo>
                    <a:pt x="401" y="1188"/>
                  </a:lnTo>
                  <a:lnTo>
                    <a:pt x="434" y="1245"/>
                  </a:lnTo>
                  <a:lnTo>
                    <a:pt x="470" y="1296"/>
                  </a:lnTo>
                  <a:lnTo>
                    <a:pt x="510" y="1343"/>
                  </a:lnTo>
                  <a:lnTo>
                    <a:pt x="555" y="1386"/>
                  </a:lnTo>
                  <a:lnTo>
                    <a:pt x="601" y="1423"/>
                  </a:lnTo>
                  <a:lnTo>
                    <a:pt x="650" y="1455"/>
                  </a:lnTo>
                  <a:lnTo>
                    <a:pt x="699" y="1479"/>
                  </a:lnTo>
                  <a:lnTo>
                    <a:pt x="752" y="1501"/>
                  </a:lnTo>
                  <a:lnTo>
                    <a:pt x="806" y="1513"/>
                  </a:lnTo>
                  <a:lnTo>
                    <a:pt x="860" y="1520"/>
                  </a:lnTo>
                  <a:lnTo>
                    <a:pt x="915" y="1522"/>
                  </a:lnTo>
                  <a:lnTo>
                    <a:pt x="970" y="1516"/>
                  </a:lnTo>
                  <a:lnTo>
                    <a:pt x="1025" y="1504"/>
                  </a:lnTo>
                  <a:lnTo>
                    <a:pt x="1076" y="1486"/>
                  </a:lnTo>
                  <a:lnTo>
                    <a:pt x="1129" y="1462"/>
                  </a:lnTo>
                  <a:lnTo>
                    <a:pt x="1177" y="1432"/>
                  </a:lnTo>
                  <a:lnTo>
                    <a:pt x="1224" y="1396"/>
                  </a:lnTo>
                  <a:lnTo>
                    <a:pt x="1269" y="1356"/>
                  </a:lnTo>
                  <a:lnTo>
                    <a:pt x="1313" y="1396"/>
                  </a:lnTo>
                  <a:lnTo>
                    <a:pt x="1360" y="1432"/>
                  </a:lnTo>
                  <a:lnTo>
                    <a:pt x="1410" y="1462"/>
                  </a:lnTo>
                  <a:lnTo>
                    <a:pt x="1461" y="1486"/>
                  </a:lnTo>
                  <a:lnTo>
                    <a:pt x="1514" y="1504"/>
                  </a:lnTo>
                  <a:lnTo>
                    <a:pt x="1567" y="1516"/>
                  </a:lnTo>
                  <a:lnTo>
                    <a:pt x="1622" y="1522"/>
                  </a:lnTo>
                  <a:lnTo>
                    <a:pt x="1677" y="1520"/>
                  </a:lnTo>
                  <a:lnTo>
                    <a:pt x="1732" y="1513"/>
                  </a:lnTo>
                  <a:lnTo>
                    <a:pt x="1785" y="1501"/>
                  </a:lnTo>
                  <a:lnTo>
                    <a:pt x="1838" y="1479"/>
                  </a:lnTo>
                  <a:lnTo>
                    <a:pt x="1889" y="1455"/>
                  </a:lnTo>
                  <a:lnTo>
                    <a:pt x="1937" y="1423"/>
                  </a:lnTo>
                  <a:lnTo>
                    <a:pt x="1983" y="1386"/>
                  </a:lnTo>
                  <a:lnTo>
                    <a:pt x="2027" y="1343"/>
                  </a:lnTo>
                  <a:lnTo>
                    <a:pt x="2067" y="1296"/>
                  </a:lnTo>
                  <a:lnTo>
                    <a:pt x="2103" y="1245"/>
                  </a:lnTo>
                  <a:lnTo>
                    <a:pt x="2136" y="1188"/>
                  </a:lnTo>
                  <a:lnTo>
                    <a:pt x="2165" y="1130"/>
                  </a:lnTo>
                  <a:lnTo>
                    <a:pt x="2203" y="1139"/>
                  </a:lnTo>
                  <a:lnTo>
                    <a:pt x="2242" y="1142"/>
                  </a:lnTo>
                  <a:lnTo>
                    <a:pt x="2281" y="1137"/>
                  </a:lnTo>
                  <a:lnTo>
                    <a:pt x="2318" y="1128"/>
                  </a:lnTo>
                  <a:lnTo>
                    <a:pt x="2355" y="1112"/>
                  </a:lnTo>
                  <a:lnTo>
                    <a:pt x="2391" y="1089"/>
                  </a:lnTo>
                  <a:lnTo>
                    <a:pt x="2423" y="1061"/>
                  </a:lnTo>
                  <a:lnTo>
                    <a:pt x="2453" y="1029"/>
                  </a:lnTo>
                  <a:lnTo>
                    <a:pt x="2477" y="992"/>
                  </a:lnTo>
                  <a:lnTo>
                    <a:pt x="2499" y="950"/>
                  </a:lnTo>
                  <a:lnTo>
                    <a:pt x="2516" y="906"/>
                  </a:lnTo>
                  <a:lnTo>
                    <a:pt x="2529" y="860"/>
                  </a:lnTo>
                  <a:lnTo>
                    <a:pt x="2536" y="811"/>
                  </a:lnTo>
                  <a:lnTo>
                    <a:pt x="2539" y="761"/>
                  </a:lnTo>
                  <a:lnTo>
                    <a:pt x="2536" y="712"/>
                  </a:lnTo>
                  <a:lnTo>
                    <a:pt x="2529" y="662"/>
                  </a:lnTo>
                  <a:lnTo>
                    <a:pt x="2516" y="616"/>
                  </a:lnTo>
                  <a:lnTo>
                    <a:pt x="2499" y="572"/>
                  </a:lnTo>
                  <a:lnTo>
                    <a:pt x="2477" y="530"/>
                  </a:lnTo>
                  <a:lnTo>
                    <a:pt x="2453" y="493"/>
                  </a:lnTo>
                  <a:lnTo>
                    <a:pt x="2423" y="461"/>
                  </a:lnTo>
                  <a:lnTo>
                    <a:pt x="2391" y="433"/>
                  </a:lnTo>
                  <a:lnTo>
                    <a:pt x="2355" y="410"/>
                  </a:lnTo>
                  <a:lnTo>
                    <a:pt x="2318" y="394"/>
                  </a:lnTo>
                  <a:lnTo>
                    <a:pt x="2281" y="383"/>
                  </a:lnTo>
                  <a:lnTo>
                    <a:pt x="2242" y="380"/>
                  </a:lnTo>
                  <a:lnTo>
                    <a:pt x="2203" y="383"/>
                  </a:lnTo>
                  <a:lnTo>
                    <a:pt x="2165" y="392"/>
                  </a:lnTo>
                  <a:lnTo>
                    <a:pt x="2136" y="334"/>
                  </a:lnTo>
                  <a:lnTo>
                    <a:pt x="2103" y="278"/>
                  </a:lnTo>
                  <a:lnTo>
                    <a:pt x="2067" y="226"/>
                  </a:lnTo>
                  <a:lnTo>
                    <a:pt x="2027" y="179"/>
                  </a:lnTo>
                  <a:lnTo>
                    <a:pt x="1983" y="136"/>
                  </a:lnTo>
                  <a:lnTo>
                    <a:pt x="1937" y="99"/>
                  </a:lnTo>
                  <a:lnTo>
                    <a:pt x="1889" y="68"/>
                  </a:lnTo>
                  <a:lnTo>
                    <a:pt x="1838" y="43"/>
                  </a:lnTo>
                  <a:lnTo>
                    <a:pt x="1785" y="22"/>
                  </a:lnTo>
                  <a:lnTo>
                    <a:pt x="1732" y="9"/>
                  </a:lnTo>
                  <a:lnTo>
                    <a:pt x="1677" y="2"/>
                  </a:lnTo>
                  <a:lnTo>
                    <a:pt x="1622" y="0"/>
                  </a:lnTo>
                  <a:lnTo>
                    <a:pt x="1567" y="6"/>
                  </a:lnTo>
                  <a:lnTo>
                    <a:pt x="1514" y="18"/>
                  </a:lnTo>
                  <a:lnTo>
                    <a:pt x="1461" y="36"/>
                  </a:lnTo>
                  <a:lnTo>
                    <a:pt x="1410" y="60"/>
                  </a:lnTo>
                  <a:lnTo>
                    <a:pt x="1360" y="90"/>
                  </a:lnTo>
                  <a:lnTo>
                    <a:pt x="1313" y="126"/>
                  </a:lnTo>
                  <a:lnTo>
                    <a:pt x="1269" y="166"/>
                  </a:lnTo>
                  <a:lnTo>
                    <a:pt x="1224" y="126"/>
                  </a:lnTo>
                  <a:lnTo>
                    <a:pt x="1177" y="90"/>
                  </a:lnTo>
                  <a:lnTo>
                    <a:pt x="1129" y="60"/>
                  </a:lnTo>
                  <a:lnTo>
                    <a:pt x="1076" y="36"/>
                  </a:lnTo>
                  <a:lnTo>
                    <a:pt x="1025" y="18"/>
                  </a:lnTo>
                  <a:lnTo>
                    <a:pt x="970" y="6"/>
                  </a:lnTo>
                  <a:lnTo>
                    <a:pt x="915" y="0"/>
                  </a:lnTo>
                  <a:lnTo>
                    <a:pt x="860" y="2"/>
                  </a:lnTo>
                  <a:lnTo>
                    <a:pt x="806" y="9"/>
                  </a:lnTo>
                  <a:lnTo>
                    <a:pt x="752" y="22"/>
                  </a:lnTo>
                  <a:lnTo>
                    <a:pt x="699" y="43"/>
                  </a:lnTo>
                  <a:lnTo>
                    <a:pt x="650" y="68"/>
                  </a:lnTo>
                  <a:lnTo>
                    <a:pt x="601" y="99"/>
                  </a:lnTo>
                  <a:lnTo>
                    <a:pt x="555" y="136"/>
                  </a:lnTo>
                  <a:lnTo>
                    <a:pt x="510" y="179"/>
                  </a:lnTo>
                  <a:lnTo>
                    <a:pt x="470" y="226"/>
                  </a:lnTo>
                  <a:lnTo>
                    <a:pt x="434" y="278"/>
                  </a:lnTo>
                  <a:lnTo>
                    <a:pt x="401" y="334"/>
                  </a:lnTo>
                  <a:lnTo>
                    <a:pt x="373" y="392"/>
                  </a:lnTo>
                  <a:lnTo>
                    <a:pt x="334" y="383"/>
                  </a:lnTo>
                  <a:lnTo>
                    <a:pt x="295" y="380"/>
                  </a:lnTo>
                  <a:lnTo>
                    <a:pt x="256" y="383"/>
                  </a:lnTo>
                  <a:lnTo>
                    <a:pt x="219" y="394"/>
                  </a:lnTo>
                  <a:lnTo>
                    <a:pt x="182" y="410"/>
                  </a:lnTo>
                  <a:lnTo>
                    <a:pt x="146" y="433"/>
                  </a:lnTo>
                  <a:lnTo>
                    <a:pt x="114" y="461"/>
                  </a:lnTo>
                  <a:lnTo>
                    <a:pt x="86" y="493"/>
                  </a:lnTo>
                  <a:lnTo>
                    <a:pt x="60" y="530"/>
                  </a:lnTo>
                  <a:lnTo>
                    <a:pt x="39" y="572"/>
                  </a:lnTo>
                  <a:lnTo>
                    <a:pt x="21" y="616"/>
                  </a:lnTo>
                  <a:lnTo>
                    <a:pt x="8" y="662"/>
                  </a:lnTo>
                  <a:lnTo>
                    <a:pt x="1" y="712"/>
                  </a:lnTo>
                  <a:lnTo>
                    <a:pt x="0" y="761"/>
                  </a:lnTo>
                  <a:lnTo>
                    <a:pt x="1" y="811"/>
                  </a:lnTo>
                  <a:lnTo>
                    <a:pt x="8" y="860"/>
                  </a:lnTo>
                  <a:lnTo>
                    <a:pt x="21" y="906"/>
                  </a:lnTo>
                  <a:lnTo>
                    <a:pt x="39" y="950"/>
                  </a:lnTo>
                  <a:lnTo>
                    <a:pt x="60" y="992"/>
                  </a:lnTo>
                  <a:lnTo>
                    <a:pt x="86" y="1029"/>
                  </a:lnTo>
                  <a:lnTo>
                    <a:pt x="114" y="1061"/>
                  </a:lnTo>
                  <a:lnTo>
                    <a:pt x="146" y="1089"/>
                  </a:lnTo>
                  <a:lnTo>
                    <a:pt x="182" y="1112"/>
                  </a:lnTo>
                  <a:lnTo>
                    <a:pt x="219" y="1128"/>
                  </a:lnTo>
                  <a:lnTo>
                    <a:pt x="256" y="1137"/>
                  </a:lnTo>
                  <a:lnTo>
                    <a:pt x="295" y="1142"/>
                  </a:lnTo>
                  <a:lnTo>
                    <a:pt x="334" y="1139"/>
                  </a:lnTo>
                  <a:lnTo>
                    <a:pt x="373" y="113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863760" y="16588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562120" y="5423040"/>
              <a:ext cx="8128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595240" y="5430960"/>
              <a:ext cx="65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IT Voice 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12760" y="554364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621880" y="565452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CP/IP capabilit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4160" y="4094280"/>
              <a:ext cx="1290600" cy="12906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324160" y="4094280"/>
              <a:ext cx="1290600" cy="1263600"/>
            </a:xfrm>
            <a:custGeom>
              <a:avLst/>
              <a:gdLst/>
              <a:ahLst/>
              <a:rect l="l" t="t" r="r" b="b"/>
              <a:pathLst>
                <a:path w="1628" h="1592">
                  <a:moveTo>
                    <a:pt x="0" y="1592"/>
                  </a:moveTo>
                  <a:lnTo>
                    <a:pt x="813" y="1592"/>
                  </a:lnTo>
                  <a:lnTo>
                    <a:pt x="813" y="0"/>
                  </a:lnTo>
                  <a:lnTo>
                    <a:pt x="0" y="0"/>
                  </a:lnTo>
                  <a:lnTo>
                    <a:pt x="0" y="1592"/>
                  </a:lnTo>
                  <a:close/>
                  <a:moveTo>
                    <a:pt x="813" y="1592"/>
                  </a:moveTo>
                  <a:lnTo>
                    <a:pt x="1628" y="1592"/>
                  </a:lnTo>
                  <a:lnTo>
                    <a:pt x="1628" y="0"/>
                  </a:lnTo>
                  <a:lnTo>
                    <a:pt x="813" y="0"/>
                  </a:lnTo>
                  <a:lnTo>
                    <a:pt x="813" y="1592"/>
                  </a:lnTo>
                  <a:close/>
                  <a:moveTo>
                    <a:pt x="126" y="542"/>
                  </a:moveTo>
                  <a:lnTo>
                    <a:pt x="689" y="542"/>
                  </a:lnTo>
                  <a:lnTo>
                    <a:pt x="689" y="373"/>
                  </a:lnTo>
                  <a:lnTo>
                    <a:pt x="126" y="373"/>
                  </a:lnTo>
                  <a:lnTo>
                    <a:pt x="126" y="542"/>
                  </a:lnTo>
                  <a:close/>
                  <a:moveTo>
                    <a:pt x="126" y="881"/>
                  </a:moveTo>
                  <a:lnTo>
                    <a:pt x="689" y="881"/>
                  </a:lnTo>
                  <a:lnTo>
                    <a:pt x="689" y="593"/>
                  </a:lnTo>
                  <a:lnTo>
                    <a:pt x="126" y="593"/>
                  </a:lnTo>
                  <a:lnTo>
                    <a:pt x="126" y="881"/>
                  </a:lnTo>
                  <a:close/>
                  <a:moveTo>
                    <a:pt x="938" y="542"/>
                  </a:moveTo>
                  <a:lnTo>
                    <a:pt x="1502" y="542"/>
                  </a:lnTo>
                  <a:lnTo>
                    <a:pt x="1502" y="373"/>
                  </a:lnTo>
                  <a:lnTo>
                    <a:pt x="938" y="373"/>
                  </a:lnTo>
                  <a:lnTo>
                    <a:pt x="938" y="542"/>
                  </a:lnTo>
                  <a:close/>
                  <a:moveTo>
                    <a:pt x="938" y="763"/>
                  </a:moveTo>
                  <a:lnTo>
                    <a:pt x="1502" y="763"/>
                  </a:lnTo>
                  <a:lnTo>
                    <a:pt x="1502" y="593"/>
                  </a:lnTo>
                  <a:lnTo>
                    <a:pt x="938" y="593"/>
                  </a:lnTo>
                  <a:lnTo>
                    <a:pt x="938" y="76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24160" y="4202280"/>
              <a:ext cx="1290600" cy="10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5600" y="5369040"/>
              <a:ext cx="1287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68560" y="2676600"/>
              <a:ext cx="7920" cy="1266840"/>
            </a:xfrm>
            <a:custGeom>
              <a:avLst/>
              <a:gdLst/>
              <a:ahLst/>
              <a:rect l="l" t="t" r="r" b="b"/>
              <a:pathLst>
                <a:path w="11" h="1598">
                  <a:moveTo>
                    <a:pt x="11" y="0"/>
                  </a:moveTo>
                  <a:lnTo>
                    <a:pt x="11" y="158"/>
                  </a:lnTo>
                  <a:lnTo>
                    <a:pt x="0" y="158"/>
                  </a:lnTo>
                  <a:lnTo>
                    <a:pt x="0" y="15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22480" y="2676600"/>
              <a:ext cx="109800" cy="16344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69" y="0"/>
                  </a:lnTo>
                  <a:lnTo>
                    <a:pt x="138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14560" y="3929040"/>
              <a:ext cx="108000" cy="16524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138" y="0"/>
                  </a:moveTo>
                  <a:lnTo>
                    <a:pt x="69" y="206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584440" y="3303720"/>
              <a:ext cx="7714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594880" y="3311640"/>
              <a:ext cx="70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2 or SS7 circui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122800" y="2754360"/>
              <a:ext cx="746280" cy="495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146560" y="3146400"/>
              <a:ext cx="698760" cy="82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146560" y="2773440"/>
              <a:ext cx="698760" cy="333360"/>
            </a:xfrm>
            <a:custGeom>
              <a:avLst/>
              <a:gdLst/>
              <a:ahLst/>
              <a:rect l="l" t="t" r="r" b="b"/>
              <a:pathLst>
                <a:path w="880" h="418">
                  <a:moveTo>
                    <a:pt x="777" y="14"/>
                  </a:moveTo>
                  <a:lnTo>
                    <a:pt x="779" y="5"/>
                  </a:lnTo>
                  <a:lnTo>
                    <a:pt x="786" y="2"/>
                  </a:lnTo>
                  <a:lnTo>
                    <a:pt x="797" y="2"/>
                  </a:lnTo>
                  <a:lnTo>
                    <a:pt x="804" y="5"/>
                  </a:lnTo>
                  <a:lnTo>
                    <a:pt x="806" y="14"/>
                  </a:lnTo>
                  <a:lnTo>
                    <a:pt x="804" y="21"/>
                  </a:lnTo>
                  <a:lnTo>
                    <a:pt x="797" y="26"/>
                  </a:lnTo>
                  <a:lnTo>
                    <a:pt x="786" y="26"/>
                  </a:lnTo>
                  <a:lnTo>
                    <a:pt x="779" y="21"/>
                  </a:lnTo>
                  <a:lnTo>
                    <a:pt x="777" y="14"/>
                  </a:lnTo>
                  <a:close/>
                  <a:moveTo>
                    <a:pt x="659" y="14"/>
                  </a:moveTo>
                  <a:lnTo>
                    <a:pt x="662" y="5"/>
                  </a:lnTo>
                  <a:lnTo>
                    <a:pt x="669" y="2"/>
                  </a:lnTo>
                  <a:lnTo>
                    <a:pt x="678" y="2"/>
                  </a:lnTo>
                  <a:lnTo>
                    <a:pt x="685" y="5"/>
                  </a:lnTo>
                  <a:lnTo>
                    <a:pt x="689" y="14"/>
                  </a:lnTo>
                  <a:lnTo>
                    <a:pt x="685" y="21"/>
                  </a:lnTo>
                  <a:lnTo>
                    <a:pt x="678" y="26"/>
                  </a:lnTo>
                  <a:lnTo>
                    <a:pt x="669" y="26"/>
                  </a:lnTo>
                  <a:lnTo>
                    <a:pt x="662" y="21"/>
                  </a:lnTo>
                  <a:lnTo>
                    <a:pt x="659" y="14"/>
                  </a:lnTo>
                  <a:close/>
                  <a:moveTo>
                    <a:pt x="542" y="14"/>
                  </a:moveTo>
                  <a:lnTo>
                    <a:pt x="544" y="5"/>
                  </a:lnTo>
                  <a:lnTo>
                    <a:pt x="553" y="2"/>
                  </a:lnTo>
                  <a:lnTo>
                    <a:pt x="562" y="2"/>
                  </a:lnTo>
                  <a:lnTo>
                    <a:pt x="569" y="5"/>
                  </a:lnTo>
                  <a:lnTo>
                    <a:pt x="570" y="14"/>
                  </a:lnTo>
                  <a:lnTo>
                    <a:pt x="569" y="21"/>
                  </a:lnTo>
                  <a:lnTo>
                    <a:pt x="562" y="26"/>
                  </a:lnTo>
                  <a:lnTo>
                    <a:pt x="553" y="26"/>
                  </a:lnTo>
                  <a:lnTo>
                    <a:pt x="544" y="21"/>
                  </a:lnTo>
                  <a:lnTo>
                    <a:pt x="542" y="14"/>
                  </a:lnTo>
                  <a:close/>
                  <a:moveTo>
                    <a:pt x="424" y="14"/>
                  </a:moveTo>
                  <a:lnTo>
                    <a:pt x="427" y="5"/>
                  </a:lnTo>
                  <a:lnTo>
                    <a:pt x="434" y="2"/>
                  </a:lnTo>
                  <a:lnTo>
                    <a:pt x="443" y="2"/>
                  </a:lnTo>
                  <a:lnTo>
                    <a:pt x="450" y="5"/>
                  </a:lnTo>
                  <a:lnTo>
                    <a:pt x="454" y="14"/>
                  </a:lnTo>
                  <a:lnTo>
                    <a:pt x="450" y="21"/>
                  </a:lnTo>
                  <a:lnTo>
                    <a:pt x="443" y="26"/>
                  </a:lnTo>
                  <a:lnTo>
                    <a:pt x="434" y="26"/>
                  </a:lnTo>
                  <a:lnTo>
                    <a:pt x="427" y="21"/>
                  </a:lnTo>
                  <a:lnTo>
                    <a:pt x="424" y="14"/>
                  </a:lnTo>
                  <a:close/>
                  <a:moveTo>
                    <a:pt x="307" y="14"/>
                  </a:moveTo>
                  <a:lnTo>
                    <a:pt x="311" y="5"/>
                  </a:lnTo>
                  <a:lnTo>
                    <a:pt x="318" y="2"/>
                  </a:lnTo>
                  <a:lnTo>
                    <a:pt x="327" y="2"/>
                  </a:lnTo>
                  <a:lnTo>
                    <a:pt x="334" y="5"/>
                  </a:lnTo>
                  <a:lnTo>
                    <a:pt x="337" y="14"/>
                  </a:lnTo>
                  <a:lnTo>
                    <a:pt x="334" y="21"/>
                  </a:lnTo>
                  <a:lnTo>
                    <a:pt x="327" y="26"/>
                  </a:lnTo>
                  <a:lnTo>
                    <a:pt x="318" y="26"/>
                  </a:lnTo>
                  <a:lnTo>
                    <a:pt x="311" y="21"/>
                  </a:lnTo>
                  <a:lnTo>
                    <a:pt x="307" y="14"/>
                  </a:lnTo>
                  <a:close/>
                  <a:moveTo>
                    <a:pt x="189" y="14"/>
                  </a:moveTo>
                  <a:lnTo>
                    <a:pt x="192" y="5"/>
                  </a:lnTo>
                  <a:lnTo>
                    <a:pt x="199" y="2"/>
                  </a:lnTo>
                  <a:lnTo>
                    <a:pt x="208" y="2"/>
                  </a:lnTo>
                  <a:lnTo>
                    <a:pt x="217" y="5"/>
                  </a:lnTo>
                  <a:lnTo>
                    <a:pt x="219" y="14"/>
                  </a:lnTo>
                  <a:lnTo>
                    <a:pt x="217" y="21"/>
                  </a:lnTo>
                  <a:lnTo>
                    <a:pt x="208" y="26"/>
                  </a:lnTo>
                  <a:lnTo>
                    <a:pt x="199" y="26"/>
                  </a:lnTo>
                  <a:lnTo>
                    <a:pt x="192" y="21"/>
                  </a:lnTo>
                  <a:lnTo>
                    <a:pt x="189" y="14"/>
                  </a:lnTo>
                  <a:close/>
                  <a:moveTo>
                    <a:pt x="72" y="14"/>
                  </a:moveTo>
                  <a:lnTo>
                    <a:pt x="76" y="5"/>
                  </a:lnTo>
                  <a:lnTo>
                    <a:pt x="83" y="2"/>
                  </a:lnTo>
                  <a:lnTo>
                    <a:pt x="92" y="2"/>
                  </a:lnTo>
                  <a:lnTo>
                    <a:pt x="99" y="5"/>
                  </a:lnTo>
                  <a:lnTo>
                    <a:pt x="102" y="14"/>
                  </a:lnTo>
                  <a:lnTo>
                    <a:pt x="99" y="21"/>
                  </a:lnTo>
                  <a:lnTo>
                    <a:pt x="92" y="26"/>
                  </a:lnTo>
                  <a:lnTo>
                    <a:pt x="83" y="26"/>
                  </a:lnTo>
                  <a:lnTo>
                    <a:pt x="76" y="21"/>
                  </a:lnTo>
                  <a:lnTo>
                    <a:pt x="72" y="14"/>
                  </a:lnTo>
                  <a:close/>
                  <a:moveTo>
                    <a:pt x="116" y="418"/>
                  </a:moveTo>
                  <a:lnTo>
                    <a:pt x="175" y="418"/>
                  </a:lnTo>
                  <a:lnTo>
                    <a:pt x="175" y="0"/>
                  </a:lnTo>
                  <a:lnTo>
                    <a:pt x="116" y="0"/>
                  </a:lnTo>
                  <a:lnTo>
                    <a:pt x="116" y="418"/>
                  </a:lnTo>
                  <a:close/>
                  <a:moveTo>
                    <a:pt x="233" y="418"/>
                  </a:moveTo>
                  <a:lnTo>
                    <a:pt x="293" y="418"/>
                  </a:lnTo>
                  <a:lnTo>
                    <a:pt x="293" y="0"/>
                  </a:lnTo>
                  <a:lnTo>
                    <a:pt x="233" y="0"/>
                  </a:lnTo>
                  <a:lnTo>
                    <a:pt x="233" y="418"/>
                  </a:lnTo>
                  <a:close/>
                  <a:moveTo>
                    <a:pt x="351" y="418"/>
                  </a:moveTo>
                  <a:lnTo>
                    <a:pt x="410" y="418"/>
                  </a:lnTo>
                  <a:lnTo>
                    <a:pt x="410" y="0"/>
                  </a:lnTo>
                  <a:lnTo>
                    <a:pt x="351" y="0"/>
                  </a:lnTo>
                  <a:lnTo>
                    <a:pt x="351" y="418"/>
                  </a:lnTo>
                  <a:close/>
                  <a:moveTo>
                    <a:pt x="468" y="418"/>
                  </a:moveTo>
                  <a:lnTo>
                    <a:pt x="526" y="418"/>
                  </a:lnTo>
                  <a:lnTo>
                    <a:pt x="526" y="0"/>
                  </a:lnTo>
                  <a:lnTo>
                    <a:pt x="468" y="0"/>
                  </a:lnTo>
                  <a:lnTo>
                    <a:pt x="468" y="418"/>
                  </a:lnTo>
                  <a:close/>
                  <a:moveTo>
                    <a:pt x="586" y="418"/>
                  </a:moveTo>
                  <a:lnTo>
                    <a:pt x="645" y="418"/>
                  </a:lnTo>
                  <a:lnTo>
                    <a:pt x="645" y="0"/>
                  </a:lnTo>
                  <a:lnTo>
                    <a:pt x="586" y="0"/>
                  </a:lnTo>
                  <a:lnTo>
                    <a:pt x="586" y="418"/>
                  </a:lnTo>
                  <a:close/>
                  <a:moveTo>
                    <a:pt x="703" y="418"/>
                  </a:moveTo>
                  <a:lnTo>
                    <a:pt x="761" y="418"/>
                  </a:lnTo>
                  <a:lnTo>
                    <a:pt x="761" y="0"/>
                  </a:lnTo>
                  <a:lnTo>
                    <a:pt x="703" y="0"/>
                  </a:lnTo>
                  <a:lnTo>
                    <a:pt x="703" y="418"/>
                  </a:lnTo>
                  <a:close/>
                  <a:moveTo>
                    <a:pt x="821" y="418"/>
                  </a:moveTo>
                  <a:lnTo>
                    <a:pt x="880" y="418"/>
                  </a:lnTo>
                  <a:lnTo>
                    <a:pt x="880" y="0"/>
                  </a:lnTo>
                  <a:lnTo>
                    <a:pt x="821" y="0"/>
                  </a:lnTo>
                  <a:lnTo>
                    <a:pt x="821" y="418"/>
                  </a:lnTo>
                  <a:close/>
                  <a:moveTo>
                    <a:pt x="0" y="418"/>
                  </a:moveTo>
                  <a:lnTo>
                    <a:pt x="58" y="418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168880" y="3166920"/>
              <a:ext cx="652320" cy="41400"/>
            </a:xfrm>
            <a:custGeom>
              <a:avLst/>
              <a:gdLst/>
              <a:ahLst/>
              <a:rect l="l" t="t" r="r" b="b"/>
              <a:pathLst>
                <a:path w="822" h="51">
                  <a:moveTo>
                    <a:pt x="705" y="51"/>
                  </a:moveTo>
                  <a:lnTo>
                    <a:pt x="822" y="51"/>
                  </a:lnTo>
                  <a:lnTo>
                    <a:pt x="822" y="0"/>
                  </a:lnTo>
                  <a:lnTo>
                    <a:pt x="705" y="0"/>
                  </a:lnTo>
                  <a:lnTo>
                    <a:pt x="705" y="51"/>
                  </a:lnTo>
                  <a:close/>
                  <a:moveTo>
                    <a:pt x="528" y="51"/>
                  </a:moveTo>
                  <a:lnTo>
                    <a:pt x="647" y="51"/>
                  </a:lnTo>
                  <a:lnTo>
                    <a:pt x="647" y="0"/>
                  </a:lnTo>
                  <a:lnTo>
                    <a:pt x="528" y="0"/>
                  </a:lnTo>
                  <a:lnTo>
                    <a:pt x="528" y="51"/>
                  </a:lnTo>
                  <a:close/>
                  <a:moveTo>
                    <a:pt x="352" y="51"/>
                  </a:moveTo>
                  <a:lnTo>
                    <a:pt x="470" y="51"/>
                  </a:lnTo>
                  <a:lnTo>
                    <a:pt x="470" y="0"/>
                  </a:lnTo>
                  <a:lnTo>
                    <a:pt x="352" y="0"/>
                  </a:lnTo>
                  <a:lnTo>
                    <a:pt x="352" y="51"/>
                  </a:lnTo>
                  <a:close/>
                  <a:moveTo>
                    <a:pt x="177" y="51"/>
                  </a:moveTo>
                  <a:lnTo>
                    <a:pt x="293" y="51"/>
                  </a:lnTo>
                  <a:lnTo>
                    <a:pt x="293" y="0"/>
                  </a:lnTo>
                  <a:lnTo>
                    <a:pt x="177" y="0"/>
                  </a:lnTo>
                  <a:lnTo>
                    <a:pt x="177" y="51"/>
                  </a:lnTo>
                  <a:close/>
                  <a:moveTo>
                    <a:pt x="0" y="51"/>
                  </a:moveTo>
                  <a:lnTo>
                    <a:pt x="118" y="51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065560" y="3287880"/>
              <a:ext cx="37800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109480" y="329724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181480" y="3505320"/>
              <a:ext cx="638280" cy="150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213520" y="3562200"/>
              <a:ext cx="31680" cy="39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52920" y="3562200"/>
              <a:ext cx="3333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181480" y="3524400"/>
              <a:ext cx="638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68760" y="3571920"/>
              <a:ext cx="303480" cy="20520"/>
            </a:xfrm>
            <a:custGeom>
              <a:avLst/>
              <a:gdLst/>
              <a:ahLst/>
              <a:rect l="l" t="t" r="r" b="b"/>
              <a:pathLst>
                <a:path w="382" h="25">
                  <a:moveTo>
                    <a:pt x="80" y="25"/>
                  </a:moveTo>
                  <a:lnTo>
                    <a:pt x="101" y="25"/>
                  </a:lnTo>
                  <a:lnTo>
                    <a:pt x="101" y="0"/>
                  </a:lnTo>
                  <a:lnTo>
                    <a:pt x="80" y="0"/>
                  </a:lnTo>
                  <a:lnTo>
                    <a:pt x="80" y="25"/>
                  </a:lnTo>
                  <a:close/>
                  <a:moveTo>
                    <a:pt x="41" y="25"/>
                  </a:moveTo>
                  <a:lnTo>
                    <a:pt x="60" y="25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41" y="25"/>
                  </a:lnTo>
                  <a:close/>
                  <a:moveTo>
                    <a:pt x="0" y="25"/>
                  </a:moveTo>
                  <a:lnTo>
                    <a:pt x="20" y="2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5"/>
                  </a:lnTo>
                  <a:close/>
                  <a:moveTo>
                    <a:pt x="142" y="25"/>
                  </a:moveTo>
                  <a:lnTo>
                    <a:pt x="161" y="25"/>
                  </a:lnTo>
                  <a:lnTo>
                    <a:pt x="161" y="0"/>
                  </a:lnTo>
                  <a:lnTo>
                    <a:pt x="142" y="0"/>
                  </a:lnTo>
                  <a:lnTo>
                    <a:pt x="142" y="25"/>
                  </a:lnTo>
                  <a:close/>
                  <a:moveTo>
                    <a:pt x="202" y="25"/>
                  </a:moveTo>
                  <a:lnTo>
                    <a:pt x="221" y="25"/>
                  </a:lnTo>
                  <a:lnTo>
                    <a:pt x="221" y="0"/>
                  </a:lnTo>
                  <a:lnTo>
                    <a:pt x="202" y="0"/>
                  </a:lnTo>
                  <a:lnTo>
                    <a:pt x="202" y="25"/>
                  </a:lnTo>
                  <a:close/>
                  <a:moveTo>
                    <a:pt x="241" y="25"/>
                  </a:moveTo>
                  <a:lnTo>
                    <a:pt x="262" y="25"/>
                  </a:lnTo>
                  <a:lnTo>
                    <a:pt x="262" y="0"/>
                  </a:lnTo>
                  <a:lnTo>
                    <a:pt x="241" y="0"/>
                  </a:lnTo>
                  <a:lnTo>
                    <a:pt x="241" y="25"/>
                  </a:lnTo>
                  <a:close/>
                  <a:moveTo>
                    <a:pt x="281" y="25"/>
                  </a:moveTo>
                  <a:lnTo>
                    <a:pt x="303" y="25"/>
                  </a:lnTo>
                  <a:lnTo>
                    <a:pt x="303" y="0"/>
                  </a:lnTo>
                  <a:lnTo>
                    <a:pt x="281" y="0"/>
                  </a:lnTo>
                  <a:lnTo>
                    <a:pt x="281" y="25"/>
                  </a:lnTo>
                  <a:close/>
                  <a:moveTo>
                    <a:pt x="322" y="25"/>
                  </a:moveTo>
                  <a:lnTo>
                    <a:pt x="341" y="25"/>
                  </a:lnTo>
                  <a:lnTo>
                    <a:pt x="341" y="0"/>
                  </a:lnTo>
                  <a:lnTo>
                    <a:pt x="322" y="0"/>
                  </a:lnTo>
                  <a:lnTo>
                    <a:pt x="322" y="25"/>
                  </a:lnTo>
                  <a:close/>
                  <a:moveTo>
                    <a:pt x="363" y="25"/>
                  </a:moveTo>
                  <a:lnTo>
                    <a:pt x="382" y="25"/>
                  </a:lnTo>
                  <a:lnTo>
                    <a:pt x="382" y="0"/>
                  </a:lnTo>
                  <a:lnTo>
                    <a:pt x="363" y="0"/>
                  </a:lnTo>
                  <a:lnTo>
                    <a:pt x="363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065560" y="3693960"/>
              <a:ext cx="297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06600" y="370188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95760" y="3249720"/>
              <a:ext cx="180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884760" y="2028960"/>
              <a:ext cx="1611000" cy="636480"/>
            </a:xfrm>
            <a:custGeom>
              <a:avLst/>
              <a:gdLst/>
              <a:ahLst/>
              <a:rect l="l" t="t" r="r" b="b"/>
              <a:pathLst>
                <a:path w="2031" h="801">
                  <a:moveTo>
                    <a:pt x="0" y="0"/>
                  </a:moveTo>
                  <a:lnTo>
                    <a:pt x="2031" y="0"/>
                  </a:lnTo>
                  <a:lnTo>
                    <a:pt x="2031" y="80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464080" y="2657520"/>
              <a:ext cx="65160" cy="968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81" y="0"/>
                  </a:moveTo>
                  <a:lnTo>
                    <a:pt x="41" y="121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45160" y="1852560"/>
              <a:ext cx="5680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96640" y="186048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direction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62880" y="197316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960080" y="208440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48320" y="2365200"/>
              <a:ext cx="381240" cy="2373480"/>
            </a:xfrm>
            <a:custGeom>
              <a:avLst/>
              <a:gdLst/>
              <a:ahLst/>
              <a:rect l="l" t="t" r="r" b="b"/>
              <a:pathLst>
                <a:path w="479" h="2991">
                  <a:moveTo>
                    <a:pt x="479" y="0"/>
                  </a:moveTo>
                  <a:lnTo>
                    <a:pt x="479" y="2991"/>
                  </a:lnTo>
                  <a:lnTo>
                    <a:pt x="0" y="299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311120" y="1000080"/>
              <a:ext cx="908280" cy="380880"/>
            </a:xfrm>
            <a:custGeom>
              <a:avLst/>
              <a:gdLst/>
              <a:ahLst/>
              <a:rect l="l" t="t" r="r" b="b"/>
              <a:pathLst>
                <a:path w="1143" h="478">
                  <a:moveTo>
                    <a:pt x="0" y="0"/>
                  </a:moveTo>
                  <a:lnTo>
                    <a:pt x="1143" y="0"/>
                  </a:lnTo>
                  <a:lnTo>
                    <a:pt x="1143" y="4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>
            <a:off x="1649520" y="2765520"/>
            <a:ext cx="569880" cy="1212840"/>
          </a:xfrm>
          <a:custGeom>
            <a:avLst/>
            <a:gdLst/>
            <a:ahLst/>
            <a:rect l="l" t="t" r="r" b="b"/>
            <a:pathLst>
              <a:path w="717" h="1529">
                <a:moveTo>
                  <a:pt x="717" y="0"/>
                </a:moveTo>
                <a:lnTo>
                  <a:pt x="717" y="1529"/>
                </a:lnTo>
                <a:lnTo>
                  <a:pt x="0" y="15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187720" y="2676600"/>
            <a:ext cx="63360" cy="96840"/>
          </a:xfrm>
          <a:custGeom>
            <a:avLst/>
            <a:gdLst/>
            <a:ahLst/>
            <a:rect l="l" t="t" r="r" b="b"/>
            <a:pathLst>
              <a:path w="81" h="122">
                <a:moveTo>
                  <a:pt x="0" y="122"/>
                </a:moveTo>
                <a:lnTo>
                  <a:pt x="40" y="0"/>
                </a:lnTo>
                <a:lnTo>
                  <a:pt x="81" y="122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562040" y="3946680"/>
            <a:ext cx="96840" cy="64800"/>
          </a:xfrm>
          <a:custGeom>
            <a:avLst/>
            <a:gdLst/>
            <a:ahLst/>
            <a:rect l="l" t="t" r="r" b="b"/>
            <a:pathLst>
              <a:path w="122" h="81">
                <a:moveTo>
                  <a:pt x="122" y="81"/>
                </a:moveTo>
                <a:lnTo>
                  <a:pt x="0" y="41"/>
                </a:lnTo>
                <a:lnTo>
                  <a:pt x="122" y="0"/>
                </a:lnTo>
                <a:lnTo>
                  <a:pt x="122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976480" y="933480"/>
            <a:ext cx="324000" cy="447480"/>
          </a:xfrm>
          <a:custGeom>
            <a:avLst/>
            <a:gdLst/>
            <a:ahLst/>
            <a:rect l="l" t="t" r="r" b="b"/>
            <a:pathLst>
              <a:path w="408" h="563">
                <a:moveTo>
                  <a:pt x="408" y="0"/>
                </a:moveTo>
                <a:lnTo>
                  <a:pt x="408" y="157"/>
                </a:lnTo>
                <a:lnTo>
                  <a:pt x="0" y="157"/>
                </a:lnTo>
                <a:lnTo>
                  <a:pt x="0" y="56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146240" y="4738680"/>
            <a:ext cx="663480" cy="662040"/>
          </a:xfrm>
          <a:custGeom>
            <a:avLst/>
            <a:gdLst/>
            <a:ahLst/>
            <a:rect l="l" t="t" r="r" b="b"/>
            <a:pathLst>
              <a:path w="836" h="833">
                <a:moveTo>
                  <a:pt x="251" y="492"/>
                </a:moveTo>
                <a:lnTo>
                  <a:pt x="585" y="492"/>
                </a:lnTo>
                <a:lnTo>
                  <a:pt x="585" y="455"/>
                </a:lnTo>
                <a:lnTo>
                  <a:pt x="251" y="455"/>
                </a:lnTo>
                <a:lnTo>
                  <a:pt x="251" y="492"/>
                </a:lnTo>
                <a:close/>
                <a:moveTo>
                  <a:pt x="85" y="455"/>
                </a:moveTo>
                <a:lnTo>
                  <a:pt x="751" y="455"/>
                </a:lnTo>
                <a:lnTo>
                  <a:pt x="751" y="0"/>
                </a:lnTo>
                <a:lnTo>
                  <a:pt x="85" y="0"/>
                </a:lnTo>
                <a:lnTo>
                  <a:pt x="85" y="455"/>
                </a:lnTo>
                <a:close/>
                <a:moveTo>
                  <a:pt x="168" y="607"/>
                </a:moveTo>
                <a:lnTo>
                  <a:pt x="668" y="607"/>
                </a:lnTo>
                <a:lnTo>
                  <a:pt x="668" y="492"/>
                </a:lnTo>
                <a:lnTo>
                  <a:pt x="168" y="492"/>
                </a:lnTo>
                <a:lnTo>
                  <a:pt x="168" y="607"/>
                </a:lnTo>
                <a:close/>
                <a:moveTo>
                  <a:pt x="628" y="607"/>
                </a:moveTo>
                <a:lnTo>
                  <a:pt x="244" y="607"/>
                </a:lnTo>
                <a:lnTo>
                  <a:pt x="0" y="607"/>
                </a:lnTo>
                <a:lnTo>
                  <a:pt x="0" y="833"/>
                </a:lnTo>
                <a:lnTo>
                  <a:pt x="836" y="833"/>
                </a:lnTo>
                <a:lnTo>
                  <a:pt x="836" y="607"/>
                </a:lnTo>
                <a:lnTo>
                  <a:pt x="628" y="607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362240" y="5265720"/>
            <a:ext cx="99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163520" y="5237280"/>
            <a:ext cx="50760" cy="2844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18"/>
                </a:moveTo>
                <a:lnTo>
                  <a:pt x="4" y="9"/>
                </a:lnTo>
                <a:lnTo>
                  <a:pt x="13" y="4"/>
                </a:lnTo>
                <a:lnTo>
                  <a:pt x="25" y="0"/>
                </a:lnTo>
                <a:lnTo>
                  <a:pt x="39" y="0"/>
                </a:lnTo>
                <a:lnTo>
                  <a:pt x="52" y="4"/>
                </a:lnTo>
                <a:lnTo>
                  <a:pt x="61" y="9"/>
                </a:lnTo>
                <a:lnTo>
                  <a:pt x="64" y="18"/>
                </a:lnTo>
                <a:lnTo>
                  <a:pt x="61" y="27"/>
                </a:lnTo>
                <a:lnTo>
                  <a:pt x="52" y="32"/>
                </a:lnTo>
                <a:lnTo>
                  <a:pt x="39" y="37"/>
                </a:lnTo>
                <a:lnTo>
                  <a:pt x="25" y="37"/>
                </a:lnTo>
                <a:lnTo>
                  <a:pt x="13" y="32"/>
                </a:lnTo>
                <a:lnTo>
                  <a:pt x="4" y="27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279440" y="4799160"/>
            <a:ext cx="397080" cy="2412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163520" y="5356080"/>
            <a:ext cx="628920" cy="30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727280" y="5235480"/>
            <a:ext cx="31680" cy="46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146240" y="529596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146240" y="532620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34604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47780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1544760" y="522108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676520" y="522144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219320" y="5440320"/>
            <a:ext cx="51732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268280" y="5448240"/>
            <a:ext cx="465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809720" y="4738680"/>
            <a:ext cx="514440" cy="552600"/>
          </a:xfrm>
          <a:custGeom>
            <a:avLst/>
            <a:gdLst/>
            <a:ahLst/>
            <a:rect l="l" t="t" r="r" b="b"/>
            <a:pathLst>
              <a:path w="647" h="695">
                <a:moveTo>
                  <a:pt x="647" y="0"/>
                </a:moveTo>
                <a:lnTo>
                  <a:pt x="492" y="0"/>
                </a:lnTo>
                <a:lnTo>
                  <a:pt x="492" y="695"/>
                </a:lnTo>
                <a:lnTo>
                  <a:pt x="0" y="6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219400" y="1380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274840" y="1474920"/>
            <a:ext cx="3348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328840" y="15685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384280" y="16621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38280" y="1755720"/>
            <a:ext cx="349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494080" y="18493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49520" y="19447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603520" y="20383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658960" y="2131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714760" y="2225520"/>
            <a:ext cx="3312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770200" y="2320920"/>
            <a:ext cx="3348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824200" y="2416320"/>
            <a:ext cx="3492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879640" y="2509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935440" y="2604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976480" y="138096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065400" y="1442880"/>
            <a:ext cx="54000" cy="3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154320" y="150660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241800" y="1571760"/>
            <a:ext cx="55440" cy="3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330720" y="1633680"/>
            <a:ext cx="540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419640" y="1697040"/>
            <a:ext cx="5364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508200" y="176040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597120" y="1824120"/>
            <a:ext cx="540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686040" y="188748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774960" y="1951200"/>
            <a:ext cx="558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63880" y="2014560"/>
            <a:ext cx="2088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29200" y="391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29200" y="423864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29200" y="439092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129200" y="454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129200" y="487044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129200" y="502128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129200" y="517212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129200" y="550080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129200" y="5651640"/>
            <a:ext cx="144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129200" y="1595520"/>
            <a:ext cx="496800" cy="396720"/>
          </a:xfrm>
          <a:custGeom>
            <a:avLst/>
            <a:gdLst/>
            <a:ahLst/>
            <a:rect l="l" t="t" r="r" b="b"/>
            <a:pathLst>
              <a:path w="627" h="499">
                <a:moveTo>
                  <a:pt x="0" y="250"/>
                </a:moveTo>
                <a:lnTo>
                  <a:pt x="3" y="212"/>
                </a:lnTo>
                <a:lnTo>
                  <a:pt x="14" y="176"/>
                </a:lnTo>
                <a:lnTo>
                  <a:pt x="31" y="141"/>
                </a:lnTo>
                <a:lnTo>
                  <a:pt x="54" y="109"/>
                </a:lnTo>
                <a:lnTo>
                  <a:pt x="84" y="79"/>
                </a:lnTo>
                <a:lnTo>
                  <a:pt x="118" y="55"/>
                </a:lnTo>
                <a:lnTo>
                  <a:pt x="157" y="33"/>
                </a:lnTo>
                <a:lnTo>
                  <a:pt x="199" y="17"/>
                </a:lnTo>
                <a:lnTo>
                  <a:pt x="243" y="5"/>
                </a:lnTo>
                <a:lnTo>
                  <a:pt x="289" y="0"/>
                </a:lnTo>
                <a:lnTo>
                  <a:pt x="337" y="0"/>
                </a:lnTo>
                <a:lnTo>
                  <a:pt x="383" y="5"/>
                </a:lnTo>
                <a:lnTo>
                  <a:pt x="427" y="17"/>
                </a:lnTo>
                <a:lnTo>
                  <a:pt x="470" y="33"/>
                </a:lnTo>
                <a:lnTo>
                  <a:pt x="509" y="55"/>
                </a:lnTo>
                <a:lnTo>
                  <a:pt x="542" y="79"/>
                </a:lnTo>
                <a:lnTo>
                  <a:pt x="572" y="109"/>
                </a:lnTo>
                <a:lnTo>
                  <a:pt x="595" y="141"/>
                </a:lnTo>
                <a:lnTo>
                  <a:pt x="613" y="176"/>
                </a:lnTo>
                <a:lnTo>
                  <a:pt x="623" y="212"/>
                </a:lnTo>
                <a:lnTo>
                  <a:pt x="627" y="250"/>
                </a:lnTo>
                <a:lnTo>
                  <a:pt x="623" y="288"/>
                </a:lnTo>
                <a:lnTo>
                  <a:pt x="613" y="323"/>
                </a:lnTo>
                <a:lnTo>
                  <a:pt x="595" y="358"/>
                </a:lnTo>
                <a:lnTo>
                  <a:pt x="572" y="390"/>
                </a:lnTo>
                <a:lnTo>
                  <a:pt x="542" y="420"/>
                </a:lnTo>
                <a:lnTo>
                  <a:pt x="509" y="445"/>
                </a:lnTo>
                <a:lnTo>
                  <a:pt x="470" y="466"/>
                </a:lnTo>
                <a:lnTo>
                  <a:pt x="427" y="483"/>
                </a:lnTo>
                <a:lnTo>
                  <a:pt x="383" y="494"/>
                </a:lnTo>
                <a:lnTo>
                  <a:pt x="337" y="499"/>
                </a:lnTo>
                <a:lnTo>
                  <a:pt x="289" y="499"/>
                </a:lnTo>
                <a:lnTo>
                  <a:pt x="243" y="494"/>
                </a:lnTo>
                <a:lnTo>
                  <a:pt x="199" y="483"/>
                </a:lnTo>
                <a:lnTo>
                  <a:pt x="157" y="466"/>
                </a:lnTo>
                <a:lnTo>
                  <a:pt x="118" y="445"/>
                </a:lnTo>
                <a:lnTo>
                  <a:pt x="84" y="420"/>
                </a:lnTo>
                <a:lnTo>
                  <a:pt x="54" y="390"/>
                </a:lnTo>
                <a:lnTo>
                  <a:pt x="31" y="358"/>
                </a:lnTo>
                <a:lnTo>
                  <a:pt x="14" y="323"/>
                </a:lnTo>
                <a:lnTo>
                  <a:pt x="3" y="288"/>
                </a:lnTo>
                <a:lnTo>
                  <a:pt x="0" y="250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357440" y="1693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052800" y="2836800"/>
            <a:ext cx="496800" cy="496800"/>
          </a:xfrm>
          <a:custGeom>
            <a:avLst/>
            <a:gdLst/>
            <a:ahLst/>
            <a:rect l="l" t="t" r="r" b="b"/>
            <a:pathLst>
              <a:path w="626" h="625">
                <a:moveTo>
                  <a:pt x="0" y="313"/>
                </a:moveTo>
                <a:lnTo>
                  <a:pt x="4" y="265"/>
                </a:lnTo>
                <a:lnTo>
                  <a:pt x="12" y="221"/>
                </a:lnTo>
                <a:lnTo>
                  <a:pt x="30" y="177"/>
                </a:lnTo>
                <a:lnTo>
                  <a:pt x="53" y="136"/>
                </a:lnTo>
                <a:lnTo>
                  <a:pt x="83" y="99"/>
                </a:lnTo>
                <a:lnTo>
                  <a:pt x="117" y="67"/>
                </a:lnTo>
                <a:lnTo>
                  <a:pt x="156" y="41"/>
                </a:lnTo>
                <a:lnTo>
                  <a:pt x="198" y="22"/>
                </a:lnTo>
                <a:lnTo>
                  <a:pt x="242" y="7"/>
                </a:lnTo>
                <a:lnTo>
                  <a:pt x="288" y="0"/>
                </a:lnTo>
                <a:lnTo>
                  <a:pt x="336" y="0"/>
                </a:lnTo>
                <a:lnTo>
                  <a:pt x="382" y="7"/>
                </a:lnTo>
                <a:lnTo>
                  <a:pt x="426" y="22"/>
                </a:lnTo>
                <a:lnTo>
                  <a:pt x="468" y="41"/>
                </a:lnTo>
                <a:lnTo>
                  <a:pt x="507" y="67"/>
                </a:lnTo>
                <a:lnTo>
                  <a:pt x="543" y="99"/>
                </a:lnTo>
                <a:lnTo>
                  <a:pt x="571" y="136"/>
                </a:lnTo>
                <a:lnTo>
                  <a:pt x="594" y="177"/>
                </a:lnTo>
                <a:lnTo>
                  <a:pt x="612" y="221"/>
                </a:lnTo>
                <a:lnTo>
                  <a:pt x="622" y="265"/>
                </a:lnTo>
                <a:lnTo>
                  <a:pt x="626" y="313"/>
                </a:lnTo>
                <a:lnTo>
                  <a:pt x="622" y="359"/>
                </a:lnTo>
                <a:lnTo>
                  <a:pt x="612" y="405"/>
                </a:lnTo>
                <a:lnTo>
                  <a:pt x="594" y="449"/>
                </a:lnTo>
                <a:lnTo>
                  <a:pt x="571" y="489"/>
                </a:lnTo>
                <a:lnTo>
                  <a:pt x="543" y="525"/>
                </a:lnTo>
                <a:lnTo>
                  <a:pt x="507" y="556"/>
                </a:lnTo>
                <a:lnTo>
                  <a:pt x="468" y="583"/>
                </a:lnTo>
                <a:lnTo>
                  <a:pt x="426" y="604"/>
                </a:lnTo>
                <a:lnTo>
                  <a:pt x="382" y="618"/>
                </a:lnTo>
                <a:lnTo>
                  <a:pt x="336" y="625"/>
                </a:lnTo>
                <a:lnTo>
                  <a:pt x="288" y="625"/>
                </a:lnTo>
                <a:lnTo>
                  <a:pt x="242" y="618"/>
                </a:lnTo>
                <a:lnTo>
                  <a:pt x="198" y="604"/>
                </a:lnTo>
                <a:lnTo>
                  <a:pt x="156" y="583"/>
                </a:lnTo>
                <a:lnTo>
                  <a:pt x="117" y="556"/>
                </a:lnTo>
                <a:lnTo>
                  <a:pt x="83" y="525"/>
                </a:lnTo>
                <a:lnTo>
                  <a:pt x="53" y="489"/>
                </a:lnTo>
                <a:lnTo>
                  <a:pt x="30" y="449"/>
                </a:lnTo>
                <a:lnTo>
                  <a:pt x="12" y="405"/>
                </a:lnTo>
                <a:lnTo>
                  <a:pt x="4" y="359"/>
                </a:lnTo>
                <a:lnTo>
                  <a:pt x="0" y="313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281040" y="2982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644480" y="2919240"/>
            <a:ext cx="497160" cy="497160"/>
          </a:xfrm>
          <a:custGeom>
            <a:avLst/>
            <a:gdLst/>
            <a:ahLst/>
            <a:rect l="l" t="t" r="r" b="b"/>
            <a:pathLst>
              <a:path w="625" h="624">
                <a:moveTo>
                  <a:pt x="0" y="312"/>
                </a:moveTo>
                <a:lnTo>
                  <a:pt x="3" y="266"/>
                </a:lnTo>
                <a:lnTo>
                  <a:pt x="12" y="220"/>
                </a:lnTo>
                <a:lnTo>
                  <a:pt x="30" y="176"/>
                </a:lnTo>
                <a:lnTo>
                  <a:pt x="53" y="135"/>
                </a:lnTo>
                <a:lnTo>
                  <a:pt x="83" y="98"/>
                </a:lnTo>
                <a:lnTo>
                  <a:pt x="116" y="67"/>
                </a:lnTo>
                <a:lnTo>
                  <a:pt x="155" y="40"/>
                </a:lnTo>
                <a:lnTo>
                  <a:pt x="198" y="21"/>
                </a:lnTo>
                <a:lnTo>
                  <a:pt x="242" y="7"/>
                </a:lnTo>
                <a:lnTo>
                  <a:pt x="289" y="0"/>
                </a:lnTo>
                <a:lnTo>
                  <a:pt x="335" y="0"/>
                </a:lnTo>
                <a:lnTo>
                  <a:pt x="381" y="7"/>
                </a:lnTo>
                <a:lnTo>
                  <a:pt x="427" y="21"/>
                </a:lnTo>
                <a:lnTo>
                  <a:pt x="468" y="40"/>
                </a:lnTo>
                <a:lnTo>
                  <a:pt x="507" y="67"/>
                </a:lnTo>
                <a:lnTo>
                  <a:pt x="542" y="98"/>
                </a:lnTo>
                <a:lnTo>
                  <a:pt x="570" y="135"/>
                </a:lnTo>
                <a:lnTo>
                  <a:pt x="593" y="176"/>
                </a:lnTo>
                <a:lnTo>
                  <a:pt x="611" y="220"/>
                </a:lnTo>
                <a:lnTo>
                  <a:pt x="622" y="266"/>
                </a:lnTo>
                <a:lnTo>
                  <a:pt x="625" y="312"/>
                </a:lnTo>
                <a:lnTo>
                  <a:pt x="622" y="358"/>
                </a:lnTo>
                <a:lnTo>
                  <a:pt x="611" y="404"/>
                </a:lnTo>
                <a:lnTo>
                  <a:pt x="593" y="448"/>
                </a:lnTo>
                <a:lnTo>
                  <a:pt x="570" y="488"/>
                </a:lnTo>
                <a:lnTo>
                  <a:pt x="542" y="524"/>
                </a:lnTo>
                <a:lnTo>
                  <a:pt x="507" y="555"/>
                </a:lnTo>
                <a:lnTo>
                  <a:pt x="468" y="582"/>
                </a:lnTo>
                <a:lnTo>
                  <a:pt x="427" y="603"/>
                </a:lnTo>
                <a:lnTo>
                  <a:pt x="381" y="617"/>
                </a:lnTo>
                <a:lnTo>
                  <a:pt x="335" y="624"/>
                </a:lnTo>
                <a:lnTo>
                  <a:pt x="289" y="624"/>
                </a:lnTo>
                <a:lnTo>
                  <a:pt x="242" y="617"/>
                </a:lnTo>
                <a:lnTo>
                  <a:pt x="198" y="603"/>
                </a:lnTo>
                <a:lnTo>
                  <a:pt x="155" y="582"/>
                </a:lnTo>
                <a:lnTo>
                  <a:pt x="116" y="555"/>
                </a:lnTo>
                <a:lnTo>
                  <a:pt x="83" y="524"/>
                </a:lnTo>
                <a:lnTo>
                  <a:pt x="53" y="488"/>
                </a:lnTo>
                <a:lnTo>
                  <a:pt x="30" y="448"/>
                </a:lnTo>
                <a:lnTo>
                  <a:pt x="12" y="404"/>
                </a:lnTo>
                <a:lnTo>
                  <a:pt x="3" y="358"/>
                </a:ln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872720" y="30654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963960" y="603360"/>
            <a:ext cx="165240" cy="198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976560" y="615960"/>
            <a:ext cx="47880" cy="173160"/>
          </a:xfrm>
          <a:custGeom>
            <a:avLst/>
            <a:gdLst/>
            <a:ahLst/>
            <a:rect l="l" t="t" r="r" b="b"/>
            <a:pathLst>
              <a:path w="60" h="218">
                <a:moveTo>
                  <a:pt x="0" y="47"/>
                </a:moveTo>
                <a:lnTo>
                  <a:pt x="0" y="8"/>
                </a:lnTo>
                <a:lnTo>
                  <a:pt x="9" y="0"/>
                </a:lnTo>
                <a:lnTo>
                  <a:pt x="53" y="0"/>
                </a:lnTo>
                <a:lnTo>
                  <a:pt x="60" y="8"/>
                </a:lnTo>
                <a:lnTo>
                  <a:pt x="60" y="47"/>
                </a:lnTo>
                <a:lnTo>
                  <a:pt x="53" y="63"/>
                </a:lnTo>
                <a:lnTo>
                  <a:pt x="53" y="157"/>
                </a:lnTo>
                <a:lnTo>
                  <a:pt x="60" y="172"/>
                </a:lnTo>
                <a:lnTo>
                  <a:pt x="60" y="211"/>
                </a:lnTo>
                <a:lnTo>
                  <a:pt x="53" y="218"/>
                </a:lnTo>
                <a:lnTo>
                  <a:pt x="9" y="218"/>
                </a:lnTo>
                <a:lnTo>
                  <a:pt x="0" y="211"/>
                </a:lnTo>
                <a:lnTo>
                  <a:pt x="0" y="172"/>
                </a:lnTo>
                <a:lnTo>
                  <a:pt x="9" y="157"/>
                </a:lnTo>
                <a:lnTo>
                  <a:pt x="9" y="63"/>
                </a:lnTo>
                <a:lnTo>
                  <a:pt x="0" y="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038480" y="615960"/>
            <a:ext cx="76320" cy="173160"/>
          </a:xfrm>
          <a:custGeom>
            <a:avLst/>
            <a:gdLst/>
            <a:ahLst/>
            <a:rect l="l" t="t" r="r" b="b"/>
            <a:pathLst>
              <a:path w="96" h="218">
                <a:moveTo>
                  <a:pt x="0" y="79"/>
                </a:moveTo>
                <a:lnTo>
                  <a:pt x="45" y="79"/>
                </a:lnTo>
                <a:lnTo>
                  <a:pt x="45" y="0"/>
                </a:lnTo>
                <a:lnTo>
                  <a:pt x="0" y="0"/>
                </a:lnTo>
                <a:lnTo>
                  <a:pt x="0" y="79"/>
                </a:lnTo>
                <a:close/>
                <a:moveTo>
                  <a:pt x="53" y="79"/>
                </a:moveTo>
                <a:lnTo>
                  <a:pt x="96" y="79"/>
                </a:lnTo>
                <a:lnTo>
                  <a:pt x="96" y="0"/>
                </a:lnTo>
                <a:lnTo>
                  <a:pt x="53" y="0"/>
                </a:lnTo>
                <a:lnTo>
                  <a:pt x="53" y="79"/>
                </a:lnTo>
                <a:close/>
                <a:moveTo>
                  <a:pt x="0" y="218"/>
                </a:moveTo>
                <a:lnTo>
                  <a:pt x="96" y="218"/>
                </a:lnTo>
                <a:lnTo>
                  <a:pt x="96" y="141"/>
                </a:lnTo>
                <a:lnTo>
                  <a:pt x="0" y="141"/>
                </a:lnTo>
                <a:lnTo>
                  <a:pt x="0" y="21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038480" y="7142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038480" y="70956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038480" y="7016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038480" y="69696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038480" y="69048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081320" y="63036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081320" y="66204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081320" y="64620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038480" y="63036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038480" y="66204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038480" y="64620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038480" y="7732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038480" y="7588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038480" y="74304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089240" y="727200"/>
            <a:ext cx="180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064040" y="727200"/>
            <a:ext cx="144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817800" y="839880"/>
            <a:ext cx="4590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865680" y="847800"/>
            <a:ext cx="41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549600" y="701640"/>
            <a:ext cx="414360" cy="108000"/>
          </a:xfrm>
          <a:custGeom>
            <a:avLst/>
            <a:gdLst/>
            <a:ahLst/>
            <a:rect l="l" t="t" r="r" b="b"/>
            <a:pathLst>
              <a:path w="521" h="136">
                <a:moveTo>
                  <a:pt x="521" y="0"/>
                </a:moveTo>
                <a:lnTo>
                  <a:pt x="365" y="0"/>
                </a:lnTo>
                <a:lnTo>
                  <a:pt x="365" y="136"/>
                </a:lnTo>
                <a:lnTo>
                  <a:pt x="0" y="1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295280" y="927000"/>
            <a:ext cx="1879560" cy="3111480"/>
          </a:xfrm>
          <a:custGeom>
            <a:avLst/>
            <a:gdLst/>
            <a:ahLst/>
            <a:rect l="l" t="t" r="r" b="b"/>
            <a:pathLst>
              <a:path w="1184" h="1960">
                <a:moveTo>
                  <a:pt x="0" y="40"/>
                </a:moveTo>
                <a:cubicBezTo>
                  <a:pt x="240" y="20"/>
                  <a:pt x="480" y="0"/>
                  <a:pt x="576" y="40"/>
                </a:cubicBezTo>
                <a:cubicBezTo>
                  <a:pt x="672" y="80"/>
                  <a:pt x="488" y="104"/>
                  <a:pt x="576" y="280"/>
                </a:cubicBezTo>
                <a:cubicBezTo>
                  <a:pt x="664" y="456"/>
                  <a:pt x="1024" y="816"/>
                  <a:pt x="1104" y="1096"/>
                </a:cubicBezTo>
                <a:cubicBezTo>
                  <a:pt x="1184" y="1376"/>
                  <a:pt x="1032" y="1824"/>
                  <a:pt x="1056" y="196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819-2744-4ECA-A1EB-646D4E2B94AD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nalysis of type C3 calls (computer-to-computer termination: the connection must first be established locally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rder to avoid fraud of any kind, telephone calls from the VoIP provider to the TPH provider will have to be prohib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if the call is generated by the local TPH customer, a VoIP incoming international call may be generated (e.g. netmeeting calls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is case the VoIP is a value-added servi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implications for interconnection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A20-371F-4CBB-84F2-868786ECF92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816120" y="2422440"/>
            <a:ext cx="5798880" cy="3971880"/>
            <a:chOff x="816120" y="2422440"/>
            <a:chExt cx="5798880" cy="3971880"/>
          </a:xfrm>
        </p:grpSpPr>
        <p:sp>
          <p:nvSpPr>
            <p:cNvPr id="2020" name=""/>
            <p:cNvSpPr/>
            <p:nvPr/>
          </p:nvSpPr>
          <p:spPr>
            <a:xfrm>
              <a:off x="816120" y="2422440"/>
              <a:ext cx="5798880" cy="3971880"/>
            </a:xfrm>
            <a:custGeom>
              <a:avLst/>
              <a:gdLst/>
              <a:ahLst/>
              <a:rect l="l" t="t" r="r" b="b"/>
              <a:pathLst>
                <a:path w="7306" h="5003">
                  <a:moveTo>
                    <a:pt x="0" y="1459"/>
                  </a:moveTo>
                  <a:lnTo>
                    <a:pt x="4592" y="1459"/>
                  </a:lnTo>
                  <a:lnTo>
                    <a:pt x="4592" y="0"/>
                  </a:lnTo>
                  <a:lnTo>
                    <a:pt x="7306" y="0"/>
                  </a:lnTo>
                  <a:lnTo>
                    <a:pt x="7306" y="5003"/>
                  </a:lnTo>
                  <a:lnTo>
                    <a:pt x="0" y="5003"/>
                  </a:lnTo>
                  <a:lnTo>
                    <a:pt x="0" y="1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161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49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827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15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9493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984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0177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050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084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11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15236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18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219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252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28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320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3539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38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420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5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488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5224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5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5890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623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657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6905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724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575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792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825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859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892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9256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60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9940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027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060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09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12868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16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195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228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2636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297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3302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36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397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43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465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4987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532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5653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600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633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6668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00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7338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768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80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835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90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936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9703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03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36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07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0500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13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7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205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2400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273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3066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340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3735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408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41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4750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508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5416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576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610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643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7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7101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745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77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811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84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87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913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94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979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13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4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081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11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14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81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216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249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2829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316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3498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384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4179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451400" y="3571920"/>
              <a:ext cx="79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4459320" y="3538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4459320" y="3505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V="1">
              <a:off x="4459320" y="347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4459320" y="34380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4459320" y="3405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4459320" y="3370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4459320" y="3336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4459320" y="3303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4459320" y="3270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4459320" y="32364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V="1">
              <a:off x="4459320" y="320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4459320" y="3168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4459320" y="3134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4459320" y="3102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V="1">
              <a:off x="4459320" y="30686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4459320" y="30351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V="1">
              <a:off x="4459320" y="2999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V="1">
              <a:off x="4459320" y="2967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4459320" y="2933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4459320" y="29005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4459320" y="28670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4459320" y="28335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4459320" y="2798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4459320" y="2765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4459320" y="2731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4459320" y="26989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4459320" y="26654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4459320" y="2630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4459320" y="2596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4459320" y="2563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4459320" y="2530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4459320" y="24966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4459320" y="24638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4459320" y="2428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4704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503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5370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5705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603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638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672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7052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738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7721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807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840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8736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906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9402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975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008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041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07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10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143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17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210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243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27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11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34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37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11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44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479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5134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54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580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614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648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6815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715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7484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783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816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8500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8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9166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51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850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018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5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08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119640" y="242244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15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186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19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2546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288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32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4133880" y="2422440"/>
            <a:ext cx="2482920" cy="3973680"/>
            <a:chOff x="4133880" y="2422440"/>
            <a:chExt cx="2482920" cy="3973680"/>
          </a:xfrm>
        </p:grpSpPr>
        <p:sp>
          <p:nvSpPr>
            <p:cNvPr id="2221" name=""/>
            <p:cNvSpPr/>
            <p:nvPr/>
          </p:nvSpPr>
          <p:spPr>
            <a:xfrm>
              <a:off x="635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388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423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456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8972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523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5563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91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615000" y="2432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615000" y="2465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615000" y="2500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615000" y="2533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615000" y="256716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615000" y="2600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615000" y="2633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615000" y="2666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615000" y="2701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615000" y="2735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615000" y="2768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615000" y="2801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615000" y="2835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615000" y="2868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615000" y="2903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615000" y="2936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615000" y="2970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615000" y="3003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615000" y="3036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615000" y="3071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615000" y="3105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615000" y="3138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615000" y="3171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615000" y="3205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615000" y="3238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615000" y="3273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615000" y="3306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615000" y="3340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615000" y="3373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615000" y="3406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615000" y="3441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615000" y="3475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615000" y="3508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615000" y="3541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615000" y="3575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615000" y="3608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615000" y="3643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615000" y="3676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615000" y="3710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615000" y="3743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615000" y="3776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615000" y="3809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615000" y="3844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615000" y="3878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615000" y="3911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615000" y="3944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615000" y="3978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615000" y="4013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615000" y="4046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615000" y="4079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615000" y="4113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615000" y="4146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615000" y="4179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615000" y="4214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615000" y="4248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615000" y="4281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615000" y="4314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615000" y="4348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615000" y="4381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615000" y="4416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615000" y="4449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615000" y="4483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615000" y="4516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615000" y="4549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615000" y="4584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615000" y="4618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615000" y="4651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615000" y="4684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615000" y="4718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615000" y="4751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615000" y="4786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615000" y="4819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615000" y="4853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15000" y="4886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615000" y="4919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615000" y="4952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615000" y="4987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615000" y="5021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15000" y="5054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615000" y="5087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615000" y="5121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615000" y="5156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615000" y="5189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615000" y="5222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615000" y="5256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615000" y="5289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615000" y="5322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615000" y="5357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615000" y="5391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615000" y="5424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615000" y="5457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615000" y="5491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615000" y="5524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615000" y="5559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615000" y="5592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615000" y="5626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615000" y="5659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615000" y="5692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615000" y="5727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615000" y="5761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615000" y="5794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615000" y="5827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615000" y="5861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615000" y="5894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615000" y="5929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615000" y="5962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615000" y="5996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615000" y="6029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615000" y="6062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615000" y="6095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615000" y="6130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615000" y="6164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615000" y="6197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615000" y="6230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615000" y="6264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615000" y="6299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615000" y="6332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615000" y="6365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6590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655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>
              <a:off x="6524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649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645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642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638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>
              <a:off x="635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>
              <a:off x="632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6289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625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622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618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6154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612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608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>
              <a:off x="605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601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598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9526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>
              <a:off x="591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588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585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581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5783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574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5716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568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564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5614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558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5548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551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5481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544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5412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538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534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53132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527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>
              <a:off x="524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521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>
              <a:off x="5178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514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>
              <a:off x="511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5076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5043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5010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497628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494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908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487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42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48070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4773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47397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4707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4673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4638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4605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457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4538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4505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4470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>
              <a:off x="4436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440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4370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43369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430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4268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H="1">
              <a:off x="423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H="1">
              <a:off x="42022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416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H="1">
              <a:off x="413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1" name=""/>
          <p:cNvGrpSpPr/>
          <p:nvPr/>
        </p:nvGrpSpPr>
        <p:grpSpPr>
          <a:xfrm>
            <a:off x="816120" y="1380960"/>
            <a:ext cx="5441760" cy="5015160"/>
            <a:chOff x="816120" y="1380960"/>
            <a:chExt cx="5441760" cy="5015160"/>
          </a:xfrm>
        </p:grpSpPr>
        <p:sp>
          <p:nvSpPr>
            <p:cNvPr id="2422" name=""/>
            <p:cNvSpPr/>
            <p:nvPr/>
          </p:nvSpPr>
          <p:spPr>
            <a:xfrm flipH="1">
              <a:off x="4100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4067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>
              <a:off x="4033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>
              <a:off x="39985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H="1">
              <a:off x="396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H="1">
              <a:off x="3932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389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3865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38307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3796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H="1">
              <a:off x="37634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3730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36972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>
              <a:off x="3661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3629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>
              <a:off x="359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>
              <a:off x="356184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H="1">
              <a:off x="3529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3494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3460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>
              <a:off x="342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3394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>
              <a:off x="3360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332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H="1">
              <a:off x="3292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>
              <a:off x="3258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>
              <a:off x="3225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31910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>
              <a:off x="315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3123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H="1">
              <a:off x="3090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3057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30222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2989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>
              <a:off x="29559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2922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>
              <a:off x="2889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2854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2820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27871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>
              <a:off x="2754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27208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2685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>
              <a:off x="2652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261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5855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>
              <a:off x="255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>
              <a:off x="2517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2484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>
              <a:off x="245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2417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23839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H="1">
              <a:off x="234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2316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228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H="1">
              <a:off x="2249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22147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218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21474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H="1">
              <a:off x="2114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208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>
              <a:off x="2045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201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>
              <a:off x="1979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H="1">
              <a:off x="1946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H="1">
              <a:off x="191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187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H="1">
              <a:off x="184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H="1">
              <a:off x="18108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H="1">
              <a:off x="177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H="1">
              <a:off x="1744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170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167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H="1">
              <a:off x="164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H="1">
              <a:off x="1609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H="1">
              <a:off x="157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H="1">
              <a:off x="154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H="1">
              <a:off x="150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>
              <a:off x="147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H="1">
              <a:off x="144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>
              <a:off x="14061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>
              <a:off x="137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H="1">
              <a:off x="133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H="1">
              <a:off x="130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127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H="1">
              <a:off x="1238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120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H="1">
              <a:off x="117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113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110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106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103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H="1">
              <a:off x="1003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H="1">
              <a:off x="96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flipH="1">
              <a:off x="93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H="1">
              <a:off x="90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>
              <a:off x="86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H="1">
              <a:off x="83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16120" y="6380280"/>
              <a:ext cx="144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V="1">
              <a:off x="816120" y="6346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V="1">
              <a:off x="816120" y="6311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V="1">
              <a:off x="816120" y="6278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816120" y="6245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V="1">
              <a:off x="816120" y="6211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816120" y="6178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816120" y="6143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816120" y="6109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816120" y="6076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816120" y="6043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816120" y="6010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816120" y="5977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816120" y="5942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816120" y="5908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816120" y="5874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V="1">
              <a:off x="816120" y="5842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816120" y="5808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816120" y="5775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816120" y="5740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V="1">
              <a:off x="816120" y="5707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816120" y="5673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816120" y="5640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V="1">
              <a:off x="816120" y="5607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V="1">
              <a:off x="816120" y="5571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816120" y="5538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816120" y="5505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816120" y="5471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816120" y="5438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816120" y="5405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816120" y="5370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816120" y="5336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816120" y="5303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816120" y="5270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816120" y="5237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816120" y="5203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V="1">
              <a:off x="816120" y="5168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V="1">
              <a:off x="816120" y="5135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816120" y="5102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816120" y="5068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816120" y="5035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816120" y="5000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816120" y="4966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816120" y="4933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816120" y="4900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V="1">
              <a:off x="816120" y="4867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816120" y="4834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816120" y="4799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816120" y="4765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816120" y="4731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816120" y="4699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816120" y="4665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V="1">
              <a:off x="816120" y="4632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816120" y="4597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V="1">
              <a:off x="816120" y="4564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816120" y="4530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816120" y="4497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816120" y="4464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816120" y="4428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816120" y="4395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816120" y="4362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816120" y="4328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V="1">
              <a:off x="816120" y="4295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816120" y="4262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816120" y="4227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816120" y="4193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816120" y="4160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816120" y="4127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816120" y="4094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816120" y="4060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V="1">
              <a:off x="816120" y="4025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816120" y="3992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816120" y="3959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816120" y="3925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V="1">
              <a:off x="816120" y="3892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816120" y="3857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816120" y="3823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816120" y="3790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816120" y="3757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816120" y="3724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V="1">
              <a:off x="816120" y="3691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V="1">
              <a:off x="816120" y="3656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816120" y="3622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816120" y="3588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930960" y="4233960"/>
              <a:ext cx="450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465800" y="4622760"/>
              <a:ext cx="1555560" cy="233280"/>
            </a:xfrm>
            <a:custGeom>
              <a:avLst/>
              <a:gdLst/>
              <a:ahLst/>
              <a:rect l="l" t="t" r="r" b="b"/>
              <a:pathLst>
                <a:path w="1960" h="293">
                  <a:moveTo>
                    <a:pt x="72" y="276"/>
                  </a:moveTo>
                  <a:lnTo>
                    <a:pt x="60" y="272"/>
                  </a:lnTo>
                  <a:lnTo>
                    <a:pt x="47" y="262"/>
                  </a:lnTo>
                  <a:lnTo>
                    <a:pt x="37" y="247"/>
                  </a:lnTo>
                  <a:lnTo>
                    <a:pt x="30" y="226"/>
                  </a:lnTo>
                  <a:lnTo>
                    <a:pt x="23" y="202"/>
                  </a:lnTo>
                  <a:lnTo>
                    <a:pt x="19" y="175"/>
                  </a:lnTo>
                  <a:lnTo>
                    <a:pt x="17" y="147"/>
                  </a:lnTo>
                  <a:lnTo>
                    <a:pt x="19" y="119"/>
                  </a:lnTo>
                  <a:lnTo>
                    <a:pt x="23" y="92"/>
                  </a:lnTo>
                  <a:lnTo>
                    <a:pt x="30" y="67"/>
                  </a:lnTo>
                  <a:lnTo>
                    <a:pt x="37" y="46"/>
                  </a:lnTo>
                  <a:lnTo>
                    <a:pt x="47" y="32"/>
                  </a:lnTo>
                  <a:lnTo>
                    <a:pt x="60" y="22"/>
                  </a:lnTo>
                  <a:lnTo>
                    <a:pt x="72" y="18"/>
                  </a:lnTo>
                  <a:lnTo>
                    <a:pt x="85" y="22"/>
                  </a:lnTo>
                  <a:lnTo>
                    <a:pt x="97" y="32"/>
                  </a:lnTo>
                  <a:lnTo>
                    <a:pt x="106" y="46"/>
                  </a:lnTo>
                  <a:lnTo>
                    <a:pt x="115" y="67"/>
                  </a:lnTo>
                  <a:lnTo>
                    <a:pt x="122" y="92"/>
                  </a:lnTo>
                  <a:lnTo>
                    <a:pt x="125" y="119"/>
                  </a:lnTo>
                  <a:lnTo>
                    <a:pt x="127" y="147"/>
                  </a:lnTo>
                  <a:lnTo>
                    <a:pt x="125" y="175"/>
                  </a:lnTo>
                  <a:lnTo>
                    <a:pt x="122" y="202"/>
                  </a:lnTo>
                  <a:lnTo>
                    <a:pt x="115" y="226"/>
                  </a:lnTo>
                  <a:lnTo>
                    <a:pt x="106" y="247"/>
                  </a:lnTo>
                  <a:lnTo>
                    <a:pt x="97" y="262"/>
                  </a:lnTo>
                  <a:lnTo>
                    <a:pt x="85" y="272"/>
                  </a:lnTo>
                  <a:lnTo>
                    <a:pt x="72" y="276"/>
                  </a:lnTo>
                  <a:close/>
                  <a:moveTo>
                    <a:pt x="72" y="0"/>
                  </a:moveTo>
                  <a:lnTo>
                    <a:pt x="1887" y="0"/>
                  </a:lnTo>
                  <a:lnTo>
                    <a:pt x="1903" y="4"/>
                  </a:lnTo>
                  <a:lnTo>
                    <a:pt x="1917" y="13"/>
                  </a:lnTo>
                  <a:lnTo>
                    <a:pt x="1930" y="29"/>
                  </a:lnTo>
                  <a:lnTo>
                    <a:pt x="1942" y="48"/>
                  </a:lnTo>
                  <a:lnTo>
                    <a:pt x="1951" y="73"/>
                  </a:lnTo>
                  <a:lnTo>
                    <a:pt x="1958" y="101"/>
                  </a:lnTo>
                  <a:lnTo>
                    <a:pt x="1960" y="131"/>
                  </a:lnTo>
                  <a:lnTo>
                    <a:pt x="1960" y="163"/>
                  </a:lnTo>
                  <a:lnTo>
                    <a:pt x="1958" y="193"/>
                  </a:lnTo>
                  <a:lnTo>
                    <a:pt x="1951" y="221"/>
                  </a:lnTo>
                  <a:lnTo>
                    <a:pt x="1942" y="246"/>
                  </a:lnTo>
                  <a:lnTo>
                    <a:pt x="1930" y="265"/>
                  </a:lnTo>
                  <a:lnTo>
                    <a:pt x="1917" y="281"/>
                  </a:lnTo>
                  <a:lnTo>
                    <a:pt x="1903" y="290"/>
                  </a:lnTo>
                  <a:lnTo>
                    <a:pt x="1887" y="293"/>
                  </a:lnTo>
                  <a:lnTo>
                    <a:pt x="72" y="293"/>
                  </a:lnTo>
                  <a:lnTo>
                    <a:pt x="56" y="290"/>
                  </a:lnTo>
                  <a:lnTo>
                    <a:pt x="42" y="281"/>
                  </a:lnTo>
                  <a:lnTo>
                    <a:pt x="28" y="265"/>
                  </a:lnTo>
                  <a:lnTo>
                    <a:pt x="17" y="246"/>
                  </a:lnTo>
                  <a:lnTo>
                    <a:pt x="9" y="221"/>
                  </a:lnTo>
                  <a:lnTo>
                    <a:pt x="1" y="193"/>
                  </a:lnTo>
                  <a:lnTo>
                    <a:pt x="0" y="163"/>
                  </a:lnTo>
                  <a:lnTo>
                    <a:pt x="0" y="131"/>
                  </a:lnTo>
                  <a:lnTo>
                    <a:pt x="1" y="101"/>
                  </a:lnTo>
                  <a:lnTo>
                    <a:pt x="9" y="73"/>
                  </a:lnTo>
                  <a:lnTo>
                    <a:pt x="17" y="48"/>
                  </a:lnTo>
                  <a:lnTo>
                    <a:pt x="28" y="29"/>
                  </a:lnTo>
                  <a:lnTo>
                    <a:pt x="42" y="13"/>
                  </a:lnTo>
                  <a:lnTo>
                    <a:pt x="56" y="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614760" y="4738680"/>
              <a:ext cx="162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862520" y="4738680"/>
              <a:ext cx="379440" cy="777960"/>
            </a:xfrm>
            <a:custGeom>
              <a:avLst/>
              <a:gdLst/>
              <a:ahLst/>
              <a:rect l="l" t="t" r="r" b="b"/>
              <a:pathLst>
                <a:path w="479" h="979">
                  <a:moveTo>
                    <a:pt x="0" y="979"/>
                  </a:moveTo>
                  <a:lnTo>
                    <a:pt x="0" y="0"/>
                  </a:lnTo>
                  <a:lnTo>
                    <a:pt x="47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241960" y="4738680"/>
              <a:ext cx="182520" cy="777960"/>
            </a:xfrm>
            <a:custGeom>
              <a:avLst/>
              <a:gdLst/>
              <a:ahLst/>
              <a:rect l="l" t="t" r="r" b="b"/>
              <a:pathLst>
                <a:path w="230" h="979">
                  <a:moveTo>
                    <a:pt x="230" y="979"/>
                  </a:moveTo>
                  <a:lnTo>
                    <a:pt x="23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5241960" y="4738680"/>
              <a:ext cx="3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241960" y="3656160"/>
              <a:ext cx="253800" cy="1082520"/>
            </a:xfrm>
            <a:custGeom>
              <a:avLst/>
              <a:gdLst/>
              <a:ahLst/>
              <a:rect l="l" t="t" r="r" b="b"/>
              <a:pathLst>
                <a:path w="320" h="1364">
                  <a:moveTo>
                    <a:pt x="320" y="0"/>
                  </a:moveTo>
                  <a:lnTo>
                    <a:pt x="320" y="1364"/>
                  </a:lnTo>
                  <a:lnTo>
                    <a:pt x="0" y="136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113440" y="4738680"/>
              <a:ext cx="128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5241960" y="4738680"/>
              <a:ext cx="1015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635360" y="4675320"/>
              <a:ext cx="1216080" cy="128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705200" y="4683240"/>
              <a:ext cx="1128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P INTERNET BACKB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311120" y="1380960"/>
              <a:ext cx="2573640" cy="1295640"/>
            </a:xfrm>
            <a:custGeom>
              <a:avLst/>
              <a:gdLst/>
              <a:ahLst/>
              <a:rect l="l" t="t" r="r" b="b"/>
              <a:pathLst>
                <a:path w="3241" h="1630">
                  <a:moveTo>
                    <a:pt x="477" y="1210"/>
                  </a:moveTo>
                  <a:lnTo>
                    <a:pt x="514" y="1274"/>
                  </a:lnTo>
                  <a:lnTo>
                    <a:pt x="555" y="1334"/>
                  </a:lnTo>
                  <a:lnTo>
                    <a:pt x="602" y="1389"/>
                  </a:lnTo>
                  <a:lnTo>
                    <a:pt x="654" y="1440"/>
                  </a:lnTo>
                  <a:lnTo>
                    <a:pt x="708" y="1486"/>
                  </a:lnTo>
                  <a:lnTo>
                    <a:pt x="769" y="1525"/>
                  </a:lnTo>
                  <a:lnTo>
                    <a:pt x="830" y="1558"/>
                  </a:lnTo>
                  <a:lnTo>
                    <a:pt x="896" y="1586"/>
                  </a:lnTo>
                  <a:lnTo>
                    <a:pt x="963" y="1608"/>
                  </a:lnTo>
                  <a:lnTo>
                    <a:pt x="1030" y="1622"/>
                  </a:lnTo>
                  <a:lnTo>
                    <a:pt x="1101" y="1630"/>
                  </a:lnTo>
                  <a:lnTo>
                    <a:pt x="1170" y="1630"/>
                  </a:lnTo>
                  <a:lnTo>
                    <a:pt x="1239" y="1625"/>
                  </a:lnTo>
                  <a:lnTo>
                    <a:pt x="1308" y="1613"/>
                  </a:lnTo>
                  <a:lnTo>
                    <a:pt x="1377" y="1593"/>
                  </a:lnTo>
                  <a:lnTo>
                    <a:pt x="1442" y="1567"/>
                  </a:lnTo>
                  <a:lnTo>
                    <a:pt x="1504" y="1535"/>
                  </a:lnTo>
                  <a:lnTo>
                    <a:pt x="1564" y="1496"/>
                  </a:lnTo>
                  <a:lnTo>
                    <a:pt x="1620" y="1452"/>
                  </a:lnTo>
                  <a:lnTo>
                    <a:pt x="1677" y="1496"/>
                  </a:lnTo>
                  <a:lnTo>
                    <a:pt x="1737" y="1535"/>
                  </a:lnTo>
                  <a:lnTo>
                    <a:pt x="1801" y="1567"/>
                  </a:lnTo>
                  <a:lnTo>
                    <a:pt x="1866" y="1593"/>
                  </a:lnTo>
                  <a:lnTo>
                    <a:pt x="1933" y="1613"/>
                  </a:lnTo>
                  <a:lnTo>
                    <a:pt x="2002" y="1625"/>
                  </a:lnTo>
                  <a:lnTo>
                    <a:pt x="2071" y="1630"/>
                  </a:lnTo>
                  <a:lnTo>
                    <a:pt x="2142" y="1630"/>
                  </a:lnTo>
                  <a:lnTo>
                    <a:pt x="2211" y="1622"/>
                  </a:lnTo>
                  <a:lnTo>
                    <a:pt x="2280" y="1608"/>
                  </a:lnTo>
                  <a:lnTo>
                    <a:pt x="2345" y="1586"/>
                  </a:lnTo>
                  <a:lnTo>
                    <a:pt x="2410" y="1558"/>
                  </a:lnTo>
                  <a:lnTo>
                    <a:pt x="2472" y="1525"/>
                  </a:lnTo>
                  <a:lnTo>
                    <a:pt x="2532" y="1486"/>
                  </a:lnTo>
                  <a:lnTo>
                    <a:pt x="2587" y="1440"/>
                  </a:lnTo>
                  <a:lnTo>
                    <a:pt x="2638" y="1389"/>
                  </a:lnTo>
                  <a:lnTo>
                    <a:pt x="2686" y="1334"/>
                  </a:lnTo>
                  <a:lnTo>
                    <a:pt x="2727" y="1274"/>
                  </a:lnTo>
                  <a:lnTo>
                    <a:pt x="2764" y="1210"/>
                  </a:lnTo>
                  <a:lnTo>
                    <a:pt x="2813" y="1219"/>
                  </a:lnTo>
                  <a:lnTo>
                    <a:pt x="2863" y="1223"/>
                  </a:lnTo>
                  <a:lnTo>
                    <a:pt x="2912" y="1219"/>
                  </a:lnTo>
                  <a:lnTo>
                    <a:pt x="2960" y="1209"/>
                  </a:lnTo>
                  <a:lnTo>
                    <a:pt x="3008" y="1191"/>
                  </a:lnTo>
                  <a:lnTo>
                    <a:pt x="3052" y="1168"/>
                  </a:lnTo>
                  <a:lnTo>
                    <a:pt x="3093" y="1138"/>
                  </a:lnTo>
                  <a:lnTo>
                    <a:pt x="3130" y="1103"/>
                  </a:lnTo>
                  <a:lnTo>
                    <a:pt x="3163" y="1062"/>
                  </a:lnTo>
                  <a:lnTo>
                    <a:pt x="3190" y="1018"/>
                  </a:lnTo>
                  <a:lnTo>
                    <a:pt x="3211" y="970"/>
                  </a:lnTo>
                  <a:lnTo>
                    <a:pt x="3227" y="919"/>
                  </a:lnTo>
                  <a:lnTo>
                    <a:pt x="3238" y="868"/>
                  </a:lnTo>
                  <a:lnTo>
                    <a:pt x="3241" y="815"/>
                  </a:lnTo>
                  <a:lnTo>
                    <a:pt x="3238" y="762"/>
                  </a:lnTo>
                  <a:lnTo>
                    <a:pt x="3227" y="709"/>
                  </a:lnTo>
                  <a:lnTo>
                    <a:pt x="3211" y="660"/>
                  </a:lnTo>
                  <a:lnTo>
                    <a:pt x="3190" y="612"/>
                  </a:lnTo>
                  <a:lnTo>
                    <a:pt x="3163" y="568"/>
                  </a:lnTo>
                  <a:lnTo>
                    <a:pt x="3130" y="528"/>
                  </a:lnTo>
                  <a:lnTo>
                    <a:pt x="3093" y="492"/>
                  </a:lnTo>
                  <a:lnTo>
                    <a:pt x="3052" y="462"/>
                  </a:lnTo>
                  <a:lnTo>
                    <a:pt x="3008" y="439"/>
                  </a:lnTo>
                  <a:lnTo>
                    <a:pt x="2960" y="422"/>
                  </a:lnTo>
                  <a:lnTo>
                    <a:pt x="2912" y="411"/>
                  </a:lnTo>
                  <a:lnTo>
                    <a:pt x="2863" y="407"/>
                  </a:lnTo>
                  <a:lnTo>
                    <a:pt x="2813" y="409"/>
                  </a:lnTo>
                  <a:lnTo>
                    <a:pt x="2764" y="420"/>
                  </a:lnTo>
                  <a:lnTo>
                    <a:pt x="2727" y="356"/>
                  </a:lnTo>
                  <a:lnTo>
                    <a:pt x="2686" y="296"/>
                  </a:lnTo>
                  <a:lnTo>
                    <a:pt x="2638" y="242"/>
                  </a:lnTo>
                  <a:lnTo>
                    <a:pt x="2587" y="190"/>
                  </a:lnTo>
                  <a:lnTo>
                    <a:pt x="2532" y="145"/>
                  </a:lnTo>
                  <a:lnTo>
                    <a:pt x="2472" y="106"/>
                  </a:lnTo>
                  <a:lnTo>
                    <a:pt x="2410" y="70"/>
                  </a:lnTo>
                  <a:lnTo>
                    <a:pt x="2345" y="44"/>
                  </a:lnTo>
                  <a:lnTo>
                    <a:pt x="2280" y="23"/>
                  </a:lnTo>
                  <a:lnTo>
                    <a:pt x="2211" y="7"/>
                  </a:lnTo>
                  <a:lnTo>
                    <a:pt x="2142" y="0"/>
                  </a:lnTo>
                  <a:lnTo>
                    <a:pt x="2071" y="0"/>
                  </a:lnTo>
                  <a:lnTo>
                    <a:pt x="2002" y="5"/>
                  </a:lnTo>
                  <a:lnTo>
                    <a:pt x="1933" y="17"/>
                  </a:lnTo>
                  <a:lnTo>
                    <a:pt x="1866" y="37"/>
                  </a:lnTo>
                  <a:lnTo>
                    <a:pt x="1801" y="63"/>
                  </a:lnTo>
                  <a:lnTo>
                    <a:pt x="1737" y="95"/>
                  </a:lnTo>
                  <a:lnTo>
                    <a:pt x="1677" y="134"/>
                  </a:lnTo>
                  <a:lnTo>
                    <a:pt x="1620" y="178"/>
                  </a:lnTo>
                  <a:lnTo>
                    <a:pt x="1564" y="134"/>
                  </a:lnTo>
                  <a:lnTo>
                    <a:pt x="1504" y="95"/>
                  </a:lnTo>
                  <a:lnTo>
                    <a:pt x="1442" y="63"/>
                  </a:lnTo>
                  <a:lnTo>
                    <a:pt x="1377" y="37"/>
                  </a:lnTo>
                  <a:lnTo>
                    <a:pt x="1308" y="17"/>
                  </a:lnTo>
                  <a:lnTo>
                    <a:pt x="1239" y="5"/>
                  </a:lnTo>
                  <a:lnTo>
                    <a:pt x="1170" y="0"/>
                  </a:lnTo>
                  <a:lnTo>
                    <a:pt x="1101" y="0"/>
                  </a:lnTo>
                  <a:lnTo>
                    <a:pt x="1030" y="7"/>
                  </a:lnTo>
                  <a:lnTo>
                    <a:pt x="963" y="23"/>
                  </a:lnTo>
                  <a:lnTo>
                    <a:pt x="896" y="44"/>
                  </a:lnTo>
                  <a:lnTo>
                    <a:pt x="830" y="70"/>
                  </a:lnTo>
                  <a:lnTo>
                    <a:pt x="769" y="106"/>
                  </a:lnTo>
                  <a:lnTo>
                    <a:pt x="708" y="145"/>
                  </a:lnTo>
                  <a:lnTo>
                    <a:pt x="654" y="190"/>
                  </a:lnTo>
                  <a:lnTo>
                    <a:pt x="602" y="242"/>
                  </a:lnTo>
                  <a:lnTo>
                    <a:pt x="555" y="296"/>
                  </a:lnTo>
                  <a:lnTo>
                    <a:pt x="514" y="356"/>
                  </a:lnTo>
                  <a:lnTo>
                    <a:pt x="477" y="420"/>
                  </a:lnTo>
                  <a:lnTo>
                    <a:pt x="427" y="409"/>
                  </a:lnTo>
                  <a:lnTo>
                    <a:pt x="378" y="407"/>
                  </a:lnTo>
                  <a:lnTo>
                    <a:pt x="329" y="411"/>
                  </a:lnTo>
                  <a:lnTo>
                    <a:pt x="281" y="422"/>
                  </a:lnTo>
                  <a:lnTo>
                    <a:pt x="233" y="439"/>
                  </a:lnTo>
                  <a:lnTo>
                    <a:pt x="189" y="462"/>
                  </a:lnTo>
                  <a:lnTo>
                    <a:pt x="148" y="492"/>
                  </a:lnTo>
                  <a:lnTo>
                    <a:pt x="111" y="528"/>
                  </a:lnTo>
                  <a:lnTo>
                    <a:pt x="79" y="568"/>
                  </a:lnTo>
                  <a:lnTo>
                    <a:pt x="51" y="612"/>
                  </a:lnTo>
                  <a:lnTo>
                    <a:pt x="30" y="660"/>
                  </a:lnTo>
                  <a:lnTo>
                    <a:pt x="14" y="709"/>
                  </a:lnTo>
                  <a:lnTo>
                    <a:pt x="3" y="762"/>
                  </a:lnTo>
                  <a:lnTo>
                    <a:pt x="0" y="815"/>
                  </a:lnTo>
                  <a:lnTo>
                    <a:pt x="3" y="868"/>
                  </a:lnTo>
                  <a:lnTo>
                    <a:pt x="14" y="919"/>
                  </a:lnTo>
                  <a:lnTo>
                    <a:pt x="30" y="970"/>
                  </a:lnTo>
                  <a:lnTo>
                    <a:pt x="51" y="1018"/>
                  </a:lnTo>
                  <a:lnTo>
                    <a:pt x="79" y="1062"/>
                  </a:lnTo>
                  <a:lnTo>
                    <a:pt x="111" y="1103"/>
                  </a:lnTo>
                  <a:lnTo>
                    <a:pt x="148" y="1138"/>
                  </a:lnTo>
                  <a:lnTo>
                    <a:pt x="189" y="1168"/>
                  </a:lnTo>
                  <a:lnTo>
                    <a:pt x="233" y="1191"/>
                  </a:lnTo>
                  <a:lnTo>
                    <a:pt x="281" y="1209"/>
                  </a:lnTo>
                  <a:lnTo>
                    <a:pt x="329" y="1219"/>
                  </a:lnTo>
                  <a:lnTo>
                    <a:pt x="378" y="1223"/>
                  </a:lnTo>
                  <a:lnTo>
                    <a:pt x="427" y="1219"/>
                  </a:lnTo>
                  <a:lnTo>
                    <a:pt x="477" y="121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359720" y="18288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NAT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399320" y="2025720"/>
              <a:ext cx="851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395360" y="3879720"/>
              <a:ext cx="166680" cy="1987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407960" y="3892680"/>
              <a:ext cx="49320" cy="17280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6"/>
                  </a:lnTo>
                  <a:lnTo>
                    <a:pt x="62" y="171"/>
                  </a:lnTo>
                  <a:lnTo>
                    <a:pt x="62" y="210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0"/>
                  </a:lnTo>
                  <a:lnTo>
                    <a:pt x="0" y="171"/>
                  </a:lnTo>
                  <a:lnTo>
                    <a:pt x="9" y="156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471680" y="3892680"/>
              <a:ext cx="75960" cy="172800"/>
            </a:xfrm>
            <a:custGeom>
              <a:avLst/>
              <a:gdLst/>
              <a:ahLst/>
              <a:rect l="l" t="t" r="r" b="b"/>
              <a:pathLst>
                <a:path w="96" h="219">
                  <a:moveTo>
                    <a:pt x="0" y="78"/>
                  </a:moveTo>
                  <a:lnTo>
                    <a:pt x="43" y="78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2" y="78"/>
                  </a:moveTo>
                  <a:lnTo>
                    <a:pt x="96" y="78"/>
                  </a:lnTo>
                  <a:lnTo>
                    <a:pt x="96" y="0"/>
                  </a:lnTo>
                  <a:lnTo>
                    <a:pt x="52" y="0"/>
                  </a:lnTo>
                  <a:lnTo>
                    <a:pt x="52" y="78"/>
                  </a:lnTo>
                  <a:close/>
                  <a:moveTo>
                    <a:pt x="0" y="219"/>
                  </a:moveTo>
                  <a:lnTo>
                    <a:pt x="96" y="219"/>
                  </a:lnTo>
                  <a:lnTo>
                    <a:pt x="96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471680" y="3990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2" name=""/>
          <p:cNvGrpSpPr/>
          <p:nvPr/>
        </p:nvGrpSpPr>
        <p:grpSpPr>
          <a:xfrm>
            <a:off x="1000080" y="272880"/>
            <a:ext cx="7134120" cy="6121440"/>
            <a:chOff x="1000080" y="272880"/>
            <a:chExt cx="7134120" cy="6121440"/>
          </a:xfrm>
        </p:grpSpPr>
        <p:sp>
          <p:nvSpPr>
            <p:cNvPr id="2623" name=""/>
            <p:cNvSpPr/>
            <p:nvPr/>
          </p:nvSpPr>
          <p:spPr>
            <a:xfrm>
              <a:off x="1471680" y="39844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471680" y="39783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471680" y="39718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471680" y="396540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512720" y="390672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512720" y="393876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512720" y="392256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471680" y="390672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471680" y="3938760"/>
              <a:ext cx="33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471680" y="392256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471680" y="404964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471680" y="403560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471680" y="4017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522440" y="4002120"/>
              <a:ext cx="14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496880" y="4002120"/>
              <a:ext cx="18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249200" y="4116240"/>
              <a:ext cx="459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297440" y="412416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052800" y="438120"/>
              <a:ext cx="496800" cy="495360"/>
            </a:xfrm>
            <a:custGeom>
              <a:avLst/>
              <a:gdLst/>
              <a:ahLst/>
              <a:rect l="l" t="t" r="r" b="b"/>
              <a:pathLst>
                <a:path w="626" h="625">
                  <a:moveTo>
                    <a:pt x="136" y="412"/>
                  </a:moveTo>
                  <a:lnTo>
                    <a:pt x="0" y="412"/>
                  </a:lnTo>
                  <a:lnTo>
                    <a:pt x="0" y="625"/>
                  </a:lnTo>
                  <a:lnTo>
                    <a:pt x="626" y="625"/>
                  </a:lnTo>
                  <a:lnTo>
                    <a:pt x="626" y="412"/>
                  </a:lnTo>
                  <a:lnTo>
                    <a:pt x="488" y="412"/>
                  </a:lnTo>
                  <a:lnTo>
                    <a:pt x="488" y="382"/>
                  </a:lnTo>
                  <a:lnTo>
                    <a:pt x="548" y="382"/>
                  </a:lnTo>
                  <a:lnTo>
                    <a:pt x="548" y="0"/>
                  </a:lnTo>
                  <a:lnTo>
                    <a:pt x="78" y="0"/>
                  </a:lnTo>
                  <a:lnTo>
                    <a:pt x="78" y="382"/>
                  </a:lnTo>
                  <a:lnTo>
                    <a:pt x="136" y="382"/>
                  </a:lnTo>
                  <a:lnTo>
                    <a:pt x="136" y="41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160800" y="76356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160800" y="73980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308400" y="779400"/>
              <a:ext cx="201600" cy="138240"/>
            </a:xfrm>
            <a:custGeom>
              <a:avLst/>
              <a:gdLst/>
              <a:ahLst/>
              <a:rect l="l" t="t" r="r" b="b"/>
              <a:pathLst>
                <a:path w="254" h="175">
                  <a:moveTo>
                    <a:pt x="0" y="175"/>
                  </a:moveTo>
                  <a:lnTo>
                    <a:pt x="206" y="175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175"/>
                  </a:lnTo>
                  <a:close/>
                  <a:moveTo>
                    <a:pt x="226" y="28"/>
                  </a:moveTo>
                  <a:lnTo>
                    <a:pt x="254" y="28"/>
                  </a:lnTo>
                  <a:lnTo>
                    <a:pt x="254" y="0"/>
                  </a:lnTo>
                  <a:lnTo>
                    <a:pt x="226" y="0"/>
                  </a:lnTo>
                  <a:lnTo>
                    <a:pt x="22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308400" y="82548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308400" y="87156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6320" y="849240"/>
              <a:ext cx="147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402000" y="833400"/>
              <a:ext cx="46080" cy="31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068640" y="473040"/>
              <a:ext cx="465120" cy="333360"/>
            </a:xfrm>
            <a:custGeom>
              <a:avLst/>
              <a:gdLst/>
              <a:ahLst/>
              <a:rect l="l" t="t" r="r" b="b"/>
              <a:pathLst>
                <a:path w="587" h="420">
                  <a:moveTo>
                    <a:pt x="492" y="300"/>
                  </a:moveTo>
                  <a:lnTo>
                    <a:pt x="513" y="300"/>
                  </a:lnTo>
                  <a:lnTo>
                    <a:pt x="513" y="292"/>
                  </a:lnTo>
                  <a:lnTo>
                    <a:pt x="492" y="292"/>
                  </a:lnTo>
                  <a:lnTo>
                    <a:pt x="492" y="300"/>
                  </a:lnTo>
                  <a:close/>
                  <a:moveTo>
                    <a:pt x="131" y="248"/>
                  </a:moveTo>
                  <a:lnTo>
                    <a:pt x="131" y="30"/>
                  </a:lnTo>
                  <a:lnTo>
                    <a:pt x="455" y="30"/>
                  </a:lnTo>
                  <a:lnTo>
                    <a:pt x="455" y="248"/>
                  </a:lnTo>
                  <a:lnTo>
                    <a:pt x="131" y="248"/>
                  </a:lnTo>
                  <a:close/>
                  <a:moveTo>
                    <a:pt x="117" y="264"/>
                  </a:moveTo>
                  <a:lnTo>
                    <a:pt x="469" y="264"/>
                  </a:lnTo>
                  <a:lnTo>
                    <a:pt x="469" y="14"/>
                  </a:lnTo>
                  <a:lnTo>
                    <a:pt x="485" y="14"/>
                  </a:lnTo>
                  <a:lnTo>
                    <a:pt x="485" y="0"/>
                  </a:lnTo>
                  <a:lnTo>
                    <a:pt x="103" y="0"/>
                  </a:lnTo>
                  <a:lnTo>
                    <a:pt x="103" y="278"/>
                  </a:lnTo>
                  <a:lnTo>
                    <a:pt x="117" y="278"/>
                  </a:lnTo>
                  <a:lnTo>
                    <a:pt x="117" y="264"/>
                  </a:lnTo>
                  <a:close/>
                  <a:moveTo>
                    <a:pt x="0" y="405"/>
                  </a:moveTo>
                  <a:lnTo>
                    <a:pt x="59" y="405"/>
                  </a:lnTo>
                  <a:lnTo>
                    <a:pt x="59" y="386"/>
                  </a:lnTo>
                  <a:lnTo>
                    <a:pt x="0" y="386"/>
                  </a:lnTo>
                  <a:lnTo>
                    <a:pt x="0" y="405"/>
                  </a:lnTo>
                  <a:close/>
                  <a:moveTo>
                    <a:pt x="342" y="420"/>
                  </a:moveTo>
                  <a:lnTo>
                    <a:pt x="469" y="420"/>
                  </a:lnTo>
                  <a:lnTo>
                    <a:pt x="469" y="411"/>
                  </a:lnTo>
                  <a:lnTo>
                    <a:pt x="342" y="411"/>
                  </a:lnTo>
                  <a:lnTo>
                    <a:pt x="342" y="420"/>
                  </a:lnTo>
                  <a:close/>
                  <a:moveTo>
                    <a:pt x="568" y="395"/>
                  </a:moveTo>
                  <a:lnTo>
                    <a:pt x="587" y="395"/>
                  </a:lnTo>
                  <a:lnTo>
                    <a:pt x="587" y="386"/>
                  </a:lnTo>
                  <a:lnTo>
                    <a:pt x="568" y="386"/>
                  </a:lnTo>
                  <a:lnTo>
                    <a:pt x="568" y="395"/>
                  </a:lnTo>
                  <a:close/>
                  <a:moveTo>
                    <a:pt x="568" y="414"/>
                  </a:moveTo>
                  <a:lnTo>
                    <a:pt x="587" y="414"/>
                  </a:lnTo>
                  <a:lnTo>
                    <a:pt x="587" y="405"/>
                  </a:lnTo>
                  <a:lnTo>
                    <a:pt x="568" y="405"/>
                  </a:lnTo>
                  <a:lnTo>
                    <a:pt x="568" y="4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114720" y="723960"/>
              <a:ext cx="37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32068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V="1">
              <a:off x="33004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00480" y="973080"/>
              <a:ext cx="4302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348360" y="98100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508920" y="109368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 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440880" y="120492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110360" y="272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110360" y="482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110360" y="558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110360" y="768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110360" y="844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110360" y="1054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110360" y="1130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110360" y="1339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110360" y="1415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110360" y="1625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110360" y="1701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110360" y="1911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110360" y="1987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110360" y="2197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110360" y="2273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110360" y="2482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110360" y="2558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110360" y="2768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110360" y="2844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110360" y="3054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110360" y="3130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110360" y="3340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110360" y="3416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110360" y="3625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110360" y="3701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110360" y="3911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110360" y="3987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110360" y="4197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110360" y="4273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110360" y="4483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110360" y="4559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110360" y="4768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110360" y="4844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110360" y="5054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110360" y="5130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110360" y="5340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110360" y="5416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110360" y="5626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110360" y="5702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110360" y="5911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110360" y="5987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110360" y="6197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110360" y="6273720"/>
              <a:ext cx="1800" cy="120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rot="5400000">
              <a:off x="6785280" y="328140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und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146240" y="901800"/>
              <a:ext cx="164880" cy="198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1160640" y="914400"/>
              <a:ext cx="48960" cy="17316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7"/>
                  </a:lnTo>
                  <a:lnTo>
                    <a:pt x="62" y="172"/>
                  </a:lnTo>
                  <a:lnTo>
                    <a:pt x="62" y="212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2"/>
                  </a:lnTo>
                  <a:lnTo>
                    <a:pt x="0" y="172"/>
                  </a:lnTo>
                  <a:lnTo>
                    <a:pt x="9" y="157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222200" y="914400"/>
              <a:ext cx="76320" cy="173160"/>
            </a:xfrm>
            <a:custGeom>
              <a:avLst/>
              <a:gdLst/>
              <a:ahLst/>
              <a:rect l="l" t="t" r="r" b="b"/>
              <a:pathLst>
                <a:path w="97" h="219">
                  <a:moveTo>
                    <a:pt x="0" y="78"/>
                  </a:moveTo>
                  <a:lnTo>
                    <a:pt x="44" y="78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3" y="78"/>
                  </a:moveTo>
                  <a:lnTo>
                    <a:pt x="97" y="78"/>
                  </a:lnTo>
                  <a:lnTo>
                    <a:pt x="97" y="0"/>
                  </a:lnTo>
                  <a:lnTo>
                    <a:pt x="53" y="0"/>
                  </a:lnTo>
                  <a:lnTo>
                    <a:pt x="53" y="78"/>
                  </a:lnTo>
                  <a:close/>
                  <a:moveTo>
                    <a:pt x="0" y="219"/>
                  </a:moveTo>
                  <a:lnTo>
                    <a:pt x="97" y="219"/>
                  </a:lnTo>
                  <a:lnTo>
                    <a:pt x="97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222200" y="1012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222200" y="100656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222200" y="10000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222200" y="99540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222200" y="98748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263600" y="92880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263600" y="96048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263600" y="94464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222200" y="9288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222200" y="9604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222200" y="9446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222200" y="10717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222200" y="10573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222200" y="1039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274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247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000080" y="1138320"/>
              <a:ext cx="4590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049760" y="114624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292720" y="5516640"/>
              <a:ext cx="662040" cy="496800"/>
            </a:xfrm>
            <a:custGeom>
              <a:avLst/>
              <a:gdLst/>
              <a:ahLst/>
              <a:rect l="l" t="t" r="r" b="b"/>
              <a:pathLst>
                <a:path w="835" h="625">
                  <a:moveTo>
                    <a:pt x="0" y="625"/>
                  </a:moveTo>
                  <a:lnTo>
                    <a:pt x="0" y="613"/>
                  </a:lnTo>
                  <a:lnTo>
                    <a:pt x="84" y="574"/>
                  </a:lnTo>
                  <a:lnTo>
                    <a:pt x="84" y="0"/>
                  </a:lnTo>
                  <a:lnTo>
                    <a:pt x="306" y="0"/>
                  </a:lnTo>
                  <a:lnTo>
                    <a:pt x="306" y="574"/>
                  </a:lnTo>
                  <a:lnTo>
                    <a:pt x="396" y="613"/>
                  </a:lnTo>
                  <a:lnTo>
                    <a:pt x="396" y="625"/>
                  </a:lnTo>
                  <a:lnTo>
                    <a:pt x="0" y="625"/>
                  </a:lnTo>
                  <a:close/>
                  <a:moveTo>
                    <a:pt x="334" y="539"/>
                  </a:moveTo>
                  <a:lnTo>
                    <a:pt x="412" y="539"/>
                  </a:lnTo>
                  <a:lnTo>
                    <a:pt x="499" y="560"/>
                  </a:lnTo>
                  <a:lnTo>
                    <a:pt x="499" y="604"/>
                  </a:lnTo>
                  <a:lnTo>
                    <a:pt x="412" y="604"/>
                  </a:lnTo>
                  <a:lnTo>
                    <a:pt x="412" y="625"/>
                  </a:lnTo>
                  <a:lnTo>
                    <a:pt x="757" y="625"/>
                  </a:lnTo>
                  <a:lnTo>
                    <a:pt x="757" y="604"/>
                  </a:lnTo>
                  <a:lnTo>
                    <a:pt x="670" y="604"/>
                  </a:lnTo>
                  <a:lnTo>
                    <a:pt x="670" y="560"/>
                  </a:lnTo>
                  <a:lnTo>
                    <a:pt x="757" y="539"/>
                  </a:lnTo>
                  <a:lnTo>
                    <a:pt x="835" y="539"/>
                  </a:lnTo>
                  <a:lnTo>
                    <a:pt x="835" y="157"/>
                  </a:lnTo>
                  <a:lnTo>
                    <a:pt x="334" y="157"/>
                  </a:lnTo>
                  <a:lnTo>
                    <a:pt x="334" y="539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359320" y="5972040"/>
              <a:ext cx="180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535720" y="5972040"/>
              <a:ext cx="144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413320" y="5672160"/>
              <a:ext cx="6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03960" y="5619600"/>
              <a:ext cx="88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381640" y="5537160"/>
              <a:ext cx="131760" cy="290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688000" y="599616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688000" y="596124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619600" y="5943600"/>
              <a:ext cx="27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375160" y="5846760"/>
              <a:ext cx="142920" cy="135000"/>
            </a:xfrm>
            <a:custGeom>
              <a:avLst/>
              <a:gdLst/>
              <a:ahLst/>
              <a:rect l="l" t="t" r="r" b="b"/>
              <a:pathLst>
                <a:path w="180" h="169">
                  <a:moveTo>
                    <a:pt x="0" y="104"/>
                  </a:moveTo>
                  <a:lnTo>
                    <a:pt x="14" y="10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4"/>
                  </a:lnTo>
                  <a:close/>
                  <a:moveTo>
                    <a:pt x="28" y="104"/>
                  </a:moveTo>
                  <a:lnTo>
                    <a:pt x="42" y="104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8" y="104"/>
                  </a:lnTo>
                  <a:close/>
                  <a:moveTo>
                    <a:pt x="54" y="104"/>
                  </a:moveTo>
                  <a:lnTo>
                    <a:pt x="69" y="104"/>
                  </a:lnTo>
                  <a:lnTo>
                    <a:pt x="69" y="0"/>
                  </a:lnTo>
                  <a:lnTo>
                    <a:pt x="54" y="0"/>
                  </a:lnTo>
                  <a:lnTo>
                    <a:pt x="54" y="104"/>
                  </a:lnTo>
                  <a:close/>
                  <a:moveTo>
                    <a:pt x="83" y="104"/>
                  </a:moveTo>
                  <a:lnTo>
                    <a:pt x="97" y="104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83" y="104"/>
                  </a:lnTo>
                  <a:close/>
                  <a:moveTo>
                    <a:pt x="111" y="104"/>
                  </a:moveTo>
                  <a:lnTo>
                    <a:pt x="125" y="104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111" y="104"/>
                  </a:lnTo>
                  <a:close/>
                  <a:moveTo>
                    <a:pt x="139" y="104"/>
                  </a:moveTo>
                  <a:lnTo>
                    <a:pt x="153" y="104"/>
                  </a:lnTo>
                  <a:lnTo>
                    <a:pt x="153" y="0"/>
                  </a:lnTo>
                  <a:lnTo>
                    <a:pt x="139" y="0"/>
                  </a:lnTo>
                  <a:lnTo>
                    <a:pt x="139" y="104"/>
                  </a:lnTo>
                  <a:close/>
                  <a:moveTo>
                    <a:pt x="166" y="104"/>
                  </a:moveTo>
                  <a:lnTo>
                    <a:pt x="180" y="104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66" y="104"/>
                  </a:lnTo>
                  <a:close/>
                  <a:moveTo>
                    <a:pt x="166" y="169"/>
                  </a:moveTo>
                  <a:lnTo>
                    <a:pt x="180" y="169"/>
                  </a:lnTo>
                  <a:lnTo>
                    <a:pt x="180" y="118"/>
                  </a:lnTo>
                  <a:lnTo>
                    <a:pt x="166" y="118"/>
                  </a:lnTo>
                  <a:lnTo>
                    <a:pt x="166" y="169"/>
                  </a:lnTo>
                  <a:close/>
                  <a:moveTo>
                    <a:pt x="139" y="169"/>
                  </a:moveTo>
                  <a:lnTo>
                    <a:pt x="153" y="169"/>
                  </a:lnTo>
                  <a:lnTo>
                    <a:pt x="153" y="118"/>
                  </a:lnTo>
                  <a:lnTo>
                    <a:pt x="139" y="118"/>
                  </a:lnTo>
                  <a:lnTo>
                    <a:pt x="139" y="169"/>
                  </a:lnTo>
                  <a:close/>
                  <a:moveTo>
                    <a:pt x="111" y="169"/>
                  </a:moveTo>
                  <a:lnTo>
                    <a:pt x="125" y="169"/>
                  </a:lnTo>
                  <a:lnTo>
                    <a:pt x="125" y="118"/>
                  </a:lnTo>
                  <a:lnTo>
                    <a:pt x="111" y="118"/>
                  </a:lnTo>
                  <a:lnTo>
                    <a:pt x="111" y="169"/>
                  </a:lnTo>
                  <a:close/>
                  <a:moveTo>
                    <a:pt x="83" y="169"/>
                  </a:moveTo>
                  <a:lnTo>
                    <a:pt x="97" y="169"/>
                  </a:lnTo>
                  <a:lnTo>
                    <a:pt x="97" y="118"/>
                  </a:lnTo>
                  <a:lnTo>
                    <a:pt x="83" y="118"/>
                  </a:lnTo>
                  <a:lnTo>
                    <a:pt x="83" y="169"/>
                  </a:lnTo>
                  <a:close/>
                  <a:moveTo>
                    <a:pt x="54" y="169"/>
                  </a:moveTo>
                  <a:lnTo>
                    <a:pt x="69" y="169"/>
                  </a:lnTo>
                  <a:lnTo>
                    <a:pt x="69" y="118"/>
                  </a:lnTo>
                  <a:lnTo>
                    <a:pt x="54" y="118"/>
                  </a:lnTo>
                  <a:lnTo>
                    <a:pt x="54" y="169"/>
                  </a:lnTo>
                  <a:close/>
                  <a:moveTo>
                    <a:pt x="28" y="169"/>
                  </a:moveTo>
                  <a:lnTo>
                    <a:pt x="42" y="169"/>
                  </a:lnTo>
                  <a:lnTo>
                    <a:pt x="42" y="118"/>
                  </a:lnTo>
                  <a:lnTo>
                    <a:pt x="28" y="118"/>
                  </a:lnTo>
                  <a:lnTo>
                    <a:pt x="28" y="169"/>
                  </a:lnTo>
                  <a:close/>
                  <a:moveTo>
                    <a:pt x="0" y="169"/>
                  </a:moveTo>
                  <a:lnTo>
                    <a:pt x="14" y="169"/>
                  </a:lnTo>
                  <a:lnTo>
                    <a:pt x="14" y="118"/>
                  </a:lnTo>
                  <a:lnTo>
                    <a:pt x="0" y="118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392800" y="554832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392800" y="5548320"/>
              <a:ext cx="109440" cy="11160"/>
            </a:xfrm>
            <a:custGeom>
              <a:avLst/>
              <a:gdLst/>
              <a:ahLst/>
              <a:rect l="l" t="t" r="r" b="b"/>
              <a:pathLst>
                <a:path w="138" h="14">
                  <a:moveTo>
                    <a:pt x="0" y="0"/>
                  </a:moveTo>
                  <a:lnTo>
                    <a:pt x="14" y="14"/>
                  </a:lnTo>
                  <a:lnTo>
                    <a:pt x="125" y="14"/>
                  </a:ln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392800" y="5599080"/>
              <a:ext cx="109440" cy="42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392800" y="5651640"/>
              <a:ext cx="10944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392800" y="5703840"/>
              <a:ext cx="109440" cy="39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392800" y="575460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5392800" y="5559480"/>
              <a:ext cx="111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492880" y="5559480"/>
              <a:ext cx="93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397480" y="57387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397480" y="573084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397480" y="57243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397480" y="5715000"/>
              <a:ext cx="73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397480" y="570852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446800" y="5610240"/>
              <a:ext cx="349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478480" y="5680080"/>
              <a:ext cx="15840" cy="4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478480" y="5708520"/>
              <a:ext cx="15840" cy="5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478480" y="5718240"/>
              <a:ext cx="15840" cy="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430960" y="5667480"/>
              <a:ext cx="511200" cy="263520"/>
            </a:xfrm>
            <a:custGeom>
              <a:avLst/>
              <a:gdLst/>
              <a:ahLst/>
              <a:rect l="l" t="t" r="r" b="b"/>
              <a:pathLst>
                <a:path w="645" h="334">
                  <a:moveTo>
                    <a:pt x="0" y="14"/>
                  </a:moveTo>
                  <a:lnTo>
                    <a:pt x="42" y="1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4"/>
                  </a:lnTo>
                  <a:close/>
                  <a:moveTo>
                    <a:pt x="622" y="334"/>
                  </a:moveTo>
                  <a:lnTo>
                    <a:pt x="645" y="334"/>
                  </a:lnTo>
                  <a:lnTo>
                    <a:pt x="645" y="327"/>
                  </a:lnTo>
                  <a:lnTo>
                    <a:pt x="622" y="327"/>
                  </a:lnTo>
                  <a:lnTo>
                    <a:pt x="622" y="334"/>
                  </a:lnTo>
                  <a:close/>
                  <a:moveTo>
                    <a:pt x="238" y="261"/>
                  </a:moveTo>
                  <a:lnTo>
                    <a:pt x="238" y="41"/>
                  </a:lnTo>
                  <a:lnTo>
                    <a:pt x="583" y="41"/>
                  </a:lnTo>
                  <a:lnTo>
                    <a:pt x="583" y="261"/>
                  </a:lnTo>
                  <a:lnTo>
                    <a:pt x="238" y="261"/>
                  </a:lnTo>
                  <a:close/>
                  <a:moveTo>
                    <a:pt x="222" y="275"/>
                  </a:moveTo>
                  <a:lnTo>
                    <a:pt x="599" y="275"/>
                  </a:lnTo>
                  <a:lnTo>
                    <a:pt x="599" y="27"/>
                  </a:lnTo>
                  <a:lnTo>
                    <a:pt x="615" y="27"/>
                  </a:lnTo>
                  <a:lnTo>
                    <a:pt x="615" y="13"/>
                  </a:lnTo>
                  <a:lnTo>
                    <a:pt x="206" y="13"/>
                  </a:lnTo>
                  <a:lnTo>
                    <a:pt x="206" y="23"/>
                  </a:lnTo>
                  <a:lnTo>
                    <a:pt x="206" y="290"/>
                  </a:lnTo>
                  <a:lnTo>
                    <a:pt x="222" y="290"/>
                  </a:lnTo>
                  <a:lnTo>
                    <a:pt x="222" y="2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557680" y="5925960"/>
              <a:ext cx="200160" cy="17640"/>
            </a:xfrm>
            <a:custGeom>
              <a:avLst/>
              <a:gdLst/>
              <a:ahLst/>
              <a:rect l="l" t="t" r="r" b="b"/>
              <a:pathLst>
                <a:path w="251" h="23">
                  <a:moveTo>
                    <a:pt x="0" y="0"/>
                  </a:moveTo>
                  <a:lnTo>
                    <a:pt x="251" y="0"/>
                  </a:lnTo>
                  <a:lnTo>
                    <a:pt x="251" y="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5657760" y="5925600"/>
              <a:ext cx="18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176800" y="6051600"/>
              <a:ext cx="8938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242680" y="6059520"/>
              <a:ext cx="82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net data Serv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614840" y="5516640"/>
              <a:ext cx="495360" cy="496800"/>
            </a:xfrm>
            <a:custGeom>
              <a:avLst/>
              <a:gdLst/>
              <a:ahLst/>
              <a:rect l="l" t="t" r="r" b="b"/>
              <a:pathLst>
                <a:path w="626" h="627">
                  <a:moveTo>
                    <a:pt x="0" y="470"/>
                  </a:moveTo>
                  <a:lnTo>
                    <a:pt x="117" y="470"/>
                  </a:lnTo>
                  <a:lnTo>
                    <a:pt x="214" y="489"/>
                  </a:lnTo>
                  <a:lnTo>
                    <a:pt x="214" y="509"/>
                  </a:lnTo>
                  <a:lnTo>
                    <a:pt x="117" y="509"/>
                  </a:lnTo>
                  <a:lnTo>
                    <a:pt x="117" y="528"/>
                  </a:lnTo>
                  <a:lnTo>
                    <a:pt x="39" y="528"/>
                  </a:lnTo>
                  <a:lnTo>
                    <a:pt x="39" y="627"/>
                  </a:lnTo>
                  <a:lnTo>
                    <a:pt x="587" y="627"/>
                  </a:lnTo>
                  <a:lnTo>
                    <a:pt x="587" y="528"/>
                  </a:lnTo>
                  <a:lnTo>
                    <a:pt x="509" y="528"/>
                  </a:lnTo>
                  <a:lnTo>
                    <a:pt x="509" y="509"/>
                  </a:lnTo>
                  <a:lnTo>
                    <a:pt x="410" y="509"/>
                  </a:lnTo>
                  <a:lnTo>
                    <a:pt x="410" y="489"/>
                  </a:lnTo>
                  <a:lnTo>
                    <a:pt x="509" y="470"/>
                  </a:lnTo>
                  <a:lnTo>
                    <a:pt x="626" y="470"/>
                  </a:lnTo>
                  <a:lnTo>
                    <a:pt x="626" y="0"/>
                  </a:lnTo>
                  <a:lnTo>
                    <a:pt x="0" y="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707000" y="593568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782960" y="5919840"/>
              <a:ext cx="1573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782960" y="5905440"/>
              <a:ext cx="157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707000" y="588960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651200" y="5564160"/>
              <a:ext cx="412920" cy="441360"/>
            </a:xfrm>
            <a:custGeom>
              <a:avLst/>
              <a:gdLst/>
              <a:ahLst/>
              <a:rect l="l" t="t" r="r" b="b"/>
              <a:pathLst>
                <a:path w="519" h="556">
                  <a:moveTo>
                    <a:pt x="49" y="503"/>
                  </a:moveTo>
                  <a:lnTo>
                    <a:pt x="146" y="503"/>
                  </a:lnTo>
                  <a:lnTo>
                    <a:pt x="146" y="489"/>
                  </a:lnTo>
                  <a:lnTo>
                    <a:pt x="49" y="489"/>
                  </a:lnTo>
                  <a:lnTo>
                    <a:pt x="49" y="503"/>
                  </a:lnTo>
                  <a:close/>
                  <a:moveTo>
                    <a:pt x="19" y="556"/>
                  </a:moveTo>
                  <a:lnTo>
                    <a:pt x="39" y="537"/>
                  </a:lnTo>
                  <a:lnTo>
                    <a:pt x="19" y="517"/>
                  </a:lnTo>
                  <a:lnTo>
                    <a:pt x="0" y="537"/>
                  </a:lnTo>
                  <a:lnTo>
                    <a:pt x="19" y="556"/>
                  </a:lnTo>
                  <a:close/>
                  <a:moveTo>
                    <a:pt x="49" y="313"/>
                  </a:moveTo>
                  <a:lnTo>
                    <a:pt x="49" y="39"/>
                  </a:lnTo>
                  <a:lnTo>
                    <a:pt x="480" y="39"/>
                  </a:lnTo>
                  <a:lnTo>
                    <a:pt x="480" y="313"/>
                  </a:lnTo>
                  <a:lnTo>
                    <a:pt x="49" y="313"/>
                  </a:lnTo>
                  <a:close/>
                  <a:moveTo>
                    <a:pt x="30" y="341"/>
                  </a:moveTo>
                  <a:lnTo>
                    <a:pt x="509" y="341"/>
                  </a:lnTo>
                  <a:lnTo>
                    <a:pt x="509" y="20"/>
                  </a:lnTo>
                  <a:lnTo>
                    <a:pt x="519" y="20"/>
                  </a:lnTo>
                  <a:lnTo>
                    <a:pt x="519" y="0"/>
                  </a:lnTo>
                  <a:lnTo>
                    <a:pt x="10" y="0"/>
                  </a:lnTo>
                  <a:lnTo>
                    <a:pt x="10" y="352"/>
                  </a:lnTo>
                  <a:lnTo>
                    <a:pt x="30" y="352"/>
                  </a:lnTo>
                  <a:lnTo>
                    <a:pt x="30" y="341"/>
                  </a:lnTo>
                  <a:close/>
                  <a:moveTo>
                    <a:pt x="489" y="390"/>
                  </a:moveTo>
                  <a:lnTo>
                    <a:pt x="519" y="390"/>
                  </a:lnTo>
                  <a:lnTo>
                    <a:pt x="519" y="382"/>
                  </a:lnTo>
                  <a:lnTo>
                    <a:pt x="489" y="382"/>
                  </a:lnTo>
                  <a:lnTo>
                    <a:pt x="489" y="3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699080" y="5989680"/>
              <a:ext cx="61920" cy="12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645080" y="595296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645080" y="596412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69908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74660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76892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79268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81644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0" y="7"/>
                  </a:lnTo>
                  <a:lnTo>
                    <a:pt x="8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8387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86252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8848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0" y="9"/>
                  </a:lnTo>
                  <a:lnTo>
                    <a:pt x="11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90860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9323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95468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9784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00076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024520" y="597060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04828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602240" y="6051600"/>
              <a:ext cx="51912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652640" y="605952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st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257880" y="4332240"/>
              <a:ext cx="189000" cy="803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329520" y="5056200"/>
              <a:ext cx="48960" cy="39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329520" y="4370400"/>
              <a:ext cx="48960" cy="42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6281640" y="4331880"/>
              <a:ext cx="180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342120" y="4392720"/>
              <a:ext cx="23760" cy="382320"/>
            </a:xfrm>
            <a:custGeom>
              <a:avLst/>
              <a:gdLst/>
              <a:ahLst/>
              <a:rect l="l" t="t" r="r" b="b"/>
              <a:pathLst>
                <a:path w="30" h="482">
                  <a:moveTo>
                    <a:pt x="30" y="380"/>
                  </a:moveTo>
                  <a:lnTo>
                    <a:pt x="30" y="355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30" y="380"/>
                  </a:lnTo>
                  <a:close/>
                  <a:moveTo>
                    <a:pt x="30" y="431"/>
                  </a:moveTo>
                  <a:lnTo>
                    <a:pt x="30" y="406"/>
                  </a:lnTo>
                  <a:lnTo>
                    <a:pt x="0" y="406"/>
                  </a:lnTo>
                  <a:lnTo>
                    <a:pt x="0" y="431"/>
                  </a:lnTo>
                  <a:lnTo>
                    <a:pt x="30" y="431"/>
                  </a:lnTo>
                  <a:close/>
                  <a:moveTo>
                    <a:pt x="30" y="482"/>
                  </a:moveTo>
                  <a:lnTo>
                    <a:pt x="30" y="456"/>
                  </a:lnTo>
                  <a:lnTo>
                    <a:pt x="0" y="456"/>
                  </a:lnTo>
                  <a:lnTo>
                    <a:pt x="0" y="482"/>
                  </a:lnTo>
                  <a:lnTo>
                    <a:pt x="30" y="482"/>
                  </a:lnTo>
                  <a:close/>
                  <a:moveTo>
                    <a:pt x="30" y="304"/>
                  </a:moveTo>
                  <a:lnTo>
                    <a:pt x="30" y="279"/>
                  </a:lnTo>
                  <a:lnTo>
                    <a:pt x="0" y="279"/>
                  </a:lnTo>
                  <a:lnTo>
                    <a:pt x="0" y="304"/>
                  </a:lnTo>
                  <a:lnTo>
                    <a:pt x="30" y="304"/>
                  </a:lnTo>
                  <a:close/>
                  <a:moveTo>
                    <a:pt x="30" y="228"/>
                  </a:moveTo>
                  <a:lnTo>
                    <a:pt x="30" y="203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30" y="228"/>
                  </a:lnTo>
                  <a:close/>
                  <a:moveTo>
                    <a:pt x="30" y="177"/>
                  </a:moveTo>
                  <a:lnTo>
                    <a:pt x="30" y="152"/>
                  </a:lnTo>
                  <a:lnTo>
                    <a:pt x="0" y="152"/>
                  </a:lnTo>
                  <a:lnTo>
                    <a:pt x="0" y="177"/>
                  </a:lnTo>
                  <a:lnTo>
                    <a:pt x="30" y="177"/>
                  </a:lnTo>
                  <a:close/>
                  <a:moveTo>
                    <a:pt x="30" y="127"/>
                  </a:moveTo>
                  <a:lnTo>
                    <a:pt x="30" y="101"/>
                  </a:lnTo>
                  <a:lnTo>
                    <a:pt x="0" y="101"/>
                  </a:lnTo>
                  <a:lnTo>
                    <a:pt x="0" y="127"/>
                  </a:lnTo>
                  <a:lnTo>
                    <a:pt x="30" y="127"/>
                  </a:lnTo>
                  <a:close/>
                  <a:moveTo>
                    <a:pt x="30" y="76"/>
                  </a:moveTo>
                  <a:lnTo>
                    <a:pt x="30" y="51"/>
                  </a:lnTo>
                  <a:lnTo>
                    <a:pt x="0" y="51"/>
                  </a:lnTo>
                  <a:lnTo>
                    <a:pt x="0" y="76"/>
                  </a:lnTo>
                  <a:lnTo>
                    <a:pt x="30" y="76"/>
                  </a:lnTo>
                  <a:close/>
                  <a:moveTo>
                    <a:pt x="30" y="25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486480" y="4870440"/>
              <a:ext cx="13032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rot="16200000">
              <a:off x="6412320" y="492552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118200" y="1157400"/>
              <a:ext cx="2016000" cy="1207800"/>
            </a:xfrm>
            <a:custGeom>
              <a:avLst/>
              <a:gdLst/>
              <a:ahLst/>
              <a:rect l="l" t="t" r="r" b="b"/>
              <a:pathLst>
                <a:path w="2539" h="1522">
                  <a:moveTo>
                    <a:pt x="373" y="1130"/>
                  </a:moveTo>
                  <a:lnTo>
                    <a:pt x="401" y="1188"/>
                  </a:lnTo>
                  <a:lnTo>
                    <a:pt x="434" y="1245"/>
                  </a:lnTo>
                  <a:lnTo>
                    <a:pt x="470" y="1296"/>
                  </a:lnTo>
                  <a:lnTo>
                    <a:pt x="510" y="1343"/>
                  </a:lnTo>
                  <a:lnTo>
                    <a:pt x="555" y="1386"/>
                  </a:lnTo>
                  <a:lnTo>
                    <a:pt x="601" y="1423"/>
                  </a:lnTo>
                  <a:lnTo>
                    <a:pt x="650" y="1455"/>
                  </a:lnTo>
                  <a:lnTo>
                    <a:pt x="699" y="1479"/>
                  </a:lnTo>
                  <a:lnTo>
                    <a:pt x="752" y="1501"/>
                  </a:lnTo>
                  <a:lnTo>
                    <a:pt x="806" y="1513"/>
                  </a:lnTo>
                  <a:lnTo>
                    <a:pt x="860" y="1520"/>
                  </a:lnTo>
                  <a:lnTo>
                    <a:pt x="915" y="1522"/>
                  </a:lnTo>
                  <a:lnTo>
                    <a:pt x="970" y="1516"/>
                  </a:lnTo>
                  <a:lnTo>
                    <a:pt x="1025" y="1504"/>
                  </a:lnTo>
                  <a:lnTo>
                    <a:pt x="1076" y="1486"/>
                  </a:lnTo>
                  <a:lnTo>
                    <a:pt x="1129" y="1462"/>
                  </a:lnTo>
                  <a:lnTo>
                    <a:pt x="1177" y="1432"/>
                  </a:lnTo>
                  <a:lnTo>
                    <a:pt x="1224" y="1396"/>
                  </a:lnTo>
                  <a:lnTo>
                    <a:pt x="1269" y="1356"/>
                  </a:lnTo>
                  <a:lnTo>
                    <a:pt x="1313" y="1396"/>
                  </a:lnTo>
                  <a:lnTo>
                    <a:pt x="1360" y="1432"/>
                  </a:lnTo>
                  <a:lnTo>
                    <a:pt x="1410" y="1462"/>
                  </a:lnTo>
                  <a:lnTo>
                    <a:pt x="1461" y="1486"/>
                  </a:lnTo>
                  <a:lnTo>
                    <a:pt x="1514" y="1504"/>
                  </a:lnTo>
                  <a:lnTo>
                    <a:pt x="1567" y="1516"/>
                  </a:lnTo>
                  <a:lnTo>
                    <a:pt x="1622" y="1522"/>
                  </a:lnTo>
                  <a:lnTo>
                    <a:pt x="1677" y="1520"/>
                  </a:lnTo>
                  <a:lnTo>
                    <a:pt x="1732" y="1513"/>
                  </a:lnTo>
                  <a:lnTo>
                    <a:pt x="1785" y="1501"/>
                  </a:lnTo>
                  <a:lnTo>
                    <a:pt x="1838" y="1479"/>
                  </a:lnTo>
                  <a:lnTo>
                    <a:pt x="1889" y="1455"/>
                  </a:lnTo>
                  <a:lnTo>
                    <a:pt x="1937" y="1423"/>
                  </a:lnTo>
                  <a:lnTo>
                    <a:pt x="1983" y="1386"/>
                  </a:lnTo>
                  <a:lnTo>
                    <a:pt x="2027" y="1343"/>
                  </a:lnTo>
                  <a:lnTo>
                    <a:pt x="2067" y="1296"/>
                  </a:lnTo>
                  <a:lnTo>
                    <a:pt x="2103" y="1245"/>
                  </a:lnTo>
                  <a:lnTo>
                    <a:pt x="2136" y="1188"/>
                  </a:lnTo>
                  <a:lnTo>
                    <a:pt x="2165" y="1130"/>
                  </a:lnTo>
                  <a:lnTo>
                    <a:pt x="2203" y="1139"/>
                  </a:lnTo>
                  <a:lnTo>
                    <a:pt x="2242" y="1142"/>
                  </a:lnTo>
                  <a:lnTo>
                    <a:pt x="2281" y="1137"/>
                  </a:lnTo>
                  <a:lnTo>
                    <a:pt x="2318" y="1128"/>
                  </a:lnTo>
                  <a:lnTo>
                    <a:pt x="2355" y="1112"/>
                  </a:lnTo>
                  <a:lnTo>
                    <a:pt x="2391" y="1089"/>
                  </a:lnTo>
                  <a:lnTo>
                    <a:pt x="2423" y="1061"/>
                  </a:lnTo>
                  <a:lnTo>
                    <a:pt x="2453" y="1029"/>
                  </a:lnTo>
                  <a:lnTo>
                    <a:pt x="2477" y="992"/>
                  </a:lnTo>
                  <a:lnTo>
                    <a:pt x="2499" y="950"/>
                  </a:lnTo>
                  <a:lnTo>
                    <a:pt x="2516" y="906"/>
                  </a:lnTo>
                  <a:lnTo>
                    <a:pt x="2529" y="860"/>
                  </a:lnTo>
                  <a:lnTo>
                    <a:pt x="2536" y="811"/>
                  </a:lnTo>
                  <a:lnTo>
                    <a:pt x="2539" y="761"/>
                  </a:lnTo>
                  <a:lnTo>
                    <a:pt x="2536" y="712"/>
                  </a:lnTo>
                  <a:lnTo>
                    <a:pt x="2529" y="662"/>
                  </a:lnTo>
                  <a:lnTo>
                    <a:pt x="2516" y="616"/>
                  </a:lnTo>
                  <a:lnTo>
                    <a:pt x="2499" y="572"/>
                  </a:lnTo>
                  <a:lnTo>
                    <a:pt x="2477" y="530"/>
                  </a:lnTo>
                  <a:lnTo>
                    <a:pt x="2453" y="493"/>
                  </a:lnTo>
                  <a:lnTo>
                    <a:pt x="2423" y="461"/>
                  </a:lnTo>
                  <a:lnTo>
                    <a:pt x="2391" y="433"/>
                  </a:lnTo>
                  <a:lnTo>
                    <a:pt x="2355" y="410"/>
                  </a:lnTo>
                  <a:lnTo>
                    <a:pt x="2318" y="394"/>
                  </a:lnTo>
                  <a:lnTo>
                    <a:pt x="2281" y="383"/>
                  </a:lnTo>
                  <a:lnTo>
                    <a:pt x="2242" y="380"/>
                  </a:lnTo>
                  <a:lnTo>
                    <a:pt x="2203" y="383"/>
                  </a:lnTo>
                  <a:lnTo>
                    <a:pt x="2165" y="392"/>
                  </a:lnTo>
                  <a:lnTo>
                    <a:pt x="2136" y="334"/>
                  </a:lnTo>
                  <a:lnTo>
                    <a:pt x="2103" y="278"/>
                  </a:lnTo>
                  <a:lnTo>
                    <a:pt x="2067" y="226"/>
                  </a:lnTo>
                  <a:lnTo>
                    <a:pt x="2027" y="179"/>
                  </a:lnTo>
                  <a:lnTo>
                    <a:pt x="1983" y="136"/>
                  </a:lnTo>
                  <a:lnTo>
                    <a:pt x="1937" y="99"/>
                  </a:lnTo>
                  <a:lnTo>
                    <a:pt x="1889" y="68"/>
                  </a:lnTo>
                  <a:lnTo>
                    <a:pt x="1838" y="43"/>
                  </a:lnTo>
                  <a:lnTo>
                    <a:pt x="1785" y="22"/>
                  </a:lnTo>
                  <a:lnTo>
                    <a:pt x="1732" y="9"/>
                  </a:lnTo>
                  <a:lnTo>
                    <a:pt x="1677" y="2"/>
                  </a:lnTo>
                  <a:lnTo>
                    <a:pt x="1622" y="0"/>
                  </a:lnTo>
                  <a:lnTo>
                    <a:pt x="1567" y="6"/>
                  </a:lnTo>
                  <a:lnTo>
                    <a:pt x="1514" y="18"/>
                  </a:lnTo>
                  <a:lnTo>
                    <a:pt x="1461" y="36"/>
                  </a:lnTo>
                  <a:lnTo>
                    <a:pt x="1410" y="60"/>
                  </a:lnTo>
                  <a:lnTo>
                    <a:pt x="1360" y="90"/>
                  </a:lnTo>
                  <a:lnTo>
                    <a:pt x="1313" y="126"/>
                  </a:lnTo>
                  <a:lnTo>
                    <a:pt x="1269" y="166"/>
                  </a:lnTo>
                  <a:lnTo>
                    <a:pt x="1224" y="126"/>
                  </a:lnTo>
                  <a:lnTo>
                    <a:pt x="1177" y="90"/>
                  </a:lnTo>
                  <a:lnTo>
                    <a:pt x="1129" y="60"/>
                  </a:lnTo>
                  <a:lnTo>
                    <a:pt x="1076" y="36"/>
                  </a:lnTo>
                  <a:lnTo>
                    <a:pt x="1025" y="18"/>
                  </a:lnTo>
                  <a:lnTo>
                    <a:pt x="970" y="6"/>
                  </a:lnTo>
                  <a:lnTo>
                    <a:pt x="915" y="0"/>
                  </a:lnTo>
                  <a:lnTo>
                    <a:pt x="860" y="2"/>
                  </a:lnTo>
                  <a:lnTo>
                    <a:pt x="806" y="9"/>
                  </a:lnTo>
                  <a:lnTo>
                    <a:pt x="752" y="22"/>
                  </a:lnTo>
                  <a:lnTo>
                    <a:pt x="699" y="43"/>
                  </a:lnTo>
                  <a:lnTo>
                    <a:pt x="650" y="68"/>
                  </a:lnTo>
                  <a:lnTo>
                    <a:pt x="601" y="99"/>
                  </a:lnTo>
                  <a:lnTo>
                    <a:pt x="555" y="136"/>
                  </a:lnTo>
                  <a:lnTo>
                    <a:pt x="510" y="179"/>
                  </a:lnTo>
                  <a:lnTo>
                    <a:pt x="470" y="226"/>
                  </a:lnTo>
                  <a:lnTo>
                    <a:pt x="434" y="278"/>
                  </a:lnTo>
                  <a:lnTo>
                    <a:pt x="401" y="334"/>
                  </a:lnTo>
                  <a:lnTo>
                    <a:pt x="373" y="392"/>
                  </a:lnTo>
                  <a:lnTo>
                    <a:pt x="334" y="383"/>
                  </a:lnTo>
                  <a:lnTo>
                    <a:pt x="295" y="380"/>
                  </a:lnTo>
                  <a:lnTo>
                    <a:pt x="256" y="383"/>
                  </a:lnTo>
                  <a:lnTo>
                    <a:pt x="219" y="394"/>
                  </a:lnTo>
                  <a:lnTo>
                    <a:pt x="182" y="410"/>
                  </a:lnTo>
                  <a:lnTo>
                    <a:pt x="146" y="433"/>
                  </a:lnTo>
                  <a:lnTo>
                    <a:pt x="114" y="461"/>
                  </a:lnTo>
                  <a:lnTo>
                    <a:pt x="86" y="493"/>
                  </a:lnTo>
                  <a:lnTo>
                    <a:pt x="60" y="530"/>
                  </a:lnTo>
                  <a:lnTo>
                    <a:pt x="39" y="572"/>
                  </a:lnTo>
                  <a:lnTo>
                    <a:pt x="21" y="616"/>
                  </a:lnTo>
                  <a:lnTo>
                    <a:pt x="8" y="662"/>
                  </a:lnTo>
                  <a:lnTo>
                    <a:pt x="1" y="712"/>
                  </a:lnTo>
                  <a:lnTo>
                    <a:pt x="0" y="761"/>
                  </a:lnTo>
                  <a:lnTo>
                    <a:pt x="1" y="811"/>
                  </a:lnTo>
                  <a:lnTo>
                    <a:pt x="8" y="860"/>
                  </a:lnTo>
                  <a:lnTo>
                    <a:pt x="21" y="906"/>
                  </a:lnTo>
                  <a:lnTo>
                    <a:pt x="39" y="950"/>
                  </a:lnTo>
                  <a:lnTo>
                    <a:pt x="60" y="992"/>
                  </a:lnTo>
                  <a:lnTo>
                    <a:pt x="86" y="1029"/>
                  </a:lnTo>
                  <a:lnTo>
                    <a:pt x="114" y="1061"/>
                  </a:lnTo>
                  <a:lnTo>
                    <a:pt x="146" y="1089"/>
                  </a:lnTo>
                  <a:lnTo>
                    <a:pt x="182" y="1112"/>
                  </a:lnTo>
                  <a:lnTo>
                    <a:pt x="219" y="1128"/>
                  </a:lnTo>
                  <a:lnTo>
                    <a:pt x="256" y="1137"/>
                  </a:lnTo>
                  <a:lnTo>
                    <a:pt x="295" y="1142"/>
                  </a:lnTo>
                  <a:lnTo>
                    <a:pt x="334" y="1139"/>
                  </a:lnTo>
                  <a:lnTo>
                    <a:pt x="373" y="113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863760" y="16588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562120" y="5423040"/>
              <a:ext cx="8128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595240" y="5430960"/>
              <a:ext cx="65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IT Voice 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912760" y="554364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621880" y="565452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CP/IP capabilit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324160" y="4094280"/>
              <a:ext cx="1290600" cy="12906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324160" y="4094280"/>
              <a:ext cx="1290600" cy="1263600"/>
            </a:xfrm>
            <a:custGeom>
              <a:avLst/>
              <a:gdLst/>
              <a:ahLst/>
              <a:rect l="l" t="t" r="r" b="b"/>
              <a:pathLst>
                <a:path w="1628" h="1592">
                  <a:moveTo>
                    <a:pt x="0" y="1592"/>
                  </a:moveTo>
                  <a:lnTo>
                    <a:pt x="813" y="1592"/>
                  </a:lnTo>
                  <a:lnTo>
                    <a:pt x="813" y="0"/>
                  </a:lnTo>
                  <a:lnTo>
                    <a:pt x="0" y="0"/>
                  </a:lnTo>
                  <a:lnTo>
                    <a:pt x="0" y="1592"/>
                  </a:lnTo>
                  <a:close/>
                  <a:moveTo>
                    <a:pt x="813" y="1592"/>
                  </a:moveTo>
                  <a:lnTo>
                    <a:pt x="1628" y="1592"/>
                  </a:lnTo>
                  <a:lnTo>
                    <a:pt x="1628" y="0"/>
                  </a:lnTo>
                  <a:lnTo>
                    <a:pt x="813" y="0"/>
                  </a:lnTo>
                  <a:lnTo>
                    <a:pt x="813" y="1592"/>
                  </a:lnTo>
                  <a:close/>
                  <a:moveTo>
                    <a:pt x="126" y="542"/>
                  </a:moveTo>
                  <a:lnTo>
                    <a:pt x="689" y="542"/>
                  </a:lnTo>
                  <a:lnTo>
                    <a:pt x="689" y="373"/>
                  </a:lnTo>
                  <a:lnTo>
                    <a:pt x="126" y="373"/>
                  </a:lnTo>
                  <a:lnTo>
                    <a:pt x="126" y="542"/>
                  </a:lnTo>
                  <a:close/>
                  <a:moveTo>
                    <a:pt x="126" y="881"/>
                  </a:moveTo>
                  <a:lnTo>
                    <a:pt x="689" y="881"/>
                  </a:lnTo>
                  <a:lnTo>
                    <a:pt x="689" y="593"/>
                  </a:lnTo>
                  <a:lnTo>
                    <a:pt x="126" y="593"/>
                  </a:lnTo>
                  <a:lnTo>
                    <a:pt x="126" y="881"/>
                  </a:lnTo>
                  <a:close/>
                  <a:moveTo>
                    <a:pt x="938" y="542"/>
                  </a:moveTo>
                  <a:lnTo>
                    <a:pt x="1502" y="542"/>
                  </a:lnTo>
                  <a:lnTo>
                    <a:pt x="1502" y="373"/>
                  </a:lnTo>
                  <a:lnTo>
                    <a:pt x="938" y="373"/>
                  </a:lnTo>
                  <a:lnTo>
                    <a:pt x="938" y="542"/>
                  </a:lnTo>
                  <a:close/>
                  <a:moveTo>
                    <a:pt x="938" y="763"/>
                  </a:moveTo>
                  <a:lnTo>
                    <a:pt x="1502" y="763"/>
                  </a:lnTo>
                  <a:lnTo>
                    <a:pt x="1502" y="593"/>
                  </a:lnTo>
                  <a:lnTo>
                    <a:pt x="938" y="593"/>
                  </a:lnTo>
                  <a:lnTo>
                    <a:pt x="938" y="76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324160" y="4202280"/>
              <a:ext cx="1290600" cy="10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325600" y="5369040"/>
              <a:ext cx="1287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968560" y="2676600"/>
              <a:ext cx="7920" cy="1266840"/>
            </a:xfrm>
            <a:custGeom>
              <a:avLst/>
              <a:gdLst/>
              <a:ahLst/>
              <a:rect l="l" t="t" r="r" b="b"/>
              <a:pathLst>
                <a:path w="11" h="1598">
                  <a:moveTo>
                    <a:pt x="11" y="0"/>
                  </a:moveTo>
                  <a:lnTo>
                    <a:pt x="11" y="158"/>
                  </a:lnTo>
                  <a:lnTo>
                    <a:pt x="0" y="158"/>
                  </a:lnTo>
                  <a:lnTo>
                    <a:pt x="0" y="15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922480" y="2676600"/>
              <a:ext cx="109800" cy="16344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69" y="0"/>
                  </a:lnTo>
                  <a:lnTo>
                    <a:pt x="138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914560" y="3929040"/>
              <a:ext cx="108000" cy="16524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138" y="0"/>
                  </a:moveTo>
                  <a:lnTo>
                    <a:pt x="69" y="206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584440" y="3303720"/>
              <a:ext cx="7714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594880" y="3311640"/>
              <a:ext cx="70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2 or SS7 circui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122800" y="2754360"/>
              <a:ext cx="746280" cy="495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146560" y="3146400"/>
              <a:ext cx="698760" cy="82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146560" y="2773440"/>
              <a:ext cx="698760" cy="333360"/>
            </a:xfrm>
            <a:custGeom>
              <a:avLst/>
              <a:gdLst/>
              <a:ahLst/>
              <a:rect l="l" t="t" r="r" b="b"/>
              <a:pathLst>
                <a:path w="880" h="418">
                  <a:moveTo>
                    <a:pt x="777" y="14"/>
                  </a:moveTo>
                  <a:lnTo>
                    <a:pt x="779" y="5"/>
                  </a:lnTo>
                  <a:lnTo>
                    <a:pt x="786" y="2"/>
                  </a:lnTo>
                  <a:lnTo>
                    <a:pt x="797" y="2"/>
                  </a:lnTo>
                  <a:lnTo>
                    <a:pt x="804" y="5"/>
                  </a:lnTo>
                  <a:lnTo>
                    <a:pt x="806" y="14"/>
                  </a:lnTo>
                  <a:lnTo>
                    <a:pt x="804" y="21"/>
                  </a:lnTo>
                  <a:lnTo>
                    <a:pt x="797" y="26"/>
                  </a:lnTo>
                  <a:lnTo>
                    <a:pt x="786" y="26"/>
                  </a:lnTo>
                  <a:lnTo>
                    <a:pt x="779" y="21"/>
                  </a:lnTo>
                  <a:lnTo>
                    <a:pt x="777" y="14"/>
                  </a:lnTo>
                  <a:close/>
                  <a:moveTo>
                    <a:pt x="659" y="14"/>
                  </a:moveTo>
                  <a:lnTo>
                    <a:pt x="662" y="5"/>
                  </a:lnTo>
                  <a:lnTo>
                    <a:pt x="669" y="2"/>
                  </a:lnTo>
                  <a:lnTo>
                    <a:pt x="678" y="2"/>
                  </a:lnTo>
                  <a:lnTo>
                    <a:pt x="685" y="5"/>
                  </a:lnTo>
                  <a:lnTo>
                    <a:pt x="689" y="14"/>
                  </a:lnTo>
                  <a:lnTo>
                    <a:pt x="685" y="21"/>
                  </a:lnTo>
                  <a:lnTo>
                    <a:pt x="678" y="26"/>
                  </a:lnTo>
                  <a:lnTo>
                    <a:pt x="669" y="26"/>
                  </a:lnTo>
                  <a:lnTo>
                    <a:pt x="662" y="21"/>
                  </a:lnTo>
                  <a:lnTo>
                    <a:pt x="659" y="14"/>
                  </a:lnTo>
                  <a:close/>
                  <a:moveTo>
                    <a:pt x="542" y="14"/>
                  </a:moveTo>
                  <a:lnTo>
                    <a:pt x="544" y="5"/>
                  </a:lnTo>
                  <a:lnTo>
                    <a:pt x="553" y="2"/>
                  </a:lnTo>
                  <a:lnTo>
                    <a:pt x="562" y="2"/>
                  </a:lnTo>
                  <a:lnTo>
                    <a:pt x="569" y="5"/>
                  </a:lnTo>
                  <a:lnTo>
                    <a:pt x="570" y="14"/>
                  </a:lnTo>
                  <a:lnTo>
                    <a:pt x="569" y="21"/>
                  </a:lnTo>
                  <a:lnTo>
                    <a:pt x="562" y="26"/>
                  </a:lnTo>
                  <a:lnTo>
                    <a:pt x="553" y="26"/>
                  </a:lnTo>
                  <a:lnTo>
                    <a:pt x="544" y="21"/>
                  </a:lnTo>
                  <a:lnTo>
                    <a:pt x="542" y="14"/>
                  </a:lnTo>
                  <a:close/>
                  <a:moveTo>
                    <a:pt x="424" y="14"/>
                  </a:moveTo>
                  <a:lnTo>
                    <a:pt x="427" y="5"/>
                  </a:lnTo>
                  <a:lnTo>
                    <a:pt x="434" y="2"/>
                  </a:lnTo>
                  <a:lnTo>
                    <a:pt x="443" y="2"/>
                  </a:lnTo>
                  <a:lnTo>
                    <a:pt x="450" y="5"/>
                  </a:lnTo>
                  <a:lnTo>
                    <a:pt x="454" y="14"/>
                  </a:lnTo>
                  <a:lnTo>
                    <a:pt x="450" y="21"/>
                  </a:lnTo>
                  <a:lnTo>
                    <a:pt x="443" y="26"/>
                  </a:lnTo>
                  <a:lnTo>
                    <a:pt x="434" y="26"/>
                  </a:lnTo>
                  <a:lnTo>
                    <a:pt x="427" y="21"/>
                  </a:lnTo>
                  <a:lnTo>
                    <a:pt x="424" y="14"/>
                  </a:lnTo>
                  <a:close/>
                  <a:moveTo>
                    <a:pt x="307" y="14"/>
                  </a:moveTo>
                  <a:lnTo>
                    <a:pt x="311" y="5"/>
                  </a:lnTo>
                  <a:lnTo>
                    <a:pt x="318" y="2"/>
                  </a:lnTo>
                  <a:lnTo>
                    <a:pt x="327" y="2"/>
                  </a:lnTo>
                  <a:lnTo>
                    <a:pt x="334" y="5"/>
                  </a:lnTo>
                  <a:lnTo>
                    <a:pt x="337" y="14"/>
                  </a:lnTo>
                  <a:lnTo>
                    <a:pt x="334" y="21"/>
                  </a:lnTo>
                  <a:lnTo>
                    <a:pt x="327" y="26"/>
                  </a:lnTo>
                  <a:lnTo>
                    <a:pt x="318" y="26"/>
                  </a:lnTo>
                  <a:lnTo>
                    <a:pt x="311" y="21"/>
                  </a:lnTo>
                  <a:lnTo>
                    <a:pt x="307" y="14"/>
                  </a:lnTo>
                  <a:close/>
                  <a:moveTo>
                    <a:pt x="189" y="14"/>
                  </a:moveTo>
                  <a:lnTo>
                    <a:pt x="192" y="5"/>
                  </a:lnTo>
                  <a:lnTo>
                    <a:pt x="199" y="2"/>
                  </a:lnTo>
                  <a:lnTo>
                    <a:pt x="208" y="2"/>
                  </a:lnTo>
                  <a:lnTo>
                    <a:pt x="217" y="5"/>
                  </a:lnTo>
                  <a:lnTo>
                    <a:pt x="219" y="14"/>
                  </a:lnTo>
                  <a:lnTo>
                    <a:pt x="217" y="21"/>
                  </a:lnTo>
                  <a:lnTo>
                    <a:pt x="208" y="26"/>
                  </a:lnTo>
                  <a:lnTo>
                    <a:pt x="199" y="26"/>
                  </a:lnTo>
                  <a:lnTo>
                    <a:pt x="192" y="21"/>
                  </a:lnTo>
                  <a:lnTo>
                    <a:pt x="189" y="14"/>
                  </a:lnTo>
                  <a:close/>
                  <a:moveTo>
                    <a:pt x="72" y="14"/>
                  </a:moveTo>
                  <a:lnTo>
                    <a:pt x="76" y="5"/>
                  </a:lnTo>
                  <a:lnTo>
                    <a:pt x="83" y="2"/>
                  </a:lnTo>
                  <a:lnTo>
                    <a:pt x="92" y="2"/>
                  </a:lnTo>
                  <a:lnTo>
                    <a:pt x="99" y="5"/>
                  </a:lnTo>
                  <a:lnTo>
                    <a:pt x="102" y="14"/>
                  </a:lnTo>
                  <a:lnTo>
                    <a:pt x="99" y="21"/>
                  </a:lnTo>
                  <a:lnTo>
                    <a:pt x="92" y="26"/>
                  </a:lnTo>
                  <a:lnTo>
                    <a:pt x="83" y="26"/>
                  </a:lnTo>
                  <a:lnTo>
                    <a:pt x="76" y="21"/>
                  </a:lnTo>
                  <a:lnTo>
                    <a:pt x="72" y="14"/>
                  </a:lnTo>
                  <a:close/>
                  <a:moveTo>
                    <a:pt x="116" y="418"/>
                  </a:moveTo>
                  <a:lnTo>
                    <a:pt x="175" y="418"/>
                  </a:lnTo>
                  <a:lnTo>
                    <a:pt x="175" y="0"/>
                  </a:lnTo>
                  <a:lnTo>
                    <a:pt x="116" y="0"/>
                  </a:lnTo>
                  <a:lnTo>
                    <a:pt x="116" y="418"/>
                  </a:lnTo>
                  <a:close/>
                  <a:moveTo>
                    <a:pt x="233" y="418"/>
                  </a:moveTo>
                  <a:lnTo>
                    <a:pt x="293" y="418"/>
                  </a:lnTo>
                  <a:lnTo>
                    <a:pt x="293" y="0"/>
                  </a:lnTo>
                  <a:lnTo>
                    <a:pt x="233" y="0"/>
                  </a:lnTo>
                  <a:lnTo>
                    <a:pt x="233" y="418"/>
                  </a:lnTo>
                  <a:close/>
                  <a:moveTo>
                    <a:pt x="351" y="418"/>
                  </a:moveTo>
                  <a:lnTo>
                    <a:pt x="410" y="418"/>
                  </a:lnTo>
                  <a:lnTo>
                    <a:pt x="410" y="0"/>
                  </a:lnTo>
                  <a:lnTo>
                    <a:pt x="351" y="0"/>
                  </a:lnTo>
                  <a:lnTo>
                    <a:pt x="351" y="418"/>
                  </a:lnTo>
                  <a:close/>
                  <a:moveTo>
                    <a:pt x="468" y="418"/>
                  </a:moveTo>
                  <a:lnTo>
                    <a:pt x="526" y="418"/>
                  </a:lnTo>
                  <a:lnTo>
                    <a:pt x="526" y="0"/>
                  </a:lnTo>
                  <a:lnTo>
                    <a:pt x="468" y="0"/>
                  </a:lnTo>
                  <a:lnTo>
                    <a:pt x="468" y="418"/>
                  </a:lnTo>
                  <a:close/>
                  <a:moveTo>
                    <a:pt x="586" y="418"/>
                  </a:moveTo>
                  <a:lnTo>
                    <a:pt x="645" y="418"/>
                  </a:lnTo>
                  <a:lnTo>
                    <a:pt x="645" y="0"/>
                  </a:lnTo>
                  <a:lnTo>
                    <a:pt x="586" y="0"/>
                  </a:lnTo>
                  <a:lnTo>
                    <a:pt x="586" y="418"/>
                  </a:lnTo>
                  <a:close/>
                  <a:moveTo>
                    <a:pt x="703" y="418"/>
                  </a:moveTo>
                  <a:lnTo>
                    <a:pt x="761" y="418"/>
                  </a:lnTo>
                  <a:lnTo>
                    <a:pt x="761" y="0"/>
                  </a:lnTo>
                  <a:lnTo>
                    <a:pt x="703" y="0"/>
                  </a:lnTo>
                  <a:lnTo>
                    <a:pt x="703" y="418"/>
                  </a:lnTo>
                  <a:close/>
                  <a:moveTo>
                    <a:pt x="821" y="418"/>
                  </a:moveTo>
                  <a:lnTo>
                    <a:pt x="880" y="418"/>
                  </a:lnTo>
                  <a:lnTo>
                    <a:pt x="880" y="0"/>
                  </a:lnTo>
                  <a:lnTo>
                    <a:pt x="821" y="0"/>
                  </a:lnTo>
                  <a:lnTo>
                    <a:pt x="821" y="418"/>
                  </a:lnTo>
                  <a:close/>
                  <a:moveTo>
                    <a:pt x="0" y="418"/>
                  </a:moveTo>
                  <a:lnTo>
                    <a:pt x="58" y="418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168880" y="3166920"/>
              <a:ext cx="652320" cy="41400"/>
            </a:xfrm>
            <a:custGeom>
              <a:avLst/>
              <a:gdLst/>
              <a:ahLst/>
              <a:rect l="l" t="t" r="r" b="b"/>
              <a:pathLst>
                <a:path w="822" h="51">
                  <a:moveTo>
                    <a:pt x="705" y="51"/>
                  </a:moveTo>
                  <a:lnTo>
                    <a:pt x="822" y="51"/>
                  </a:lnTo>
                  <a:lnTo>
                    <a:pt x="822" y="0"/>
                  </a:lnTo>
                  <a:lnTo>
                    <a:pt x="705" y="0"/>
                  </a:lnTo>
                  <a:lnTo>
                    <a:pt x="705" y="51"/>
                  </a:lnTo>
                  <a:close/>
                  <a:moveTo>
                    <a:pt x="528" y="51"/>
                  </a:moveTo>
                  <a:lnTo>
                    <a:pt x="647" y="51"/>
                  </a:lnTo>
                  <a:lnTo>
                    <a:pt x="647" y="0"/>
                  </a:lnTo>
                  <a:lnTo>
                    <a:pt x="528" y="0"/>
                  </a:lnTo>
                  <a:lnTo>
                    <a:pt x="528" y="51"/>
                  </a:lnTo>
                  <a:close/>
                  <a:moveTo>
                    <a:pt x="352" y="51"/>
                  </a:moveTo>
                  <a:lnTo>
                    <a:pt x="470" y="51"/>
                  </a:lnTo>
                  <a:lnTo>
                    <a:pt x="470" y="0"/>
                  </a:lnTo>
                  <a:lnTo>
                    <a:pt x="352" y="0"/>
                  </a:lnTo>
                  <a:lnTo>
                    <a:pt x="352" y="51"/>
                  </a:lnTo>
                  <a:close/>
                  <a:moveTo>
                    <a:pt x="177" y="51"/>
                  </a:moveTo>
                  <a:lnTo>
                    <a:pt x="293" y="51"/>
                  </a:lnTo>
                  <a:lnTo>
                    <a:pt x="293" y="0"/>
                  </a:lnTo>
                  <a:lnTo>
                    <a:pt x="177" y="0"/>
                  </a:lnTo>
                  <a:lnTo>
                    <a:pt x="177" y="51"/>
                  </a:lnTo>
                  <a:close/>
                  <a:moveTo>
                    <a:pt x="0" y="51"/>
                  </a:moveTo>
                  <a:lnTo>
                    <a:pt x="118" y="51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065560" y="3287880"/>
              <a:ext cx="37800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109480" y="329724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181480" y="3505320"/>
              <a:ext cx="638280" cy="150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213520" y="3562200"/>
              <a:ext cx="31680" cy="39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452920" y="3562200"/>
              <a:ext cx="3333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81480" y="3524400"/>
              <a:ext cx="638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468760" y="3571920"/>
              <a:ext cx="303480" cy="20520"/>
            </a:xfrm>
            <a:custGeom>
              <a:avLst/>
              <a:gdLst/>
              <a:ahLst/>
              <a:rect l="l" t="t" r="r" b="b"/>
              <a:pathLst>
                <a:path w="382" h="25">
                  <a:moveTo>
                    <a:pt x="80" y="25"/>
                  </a:moveTo>
                  <a:lnTo>
                    <a:pt x="101" y="25"/>
                  </a:lnTo>
                  <a:lnTo>
                    <a:pt x="101" y="0"/>
                  </a:lnTo>
                  <a:lnTo>
                    <a:pt x="80" y="0"/>
                  </a:lnTo>
                  <a:lnTo>
                    <a:pt x="80" y="25"/>
                  </a:lnTo>
                  <a:close/>
                  <a:moveTo>
                    <a:pt x="41" y="25"/>
                  </a:moveTo>
                  <a:lnTo>
                    <a:pt x="60" y="25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41" y="25"/>
                  </a:lnTo>
                  <a:close/>
                  <a:moveTo>
                    <a:pt x="0" y="25"/>
                  </a:moveTo>
                  <a:lnTo>
                    <a:pt x="20" y="2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5"/>
                  </a:lnTo>
                  <a:close/>
                  <a:moveTo>
                    <a:pt x="142" y="25"/>
                  </a:moveTo>
                  <a:lnTo>
                    <a:pt x="161" y="25"/>
                  </a:lnTo>
                  <a:lnTo>
                    <a:pt x="161" y="0"/>
                  </a:lnTo>
                  <a:lnTo>
                    <a:pt x="142" y="0"/>
                  </a:lnTo>
                  <a:lnTo>
                    <a:pt x="142" y="25"/>
                  </a:lnTo>
                  <a:close/>
                  <a:moveTo>
                    <a:pt x="202" y="25"/>
                  </a:moveTo>
                  <a:lnTo>
                    <a:pt x="221" y="25"/>
                  </a:lnTo>
                  <a:lnTo>
                    <a:pt x="221" y="0"/>
                  </a:lnTo>
                  <a:lnTo>
                    <a:pt x="202" y="0"/>
                  </a:lnTo>
                  <a:lnTo>
                    <a:pt x="202" y="25"/>
                  </a:lnTo>
                  <a:close/>
                  <a:moveTo>
                    <a:pt x="241" y="25"/>
                  </a:moveTo>
                  <a:lnTo>
                    <a:pt x="262" y="25"/>
                  </a:lnTo>
                  <a:lnTo>
                    <a:pt x="262" y="0"/>
                  </a:lnTo>
                  <a:lnTo>
                    <a:pt x="241" y="0"/>
                  </a:lnTo>
                  <a:lnTo>
                    <a:pt x="241" y="25"/>
                  </a:lnTo>
                  <a:close/>
                  <a:moveTo>
                    <a:pt x="281" y="25"/>
                  </a:moveTo>
                  <a:lnTo>
                    <a:pt x="303" y="25"/>
                  </a:lnTo>
                  <a:lnTo>
                    <a:pt x="303" y="0"/>
                  </a:lnTo>
                  <a:lnTo>
                    <a:pt x="281" y="0"/>
                  </a:lnTo>
                  <a:lnTo>
                    <a:pt x="281" y="25"/>
                  </a:lnTo>
                  <a:close/>
                  <a:moveTo>
                    <a:pt x="322" y="25"/>
                  </a:moveTo>
                  <a:lnTo>
                    <a:pt x="341" y="25"/>
                  </a:lnTo>
                  <a:lnTo>
                    <a:pt x="341" y="0"/>
                  </a:lnTo>
                  <a:lnTo>
                    <a:pt x="322" y="0"/>
                  </a:lnTo>
                  <a:lnTo>
                    <a:pt x="322" y="25"/>
                  </a:lnTo>
                  <a:close/>
                  <a:moveTo>
                    <a:pt x="363" y="25"/>
                  </a:moveTo>
                  <a:lnTo>
                    <a:pt x="382" y="25"/>
                  </a:lnTo>
                  <a:lnTo>
                    <a:pt x="382" y="0"/>
                  </a:lnTo>
                  <a:lnTo>
                    <a:pt x="363" y="0"/>
                  </a:lnTo>
                  <a:lnTo>
                    <a:pt x="363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065560" y="3693960"/>
              <a:ext cx="297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6600" y="370188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495760" y="3249720"/>
              <a:ext cx="180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884760" y="2028960"/>
              <a:ext cx="1611000" cy="636480"/>
            </a:xfrm>
            <a:custGeom>
              <a:avLst/>
              <a:gdLst/>
              <a:ahLst/>
              <a:rect l="l" t="t" r="r" b="b"/>
              <a:pathLst>
                <a:path w="2031" h="801">
                  <a:moveTo>
                    <a:pt x="0" y="0"/>
                  </a:moveTo>
                  <a:lnTo>
                    <a:pt x="2031" y="0"/>
                  </a:lnTo>
                  <a:lnTo>
                    <a:pt x="2031" y="80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464080" y="2657520"/>
              <a:ext cx="65160" cy="968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81" y="0"/>
                  </a:moveTo>
                  <a:lnTo>
                    <a:pt x="41" y="121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745160" y="1852560"/>
              <a:ext cx="5680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96640" y="186048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direction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862880" y="197316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960080" y="208440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448320" y="2365200"/>
              <a:ext cx="381240" cy="2373480"/>
            </a:xfrm>
            <a:custGeom>
              <a:avLst/>
              <a:gdLst/>
              <a:ahLst/>
              <a:rect l="l" t="t" r="r" b="b"/>
              <a:pathLst>
                <a:path w="479" h="2991">
                  <a:moveTo>
                    <a:pt x="479" y="0"/>
                  </a:moveTo>
                  <a:lnTo>
                    <a:pt x="479" y="2991"/>
                  </a:lnTo>
                  <a:lnTo>
                    <a:pt x="0" y="299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311120" y="1000080"/>
              <a:ext cx="908280" cy="380880"/>
            </a:xfrm>
            <a:custGeom>
              <a:avLst/>
              <a:gdLst/>
              <a:ahLst/>
              <a:rect l="l" t="t" r="r" b="b"/>
              <a:pathLst>
                <a:path w="1143" h="478">
                  <a:moveTo>
                    <a:pt x="0" y="0"/>
                  </a:moveTo>
                  <a:lnTo>
                    <a:pt x="1143" y="0"/>
                  </a:lnTo>
                  <a:lnTo>
                    <a:pt x="1143" y="4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3" name=""/>
          <p:cNvSpPr/>
          <p:nvPr/>
        </p:nvSpPr>
        <p:spPr>
          <a:xfrm>
            <a:off x="1649520" y="2765520"/>
            <a:ext cx="569880" cy="1212840"/>
          </a:xfrm>
          <a:custGeom>
            <a:avLst/>
            <a:gdLst/>
            <a:ahLst/>
            <a:rect l="l" t="t" r="r" b="b"/>
            <a:pathLst>
              <a:path w="717" h="1529">
                <a:moveTo>
                  <a:pt x="717" y="0"/>
                </a:moveTo>
                <a:lnTo>
                  <a:pt x="717" y="1529"/>
                </a:lnTo>
                <a:lnTo>
                  <a:pt x="0" y="15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187720" y="2676600"/>
            <a:ext cx="63360" cy="96840"/>
          </a:xfrm>
          <a:custGeom>
            <a:avLst/>
            <a:gdLst/>
            <a:ahLst/>
            <a:rect l="l" t="t" r="r" b="b"/>
            <a:pathLst>
              <a:path w="81" h="122">
                <a:moveTo>
                  <a:pt x="0" y="122"/>
                </a:moveTo>
                <a:lnTo>
                  <a:pt x="40" y="0"/>
                </a:lnTo>
                <a:lnTo>
                  <a:pt x="81" y="122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562040" y="3946680"/>
            <a:ext cx="96840" cy="64800"/>
          </a:xfrm>
          <a:custGeom>
            <a:avLst/>
            <a:gdLst/>
            <a:ahLst/>
            <a:rect l="l" t="t" r="r" b="b"/>
            <a:pathLst>
              <a:path w="122" h="81">
                <a:moveTo>
                  <a:pt x="122" y="81"/>
                </a:moveTo>
                <a:lnTo>
                  <a:pt x="0" y="41"/>
                </a:lnTo>
                <a:lnTo>
                  <a:pt x="122" y="0"/>
                </a:lnTo>
                <a:lnTo>
                  <a:pt x="122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976480" y="933480"/>
            <a:ext cx="324000" cy="447480"/>
          </a:xfrm>
          <a:custGeom>
            <a:avLst/>
            <a:gdLst/>
            <a:ahLst/>
            <a:rect l="l" t="t" r="r" b="b"/>
            <a:pathLst>
              <a:path w="408" h="563">
                <a:moveTo>
                  <a:pt x="408" y="0"/>
                </a:moveTo>
                <a:lnTo>
                  <a:pt x="408" y="157"/>
                </a:lnTo>
                <a:lnTo>
                  <a:pt x="0" y="157"/>
                </a:lnTo>
                <a:lnTo>
                  <a:pt x="0" y="56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146240" y="4738680"/>
            <a:ext cx="663480" cy="662040"/>
          </a:xfrm>
          <a:custGeom>
            <a:avLst/>
            <a:gdLst/>
            <a:ahLst/>
            <a:rect l="l" t="t" r="r" b="b"/>
            <a:pathLst>
              <a:path w="836" h="833">
                <a:moveTo>
                  <a:pt x="251" y="492"/>
                </a:moveTo>
                <a:lnTo>
                  <a:pt x="585" y="492"/>
                </a:lnTo>
                <a:lnTo>
                  <a:pt x="585" y="455"/>
                </a:lnTo>
                <a:lnTo>
                  <a:pt x="251" y="455"/>
                </a:lnTo>
                <a:lnTo>
                  <a:pt x="251" y="492"/>
                </a:lnTo>
                <a:close/>
                <a:moveTo>
                  <a:pt x="85" y="455"/>
                </a:moveTo>
                <a:lnTo>
                  <a:pt x="751" y="455"/>
                </a:lnTo>
                <a:lnTo>
                  <a:pt x="751" y="0"/>
                </a:lnTo>
                <a:lnTo>
                  <a:pt x="85" y="0"/>
                </a:lnTo>
                <a:lnTo>
                  <a:pt x="85" y="455"/>
                </a:lnTo>
                <a:close/>
                <a:moveTo>
                  <a:pt x="168" y="607"/>
                </a:moveTo>
                <a:lnTo>
                  <a:pt x="668" y="607"/>
                </a:lnTo>
                <a:lnTo>
                  <a:pt x="668" y="492"/>
                </a:lnTo>
                <a:lnTo>
                  <a:pt x="168" y="492"/>
                </a:lnTo>
                <a:lnTo>
                  <a:pt x="168" y="607"/>
                </a:lnTo>
                <a:close/>
                <a:moveTo>
                  <a:pt x="628" y="607"/>
                </a:moveTo>
                <a:lnTo>
                  <a:pt x="244" y="607"/>
                </a:lnTo>
                <a:lnTo>
                  <a:pt x="0" y="607"/>
                </a:lnTo>
                <a:lnTo>
                  <a:pt x="0" y="833"/>
                </a:lnTo>
                <a:lnTo>
                  <a:pt x="836" y="833"/>
                </a:lnTo>
                <a:lnTo>
                  <a:pt x="836" y="607"/>
                </a:lnTo>
                <a:lnTo>
                  <a:pt x="628" y="607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362240" y="5265720"/>
            <a:ext cx="99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1163520" y="5237280"/>
            <a:ext cx="50760" cy="2844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18"/>
                </a:moveTo>
                <a:lnTo>
                  <a:pt x="4" y="9"/>
                </a:lnTo>
                <a:lnTo>
                  <a:pt x="13" y="4"/>
                </a:lnTo>
                <a:lnTo>
                  <a:pt x="25" y="0"/>
                </a:lnTo>
                <a:lnTo>
                  <a:pt x="39" y="0"/>
                </a:lnTo>
                <a:lnTo>
                  <a:pt x="52" y="4"/>
                </a:lnTo>
                <a:lnTo>
                  <a:pt x="61" y="9"/>
                </a:lnTo>
                <a:lnTo>
                  <a:pt x="64" y="18"/>
                </a:lnTo>
                <a:lnTo>
                  <a:pt x="61" y="27"/>
                </a:lnTo>
                <a:lnTo>
                  <a:pt x="52" y="32"/>
                </a:lnTo>
                <a:lnTo>
                  <a:pt x="39" y="37"/>
                </a:lnTo>
                <a:lnTo>
                  <a:pt x="25" y="37"/>
                </a:lnTo>
                <a:lnTo>
                  <a:pt x="13" y="32"/>
                </a:lnTo>
                <a:lnTo>
                  <a:pt x="4" y="27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279440" y="4799160"/>
            <a:ext cx="397080" cy="2412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163520" y="5356080"/>
            <a:ext cx="628920" cy="30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727280" y="5235480"/>
            <a:ext cx="31680" cy="46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146240" y="529596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146240" y="532620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34604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47780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 flipV="1">
            <a:off x="1544760" y="522108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676520" y="522144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219320" y="5440320"/>
            <a:ext cx="51732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268280" y="5448240"/>
            <a:ext cx="465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809720" y="4738680"/>
            <a:ext cx="514440" cy="552600"/>
          </a:xfrm>
          <a:custGeom>
            <a:avLst/>
            <a:gdLst/>
            <a:ahLst/>
            <a:rect l="l" t="t" r="r" b="b"/>
            <a:pathLst>
              <a:path w="647" h="695">
                <a:moveTo>
                  <a:pt x="647" y="0"/>
                </a:moveTo>
                <a:lnTo>
                  <a:pt x="492" y="0"/>
                </a:lnTo>
                <a:lnTo>
                  <a:pt x="492" y="695"/>
                </a:lnTo>
                <a:lnTo>
                  <a:pt x="0" y="6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2219400" y="1380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2274840" y="1474920"/>
            <a:ext cx="3348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2328840" y="15685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2384280" y="16621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438280" y="1755720"/>
            <a:ext cx="349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2494080" y="18493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2549520" y="19447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603520" y="20383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658960" y="2131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2714760" y="2225520"/>
            <a:ext cx="3312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770200" y="2320920"/>
            <a:ext cx="3348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824200" y="2416320"/>
            <a:ext cx="3492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879640" y="2509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2935440" y="2604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976480" y="138096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065400" y="1442880"/>
            <a:ext cx="54000" cy="3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154320" y="150660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241800" y="1571760"/>
            <a:ext cx="55440" cy="3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330720" y="1633680"/>
            <a:ext cx="540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3419640" y="1697040"/>
            <a:ext cx="5364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508200" y="176040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597120" y="1824120"/>
            <a:ext cx="540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3686040" y="188748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3774960" y="1951200"/>
            <a:ext cx="558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863880" y="2014560"/>
            <a:ext cx="2088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4129200" y="391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4129200" y="423864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29200" y="439092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129200" y="454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129200" y="487044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129200" y="502128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4129200" y="517212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129200" y="550080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4129200" y="5651640"/>
            <a:ext cx="144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129200" y="1595520"/>
            <a:ext cx="496800" cy="396720"/>
          </a:xfrm>
          <a:custGeom>
            <a:avLst/>
            <a:gdLst/>
            <a:ahLst/>
            <a:rect l="l" t="t" r="r" b="b"/>
            <a:pathLst>
              <a:path w="627" h="499">
                <a:moveTo>
                  <a:pt x="0" y="250"/>
                </a:moveTo>
                <a:lnTo>
                  <a:pt x="3" y="212"/>
                </a:lnTo>
                <a:lnTo>
                  <a:pt x="14" y="176"/>
                </a:lnTo>
                <a:lnTo>
                  <a:pt x="31" y="141"/>
                </a:lnTo>
                <a:lnTo>
                  <a:pt x="54" y="109"/>
                </a:lnTo>
                <a:lnTo>
                  <a:pt x="84" y="79"/>
                </a:lnTo>
                <a:lnTo>
                  <a:pt x="118" y="55"/>
                </a:lnTo>
                <a:lnTo>
                  <a:pt x="157" y="33"/>
                </a:lnTo>
                <a:lnTo>
                  <a:pt x="199" y="17"/>
                </a:lnTo>
                <a:lnTo>
                  <a:pt x="243" y="5"/>
                </a:lnTo>
                <a:lnTo>
                  <a:pt x="289" y="0"/>
                </a:lnTo>
                <a:lnTo>
                  <a:pt x="337" y="0"/>
                </a:lnTo>
                <a:lnTo>
                  <a:pt x="383" y="5"/>
                </a:lnTo>
                <a:lnTo>
                  <a:pt x="427" y="17"/>
                </a:lnTo>
                <a:lnTo>
                  <a:pt x="470" y="33"/>
                </a:lnTo>
                <a:lnTo>
                  <a:pt x="509" y="55"/>
                </a:lnTo>
                <a:lnTo>
                  <a:pt x="542" y="79"/>
                </a:lnTo>
                <a:lnTo>
                  <a:pt x="572" y="109"/>
                </a:lnTo>
                <a:lnTo>
                  <a:pt x="595" y="141"/>
                </a:lnTo>
                <a:lnTo>
                  <a:pt x="613" y="176"/>
                </a:lnTo>
                <a:lnTo>
                  <a:pt x="623" y="212"/>
                </a:lnTo>
                <a:lnTo>
                  <a:pt x="627" y="250"/>
                </a:lnTo>
                <a:lnTo>
                  <a:pt x="623" y="288"/>
                </a:lnTo>
                <a:lnTo>
                  <a:pt x="613" y="323"/>
                </a:lnTo>
                <a:lnTo>
                  <a:pt x="595" y="358"/>
                </a:lnTo>
                <a:lnTo>
                  <a:pt x="572" y="390"/>
                </a:lnTo>
                <a:lnTo>
                  <a:pt x="542" y="420"/>
                </a:lnTo>
                <a:lnTo>
                  <a:pt x="509" y="445"/>
                </a:lnTo>
                <a:lnTo>
                  <a:pt x="470" y="466"/>
                </a:lnTo>
                <a:lnTo>
                  <a:pt x="427" y="483"/>
                </a:lnTo>
                <a:lnTo>
                  <a:pt x="383" y="494"/>
                </a:lnTo>
                <a:lnTo>
                  <a:pt x="337" y="499"/>
                </a:lnTo>
                <a:lnTo>
                  <a:pt x="289" y="499"/>
                </a:lnTo>
                <a:lnTo>
                  <a:pt x="243" y="494"/>
                </a:lnTo>
                <a:lnTo>
                  <a:pt x="199" y="483"/>
                </a:lnTo>
                <a:lnTo>
                  <a:pt x="157" y="466"/>
                </a:lnTo>
                <a:lnTo>
                  <a:pt x="118" y="445"/>
                </a:lnTo>
                <a:lnTo>
                  <a:pt x="84" y="420"/>
                </a:lnTo>
                <a:lnTo>
                  <a:pt x="54" y="390"/>
                </a:lnTo>
                <a:lnTo>
                  <a:pt x="31" y="358"/>
                </a:lnTo>
                <a:lnTo>
                  <a:pt x="14" y="323"/>
                </a:lnTo>
                <a:lnTo>
                  <a:pt x="3" y="288"/>
                </a:lnTo>
                <a:lnTo>
                  <a:pt x="0" y="250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357440" y="1693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3052800" y="2836800"/>
            <a:ext cx="496800" cy="496800"/>
          </a:xfrm>
          <a:custGeom>
            <a:avLst/>
            <a:gdLst/>
            <a:ahLst/>
            <a:rect l="l" t="t" r="r" b="b"/>
            <a:pathLst>
              <a:path w="626" h="625">
                <a:moveTo>
                  <a:pt x="0" y="313"/>
                </a:moveTo>
                <a:lnTo>
                  <a:pt x="4" y="265"/>
                </a:lnTo>
                <a:lnTo>
                  <a:pt x="12" y="221"/>
                </a:lnTo>
                <a:lnTo>
                  <a:pt x="30" y="177"/>
                </a:lnTo>
                <a:lnTo>
                  <a:pt x="53" y="136"/>
                </a:lnTo>
                <a:lnTo>
                  <a:pt x="83" y="99"/>
                </a:lnTo>
                <a:lnTo>
                  <a:pt x="117" y="67"/>
                </a:lnTo>
                <a:lnTo>
                  <a:pt x="156" y="41"/>
                </a:lnTo>
                <a:lnTo>
                  <a:pt x="198" y="22"/>
                </a:lnTo>
                <a:lnTo>
                  <a:pt x="242" y="7"/>
                </a:lnTo>
                <a:lnTo>
                  <a:pt x="288" y="0"/>
                </a:lnTo>
                <a:lnTo>
                  <a:pt x="336" y="0"/>
                </a:lnTo>
                <a:lnTo>
                  <a:pt x="382" y="7"/>
                </a:lnTo>
                <a:lnTo>
                  <a:pt x="426" y="22"/>
                </a:lnTo>
                <a:lnTo>
                  <a:pt x="468" y="41"/>
                </a:lnTo>
                <a:lnTo>
                  <a:pt x="507" y="67"/>
                </a:lnTo>
                <a:lnTo>
                  <a:pt x="543" y="99"/>
                </a:lnTo>
                <a:lnTo>
                  <a:pt x="571" y="136"/>
                </a:lnTo>
                <a:lnTo>
                  <a:pt x="594" y="177"/>
                </a:lnTo>
                <a:lnTo>
                  <a:pt x="612" y="221"/>
                </a:lnTo>
                <a:lnTo>
                  <a:pt x="622" y="265"/>
                </a:lnTo>
                <a:lnTo>
                  <a:pt x="626" y="313"/>
                </a:lnTo>
                <a:lnTo>
                  <a:pt x="622" y="359"/>
                </a:lnTo>
                <a:lnTo>
                  <a:pt x="612" y="405"/>
                </a:lnTo>
                <a:lnTo>
                  <a:pt x="594" y="449"/>
                </a:lnTo>
                <a:lnTo>
                  <a:pt x="571" y="489"/>
                </a:lnTo>
                <a:lnTo>
                  <a:pt x="543" y="525"/>
                </a:lnTo>
                <a:lnTo>
                  <a:pt x="507" y="556"/>
                </a:lnTo>
                <a:lnTo>
                  <a:pt x="468" y="583"/>
                </a:lnTo>
                <a:lnTo>
                  <a:pt x="426" y="604"/>
                </a:lnTo>
                <a:lnTo>
                  <a:pt x="382" y="618"/>
                </a:lnTo>
                <a:lnTo>
                  <a:pt x="336" y="625"/>
                </a:lnTo>
                <a:lnTo>
                  <a:pt x="288" y="625"/>
                </a:lnTo>
                <a:lnTo>
                  <a:pt x="242" y="618"/>
                </a:lnTo>
                <a:lnTo>
                  <a:pt x="198" y="604"/>
                </a:lnTo>
                <a:lnTo>
                  <a:pt x="156" y="583"/>
                </a:lnTo>
                <a:lnTo>
                  <a:pt x="117" y="556"/>
                </a:lnTo>
                <a:lnTo>
                  <a:pt x="83" y="525"/>
                </a:lnTo>
                <a:lnTo>
                  <a:pt x="53" y="489"/>
                </a:lnTo>
                <a:lnTo>
                  <a:pt x="30" y="449"/>
                </a:lnTo>
                <a:lnTo>
                  <a:pt x="12" y="405"/>
                </a:lnTo>
                <a:lnTo>
                  <a:pt x="4" y="359"/>
                </a:lnTo>
                <a:lnTo>
                  <a:pt x="0" y="313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281040" y="2982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644480" y="2919240"/>
            <a:ext cx="497160" cy="497160"/>
          </a:xfrm>
          <a:custGeom>
            <a:avLst/>
            <a:gdLst/>
            <a:ahLst/>
            <a:rect l="l" t="t" r="r" b="b"/>
            <a:pathLst>
              <a:path w="625" h="624">
                <a:moveTo>
                  <a:pt x="0" y="312"/>
                </a:moveTo>
                <a:lnTo>
                  <a:pt x="3" y="266"/>
                </a:lnTo>
                <a:lnTo>
                  <a:pt x="12" y="220"/>
                </a:lnTo>
                <a:lnTo>
                  <a:pt x="30" y="176"/>
                </a:lnTo>
                <a:lnTo>
                  <a:pt x="53" y="135"/>
                </a:lnTo>
                <a:lnTo>
                  <a:pt x="83" y="98"/>
                </a:lnTo>
                <a:lnTo>
                  <a:pt x="116" y="67"/>
                </a:lnTo>
                <a:lnTo>
                  <a:pt x="155" y="40"/>
                </a:lnTo>
                <a:lnTo>
                  <a:pt x="198" y="21"/>
                </a:lnTo>
                <a:lnTo>
                  <a:pt x="242" y="7"/>
                </a:lnTo>
                <a:lnTo>
                  <a:pt x="289" y="0"/>
                </a:lnTo>
                <a:lnTo>
                  <a:pt x="335" y="0"/>
                </a:lnTo>
                <a:lnTo>
                  <a:pt x="381" y="7"/>
                </a:lnTo>
                <a:lnTo>
                  <a:pt x="427" y="21"/>
                </a:lnTo>
                <a:lnTo>
                  <a:pt x="468" y="40"/>
                </a:lnTo>
                <a:lnTo>
                  <a:pt x="507" y="67"/>
                </a:lnTo>
                <a:lnTo>
                  <a:pt x="542" y="98"/>
                </a:lnTo>
                <a:lnTo>
                  <a:pt x="570" y="135"/>
                </a:lnTo>
                <a:lnTo>
                  <a:pt x="593" y="176"/>
                </a:lnTo>
                <a:lnTo>
                  <a:pt x="611" y="220"/>
                </a:lnTo>
                <a:lnTo>
                  <a:pt x="622" y="266"/>
                </a:lnTo>
                <a:lnTo>
                  <a:pt x="625" y="312"/>
                </a:lnTo>
                <a:lnTo>
                  <a:pt x="622" y="358"/>
                </a:lnTo>
                <a:lnTo>
                  <a:pt x="611" y="404"/>
                </a:lnTo>
                <a:lnTo>
                  <a:pt x="593" y="448"/>
                </a:lnTo>
                <a:lnTo>
                  <a:pt x="570" y="488"/>
                </a:lnTo>
                <a:lnTo>
                  <a:pt x="542" y="524"/>
                </a:lnTo>
                <a:lnTo>
                  <a:pt x="507" y="555"/>
                </a:lnTo>
                <a:lnTo>
                  <a:pt x="468" y="582"/>
                </a:lnTo>
                <a:lnTo>
                  <a:pt x="427" y="603"/>
                </a:lnTo>
                <a:lnTo>
                  <a:pt x="381" y="617"/>
                </a:lnTo>
                <a:lnTo>
                  <a:pt x="335" y="624"/>
                </a:lnTo>
                <a:lnTo>
                  <a:pt x="289" y="624"/>
                </a:lnTo>
                <a:lnTo>
                  <a:pt x="242" y="617"/>
                </a:lnTo>
                <a:lnTo>
                  <a:pt x="198" y="603"/>
                </a:lnTo>
                <a:lnTo>
                  <a:pt x="155" y="582"/>
                </a:lnTo>
                <a:lnTo>
                  <a:pt x="116" y="555"/>
                </a:lnTo>
                <a:lnTo>
                  <a:pt x="83" y="524"/>
                </a:lnTo>
                <a:lnTo>
                  <a:pt x="53" y="488"/>
                </a:lnTo>
                <a:lnTo>
                  <a:pt x="30" y="448"/>
                </a:lnTo>
                <a:lnTo>
                  <a:pt x="12" y="404"/>
                </a:lnTo>
                <a:lnTo>
                  <a:pt x="3" y="358"/>
                </a:ln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872720" y="30654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3963960" y="603360"/>
            <a:ext cx="165240" cy="198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3976560" y="615960"/>
            <a:ext cx="47880" cy="173160"/>
          </a:xfrm>
          <a:custGeom>
            <a:avLst/>
            <a:gdLst/>
            <a:ahLst/>
            <a:rect l="l" t="t" r="r" b="b"/>
            <a:pathLst>
              <a:path w="60" h="218">
                <a:moveTo>
                  <a:pt x="0" y="47"/>
                </a:moveTo>
                <a:lnTo>
                  <a:pt x="0" y="8"/>
                </a:lnTo>
                <a:lnTo>
                  <a:pt x="9" y="0"/>
                </a:lnTo>
                <a:lnTo>
                  <a:pt x="53" y="0"/>
                </a:lnTo>
                <a:lnTo>
                  <a:pt x="60" y="8"/>
                </a:lnTo>
                <a:lnTo>
                  <a:pt x="60" y="47"/>
                </a:lnTo>
                <a:lnTo>
                  <a:pt x="53" y="63"/>
                </a:lnTo>
                <a:lnTo>
                  <a:pt x="53" y="157"/>
                </a:lnTo>
                <a:lnTo>
                  <a:pt x="60" y="172"/>
                </a:lnTo>
                <a:lnTo>
                  <a:pt x="60" y="211"/>
                </a:lnTo>
                <a:lnTo>
                  <a:pt x="53" y="218"/>
                </a:lnTo>
                <a:lnTo>
                  <a:pt x="9" y="218"/>
                </a:lnTo>
                <a:lnTo>
                  <a:pt x="0" y="211"/>
                </a:lnTo>
                <a:lnTo>
                  <a:pt x="0" y="172"/>
                </a:lnTo>
                <a:lnTo>
                  <a:pt x="9" y="157"/>
                </a:lnTo>
                <a:lnTo>
                  <a:pt x="9" y="63"/>
                </a:lnTo>
                <a:lnTo>
                  <a:pt x="0" y="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4038480" y="615960"/>
            <a:ext cx="76320" cy="173160"/>
          </a:xfrm>
          <a:custGeom>
            <a:avLst/>
            <a:gdLst/>
            <a:ahLst/>
            <a:rect l="l" t="t" r="r" b="b"/>
            <a:pathLst>
              <a:path w="96" h="218">
                <a:moveTo>
                  <a:pt x="0" y="79"/>
                </a:moveTo>
                <a:lnTo>
                  <a:pt x="45" y="79"/>
                </a:lnTo>
                <a:lnTo>
                  <a:pt x="45" y="0"/>
                </a:lnTo>
                <a:lnTo>
                  <a:pt x="0" y="0"/>
                </a:lnTo>
                <a:lnTo>
                  <a:pt x="0" y="79"/>
                </a:lnTo>
                <a:close/>
                <a:moveTo>
                  <a:pt x="53" y="79"/>
                </a:moveTo>
                <a:lnTo>
                  <a:pt x="96" y="79"/>
                </a:lnTo>
                <a:lnTo>
                  <a:pt x="96" y="0"/>
                </a:lnTo>
                <a:lnTo>
                  <a:pt x="53" y="0"/>
                </a:lnTo>
                <a:lnTo>
                  <a:pt x="53" y="79"/>
                </a:lnTo>
                <a:close/>
                <a:moveTo>
                  <a:pt x="0" y="218"/>
                </a:moveTo>
                <a:lnTo>
                  <a:pt x="96" y="218"/>
                </a:lnTo>
                <a:lnTo>
                  <a:pt x="96" y="141"/>
                </a:lnTo>
                <a:lnTo>
                  <a:pt x="0" y="141"/>
                </a:lnTo>
                <a:lnTo>
                  <a:pt x="0" y="21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4038480" y="7142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4038480" y="70956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038480" y="7016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4038480" y="69696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4038480" y="69048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081320" y="63036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081320" y="66204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081320" y="64620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038480" y="63036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038480" y="66204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4038480" y="64620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4038480" y="7732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4038480" y="7588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4038480" y="74304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089240" y="727200"/>
            <a:ext cx="180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064040" y="727200"/>
            <a:ext cx="144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3817800" y="839880"/>
            <a:ext cx="4590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3865680" y="847800"/>
            <a:ext cx="41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3549600" y="701640"/>
            <a:ext cx="414360" cy="108000"/>
          </a:xfrm>
          <a:custGeom>
            <a:avLst/>
            <a:gdLst/>
            <a:ahLst/>
            <a:rect l="l" t="t" r="r" b="b"/>
            <a:pathLst>
              <a:path w="521" h="136">
                <a:moveTo>
                  <a:pt x="521" y="0"/>
                </a:moveTo>
                <a:lnTo>
                  <a:pt x="365" y="0"/>
                </a:lnTo>
                <a:lnTo>
                  <a:pt x="365" y="136"/>
                </a:lnTo>
                <a:lnTo>
                  <a:pt x="0" y="1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3886200" y="1828800"/>
            <a:ext cx="1955880" cy="914400"/>
          </a:xfrm>
          <a:custGeom>
            <a:avLst/>
            <a:gdLst/>
            <a:ahLst/>
            <a:rect l="l" t="t" r="r" b="b"/>
            <a:pathLst>
              <a:path w="1232" h="576">
                <a:moveTo>
                  <a:pt x="1056" y="576"/>
                </a:moveTo>
                <a:cubicBezTo>
                  <a:pt x="1144" y="384"/>
                  <a:pt x="1232" y="192"/>
                  <a:pt x="1056" y="96"/>
                </a:cubicBezTo>
                <a:cubicBezTo>
                  <a:pt x="880" y="0"/>
                  <a:pt x="184" y="16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3886200" y="167652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809880" y="175248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2882880" y="990720"/>
            <a:ext cx="2793960" cy="1752480"/>
          </a:xfrm>
          <a:custGeom>
            <a:avLst/>
            <a:gdLst/>
            <a:ahLst/>
            <a:rect l="l" t="t" r="r" b="b"/>
            <a:pathLst>
              <a:path w="1760" h="1104">
                <a:moveTo>
                  <a:pt x="296" y="0"/>
                </a:moveTo>
                <a:cubicBezTo>
                  <a:pt x="148" y="64"/>
                  <a:pt x="0" y="128"/>
                  <a:pt x="56" y="240"/>
                </a:cubicBezTo>
                <a:cubicBezTo>
                  <a:pt x="112" y="352"/>
                  <a:pt x="376" y="600"/>
                  <a:pt x="632" y="672"/>
                </a:cubicBezTo>
                <a:cubicBezTo>
                  <a:pt x="888" y="744"/>
                  <a:pt x="1424" y="600"/>
                  <a:pt x="1592" y="672"/>
                </a:cubicBezTo>
                <a:cubicBezTo>
                  <a:pt x="1760" y="744"/>
                  <a:pt x="1700" y="924"/>
                  <a:pt x="1640" y="110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8EF-8576-4448-A220-7E9EB2A1FD95}" type="slidenum">
              <a:t>7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Analysis of type C4 calls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(computer/telephone-to-telephone termination)</a:t>
            </a:r>
            <a:endParaRPr b="1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 call termin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PH operator will receive the price of an incoming national call, depending on where the latter termin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single transit if the call terminates in the tariff area where the interconnection point is located;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Times New Roman"/>
              </a:rPr>
              <a:t>double transit if it terminates outside that area.</a:t>
            </a:r>
            <a:endParaRPr b="1" i="1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ITU can easily calculate the bases of these tariff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is type of call is terminated on the TPH network via a type “C” link, the result will be a fraudulent situation because the price of domestic calls will in all likelihood be largely subsidized wherever there is an access deficit (see COSIT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A5A-EAAB-4E65-8421-161ADC5B80A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ational to na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from an international correspondent to an operator without an international gateway located within the same political borders as the operator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international gateway for which the calculations are m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ational to interna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A call from an operator without an international gateway located within the same political borders as the operator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e international gatew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hich the calculations are made, to an international correspo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1ED-5543-489B-99A0-A83BEA894C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"/>
          <p:cNvSpPr/>
          <p:nvPr/>
        </p:nvSpPr>
        <p:spPr>
          <a:xfrm>
            <a:off x="195264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1" name=""/>
          <p:cNvGrpSpPr/>
          <p:nvPr/>
        </p:nvGrpSpPr>
        <p:grpSpPr>
          <a:xfrm>
            <a:off x="816120" y="2422440"/>
            <a:ext cx="5798880" cy="3971880"/>
            <a:chOff x="816120" y="2422440"/>
            <a:chExt cx="5798880" cy="3971880"/>
          </a:xfrm>
        </p:grpSpPr>
        <p:sp>
          <p:nvSpPr>
            <p:cNvPr id="2912" name=""/>
            <p:cNvSpPr/>
            <p:nvPr/>
          </p:nvSpPr>
          <p:spPr>
            <a:xfrm>
              <a:off x="816120" y="2422440"/>
              <a:ext cx="5798880" cy="3971880"/>
            </a:xfrm>
            <a:custGeom>
              <a:avLst/>
              <a:gdLst/>
              <a:ahLst/>
              <a:rect l="l" t="t" r="r" b="b"/>
              <a:pathLst>
                <a:path w="7306" h="5003">
                  <a:moveTo>
                    <a:pt x="0" y="1459"/>
                  </a:moveTo>
                  <a:lnTo>
                    <a:pt x="4592" y="1459"/>
                  </a:lnTo>
                  <a:lnTo>
                    <a:pt x="4592" y="0"/>
                  </a:lnTo>
                  <a:lnTo>
                    <a:pt x="7306" y="0"/>
                  </a:lnTo>
                  <a:lnTo>
                    <a:pt x="7306" y="5003"/>
                  </a:lnTo>
                  <a:lnTo>
                    <a:pt x="0" y="5003"/>
                  </a:lnTo>
                  <a:lnTo>
                    <a:pt x="0" y="14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161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49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827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915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9493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9842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0177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10508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084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11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15236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18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12193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1252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128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1320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3539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13874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420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14558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1488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15224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15559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15890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16239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1657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16905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1724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75752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7924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1825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18590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1892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92564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9605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199404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0271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060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09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12868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16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1956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228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2636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297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3302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23637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2397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24321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2465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4987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5322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56536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6002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2633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6668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700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273384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27687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80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8353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286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290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936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97036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003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036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0718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3105000" y="358128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31384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1719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205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32400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273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33066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33400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735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34084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3441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4750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3508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354168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5766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610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6432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67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71016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74508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77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811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84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87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3913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39466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3979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013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0482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081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1148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1482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181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2163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249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28292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316400" y="358128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349880" y="358128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38480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17920" y="358128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451400" y="3571920"/>
              <a:ext cx="79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V="1">
              <a:off x="4459320" y="3538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V="1">
              <a:off x="4459320" y="3505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4459320" y="347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V="1">
              <a:off x="4459320" y="34380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 flipV="1">
              <a:off x="4459320" y="3405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V="1">
              <a:off x="4459320" y="33703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4459320" y="3336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V="1">
              <a:off x="4459320" y="3303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4459320" y="32702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4459320" y="32364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4459320" y="32014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V="1">
              <a:off x="4459320" y="31687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V="1">
              <a:off x="4459320" y="3134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V="1">
              <a:off x="4459320" y="3102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4459320" y="30686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4459320" y="30351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V="1">
              <a:off x="4459320" y="29998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V="1">
              <a:off x="4459320" y="29671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V="1">
              <a:off x="4459320" y="2933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V="1">
              <a:off x="4459320" y="29005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V="1">
              <a:off x="4459320" y="28670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V="1">
              <a:off x="4459320" y="283356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4459320" y="27982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V="1">
              <a:off x="4459320" y="2765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V="1">
              <a:off x="4459320" y="2731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459320" y="269892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V="1">
              <a:off x="4459320" y="26654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V="1">
              <a:off x="4459320" y="26305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4459320" y="25966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V="1">
              <a:off x="4459320" y="2563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4459320" y="253008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V="1">
              <a:off x="4459320" y="2496600"/>
              <a:ext cx="144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V="1">
              <a:off x="4459320" y="246384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V="1">
              <a:off x="4459320" y="242892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4704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503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5370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5705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603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6386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672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7052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7386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77216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8070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840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8736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906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94028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9752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008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0418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07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10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14368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17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210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243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27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311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3452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3784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411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4468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479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5134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5468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580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6149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648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6815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7150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74848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7834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816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8500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88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91660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9515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98500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018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05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08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119640" y="242244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1531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186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219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2546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288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3216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2" name=""/>
          <p:cNvGrpSpPr/>
          <p:nvPr/>
        </p:nvGrpSpPr>
        <p:grpSpPr>
          <a:xfrm>
            <a:off x="4133880" y="2422440"/>
            <a:ext cx="2482920" cy="3973680"/>
            <a:chOff x="4133880" y="2422440"/>
            <a:chExt cx="2482920" cy="3973680"/>
          </a:xfrm>
        </p:grpSpPr>
        <p:sp>
          <p:nvSpPr>
            <p:cNvPr id="3113" name=""/>
            <p:cNvSpPr/>
            <p:nvPr/>
          </p:nvSpPr>
          <p:spPr>
            <a:xfrm>
              <a:off x="63547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388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42312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456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48972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523200" y="242244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556320" y="242244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591240" y="242244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615000" y="2432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615000" y="2465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615000" y="2500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615000" y="2533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615000" y="256716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615000" y="2600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615000" y="2633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615000" y="2666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615000" y="2701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615000" y="2735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615000" y="2768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615000" y="2801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615000" y="2835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615000" y="2868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615000" y="2903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615000" y="2936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615000" y="2970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615000" y="3003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615000" y="3036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615000" y="3071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615000" y="3105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615000" y="3138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615000" y="3171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615000" y="3205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615000" y="3238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615000" y="3273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615000" y="3306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615000" y="3340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615000" y="3373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615000" y="3406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615000" y="3441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615000" y="3475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615000" y="3508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615000" y="3541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615000" y="3575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615000" y="3608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615000" y="3643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615000" y="3676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615000" y="3710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615000" y="3743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615000" y="3776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615000" y="3809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615000" y="3844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615000" y="3878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615000" y="3911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615000" y="3944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615000" y="3978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615000" y="4013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6615000" y="4046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6615000" y="4079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6615000" y="4113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615000" y="4146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6615000" y="4179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615000" y="4214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615000" y="4248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615000" y="4281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615000" y="4314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615000" y="4348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615000" y="4381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6615000" y="4416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6615000" y="4449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615000" y="4483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6615000" y="4516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615000" y="4549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615000" y="4584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615000" y="4618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6615000" y="4651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615000" y="4684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6615000" y="4718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6615000" y="4751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615000" y="4786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615000" y="4819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615000" y="4853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615000" y="4886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6615000" y="4919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615000" y="4952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615000" y="4987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6615000" y="5021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6615000" y="5054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615000" y="5087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615000" y="5121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6615000" y="5156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615000" y="5189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615000" y="5222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615000" y="5256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615000" y="5289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615000" y="5322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615000" y="5357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615000" y="53910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615000" y="54244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615000" y="54579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615000" y="5491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615000" y="5524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615000" y="55594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615000" y="55926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615000" y="56260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615000" y="56595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615000" y="5692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615000" y="57276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615000" y="5761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615000" y="5794200"/>
              <a:ext cx="1800" cy="16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615000" y="58276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6615000" y="5861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615000" y="5894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615000" y="59292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6615000" y="59626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6615000" y="59961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615000" y="60292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615000" y="6062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6615000" y="6095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615000" y="61308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615000" y="6164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615000" y="61977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6615000" y="6230880"/>
              <a:ext cx="180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615000" y="6264360"/>
              <a:ext cx="180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615000" y="62992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6615000" y="633240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6615000" y="63658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H="1">
              <a:off x="6590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H="1">
              <a:off x="655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H="1">
              <a:off x="6524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>
              <a:off x="649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H="1">
              <a:off x="645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H="1">
              <a:off x="642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H="1">
              <a:off x="638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H="1">
              <a:off x="635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H="1">
              <a:off x="632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H="1">
              <a:off x="6289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 flipH="1">
              <a:off x="625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H="1">
              <a:off x="622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H="1">
              <a:off x="618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 flipH="1">
              <a:off x="6154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H="1">
              <a:off x="612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 flipH="1">
              <a:off x="608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H="1">
              <a:off x="605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H="1">
              <a:off x="601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H="1">
              <a:off x="598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H="1">
              <a:off x="59526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 flipH="1">
              <a:off x="591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588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H="1">
              <a:off x="585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581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5783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>
              <a:off x="574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H="1">
              <a:off x="5716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568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 flipH="1">
              <a:off x="564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H="1">
              <a:off x="5614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58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 flipH="1">
              <a:off x="5548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 flipH="1">
              <a:off x="551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481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>
              <a:off x="544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 flipH="1">
              <a:off x="5412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538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 flipH="1">
              <a:off x="534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53132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H="1">
              <a:off x="527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>
              <a:off x="524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H="1">
              <a:off x="521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5178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H="1">
              <a:off x="514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H="1">
              <a:off x="5110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H="1">
              <a:off x="5076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5043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H="1">
              <a:off x="5010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497628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>
              <a:off x="49413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H="1">
              <a:off x="49086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>
              <a:off x="48751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 flipH="1">
              <a:off x="4842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H="1">
              <a:off x="48070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H="1">
              <a:off x="4773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>
              <a:off x="47397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>
              <a:off x="47070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4673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H="1">
              <a:off x="46382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H="1">
              <a:off x="4605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H="1">
              <a:off x="457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 flipH="1">
              <a:off x="45385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 flipH="1">
              <a:off x="4505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 flipH="1">
              <a:off x="44704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H="1">
              <a:off x="4436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H="1">
              <a:off x="440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H="1">
              <a:off x="43704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H="1">
              <a:off x="43369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>
              <a:off x="43016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H="1">
              <a:off x="4268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H="1">
              <a:off x="423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flipH="1">
              <a:off x="42022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H="1">
              <a:off x="416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>
              <a:off x="41338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3" name=""/>
          <p:cNvGrpSpPr/>
          <p:nvPr/>
        </p:nvGrpSpPr>
        <p:grpSpPr>
          <a:xfrm>
            <a:off x="816120" y="1380960"/>
            <a:ext cx="5441760" cy="5015160"/>
            <a:chOff x="816120" y="1380960"/>
            <a:chExt cx="5441760" cy="5015160"/>
          </a:xfrm>
        </p:grpSpPr>
        <p:sp>
          <p:nvSpPr>
            <p:cNvPr id="3314" name=""/>
            <p:cNvSpPr/>
            <p:nvPr/>
          </p:nvSpPr>
          <p:spPr>
            <a:xfrm flipH="1">
              <a:off x="4100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H="1">
              <a:off x="4067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H="1">
              <a:off x="4033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H="1">
              <a:off x="39985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 flipH="1">
              <a:off x="39650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H="1">
              <a:off x="393228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 flipH="1">
              <a:off x="38988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flipH="1">
              <a:off x="3865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H="1">
              <a:off x="38307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 flipH="1">
              <a:off x="3796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H="1">
              <a:off x="376344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37306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 flipH="1">
              <a:off x="36972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H="1">
              <a:off x="36619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H="1">
              <a:off x="3629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 flipH="1">
              <a:off x="359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H="1">
              <a:off x="356184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H="1">
              <a:off x="3529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 flipH="1">
              <a:off x="34941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H="1">
              <a:off x="3460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 flipH="1">
              <a:off x="342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H="1">
              <a:off x="33940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H="1">
              <a:off x="336060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H="1">
              <a:off x="33253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 flipH="1">
              <a:off x="3292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H="1">
              <a:off x="3258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 flipH="1">
              <a:off x="3225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 flipH="1">
              <a:off x="31910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 flipH="1">
              <a:off x="31575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H="1">
              <a:off x="31237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H="1">
              <a:off x="30909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H="1">
              <a:off x="3057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 flipH="1">
              <a:off x="30222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 flipH="1">
              <a:off x="2989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 flipH="1">
              <a:off x="295596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flipH="1">
              <a:off x="29224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H="1">
              <a:off x="2889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H="1">
              <a:off x="28544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H="1">
              <a:off x="2820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flipH="1">
              <a:off x="278712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H="1">
              <a:off x="27543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H="1">
              <a:off x="272088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>
              <a:off x="26856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H="1">
              <a:off x="2652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H="1">
              <a:off x="261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H="1">
              <a:off x="25855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flipH="1">
              <a:off x="255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H="1">
              <a:off x="25178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 flipH="1">
              <a:off x="2484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H="1">
              <a:off x="245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H="1">
              <a:off x="2417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H="1">
              <a:off x="238392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H="1">
              <a:off x="23490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H="1">
              <a:off x="2316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H="1">
              <a:off x="22827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>
              <a:off x="2249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H="1">
              <a:off x="22147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H="1">
              <a:off x="21812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H="1">
              <a:off x="21474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H="1">
              <a:off x="21146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 flipH="1">
              <a:off x="2081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 flipH="1">
              <a:off x="20458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 flipH="1">
              <a:off x="2013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H="1">
              <a:off x="197964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H="1">
              <a:off x="19461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H="1">
              <a:off x="1913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>
              <a:off x="18781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H="1">
              <a:off x="1844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181080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 flipH="1">
              <a:off x="17780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H="1">
              <a:off x="174456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17092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H="1">
              <a:off x="1676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H="1">
              <a:off x="164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1609200" y="6394320"/>
              <a:ext cx="16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H="1">
              <a:off x="157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H="1">
              <a:off x="15415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1507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 flipH="1">
              <a:off x="147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H="1">
              <a:off x="1441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H="1">
              <a:off x="14061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H="1">
              <a:off x="13726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H="1">
              <a:off x="1339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flipH="1">
              <a:off x="13064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H="1">
              <a:off x="1273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>
              <a:off x="12384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 flipH="1">
              <a:off x="12049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117108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H="1">
              <a:off x="11383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H="1">
              <a:off x="1104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>
              <a:off x="10695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H="1">
              <a:off x="1036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H="1">
              <a:off x="100332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 flipH="1">
              <a:off x="96984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 flipH="1">
              <a:off x="936720" y="6394320"/>
              <a:ext cx="15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flipH="1">
              <a:off x="9018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 flipH="1">
              <a:off x="867960" y="6394320"/>
              <a:ext cx="17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835200" y="6394320"/>
              <a:ext cx="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16120" y="6380280"/>
              <a:ext cx="1440" cy="140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 flipV="1">
              <a:off x="816120" y="6346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 flipV="1">
              <a:off x="816120" y="6311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flipV="1">
              <a:off x="816120" y="6278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V="1">
              <a:off x="816120" y="6245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V="1">
              <a:off x="816120" y="6211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V="1">
              <a:off x="816120" y="6178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V="1">
              <a:off x="816120" y="6143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flipV="1">
              <a:off x="816120" y="6109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V="1">
              <a:off x="816120" y="6076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V="1">
              <a:off x="816120" y="6043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816120" y="6010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V="1">
              <a:off x="816120" y="5977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 flipV="1">
              <a:off x="816120" y="5942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flipV="1">
              <a:off x="816120" y="5908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V="1">
              <a:off x="816120" y="5874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flipV="1">
              <a:off x="816120" y="5842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816120" y="5808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V="1">
              <a:off x="816120" y="5775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 flipV="1">
              <a:off x="816120" y="5740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 flipV="1">
              <a:off x="816120" y="5707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V="1">
              <a:off x="816120" y="5673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 flipV="1">
              <a:off x="816120" y="5640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 flipV="1">
              <a:off x="816120" y="5607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 flipV="1">
              <a:off x="816120" y="5571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 flipV="1">
              <a:off x="816120" y="5538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V="1">
              <a:off x="816120" y="5505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V="1">
              <a:off x="816120" y="5471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V="1">
              <a:off x="816120" y="5438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V="1">
              <a:off x="816120" y="5405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V="1">
              <a:off x="816120" y="5370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 flipV="1">
              <a:off x="816120" y="5336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816120" y="5303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816120" y="5270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816120" y="5237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 flipV="1">
              <a:off x="816120" y="5203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V="1">
              <a:off x="816120" y="5168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816120" y="5135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816120" y="5102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816120" y="5068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 flipV="1">
              <a:off x="816120" y="5035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 flipV="1">
              <a:off x="816120" y="5000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V="1">
              <a:off x="816120" y="4966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816120" y="4933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816120" y="4900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816120" y="4867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V="1">
              <a:off x="816120" y="4834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816120" y="4799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V="1">
              <a:off x="816120" y="4765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V="1">
              <a:off x="816120" y="4731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816120" y="4699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V="1">
              <a:off x="816120" y="46656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V="1">
              <a:off x="816120" y="4632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V="1">
              <a:off x="816120" y="45975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V="1">
              <a:off x="816120" y="45640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V="1">
              <a:off x="816120" y="45302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 flipV="1">
              <a:off x="816120" y="44974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816120" y="44640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V="1">
              <a:off x="816120" y="44287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V="1">
              <a:off x="816120" y="43959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V="1">
              <a:off x="816120" y="43624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816120" y="4328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816120" y="42958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V="1">
              <a:off x="816120" y="4262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V="1">
              <a:off x="816120" y="42271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V="1">
              <a:off x="816120" y="41936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V="1">
              <a:off x="816120" y="41608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V="1">
              <a:off x="816120" y="41274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V="1">
              <a:off x="816120" y="40942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V="1">
              <a:off x="816120" y="4060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V="1">
              <a:off x="816120" y="40255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816120" y="39920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V="1">
              <a:off x="816120" y="39592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V="1">
              <a:off x="816120" y="39258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816120" y="38926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V="1">
              <a:off x="816120" y="38577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 flipV="1">
              <a:off x="816120" y="382392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 flipV="1">
              <a:off x="816120" y="37904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flipV="1">
              <a:off x="816120" y="3757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V="1">
              <a:off x="816120" y="372420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 flipV="1">
              <a:off x="816120" y="3691080"/>
              <a:ext cx="144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V="1">
              <a:off x="816120" y="365616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V="1">
              <a:off x="816120" y="3622680"/>
              <a:ext cx="1440" cy="17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V="1">
              <a:off x="816120" y="3588840"/>
              <a:ext cx="1440" cy="17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930960" y="4233960"/>
              <a:ext cx="450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S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4465800" y="4622760"/>
              <a:ext cx="1555560" cy="233280"/>
            </a:xfrm>
            <a:custGeom>
              <a:avLst/>
              <a:gdLst/>
              <a:ahLst/>
              <a:rect l="l" t="t" r="r" b="b"/>
              <a:pathLst>
                <a:path w="1960" h="293">
                  <a:moveTo>
                    <a:pt x="72" y="276"/>
                  </a:moveTo>
                  <a:lnTo>
                    <a:pt x="60" y="272"/>
                  </a:lnTo>
                  <a:lnTo>
                    <a:pt x="47" y="262"/>
                  </a:lnTo>
                  <a:lnTo>
                    <a:pt x="37" y="247"/>
                  </a:lnTo>
                  <a:lnTo>
                    <a:pt x="30" y="226"/>
                  </a:lnTo>
                  <a:lnTo>
                    <a:pt x="23" y="202"/>
                  </a:lnTo>
                  <a:lnTo>
                    <a:pt x="19" y="175"/>
                  </a:lnTo>
                  <a:lnTo>
                    <a:pt x="17" y="147"/>
                  </a:lnTo>
                  <a:lnTo>
                    <a:pt x="19" y="119"/>
                  </a:lnTo>
                  <a:lnTo>
                    <a:pt x="23" y="92"/>
                  </a:lnTo>
                  <a:lnTo>
                    <a:pt x="30" y="67"/>
                  </a:lnTo>
                  <a:lnTo>
                    <a:pt x="37" y="46"/>
                  </a:lnTo>
                  <a:lnTo>
                    <a:pt x="47" y="32"/>
                  </a:lnTo>
                  <a:lnTo>
                    <a:pt x="60" y="22"/>
                  </a:lnTo>
                  <a:lnTo>
                    <a:pt x="72" y="18"/>
                  </a:lnTo>
                  <a:lnTo>
                    <a:pt x="85" y="22"/>
                  </a:lnTo>
                  <a:lnTo>
                    <a:pt x="97" y="32"/>
                  </a:lnTo>
                  <a:lnTo>
                    <a:pt x="106" y="46"/>
                  </a:lnTo>
                  <a:lnTo>
                    <a:pt x="115" y="67"/>
                  </a:lnTo>
                  <a:lnTo>
                    <a:pt x="122" y="92"/>
                  </a:lnTo>
                  <a:lnTo>
                    <a:pt x="125" y="119"/>
                  </a:lnTo>
                  <a:lnTo>
                    <a:pt x="127" y="147"/>
                  </a:lnTo>
                  <a:lnTo>
                    <a:pt x="125" y="175"/>
                  </a:lnTo>
                  <a:lnTo>
                    <a:pt x="122" y="202"/>
                  </a:lnTo>
                  <a:lnTo>
                    <a:pt x="115" y="226"/>
                  </a:lnTo>
                  <a:lnTo>
                    <a:pt x="106" y="247"/>
                  </a:lnTo>
                  <a:lnTo>
                    <a:pt x="97" y="262"/>
                  </a:lnTo>
                  <a:lnTo>
                    <a:pt x="85" y="272"/>
                  </a:lnTo>
                  <a:lnTo>
                    <a:pt x="72" y="276"/>
                  </a:lnTo>
                  <a:close/>
                  <a:moveTo>
                    <a:pt x="72" y="0"/>
                  </a:moveTo>
                  <a:lnTo>
                    <a:pt x="1887" y="0"/>
                  </a:lnTo>
                  <a:lnTo>
                    <a:pt x="1903" y="4"/>
                  </a:lnTo>
                  <a:lnTo>
                    <a:pt x="1917" y="13"/>
                  </a:lnTo>
                  <a:lnTo>
                    <a:pt x="1930" y="29"/>
                  </a:lnTo>
                  <a:lnTo>
                    <a:pt x="1942" y="48"/>
                  </a:lnTo>
                  <a:lnTo>
                    <a:pt x="1951" y="73"/>
                  </a:lnTo>
                  <a:lnTo>
                    <a:pt x="1958" y="101"/>
                  </a:lnTo>
                  <a:lnTo>
                    <a:pt x="1960" y="131"/>
                  </a:lnTo>
                  <a:lnTo>
                    <a:pt x="1960" y="163"/>
                  </a:lnTo>
                  <a:lnTo>
                    <a:pt x="1958" y="193"/>
                  </a:lnTo>
                  <a:lnTo>
                    <a:pt x="1951" y="221"/>
                  </a:lnTo>
                  <a:lnTo>
                    <a:pt x="1942" y="246"/>
                  </a:lnTo>
                  <a:lnTo>
                    <a:pt x="1930" y="265"/>
                  </a:lnTo>
                  <a:lnTo>
                    <a:pt x="1917" y="281"/>
                  </a:lnTo>
                  <a:lnTo>
                    <a:pt x="1903" y="290"/>
                  </a:lnTo>
                  <a:lnTo>
                    <a:pt x="1887" y="293"/>
                  </a:lnTo>
                  <a:lnTo>
                    <a:pt x="72" y="293"/>
                  </a:lnTo>
                  <a:lnTo>
                    <a:pt x="56" y="290"/>
                  </a:lnTo>
                  <a:lnTo>
                    <a:pt x="42" y="281"/>
                  </a:lnTo>
                  <a:lnTo>
                    <a:pt x="28" y="265"/>
                  </a:lnTo>
                  <a:lnTo>
                    <a:pt x="17" y="246"/>
                  </a:lnTo>
                  <a:lnTo>
                    <a:pt x="9" y="221"/>
                  </a:lnTo>
                  <a:lnTo>
                    <a:pt x="1" y="193"/>
                  </a:lnTo>
                  <a:lnTo>
                    <a:pt x="0" y="163"/>
                  </a:lnTo>
                  <a:lnTo>
                    <a:pt x="0" y="131"/>
                  </a:lnTo>
                  <a:lnTo>
                    <a:pt x="1" y="101"/>
                  </a:lnTo>
                  <a:lnTo>
                    <a:pt x="9" y="73"/>
                  </a:lnTo>
                  <a:lnTo>
                    <a:pt x="17" y="48"/>
                  </a:lnTo>
                  <a:lnTo>
                    <a:pt x="28" y="29"/>
                  </a:lnTo>
                  <a:lnTo>
                    <a:pt x="42" y="13"/>
                  </a:lnTo>
                  <a:lnTo>
                    <a:pt x="56" y="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3614760" y="4738680"/>
              <a:ext cx="1627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862520" y="4738680"/>
              <a:ext cx="379440" cy="777960"/>
            </a:xfrm>
            <a:custGeom>
              <a:avLst/>
              <a:gdLst/>
              <a:ahLst/>
              <a:rect l="l" t="t" r="r" b="b"/>
              <a:pathLst>
                <a:path w="479" h="979">
                  <a:moveTo>
                    <a:pt x="0" y="979"/>
                  </a:moveTo>
                  <a:lnTo>
                    <a:pt x="0" y="0"/>
                  </a:lnTo>
                  <a:lnTo>
                    <a:pt x="47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5241960" y="4738680"/>
              <a:ext cx="182520" cy="777960"/>
            </a:xfrm>
            <a:custGeom>
              <a:avLst/>
              <a:gdLst/>
              <a:ahLst/>
              <a:rect l="l" t="t" r="r" b="b"/>
              <a:pathLst>
                <a:path w="230" h="979">
                  <a:moveTo>
                    <a:pt x="230" y="979"/>
                  </a:moveTo>
                  <a:lnTo>
                    <a:pt x="23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241960" y="4738680"/>
              <a:ext cx="3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5241960" y="3656160"/>
              <a:ext cx="253800" cy="1082520"/>
            </a:xfrm>
            <a:custGeom>
              <a:avLst/>
              <a:gdLst/>
              <a:ahLst/>
              <a:rect l="l" t="t" r="r" b="b"/>
              <a:pathLst>
                <a:path w="320" h="1364">
                  <a:moveTo>
                    <a:pt x="320" y="0"/>
                  </a:moveTo>
                  <a:lnTo>
                    <a:pt x="320" y="1364"/>
                  </a:lnTo>
                  <a:lnTo>
                    <a:pt x="0" y="136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5113440" y="4738680"/>
              <a:ext cx="128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241960" y="4738680"/>
              <a:ext cx="1015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635360" y="4675320"/>
              <a:ext cx="1216080" cy="128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705200" y="4683240"/>
              <a:ext cx="1128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P INTERNET BACKB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1311120" y="1380960"/>
              <a:ext cx="2573640" cy="1295640"/>
            </a:xfrm>
            <a:custGeom>
              <a:avLst/>
              <a:gdLst/>
              <a:ahLst/>
              <a:rect l="l" t="t" r="r" b="b"/>
              <a:pathLst>
                <a:path w="3241" h="1630">
                  <a:moveTo>
                    <a:pt x="477" y="1210"/>
                  </a:moveTo>
                  <a:lnTo>
                    <a:pt x="514" y="1274"/>
                  </a:lnTo>
                  <a:lnTo>
                    <a:pt x="555" y="1334"/>
                  </a:lnTo>
                  <a:lnTo>
                    <a:pt x="602" y="1389"/>
                  </a:lnTo>
                  <a:lnTo>
                    <a:pt x="654" y="1440"/>
                  </a:lnTo>
                  <a:lnTo>
                    <a:pt x="708" y="1486"/>
                  </a:lnTo>
                  <a:lnTo>
                    <a:pt x="769" y="1525"/>
                  </a:lnTo>
                  <a:lnTo>
                    <a:pt x="830" y="1558"/>
                  </a:lnTo>
                  <a:lnTo>
                    <a:pt x="896" y="1586"/>
                  </a:lnTo>
                  <a:lnTo>
                    <a:pt x="963" y="1608"/>
                  </a:lnTo>
                  <a:lnTo>
                    <a:pt x="1030" y="1622"/>
                  </a:lnTo>
                  <a:lnTo>
                    <a:pt x="1101" y="1630"/>
                  </a:lnTo>
                  <a:lnTo>
                    <a:pt x="1170" y="1630"/>
                  </a:lnTo>
                  <a:lnTo>
                    <a:pt x="1239" y="1625"/>
                  </a:lnTo>
                  <a:lnTo>
                    <a:pt x="1308" y="1613"/>
                  </a:lnTo>
                  <a:lnTo>
                    <a:pt x="1377" y="1593"/>
                  </a:lnTo>
                  <a:lnTo>
                    <a:pt x="1442" y="1567"/>
                  </a:lnTo>
                  <a:lnTo>
                    <a:pt x="1504" y="1535"/>
                  </a:lnTo>
                  <a:lnTo>
                    <a:pt x="1564" y="1496"/>
                  </a:lnTo>
                  <a:lnTo>
                    <a:pt x="1620" y="1452"/>
                  </a:lnTo>
                  <a:lnTo>
                    <a:pt x="1677" y="1496"/>
                  </a:lnTo>
                  <a:lnTo>
                    <a:pt x="1737" y="1535"/>
                  </a:lnTo>
                  <a:lnTo>
                    <a:pt x="1801" y="1567"/>
                  </a:lnTo>
                  <a:lnTo>
                    <a:pt x="1866" y="1593"/>
                  </a:lnTo>
                  <a:lnTo>
                    <a:pt x="1933" y="1613"/>
                  </a:lnTo>
                  <a:lnTo>
                    <a:pt x="2002" y="1625"/>
                  </a:lnTo>
                  <a:lnTo>
                    <a:pt x="2071" y="1630"/>
                  </a:lnTo>
                  <a:lnTo>
                    <a:pt x="2142" y="1630"/>
                  </a:lnTo>
                  <a:lnTo>
                    <a:pt x="2211" y="1622"/>
                  </a:lnTo>
                  <a:lnTo>
                    <a:pt x="2280" y="1608"/>
                  </a:lnTo>
                  <a:lnTo>
                    <a:pt x="2345" y="1586"/>
                  </a:lnTo>
                  <a:lnTo>
                    <a:pt x="2410" y="1558"/>
                  </a:lnTo>
                  <a:lnTo>
                    <a:pt x="2472" y="1525"/>
                  </a:lnTo>
                  <a:lnTo>
                    <a:pt x="2532" y="1486"/>
                  </a:lnTo>
                  <a:lnTo>
                    <a:pt x="2587" y="1440"/>
                  </a:lnTo>
                  <a:lnTo>
                    <a:pt x="2638" y="1389"/>
                  </a:lnTo>
                  <a:lnTo>
                    <a:pt x="2686" y="1334"/>
                  </a:lnTo>
                  <a:lnTo>
                    <a:pt x="2727" y="1274"/>
                  </a:lnTo>
                  <a:lnTo>
                    <a:pt x="2764" y="1210"/>
                  </a:lnTo>
                  <a:lnTo>
                    <a:pt x="2813" y="1219"/>
                  </a:lnTo>
                  <a:lnTo>
                    <a:pt x="2863" y="1223"/>
                  </a:lnTo>
                  <a:lnTo>
                    <a:pt x="2912" y="1219"/>
                  </a:lnTo>
                  <a:lnTo>
                    <a:pt x="2960" y="1209"/>
                  </a:lnTo>
                  <a:lnTo>
                    <a:pt x="3008" y="1191"/>
                  </a:lnTo>
                  <a:lnTo>
                    <a:pt x="3052" y="1168"/>
                  </a:lnTo>
                  <a:lnTo>
                    <a:pt x="3093" y="1138"/>
                  </a:lnTo>
                  <a:lnTo>
                    <a:pt x="3130" y="1103"/>
                  </a:lnTo>
                  <a:lnTo>
                    <a:pt x="3163" y="1062"/>
                  </a:lnTo>
                  <a:lnTo>
                    <a:pt x="3190" y="1018"/>
                  </a:lnTo>
                  <a:lnTo>
                    <a:pt x="3211" y="970"/>
                  </a:lnTo>
                  <a:lnTo>
                    <a:pt x="3227" y="919"/>
                  </a:lnTo>
                  <a:lnTo>
                    <a:pt x="3238" y="868"/>
                  </a:lnTo>
                  <a:lnTo>
                    <a:pt x="3241" y="815"/>
                  </a:lnTo>
                  <a:lnTo>
                    <a:pt x="3238" y="762"/>
                  </a:lnTo>
                  <a:lnTo>
                    <a:pt x="3227" y="709"/>
                  </a:lnTo>
                  <a:lnTo>
                    <a:pt x="3211" y="660"/>
                  </a:lnTo>
                  <a:lnTo>
                    <a:pt x="3190" y="612"/>
                  </a:lnTo>
                  <a:lnTo>
                    <a:pt x="3163" y="568"/>
                  </a:lnTo>
                  <a:lnTo>
                    <a:pt x="3130" y="528"/>
                  </a:lnTo>
                  <a:lnTo>
                    <a:pt x="3093" y="492"/>
                  </a:lnTo>
                  <a:lnTo>
                    <a:pt x="3052" y="462"/>
                  </a:lnTo>
                  <a:lnTo>
                    <a:pt x="3008" y="439"/>
                  </a:lnTo>
                  <a:lnTo>
                    <a:pt x="2960" y="422"/>
                  </a:lnTo>
                  <a:lnTo>
                    <a:pt x="2912" y="411"/>
                  </a:lnTo>
                  <a:lnTo>
                    <a:pt x="2863" y="407"/>
                  </a:lnTo>
                  <a:lnTo>
                    <a:pt x="2813" y="409"/>
                  </a:lnTo>
                  <a:lnTo>
                    <a:pt x="2764" y="420"/>
                  </a:lnTo>
                  <a:lnTo>
                    <a:pt x="2727" y="356"/>
                  </a:lnTo>
                  <a:lnTo>
                    <a:pt x="2686" y="296"/>
                  </a:lnTo>
                  <a:lnTo>
                    <a:pt x="2638" y="242"/>
                  </a:lnTo>
                  <a:lnTo>
                    <a:pt x="2587" y="190"/>
                  </a:lnTo>
                  <a:lnTo>
                    <a:pt x="2532" y="145"/>
                  </a:lnTo>
                  <a:lnTo>
                    <a:pt x="2472" y="106"/>
                  </a:lnTo>
                  <a:lnTo>
                    <a:pt x="2410" y="70"/>
                  </a:lnTo>
                  <a:lnTo>
                    <a:pt x="2345" y="44"/>
                  </a:lnTo>
                  <a:lnTo>
                    <a:pt x="2280" y="23"/>
                  </a:lnTo>
                  <a:lnTo>
                    <a:pt x="2211" y="7"/>
                  </a:lnTo>
                  <a:lnTo>
                    <a:pt x="2142" y="0"/>
                  </a:lnTo>
                  <a:lnTo>
                    <a:pt x="2071" y="0"/>
                  </a:lnTo>
                  <a:lnTo>
                    <a:pt x="2002" y="5"/>
                  </a:lnTo>
                  <a:lnTo>
                    <a:pt x="1933" y="17"/>
                  </a:lnTo>
                  <a:lnTo>
                    <a:pt x="1866" y="37"/>
                  </a:lnTo>
                  <a:lnTo>
                    <a:pt x="1801" y="63"/>
                  </a:lnTo>
                  <a:lnTo>
                    <a:pt x="1737" y="95"/>
                  </a:lnTo>
                  <a:lnTo>
                    <a:pt x="1677" y="134"/>
                  </a:lnTo>
                  <a:lnTo>
                    <a:pt x="1620" y="178"/>
                  </a:lnTo>
                  <a:lnTo>
                    <a:pt x="1564" y="134"/>
                  </a:lnTo>
                  <a:lnTo>
                    <a:pt x="1504" y="95"/>
                  </a:lnTo>
                  <a:lnTo>
                    <a:pt x="1442" y="63"/>
                  </a:lnTo>
                  <a:lnTo>
                    <a:pt x="1377" y="37"/>
                  </a:lnTo>
                  <a:lnTo>
                    <a:pt x="1308" y="17"/>
                  </a:lnTo>
                  <a:lnTo>
                    <a:pt x="1239" y="5"/>
                  </a:lnTo>
                  <a:lnTo>
                    <a:pt x="1170" y="0"/>
                  </a:lnTo>
                  <a:lnTo>
                    <a:pt x="1101" y="0"/>
                  </a:lnTo>
                  <a:lnTo>
                    <a:pt x="1030" y="7"/>
                  </a:lnTo>
                  <a:lnTo>
                    <a:pt x="963" y="23"/>
                  </a:lnTo>
                  <a:lnTo>
                    <a:pt x="896" y="44"/>
                  </a:lnTo>
                  <a:lnTo>
                    <a:pt x="830" y="70"/>
                  </a:lnTo>
                  <a:lnTo>
                    <a:pt x="769" y="106"/>
                  </a:lnTo>
                  <a:lnTo>
                    <a:pt x="708" y="145"/>
                  </a:lnTo>
                  <a:lnTo>
                    <a:pt x="654" y="190"/>
                  </a:lnTo>
                  <a:lnTo>
                    <a:pt x="602" y="242"/>
                  </a:lnTo>
                  <a:lnTo>
                    <a:pt x="555" y="296"/>
                  </a:lnTo>
                  <a:lnTo>
                    <a:pt x="514" y="356"/>
                  </a:lnTo>
                  <a:lnTo>
                    <a:pt x="477" y="420"/>
                  </a:lnTo>
                  <a:lnTo>
                    <a:pt x="427" y="409"/>
                  </a:lnTo>
                  <a:lnTo>
                    <a:pt x="378" y="407"/>
                  </a:lnTo>
                  <a:lnTo>
                    <a:pt x="329" y="411"/>
                  </a:lnTo>
                  <a:lnTo>
                    <a:pt x="281" y="422"/>
                  </a:lnTo>
                  <a:lnTo>
                    <a:pt x="233" y="439"/>
                  </a:lnTo>
                  <a:lnTo>
                    <a:pt x="189" y="462"/>
                  </a:lnTo>
                  <a:lnTo>
                    <a:pt x="148" y="492"/>
                  </a:lnTo>
                  <a:lnTo>
                    <a:pt x="111" y="528"/>
                  </a:lnTo>
                  <a:lnTo>
                    <a:pt x="79" y="568"/>
                  </a:lnTo>
                  <a:lnTo>
                    <a:pt x="51" y="612"/>
                  </a:lnTo>
                  <a:lnTo>
                    <a:pt x="30" y="660"/>
                  </a:lnTo>
                  <a:lnTo>
                    <a:pt x="14" y="709"/>
                  </a:lnTo>
                  <a:lnTo>
                    <a:pt x="3" y="762"/>
                  </a:lnTo>
                  <a:lnTo>
                    <a:pt x="0" y="815"/>
                  </a:lnTo>
                  <a:lnTo>
                    <a:pt x="3" y="868"/>
                  </a:lnTo>
                  <a:lnTo>
                    <a:pt x="14" y="919"/>
                  </a:lnTo>
                  <a:lnTo>
                    <a:pt x="30" y="970"/>
                  </a:lnTo>
                  <a:lnTo>
                    <a:pt x="51" y="1018"/>
                  </a:lnTo>
                  <a:lnTo>
                    <a:pt x="79" y="1062"/>
                  </a:lnTo>
                  <a:lnTo>
                    <a:pt x="111" y="1103"/>
                  </a:lnTo>
                  <a:lnTo>
                    <a:pt x="148" y="1138"/>
                  </a:lnTo>
                  <a:lnTo>
                    <a:pt x="189" y="1168"/>
                  </a:lnTo>
                  <a:lnTo>
                    <a:pt x="233" y="1191"/>
                  </a:lnTo>
                  <a:lnTo>
                    <a:pt x="281" y="1209"/>
                  </a:lnTo>
                  <a:lnTo>
                    <a:pt x="329" y="1219"/>
                  </a:lnTo>
                  <a:lnTo>
                    <a:pt x="378" y="1223"/>
                  </a:lnTo>
                  <a:lnTo>
                    <a:pt x="427" y="1219"/>
                  </a:lnTo>
                  <a:lnTo>
                    <a:pt x="477" y="121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359720" y="18288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NAT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399320" y="2025720"/>
              <a:ext cx="851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395360" y="3879720"/>
              <a:ext cx="166680" cy="1987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407960" y="3892680"/>
              <a:ext cx="49320" cy="17280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6"/>
                  </a:lnTo>
                  <a:lnTo>
                    <a:pt x="62" y="171"/>
                  </a:lnTo>
                  <a:lnTo>
                    <a:pt x="62" y="210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0"/>
                  </a:lnTo>
                  <a:lnTo>
                    <a:pt x="0" y="171"/>
                  </a:lnTo>
                  <a:lnTo>
                    <a:pt x="9" y="156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1471680" y="3892680"/>
              <a:ext cx="75960" cy="172800"/>
            </a:xfrm>
            <a:custGeom>
              <a:avLst/>
              <a:gdLst/>
              <a:ahLst/>
              <a:rect l="l" t="t" r="r" b="b"/>
              <a:pathLst>
                <a:path w="96" h="219">
                  <a:moveTo>
                    <a:pt x="0" y="78"/>
                  </a:moveTo>
                  <a:lnTo>
                    <a:pt x="43" y="78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2" y="78"/>
                  </a:moveTo>
                  <a:lnTo>
                    <a:pt x="96" y="78"/>
                  </a:lnTo>
                  <a:lnTo>
                    <a:pt x="96" y="0"/>
                  </a:lnTo>
                  <a:lnTo>
                    <a:pt x="52" y="0"/>
                  </a:lnTo>
                  <a:lnTo>
                    <a:pt x="52" y="78"/>
                  </a:lnTo>
                  <a:close/>
                  <a:moveTo>
                    <a:pt x="0" y="219"/>
                  </a:moveTo>
                  <a:lnTo>
                    <a:pt x="96" y="219"/>
                  </a:lnTo>
                  <a:lnTo>
                    <a:pt x="96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471680" y="3990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1000080" y="272880"/>
            <a:ext cx="7134120" cy="6121440"/>
            <a:chOff x="1000080" y="272880"/>
            <a:chExt cx="7134120" cy="6121440"/>
          </a:xfrm>
        </p:grpSpPr>
        <p:sp>
          <p:nvSpPr>
            <p:cNvPr id="3515" name=""/>
            <p:cNvSpPr/>
            <p:nvPr/>
          </p:nvSpPr>
          <p:spPr>
            <a:xfrm>
              <a:off x="1471680" y="39844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471680" y="39783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471680" y="397188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471680" y="396540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512720" y="390672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512720" y="393876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512720" y="3922560"/>
              <a:ext cx="3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471680" y="390672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471680" y="3938760"/>
              <a:ext cx="33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471680" y="3922560"/>
              <a:ext cx="33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1471680" y="4049640"/>
              <a:ext cx="75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1471680" y="403560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471680" y="4017960"/>
              <a:ext cx="75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522440" y="4002120"/>
              <a:ext cx="14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496880" y="4002120"/>
              <a:ext cx="18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1249200" y="4116240"/>
              <a:ext cx="459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297440" y="412416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052800" y="438120"/>
              <a:ext cx="496800" cy="495360"/>
            </a:xfrm>
            <a:custGeom>
              <a:avLst/>
              <a:gdLst/>
              <a:ahLst/>
              <a:rect l="l" t="t" r="r" b="b"/>
              <a:pathLst>
                <a:path w="626" h="625">
                  <a:moveTo>
                    <a:pt x="136" y="412"/>
                  </a:moveTo>
                  <a:lnTo>
                    <a:pt x="0" y="412"/>
                  </a:lnTo>
                  <a:lnTo>
                    <a:pt x="0" y="625"/>
                  </a:lnTo>
                  <a:lnTo>
                    <a:pt x="626" y="625"/>
                  </a:lnTo>
                  <a:lnTo>
                    <a:pt x="626" y="412"/>
                  </a:lnTo>
                  <a:lnTo>
                    <a:pt x="488" y="412"/>
                  </a:lnTo>
                  <a:lnTo>
                    <a:pt x="488" y="382"/>
                  </a:lnTo>
                  <a:lnTo>
                    <a:pt x="548" y="382"/>
                  </a:lnTo>
                  <a:lnTo>
                    <a:pt x="548" y="0"/>
                  </a:lnTo>
                  <a:lnTo>
                    <a:pt x="78" y="0"/>
                  </a:lnTo>
                  <a:lnTo>
                    <a:pt x="78" y="382"/>
                  </a:lnTo>
                  <a:lnTo>
                    <a:pt x="136" y="382"/>
                  </a:lnTo>
                  <a:lnTo>
                    <a:pt x="136" y="41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160800" y="76356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160800" y="739800"/>
              <a:ext cx="27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308400" y="779400"/>
              <a:ext cx="201600" cy="138240"/>
            </a:xfrm>
            <a:custGeom>
              <a:avLst/>
              <a:gdLst/>
              <a:ahLst/>
              <a:rect l="l" t="t" r="r" b="b"/>
              <a:pathLst>
                <a:path w="254" h="175">
                  <a:moveTo>
                    <a:pt x="0" y="175"/>
                  </a:moveTo>
                  <a:lnTo>
                    <a:pt x="206" y="175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175"/>
                  </a:lnTo>
                  <a:close/>
                  <a:moveTo>
                    <a:pt x="226" y="28"/>
                  </a:moveTo>
                  <a:lnTo>
                    <a:pt x="254" y="28"/>
                  </a:lnTo>
                  <a:lnTo>
                    <a:pt x="254" y="0"/>
                  </a:lnTo>
                  <a:lnTo>
                    <a:pt x="226" y="0"/>
                  </a:lnTo>
                  <a:lnTo>
                    <a:pt x="22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308400" y="82548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308400" y="871560"/>
              <a:ext cx="163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316320" y="849240"/>
              <a:ext cx="147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402000" y="833400"/>
              <a:ext cx="46080" cy="31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3068640" y="473040"/>
              <a:ext cx="465120" cy="333360"/>
            </a:xfrm>
            <a:custGeom>
              <a:avLst/>
              <a:gdLst/>
              <a:ahLst/>
              <a:rect l="l" t="t" r="r" b="b"/>
              <a:pathLst>
                <a:path w="587" h="420">
                  <a:moveTo>
                    <a:pt x="492" y="300"/>
                  </a:moveTo>
                  <a:lnTo>
                    <a:pt x="513" y="300"/>
                  </a:lnTo>
                  <a:lnTo>
                    <a:pt x="513" y="292"/>
                  </a:lnTo>
                  <a:lnTo>
                    <a:pt x="492" y="292"/>
                  </a:lnTo>
                  <a:lnTo>
                    <a:pt x="492" y="300"/>
                  </a:lnTo>
                  <a:close/>
                  <a:moveTo>
                    <a:pt x="131" y="248"/>
                  </a:moveTo>
                  <a:lnTo>
                    <a:pt x="131" y="30"/>
                  </a:lnTo>
                  <a:lnTo>
                    <a:pt x="455" y="30"/>
                  </a:lnTo>
                  <a:lnTo>
                    <a:pt x="455" y="248"/>
                  </a:lnTo>
                  <a:lnTo>
                    <a:pt x="131" y="248"/>
                  </a:lnTo>
                  <a:close/>
                  <a:moveTo>
                    <a:pt x="117" y="264"/>
                  </a:moveTo>
                  <a:lnTo>
                    <a:pt x="469" y="264"/>
                  </a:lnTo>
                  <a:lnTo>
                    <a:pt x="469" y="14"/>
                  </a:lnTo>
                  <a:lnTo>
                    <a:pt x="485" y="14"/>
                  </a:lnTo>
                  <a:lnTo>
                    <a:pt x="485" y="0"/>
                  </a:lnTo>
                  <a:lnTo>
                    <a:pt x="103" y="0"/>
                  </a:lnTo>
                  <a:lnTo>
                    <a:pt x="103" y="278"/>
                  </a:lnTo>
                  <a:lnTo>
                    <a:pt x="117" y="278"/>
                  </a:lnTo>
                  <a:lnTo>
                    <a:pt x="117" y="264"/>
                  </a:lnTo>
                  <a:close/>
                  <a:moveTo>
                    <a:pt x="0" y="405"/>
                  </a:moveTo>
                  <a:lnTo>
                    <a:pt x="59" y="405"/>
                  </a:lnTo>
                  <a:lnTo>
                    <a:pt x="59" y="386"/>
                  </a:lnTo>
                  <a:lnTo>
                    <a:pt x="0" y="386"/>
                  </a:lnTo>
                  <a:lnTo>
                    <a:pt x="0" y="405"/>
                  </a:lnTo>
                  <a:close/>
                  <a:moveTo>
                    <a:pt x="342" y="420"/>
                  </a:moveTo>
                  <a:lnTo>
                    <a:pt x="469" y="420"/>
                  </a:lnTo>
                  <a:lnTo>
                    <a:pt x="469" y="411"/>
                  </a:lnTo>
                  <a:lnTo>
                    <a:pt x="342" y="411"/>
                  </a:lnTo>
                  <a:lnTo>
                    <a:pt x="342" y="420"/>
                  </a:lnTo>
                  <a:close/>
                  <a:moveTo>
                    <a:pt x="568" y="395"/>
                  </a:moveTo>
                  <a:lnTo>
                    <a:pt x="587" y="395"/>
                  </a:lnTo>
                  <a:lnTo>
                    <a:pt x="587" y="386"/>
                  </a:lnTo>
                  <a:lnTo>
                    <a:pt x="568" y="386"/>
                  </a:lnTo>
                  <a:lnTo>
                    <a:pt x="568" y="395"/>
                  </a:lnTo>
                  <a:close/>
                  <a:moveTo>
                    <a:pt x="568" y="414"/>
                  </a:moveTo>
                  <a:lnTo>
                    <a:pt x="587" y="414"/>
                  </a:lnTo>
                  <a:lnTo>
                    <a:pt x="587" y="405"/>
                  </a:lnTo>
                  <a:lnTo>
                    <a:pt x="568" y="405"/>
                  </a:lnTo>
                  <a:lnTo>
                    <a:pt x="568" y="4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114720" y="723960"/>
              <a:ext cx="37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32068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V="1">
              <a:off x="3300480" y="7239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3300480" y="973080"/>
              <a:ext cx="4302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348360" y="98100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508920" y="109368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 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440880" y="120492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110360" y="272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110360" y="482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110360" y="558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110360" y="768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110360" y="844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110360" y="1054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110360" y="1130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110360" y="1339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110360" y="1415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110360" y="1625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110360" y="1701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110360" y="1911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110360" y="1987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0360" y="2197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10360" y="227340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10360" y="2482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10360" y="255888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10360" y="2768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10360" y="284472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10360" y="3054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10360" y="3130560"/>
              <a:ext cx="1800" cy="16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10360" y="3340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10360" y="3416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110360" y="3625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110360" y="3701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110360" y="3911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7110360" y="3987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110360" y="4197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110360" y="4273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7110360" y="4483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7110360" y="4559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110360" y="4768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7110360" y="4844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7110360" y="5054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110360" y="513072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110360" y="534024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110360" y="541656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110360" y="5626080"/>
              <a:ext cx="180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110360" y="5702400"/>
              <a:ext cx="1800" cy="16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7110360" y="591192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110360" y="5987880"/>
              <a:ext cx="1800" cy="168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110360" y="6197760"/>
              <a:ext cx="180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7110360" y="6273720"/>
              <a:ext cx="1800" cy="120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rot="5400000">
              <a:off x="6785280" y="328140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und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1146240" y="901800"/>
              <a:ext cx="164880" cy="198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1160640" y="914400"/>
              <a:ext cx="48960" cy="173160"/>
            </a:xfrm>
            <a:custGeom>
              <a:avLst/>
              <a:gdLst/>
              <a:ahLst/>
              <a:rect l="l" t="t" r="r" b="b"/>
              <a:pathLst>
                <a:path w="62" h="219">
                  <a:moveTo>
                    <a:pt x="0" y="46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53" y="0"/>
                  </a:lnTo>
                  <a:lnTo>
                    <a:pt x="62" y="7"/>
                  </a:lnTo>
                  <a:lnTo>
                    <a:pt x="62" y="46"/>
                  </a:lnTo>
                  <a:lnTo>
                    <a:pt x="53" y="62"/>
                  </a:lnTo>
                  <a:lnTo>
                    <a:pt x="53" y="157"/>
                  </a:lnTo>
                  <a:lnTo>
                    <a:pt x="62" y="172"/>
                  </a:lnTo>
                  <a:lnTo>
                    <a:pt x="62" y="212"/>
                  </a:lnTo>
                  <a:lnTo>
                    <a:pt x="53" y="219"/>
                  </a:lnTo>
                  <a:lnTo>
                    <a:pt x="9" y="219"/>
                  </a:lnTo>
                  <a:lnTo>
                    <a:pt x="0" y="212"/>
                  </a:lnTo>
                  <a:lnTo>
                    <a:pt x="0" y="172"/>
                  </a:lnTo>
                  <a:lnTo>
                    <a:pt x="9" y="157"/>
                  </a:lnTo>
                  <a:lnTo>
                    <a:pt x="9" y="62"/>
                  </a:lnTo>
                  <a:lnTo>
                    <a:pt x="0" y="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1222200" y="914400"/>
              <a:ext cx="76320" cy="173160"/>
            </a:xfrm>
            <a:custGeom>
              <a:avLst/>
              <a:gdLst/>
              <a:ahLst/>
              <a:rect l="l" t="t" r="r" b="b"/>
              <a:pathLst>
                <a:path w="97" h="219">
                  <a:moveTo>
                    <a:pt x="0" y="78"/>
                  </a:moveTo>
                  <a:lnTo>
                    <a:pt x="44" y="78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78"/>
                  </a:lnTo>
                  <a:close/>
                  <a:moveTo>
                    <a:pt x="53" y="78"/>
                  </a:moveTo>
                  <a:lnTo>
                    <a:pt x="97" y="78"/>
                  </a:lnTo>
                  <a:lnTo>
                    <a:pt x="97" y="0"/>
                  </a:lnTo>
                  <a:lnTo>
                    <a:pt x="53" y="0"/>
                  </a:lnTo>
                  <a:lnTo>
                    <a:pt x="53" y="78"/>
                  </a:lnTo>
                  <a:close/>
                  <a:moveTo>
                    <a:pt x="0" y="219"/>
                  </a:moveTo>
                  <a:lnTo>
                    <a:pt x="97" y="219"/>
                  </a:lnTo>
                  <a:lnTo>
                    <a:pt x="97" y="140"/>
                  </a:lnTo>
                  <a:lnTo>
                    <a:pt x="0" y="14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1222200" y="1012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1222200" y="100656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1222200" y="10000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1222200" y="99540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1222200" y="98748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263600" y="92880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263600" y="96048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263600" y="94464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222200" y="9288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1222200" y="9604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1222200" y="9446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1222200" y="10717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1222200" y="1057320"/>
              <a:ext cx="76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1222200" y="1039680"/>
              <a:ext cx="76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1274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1247760" y="1023840"/>
              <a:ext cx="144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000080" y="1138320"/>
              <a:ext cx="45900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1049760" y="114624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5292720" y="5516640"/>
              <a:ext cx="662040" cy="496800"/>
            </a:xfrm>
            <a:custGeom>
              <a:avLst/>
              <a:gdLst/>
              <a:ahLst/>
              <a:rect l="l" t="t" r="r" b="b"/>
              <a:pathLst>
                <a:path w="835" h="625">
                  <a:moveTo>
                    <a:pt x="0" y="625"/>
                  </a:moveTo>
                  <a:lnTo>
                    <a:pt x="0" y="613"/>
                  </a:lnTo>
                  <a:lnTo>
                    <a:pt x="84" y="574"/>
                  </a:lnTo>
                  <a:lnTo>
                    <a:pt x="84" y="0"/>
                  </a:lnTo>
                  <a:lnTo>
                    <a:pt x="306" y="0"/>
                  </a:lnTo>
                  <a:lnTo>
                    <a:pt x="306" y="574"/>
                  </a:lnTo>
                  <a:lnTo>
                    <a:pt x="396" y="613"/>
                  </a:lnTo>
                  <a:lnTo>
                    <a:pt x="396" y="625"/>
                  </a:lnTo>
                  <a:lnTo>
                    <a:pt x="0" y="625"/>
                  </a:lnTo>
                  <a:close/>
                  <a:moveTo>
                    <a:pt x="334" y="539"/>
                  </a:moveTo>
                  <a:lnTo>
                    <a:pt x="412" y="539"/>
                  </a:lnTo>
                  <a:lnTo>
                    <a:pt x="499" y="560"/>
                  </a:lnTo>
                  <a:lnTo>
                    <a:pt x="499" y="604"/>
                  </a:lnTo>
                  <a:lnTo>
                    <a:pt x="412" y="604"/>
                  </a:lnTo>
                  <a:lnTo>
                    <a:pt x="412" y="625"/>
                  </a:lnTo>
                  <a:lnTo>
                    <a:pt x="757" y="625"/>
                  </a:lnTo>
                  <a:lnTo>
                    <a:pt x="757" y="604"/>
                  </a:lnTo>
                  <a:lnTo>
                    <a:pt x="670" y="604"/>
                  </a:lnTo>
                  <a:lnTo>
                    <a:pt x="670" y="560"/>
                  </a:lnTo>
                  <a:lnTo>
                    <a:pt x="757" y="539"/>
                  </a:lnTo>
                  <a:lnTo>
                    <a:pt x="835" y="539"/>
                  </a:lnTo>
                  <a:lnTo>
                    <a:pt x="835" y="157"/>
                  </a:lnTo>
                  <a:lnTo>
                    <a:pt x="334" y="157"/>
                  </a:lnTo>
                  <a:lnTo>
                    <a:pt x="334" y="539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359320" y="5972040"/>
              <a:ext cx="180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535720" y="5972040"/>
              <a:ext cx="1440" cy="4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5413320" y="5672160"/>
              <a:ext cx="6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5403960" y="5619600"/>
              <a:ext cx="88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5381640" y="5537160"/>
              <a:ext cx="131760" cy="290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5688000" y="599616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5688000" y="5961240"/>
              <a:ext cx="136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619600" y="5943600"/>
              <a:ext cx="27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5375160" y="5846760"/>
              <a:ext cx="142920" cy="135000"/>
            </a:xfrm>
            <a:custGeom>
              <a:avLst/>
              <a:gdLst/>
              <a:ahLst/>
              <a:rect l="l" t="t" r="r" b="b"/>
              <a:pathLst>
                <a:path w="180" h="169">
                  <a:moveTo>
                    <a:pt x="0" y="104"/>
                  </a:moveTo>
                  <a:lnTo>
                    <a:pt x="14" y="10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4"/>
                  </a:lnTo>
                  <a:close/>
                  <a:moveTo>
                    <a:pt x="28" y="104"/>
                  </a:moveTo>
                  <a:lnTo>
                    <a:pt x="42" y="104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8" y="104"/>
                  </a:lnTo>
                  <a:close/>
                  <a:moveTo>
                    <a:pt x="54" y="104"/>
                  </a:moveTo>
                  <a:lnTo>
                    <a:pt x="69" y="104"/>
                  </a:lnTo>
                  <a:lnTo>
                    <a:pt x="69" y="0"/>
                  </a:lnTo>
                  <a:lnTo>
                    <a:pt x="54" y="0"/>
                  </a:lnTo>
                  <a:lnTo>
                    <a:pt x="54" y="104"/>
                  </a:lnTo>
                  <a:close/>
                  <a:moveTo>
                    <a:pt x="83" y="104"/>
                  </a:moveTo>
                  <a:lnTo>
                    <a:pt x="97" y="104"/>
                  </a:lnTo>
                  <a:lnTo>
                    <a:pt x="97" y="0"/>
                  </a:lnTo>
                  <a:lnTo>
                    <a:pt x="83" y="0"/>
                  </a:lnTo>
                  <a:lnTo>
                    <a:pt x="83" y="104"/>
                  </a:lnTo>
                  <a:close/>
                  <a:moveTo>
                    <a:pt x="111" y="104"/>
                  </a:moveTo>
                  <a:lnTo>
                    <a:pt x="125" y="104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111" y="104"/>
                  </a:lnTo>
                  <a:close/>
                  <a:moveTo>
                    <a:pt x="139" y="104"/>
                  </a:moveTo>
                  <a:lnTo>
                    <a:pt x="153" y="104"/>
                  </a:lnTo>
                  <a:lnTo>
                    <a:pt x="153" y="0"/>
                  </a:lnTo>
                  <a:lnTo>
                    <a:pt x="139" y="0"/>
                  </a:lnTo>
                  <a:lnTo>
                    <a:pt x="139" y="104"/>
                  </a:lnTo>
                  <a:close/>
                  <a:moveTo>
                    <a:pt x="166" y="104"/>
                  </a:moveTo>
                  <a:lnTo>
                    <a:pt x="180" y="104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66" y="104"/>
                  </a:lnTo>
                  <a:close/>
                  <a:moveTo>
                    <a:pt x="166" y="169"/>
                  </a:moveTo>
                  <a:lnTo>
                    <a:pt x="180" y="169"/>
                  </a:lnTo>
                  <a:lnTo>
                    <a:pt x="180" y="118"/>
                  </a:lnTo>
                  <a:lnTo>
                    <a:pt x="166" y="118"/>
                  </a:lnTo>
                  <a:lnTo>
                    <a:pt x="166" y="169"/>
                  </a:lnTo>
                  <a:close/>
                  <a:moveTo>
                    <a:pt x="139" y="169"/>
                  </a:moveTo>
                  <a:lnTo>
                    <a:pt x="153" y="169"/>
                  </a:lnTo>
                  <a:lnTo>
                    <a:pt x="153" y="118"/>
                  </a:lnTo>
                  <a:lnTo>
                    <a:pt x="139" y="118"/>
                  </a:lnTo>
                  <a:lnTo>
                    <a:pt x="139" y="169"/>
                  </a:lnTo>
                  <a:close/>
                  <a:moveTo>
                    <a:pt x="111" y="169"/>
                  </a:moveTo>
                  <a:lnTo>
                    <a:pt x="125" y="169"/>
                  </a:lnTo>
                  <a:lnTo>
                    <a:pt x="125" y="118"/>
                  </a:lnTo>
                  <a:lnTo>
                    <a:pt x="111" y="118"/>
                  </a:lnTo>
                  <a:lnTo>
                    <a:pt x="111" y="169"/>
                  </a:lnTo>
                  <a:close/>
                  <a:moveTo>
                    <a:pt x="83" y="169"/>
                  </a:moveTo>
                  <a:lnTo>
                    <a:pt x="97" y="169"/>
                  </a:lnTo>
                  <a:lnTo>
                    <a:pt x="97" y="118"/>
                  </a:lnTo>
                  <a:lnTo>
                    <a:pt x="83" y="118"/>
                  </a:lnTo>
                  <a:lnTo>
                    <a:pt x="83" y="169"/>
                  </a:lnTo>
                  <a:close/>
                  <a:moveTo>
                    <a:pt x="54" y="169"/>
                  </a:moveTo>
                  <a:lnTo>
                    <a:pt x="69" y="169"/>
                  </a:lnTo>
                  <a:lnTo>
                    <a:pt x="69" y="118"/>
                  </a:lnTo>
                  <a:lnTo>
                    <a:pt x="54" y="118"/>
                  </a:lnTo>
                  <a:lnTo>
                    <a:pt x="54" y="169"/>
                  </a:lnTo>
                  <a:close/>
                  <a:moveTo>
                    <a:pt x="28" y="169"/>
                  </a:moveTo>
                  <a:lnTo>
                    <a:pt x="42" y="169"/>
                  </a:lnTo>
                  <a:lnTo>
                    <a:pt x="42" y="118"/>
                  </a:lnTo>
                  <a:lnTo>
                    <a:pt x="28" y="118"/>
                  </a:lnTo>
                  <a:lnTo>
                    <a:pt x="28" y="169"/>
                  </a:lnTo>
                  <a:close/>
                  <a:moveTo>
                    <a:pt x="0" y="169"/>
                  </a:moveTo>
                  <a:lnTo>
                    <a:pt x="14" y="169"/>
                  </a:lnTo>
                  <a:lnTo>
                    <a:pt x="14" y="118"/>
                  </a:lnTo>
                  <a:lnTo>
                    <a:pt x="0" y="118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5392800" y="554832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5392800" y="5548320"/>
              <a:ext cx="109440" cy="11160"/>
            </a:xfrm>
            <a:custGeom>
              <a:avLst/>
              <a:gdLst/>
              <a:ahLst/>
              <a:rect l="l" t="t" r="r" b="b"/>
              <a:pathLst>
                <a:path w="138" h="14">
                  <a:moveTo>
                    <a:pt x="0" y="0"/>
                  </a:moveTo>
                  <a:lnTo>
                    <a:pt x="14" y="14"/>
                  </a:lnTo>
                  <a:lnTo>
                    <a:pt x="125" y="14"/>
                  </a:ln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5392800" y="5599080"/>
              <a:ext cx="109440" cy="42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392800" y="5651640"/>
              <a:ext cx="109440" cy="41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392800" y="5703840"/>
              <a:ext cx="109440" cy="39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392800" y="5754600"/>
              <a:ext cx="109440" cy="41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flipV="1">
              <a:off x="5392800" y="5559480"/>
              <a:ext cx="111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5492880" y="5559480"/>
              <a:ext cx="936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5397480" y="57387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5397480" y="573084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5397480" y="57243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397480" y="5715000"/>
              <a:ext cx="73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5397480" y="570852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446800" y="5610240"/>
              <a:ext cx="349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478480" y="5680080"/>
              <a:ext cx="15840" cy="4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5478480" y="5708520"/>
              <a:ext cx="15840" cy="5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478480" y="5718240"/>
              <a:ext cx="15840" cy="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5430960" y="5667480"/>
              <a:ext cx="511200" cy="263520"/>
            </a:xfrm>
            <a:custGeom>
              <a:avLst/>
              <a:gdLst/>
              <a:ahLst/>
              <a:rect l="l" t="t" r="r" b="b"/>
              <a:pathLst>
                <a:path w="645" h="334">
                  <a:moveTo>
                    <a:pt x="0" y="14"/>
                  </a:moveTo>
                  <a:lnTo>
                    <a:pt x="42" y="1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4"/>
                  </a:lnTo>
                  <a:close/>
                  <a:moveTo>
                    <a:pt x="622" y="334"/>
                  </a:moveTo>
                  <a:lnTo>
                    <a:pt x="645" y="334"/>
                  </a:lnTo>
                  <a:lnTo>
                    <a:pt x="645" y="327"/>
                  </a:lnTo>
                  <a:lnTo>
                    <a:pt x="622" y="327"/>
                  </a:lnTo>
                  <a:lnTo>
                    <a:pt x="622" y="334"/>
                  </a:lnTo>
                  <a:close/>
                  <a:moveTo>
                    <a:pt x="238" y="261"/>
                  </a:moveTo>
                  <a:lnTo>
                    <a:pt x="238" y="41"/>
                  </a:lnTo>
                  <a:lnTo>
                    <a:pt x="583" y="41"/>
                  </a:lnTo>
                  <a:lnTo>
                    <a:pt x="583" y="261"/>
                  </a:lnTo>
                  <a:lnTo>
                    <a:pt x="238" y="261"/>
                  </a:lnTo>
                  <a:close/>
                  <a:moveTo>
                    <a:pt x="222" y="275"/>
                  </a:moveTo>
                  <a:lnTo>
                    <a:pt x="599" y="275"/>
                  </a:lnTo>
                  <a:lnTo>
                    <a:pt x="599" y="27"/>
                  </a:lnTo>
                  <a:lnTo>
                    <a:pt x="615" y="27"/>
                  </a:lnTo>
                  <a:lnTo>
                    <a:pt x="615" y="13"/>
                  </a:lnTo>
                  <a:lnTo>
                    <a:pt x="206" y="13"/>
                  </a:lnTo>
                  <a:lnTo>
                    <a:pt x="206" y="23"/>
                  </a:lnTo>
                  <a:lnTo>
                    <a:pt x="206" y="290"/>
                  </a:lnTo>
                  <a:lnTo>
                    <a:pt x="222" y="290"/>
                  </a:lnTo>
                  <a:lnTo>
                    <a:pt x="222" y="2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557680" y="5925960"/>
              <a:ext cx="200160" cy="17640"/>
            </a:xfrm>
            <a:custGeom>
              <a:avLst/>
              <a:gdLst/>
              <a:ahLst/>
              <a:rect l="l" t="t" r="r" b="b"/>
              <a:pathLst>
                <a:path w="251" h="23">
                  <a:moveTo>
                    <a:pt x="0" y="0"/>
                  </a:moveTo>
                  <a:lnTo>
                    <a:pt x="251" y="0"/>
                  </a:lnTo>
                  <a:lnTo>
                    <a:pt x="251" y="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 flipV="1">
              <a:off x="5657760" y="5925600"/>
              <a:ext cx="18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176800" y="6051600"/>
              <a:ext cx="8938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242680" y="6059520"/>
              <a:ext cx="82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ternet data Serve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614840" y="5516640"/>
              <a:ext cx="495360" cy="496800"/>
            </a:xfrm>
            <a:custGeom>
              <a:avLst/>
              <a:gdLst/>
              <a:ahLst/>
              <a:rect l="l" t="t" r="r" b="b"/>
              <a:pathLst>
                <a:path w="626" h="627">
                  <a:moveTo>
                    <a:pt x="0" y="470"/>
                  </a:moveTo>
                  <a:lnTo>
                    <a:pt x="117" y="470"/>
                  </a:lnTo>
                  <a:lnTo>
                    <a:pt x="214" y="489"/>
                  </a:lnTo>
                  <a:lnTo>
                    <a:pt x="214" y="509"/>
                  </a:lnTo>
                  <a:lnTo>
                    <a:pt x="117" y="509"/>
                  </a:lnTo>
                  <a:lnTo>
                    <a:pt x="117" y="528"/>
                  </a:lnTo>
                  <a:lnTo>
                    <a:pt x="39" y="528"/>
                  </a:lnTo>
                  <a:lnTo>
                    <a:pt x="39" y="627"/>
                  </a:lnTo>
                  <a:lnTo>
                    <a:pt x="587" y="627"/>
                  </a:lnTo>
                  <a:lnTo>
                    <a:pt x="587" y="528"/>
                  </a:lnTo>
                  <a:lnTo>
                    <a:pt x="509" y="528"/>
                  </a:lnTo>
                  <a:lnTo>
                    <a:pt x="509" y="509"/>
                  </a:lnTo>
                  <a:lnTo>
                    <a:pt x="410" y="509"/>
                  </a:lnTo>
                  <a:lnTo>
                    <a:pt x="410" y="489"/>
                  </a:lnTo>
                  <a:lnTo>
                    <a:pt x="509" y="470"/>
                  </a:lnTo>
                  <a:lnTo>
                    <a:pt x="626" y="470"/>
                  </a:lnTo>
                  <a:lnTo>
                    <a:pt x="626" y="0"/>
                  </a:lnTo>
                  <a:lnTo>
                    <a:pt x="0" y="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707000" y="593568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782960" y="5919840"/>
              <a:ext cx="1573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782960" y="5905440"/>
              <a:ext cx="157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707000" y="5889600"/>
              <a:ext cx="311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651200" y="5564160"/>
              <a:ext cx="412920" cy="441360"/>
            </a:xfrm>
            <a:custGeom>
              <a:avLst/>
              <a:gdLst/>
              <a:ahLst/>
              <a:rect l="l" t="t" r="r" b="b"/>
              <a:pathLst>
                <a:path w="519" h="556">
                  <a:moveTo>
                    <a:pt x="49" y="503"/>
                  </a:moveTo>
                  <a:lnTo>
                    <a:pt x="146" y="503"/>
                  </a:lnTo>
                  <a:lnTo>
                    <a:pt x="146" y="489"/>
                  </a:lnTo>
                  <a:lnTo>
                    <a:pt x="49" y="489"/>
                  </a:lnTo>
                  <a:lnTo>
                    <a:pt x="49" y="503"/>
                  </a:lnTo>
                  <a:close/>
                  <a:moveTo>
                    <a:pt x="19" y="556"/>
                  </a:moveTo>
                  <a:lnTo>
                    <a:pt x="39" y="537"/>
                  </a:lnTo>
                  <a:lnTo>
                    <a:pt x="19" y="517"/>
                  </a:lnTo>
                  <a:lnTo>
                    <a:pt x="0" y="537"/>
                  </a:lnTo>
                  <a:lnTo>
                    <a:pt x="19" y="556"/>
                  </a:lnTo>
                  <a:close/>
                  <a:moveTo>
                    <a:pt x="49" y="313"/>
                  </a:moveTo>
                  <a:lnTo>
                    <a:pt x="49" y="39"/>
                  </a:lnTo>
                  <a:lnTo>
                    <a:pt x="480" y="39"/>
                  </a:lnTo>
                  <a:lnTo>
                    <a:pt x="480" y="313"/>
                  </a:lnTo>
                  <a:lnTo>
                    <a:pt x="49" y="313"/>
                  </a:lnTo>
                  <a:close/>
                  <a:moveTo>
                    <a:pt x="30" y="341"/>
                  </a:moveTo>
                  <a:lnTo>
                    <a:pt x="509" y="341"/>
                  </a:lnTo>
                  <a:lnTo>
                    <a:pt x="509" y="20"/>
                  </a:lnTo>
                  <a:lnTo>
                    <a:pt x="519" y="20"/>
                  </a:lnTo>
                  <a:lnTo>
                    <a:pt x="519" y="0"/>
                  </a:lnTo>
                  <a:lnTo>
                    <a:pt x="10" y="0"/>
                  </a:lnTo>
                  <a:lnTo>
                    <a:pt x="10" y="352"/>
                  </a:lnTo>
                  <a:lnTo>
                    <a:pt x="30" y="352"/>
                  </a:lnTo>
                  <a:lnTo>
                    <a:pt x="30" y="341"/>
                  </a:lnTo>
                  <a:close/>
                  <a:moveTo>
                    <a:pt x="489" y="390"/>
                  </a:moveTo>
                  <a:lnTo>
                    <a:pt x="519" y="390"/>
                  </a:lnTo>
                  <a:lnTo>
                    <a:pt x="519" y="382"/>
                  </a:lnTo>
                  <a:lnTo>
                    <a:pt x="489" y="382"/>
                  </a:lnTo>
                  <a:lnTo>
                    <a:pt x="489" y="3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699080" y="5989680"/>
              <a:ext cx="61920" cy="12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645080" y="595296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4645080" y="5964120"/>
              <a:ext cx="434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469908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74660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476892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4792680" y="5970600"/>
              <a:ext cx="648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481644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0" y="7"/>
                  </a:lnTo>
                  <a:lnTo>
                    <a:pt x="8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48387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4862520" y="599436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48848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0" y="9"/>
                  </a:lnTo>
                  <a:lnTo>
                    <a:pt x="11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490860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0"/>
                  </a:moveTo>
                  <a:lnTo>
                    <a:pt x="0" y="7"/>
                  </a:lnTo>
                  <a:lnTo>
                    <a:pt x="11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93236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0"/>
                  </a:move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95468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4978440" y="5970600"/>
              <a:ext cx="792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0" y="9"/>
                  </a:lnTo>
                  <a:lnTo>
                    <a:pt x="8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000760" y="599436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0"/>
                  </a:moveTo>
                  <a:lnTo>
                    <a:pt x="0" y="7"/>
                  </a:lnTo>
                  <a:lnTo>
                    <a:pt x="1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024520" y="597060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5048280" y="599436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7"/>
                  </a:lnTo>
                  <a:lnTo>
                    <a:pt x="9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4602240" y="6051600"/>
              <a:ext cx="51912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4652640" y="605952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st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257880" y="4332240"/>
              <a:ext cx="189000" cy="803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329520" y="5056200"/>
              <a:ext cx="48960" cy="39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329520" y="4370400"/>
              <a:ext cx="48960" cy="42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281640" y="4331880"/>
              <a:ext cx="180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342120" y="4392720"/>
              <a:ext cx="23760" cy="382320"/>
            </a:xfrm>
            <a:custGeom>
              <a:avLst/>
              <a:gdLst/>
              <a:ahLst/>
              <a:rect l="l" t="t" r="r" b="b"/>
              <a:pathLst>
                <a:path w="30" h="482">
                  <a:moveTo>
                    <a:pt x="30" y="380"/>
                  </a:moveTo>
                  <a:lnTo>
                    <a:pt x="30" y="355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30" y="380"/>
                  </a:lnTo>
                  <a:close/>
                  <a:moveTo>
                    <a:pt x="30" y="431"/>
                  </a:moveTo>
                  <a:lnTo>
                    <a:pt x="30" y="406"/>
                  </a:lnTo>
                  <a:lnTo>
                    <a:pt x="0" y="406"/>
                  </a:lnTo>
                  <a:lnTo>
                    <a:pt x="0" y="431"/>
                  </a:lnTo>
                  <a:lnTo>
                    <a:pt x="30" y="431"/>
                  </a:lnTo>
                  <a:close/>
                  <a:moveTo>
                    <a:pt x="30" y="482"/>
                  </a:moveTo>
                  <a:lnTo>
                    <a:pt x="30" y="456"/>
                  </a:lnTo>
                  <a:lnTo>
                    <a:pt x="0" y="456"/>
                  </a:lnTo>
                  <a:lnTo>
                    <a:pt x="0" y="482"/>
                  </a:lnTo>
                  <a:lnTo>
                    <a:pt x="30" y="482"/>
                  </a:lnTo>
                  <a:close/>
                  <a:moveTo>
                    <a:pt x="30" y="304"/>
                  </a:moveTo>
                  <a:lnTo>
                    <a:pt x="30" y="279"/>
                  </a:lnTo>
                  <a:lnTo>
                    <a:pt x="0" y="279"/>
                  </a:lnTo>
                  <a:lnTo>
                    <a:pt x="0" y="304"/>
                  </a:lnTo>
                  <a:lnTo>
                    <a:pt x="30" y="304"/>
                  </a:lnTo>
                  <a:close/>
                  <a:moveTo>
                    <a:pt x="30" y="228"/>
                  </a:moveTo>
                  <a:lnTo>
                    <a:pt x="30" y="203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30" y="228"/>
                  </a:lnTo>
                  <a:close/>
                  <a:moveTo>
                    <a:pt x="30" y="177"/>
                  </a:moveTo>
                  <a:lnTo>
                    <a:pt x="30" y="152"/>
                  </a:lnTo>
                  <a:lnTo>
                    <a:pt x="0" y="152"/>
                  </a:lnTo>
                  <a:lnTo>
                    <a:pt x="0" y="177"/>
                  </a:lnTo>
                  <a:lnTo>
                    <a:pt x="30" y="177"/>
                  </a:lnTo>
                  <a:close/>
                  <a:moveTo>
                    <a:pt x="30" y="127"/>
                  </a:moveTo>
                  <a:lnTo>
                    <a:pt x="30" y="101"/>
                  </a:lnTo>
                  <a:lnTo>
                    <a:pt x="0" y="101"/>
                  </a:lnTo>
                  <a:lnTo>
                    <a:pt x="0" y="127"/>
                  </a:lnTo>
                  <a:lnTo>
                    <a:pt x="30" y="127"/>
                  </a:lnTo>
                  <a:close/>
                  <a:moveTo>
                    <a:pt x="30" y="76"/>
                  </a:moveTo>
                  <a:lnTo>
                    <a:pt x="30" y="51"/>
                  </a:lnTo>
                  <a:lnTo>
                    <a:pt x="0" y="51"/>
                  </a:lnTo>
                  <a:lnTo>
                    <a:pt x="0" y="76"/>
                  </a:lnTo>
                  <a:lnTo>
                    <a:pt x="30" y="76"/>
                  </a:lnTo>
                  <a:close/>
                  <a:moveTo>
                    <a:pt x="30" y="25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486480" y="4870440"/>
              <a:ext cx="13032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 rot="16200000">
              <a:off x="6412320" y="492552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118200" y="1157400"/>
              <a:ext cx="2016000" cy="1207800"/>
            </a:xfrm>
            <a:custGeom>
              <a:avLst/>
              <a:gdLst/>
              <a:ahLst/>
              <a:rect l="l" t="t" r="r" b="b"/>
              <a:pathLst>
                <a:path w="2539" h="1522">
                  <a:moveTo>
                    <a:pt x="373" y="1130"/>
                  </a:moveTo>
                  <a:lnTo>
                    <a:pt x="401" y="1188"/>
                  </a:lnTo>
                  <a:lnTo>
                    <a:pt x="434" y="1245"/>
                  </a:lnTo>
                  <a:lnTo>
                    <a:pt x="470" y="1296"/>
                  </a:lnTo>
                  <a:lnTo>
                    <a:pt x="510" y="1343"/>
                  </a:lnTo>
                  <a:lnTo>
                    <a:pt x="555" y="1386"/>
                  </a:lnTo>
                  <a:lnTo>
                    <a:pt x="601" y="1423"/>
                  </a:lnTo>
                  <a:lnTo>
                    <a:pt x="650" y="1455"/>
                  </a:lnTo>
                  <a:lnTo>
                    <a:pt x="699" y="1479"/>
                  </a:lnTo>
                  <a:lnTo>
                    <a:pt x="752" y="1501"/>
                  </a:lnTo>
                  <a:lnTo>
                    <a:pt x="806" y="1513"/>
                  </a:lnTo>
                  <a:lnTo>
                    <a:pt x="860" y="1520"/>
                  </a:lnTo>
                  <a:lnTo>
                    <a:pt x="915" y="1522"/>
                  </a:lnTo>
                  <a:lnTo>
                    <a:pt x="970" y="1516"/>
                  </a:lnTo>
                  <a:lnTo>
                    <a:pt x="1025" y="1504"/>
                  </a:lnTo>
                  <a:lnTo>
                    <a:pt x="1076" y="1486"/>
                  </a:lnTo>
                  <a:lnTo>
                    <a:pt x="1129" y="1462"/>
                  </a:lnTo>
                  <a:lnTo>
                    <a:pt x="1177" y="1432"/>
                  </a:lnTo>
                  <a:lnTo>
                    <a:pt x="1224" y="1396"/>
                  </a:lnTo>
                  <a:lnTo>
                    <a:pt x="1269" y="1356"/>
                  </a:lnTo>
                  <a:lnTo>
                    <a:pt x="1313" y="1396"/>
                  </a:lnTo>
                  <a:lnTo>
                    <a:pt x="1360" y="1432"/>
                  </a:lnTo>
                  <a:lnTo>
                    <a:pt x="1410" y="1462"/>
                  </a:lnTo>
                  <a:lnTo>
                    <a:pt x="1461" y="1486"/>
                  </a:lnTo>
                  <a:lnTo>
                    <a:pt x="1514" y="1504"/>
                  </a:lnTo>
                  <a:lnTo>
                    <a:pt x="1567" y="1516"/>
                  </a:lnTo>
                  <a:lnTo>
                    <a:pt x="1622" y="1522"/>
                  </a:lnTo>
                  <a:lnTo>
                    <a:pt x="1677" y="1520"/>
                  </a:lnTo>
                  <a:lnTo>
                    <a:pt x="1732" y="1513"/>
                  </a:lnTo>
                  <a:lnTo>
                    <a:pt x="1785" y="1501"/>
                  </a:lnTo>
                  <a:lnTo>
                    <a:pt x="1838" y="1479"/>
                  </a:lnTo>
                  <a:lnTo>
                    <a:pt x="1889" y="1455"/>
                  </a:lnTo>
                  <a:lnTo>
                    <a:pt x="1937" y="1423"/>
                  </a:lnTo>
                  <a:lnTo>
                    <a:pt x="1983" y="1386"/>
                  </a:lnTo>
                  <a:lnTo>
                    <a:pt x="2027" y="1343"/>
                  </a:lnTo>
                  <a:lnTo>
                    <a:pt x="2067" y="1296"/>
                  </a:lnTo>
                  <a:lnTo>
                    <a:pt x="2103" y="1245"/>
                  </a:lnTo>
                  <a:lnTo>
                    <a:pt x="2136" y="1188"/>
                  </a:lnTo>
                  <a:lnTo>
                    <a:pt x="2165" y="1130"/>
                  </a:lnTo>
                  <a:lnTo>
                    <a:pt x="2203" y="1139"/>
                  </a:lnTo>
                  <a:lnTo>
                    <a:pt x="2242" y="1142"/>
                  </a:lnTo>
                  <a:lnTo>
                    <a:pt x="2281" y="1137"/>
                  </a:lnTo>
                  <a:lnTo>
                    <a:pt x="2318" y="1128"/>
                  </a:lnTo>
                  <a:lnTo>
                    <a:pt x="2355" y="1112"/>
                  </a:lnTo>
                  <a:lnTo>
                    <a:pt x="2391" y="1089"/>
                  </a:lnTo>
                  <a:lnTo>
                    <a:pt x="2423" y="1061"/>
                  </a:lnTo>
                  <a:lnTo>
                    <a:pt x="2453" y="1029"/>
                  </a:lnTo>
                  <a:lnTo>
                    <a:pt x="2477" y="992"/>
                  </a:lnTo>
                  <a:lnTo>
                    <a:pt x="2499" y="950"/>
                  </a:lnTo>
                  <a:lnTo>
                    <a:pt x="2516" y="906"/>
                  </a:lnTo>
                  <a:lnTo>
                    <a:pt x="2529" y="860"/>
                  </a:lnTo>
                  <a:lnTo>
                    <a:pt x="2536" y="811"/>
                  </a:lnTo>
                  <a:lnTo>
                    <a:pt x="2539" y="761"/>
                  </a:lnTo>
                  <a:lnTo>
                    <a:pt x="2536" y="712"/>
                  </a:lnTo>
                  <a:lnTo>
                    <a:pt x="2529" y="662"/>
                  </a:lnTo>
                  <a:lnTo>
                    <a:pt x="2516" y="616"/>
                  </a:lnTo>
                  <a:lnTo>
                    <a:pt x="2499" y="572"/>
                  </a:lnTo>
                  <a:lnTo>
                    <a:pt x="2477" y="530"/>
                  </a:lnTo>
                  <a:lnTo>
                    <a:pt x="2453" y="493"/>
                  </a:lnTo>
                  <a:lnTo>
                    <a:pt x="2423" y="461"/>
                  </a:lnTo>
                  <a:lnTo>
                    <a:pt x="2391" y="433"/>
                  </a:lnTo>
                  <a:lnTo>
                    <a:pt x="2355" y="410"/>
                  </a:lnTo>
                  <a:lnTo>
                    <a:pt x="2318" y="394"/>
                  </a:lnTo>
                  <a:lnTo>
                    <a:pt x="2281" y="383"/>
                  </a:lnTo>
                  <a:lnTo>
                    <a:pt x="2242" y="380"/>
                  </a:lnTo>
                  <a:lnTo>
                    <a:pt x="2203" y="383"/>
                  </a:lnTo>
                  <a:lnTo>
                    <a:pt x="2165" y="392"/>
                  </a:lnTo>
                  <a:lnTo>
                    <a:pt x="2136" y="334"/>
                  </a:lnTo>
                  <a:lnTo>
                    <a:pt x="2103" y="278"/>
                  </a:lnTo>
                  <a:lnTo>
                    <a:pt x="2067" y="226"/>
                  </a:lnTo>
                  <a:lnTo>
                    <a:pt x="2027" y="179"/>
                  </a:lnTo>
                  <a:lnTo>
                    <a:pt x="1983" y="136"/>
                  </a:lnTo>
                  <a:lnTo>
                    <a:pt x="1937" y="99"/>
                  </a:lnTo>
                  <a:lnTo>
                    <a:pt x="1889" y="68"/>
                  </a:lnTo>
                  <a:lnTo>
                    <a:pt x="1838" y="43"/>
                  </a:lnTo>
                  <a:lnTo>
                    <a:pt x="1785" y="22"/>
                  </a:lnTo>
                  <a:lnTo>
                    <a:pt x="1732" y="9"/>
                  </a:lnTo>
                  <a:lnTo>
                    <a:pt x="1677" y="2"/>
                  </a:lnTo>
                  <a:lnTo>
                    <a:pt x="1622" y="0"/>
                  </a:lnTo>
                  <a:lnTo>
                    <a:pt x="1567" y="6"/>
                  </a:lnTo>
                  <a:lnTo>
                    <a:pt x="1514" y="18"/>
                  </a:lnTo>
                  <a:lnTo>
                    <a:pt x="1461" y="36"/>
                  </a:lnTo>
                  <a:lnTo>
                    <a:pt x="1410" y="60"/>
                  </a:lnTo>
                  <a:lnTo>
                    <a:pt x="1360" y="90"/>
                  </a:lnTo>
                  <a:lnTo>
                    <a:pt x="1313" y="126"/>
                  </a:lnTo>
                  <a:lnTo>
                    <a:pt x="1269" y="166"/>
                  </a:lnTo>
                  <a:lnTo>
                    <a:pt x="1224" y="126"/>
                  </a:lnTo>
                  <a:lnTo>
                    <a:pt x="1177" y="90"/>
                  </a:lnTo>
                  <a:lnTo>
                    <a:pt x="1129" y="60"/>
                  </a:lnTo>
                  <a:lnTo>
                    <a:pt x="1076" y="36"/>
                  </a:lnTo>
                  <a:lnTo>
                    <a:pt x="1025" y="18"/>
                  </a:lnTo>
                  <a:lnTo>
                    <a:pt x="970" y="6"/>
                  </a:lnTo>
                  <a:lnTo>
                    <a:pt x="915" y="0"/>
                  </a:lnTo>
                  <a:lnTo>
                    <a:pt x="860" y="2"/>
                  </a:lnTo>
                  <a:lnTo>
                    <a:pt x="806" y="9"/>
                  </a:lnTo>
                  <a:lnTo>
                    <a:pt x="752" y="22"/>
                  </a:lnTo>
                  <a:lnTo>
                    <a:pt x="699" y="43"/>
                  </a:lnTo>
                  <a:lnTo>
                    <a:pt x="650" y="68"/>
                  </a:lnTo>
                  <a:lnTo>
                    <a:pt x="601" y="99"/>
                  </a:lnTo>
                  <a:lnTo>
                    <a:pt x="555" y="136"/>
                  </a:lnTo>
                  <a:lnTo>
                    <a:pt x="510" y="179"/>
                  </a:lnTo>
                  <a:lnTo>
                    <a:pt x="470" y="226"/>
                  </a:lnTo>
                  <a:lnTo>
                    <a:pt x="434" y="278"/>
                  </a:lnTo>
                  <a:lnTo>
                    <a:pt x="401" y="334"/>
                  </a:lnTo>
                  <a:lnTo>
                    <a:pt x="373" y="392"/>
                  </a:lnTo>
                  <a:lnTo>
                    <a:pt x="334" y="383"/>
                  </a:lnTo>
                  <a:lnTo>
                    <a:pt x="295" y="380"/>
                  </a:lnTo>
                  <a:lnTo>
                    <a:pt x="256" y="383"/>
                  </a:lnTo>
                  <a:lnTo>
                    <a:pt x="219" y="394"/>
                  </a:lnTo>
                  <a:lnTo>
                    <a:pt x="182" y="410"/>
                  </a:lnTo>
                  <a:lnTo>
                    <a:pt x="146" y="433"/>
                  </a:lnTo>
                  <a:lnTo>
                    <a:pt x="114" y="461"/>
                  </a:lnTo>
                  <a:lnTo>
                    <a:pt x="86" y="493"/>
                  </a:lnTo>
                  <a:lnTo>
                    <a:pt x="60" y="530"/>
                  </a:lnTo>
                  <a:lnTo>
                    <a:pt x="39" y="572"/>
                  </a:lnTo>
                  <a:lnTo>
                    <a:pt x="21" y="616"/>
                  </a:lnTo>
                  <a:lnTo>
                    <a:pt x="8" y="662"/>
                  </a:lnTo>
                  <a:lnTo>
                    <a:pt x="1" y="712"/>
                  </a:lnTo>
                  <a:lnTo>
                    <a:pt x="0" y="761"/>
                  </a:lnTo>
                  <a:lnTo>
                    <a:pt x="1" y="811"/>
                  </a:lnTo>
                  <a:lnTo>
                    <a:pt x="8" y="860"/>
                  </a:lnTo>
                  <a:lnTo>
                    <a:pt x="21" y="906"/>
                  </a:lnTo>
                  <a:lnTo>
                    <a:pt x="39" y="950"/>
                  </a:lnTo>
                  <a:lnTo>
                    <a:pt x="60" y="992"/>
                  </a:lnTo>
                  <a:lnTo>
                    <a:pt x="86" y="1029"/>
                  </a:lnTo>
                  <a:lnTo>
                    <a:pt x="114" y="1061"/>
                  </a:lnTo>
                  <a:lnTo>
                    <a:pt x="146" y="1089"/>
                  </a:lnTo>
                  <a:lnTo>
                    <a:pt x="182" y="1112"/>
                  </a:lnTo>
                  <a:lnTo>
                    <a:pt x="219" y="1128"/>
                  </a:lnTo>
                  <a:lnTo>
                    <a:pt x="256" y="1137"/>
                  </a:lnTo>
                  <a:lnTo>
                    <a:pt x="295" y="1142"/>
                  </a:lnTo>
                  <a:lnTo>
                    <a:pt x="334" y="1139"/>
                  </a:lnTo>
                  <a:lnTo>
                    <a:pt x="373" y="113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6863760" y="16588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2562120" y="5423040"/>
              <a:ext cx="8128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2595240" y="5430960"/>
              <a:ext cx="65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IT Voice 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912760" y="554364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2621880" y="5654520"/>
              <a:ext cx="74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CP/IP capabilit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2324160" y="4094280"/>
              <a:ext cx="1290600" cy="12906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2324160" y="4094280"/>
              <a:ext cx="1290600" cy="1263600"/>
            </a:xfrm>
            <a:custGeom>
              <a:avLst/>
              <a:gdLst/>
              <a:ahLst/>
              <a:rect l="l" t="t" r="r" b="b"/>
              <a:pathLst>
                <a:path w="1628" h="1592">
                  <a:moveTo>
                    <a:pt x="0" y="1592"/>
                  </a:moveTo>
                  <a:lnTo>
                    <a:pt x="813" y="1592"/>
                  </a:lnTo>
                  <a:lnTo>
                    <a:pt x="813" y="0"/>
                  </a:lnTo>
                  <a:lnTo>
                    <a:pt x="0" y="0"/>
                  </a:lnTo>
                  <a:lnTo>
                    <a:pt x="0" y="1592"/>
                  </a:lnTo>
                  <a:close/>
                  <a:moveTo>
                    <a:pt x="813" y="1592"/>
                  </a:moveTo>
                  <a:lnTo>
                    <a:pt x="1628" y="1592"/>
                  </a:lnTo>
                  <a:lnTo>
                    <a:pt x="1628" y="0"/>
                  </a:lnTo>
                  <a:lnTo>
                    <a:pt x="813" y="0"/>
                  </a:lnTo>
                  <a:lnTo>
                    <a:pt x="813" y="1592"/>
                  </a:lnTo>
                  <a:close/>
                  <a:moveTo>
                    <a:pt x="126" y="542"/>
                  </a:moveTo>
                  <a:lnTo>
                    <a:pt x="689" y="542"/>
                  </a:lnTo>
                  <a:lnTo>
                    <a:pt x="689" y="373"/>
                  </a:lnTo>
                  <a:lnTo>
                    <a:pt x="126" y="373"/>
                  </a:lnTo>
                  <a:lnTo>
                    <a:pt x="126" y="542"/>
                  </a:lnTo>
                  <a:close/>
                  <a:moveTo>
                    <a:pt x="126" y="881"/>
                  </a:moveTo>
                  <a:lnTo>
                    <a:pt x="689" y="881"/>
                  </a:lnTo>
                  <a:lnTo>
                    <a:pt x="689" y="593"/>
                  </a:lnTo>
                  <a:lnTo>
                    <a:pt x="126" y="593"/>
                  </a:lnTo>
                  <a:lnTo>
                    <a:pt x="126" y="881"/>
                  </a:lnTo>
                  <a:close/>
                  <a:moveTo>
                    <a:pt x="938" y="542"/>
                  </a:moveTo>
                  <a:lnTo>
                    <a:pt x="1502" y="542"/>
                  </a:lnTo>
                  <a:lnTo>
                    <a:pt x="1502" y="373"/>
                  </a:lnTo>
                  <a:lnTo>
                    <a:pt x="938" y="373"/>
                  </a:lnTo>
                  <a:lnTo>
                    <a:pt x="938" y="542"/>
                  </a:lnTo>
                  <a:close/>
                  <a:moveTo>
                    <a:pt x="938" y="763"/>
                  </a:moveTo>
                  <a:lnTo>
                    <a:pt x="1502" y="763"/>
                  </a:lnTo>
                  <a:lnTo>
                    <a:pt x="1502" y="593"/>
                  </a:lnTo>
                  <a:lnTo>
                    <a:pt x="938" y="593"/>
                  </a:lnTo>
                  <a:lnTo>
                    <a:pt x="938" y="763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324160" y="4202280"/>
              <a:ext cx="1290600" cy="10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325600" y="5369040"/>
              <a:ext cx="1287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2968560" y="2676600"/>
              <a:ext cx="7920" cy="1266840"/>
            </a:xfrm>
            <a:custGeom>
              <a:avLst/>
              <a:gdLst/>
              <a:ahLst/>
              <a:rect l="l" t="t" r="r" b="b"/>
              <a:pathLst>
                <a:path w="11" h="1598">
                  <a:moveTo>
                    <a:pt x="11" y="0"/>
                  </a:moveTo>
                  <a:lnTo>
                    <a:pt x="11" y="158"/>
                  </a:lnTo>
                  <a:lnTo>
                    <a:pt x="0" y="158"/>
                  </a:lnTo>
                  <a:lnTo>
                    <a:pt x="0" y="159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922480" y="2676600"/>
              <a:ext cx="109800" cy="163440"/>
            </a:xfrm>
            <a:custGeom>
              <a:avLst/>
              <a:gdLst/>
              <a:ahLst/>
              <a:rect l="l" t="t" r="r" b="b"/>
              <a:pathLst>
                <a:path w="138" h="207">
                  <a:moveTo>
                    <a:pt x="0" y="207"/>
                  </a:moveTo>
                  <a:lnTo>
                    <a:pt x="69" y="0"/>
                  </a:lnTo>
                  <a:lnTo>
                    <a:pt x="138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2914560" y="3929040"/>
              <a:ext cx="108000" cy="16524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138" y="0"/>
                  </a:moveTo>
                  <a:lnTo>
                    <a:pt x="69" y="206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2584440" y="3303720"/>
              <a:ext cx="7714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2594880" y="3311640"/>
              <a:ext cx="70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2 or SS7 circui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122800" y="2754360"/>
              <a:ext cx="746280" cy="495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146560" y="3146400"/>
              <a:ext cx="698760" cy="82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146560" y="2773440"/>
              <a:ext cx="698760" cy="333360"/>
            </a:xfrm>
            <a:custGeom>
              <a:avLst/>
              <a:gdLst/>
              <a:ahLst/>
              <a:rect l="l" t="t" r="r" b="b"/>
              <a:pathLst>
                <a:path w="880" h="418">
                  <a:moveTo>
                    <a:pt x="777" y="14"/>
                  </a:moveTo>
                  <a:lnTo>
                    <a:pt x="779" y="5"/>
                  </a:lnTo>
                  <a:lnTo>
                    <a:pt x="786" y="2"/>
                  </a:lnTo>
                  <a:lnTo>
                    <a:pt x="797" y="2"/>
                  </a:lnTo>
                  <a:lnTo>
                    <a:pt x="804" y="5"/>
                  </a:lnTo>
                  <a:lnTo>
                    <a:pt x="806" y="14"/>
                  </a:lnTo>
                  <a:lnTo>
                    <a:pt x="804" y="21"/>
                  </a:lnTo>
                  <a:lnTo>
                    <a:pt x="797" y="26"/>
                  </a:lnTo>
                  <a:lnTo>
                    <a:pt x="786" y="26"/>
                  </a:lnTo>
                  <a:lnTo>
                    <a:pt x="779" y="21"/>
                  </a:lnTo>
                  <a:lnTo>
                    <a:pt x="777" y="14"/>
                  </a:lnTo>
                  <a:close/>
                  <a:moveTo>
                    <a:pt x="659" y="14"/>
                  </a:moveTo>
                  <a:lnTo>
                    <a:pt x="662" y="5"/>
                  </a:lnTo>
                  <a:lnTo>
                    <a:pt x="669" y="2"/>
                  </a:lnTo>
                  <a:lnTo>
                    <a:pt x="678" y="2"/>
                  </a:lnTo>
                  <a:lnTo>
                    <a:pt x="685" y="5"/>
                  </a:lnTo>
                  <a:lnTo>
                    <a:pt x="689" y="14"/>
                  </a:lnTo>
                  <a:lnTo>
                    <a:pt x="685" y="21"/>
                  </a:lnTo>
                  <a:lnTo>
                    <a:pt x="678" y="26"/>
                  </a:lnTo>
                  <a:lnTo>
                    <a:pt x="669" y="26"/>
                  </a:lnTo>
                  <a:lnTo>
                    <a:pt x="662" y="21"/>
                  </a:lnTo>
                  <a:lnTo>
                    <a:pt x="659" y="14"/>
                  </a:lnTo>
                  <a:close/>
                  <a:moveTo>
                    <a:pt x="542" y="14"/>
                  </a:moveTo>
                  <a:lnTo>
                    <a:pt x="544" y="5"/>
                  </a:lnTo>
                  <a:lnTo>
                    <a:pt x="553" y="2"/>
                  </a:lnTo>
                  <a:lnTo>
                    <a:pt x="562" y="2"/>
                  </a:lnTo>
                  <a:lnTo>
                    <a:pt x="569" y="5"/>
                  </a:lnTo>
                  <a:lnTo>
                    <a:pt x="570" y="14"/>
                  </a:lnTo>
                  <a:lnTo>
                    <a:pt x="569" y="21"/>
                  </a:lnTo>
                  <a:lnTo>
                    <a:pt x="562" y="26"/>
                  </a:lnTo>
                  <a:lnTo>
                    <a:pt x="553" y="26"/>
                  </a:lnTo>
                  <a:lnTo>
                    <a:pt x="544" y="21"/>
                  </a:lnTo>
                  <a:lnTo>
                    <a:pt x="542" y="14"/>
                  </a:lnTo>
                  <a:close/>
                  <a:moveTo>
                    <a:pt x="424" y="14"/>
                  </a:moveTo>
                  <a:lnTo>
                    <a:pt x="427" y="5"/>
                  </a:lnTo>
                  <a:lnTo>
                    <a:pt x="434" y="2"/>
                  </a:lnTo>
                  <a:lnTo>
                    <a:pt x="443" y="2"/>
                  </a:lnTo>
                  <a:lnTo>
                    <a:pt x="450" y="5"/>
                  </a:lnTo>
                  <a:lnTo>
                    <a:pt x="454" y="14"/>
                  </a:lnTo>
                  <a:lnTo>
                    <a:pt x="450" y="21"/>
                  </a:lnTo>
                  <a:lnTo>
                    <a:pt x="443" y="26"/>
                  </a:lnTo>
                  <a:lnTo>
                    <a:pt x="434" y="26"/>
                  </a:lnTo>
                  <a:lnTo>
                    <a:pt x="427" y="21"/>
                  </a:lnTo>
                  <a:lnTo>
                    <a:pt x="424" y="14"/>
                  </a:lnTo>
                  <a:close/>
                  <a:moveTo>
                    <a:pt x="307" y="14"/>
                  </a:moveTo>
                  <a:lnTo>
                    <a:pt x="311" y="5"/>
                  </a:lnTo>
                  <a:lnTo>
                    <a:pt x="318" y="2"/>
                  </a:lnTo>
                  <a:lnTo>
                    <a:pt x="327" y="2"/>
                  </a:lnTo>
                  <a:lnTo>
                    <a:pt x="334" y="5"/>
                  </a:lnTo>
                  <a:lnTo>
                    <a:pt x="337" y="14"/>
                  </a:lnTo>
                  <a:lnTo>
                    <a:pt x="334" y="21"/>
                  </a:lnTo>
                  <a:lnTo>
                    <a:pt x="327" y="26"/>
                  </a:lnTo>
                  <a:lnTo>
                    <a:pt x="318" y="26"/>
                  </a:lnTo>
                  <a:lnTo>
                    <a:pt x="311" y="21"/>
                  </a:lnTo>
                  <a:lnTo>
                    <a:pt x="307" y="14"/>
                  </a:lnTo>
                  <a:close/>
                  <a:moveTo>
                    <a:pt x="189" y="14"/>
                  </a:moveTo>
                  <a:lnTo>
                    <a:pt x="192" y="5"/>
                  </a:lnTo>
                  <a:lnTo>
                    <a:pt x="199" y="2"/>
                  </a:lnTo>
                  <a:lnTo>
                    <a:pt x="208" y="2"/>
                  </a:lnTo>
                  <a:lnTo>
                    <a:pt x="217" y="5"/>
                  </a:lnTo>
                  <a:lnTo>
                    <a:pt x="219" y="14"/>
                  </a:lnTo>
                  <a:lnTo>
                    <a:pt x="217" y="21"/>
                  </a:lnTo>
                  <a:lnTo>
                    <a:pt x="208" y="26"/>
                  </a:lnTo>
                  <a:lnTo>
                    <a:pt x="199" y="26"/>
                  </a:lnTo>
                  <a:lnTo>
                    <a:pt x="192" y="21"/>
                  </a:lnTo>
                  <a:lnTo>
                    <a:pt x="189" y="14"/>
                  </a:lnTo>
                  <a:close/>
                  <a:moveTo>
                    <a:pt x="72" y="14"/>
                  </a:moveTo>
                  <a:lnTo>
                    <a:pt x="76" y="5"/>
                  </a:lnTo>
                  <a:lnTo>
                    <a:pt x="83" y="2"/>
                  </a:lnTo>
                  <a:lnTo>
                    <a:pt x="92" y="2"/>
                  </a:lnTo>
                  <a:lnTo>
                    <a:pt x="99" y="5"/>
                  </a:lnTo>
                  <a:lnTo>
                    <a:pt x="102" y="14"/>
                  </a:lnTo>
                  <a:lnTo>
                    <a:pt x="99" y="21"/>
                  </a:lnTo>
                  <a:lnTo>
                    <a:pt x="92" y="26"/>
                  </a:lnTo>
                  <a:lnTo>
                    <a:pt x="83" y="26"/>
                  </a:lnTo>
                  <a:lnTo>
                    <a:pt x="76" y="21"/>
                  </a:lnTo>
                  <a:lnTo>
                    <a:pt x="72" y="14"/>
                  </a:lnTo>
                  <a:close/>
                  <a:moveTo>
                    <a:pt x="116" y="418"/>
                  </a:moveTo>
                  <a:lnTo>
                    <a:pt x="175" y="418"/>
                  </a:lnTo>
                  <a:lnTo>
                    <a:pt x="175" y="0"/>
                  </a:lnTo>
                  <a:lnTo>
                    <a:pt x="116" y="0"/>
                  </a:lnTo>
                  <a:lnTo>
                    <a:pt x="116" y="418"/>
                  </a:lnTo>
                  <a:close/>
                  <a:moveTo>
                    <a:pt x="233" y="418"/>
                  </a:moveTo>
                  <a:lnTo>
                    <a:pt x="293" y="418"/>
                  </a:lnTo>
                  <a:lnTo>
                    <a:pt x="293" y="0"/>
                  </a:lnTo>
                  <a:lnTo>
                    <a:pt x="233" y="0"/>
                  </a:lnTo>
                  <a:lnTo>
                    <a:pt x="233" y="418"/>
                  </a:lnTo>
                  <a:close/>
                  <a:moveTo>
                    <a:pt x="351" y="418"/>
                  </a:moveTo>
                  <a:lnTo>
                    <a:pt x="410" y="418"/>
                  </a:lnTo>
                  <a:lnTo>
                    <a:pt x="410" y="0"/>
                  </a:lnTo>
                  <a:lnTo>
                    <a:pt x="351" y="0"/>
                  </a:lnTo>
                  <a:lnTo>
                    <a:pt x="351" y="418"/>
                  </a:lnTo>
                  <a:close/>
                  <a:moveTo>
                    <a:pt x="468" y="418"/>
                  </a:moveTo>
                  <a:lnTo>
                    <a:pt x="526" y="418"/>
                  </a:lnTo>
                  <a:lnTo>
                    <a:pt x="526" y="0"/>
                  </a:lnTo>
                  <a:lnTo>
                    <a:pt x="468" y="0"/>
                  </a:lnTo>
                  <a:lnTo>
                    <a:pt x="468" y="418"/>
                  </a:lnTo>
                  <a:close/>
                  <a:moveTo>
                    <a:pt x="586" y="418"/>
                  </a:moveTo>
                  <a:lnTo>
                    <a:pt x="645" y="418"/>
                  </a:lnTo>
                  <a:lnTo>
                    <a:pt x="645" y="0"/>
                  </a:lnTo>
                  <a:lnTo>
                    <a:pt x="586" y="0"/>
                  </a:lnTo>
                  <a:lnTo>
                    <a:pt x="586" y="418"/>
                  </a:lnTo>
                  <a:close/>
                  <a:moveTo>
                    <a:pt x="703" y="418"/>
                  </a:moveTo>
                  <a:lnTo>
                    <a:pt x="761" y="418"/>
                  </a:lnTo>
                  <a:lnTo>
                    <a:pt x="761" y="0"/>
                  </a:lnTo>
                  <a:lnTo>
                    <a:pt x="703" y="0"/>
                  </a:lnTo>
                  <a:lnTo>
                    <a:pt x="703" y="418"/>
                  </a:lnTo>
                  <a:close/>
                  <a:moveTo>
                    <a:pt x="821" y="418"/>
                  </a:moveTo>
                  <a:lnTo>
                    <a:pt x="880" y="418"/>
                  </a:lnTo>
                  <a:lnTo>
                    <a:pt x="880" y="0"/>
                  </a:lnTo>
                  <a:lnTo>
                    <a:pt x="821" y="0"/>
                  </a:lnTo>
                  <a:lnTo>
                    <a:pt x="821" y="418"/>
                  </a:lnTo>
                  <a:close/>
                  <a:moveTo>
                    <a:pt x="0" y="418"/>
                  </a:moveTo>
                  <a:lnTo>
                    <a:pt x="58" y="418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168880" y="3166920"/>
              <a:ext cx="652320" cy="41400"/>
            </a:xfrm>
            <a:custGeom>
              <a:avLst/>
              <a:gdLst/>
              <a:ahLst/>
              <a:rect l="l" t="t" r="r" b="b"/>
              <a:pathLst>
                <a:path w="822" h="51">
                  <a:moveTo>
                    <a:pt x="705" y="51"/>
                  </a:moveTo>
                  <a:lnTo>
                    <a:pt x="822" y="51"/>
                  </a:lnTo>
                  <a:lnTo>
                    <a:pt x="822" y="0"/>
                  </a:lnTo>
                  <a:lnTo>
                    <a:pt x="705" y="0"/>
                  </a:lnTo>
                  <a:lnTo>
                    <a:pt x="705" y="51"/>
                  </a:lnTo>
                  <a:close/>
                  <a:moveTo>
                    <a:pt x="528" y="51"/>
                  </a:moveTo>
                  <a:lnTo>
                    <a:pt x="647" y="51"/>
                  </a:lnTo>
                  <a:lnTo>
                    <a:pt x="647" y="0"/>
                  </a:lnTo>
                  <a:lnTo>
                    <a:pt x="528" y="0"/>
                  </a:lnTo>
                  <a:lnTo>
                    <a:pt x="528" y="51"/>
                  </a:lnTo>
                  <a:close/>
                  <a:moveTo>
                    <a:pt x="352" y="51"/>
                  </a:moveTo>
                  <a:lnTo>
                    <a:pt x="470" y="51"/>
                  </a:lnTo>
                  <a:lnTo>
                    <a:pt x="470" y="0"/>
                  </a:lnTo>
                  <a:lnTo>
                    <a:pt x="352" y="0"/>
                  </a:lnTo>
                  <a:lnTo>
                    <a:pt x="352" y="51"/>
                  </a:lnTo>
                  <a:close/>
                  <a:moveTo>
                    <a:pt x="177" y="51"/>
                  </a:moveTo>
                  <a:lnTo>
                    <a:pt x="293" y="51"/>
                  </a:lnTo>
                  <a:lnTo>
                    <a:pt x="293" y="0"/>
                  </a:lnTo>
                  <a:lnTo>
                    <a:pt x="177" y="0"/>
                  </a:lnTo>
                  <a:lnTo>
                    <a:pt x="177" y="51"/>
                  </a:lnTo>
                  <a:close/>
                  <a:moveTo>
                    <a:pt x="0" y="51"/>
                  </a:moveTo>
                  <a:lnTo>
                    <a:pt x="118" y="51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065560" y="3287880"/>
              <a:ext cx="37800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109480" y="329724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181480" y="3505320"/>
              <a:ext cx="638280" cy="150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213520" y="3562200"/>
              <a:ext cx="31680" cy="39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452920" y="3562200"/>
              <a:ext cx="3333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181480" y="3524400"/>
              <a:ext cx="638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468760" y="3571920"/>
              <a:ext cx="303480" cy="20520"/>
            </a:xfrm>
            <a:custGeom>
              <a:avLst/>
              <a:gdLst/>
              <a:ahLst/>
              <a:rect l="l" t="t" r="r" b="b"/>
              <a:pathLst>
                <a:path w="382" h="25">
                  <a:moveTo>
                    <a:pt x="80" y="25"/>
                  </a:moveTo>
                  <a:lnTo>
                    <a:pt x="101" y="25"/>
                  </a:lnTo>
                  <a:lnTo>
                    <a:pt x="101" y="0"/>
                  </a:lnTo>
                  <a:lnTo>
                    <a:pt x="80" y="0"/>
                  </a:lnTo>
                  <a:lnTo>
                    <a:pt x="80" y="25"/>
                  </a:lnTo>
                  <a:close/>
                  <a:moveTo>
                    <a:pt x="41" y="25"/>
                  </a:moveTo>
                  <a:lnTo>
                    <a:pt x="60" y="25"/>
                  </a:lnTo>
                  <a:lnTo>
                    <a:pt x="60" y="0"/>
                  </a:lnTo>
                  <a:lnTo>
                    <a:pt x="41" y="0"/>
                  </a:lnTo>
                  <a:lnTo>
                    <a:pt x="41" y="25"/>
                  </a:lnTo>
                  <a:close/>
                  <a:moveTo>
                    <a:pt x="0" y="25"/>
                  </a:moveTo>
                  <a:lnTo>
                    <a:pt x="20" y="2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5"/>
                  </a:lnTo>
                  <a:close/>
                  <a:moveTo>
                    <a:pt x="142" y="25"/>
                  </a:moveTo>
                  <a:lnTo>
                    <a:pt x="161" y="25"/>
                  </a:lnTo>
                  <a:lnTo>
                    <a:pt x="161" y="0"/>
                  </a:lnTo>
                  <a:lnTo>
                    <a:pt x="142" y="0"/>
                  </a:lnTo>
                  <a:lnTo>
                    <a:pt x="142" y="25"/>
                  </a:lnTo>
                  <a:close/>
                  <a:moveTo>
                    <a:pt x="202" y="25"/>
                  </a:moveTo>
                  <a:lnTo>
                    <a:pt x="221" y="25"/>
                  </a:lnTo>
                  <a:lnTo>
                    <a:pt x="221" y="0"/>
                  </a:lnTo>
                  <a:lnTo>
                    <a:pt x="202" y="0"/>
                  </a:lnTo>
                  <a:lnTo>
                    <a:pt x="202" y="25"/>
                  </a:lnTo>
                  <a:close/>
                  <a:moveTo>
                    <a:pt x="241" y="25"/>
                  </a:moveTo>
                  <a:lnTo>
                    <a:pt x="262" y="25"/>
                  </a:lnTo>
                  <a:lnTo>
                    <a:pt x="262" y="0"/>
                  </a:lnTo>
                  <a:lnTo>
                    <a:pt x="241" y="0"/>
                  </a:lnTo>
                  <a:lnTo>
                    <a:pt x="241" y="25"/>
                  </a:lnTo>
                  <a:close/>
                  <a:moveTo>
                    <a:pt x="281" y="25"/>
                  </a:moveTo>
                  <a:lnTo>
                    <a:pt x="303" y="25"/>
                  </a:lnTo>
                  <a:lnTo>
                    <a:pt x="303" y="0"/>
                  </a:lnTo>
                  <a:lnTo>
                    <a:pt x="281" y="0"/>
                  </a:lnTo>
                  <a:lnTo>
                    <a:pt x="281" y="25"/>
                  </a:lnTo>
                  <a:close/>
                  <a:moveTo>
                    <a:pt x="322" y="25"/>
                  </a:moveTo>
                  <a:lnTo>
                    <a:pt x="341" y="25"/>
                  </a:lnTo>
                  <a:lnTo>
                    <a:pt x="341" y="0"/>
                  </a:lnTo>
                  <a:lnTo>
                    <a:pt x="322" y="0"/>
                  </a:lnTo>
                  <a:lnTo>
                    <a:pt x="322" y="25"/>
                  </a:lnTo>
                  <a:close/>
                  <a:moveTo>
                    <a:pt x="363" y="25"/>
                  </a:moveTo>
                  <a:lnTo>
                    <a:pt x="382" y="25"/>
                  </a:lnTo>
                  <a:lnTo>
                    <a:pt x="382" y="0"/>
                  </a:lnTo>
                  <a:lnTo>
                    <a:pt x="363" y="0"/>
                  </a:lnTo>
                  <a:lnTo>
                    <a:pt x="363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5560" y="3693960"/>
              <a:ext cx="297000" cy="1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106600" y="3701880"/>
              <a:ext cx="264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495760" y="3249720"/>
              <a:ext cx="1800" cy="25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884760" y="2028960"/>
              <a:ext cx="1611000" cy="636480"/>
            </a:xfrm>
            <a:custGeom>
              <a:avLst/>
              <a:gdLst/>
              <a:ahLst/>
              <a:rect l="l" t="t" r="r" b="b"/>
              <a:pathLst>
                <a:path w="2031" h="801">
                  <a:moveTo>
                    <a:pt x="0" y="0"/>
                  </a:moveTo>
                  <a:lnTo>
                    <a:pt x="2031" y="0"/>
                  </a:lnTo>
                  <a:lnTo>
                    <a:pt x="2031" y="80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464080" y="2657520"/>
              <a:ext cx="65160" cy="968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81" y="0"/>
                  </a:moveTo>
                  <a:lnTo>
                    <a:pt x="41" y="121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745160" y="1852560"/>
              <a:ext cx="5680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796640" y="1860480"/>
              <a:ext cx="518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direction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862880" y="197316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960080" y="208440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i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448320" y="2365200"/>
              <a:ext cx="381240" cy="2373480"/>
            </a:xfrm>
            <a:custGeom>
              <a:avLst/>
              <a:gdLst/>
              <a:ahLst/>
              <a:rect l="l" t="t" r="r" b="b"/>
              <a:pathLst>
                <a:path w="479" h="2991">
                  <a:moveTo>
                    <a:pt x="479" y="0"/>
                  </a:moveTo>
                  <a:lnTo>
                    <a:pt x="479" y="2991"/>
                  </a:lnTo>
                  <a:lnTo>
                    <a:pt x="0" y="299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311120" y="1000080"/>
              <a:ext cx="908280" cy="380880"/>
            </a:xfrm>
            <a:custGeom>
              <a:avLst/>
              <a:gdLst/>
              <a:ahLst/>
              <a:rect l="l" t="t" r="r" b="b"/>
              <a:pathLst>
                <a:path w="1143" h="478">
                  <a:moveTo>
                    <a:pt x="0" y="0"/>
                  </a:moveTo>
                  <a:lnTo>
                    <a:pt x="1143" y="0"/>
                  </a:lnTo>
                  <a:lnTo>
                    <a:pt x="1143" y="4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5" name=""/>
          <p:cNvSpPr/>
          <p:nvPr/>
        </p:nvSpPr>
        <p:spPr>
          <a:xfrm>
            <a:off x="1649520" y="2765520"/>
            <a:ext cx="569880" cy="1212840"/>
          </a:xfrm>
          <a:custGeom>
            <a:avLst/>
            <a:gdLst/>
            <a:ahLst/>
            <a:rect l="l" t="t" r="r" b="b"/>
            <a:pathLst>
              <a:path w="717" h="1529">
                <a:moveTo>
                  <a:pt x="717" y="0"/>
                </a:moveTo>
                <a:lnTo>
                  <a:pt x="717" y="1529"/>
                </a:lnTo>
                <a:lnTo>
                  <a:pt x="0" y="15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2187720" y="2676600"/>
            <a:ext cx="63360" cy="96840"/>
          </a:xfrm>
          <a:custGeom>
            <a:avLst/>
            <a:gdLst/>
            <a:ahLst/>
            <a:rect l="l" t="t" r="r" b="b"/>
            <a:pathLst>
              <a:path w="81" h="122">
                <a:moveTo>
                  <a:pt x="0" y="122"/>
                </a:moveTo>
                <a:lnTo>
                  <a:pt x="40" y="0"/>
                </a:lnTo>
                <a:lnTo>
                  <a:pt x="81" y="122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562040" y="3946680"/>
            <a:ext cx="96840" cy="64800"/>
          </a:xfrm>
          <a:custGeom>
            <a:avLst/>
            <a:gdLst/>
            <a:ahLst/>
            <a:rect l="l" t="t" r="r" b="b"/>
            <a:pathLst>
              <a:path w="122" h="81">
                <a:moveTo>
                  <a:pt x="122" y="81"/>
                </a:moveTo>
                <a:lnTo>
                  <a:pt x="0" y="41"/>
                </a:lnTo>
                <a:lnTo>
                  <a:pt x="122" y="0"/>
                </a:lnTo>
                <a:lnTo>
                  <a:pt x="122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2976480" y="933480"/>
            <a:ext cx="324000" cy="447480"/>
          </a:xfrm>
          <a:custGeom>
            <a:avLst/>
            <a:gdLst/>
            <a:ahLst/>
            <a:rect l="l" t="t" r="r" b="b"/>
            <a:pathLst>
              <a:path w="408" h="563">
                <a:moveTo>
                  <a:pt x="408" y="0"/>
                </a:moveTo>
                <a:lnTo>
                  <a:pt x="408" y="157"/>
                </a:lnTo>
                <a:lnTo>
                  <a:pt x="0" y="157"/>
                </a:lnTo>
                <a:lnTo>
                  <a:pt x="0" y="56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1146240" y="4738680"/>
            <a:ext cx="663480" cy="662040"/>
          </a:xfrm>
          <a:custGeom>
            <a:avLst/>
            <a:gdLst/>
            <a:ahLst/>
            <a:rect l="l" t="t" r="r" b="b"/>
            <a:pathLst>
              <a:path w="836" h="833">
                <a:moveTo>
                  <a:pt x="251" y="492"/>
                </a:moveTo>
                <a:lnTo>
                  <a:pt x="585" y="492"/>
                </a:lnTo>
                <a:lnTo>
                  <a:pt x="585" y="455"/>
                </a:lnTo>
                <a:lnTo>
                  <a:pt x="251" y="455"/>
                </a:lnTo>
                <a:lnTo>
                  <a:pt x="251" y="492"/>
                </a:lnTo>
                <a:close/>
                <a:moveTo>
                  <a:pt x="85" y="455"/>
                </a:moveTo>
                <a:lnTo>
                  <a:pt x="751" y="455"/>
                </a:lnTo>
                <a:lnTo>
                  <a:pt x="751" y="0"/>
                </a:lnTo>
                <a:lnTo>
                  <a:pt x="85" y="0"/>
                </a:lnTo>
                <a:lnTo>
                  <a:pt x="85" y="455"/>
                </a:lnTo>
                <a:close/>
                <a:moveTo>
                  <a:pt x="168" y="607"/>
                </a:moveTo>
                <a:lnTo>
                  <a:pt x="668" y="607"/>
                </a:lnTo>
                <a:lnTo>
                  <a:pt x="668" y="492"/>
                </a:lnTo>
                <a:lnTo>
                  <a:pt x="168" y="492"/>
                </a:lnTo>
                <a:lnTo>
                  <a:pt x="168" y="607"/>
                </a:lnTo>
                <a:close/>
                <a:moveTo>
                  <a:pt x="628" y="607"/>
                </a:moveTo>
                <a:lnTo>
                  <a:pt x="244" y="607"/>
                </a:lnTo>
                <a:lnTo>
                  <a:pt x="0" y="607"/>
                </a:lnTo>
                <a:lnTo>
                  <a:pt x="0" y="833"/>
                </a:lnTo>
                <a:lnTo>
                  <a:pt x="836" y="833"/>
                </a:lnTo>
                <a:lnTo>
                  <a:pt x="836" y="607"/>
                </a:lnTo>
                <a:lnTo>
                  <a:pt x="628" y="607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1362240" y="5265720"/>
            <a:ext cx="997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1163520" y="5237280"/>
            <a:ext cx="50760" cy="28440"/>
          </a:xfrm>
          <a:custGeom>
            <a:avLst/>
            <a:gdLst/>
            <a:ahLst/>
            <a:rect l="l" t="t" r="r" b="b"/>
            <a:pathLst>
              <a:path w="64" h="37">
                <a:moveTo>
                  <a:pt x="0" y="18"/>
                </a:moveTo>
                <a:lnTo>
                  <a:pt x="4" y="9"/>
                </a:lnTo>
                <a:lnTo>
                  <a:pt x="13" y="4"/>
                </a:lnTo>
                <a:lnTo>
                  <a:pt x="25" y="0"/>
                </a:lnTo>
                <a:lnTo>
                  <a:pt x="39" y="0"/>
                </a:lnTo>
                <a:lnTo>
                  <a:pt x="52" y="4"/>
                </a:lnTo>
                <a:lnTo>
                  <a:pt x="61" y="9"/>
                </a:lnTo>
                <a:lnTo>
                  <a:pt x="64" y="18"/>
                </a:lnTo>
                <a:lnTo>
                  <a:pt x="61" y="27"/>
                </a:lnTo>
                <a:lnTo>
                  <a:pt x="52" y="32"/>
                </a:lnTo>
                <a:lnTo>
                  <a:pt x="39" y="37"/>
                </a:lnTo>
                <a:lnTo>
                  <a:pt x="25" y="37"/>
                </a:lnTo>
                <a:lnTo>
                  <a:pt x="13" y="32"/>
                </a:lnTo>
                <a:lnTo>
                  <a:pt x="4" y="27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1279440" y="4799160"/>
            <a:ext cx="397080" cy="2412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1163520" y="5356080"/>
            <a:ext cx="628920" cy="30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1727280" y="5235480"/>
            <a:ext cx="31680" cy="46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1146240" y="529596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1146240" y="5326200"/>
            <a:ext cx="66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34604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477800" y="5221440"/>
            <a:ext cx="180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 flipV="1">
            <a:off x="1544760" y="522108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676520" y="5221440"/>
            <a:ext cx="1440" cy="7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1219320" y="5440320"/>
            <a:ext cx="51732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1268280" y="5448240"/>
            <a:ext cx="465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1809720" y="4738680"/>
            <a:ext cx="514440" cy="552600"/>
          </a:xfrm>
          <a:custGeom>
            <a:avLst/>
            <a:gdLst/>
            <a:ahLst/>
            <a:rect l="l" t="t" r="r" b="b"/>
            <a:pathLst>
              <a:path w="647" h="695">
                <a:moveTo>
                  <a:pt x="647" y="0"/>
                </a:moveTo>
                <a:lnTo>
                  <a:pt x="492" y="0"/>
                </a:lnTo>
                <a:lnTo>
                  <a:pt x="492" y="695"/>
                </a:lnTo>
                <a:lnTo>
                  <a:pt x="0" y="6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2219400" y="1380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2274840" y="1474920"/>
            <a:ext cx="3348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2328840" y="15685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2384280" y="16621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438280" y="1755720"/>
            <a:ext cx="349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494080" y="18493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2549520" y="19447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2603520" y="2038320"/>
            <a:ext cx="3348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2658960" y="2131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2714760" y="2225520"/>
            <a:ext cx="3312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770200" y="2320920"/>
            <a:ext cx="3348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2824200" y="2416320"/>
            <a:ext cx="3492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2879640" y="2509920"/>
            <a:ext cx="3492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2935440" y="2604960"/>
            <a:ext cx="3312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2976480" y="138096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3065400" y="1442880"/>
            <a:ext cx="54000" cy="3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3154320" y="150660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3241800" y="1571760"/>
            <a:ext cx="55440" cy="3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3330720" y="1633680"/>
            <a:ext cx="540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419640" y="1697040"/>
            <a:ext cx="5364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3508200" y="1760400"/>
            <a:ext cx="558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3597120" y="1824120"/>
            <a:ext cx="540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3686040" y="1887480"/>
            <a:ext cx="54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3774960" y="1951200"/>
            <a:ext cx="5580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3863880" y="2014560"/>
            <a:ext cx="2088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4129200" y="391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4129200" y="423864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4129200" y="439092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4129200" y="454176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4129200" y="487044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4129200" y="5021280"/>
            <a:ext cx="144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4129200" y="5172120"/>
            <a:ext cx="144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4129200" y="5500800"/>
            <a:ext cx="1440" cy="2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4129200" y="5651640"/>
            <a:ext cx="144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4129200" y="1595520"/>
            <a:ext cx="496800" cy="396720"/>
          </a:xfrm>
          <a:custGeom>
            <a:avLst/>
            <a:gdLst/>
            <a:ahLst/>
            <a:rect l="l" t="t" r="r" b="b"/>
            <a:pathLst>
              <a:path w="627" h="499">
                <a:moveTo>
                  <a:pt x="0" y="250"/>
                </a:moveTo>
                <a:lnTo>
                  <a:pt x="3" y="212"/>
                </a:lnTo>
                <a:lnTo>
                  <a:pt x="14" y="176"/>
                </a:lnTo>
                <a:lnTo>
                  <a:pt x="31" y="141"/>
                </a:lnTo>
                <a:lnTo>
                  <a:pt x="54" y="109"/>
                </a:lnTo>
                <a:lnTo>
                  <a:pt x="84" y="79"/>
                </a:lnTo>
                <a:lnTo>
                  <a:pt x="118" y="55"/>
                </a:lnTo>
                <a:lnTo>
                  <a:pt x="157" y="33"/>
                </a:lnTo>
                <a:lnTo>
                  <a:pt x="199" y="17"/>
                </a:lnTo>
                <a:lnTo>
                  <a:pt x="243" y="5"/>
                </a:lnTo>
                <a:lnTo>
                  <a:pt x="289" y="0"/>
                </a:lnTo>
                <a:lnTo>
                  <a:pt x="337" y="0"/>
                </a:lnTo>
                <a:lnTo>
                  <a:pt x="383" y="5"/>
                </a:lnTo>
                <a:lnTo>
                  <a:pt x="427" y="17"/>
                </a:lnTo>
                <a:lnTo>
                  <a:pt x="470" y="33"/>
                </a:lnTo>
                <a:lnTo>
                  <a:pt x="509" y="55"/>
                </a:lnTo>
                <a:lnTo>
                  <a:pt x="542" y="79"/>
                </a:lnTo>
                <a:lnTo>
                  <a:pt x="572" y="109"/>
                </a:lnTo>
                <a:lnTo>
                  <a:pt x="595" y="141"/>
                </a:lnTo>
                <a:lnTo>
                  <a:pt x="613" y="176"/>
                </a:lnTo>
                <a:lnTo>
                  <a:pt x="623" y="212"/>
                </a:lnTo>
                <a:lnTo>
                  <a:pt x="627" y="250"/>
                </a:lnTo>
                <a:lnTo>
                  <a:pt x="623" y="288"/>
                </a:lnTo>
                <a:lnTo>
                  <a:pt x="613" y="323"/>
                </a:lnTo>
                <a:lnTo>
                  <a:pt x="595" y="358"/>
                </a:lnTo>
                <a:lnTo>
                  <a:pt x="572" y="390"/>
                </a:lnTo>
                <a:lnTo>
                  <a:pt x="542" y="420"/>
                </a:lnTo>
                <a:lnTo>
                  <a:pt x="509" y="445"/>
                </a:lnTo>
                <a:lnTo>
                  <a:pt x="470" y="466"/>
                </a:lnTo>
                <a:lnTo>
                  <a:pt x="427" y="483"/>
                </a:lnTo>
                <a:lnTo>
                  <a:pt x="383" y="494"/>
                </a:lnTo>
                <a:lnTo>
                  <a:pt x="337" y="499"/>
                </a:lnTo>
                <a:lnTo>
                  <a:pt x="289" y="499"/>
                </a:lnTo>
                <a:lnTo>
                  <a:pt x="243" y="494"/>
                </a:lnTo>
                <a:lnTo>
                  <a:pt x="199" y="483"/>
                </a:lnTo>
                <a:lnTo>
                  <a:pt x="157" y="466"/>
                </a:lnTo>
                <a:lnTo>
                  <a:pt x="118" y="445"/>
                </a:lnTo>
                <a:lnTo>
                  <a:pt x="84" y="420"/>
                </a:lnTo>
                <a:lnTo>
                  <a:pt x="54" y="390"/>
                </a:lnTo>
                <a:lnTo>
                  <a:pt x="31" y="358"/>
                </a:lnTo>
                <a:lnTo>
                  <a:pt x="14" y="323"/>
                </a:lnTo>
                <a:lnTo>
                  <a:pt x="3" y="288"/>
                </a:lnTo>
                <a:lnTo>
                  <a:pt x="0" y="250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4357440" y="1693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3052800" y="2836800"/>
            <a:ext cx="496800" cy="496800"/>
          </a:xfrm>
          <a:custGeom>
            <a:avLst/>
            <a:gdLst/>
            <a:ahLst/>
            <a:rect l="l" t="t" r="r" b="b"/>
            <a:pathLst>
              <a:path w="626" h="625">
                <a:moveTo>
                  <a:pt x="0" y="313"/>
                </a:moveTo>
                <a:lnTo>
                  <a:pt x="4" y="265"/>
                </a:lnTo>
                <a:lnTo>
                  <a:pt x="12" y="221"/>
                </a:lnTo>
                <a:lnTo>
                  <a:pt x="30" y="177"/>
                </a:lnTo>
                <a:lnTo>
                  <a:pt x="53" y="136"/>
                </a:lnTo>
                <a:lnTo>
                  <a:pt x="83" y="99"/>
                </a:lnTo>
                <a:lnTo>
                  <a:pt x="117" y="67"/>
                </a:lnTo>
                <a:lnTo>
                  <a:pt x="156" y="41"/>
                </a:lnTo>
                <a:lnTo>
                  <a:pt x="198" y="22"/>
                </a:lnTo>
                <a:lnTo>
                  <a:pt x="242" y="7"/>
                </a:lnTo>
                <a:lnTo>
                  <a:pt x="288" y="0"/>
                </a:lnTo>
                <a:lnTo>
                  <a:pt x="336" y="0"/>
                </a:lnTo>
                <a:lnTo>
                  <a:pt x="382" y="7"/>
                </a:lnTo>
                <a:lnTo>
                  <a:pt x="426" y="22"/>
                </a:lnTo>
                <a:lnTo>
                  <a:pt x="468" y="41"/>
                </a:lnTo>
                <a:lnTo>
                  <a:pt x="507" y="67"/>
                </a:lnTo>
                <a:lnTo>
                  <a:pt x="543" y="99"/>
                </a:lnTo>
                <a:lnTo>
                  <a:pt x="571" y="136"/>
                </a:lnTo>
                <a:lnTo>
                  <a:pt x="594" y="177"/>
                </a:lnTo>
                <a:lnTo>
                  <a:pt x="612" y="221"/>
                </a:lnTo>
                <a:lnTo>
                  <a:pt x="622" y="265"/>
                </a:lnTo>
                <a:lnTo>
                  <a:pt x="626" y="313"/>
                </a:lnTo>
                <a:lnTo>
                  <a:pt x="622" y="359"/>
                </a:lnTo>
                <a:lnTo>
                  <a:pt x="612" y="405"/>
                </a:lnTo>
                <a:lnTo>
                  <a:pt x="594" y="449"/>
                </a:lnTo>
                <a:lnTo>
                  <a:pt x="571" y="489"/>
                </a:lnTo>
                <a:lnTo>
                  <a:pt x="543" y="525"/>
                </a:lnTo>
                <a:lnTo>
                  <a:pt x="507" y="556"/>
                </a:lnTo>
                <a:lnTo>
                  <a:pt x="468" y="583"/>
                </a:lnTo>
                <a:lnTo>
                  <a:pt x="426" y="604"/>
                </a:lnTo>
                <a:lnTo>
                  <a:pt x="382" y="618"/>
                </a:lnTo>
                <a:lnTo>
                  <a:pt x="336" y="625"/>
                </a:lnTo>
                <a:lnTo>
                  <a:pt x="288" y="625"/>
                </a:lnTo>
                <a:lnTo>
                  <a:pt x="242" y="618"/>
                </a:lnTo>
                <a:lnTo>
                  <a:pt x="198" y="604"/>
                </a:lnTo>
                <a:lnTo>
                  <a:pt x="156" y="583"/>
                </a:lnTo>
                <a:lnTo>
                  <a:pt x="117" y="556"/>
                </a:lnTo>
                <a:lnTo>
                  <a:pt x="83" y="525"/>
                </a:lnTo>
                <a:lnTo>
                  <a:pt x="53" y="489"/>
                </a:lnTo>
                <a:lnTo>
                  <a:pt x="30" y="449"/>
                </a:lnTo>
                <a:lnTo>
                  <a:pt x="12" y="405"/>
                </a:lnTo>
                <a:lnTo>
                  <a:pt x="4" y="359"/>
                </a:lnTo>
                <a:lnTo>
                  <a:pt x="0" y="313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3281040" y="2982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1644480" y="2919240"/>
            <a:ext cx="497160" cy="497160"/>
          </a:xfrm>
          <a:custGeom>
            <a:avLst/>
            <a:gdLst/>
            <a:ahLst/>
            <a:rect l="l" t="t" r="r" b="b"/>
            <a:pathLst>
              <a:path w="625" h="624">
                <a:moveTo>
                  <a:pt x="0" y="312"/>
                </a:moveTo>
                <a:lnTo>
                  <a:pt x="3" y="266"/>
                </a:lnTo>
                <a:lnTo>
                  <a:pt x="12" y="220"/>
                </a:lnTo>
                <a:lnTo>
                  <a:pt x="30" y="176"/>
                </a:lnTo>
                <a:lnTo>
                  <a:pt x="53" y="135"/>
                </a:lnTo>
                <a:lnTo>
                  <a:pt x="83" y="98"/>
                </a:lnTo>
                <a:lnTo>
                  <a:pt x="116" y="67"/>
                </a:lnTo>
                <a:lnTo>
                  <a:pt x="155" y="40"/>
                </a:lnTo>
                <a:lnTo>
                  <a:pt x="198" y="21"/>
                </a:lnTo>
                <a:lnTo>
                  <a:pt x="242" y="7"/>
                </a:lnTo>
                <a:lnTo>
                  <a:pt x="289" y="0"/>
                </a:lnTo>
                <a:lnTo>
                  <a:pt x="335" y="0"/>
                </a:lnTo>
                <a:lnTo>
                  <a:pt x="381" y="7"/>
                </a:lnTo>
                <a:lnTo>
                  <a:pt x="427" y="21"/>
                </a:lnTo>
                <a:lnTo>
                  <a:pt x="468" y="40"/>
                </a:lnTo>
                <a:lnTo>
                  <a:pt x="507" y="67"/>
                </a:lnTo>
                <a:lnTo>
                  <a:pt x="542" y="98"/>
                </a:lnTo>
                <a:lnTo>
                  <a:pt x="570" y="135"/>
                </a:lnTo>
                <a:lnTo>
                  <a:pt x="593" y="176"/>
                </a:lnTo>
                <a:lnTo>
                  <a:pt x="611" y="220"/>
                </a:lnTo>
                <a:lnTo>
                  <a:pt x="622" y="266"/>
                </a:lnTo>
                <a:lnTo>
                  <a:pt x="625" y="312"/>
                </a:lnTo>
                <a:lnTo>
                  <a:pt x="622" y="358"/>
                </a:lnTo>
                <a:lnTo>
                  <a:pt x="611" y="404"/>
                </a:lnTo>
                <a:lnTo>
                  <a:pt x="593" y="448"/>
                </a:lnTo>
                <a:lnTo>
                  <a:pt x="570" y="488"/>
                </a:lnTo>
                <a:lnTo>
                  <a:pt x="542" y="524"/>
                </a:lnTo>
                <a:lnTo>
                  <a:pt x="507" y="555"/>
                </a:lnTo>
                <a:lnTo>
                  <a:pt x="468" y="582"/>
                </a:lnTo>
                <a:lnTo>
                  <a:pt x="427" y="603"/>
                </a:lnTo>
                <a:lnTo>
                  <a:pt x="381" y="617"/>
                </a:lnTo>
                <a:lnTo>
                  <a:pt x="335" y="624"/>
                </a:lnTo>
                <a:lnTo>
                  <a:pt x="289" y="624"/>
                </a:lnTo>
                <a:lnTo>
                  <a:pt x="242" y="617"/>
                </a:lnTo>
                <a:lnTo>
                  <a:pt x="198" y="603"/>
                </a:lnTo>
                <a:lnTo>
                  <a:pt x="155" y="582"/>
                </a:lnTo>
                <a:lnTo>
                  <a:pt x="116" y="555"/>
                </a:lnTo>
                <a:lnTo>
                  <a:pt x="83" y="524"/>
                </a:lnTo>
                <a:lnTo>
                  <a:pt x="53" y="488"/>
                </a:lnTo>
                <a:lnTo>
                  <a:pt x="30" y="448"/>
                </a:lnTo>
                <a:lnTo>
                  <a:pt x="12" y="404"/>
                </a:lnTo>
                <a:lnTo>
                  <a:pt x="3" y="358"/>
                </a:ln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872720" y="30654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3963960" y="603360"/>
            <a:ext cx="165240" cy="198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3976560" y="615960"/>
            <a:ext cx="47880" cy="173160"/>
          </a:xfrm>
          <a:custGeom>
            <a:avLst/>
            <a:gdLst/>
            <a:ahLst/>
            <a:rect l="l" t="t" r="r" b="b"/>
            <a:pathLst>
              <a:path w="60" h="218">
                <a:moveTo>
                  <a:pt x="0" y="47"/>
                </a:moveTo>
                <a:lnTo>
                  <a:pt x="0" y="8"/>
                </a:lnTo>
                <a:lnTo>
                  <a:pt x="9" y="0"/>
                </a:lnTo>
                <a:lnTo>
                  <a:pt x="53" y="0"/>
                </a:lnTo>
                <a:lnTo>
                  <a:pt x="60" y="8"/>
                </a:lnTo>
                <a:lnTo>
                  <a:pt x="60" y="47"/>
                </a:lnTo>
                <a:lnTo>
                  <a:pt x="53" y="63"/>
                </a:lnTo>
                <a:lnTo>
                  <a:pt x="53" y="157"/>
                </a:lnTo>
                <a:lnTo>
                  <a:pt x="60" y="172"/>
                </a:lnTo>
                <a:lnTo>
                  <a:pt x="60" y="211"/>
                </a:lnTo>
                <a:lnTo>
                  <a:pt x="53" y="218"/>
                </a:lnTo>
                <a:lnTo>
                  <a:pt x="9" y="218"/>
                </a:lnTo>
                <a:lnTo>
                  <a:pt x="0" y="211"/>
                </a:lnTo>
                <a:lnTo>
                  <a:pt x="0" y="172"/>
                </a:lnTo>
                <a:lnTo>
                  <a:pt x="9" y="157"/>
                </a:lnTo>
                <a:lnTo>
                  <a:pt x="9" y="63"/>
                </a:lnTo>
                <a:lnTo>
                  <a:pt x="0" y="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4038480" y="615960"/>
            <a:ext cx="76320" cy="173160"/>
          </a:xfrm>
          <a:custGeom>
            <a:avLst/>
            <a:gdLst/>
            <a:ahLst/>
            <a:rect l="l" t="t" r="r" b="b"/>
            <a:pathLst>
              <a:path w="96" h="218">
                <a:moveTo>
                  <a:pt x="0" y="79"/>
                </a:moveTo>
                <a:lnTo>
                  <a:pt x="45" y="79"/>
                </a:lnTo>
                <a:lnTo>
                  <a:pt x="45" y="0"/>
                </a:lnTo>
                <a:lnTo>
                  <a:pt x="0" y="0"/>
                </a:lnTo>
                <a:lnTo>
                  <a:pt x="0" y="79"/>
                </a:lnTo>
                <a:close/>
                <a:moveTo>
                  <a:pt x="53" y="79"/>
                </a:moveTo>
                <a:lnTo>
                  <a:pt x="96" y="79"/>
                </a:lnTo>
                <a:lnTo>
                  <a:pt x="96" y="0"/>
                </a:lnTo>
                <a:lnTo>
                  <a:pt x="53" y="0"/>
                </a:lnTo>
                <a:lnTo>
                  <a:pt x="53" y="79"/>
                </a:lnTo>
                <a:close/>
                <a:moveTo>
                  <a:pt x="0" y="218"/>
                </a:moveTo>
                <a:lnTo>
                  <a:pt x="96" y="218"/>
                </a:lnTo>
                <a:lnTo>
                  <a:pt x="96" y="141"/>
                </a:lnTo>
                <a:lnTo>
                  <a:pt x="0" y="141"/>
                </a:lnTo>
                <a:lnTo>
                  <a:pt x="0" y="21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4038480" y="7142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4038480" y="70956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4038480" y="70164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4038480" y="69696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4038480" y="690480"/>
            <a:ext cx="76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4081320" y="63036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4081320" y="66204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4081320" y="646200"/>
            <a:ext cx="334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4038480" y="63036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4038480" y="66204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4038480" y="646200"/>
            <a:ext cx="34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4038480" y="7732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4038480" y="75888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4038480" y="743040"/>
            <a:ext cx="76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4089240" y="727200"/>
            <a:ext cx="180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4064040" y="727200"/>
            <a:ext cx="1440" cy="61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3817800" y="839880"/>
            <a:ext cx="4590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3865680" y="847800"/>
            <a:ext cx="41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3549600" y="701640"/>
            <a:ext cx="414360" cy="108000"/>
          </a:xfrm>
          <a:custGeom>
            <a:avLst/>
            <a:gdLst/>
            <a:ahLst/>
            <a:rect l="l" t="t" r="r" b="b"/>
            <a:pathLst>
              <a:path w="521" h="136">
                <a:moveTo>
                  <a:pt x="521" y="0"/>
                </a:moveTo>
                <a:lnTo>
                  <a:pt x="365" y="0"/>
                </a:lnTo>
                <a:lnTo>
                  <a:pt x="365" y="136"/>
                </a:lnTo>
                <a:lnTo>
                  <a:pt x="0" y="1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2654280" y="1676520"/>
            <a:ext cx="5727600" cy="3441600"/>
          </a:xfrm>
          <a:custGeom>
            <a:avLst/>
            <a:gdLst/>
            <a:ahLst/>
            <a:rect l="l" t="t" r="r" b="b"/>
            <a:pathLst>
              <a:path w="3608" h="2168">
                <a:moveTo>
                  <a:pt x="3608" y="0"/>
                </a:moveTo>
                <a:cubicBezTo>
                  <a:pt x="3208" y="56"/>
                  <a:pt x="2808" y="112"/>
                  <a:pt x="2648" y="432"/>
                </a:cubicBezTo>
                <a:cubicBezTo>
                  <a:pt x="2488" y="752"/>
                  <a:pt x="2856" y="1672"/>
                  <a:pt x="2648" y="1920"/>
                </a:cubicBezTo>
                <a:cubicBezTo>
                  <a:pt x="2440" y="2168"/>
                  <a:pt x="1808" y="1928"/>
                  <a:pt x="1400" y="1920"/>
                </a:cubicBezTo>
                <a:cubicBezTo>
                  <a:pt x="992" y="1912"/>
                  <a:pt x="400" y="2088"/>
                  <a:pt x="200" y="1872"/>
                </a:cubicBezTo>
                <a:cubicBezTo>
                  <a:pt x="0" y="1656"/>
                  <a:pt x="200" y="808"/>
                  <a:pt x="200" y="62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064-AFEF-497D-88C5-D15C94E77530}" type="slidenum">
              <a:t>8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The AFRICOM cas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95C-2FDD-463E-B4A5-5789760666B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Actual price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00" name="" descr=""/>
          <p:cNvPicPr/>
          <p:nvPr/>
        </p:nvPicPr>
        <p:blipFill>
          <a:blip r:embed="rId1"/>
          <a:stretch/>
        </p:blipFill>
        <p:spPr>
          <a:xfrm>
            <a:off x="2443320" y="1004760"/>
            <a:ext cx="4257360" cy="484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85B-ADEE-498F-8645-510845EE0624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Cost orientated tariff basi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02" name="" descr=""/>
          <p:cNvPicPr/>
          <p:nvPr/>
        </p:nvPicPr>
        <p:blipFill>
          <a:blip r:embed="rId1"/>
          <a:stretch/>
        </p:blipFill>
        <p:spPr>
          <a:xfrm>
            <a:off x="781200" y="887400"/>
            <a:ext cx="7219800" cy="535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E52-C292-4682-A95C-0077A5809627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Times New Roman"/>
              </a:rPr>
              <a:t>Cost based tariff basi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04" name="" descr=""/>
          <p:cNvPicPr/>
          <p:nvPr/>
        </p:nvPicPr>
        <p:blipFill>
          <a:blip r:embed="rId1"/>
          <a:stretch/>
        </p:blipFill>
        <p:spPr>
          <a:xfrm>
            <a:off x="781200" y="887400"/>
            <a:ext cx="7219800" cy="535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EA7-C241-4969-B8A8-FC3481E6E812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Status of VoIP providers in Afriland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SO policy choices of the public authorities generate an access deficit of USD 151 million for Africo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the size of the deficit, all telephone service providers in Afriland should bear a fair share of i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se service providers operate a network, whatever the technology, they must have operator status and be subject to statutory USO constrain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should apply to Afriland VoIP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ADD-27F1-44C7-B76C-B993AD0CD46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qualization charg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riland’s USO policy creates a transfer of charges from domestic calls to international calls and domestic calls to national ca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rge transferred to the outgoing international service is equal to the difference between the cost-orientated tariffs and the cost-based tariffs: USD 0.37 - USD 0.2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 USD 0.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dditional charge, clear of all inefficiency costs and due solely to USO policy, is called the “equalization charge”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should be applied to all international telephone service providers not participating in USO costs through the interconnection mechanism, in order to avoid regulatory arbitration: e.g. cyber caf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ceeds of the equalization charge are a resource belonging to the State which the incumbent operator may not cla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07C-9B09-4203-8832-AE2706292D8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Monthly subscript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 “A” link telephone lines must not be subsidized. Africom should apply a monthly subscription charge of USD 22 instead of the current USD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F00-3CD0-48F8-B33B-BF18C37D4C4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Link “B” interconnection charge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3812" name=""/>
          <p:cNvGraphicFramePr/>
          <p:nvPr/>
        </p:nvGraphicFramePr>
        <p:xfrm>
          <a:off x="1523880" y="1397160"/>
          <a:ext cx="6096240" cy="4663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 must ke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or 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16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2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1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2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12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D 0.24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FF0-F52E-46B6-9B98-C481DA74F360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xample 1: Africom customer to international customer via ISPT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mination charge Afriland-ISPTEL to Euroland-ISPTEL: USD 0.1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dogenous cost of Afriland-ISPTEL: USD 0.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nimum tariff when an Africom customer calls a Euroland customer via ISPTEL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.1693 + 0.15 + 0.10 = USD 0.41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fricom keeps USD 0.1693 and gives USD 0.25 to ISPTEL and its other part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1EA-F795-414D-A427-7C45BD2EC47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finition of services for which COSITU calculates cos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utgoing natio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all from an end-user of the network of the operator for which the calculations are ma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other operator located within the same political borders as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coming national, single transit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c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ng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network of another national operat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nd-user located in the charging area of the interconnection point and connected to the network of the operator for which the calculations are m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D74-60D7-486B-A989-53BF537D6B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xample 2: International call from a cybercafé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dogenous costs of Afriland-ISPTEL from a cybercafé, including the latter’s costs: USD 0.1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mination charge Afriland-ISPTEL to Euroland-ISPTEL: USD 0.1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nimum charge when cybercafé customer calls a Euroland customer via ISPTEL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.17 + 0.12 + 0.10 = USD 0.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PTEL pays USD 0.17 to the Afriland department of fin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5D3-89DA-45B7-8431-CD78A4B5C16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Example 3: ISPTEL routes a call which has to be terminated by Africom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xample, ISPTEL terminates an international call in the tariff area of the interconnection po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ISPTEL pays Africom USD 0.1266 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PTEL terminates an international call outside the tariff area of the interconnection po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Times New Roman"/>
              </a:rPr>
              <a:t>ISPTEL pays Africom USD 0.2486 </a:t>
            </a:r>
            <a:endParaRPr b="1" i="1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60% of the traffic terminated is “single transit”, ISPTEL and Africom could negotiate a single termination charge equal to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.1266 * 0.6 + 0.2486 * 0.4 = USD 0.17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ITU - The ITU tariff mod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EDC-AA42-420D-A941-AB1C601F40A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:E/ITU-D/AP/P04/145600E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7:17:07Z</dcterms:created>
  <dc:creator>Pape Gorgui TOURE</dc:creator>
  <dc:description/>
  <dc:language>en-US</dc:language>
  <cp:lastModifiedBy>UGALE, Arvin Carlos D.</cp:lastModifiedBy>
  <dcterms:modified xsi:type="dcterms:W3CDTF">2002-11-05T11:14:02Z</dcterms:modified>
  <cp:revision>133</cp:revision>
  <dc:subject/>
  <dc:title>PowerPoint Presentation</dc:title>
</cp:coreProperties>
</file>