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72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8B0A-1071-4B06-9C44-80342BA32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F228-9169-4797-9B4E-6B37FA44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1B88-6490-4111-91ED-C90878D4C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DD63-D81D-4F87-8FFE-C74A0707A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79CB-BC29-4D0B-9C21-61311E94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373D-647D-4AF9-A83B-55A4CA17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7EFA-1FDD-4C57-87EB-96DE7517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F5BD-DB95-460A-901D-B767A4CC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25E5-A257-43CA-BFE3-64D3E74F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3434-AB25-4058-9788-BA344414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668B-A93A-4BF4-9B69-F341E6A6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55C3-7327-491F-93BF-6859EB84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E691-7E5F-4EE9-94CF-F3C70EA88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914760" y="0"/>
            <a:ext cx="9296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3733920"/>
            <a:ext cx="8534520" cy="3429000"/>
            <a:chOff x="0" y="3733920"/>
            <a:chExt cx="8534520" cy="342900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0" y="3733920"/>
              <a:ext cx="853452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 txBox="1"/>
            <p:nvPr/>
          </p:nvSpPr>
          <p:spPr>
            <a:xfrm>
              <a:off x="0" y="3733920"/>
              <a:ext cx="8534520" cy="3429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"/>
          <p:cNvSpPr txBox="1"/>
          <p:nvPr/>
        </p:nvSpPr>
        <p:spPr>
          <a:xfrm>
            <a:off x="1371600" y="0"/>
            <a:ext cx="503856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                   </a:t>
            </a:r>
            <a:r>
              <a:rPr b="0" i="1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EVISED TAL MODEL  </a:t>
            </a:r>
            <a:endParaRPr b="0" i="1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UATEMALA  NOV 4-8 , 2002</a:t>
            </a:r>
            <a:endParaRPr b="0" i="1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D0F3-58E4-4C90-A9EF-AF66B8582E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acticabi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“the ability to implement a costing methodology with reasonable demands being placed on data availability and data processing in order to keep the costing exercise economical, yet still useful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mplexity of cost models must take into account the trade off between limitations in available human resource, timeliness of information, cost of implementation of methodology and and in-house resources to monitor and revise methodolog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A81D-EB42-4CA0-92DE-515A771C3F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ffici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“The provision of forecasts of cost reduction that results from a more efficient combination of resource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he most nebulous principle since there is no common barometer for stipulating efficiency. Even within the ITU models different models have different benchmarks for measuring/extrapolating efficien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B214-2476-49AB-9DA8-C00545E67A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work Pricing R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bundled Costs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901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cess Networ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901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veyance Networ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bundled Conveyance Network to provide interconnection at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cal swit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 tande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uble tand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B94C-AF17-4474-8932-3EA6C3E855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T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871560" y="1981080"/>
          <a:ext cx="7400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1560" y="1981080"/>
                    <a:ext cx="7400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6ED1-163F-4436-AA27-563C025B23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619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ied Component Usage RE: Call Pat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mber dialed on originating network to subscriber on another net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gnal sent from equipment to originating switch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riginating switch examines called digits, recognizing that digits are in another local exchange activates and routes a query trigger to the ST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20FD-4B83-498C-8671-B394522D39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e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P performs the translation and routes the query to an appropriate SC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P matches the location of routing number associated with dialed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P response containing location routing number is sent back to the originating switch by the ST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iginating switch receives message and routes call to recipient switch based on location routing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ipient switch continues the switching (including signaling and transmission until call reaches desti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7D6A-B34E-43B8-8C92-99202B444D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ariably Call Path Utilizes Components Of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76320" y="1980720"/>
            <a:ext cx="9220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itching  network (including signaling network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ssion Network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network (if included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the first two are used invariably whene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connection is required, the objective is to find 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or which derives the most efficient com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s, subject to market peculiarities. This is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 of the TAL model for Caribbean and Lat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erican cou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A5DC-E0DC-4049-8751-0C06AABE64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 Clust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4648320"/>
            <a:ext cx="190512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cumb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s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rate for us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facilit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105520" y="495288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67280" y="50292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s to encour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67280" y="4343400"/>
            <a:ext cx="91440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he most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4114800"/>
            <a:ext cx="22860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eti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3200400"/>
            <a:ext cx="91440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00800" y="2819520"/>
            <a:ext cx="91440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772400" y="2743200"/>
            <a:ext cx="91440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10280" y="2362320"/>
            <a:ext cx="91440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400800" y="2209680"/>
            <a:ext cx="91440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2362320"/>
            <a:ext cx="91440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2590920"/>
            <a:ext cx="9144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0120" y="1981080"/>
            <a:ext cx="9144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19920" y="30481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2743200"/>
            <a:ext cx="7621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29400" y="3276720"/>
            <a:ext cx="14479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15200" y="2819520"/>
            <a:ext cx="7632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7480" y="2819520"/>
            <a:ext cx="7632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543800" y="2895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72400" y="3048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772400" y="3124080"/>
            <a:ext cx="4572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67480" y="2286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467480" y="22096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38880" y="1905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1905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91520" y="19810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1981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48720" y="2362320"/>
            <a:ext cx="91440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86600" y="1905120"/>
            <a:ext cx="91440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05720" y="18288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um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afford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198108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gul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market pr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urage consum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and and net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2895480"/>
            <a:ext cx="114300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26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2743200"/>
            <a:ext cx="3505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2895480"/>
            <a:ext cx="29718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567160" y="2541600"/>
            <a:ext cx="40082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st oriented pricing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3A0B-E9F5-41A8-8DA0-7F8BA302E2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5741-1FEF-43A4-AB99-24E47F613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onomics of TAL Mode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 Run Efficiency Cos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312408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410080" y="5638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57150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600200" y="3733560"/>
            <a:ext cx="2590920" cy="1904760"/>
          </a:xfrm>
          <a:prstGeom prst="line">
            <a:avLst/>
          </a:prstGeom>
          <a:ln w="93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3048120"/>
            <a:ext cx="213336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4648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4572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4572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600200" y="3429000"/>
            <a:ext cx="175248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600200" y="3733560"/>
            <a:ext cx="182880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4191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4191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19520" y="43434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ul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LREC formula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= A(1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ß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= per minute cost of traffi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= total cost (direct, indirect and common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ß = Efficiency fact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traffic throughp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60F8-38B6-4BE0-94EB-460DB56846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dging The ICT Divid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tanbul Action Pla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to ICT facilities is an imperative to Socio-econ growth, particularly in developing countri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to ICT services is highly contingent on telecommunication networks that deliver services at prices that are equitable, affordable and cost orient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are fundamental pricing princip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CCB4-6CBA-4197-815E-06FCE32632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iciency Constrain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conomies of sc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ely high financial cos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graphical impedim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urement disadvantag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 Run Economic- Efficiency Costing (LEC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mental Economic-Efficiency Costing (IEC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that they are both long run concept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2172-8F01-4D6E-90F9-515562AC4F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 &amp; IE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EC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å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total cost adjusted for unavoidable dis- economies of scale (inefficienc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total traffic (current + expecte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C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@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@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cost of additional components to deliver interconnect traffic, subject to adjustment for in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interconnect traff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A3EC-E256-4F5A-B62E-39E64875031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ounting Moda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839440" cy="80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rect Co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Annualized equipment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epreciation) + annualized cost of ca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interest on loans and reasonable return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ty) + acquisition and installation costs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rtion equipment which cannot as yet 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reciated + annualized operational, re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maintenance costs (OPEX) where appropr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&amp;D costs;      p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1B17-79C3-483F-B0E3-293A5F1912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ounting Modaliti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direct Costs: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ed expenses attributed to mo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n but not all activities i.e. site, trench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cts, electricity, network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s etc.  Pl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mon Cos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eneral administration,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&amp;D, bad debt expenses, taxes not included in dire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indirect expen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42F7-00F1-44FA-92DF-251261AC7F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 incurred in the provision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services that do not have specifi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therefore traceable causal relationship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one i.e. general administration,(including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heads, head office expenses, training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ing systems, taxes, bad debts, etc.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BD0B-399E-4D1C-B770-543DF3E92F5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Equipment C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pment Cost: estimated on the basis of current c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ical costs tend to favour the incumbent at the expense of the competitor and consumers welf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there may be need for adjustment to account for diseconomies of scal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753F-D258-4F2E-A974-AF971E4C9AD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F/BDT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 : Assess the cost of resources used in the delivery of telephone serv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concept: ITU –T Recommendation D 600R Enhanced Fully Distributed Cost (EDFC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opting the principles of ABC unit cost of service = total cost/traffic volu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usted historical cost: use the accounts of the network operator, amortization is adjusted to correspond with current replacement co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and side of the equation is modified to deduct non-voice traffic and the cost side is modified according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FED1-7BE0-44A6-A6E5-7F6F8E98A3B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F Adjustment to Current Co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Purchase price of equipment in year 0 = $10 Mill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ufacturer’s amortization schedule 10y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 price of equipment falls by 8% per annu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reciation allowance in year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0 000000x (1-0.08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10 = 846, 400 instead of 1 000 0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2456-9DEF-4DDD-A1A5-3B7D9F96940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reci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very sore bone of conten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thod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ight li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ed straight li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nt loaded or back loaded sum of dig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nu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pplic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ly movement of real price of asset over its life span taking into consideration productivity, revenue earning capability over asset life and obsolesc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4BD5-73E9-4474-91E3-6FC88C573F2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Other Cos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 of capit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hould reflect opportunity cost of investment. Rate of return should be determined by the capital market. Note that the rate should cover investment costs, including equity and debt cos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PE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xy mid-range/best practice values should be used given that the Latin America &amp; Caribbean region has relatively high OPEX co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cillary cost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be estimated by allowing a mark up based on best practice bench mar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B67C-1AAE-44DE-9DEA-F9022B7F00E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onnection &amp; The Digital Divid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ange of physical, logical and commercial interface required to complete a call on a network on which the call did not originat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ed interconnection is essential to facilitate seamless communication between end users subscribing to different service provid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,Therefore, a critical node to ensure that end users are exposed to a matrix of choices in accessing ICT service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0666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8E78-7681-425C-A0C2-53826A333B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hnology Modalities Re: Efficienc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e network is circuit switched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digital switching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wo tier switching system: tandem switching, local switching supported by remote switching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ve usage of fibre in urban areas;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of relatively modern transmission technology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1DF2-B67D-4299-B8AB-257DECFF1A3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Unbundled Switching Co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ive is to estimate the LEC and IEC of switching traffic over different switching elements on the network including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ndem Switc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cal Switc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mote Swit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35DD-4861-44A8-BC54-BE1BFA95080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al Core Networ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1981080"/>
          <a:ext cx="71895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81080"/>
                    <a:ext cx="71895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C333-45BB-494B-BC69-6F58C8C47C3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tching Network Continu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8991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cal Switch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 side facilities: (including but not limited to) connection to local loop at MDF and Line cards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unk side facilities: Connections between trunk-side termination at trunk-side cross connect panel and trunk card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ther facilities that connect lines to lines, lines to trunk, trunk to trunk and features such as telephone numbers, dial tone, local area signaling, customer calling, Routing functions et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17F6-E082-4594-861F-6B7E1787D5F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ndem Switch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cilities that afford connection between trun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rmination at cross connect panel and trun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rds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cilities that provide trunk to trunk switching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cilities that provide other functions includ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l recording, call routing to operator servic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signaling conversion featur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gnaling Network: includes signaling links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gnaling control and transfer point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C451-F73A-459B-B88B-2D5CD52A87A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Estim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Component Identif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Data collection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e table 1.p13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Undertake cost estimates : unit &amp; total investment cos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appendix I)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eciation, annualized (OPEX, indirect costs and common costs that are traffic sensitiv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e total cost per switching component sum: annualized direct, indirect and common costs.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ppendix 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e interconnect component cos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4B5B-27DE-4DEC-BC2B-59956D0ADE4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Dem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number of calls or number of minutes switch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demand, calls = number of successful &amp; unsuccessful call attempts that engage the swit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demand, minutes= minutes of switched traffic plus holding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ed demand Calls /minutes) = current demand + growth fact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ffic per switching component is determined by traffic routing. Routing factors have to be accessed or computed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2411-E8F1-47B7-9556-5B85C1600C0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LEC &amp;IE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 = total cost /total deman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C = Incremental cost/incremental dem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ude calculations that do not take into account market distortions and such do not address issues of efficienc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9FF8-BF54-4E61-88DB-90F68D96A52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work Dimension &amp; Effici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is normally dimensioned to facilitate peak loads as denominated in  busy hour call attempts and busy hour erlang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dimensioning of the switching network to equate required capacity to handle busy hour traffic (call attempts and erlangs, including growth factor) with installed switching capac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t the network is inefficient either in terms of excess or under capac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key concern for the regulator is excess capacit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FEC1-019B-4592-BA07-9A5AAD636AC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iciency Adjustm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79246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 efficiency adjustmen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excess switching capacity avoidable? If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economic cost of the excess? E.g. I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d consistent busy hour traffic demand for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ular switch is Q but closest manufactu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for that switch is of capacity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Q, the excess capacity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 is unavoid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f the operator elects to install a switch w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acity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where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 gap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p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efficiency gap is negative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able and requires an efficiency adjust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20E1-1F3C-47D6-B40F-58AC57520BF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onnection Triangl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t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3352680"/>
            <a:ext cx="259092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2590920"/>
            <a:ext cx="9144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3886200"/>
            <a:ext cx="388620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Provid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257080" y="3276720"/>
            <a:ext cx="6858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2743200"/>
            <a:ext cx="1524240" cy="160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34320" y="2057400"/>
            <a:ext cx="1600200" cy="1600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91120" y="2971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800600" y="2438280"/>
            <a:ext cx="21337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191120" y="2209320"/>
            <a:ext cx="28191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943600" y="2971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019920" y="342864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05740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2971800"/>
            <a:ext cx="9907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057400" y="2209680"/>
            <a:ext cx="4952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A66E-2353-42F8-B898-7097F342E7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ng Economic Co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ative efficiency gap in terms of excess capacity is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ß is the adjustment factor that should be applied to reduce LEC or IEC switching cost estimated earlier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4910-149E-4821-89DB-07275078C3E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Transmiss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TN transmission involves narrow band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sed line serv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 is to derive the unbundled cost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rrow band serv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services do not include Fax and voi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a ISDN lin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ages modeled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U-LS    LS-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-TS        TS-T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785C-47F7-4E21-A1BF-BEE30BF76F1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mission Networ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1005840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ssion electronics Multiplexers, digital cro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ors,regenerators etc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structure: ducts, trenches, poles, cable &amp; fibre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twork Unbundl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connection at:  (See relevant diagram abo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switch: purchase restricted to transmission linkage between remote and local switc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) Single tandem : purchase restricted to those at (i) plus linkage between local and tandem switch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) Double tandem: purchase of transmission link between tandem switches plus purchases indicated at (ii) abov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B333-C664-48EB-B732-274E8230879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ing Procedu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that employed for switch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collection on transmission equipment and infrastructure (pp 22- 24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ical to make appropriate assumptions as to the minimum levels of transmission technology. (pp 24-26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and study blue print of transmission networ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 the cost of the transmission links on actual network (Appendix V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X and Ancillary cost may be estimated using benchmarks. (optional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17DF-3495-4AB0-8C5B-50F63920EB3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ounting for Leased lin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 data re: number of 2 Mbits links dedicated t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il carri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bile carri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 the proportion of the PSTN dedicated to leased line traff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dedicated capacity calculate leased line traffic in Mbits (Eq 23. P.32) and subtract from total traff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act that from total transmission cost leased line cos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5DC9-23A2-4C10-9A55-B51891C8301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e Re: LEC &amp; IE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ject to routing profil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C per transmission link = T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C per transmission link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otal cost of transmission facilities used for voice traffic including interconnect traffi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total mbits of voice traff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additional cost of facilities for interconnect traff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Mbits of interconnect traff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E87B-C4A5-4D01-9D52-B3FEF407E44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ually Incurred Cost vs Cost of Efficient Service Provis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agreement that every service provider should strive for provision of “optimal”cost efficient ser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oncept should form the basis for cost derivation and therefore cost oriented pric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oncept proposes costing based on up-to-date technology supported by efficient oper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ing countries argued that: because of difference in economies of scale efficiency criteria are different on relatively smaller networks given that network dimensioning do not favour even the largest operators in developing countrie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38FB-E67A-4E27-A30C-7F25C604F8E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Efficiency Indicato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acity reserves built into installation to accommodate future traffic since cost based on this capacity would not truly reflect the cost of current opera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reciation rates based on economic life of asse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of capit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lationship between OPEX and equipment cos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of universal servi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E6DA-0835-44AB-A059-C99D155CE6B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icienc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: “Operators must verify that idle capacity is not the result of inefficient use of resources. They must ensure that all available capacity is used within a period compatible with good replenishment practices 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Max {0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Dotum"/>
              </a:rPr>
              <a:t>∆K-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Dotum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Dotum"/>
              </a:rPr>
              <a:t>*[(1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λ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1]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λ is the compounded growth rate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90E4-C8E3-405F-AA12-E9B58171770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e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current capacity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is appropriate replenishment period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 is spare capacity;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efficient capacit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positive, investment cost should be reduced by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(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Dotum"/>
              </a:rPr>
              <a:t>∆K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Dotum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Dotum"/>
              </a:rPr>
              <a:t>Assume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Dotum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Dotum"/>
              </a:rPr>
              <a:t>= 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EBEF-DE58-4533-8B7D-F3C5BED9FE2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ptual Battlegroun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DC vs 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storical vs Current Cos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E14A-91E9-4D94-BB5B-8FCCC4C61E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Demand = 150, is forecast to increase by 15% per annum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od for capacity maturity i.e long run period is 3 y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m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= {0; 50- 150* [(1+0.15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1]}=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ctual growth in demand is 5% the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26.36 in which case cost would have to be reduced by 26.36/200 = 13.8%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32A8-1C63-4241-A0B2-AC970EE07B6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Effici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ain the question of Efficiency refers to capacity utiliza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ing that estimated traffic throughput on a transmission linkage is Ej Mbit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lled transmission capacity on the link is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(j+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bits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/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(j+1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&lt;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there is a primary inefficiency gap of 1-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 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prompts the question,  is the gap avoid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9C12-3592-4065-A31A-179EFFA0740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ary Efficienc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ing optimal transmission network for relevant traffic throughput is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j+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j+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j+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ŵ = &gt;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able excess capacity = ŵ – 1= @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is the factor to be used to adjust the LE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imilar procedure is used to derive the adjustment factor for IEC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B102-A503-42AA-9C82-B304A0DA935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bundled L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85800" y="762120"/>
          <a:ext cx="7772400" cy="609588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203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e Netwo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Co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jus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Routed Traff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 Co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i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ii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i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i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iii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i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-T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iv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iv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iv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iv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-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v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v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v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v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-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v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v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vi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v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-RS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v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v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vii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v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30BF-1846-4AF4-B82A-15D293BBF7D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bundled I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685800" y="762120"/>
          <a:ext cx="7772400" cy="609588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203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e Netwo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Co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jus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remental Routed Traff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remental Co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n-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i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n-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n-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ii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n-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i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n-i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iii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n-i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-T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iv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n-iv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iv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n-iv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-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v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n-v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v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n-v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-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v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n-v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vi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n-v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-RS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v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n-v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vii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n-v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9E4A-EB73-4C22-997F-EE101FC8969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DC vs IC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countries favoured IC while developing countries favoured F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ing countries operators claim that FDC permit cost recovery while IC does not necessarily guarantee su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countries operators complain that FDC is inefficient pricing and would consider FDC only if certain efficiency criteria are met including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allocation based on causality, ABC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ation of assets at current prices;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16D1-B1AA-401E-9844-B73CA2625F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riangle &amp;ITU/WTO Interconnect Imperatives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bility: Network technical standards.  (legislation/Regulatio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lsory Interconnection: access to ROAs at any technical feasible point on incumbent’s network to duly authorized competitor.(Legislation/Regulatio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Unbundling: Separation of network elements according to usage/demand. (Legislation/Regulatio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Discrimination: No most-favoured interconnect pricing between an ROA and its subsidiary. (Legisl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86200" y="1523880"/>
            <a:ext cx="2011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legisla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565440" y="3029040"/>
            <a:ext cx="2011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legislation</a:t>
            </a:r>
            <a:endParaRPr b="0" i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911D-ED15-48B2-8D9B-2BBDEAEC86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-360" y="1752120"/>
            <a:ext cx="8991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nsparency: An overarching clause. (Legislation/Regulatio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st-Oriented Prices: interconnect rates should be based on the cost of the components used to deliver the service. (Legislation/Regulation supported by appropriate costing methodology/model  to estimate cost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st estimates are necessary to determine cost oriented pricing for providing servi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495680" y="4724280"/>
            <a:ext cx="2683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st model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E52C-3141-4B79-9037-AFC65EF2D8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damental Costing Principl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“Open availability of information used in cost derivation in order to allow comprehension of the final from the vintage point of an external analys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rinciple is critical for verification of cost and advancement of the process of competition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3B8B-F78B-41C3-ACD4-59C2802608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6T23:38:18Z</dcterms:created>
  <dc:creator>John Prince</dc:creator>
  <dc:description/>
  <dc:language>en-US</dc:language>
  <cp:lastModifiedBy>UGALE, Arvin Carlos D.</cp:lastModifiedBy>
  <dcterms:modified xsi:type="dcterms:W3CDTF">2002-11-05T11:13:55Z</dcterms:modified>
  <cp:revision>85</cp:revision>
  <dc:subject/>
  <dc:title>What is interconnection </dc:title>
</cp:coreProperties>
</file>