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ECD-1BD5-46B7-A651-045D88EB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5720" y="228240"/>
            <a:ext cx="6521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2800" y="13712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2800" y="38786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ABA-9132-4ED2-9FA4-257C6918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85720" y="228240"/>
            <a:ext cx="6521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2800" y="13712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3712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2800" y="38786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87400" y="38786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1B2-9B85-4DD3-9A4A-E2AE9193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85720" y="228240"/>
            <a:ext cx="6521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2800" y="13712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20040" y="13712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920" y="13712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72800" y="38786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20040" y="38786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920" y="38786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0BE-97BA-45A0-9679-6783DA2C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85720" y="228240"/>
            <a:ext cx="6521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72800" y="13712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51EB-FB0A-4634-A4B4-EC3FDFAA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85720" y="228240"/>
            <a:ext cx="6521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2800" y="13712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DE6-A752-44D8-8DEE-03536FCD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5720" y="228240"/>
            <a:ext cx="6521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72800" y="13712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87400" y="13712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9EE-6190-4835-9274-BDD6E65A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85720" y="228240"/>
            <a:ext cx="6521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BAB-5D29-45C2-A5BA-3D571E71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85720" y="228240"/>
            <a:ext cx="6521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071-2926-49AA-A132-680CE84D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85720" y="228240"/>
            <a:ext cx="6521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2800" y="13712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87400" y="13712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72800" y="38786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6D6-5CD1-447D-9C46-6B756465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5720" y="228240"/>
            <a:ext cx="6521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2800" y="13712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7400" y="13712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87400" y="38786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94F-F7EC-4736-AD55-4B714A3E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5720" y="228240"/>
            <a:ext cx="6521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2800" y="13712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7400" y="13712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72800" y="38786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D69-17E4-4F28-8BAC-C3FFB3F1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CB40F4-E868-4423-83E4-FA9A1D572B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72800" y="13712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485720" y="228240"/>
            <a:ext cx="6521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152280" y="228600"/>
          <a:ext cx="9907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990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 txBox="1"/>
          <p:nvPr/>
        </p:nvSpPr>
        <p:spPr>
          <a:xfrm>
            <a:off x="8610480" y="228600"/>
            <a:ext cx="1067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D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12600">
            <a:off x="4325760" y="-1537920"/>
            <a:ext cx="671760" cy="70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6858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pert Group on cost model and Tariff Gro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Latin America and the Caribbean 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TAL Group) meetings</a:t>
            </a:r>
            <a:br>
              <a:rPr sz="2800"/>
            </a:b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uatemala City, Guatemala, 4 to 8 November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28195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rends on Telecommunication Services for the Americas Reg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56386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nancing Strategies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7080" y="649116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304920"/>
            <a:ext cx="64008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ff"/>
                </a:solidFill>
                <a:latin typeface="Arial"/>
              </a:rPr>
              <a:t>Regulatory Agencies in </a:t>
            </a:r>
            <a:br>
              <a:rPr sz="3800"/>
            </a:br>
            <a:r>
              <a:rPr b="1" i="1" lang="en-US" sz="3800" spc="-1" strike="noStrike">
                <a:solidFill>
                  <a:srgbClr val="0000ff"/>
                </a:solidFill>
                <a:latin typeface="Arial"/>
              </a:rPr>
              <a:t>the World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(cumul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38640" y="22431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00200" y="1479600"/>
          <a:ext cx="7238880" cy="46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79600"/>
                    <a:ext cx="7238880" cy="46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067040" y="6172200"/>
            <a:ext cx="5104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Source: ITU Telecommunication Regulatory Datab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138480" y="2085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28600"/>
            <a:ext cx="731520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eparate regulators by Region</a:t>
            </a:r>
            <a:r>
              <a:rPr b="1" i="1" lang="en-US" sz="3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June 2002, Total: 1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81080" y="1447920"/>
            <a:ext cx="6858000" cy="4647960"/>
            <a:chOff x="1981080" y="1447920"/>
            <a:chExt cx="6858000" cy="4647960"/>
          </a:xfrm>
        </p:grpSpPr>
        <p:graphicFrame>
          <p:nvGraphicFramePr>
            <p:cNvPr id="125" name=""/>
            <p:cNvGraphicFramePr/>
            <p:nvPr/>
          </p:nvGraphicFramePr>
          <p:xfrm>
            <a:off x="1981080" y="1447920"/>
            <a:ext cx="6858000" cy="46479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1447920"/>
                      <a:ext cx="6858000" cy="464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" name=""/>
            <p:cNvSpPr/>
            <p:nvPr/>
          </p:nvSpPr>
          <p:spPr>
            <a:xfrm>
              <a:off x="2819520" y="1591200"/>
              <a:ext cx="5333760" cy="64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067040" y="6172200"/>
            <a:ext cx="5104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Source: ITU Telecommunication Regulatory Datab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521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rivatizations by Region,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2001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Total countries: 106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858000" cy="4648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67040" y="6172200"/>
            <a:ext cx="5104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Source: ITU Telecommunication Regulatory Datab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16200" y="304920"/>
            <a:ext cx="62737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ff"/>
                </a:solidFill>
                <a:latin typeface="Arial"/>
              </a:rPr>
              <a:t>Separate regulatory bodies, worldwide, </a:t>
            </a: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6340320"/>
            <a:ext cx="4127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ff"/>
                </a:solidFill>
                <a:latin typeface="Arial"/>
              </a:rPr>
              <a:t>Source:  ITU Telecom Regulatory  Databa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14479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50320" y="121932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000000"/>
                </a:solidFill>
                <a:latin typeface="Perpetua"/>
              </a:rPr>
              <a:t>Separate reg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801720"/>
          <a:ext cx="7981920" cy="623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01720"/>
                    <a:ext cx="798192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972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Determination of price of domestic telecommunication services,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2002</a:t>
            </a:r>
            <a:br>
              <a:rPr sz="28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Local and long-distance calls and interconnection)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9" name="image00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781680" cy="435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71600" y="59436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05160" y="5867280"/>
            <a:ext cx="42922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by the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revenue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f individual production costs of each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6172200"/>
            <a:ext cx="152280" cy="152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6400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2438280"/>
            <a:ext cx="5335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6521400"/>
            <a:ext cx="3733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Source: ITU 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Tariff Policies</a:t>
            </a: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 Databa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85720" y="228240"/>
            <a:ext cx="6521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ff"/>
                </a:solidFill>
                <a:latin typeface="Arial"/>
                <a:ea typeface="Arial"/>
              </a:rPr>
              <a:t>Types of costs on which tariff model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</a:t>
            </a:r>
            <a:r>
              <a:rPr b="1" i="1" lang="fr-FR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re</a:t>
            </a:r>
            <a:r>
              <a:rPr b="1" i="1" lang="fr-FR" sz="3200" spc="-1" strike="noStrike">
                <a:solidFill>
                  <a:srgbClr val="0000ff"/>
                </a:solidFill>
                <a:latin typeface="Arial"/>
                <a:ea typeface="Arial"/>
              </a:rPr>
              <a:t> based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,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2002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295280" y="1143000"/>
            <a:ext cx="7086600" cy="5431680"/>
            <a:chOff x="1295280" y="1143000"/>
            <a:chExt cx="7086600" cy="5431680"/>
          </a:xfrm>
        </p:grpSpPr>
        <p:pic>
          <p:nvPicPr>
            <p:cNvPr id="58" name="image002" descr=""/>
            <p:cNvPicPr/>
            <p:nvPr/>
          </p:nvPicPr>
          <p:blipFill>
            <a:blip r:embed="rId1"/>
            <a:stretch/>
          </p:blipFill>
          <p:spPr>
            <a:xfrm>
              <a:off x="1676520" y="1143000"/>
              <a:ext cx="6705360" cy="429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" name=""/>
            <p:cNvGrpSpPr/>
            <p:nvPr/>
          </p:nvGrpSpPr>
          <p:grpSpPr>
            <a:xfrm>
              <a:off x="1295280" y="5562720"/>
              <a:ext cx="3580200" cy="1011960"/>
              <a:chOff x="1295280" y="5562720"/>
              <a:chExt cx="3580200" cy="1011960"/>
            </a:xfrm>
          </p:grpSpPr>
          <p:sp>
            <p:nvSpPr>
              <p:cNvPr id="60" name=""/>
              <p:cNvSpPr/>
              <p:nvPr/>
            </p:nvSpPr>
            <p:spPr>
              <a:xfrm>
                <a:off x="1295280" y="5638680"/>
                <a:ext cx="152640" cy="1526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433520" y="5562720"/>
                <a:ext cx="3441960" cy="101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istorical cos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urrent cos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ong-run market-based benchmark cos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ot applicab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95280" y="5867280"/>
                <a:ext cx="152640" cy="15264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295280" y="6095880"/>
                <a:ext cx="152640" cy="15264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95280" y="6324480"/>
                <a:ext cx="152640" cy="152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1752480" y="1981080"/>
              <a:ext cx="53352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58000" y="5105520"/>
              <a:ext cx="1447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6172200" y="6515280"/>
            <a:ext cx="3733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Source: ITU 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Tariff Policies</a:t>
            </a: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 Databa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Financing Universal Service </a:t>
            </a:r>
            <a:br>
              <a:rPr sz="32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Domestic market, 2002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57200" y="5181480"/>
            <a:ext cx="8929800" cy="1401480"/>
            <a:chOff x="457200" y="5181480"/>
            <a:chExt cx="8929800" cy="1401480"/>
          </a:xfrm>
        </p:grpSpPr>
        <p:sp>
          <p:nvSpPr>
            <p:cNvPr id="70" name=""/>
            <p:cNvSpPr/>
            <p:nvPr/>
          </p:nvSpPr>
          <p:spPr>
            <a:xfrm>
              <a:off x="457200" y="5246280"/>
              <a:ext cx="152280" cy="152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3960" y="5181480"/>
              <a:ext cx="8753040" cy="14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ross-subsidies between international and national servic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flection of access deficit in the calculation of interconnection charg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tting of a USO mark-up on top of the interconnection char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ceipts from a fund covering all cos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ceipts from a fund covering only discriminatory tariffs in favour of specific eligible groups and obligatory investment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 unprofitable are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5474880"/>
              <a:ext cx="152280" cy="152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5703480"/>
              <a:ext cx="15228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" y="5932080"/>
              <a:ext cx="152280" cy="152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" y="61606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172200" y="6400800"/>
            <a:ext cx="3733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Source: ITU 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Tariff Policies</a:t>
            </a: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 Databa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mage00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3962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71600" y="2057400"/>
            <a:ext cx="5335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4876920"/>
            <a:ext cx="1447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200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ime-frame for absorbing the access deficit,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2002 (Tariff rebalancing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6400800"/>
            <a:ext cx="3733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Source: ITU 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Tariff Policies</a:t>
            </a: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 Databa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371600" y="5562720"/>
            <a:ext cx="2657160" cy="975240"/>
            <a:chOff x="1371600" y="5562720"/>
            <a:chExt cx="2657160" cy="975240"/>
          </a:xfrm>
        </p:grpSpPr>
        <p:sp>
          <p:nvSpPr>
            <p:cNvPr id="83" name=""/>
            <p:cNvSpPr/>
            <p:nvPr/>
          </p:nvSpPr>
          <p:spPr>
            <a:xfrm>
              <a:off x="1371600" y="5627880"/>
              <a:ext cx="15228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30360" y="5562720"/>
              <a:ext cx="249840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ess than three yea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etween three and seven yea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ver seven yea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71600" y="585648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71600" y="6085080"/>
              <a:ext cx="15228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1600" y="6313680"/>
              <a:ext cx="152280" cy="152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447920" y="1066680"/>
            <a:ext cx="7097760" cy="4343400"/>
            <a:chOff x="1447920" y="1066680"/>
            <a:chExt cx="7097760" cy="4343400"/>
          </a:xfrm>
        </p:grpSpPr>
        <p:pic>
          <p:nvPicPr>
            <p:cNvPr id="89" name="image002" descr=""/>
            <p:cNvPicPr/>
            <p:nvPr/>
          </p:nvPicPr>
          <p:blipFill>
            <a:blip r:embed="rId1"/>
            <a:stretch/>
          </p:blipFill>
          <p:spPr>
            <a:xfrm>
              <a:off x="1447920" y="1066680"/>
              <a:ext cx="709776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600200" y="1981080"/>
              <a:ext cx="533520" cy="12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81680" y="5029200"/>
              <a:ext cx="16765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521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ff"/>
                </a:solidFill>
                <a:latin typeface="Arial"/>
              </a:rPr>
              <a:t>Percentage of separate regulators </a:t>
            </a:r>
            <a:r>
              <a:rPr b="1" i="1" lang="fr-FR" sz="3200" spc="-1" strike="noStrike">
                <a:solidFill>
                  <a:srgbClr val="ff3300"/>
                </a:solidFill>
                <a:latin typeface="Arial"/>
              </a:rPr>
              <a:t>in each region,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 2001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71600" y="1600200"/>
          <a:ext cx="7543800" cy="468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754380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447920" y="6248520"/>
            <a:ext cx="746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Source: ITU Telecommunication Regulatory Databa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65280" y="304920"/>
            <a:ext cx="677376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ff"/>
                </a:solidFill>
                <a:latin typeface="Arial"/>
              </a:rPr>
              <a:t>Degree of competition by service,</a:t>
            </a:r>
            <a:r>
              <a:rPr b="1" i="1" lang="fr-FR" sz="3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400"/>
            </a:b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World,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2001</a:t>
            </a:r>
            <a:r>
              <a:rPr b="1" i="1" lang="fr-FR" sz="2800" spc="-1" strike="noStrike">
                <a:solidFill>
                  <a:srgbClr val="ff3300"/>
                </a:solidFill>
                <a:latin typeface="Arial"/>
              </a:rPr>
              <a:t> (ITU Member St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6248520"/>
            <a:ext cx="746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Source: ITU Telecommunication Regulatory Databa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533520"/>
            <a:ext cx="7296120" cy="61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2280" y="0"/>
          <a:ext cx="10098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1009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 txBox="1"/>
          <p:nvPr/>
        </p:nvSpPr>
        <p:spPr>
          <a:xfrm>
            <a:off x="8458200" y="228600"/>
            <a:ext cx="1200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D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3514680" y="2224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676520"/>
          <a:ext cx="822960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8229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ff"/>
                </a:solidFill>
                <a:latin typeface="Arial"/>
              </a:rPr>
              <a:t>Degree of competition by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i="1" lang="fr-FR" sz="3200" spc="-1" strike="noStrike">
                <a:solidFill>
                  <a:srgbClr val="0000ff"/>
                </a:solidFill>
                <a:latin typeface="Arial"/>
              </a:rPr>
              <a:t>ervice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in America,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2001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6680" y="1562040"/>
          <a:ext cx="8382240" cy="42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62040"/>
                    <a:ext cx="83822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067040" y="6172200"/>
            <a:ext cx="5104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Source: ITU Telecommunication Regulatory Datab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3880" y="304920"/>
            <a:ext cx="68724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400" spc="-1" strike="noStrike">
                <a:solidFill>
                  <a:srgbClr val="0000ff"/>
                </a:solidFill>
                <a:latin typeface="Arial"/>
              </a:rPr>
              <a:t>Degree of competition in basic services, </a:t>
            </a:r>
            <a:r>
              <a:rPr b="1" i="1" lang="en-US" sz="3400" spc="-1" strike="noStrike">
                <a:solidFill>
                  <a:srgbClr val="ff3300"/>
                </a:solidFill>
                <a:latin typeface="Arial"/>
              </a:rPr>
              <a:t>2001</a:t>
            </a:r>
            <a:r>
              <a:rPr b="1" i="1" lang="fr-FR" sz="3400" spc="-1" strike="noStrike">
                <a:solidFill>
                  <a:srgbClr val="ff3300"/>
                </a:solidFill>
                <a:latin typeface="Arial"/>
              </a:rPr>
              <a:t> by reg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6324480"/>
            <a:ext cx="685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Source: ITU Telecommunication Regulatory Databa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76480" y="480960"/>
            <a:ext cx="8194680" cy="63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90840" y="2214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62400" y="22194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66680" y="1523880"/>
          <a:ext cx="8077320" cy="469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807732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1T13:07:17Z</dcterms:created>
  <dc:creator>tourep</dc:creator>
  <dc:description/>
  <dc:language>en-US</dc:language>
  <cp:lastModifiedBy>UGALE, Arvin Carlos D.</cp:lastModifiedBy>
  <dcterms:modified xsi:type="dcterms:W3CDTF">2002-10-31T11:12:06Z</dcterms:modified>
  <cp:revision>124</cp:revision>
  <dc:subject/>
  <dc:title>No Slide Title</dc:title>
</cp:coreProperties>
</file>