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D3E-2864-4145-B229-52CE4131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8C4-BD2A-4CBA-A393-A0DB1DD8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237-7836-4DCE-8733-D0CC0EDE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DD71-E0F6-4894-BD64-83C44102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243-EB0F-4456-8AB4-964C5881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E26-F2A8-4582-9D68-4797C0E0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D80E-2B73-4AC3-BB57-CB2CA8AB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67E-6A13-43ED-90DF-010955C9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50B-B5D7-4FDB-9738-A9777462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257-29FE-44A2-81DE-4F3F20CB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D3A1-034C-4EBF-BB75-D71D99F9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415-484F-43B5-8723-95B5EFF9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1462-9F2A-4A5F-B550-26EC4464C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F Group’s achiev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period: 1997-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5029200"/>
            <a:ext cx="3200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ape-gorgui.toure@itu.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Head, Financing Strategies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(Former TAF Group Chairma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F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8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w teled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rge diversity of sit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ephone services tari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a common basis in order to help the international telephon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operat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lculate/negotiate their settlement rat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the telephone network operators with a computer tool in order to calculate the telephone services tari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.600R main pill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ake into consideration de differences within the Group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acticability -&gt; type of data  needed for both cost and traffic information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dependence of services cost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ludes access costs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more ceiling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fault and reference values -&gt; Client-Ser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on of the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isfy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ulatory nee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O policy sett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iff rebal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isfy the needs expressed by regulators and operators as regards interconn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connection cost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O costs determination and realloca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O policies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7970" t="14584" r="17188" b="7294"/>
          <a:stretch/>
        </p:blipFill>
        <p:spPr>
          <a:xfrm>
            <a:off x="1295280" y="287280"/>
            <a:ext cx="708660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DT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actical cost, tariff and interconnection calculation workshops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he TAF model have been applied to more than 20 countries and has been declared mature before the BDT engage the final software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dividual support to operators and regulators (country case studie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ercial version of the TAF software to be available early next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sons learned on modelling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acceptance depends on the availability of the mandator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ness to NRA: provide means to avoid regulatory arbitr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ness to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ained upon usage of consistent data, the model based tariffs should guarantee reasonable profit to an operat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 trials needed before final 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1T12:27:06Z</dcterms:created>
  <dc:creator>ITU-USER</dc:creator>
  <dc:description/>
  <dc:language>en-US</dc:language>
  <cp:lastModifiedBy>ITU-USER</cp:lastModifiedBy>
  <dcterms:modified xsi:type="dcterms:W3CDTF">2001-10-23T15:02:47Z</dcterms:modified>
  <cp:revision>10</cp:revision>
  <dc:subject/>
  <dc:title>TAF Group’s achievements</dc:title>
</cp:coreProperties>
</file>