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8.png" ContentType="image/png"/>
  <Override PartName="/ppt/media/ELPHRG01.WAV" ContentType="audio/x-wav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E5EC-A582-4BCD-B2AB-10142AE1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086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240" y="3948480"/>
            <a:ext cx="7086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4764-5BE0-4623-9C58-E573249E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34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02560" y="1600200"/>
            <a:ext cx="34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240" y="3948480"/>
            <a:ext cx="34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02560" y="3948480"/>
            <a:ext cx="34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AC9C-FC6F-4279-A51A-F8E7E0C6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228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67400" y="1600200"/>
            <a:ext cx="228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3560" y="1600200"/>
            <a:ext cx="228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240" y="3948480"/>
            <a:ext cx="228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67400" y="3948480"/>
            <a:ext cx="228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3560" y="3948480"/>
            <a:ext cx="228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086F-1036-4C3F-9286-C90F7CB8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24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AE42-F23C-46BB-A0BE-6CBC1FFC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A6C1-BCCC-423B-9AE3-7996B46E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34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02560" y="1600200"/>
            <a:ext cx="34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46C0-00DF-4837-9AA8-1D20B326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CE26-DCCC-4D71-A58A-88028B29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609480"/>
            <a:ext cx="68580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4927-2607-4A92-8B6D-33C1F9D1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34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02560" y="1600200"/>
            <a:ext cx="34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240" y="3948480"/>
            <a:ext cx="34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9458-18AB-4C89-B4F5-BECE204F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34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02560" y="1600200"/>
            <a:ext cx="34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02560" y="3948480"/>
            <a:ext cx="34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A81D-1712-4B4D-AFAB-779FAAE5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34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02560" y="1600200"/>
            <a:ext cx="34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240" y="3948480"/>
            <a:ext cx="7086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3AE7-C676-4B24-BC31-F8FD4DB9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243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0f0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24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4628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46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4462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4462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48720" y="64008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C0D9-8BC6-4EE7-8E80-B490DE51BE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47960" cy="32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audio" Target="../media/ELPHRG01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90f0b"/>
                </a:solidFill>
                <a:latin typeface="Times New Roman"/>
              </a:rPr>
              <a:t>Information Document 18-E</a:t>
            </a:r>
            <a:endParaRPr b="0" lang="en-US" sz="14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0f0b"/>
                </a:solidFill>
                <a:latin typeface="Times New Roman"/>
              </a:rPr>
              <a:t>ITU-T Study Group 2</a:t>
            </a:r>
            <a:endParaRPr b="1" lang="en-US" sz="2400" spc="-1" strike="noStrike">
              <a:solidFill>
                <a:srgbClr val="b90f0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0f0b"/>
                </a:solidFill>
                <a:latin typeface="Times New Roman"/>
              </a:rPr>
              <a:t>May 2002</a:t>
            </a:r>
            <a:endParaRPr b="1" lang="en-US" sz="2400" spc="-1" strike="noStrike">
              <a:solidFill>
                <a:srgbClr val="b90f0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90f0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0f0b"/>
                </a:solidFill>
                <a:latin typeface="Times New Roman"/>
              </a:rPr>
              <a:t>QUESTION:</a:t>
            </a:r>
            <a:r>
              <a:rPr b="1" lang="en-US" sz="1400" spc="-1" strike="noStrike">
                <a:solidFill>
                  <a:srgbClr val="b90f0b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b90f0b"/>
                </a:solidFill>
                <a:latin typeface="Times New Roman"/>
              </a:rPr>
              <a:t>Q.1/2</a:t>
            </a:r>
            <a:endParaRPr b="1" lang="en-US" sz="1400" spc="-1" strike="noStrike">
              <a:solidFill>
                <a:srgbClr val="b90f0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0f0b"/>
                </a:solidFill>
                <a:latin typeface="Times New Roman"/>
              </a:rPr>
              <a:t>SOURCE:</a:t>
            </a:r>
            <a:r>
              <a:rPr b="1" lang="en-US" sz="1400" spc="-1" strike="noStrike">
                <a:solidFill>
                  <a:srgbClr val="b90f0b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b90f0b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b90f0b"/>
                </a:solidFill>
                <a:latin typeface="Times New Roman"/>
              </a:rPr>
              <a:t>TSB</a:t>
            </a:r>
            <a:endParaRPr b="1" lang="en-US" sz="1400" spc="-1" strike="noStrike">
              <a:solidFill>
                <a:srgbClr val="b90f0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0f0b"/>
                </a:solidFill>
                <a:latin typeface="Times New Roman"/>
              </a:rPr>
              <a:t>TITLE:</a:t>
            </a:r>
            <a:r>
              <a:rPr b="1" lang="en-US" sz="1400" spc="-1" strike="noStrike">
                <a:solidFill>
                  <a:srgbClr val="b90f0b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b90f0b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b90f0b"/>
                </a:solidFill>
                <a:latin typeface="Times New Roman"/>
              </a:rPr>
              <a:t>UNIVERSAL COMMUNICATIONS IDENTIFIER (UCI) </a:t>
            </a:r>
            <a:endParaRPr b="1" lang="en-US" sz="1400" spc="-1" strike="noStrike">
              <a:solidFill>
                <a:srgbClr val="b90f0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0f0b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b90f0b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b90f0b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b90f0b"/>
                </a:solidFill>
                <a:latin typeface="Times New Roman"/>
              </a:rPr>
              <a:t>(by Mike Pluke, ETSI)</a:t>
            </a:r>
            <a:endParaRPr b="1" lang="en-US" sz="1400" spc="-1" strike="noStrike">
              <a:solidFill>
                <a:srgbClr val="b90f0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b90f0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b90f0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b90f0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b90f0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b90f0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b90f0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0f0b"/>
                </a:solidFill>
                <a:latin typeface="Times New Roman"/>
              </a:rPr>
              <a:t>The purpose of this document is to provide background information on the Universal Communication Identifier code.</a:t>
            </a:r>
            <a:endParaRPr b="1" lang="en-US" sz="1400" spc="-1" strike="noStrike">
              <a:solidFill>
                <a:srgbClr val="b90f0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b90f0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0f0b"/>
                </a:solidFill>
                <a:latin typeface="Arial"/>
              </a:rPr>
              <a:t>The UCI support environment</a:t>
            </a: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240" y="2205000"/>
            <a:ext cx="7086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the identity (UCI) of people attempting to communicate with the user;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the date and time when communication is attempted;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the urgency of the communication;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whether the originator of a communication has a work or a personal status;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the user’s preferences for how they wish to be reached (which services and which terminals).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73040" y="1341360"/>
            <a:ext cx="636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The UCI support environment allows the control of communications based upon at least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0f0b"/>
                </a:solidFill>
                <a:latin typeface="Arial"/>
              </a:rPr>
              <a:t>The UCI</a:t>
            </a: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086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Is a 3-part data structure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A unique role identifier (unroid) – numeric – E.164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- essential to establish communication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A persona element (persel) – not unique – alphanumeric description of UCI owner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- most useful for the end-user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A status element (statel) – multiple status indications giving key details about the UCI and its owner – helps the user decide the most appropriate way to communicate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Only the unroid is required in all “signalling” flows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0f0b"/>
                </a:solidFill>
                <a:latin typeface="Arial"/>
              </a:rPr>
              <a:t>UCI elements</a:t>
            </a: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The Personal User Agent (PUA) – this acts on the user’s behalf in controlling communication set-up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The PUA contains the user’s preferences and rules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The PUA only talks to its owner, other PUAs and SAs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The Service Agent (SA) – this is the interface to existing networks and services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The SA only talks to PUAs and its own network/service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Terminals, identification mechanisms, etc.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0f0b"/>
                </a:solidFill>
                <a:latin typeface="Arial"/>
              </a:rPr>
              <a:t>Relationship between UCI elements</a:t>
            </a: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4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32120" y="1557360"/>
            <a:ext cx="602460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0f0b"/>
                </a:solidFill>
                <a:latin typeface="Arial"/>
              </a:rPr>
              <a:t>Simplified UCI operation</a:t>
            </a: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98760" y="1324080"/>
            <a:ext cx="6929280" cy="5311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08000" y="2421000"/>
            <a:ext cx="503280" cy="3168720"/>
          </a:xfrm>
          <a:prstGeom prst="line">
            <a:avLst/>
          </a:prstGeom>
          <a:ln w="127080">
            <a:solidFill>
              <a:srgbClr val="afb1fd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52800" y="2119320"/>
            <a:ext cx="431640" cy="1008000"/>
          </a:xfrm>
          <a:prstGeom prst="line">
            <a:avLst/>
          </a:prstGeom>
          <a:ln w="2030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16800" y="1973160"/>
            <a:ext cx="28440" cy="879480"/>
          </a:xfrm>
          <a:prstGeom prst="line">
            <a:avLst/>
          </a:prstGeom>
          <a:ln w="1522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962760" y="3947760"/>
            <a:ext cx="878040" cy="849240"/>
          </a:xfrm>
          <a:prstGeom prst="line">
            <a:avLst/>
          </a:prstGeom>
          <a:ln w="1522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77080" y="2276640"/>
            <a:ext cx="863640" cy="3240000"/>
          </a:xfrm>
          <a:prstGeom prst="line">
            <a:avLst/>
          </a:prstGeom>
          <a:ln w="127080">
            <a:solidFill>
              <a:srgbClr val="afb1fd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885080" y="3933720"/>
            <a:ext cx="63360" cy="1582920"/>
          </a:xfrm>
          <a:prstGeom prst="line">
            <a:avLst/>
          </a:prstGeom>
          <a:ln w="127080">
            <a:solidFill>
              <a:srgbClr val="afb1fd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11400" y="1536840"/>
            <a:ext cx="1224000" cy="0"/>
          </a:xfrm>
          <a:prstGeom prst="line">
            <a:avLst/>
          </a:prstGeom>
          <a:ln w="127080">
            <a:solidFill>
              <a:srgbClr val="afb1fd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13080" y="1363680"/>
            <a:ext cx="22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registration 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98760" y="1324080"/>
            <a:ext cx="6929280" cy="5311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0f0b"/>
                </a:solidFill>
                <a:latin typeface="Arial"/>
              </a:rPr>
              <a:t>Simplified UCI operation</a:t>
            </a: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42440" y="531036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Wingdings"/>
                <a:ea typeface="Wingdings"/>
              </a:rPr>
              <a:t>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8000" y="2421000"/>
            <a:ext cx="503280" cy="3168720"/>
          </a:xfrm>
          <a:prstGeom prst="line">
            <a:avLst/>
          </a:prstGeom>
          <a:ln w="127080">
            <a:solidFill>
              <a:srgbClr val="afb1fd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52800" y="2133720"/>
            <a:ext cx="431640" cy="1008000"/>
          </a:xfrm>
          <a:prstGeom prst="line">
            <a:avLst/>
          </a:prstGeom>
          <a:ln w="2030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972480" y="3943080"/>
            <a:ext cx="907920" cy="863640"/>
          </a:xfrm>
          <a:prstGeom prst="line">
            <a:avLst/>
          </a:prstGeom>
          <a:ln w="22860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16800" y="1973160"/>
            <a:ext cx="28440" cy="879480"/>
          </a:xfrm>
          <a:prstGeom prst="line">
            <a:avLst/>
          </a:prstGeom>
          <a:ln w="1522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7080" y="3457440"/>
            <a:ext cx="934920" cy="2160720"/>
          </a:xfrm>
          <a:prstGeom prst="line">
            <a:avLst/>
          </a:prstGeom>
          <a:ln w="177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77080" y="2276640"/>
            <a:ext cx="863640" cy="3240000"/>
          </a:xfrm>
          <a:prstGeom prst="line">
            <a:avLst/>
          </a:prstGeom>
          <a:ln w="127080">
            <a:solidFill>
              <a:srgbClr val="afb1fd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16880" y="3573360"/>
            <a:ext cx="879480" cy="2016360"/>
          </a:xfrm>
          <a:prstGeom prst="line">
            <a:avLst/>
          </a:prstGeom>
          <a:ln w="127080">
            <a:solidFill>
              <a:srgbClr val="afb1fd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35760" y="30463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78440" y="38671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885080" y="3933720"/>
            <a:ext cx="63360" cy="1582920"/>
          </a:xfrm>
          <a:prstGeom prst="line">
            <a:avLst/>
          </a:prstGeom>
          <a:ln w="127080">
            <a:solidFill>
              <a:srgbClr val="afb1fd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69720" y="429264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Wingdings"/>
                <a:ea typeface="Wingdings"/>
              </a:rPr>
              <a:t>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98760" y="1324080"/>
            <a:ext cx="6929280" cy="5311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0f0b"/>
                </a:solidFill>
                <a:latin typeface="Arial"/>
              </a:rPr>
              <a:t>Simplified UCI operation</a:t>
            </a: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895480" y="5715000"/>
            <a:ext cx="4621320" cy="212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819520" y="6019920"/>
            <a:ext cx="4638600" cy="212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585880" y="4114800"/>
            <a:ext cx="212760" cy="1494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07920" y="2438280"/>
            <a:ext cx="38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5dd7"/>
                </a:solidFill>
                <a:latin typeface="Times New Roman"/>
              </a:rPr>
              <a:t>Jane selects Dan’s UCI and send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2421000"/>
            <a:ext cx="503280" cy="3168720"/>
          </a:xfrm>
          <a:prstGeom prst="line">
            <a:avLst/>
          </a:prstGeom>
          <a:ln w="127080">
            <a:solidFill>
              <a:srgbClr val="afb1fd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98760" y="1324080"/>
            <a:ext cx="6929280" cy="53118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0f0b"/>
                </a:solidFill>
                <a:latin typeface="Arial"/>
              </a:rPr>
              <a:t>Simplified UCI operation</a:t>
            </a: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06720" y="2093760"/>
            <a:ext cx="1170000" cy="1182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881520" y="3790800"/>
            <a:ext cx="212760" cy="646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6124680" y="3514680"/>
            <a:ext cx="1358640" cy="1011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8839080" y="7010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411280" y="4076640"/>
            <a:ext cx="0" cy="1513080"/>
          </a:xfrm>
          <a:prstGeom prst="line">
            <a:avLst/>
          </a:prstGeom>
          <a:ln w="177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20880" y="2335320"/>
            <a:ext cx="792000" cy="792000"/>
          </a:xfrm>
          <a:prstGeom prst="line">
            <a:avLst/>
          </a:prstGeom>
          <a:ln w="177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2421000"/>
            <a:ext cx="503280" cy="3168720"/>
          </a:xfrm>
          <a:prstGeom prst="line">
            <a:avLst/>
          </a:prstGeom>
          <a:ln w="127080">
            <a:solidFill>
              <a:srgbClr val="afb1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700360" y="4149720"/>
            <a:ext cx="0" cy="1409760"/>
          </a:xfrm>
          <a:prstGeom prst="line">
            <a:avLst/>
          </a:prstGeom>
          <a:ln w="127080">
            <a:solidFill>
              <a:srgbClr val="afb1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2035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0f0b"/>
                </a:solidFill>
                <a:latin typeface="Arial"/>
              </a:rPr>
              <a:t>Initiatives similar to UCI (</a:t>
            </a:r>
            <a:r>
              <a:rPr b="0" lang="en-US" sz="2800" spc="-1" strike="noStrike">
                <a:solidFill>
                  <a:srgbClr val="b90f0b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b90f0b"/>
                </a:solidFill>
                <a:latin typeface="Arial"/>
              </a:rPr>
              <a:t>) - UPT</a:t>
            </a: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7640" y="1628640"/>
            <a:ext cx="7086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Like UCI, UPT do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have a single identifier for a range of servic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assume a common interface for controlling a range of services,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but, UPT does no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have any concept of identifying the true name of the UPT subscrib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allow the authenticity of any association between a personal name and a UPT identifier to be verifi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integrate non-telephony services such as email very effec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0f0b"/>
                </a:solidFill>
                <a:latin typeface="Arial"/>
              </a:rPr>
              <a:t>Initiatives similar to UCI (</a:t>
            </a:r>
            <a:r>
              <a:rPr b="0" lang="en-US" sz="2800" spc="-1" strike="noStrike">
                <a:solidFill>
                  <a:srgbClr val="b90f0b"/>
                </a:solidFill>
                <a:latin typeface="Times New Roman"/>
              </a:rPr>
              <a:t>II</a:t>
            </a:r>
            <a:r>
              <a:rPr b="0" lang="en-US" sz="2800" spc="-1" strike="noStrike">
                <a:solidFill>
                  <a:srgbClr val="b90f0b"/>
                </a:solidFill>
                <a:latin typeface="Arial"/>
              </a:rPr>
              <a:t>) - ENUM</a:t>
            </a: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0f0b"/>
                </a:solidFill>
                <a:latin typeface="Arial"/>
              </a:rPr>
              <a:t>Like UCI, ENUM does:</a:t>
            </a:r>
            <a:endParaRPr b="1" lang="en-US" sz="18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0f0b"/>
                </a:solidFill>
                <a:latin typeface="Arial"/>
              </a:rPr>
              <a:t>have a single E.164 number associated with a range of services;</a:t>
            </a:r>
            <a:endParaRPr b="1" lang="en-US" sz="18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0f0b"/>
                </a:solidFill>
                <a:latin typeface="Arial"/>
              </a:rPr>
              <a:t>have a global scope.</a:t>
            </a:r>
            <a:br>
              <a:rPr sz="1800"/>
            </a:br>
            <a:r>
              <a:rPr b="1" lang="en-US" sz="1800" spc="-1" strike="noStrike">
                <a:solidFill>
                  <a:srgbClr val="b90f0b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0f0b"/>
                </a:solidFill>
                <a:latin typeface="Arial"/>
              </a:rPr>
              <a:t>but ENUM does not </a:t>
            </a:r>
            <a:endParaRPr b="1" lang="en-US" sz="18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0f0b"/>
                </a:solidFill>
                <a:latin typeface="Arial"/>
              </a:rPr>
              <a:t>have any concept of identifying the true name of the ENUM subscriber;</a:t>
            </a:r>
            <a:endParaRPr b="1" lang="en-US" sz="18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0f0b"/>
                </a:solidFill>
                <a:latin typeface="Arial"/>
              </a:rPr>
              <a:t>allow the authenticity of any association between a personal name and an ENUM identifier to be verified;</a:t>
            </a:r>
            <a:endParaRPr b="1" lang="en-US" sz="18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0f0b"/>
                </a:solidFill>
                <a:latin typeface="Arial"/>
              </a:rPr>
              <a:t>allow individual communications identifiers to be hidden (as the NAPTR record is public) – a spammer’s charter!;</a:t>
            </a:r>
            <a:endParaRPr b="1" lang="en-US" sz="18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0f0b"/>
                </a:solidFill>
                <a:latin typeface="Arial"/>
              </a:rPr>
              <a:t>provide inherent protection from distributed denial of service (DDoS) attacks (as the NAPTR record is public).</a:t>
            </a:r>
            <a:br>
              <a:rPr sz="1800"/>
            </a:br>
            <a:r>
              <a:rPr b="1" lang="en-US" sz="1800" spc="-1" strike="noStrike">
                <a:solidFill>
                  <a:srgbClr val="b90f0b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0f0b"/>
                </a:solidFill>
                <a:latin typeface="Arial"/>
              </a:rPr>
              <a:t>Intercommunication in UCI is strictly controlled between Users, their PUAs and SAs – this should help eliminate threats such as DDoS</a:t>
            </a:r>
            <a:endParaRPr b="1" lang="en-US" sz="1800" spc="-1" strike="noStrike">
              <a:solidFill>
                <a:srgbClr val="b90f0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0f0b"/>
                </a:solidFill>
                <a:latin typeface="Arial"/>
              </a:rPr>
              <a:t>ETSI</a:t>
            </a:r>
            <a:br>
              <a:rPr sz="2800"/>
            </a:br>
            <a:r>
              <a:rPr b="0" lang="en-US" sz="2800" spc="-1" strike="noStrike">
                <a:solidFill>
                  <a:srgbClr val="b90f0b"/>
                </a:solidFill>
                <a:latin typeface="Arial"/>
              </a:rPr>
              <a:t>Universal Communications Identifier (UCI)</a:t>
            </a: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Mike Pluke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Castle Consulting Ltd.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Leader of ETSI Specialist Task Forces 180 &amp; 200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0f0b"/>
                </a:solidFill>
                <a:latin typeface="Arial"/>
              </a:rPr>
              <a:t>UCI work in ETSI</a:t>
            </a: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086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STF157: Looked at user requirements, the definition of a UCI, and a first look at a UCI architecture;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STF180: Is defining the UCI architecture in more detail, is specifying usage scenarios and is examining security issues from the end-user’s perspective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STF199: Is looking at implementation issues across communications platforms and security from the service provider perspective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STF200: Is looking at the usability issues of end-user control of their communications environment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0f0b"/>
                </a:solidFill>
                <a:latin typeface="Arial"/>
              </a:rPr>
              <a:t>Issues for ITU-T SG2</a:t>
            </a: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Allocation of identifiers – in particular the globally unique E.164 “unroid” element of the UCI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Service aspects of UCI – it is multi-service, it is global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920" y="292392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0f0b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63560" y="40435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0f0b"/>
                </a:solidFill>
                <a:latin typeface="Arial"/>
              </a:rPr>
              <a:t>Contact: Mike.Pluke@castle-consul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0f0b"/>
                </a:solidFill>
                <a:latin typeface="Arial"/>
              </a:rPr>
              <a:t>The Universal Communications Identifier</a:t>
            </a:r>
            <a:br>
              <a:rPr sz="2800"/>
            </a:br>
            <a:r>
              <a:rPr b="0" lang="en-US" sz="2800" spc="-1" strike="noStrike">
                <a:solidFill>
                  <a:srgbClr val="b90f0b"/>
                </a:solidFill>
                <a:latin typeface="Arial"/>
              </a:rPr>
              <a:t>(UCI)</a:t>
            </a: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915920"/>
            <a:ext cx="763272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the rationale for an identifier such as the UCI; 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the key drivers that have shaped the UCI and its support environment;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an explanation of the framework that supports UCI;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a brief comparison with other similar initiatives of interest to ITU-T SG2;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an overview of the development of the UCI within ETSI; 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the ITU-T SG2 issues?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0920" y="1341360"/>
            <a:ext cx="15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I will cov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6064560" cy="4025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0f0b"/>
                </a:solidFill>
                <a:latin typeface="Arial"/>
              </a:rPr>
              <a:t>Today’s identifier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66760" y="1376280"/>
            <a:ext cx="37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Which of these is Mike Mi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0f0b"/>
                </a:solidFill>
                <a:latin typeface="Arial"/>
              </a:rPr>
              <a:t>Some important user requirements (</a:t>
            </a:r>
            <a:r>
              <a:rPr b="0" lang="en-US" sz="2800" spc="-1" strike="noStrike">
                <a:solidFill>
                  <a:srgbClr val="b90f0b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b90f0b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240" y="2178000"/>
            <a:ext cx="708660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have a single communication identifier for every significant life role;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check the authenticity of the description of the people you communicate with (or see when they use aliases);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keep your identifier when adding services or changing suppliers;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have control over the release of your own information.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1519200"/>
            <a:ext cx="290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You should be abl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17400" y="2133360"/>
            <a:ext cx="7086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should be associated with you (or your role) - not hardware, services, 3rd parties, or service suppliers;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should provide a meaningful description of you (in a way you wish to be described);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can be added to communications networks and services with the very minimum amount of re-engineering.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18120" y="14842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A U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0f0b"/>
                </a:solidFill>
                <a:latin typeface="Arial"/>
              </a:rPr>
              <a:t>Some important user requirements (</a:t>
            </a:r>
            <a:r>
              <a:rPr b="0" lang="en-US" sz="2800" spc="-1" strike="noStrike">
                <a:solidFill>
                  <a:srgbClr val="b90f0b"/>
                </a:solidFill>
                <a:latin typeface="Times New Roman"/>
              </a:rPr>
              <a:t>II</a:t>
            </a:r>
            <a:r>
              <a:rPr b="0" lang="en-US" sz="2800" spc="-1" strike="noStrike">
                <a:solidFill>
                  <a:srgbClr val="b90f0b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0f0b"/>
                </a:solidFill>
                <a:latin typeface="Arial"/>
              </a:rPr>
              <a:t>Nothing currently fits the specification</a:t>
            </a: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086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Current identifiers were judged against the user requirements developed by ETSI Specialist Task Force STF157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None of today’s identifiers (e.g. phone numbers, email addresses, IM addresses) meet these requirements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Other identifier proposals (e.g. IETF URNs) also fail to meet the requirements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It was concluded that a new identifier would be needed 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0f0b"/>
                </a:solidFill>
                <a:latin typeface="Arial"/>
              </a:rPr>
              <a:t>Support for a new identifier</a:t>
            </a: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A new identification scheme with new capabilities needs a new support environment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The new support environment should not mean large changes to existing systems</a:t>
            </a:r>
            <a:br>
              <a:rPr sz="2000"/>
            </a:b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The identifier support environment must be considered as an overlay to existing communications systems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7888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0f0b"/>
                </a:solidFill>
                <a:latin typeface="Arial"/>
              </a:rPr>
              <a:t>Existing support environment</a:t>
            </a: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412640"/>
            <a:ext cx="70866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Support for communications largely comes from the networks, protocols and applications associated with individual communication types (e.g. telephony networks, SMTP mail protocols)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Users can control their telephone communications using supplementary services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Users can control their email communications using mail redirection and filtering in email clients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Instant messaging systems allow control by manual selection of availability settings and with “buddy lists”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The types of controls and the range of different control mechanisms are as varied as the different types of communication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Users cannot cope well with such a range of controls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7T12:54:57Z</dcterms:created>
  <dc:creator>Michael Pluke</dc:creator>
  <dc:description/>
  <dc:language>en-US</dc:language>
  <cp:lastModifiedBy>comas</cp:lastModifiedBy>
  <dcterms:modified xsi:type="dcterms:W3CDTF">2002-05-21T07:07:31Z</dcterms:modified>
  <cp:revision>26</cp:revision>
  <dc:subject/>
  <dc:title>ETSI Universal Communications Identifier (UCI)</dc:title>
</cp:coreProperties>
</file>