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1040"/>
            <a:ext cx="852624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52388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104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91104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536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4536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040" y="1523880"/>
            <a:ext cx="274536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1040"/>
            <a:ext cx="274536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11040"/>
            <a:ext cx="274536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74536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052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523880"/>
            <a:ext cx="416052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7000"/>
            <a:ext cx="776448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523880"/>
            <a:ext cx="416052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4920" y="391104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052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52388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91104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52388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911040"/>
            <a:ext cx="852624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4920" y="3911040"/>
            <a:ext cx="852624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52388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391104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91104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536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4536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1040" y="1523880"/>
            <a:ext cx="274536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4920" y="3911040"/>
            <a:ext cx="274536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7800" y="3911040"/>
            <a:ext cx="274536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1040" y="3911040"/>
            <a:ext cx="274536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052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523880"/>
            <a:ext cx="416052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7000"/>
            <a:ext cx="776448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523880"/>
            <a:ext cx="416052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104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052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52388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91104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523880"/>
            <a:ext cx="416052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1040"/>
            <a:ext cx="8526240" cy="21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4080" y="6248520"/>
            <a:ext cx="2887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2 Nominum, Inc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553080" y="6248520"/>
            <a:ext cx="18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BFC3C76A-77FB-4623-B3FD-60BCB3EB7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28600" y="6338880"/>
            <a:ext cx="2125800" cy="41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tarBats" charset="2"/>
              <a:buChar char="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4944960" cy="976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Document 17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Study 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.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 TO SECURE DNS (by Jim Re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urpose of this document is to provide some basic introductory material on security features of the Domain Name System (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6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447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1474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0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1501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1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6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1527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2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1553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3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1578" name="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588560" y="3707280"/>
              <a:ext cx="558000" cy="101664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554000" y="3702960"/>
              <a:ext cx="25560" cy="10184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152680" y="3702960"/>
              <a:ext cx="28440" cy="10184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04400" y="3771720"/>
              <a:ext cx="117000" cy="2282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8" y="0"/>
                  </a:moveTo>
                  <a:lnTo>
                    <a:pt x="80" y="162"/>
                  </a:lnTo>
                  <a:lnTo>
                    <a:pt x="0" y="162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4" name="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1605" name="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0" name="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1631" name="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1" name="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6" name="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1657" name="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604400" y="403668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604400" y="4080240"/>
              <a:ext cx="145800" cy="3600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ser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ks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e serv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1.sanj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1687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3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1714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4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9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1740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0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5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1766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6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1792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1819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9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4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1845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5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1871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1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394520" y="4768920"/>
            <a:ext cx="1780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3333600" y="2440080"/>
            <a:ext cx="2341800" cy="1055520"/>
            <a:chOff x="3333600" y="2440080"/>
            <a:chExt cx="2341800" cy="1055520"/>
          </a:xfrm>
        </p:grpSpPr>
        <p:sp>
          <p:nvSpPr>
            <p:cNvPr id="1898" name=""/>
            <p:cNvSpPr/>
            <p:nvPr/>
          </p:nvSpPr>
          <p:spPr>
            <a:xfrm>
              <a:off x="3333600" y="2440080"/>
              <a:ext cx="2341800" cy="1055520"/>
            </a:xfrm>
            <a:custGeom>
              <a:avLst/>
              <a:gdLst/>
              <a:ahLst/>
              <a:rect l="l" t="t" r="r" b="b"/>
              <a:pathLst>
                <a:path w="1623" h="754">
                  <a:moveTo>
                    <a:pt x="1496" y="657"/>
                  </a:moveTo>
                  <a:lnTo>
                    <a:pt x="1507" y="657"/>
                  </a:lnTo>
                  <a:lnTo>
                    <a:pt x="1518" y="655"/>
                  </a:lnTo>
                  <a:lnTo>
                    <a:pt x="1530" y="654"/>
                  </a:lnTo>
                  <a:lnTo>
                    <a:pt x="1542" y="650"/>
                  </a:lnTo>
                  <a:lnTo>
                    <a:pt x="1551" y="648"/>
                  </a:lnTo>
                  <a:lnTo>
                    <a:pt x="1562" y="643"/>
                  </a:lnTo>
                  <a:lnTo>
                    <a:pt x="1571" y="640"/>
                  </a:lnTo>
                  <a:lnTo>
                    <a:pt x="1581" y="634"/>
                  </a:lnTo>
                  <a:lnTo>
                    <a:pt x="1588" y="630"/>
                  </a:lnTo>
                  <a:lnTo>
                    <a:pt x="1596" y="625"/>
                  </a:lnTo>
                  <a:lnTo>
                    <a:pt x="1602" y="619"/>
                  </a:lnTo>
                  <a:lnTo>
                    <a:pt x="1609" y="613"/>
                  </a:lnTo>
                  <a:lnTo>
                    <a:pt x="1612" y="607"/>
                  </a:lnTo>
                  <a:lnTo>
                    <a:pt x="1616" y="600"/>
                  </a:lnTo>
                  <a:lnTo>
                    <a:pt x="1619" y="594"/>
                  </a:lnTo>
                  <a:lnTo>
                    <a:pt x="1622" y="586"/>
                  </a:lnTo>
                  <a:lnTo>
                    <a:pt x="1622" y="71"/>
                  </a:lnTo>
                  <a:lnTo>
                    <a:pt x="1619" y="65"/>
                  </a:lnTo>
                  <a:lnTo>
                    <a:pt x="1616" y="59"/>
                  </a:lnTo>
                  <a:lnTo>
                    <a:pt x="1612" y="53"/>
                  </a:lnTo>
                  <a:lnTo>
                    <a:pt x="1609" y="45"/>
                  </a:lnTo>
                  <a:lnTo>
                    <a:pt x="1602" y="41"/>
                  </a:lnTo>
                  <a:lnTo>
                    <a:pt x="1596" y="35"/>
                  </a:lnTo>
                  <a:lnTo>
                    <a:pt x="1588" y="30"/>
                  </a:lnTo>
                  <a:lnTo>
                    <a:pt x="1581" y="23"/>
                  </a:lnTo>
                  <a:lnTo>
                    <a:pt x="1571" y="20"/>
                  </a:lnTo>
                  <a:lnTo>
                    <a:pt x="1562" y="15"/>
                  </a:lnTo>
                  <a:lnTo>
                    <a:pt x="1551" y="12"/>
                  </a:lnTo>
                  <a:lnTo>
                    <a:pt x="1542" y="8"/>
                  </a:lnTo>
                  <a:lnTo>
                    <a:pt x="1530" y="6"/>
                  </a:lnTo>
                  <a:lnTo>
                    <a:pt x="1518" y="3"/>
                  </a:lnTo>
                  <a:lnTo>
                    <a:pt x="1507" y="2"/>
                  </a:lnTo>
                  <a:lnTo>
                    <a:pt x="1496" y="0"/>
                  </a:lnTo>
                  <a:lnTo>
                    <a:pt x="126" y="0"/>
                  </a:lnTo>
                  <a:lnTo>
                    <a:pt x="114" y="2"/>
                  </a:lnTo>
                  <a:lnTo>
                    <a:pt x="102" y="3"/>
                  </a:lnTo>
                  <a:lnTo>
                    <a:pt x="90" y="6"/>
                  </a:lnTo>
                  <a:lnTo>
                    <a:pt x="79" y="8"/>
                  </a:lnTo>
                  <a:lnTo>
                    <a:pt x="68" y="12"/>
                  </a:lnTo>
                  <a:lnTo>
                    <a:pt x="58" y="15"/>
                  </a:lnTo>
                  <a:lnTo>
                    <a:pt x="48" y="20"/>
                  </a:lnTo>
                  <a:lnTo>
                    <a:pt x="41" y="23"/>
                  </a:lnTo>
                  <a:lnTo>
                    <a:pt x="32" y="30"/>
                  </a:lnTo>
                  <a:lnTo>
                    <a:pt x="24" y="35"/>
                  </a:lnTo>
                  <a:lnTo>
                    <a:pt x="17" y="41"/>
                  </a:lnTo>
                  <a:lnTo>
                    <a:pt x="12" y="45"/>
                  </a:lnTo>
                  <a:lnTo>
                    <a:pt x="7" y="53"/>
                  </a:lnTo>
                  <a:lnTo>
                    <a:pt x="3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586"/>
                  </a:lnTo>
                  <a:lnTo>
                    <a:pt x="1" y="594"/>
                  </a:lnTo>
                  <a:lnTo>
                    <a:pt x="3" y="600"/>
                  </a:lnTo>
                  <a:lnTo>
                    <a:pt x="7" y="607"/>
                  </a:lnTo>
                  <a:lnTo>
                    <a:pt x="12" y="613"/>
                  </a:lnTo>
                  <a:lnTo>
                    <a:pt x="17" y="619"/>
                  </a:lnTo>
                  <a:lnTo>
                    <a:pt x="24" y="625"/>
                  </a:lnTo>
                  <a:lnTo>
                    <a:pt x="32" y="630"/>
                  </a:lnTo>
                  <a:lnTo>
                    <a:pt x="41" y="634"/>
                  </a:lnTo>
                  <a:lnTo>
                    <a:pt x="48" y="640"/>
                  </a:lnTo>
                  <a:lnTo>
                    <a:pt x="58" y="643"/>
                  </a:lnTo>
                  <a:lnTo>
                    <a:pt x="68" y="648"/>
                  </a:lnTo>
                  <a:lnTo>
                    <a:pt x="79" y="650"/>
                  </a:lnTo>
                  <a:lnTo>
                    <a:pt x="90" y="654"/>
                  </a:lnTo>
                  <a:lnTo>
                    <a:pt x="102" y="655"/>
                  </a:lnTo>
                  <a:lnTo>
                    <a:pt x="114" y="657"/>
                  </a:lnTo>
                  <a:lnTo>
                    <a:pt x="126" y="657"/>
                  </a:lnTo>
                  <a:lnTo>
                    <a:pt x="245" y="657"/>
                  </a:lnTo>
                  <a:lnTo>
                    <a:pt x="130" y="753"/>
                  </a:lnTo>
                  <a:lnTo>
                    <a:pt x="407" y="657"/>
                  </a:lnTo>
                  <a:lnTo>
                    <a:pt x="1496" y="657"/>
                  </a:lnTo>
                  <a:lnTo>
                    <a:pt x="1496" y="657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578760" y="2541960"/>
              <a:ext cx="1998360" cy="7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3276720" y="3541680"/>
            <a:ext cx="1163520" cy="317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1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902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1929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5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1956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6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1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1982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2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7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2008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8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2033" name="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588560" y="3707280"/>
              <a:ext cx="558000" cy="101664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554000" y="3702960"/>
              <a:ext cx="25560" cy="10184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152680" y="3702960"/>
              <a:ext cx="28440" cy="10184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604400" y="3771720"/>
              <a:ext cx="117000" cy="2282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8" y="0"/>
                  </a:moveTo>
                  <a:lnTo>
                    <a:pt x="80" y="162"/>
                  </a:lnTo>
                  <a:lnTo>
                    <a:pt x="0" y="162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9" name="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2060" name="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5" name="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2086" name="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6" name="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1" name="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2112" name="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2" name="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604400" y="403668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604400" y="4080240"/>
              <a:ext cx="145800" cy="3600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minum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 ser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s1.sanj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ond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ww.nominum.com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1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2142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8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2169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9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2195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0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2221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1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5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2247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3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2274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4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9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2300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0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5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2326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6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0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394520" y="4768920"/>
            <a:ext cx="1780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2" name=""/>
          <p:cNvGrpSpPr/>
          <p:nvPr/>
        </p:nvGrpSpPr>
        <p:grpSpPr>
          <a:xfrm>
            <a:off x="2209680" y="4495680"/>
            <a:ext cx="2198880" cy="1011240"/>
            <a:chOff x="2209680" y="4495680"/>
            <a:chExt cx="2198880" cy="1011240"/>
          </a:xfrm>
        </p:grpSpPr>
        <p:sp>
          <p:nvSpPr>
            <p:cNvPr id="2353" name=""/>
            <p:cNvSpPr/>
            <p:nvPr/>
          </p:nvSpPr>
          <p:spPr>
            <a:xfrm>
              <a:off x="2209680" y="4495680"/>
              <a:ext cx="2198880" cy="1011240"/>
            </a:xfrm>
            <a:custGeom>
              <a:avLst/>
              <a:gdLst/>
              <a:ahLst/>
              <a:rect l="l" t="t" r="r" b="b"/>
              <a:pathLst>
                <a:path w="1523" h="721">
                  <a:moveTo>
                    <a:pt x="119" y="92"/>
                  </a:moveTo>
                  <a:lnTo>
                    <a:pt x="107" y="94"/>
                  </a:lnTo>
                  <a:lnTo>
                    <a:pt x="95" y="95"/>
                  </a:lnTo>
                  <a:lnTo>
                    <a:pt x="84" y="98"/>
                  </a:lnTo>
                  <a:lnTo>
                    <a:pt x="74" y="100"/>
                  </a:lnTo>
                  <a:lnTo>
                    <a:pt x="64" y="104"/>
                  </a:lnTo>
                  <a:lnTo>
                    <a:pt x="54" y="107"/>
                  </a:lnTo>
                  <a:lnTo>
                    <a:pt x="46" y="111"/>
                  </a:lnTo>
                  <a:lnTo>
                    <a:pt x="38" y="115"/>
                  </a:lnTo>
                  <a:lnTo>
                    <a:pt x="30" y="121"/>
                  </a:lnTo>
                  <a:lnTo>
                    <a:pt x="23" y="126"/>
                  </a:lnTo>
                  <a:lnTo>
                    <a:pt x="17" y="131"/>
                  </a:lnTo>
                  <a:lnTo>
                    <a:pt x="12" y="136"/>
                  </a:lnTo>
                  <a:lnTo>
                    <a:pt x="7" y="142"/>
                  </a:lnTo>
                  <a:lnTo>
                    <a:pt x="4" y="148"/>
                  </a:lnTo>
                  <a:lnTo>
                    <a:pt x="1" y="154"/>
                  </a:lnTo>
                  <a:lnTo>
                    <a:pt x="0" y="160"/>
                  </a:lnTo>
                  <a:lnTo>
                    <a:pt x="0" y="652"/>
                  </a:lnTo>
                  <a:lnTo>
                    <a:pt x="1" y="660"/>
                  </a:lnTo>
                  <a:lnTo>
                    <a:pt x="4" y="666"/>
                  </a:lnTo>
                  <a:lnTo>
                    <a:pt x="7" y="672"/>
                  </a:lnTo>
                  <a:lnTo>
                    <a:pt x="12" y="677"/>
                  </a:lnTo>
                  <a:lnTo>
                    <a:pt x="17" y="683"/>
                  </a:lnTo>
                  <a:lnTo>
                    <a:pt x="23" y="689"/>
                  </a:lnTo>
                  <a:lnTo>
                    <a:pt x="30" y="695"/>
                  </a:lnTo>
                  <a:lnTo>
                    <a:pt x="38" y="699"/>
                  </a:lnTo>
                  <a:lnTo>
                    <a:pt x="46" y="703"/>
                  </a:lnTo>
                  <a:lnTo>
                    <a:pt x="54" y="707"/>
                  </a:lnTo>
                  <a:lnTo>
                    <a:pt x="64" y="711"/>
                  </a:lnTo>
                  <a:lnTo>
                    <a:pt x="74" y="714"/>
                  </a:lnTo>
                  <a:lnTo>
                    <a:pt x="84" y="716"/>
                  </a:lnTo>
                  <a:lnTo>
                    <a:pt x="95" y="718"/>
                  </a:lnTo>
                  <a:lnTo>
                    <a:pt x="107" y="720"/>
                  </a:lnTo>
                  <a:lnTo>
                    <a:pt x="119" y="720"/>
                  </a:lnTo>
                  <a:lnTo>
                    <a:pt x="1403" y="720"/>
                  </a:lnTo>
                  <a:lnTo>
                    <a:pt x="1413" y="720"/>
                  </a:lnTo>
                  <a:lnTo>
                    <a:pt x="1425" y="718"/>
                  </a:lnTo>
                  <a:lnTo>
                    <a:pt x="1435" y="716"/>
                  </a:lnTo>
                  <a:lnTo>
                    <a:pt x="1446" y="714"/>
                  </a:lnTo>
                  <a:lnTo>
                    <a:pt x="1455" y="711"/>
                  </a:lnTo>
                  <a:lnTo>
                    <a:pt x="1465" y="707"/>
                  </a:lnTo>
                  <a:lnTo>
                    <a:pt x="1474" y="703"/>
                  </a:lnTo>
                  <a:lnTo>
                    <a:pt x="1483" y="699"/>
                  </a:lnTo>
                  <a:lnTo>
                    <a:pt x="1490" y="695"/>
                  </a:lnTo>
                  <a:lnTo>
                    <a:pt x="1497" y="689"/>
                  </a:lnTo>
                  <a:lnTo>
                    <a:pt x="1503" y="683"/>
                  </a:lnTo>
                  <a:lnTo>
                    <a:pt x="1509" y="677"/>
                  </a:lnTo>
                  <a:lnTo>
                    <a:pt x="1513" y="672"/>
                  </a:lnTo>
                  <a:lnTo>
                    <a:pt x="1517" y="666"/>
                  </a:lnTo>
                  <a:lnTo>
                    <a:pt x="1519" y="660"/>
                  </a:lnTo>
                  <a:lnTo>
                    <a:pt x="1522" y="652"/>
                  </a:lnTo>
                  <a:lnTo>
                    <a:pt x="1522" y="160"/>
                  </a:lnTo>
                  <a:lnTo>
                    <a:pt x="1519" y="154"/>
                  </a:lnTo>
                  <a:lnTo>
                    <a:pt x="1517" y="148"/>
                  </a:lnTo>
                  <a:lnTo>
                    <a:pt x="1513" y="142"/>
                  </a:lnTo>
                  <a:lnTo>
                    <a:pt x="1509" y="136"/>
                  </a:lnTo>
                  <a:lnTo>
                    <a:pt x="1503" y="131"/>
                  </a:lnTo>
                  <a:lnTo>
                    <a:pt x="1497" y="126"/>
                  </a:lnTo>
                  <a:lnTo>
                    <a:pt x="1490" y="121"/>
                  </a:lnTo>
                  <a:lnTo>
                    <a:pt x="1483" y="115"/>
                  </a:lnTo>
                  <a:lnTo>
                    <a:pt x="1474" y="111"/>
                  </a:lnTo>
                  <a:lnTo>
                    <a:pt x="1465" y="107"/>
                  </a:lnTo>
                  <a:lnTo>
                    <a:pt x="1455" y="104"/>
                  </a:lnTo>
                  <a:lnTo>
                    <a:pt x="1446" y="100"/>
                  </a:lnTo>
                  <a:lnTo>
                    <a:pt x="1435" y="98"/>
                  </a:lnTo>
                  <a:lnTo>
                    <a:pt x="1425" y="95"/>
                  </a:lnTo>
                  <a:lnTo>
                    <a:pt x="1413" y="94"/>
                  </a:lnTo>
                  <a:lnTo>
                    <a:pt x="1403" y="92"/>
                  </a:lnTo>
                  <a:lnTo>
                    <a:pt x="1292" y="92"/>
                  </a:lnTo>
                  <a:lnTo>
                    <a:pt x="1399" y="0"/>
                  </a:lnTo>
                  <a:lnTo>
                    <a:pt x="1140" y="92"/>
                  </a:lnTo>
                  <a:lnTo>
                    <a:pt x="119" y="92"/>
                  </a:lnTo>
                  <a:lnTo>
                    <a:pt x="119" y="92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390040" y="4695840"/>
              <a:ext cx="18756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www.nominum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408480" y="3591000"/>
            <a:ext cx="1036440" cy="2728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6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2357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3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2384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0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2411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1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6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2437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7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2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2463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3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7" name="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2488" name="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588560" y="3707280"/>
              <a:ext cx="558000" cy="101664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554000" y="3702960"/>
              <a:ext cx="25560" cy="10184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152680" y="3702960"/>
              <a:ext cx="28440" cy="10184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604400" y="3771720"/>
              <a:ext cx="117000" cy="2282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8" y="0"/>
                  </a:moveTo>
                  <a:lnTo>
                    <a:pt x="80" y="162"/>
                  </a:lnTo>
                  <a:lnTo>
                    <a:pt x="0" y="162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4" name="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2515" name="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5" name="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0" name="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2541" name="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1" name="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6" name="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2567" name="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7" name="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604400" y="403668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604400" y="4080240"/>
              <a:ext cx="145800" cy="3600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3370320" y="2486160"/>
            <a:ext cx="2197080" cy="1009440"/>
            <a:chOff x="3370320" y="2486160"/>
            <a:chExt cx="2197080" cy="1009440"/>
          </a:xfrm>
        </p:grpSpPr>
        <p:sp>
          <p:nvSpPr>
            <p:cNvPr id="2592" name=""/>
            <p:cNvSpPr/>
            <p:nvPr/>
          </p:nvSpPr>
          <p:spPr>
            <a:xfrm>
              <a:off x="3370320" y="2486160"/>
              <a:ext cx="2197080" cy="1009440"/>
            </a:xfrm>
            <a:custGeom>
              <a:avLst/>
              <a:gdLst/>
              <a:ahLst/>
              <a:rect l="l" t="t" r="r" b="b"/>
              <a:pathLst>
                <a:path w="1523" h="721">
                  <a:moveTo>
                    <a:pt x="1403" y="628"/>
                  </a:moveTo>
                  <a:lnTo>
                    <a:pt x="1413" y="628"/>
                  </a:lnTo>
                  <a:lnTo>
                    <a:pt x="1425" y="627"/>
                  </a:lnTo>
                  <a:lnTo>
                    <a:pt x="1435" y="625"/>
                  </a:lnTo>
                  <a:lnTo>
                    <a:pt x="1446" y="622"/>
                  </a:lnTo>
                  <a:lnTo>
                    <a:pt x="1455" y="619"/>
                  </a:lnTo>
                  <a:lnTo>
                    <a:pt x="1465" y="615"/>
                  </a:lnTo>
                  <a:lnTo>
                    <a:pt x="1474" y="612"/>
                  </a:lnTo>
                  <a:lnTo>
                    <a:pt x="1483" y="607"/>
                  </a:lnTo>
                  <a:lnTo>
                    <a:pt x="1490" y="603"/>
                  </a:lnTo>
                  <a:lnTo>
                    <a:pt x="1497" y="598"/>
                  </a:lnTo>
                  <a:lnTo>
                    <a:pt x="1503" y="592"/>
                  </a:lnTo>
                  <a:lnTo>
                    <a:pt x="1509" y="586"/>
                  </a:lnTo>
                  <a:lnTo>
                    <a:pt x="1513" y="580"/>
                  </a:lnTo>
                  <a:lnTo>
                    <a:pt x="1517" y="574"/>
                  </a:lnTo>
                  <a:lnTo>
                    <a:pt x="1519" y="568"/>
                  </a:lnTo>
                  <a:lnTo>
                    <a:pt x="1522" y="560"/>
                  </a:lnTo>
                  <a:lnTo>
                    <a:pt x="1522" y="68"/>
                  </a:lnTo>
                  <a:lnTo>
                    <a:pt x="1519" y="62"/>
                  </a:lnTo>
                  <a:lnTo>
                    <a:pt x="1517" y="56"/>
                  </a:lnTo>
                  <a:lnTo>
                    <a:pt x="1513" y="50"/>
                  </a:lnTo>
                  <a:lnTo>
                    <a:pt x="1509" y="44"/>
                  </a:lnTo>
                  <a:lnTo>
                    <a:pt x="1503" y="40"/>
                  </a:lnTo>
                  <a:lnTo>
                    <a:pt x="1497" y="34"/>
                  </a:lnTo>
                  <a:lnTo>
                    <a:pt x="1490" y="29"/>
                  </a:lnTo>
                  <a:lnTo>
                    <a:pt x="1483" y="23"/>
                  </a:lnTo>
                  <a:lnTo>
                    <a:pt x="1474" y="19"/>
                  </a:lnTo>
                  <a:lnTo>
                    <a:pt x="1465" y="15"/>
                  </a:lnTo>
                  <a:lnTo>
                    <a:pt x="1455" y="12"/>
                  </a:lnTo>
                  <a:lnTo>
                    <a:pt x="1446" y="8"/>
                  </a:lnTo>
                  <a:lnTo>
                    <a:pt x="1435" y="6"/>
                  </a:lnTo>
                  <a:lnTo>
                    <a:pt x="1425" y="3"/>
                  </a:lnTo>
                  <a:lnTo>
                    <a:pt x="1413" y="2"/>
                  </a:lnTo>
                  <a:lnTo>
                    <a:pt x="1403" y="0"/>
                  </a:lnTo>
                  <a:lnTo>
                    <a:pt x="119" y="0"/>
                  </a:lnTo>
                  <a:lnTo>
                    <a:pt x="107" y="2"/>
                  </a:lnTo>
                  <a:lnTo>
                    <a:pt x="95" y="3"/>
                  </a:lnTo>
                  <a:lnTo>
                    <a:pt x="84" y="6"/>
                  </a:lnTo>
                  <a:lnTo>
                    <a:pt x="74" y="8"/>
                  </a:lnTo>
                  <a:lnTo>
                    <a:pt x="64" y="12"/>
                  </a:lnTo>
                  <a:lnTo>
                    <a:pt x="54" y="15"/>
                  </a:lnTo>
                  <a:lnTo>
                    <a:pt x="46" y="19"/>
                  </a:lnTo>
                  <a:lnTo>
                    <a:pt x="38" y="23"/>
                  </a:lnTo>
                  <a:lnTo>
                    <a:pt x="30" y="29"/>
                  </a:lnTo>
                  <a:lnTo>
                    <a:pt x="23" y="34"/>
                  </a:lnTo>
                  <a:lnTo>
                    <a:pt x="17" y="40"/>
                  </a:lnTo>
                  <a:lnTo>
                    <a:pt x="11" y="44"/>
                  </a:lnTo>
                  <a:lnTo>
                    <a:pt x="7" y="50"/>
                  </a:lnTo>
                  <a:lnTo>
                    <a:pt x="4" y="56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0" y="560"/>
                  </a:lnTo>
                  <a:lnTo>
                    <a:pt x="2" y="568"/>
                  </a:lnTo>
                  <a:lnTo>
                    <a:pt x="4" y="574"/>
                  </a:lnTo>
                  <a:lnTo>
                    <a:pt x="7" y="580"/>
                  </a:lnTo>
                  <a:lnTo>
                    <a:pt x="11" y="586"/>
                  </a:lnTo>
                  <a:lnTo>
                    <a:pt x="17" y="592"/>
                  </a:lnTo>
                  <a:lnTo>
                    <a:pt x="23" y="598"/>
                  </a:lnTo>
                  <a:lnTo>
                    <a:pt x="30" y="603"/>
                  </a:lnTo>
                  <a:lnTo>
                    <a:pt x="38" y="607"/>
                  </a:lnTo>
                  <a:lnTo>
                    <a:pt x="46" y="612"/>
                  </a:lnTo>
                  <a:lnTo>
                    <a:pt x="54" y="615"/>
                  </a:lnTo>
                  <a:lnTo>
                    <a:pt x="64" y="619"/>
                  </a:lnTo>
                  <a:lnTo>
                    <a:pt x="74" y="622"/>
                  </a:lnTo>
                  <a:lnTo>
                    <a:pt x="84" y="625"/>
                  </a:lnTo>
                  <a:lnTo>
                    <a:pt x="95" y="627"/>
                  </a:lnTo>
                  <a:lnTo>
                    <a:pt x="107" y="628"/>
                  </a:lnTo>
                  <a:lnTo>
                    <a:pt x="119" y="628"/>
                  </a:lnTo>
                  <a:lnTo>
                    <a:pt x="231" y="628"/>
                  </a:lnTo>
                  <a:lnTo>
                    <a:pt x="123" y="720"/>
                  </a:lnTo>
                  <a:lnTo>
                    <a:pt x="382" y="628"/>
                  </a:lnTo>
                  <a:lnTo>
                    <a:pt x="1403" y="628"/>
                  </a:lnTo>
                  <a:lnTo>
                    <a:pt x="1403" y="628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600720" y="2582640"/>
              <a:ext cx="18738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www.nominum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4" name=""/>
          <p:cNvSpPr/>
          <p:nvPr/>
        </p:nvSpPr>
        <p:spPr>
          <a:xfrm flipV="1">
            <a:off x="1817640" y="3672000"/>
            <a:ext cx="571680" cy="77472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ser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ko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ond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n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ww.nominum.com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0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2601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7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2628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8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3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2654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4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9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2680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0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4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5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2706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2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2733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3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8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2759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9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4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2785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5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9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3991320" y="4768920"/>
            <a:ext cx="1780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 With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: it all works fin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re’s no authentication at 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ient can’t t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n answer really ca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erver that replied is telling the truth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received exactly what the server 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cking th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mbard client with bogus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 what the answer might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ept an answer packet &amp; modify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works well if adjacent to client or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a fake server for some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 other servers into querying the fak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l routing/peering tricks &amp; hi-jack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bogus routes for the root servers (or the servers for any other “interesting” z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NS client can’t be sure of anyt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a lookup for www.nominum.com really get answered by the nominum.com name serv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it get what a real nominum.com name server actually 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erver that answered telling the tru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we get the actual address of Nominum’s web ser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 free to replace nominum.com with your favourite domain nam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 Sign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Transaction Signatures, TSI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xplained in thi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 Signatures (TSI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RFC28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d on the 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zon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o Additional Section of DNS re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shared secret and cryptographic hash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HMAC-MD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tamps prevent replay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IG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"Lightweight" digital 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yptographic hash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NS query or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anything (within rea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ly generated by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nssec-ke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any tool that generates a base-64 encoded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ographic Has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trong checks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ally proven to have almost no chance of a coll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inputs cannot result in the same ha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5 hash of  ASCII charac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026324c6904b2a9cb4b88d6d61c81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5 hash of  ASCII charact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ab0db90d72e28ad0ba1e22ee5105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6216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Introduction to Secure DNS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IG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arty kn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DNS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sen crypto hash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f day (U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compute the TSIG hash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alculated hash matches  the TSIG hash in DNS packet, all i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something has gone w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ng time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shared sec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IG Shared Sec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obvious vuln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to remain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s using TSIG should be under one administrative &amp; operation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henticating zone transf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TLDs do this 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ynamic DNS update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HCP server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s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S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26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named.conf key{}, server{}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key exampleke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gorithm hmac-md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cret "pRP5FapFoJ95JEL06sv4PQ==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rver 10.9.8.7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keys { examplekey;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exampleke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send/validate T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S packets to/from 10.9.8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IG for Access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2624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ame of a TSIG key can be used in a BIND Access Control Li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ow-transfer { examplekey;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ow-update {127.0.0.1; examplekey;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e transfers must be TSIG “sign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xample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dynamic updates from 127.0.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 if they're signed b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xample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IG an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named.co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named.con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ually world-re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TSIG keys should be kept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n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includ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 the keys in a private file and include th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nclude "/not/for/public/tsig-keys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ch out for keys in core dumps or name server lo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IG and Dynamic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nsup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ND utility for performing Dynamic DNS (DDNS)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nsup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stands T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ws TSIG authentication of Dynamic Update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sane way to authenticat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native is by (easily forged)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IG and DH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C DHCP server understands TSIG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s for DDNS and DHCP interaction still to be completed by 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ur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SzPct val="86000"/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 server may trust DHCP dae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HCP daemon may believe untrusted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insert illegal/unwanted hostnames into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IG "signatures" better than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dhcp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Updates with TS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dhcpd.con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key exampleke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gorithm HMAC-MD5.SIG-ALG.REG.I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cret pRP5FapFoJ95JEL06sv4PQ==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zone EXAMPLE.ORG.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rimary 127.0.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key exampleke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nd dynamic updates for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example.or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27.0.0.1 signed with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exampleke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SIG 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tamps and TS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Signatures include a timest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replay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 factor allows clocks to be out by up to a few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using TSIG should have their clocks synchron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running NTP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Secure NTP if you're paran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buy an atomic cl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2000 uses Dynamic DNS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use T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proprietary mechanism, GSS-T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“mangled” Kerberos ti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S-TSIG proposed as IETF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cond implementation (y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ing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es in the DNS resolu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ks on the nam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ces of those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ofing, mangled DNS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to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Signatures (TSI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 Security Extensions (DNSS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Signatures (TSIG) have been explained in this s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m for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s, name servers, dynamic upda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m in BIND Access Control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stamps mean clocks should be synchro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2000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e DNS (DNSSE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ction explains DNSSEC: Secure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e for DNS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blems DNSSEC so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blems it does not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blems DNSSEC cre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, SIG and NXT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9's DNSSEC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ng a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ecure D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NS is not secur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could be 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poisoning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could be spoof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could be tamper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P makes these attacks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at Secure DNS is designed to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NSSEC Does Not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/thwart denial-of-servic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name server comprom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over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BIND9 to stop th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 variable lea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iality of DN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NS is public after all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ecure DNS Pr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authen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as received was what the server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/what signed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 server authenticity (in theory any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nswer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o.example.c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es from the genuine name server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xamp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uld be a chain of trust to the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in of T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key for nominum.com is signed with the private key for 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com “trusts” the nominum.com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key for .com is signed with the private key for 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 zone “trusts” the .com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trusts the root zone’s public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ly pu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in to every name ser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for ww.nominum.com is provably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been signed with the nominum.com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 could have tampered with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minum.com key was signed by the key for .com so the nominum.com key is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.com key was signed by the root key so the delegation to com can be trusted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ot key is known and trusted by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e DN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ed in RFC2535 (DNSS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ft of enhancements &amp; extensions since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FC2536, RFC2537, RFC2931, RFC3007, RFC3008, RFC3090, RFC3110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ee new resource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, SIG and N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gital signatures of DN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ustrial-strength cryp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SA, RSA, Diffie-Hel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Key 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encry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A, D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key and private key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ncoded with public key can only be decoded with the corresponding private key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sed in DNSSE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 is supposed to be public after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SSEC Sign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't explicitly sign the actual DN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 a hash of the data instead (SHA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s data to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s must be normalised to a canonical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in lower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y qualified domai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ndled automatically by the zone sign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86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113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140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166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192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V="1">
            <a:off x="1751040" y="3673080"/>
            <a:ext cx="635040" cy="841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227320" y="4343400"/>
            <a:ext cx="2344680" cy="1057320"/>
            <a:chOff x="2227320" y="4343400"/>
            <a:chExt cx="2344680" cy="1057320"/>
          </a:xfrm>
        </p:grpSpPr>
        <p:sp>
          <p:nvSpPr>
            <p:cNvPr id="218" name=""/>
            <p:cNvSpPr/>
            <p:nvPr/>
          </p:nvSpPr>
          <p:spPr>
            <a:xfrm>
              <a:off x="2227320" y="4343400"/>
              <a:ext cx="2344680" cy="1057320"/>
            </a:xfrm>
            <a:custGeom>
              <a:avLst/>
              <a:gdLst/>
              <a:ahLst/>
              <a:rect l="l" t="t" r="r" b="b"/>
              <a:pathLst>
                <a:path w="1625" h="754">
                  <a:moveTo>
                    <a:pt x="1497" y="96"/>
                  </a:moveTo>
                  <a:lnTo>
                    <a:pt x="1508" y="97"/>
                  </a:lnTo>
                  <a:lnTo>
                    <a:pt x="1520" y="99"/>
                  </a:lnTo>
                  <a:lnTo>
                    <a:pt x="1531" y="102"/>
                  </a:lnTo>
                  <a:lnTo>
                    <a:pt x="1543" y="103"/>
                  </a:lnTo>
                  <a:lnTo>
                    <a:pt x="1553" y="108"/>
                  </a:lnTo>
                  <a:lnTo>
                    <a:pt x="1563" y="111"/>
                  </a:lnTo>
                  <a:lnTo>
                    <a:pt x="1572" y="115"/>
                  </a:lnTo>
                  <a:lnTo>
                    <a:pt x="1582" y="119"/>
                  </a:lnTo>
                  <a:lnTo>
                    <a:pt x="1589" y="125"/>
                  </a:lnTo>
                  <a:lnTo>
                    <a:pt x="1597" y="130"/>
                  </a:lnTo>
                  <a:lnTo>
                    <a:pt x="1603" y="136"/>
                  </a:lnTo>
                  <a:lnTo>
                    <a:pt x="1610" y="141"/>
                  </a:lnTo>
                  <a:lnTo>
                    <a:pt x="1613" y="148"/>
                  </a:lnTo>
                  <a:lnTo>
                    <a:pt x="1618" y="154"/>
                  </a:lnTo>
                  <a:lnTo>
                    <a:pt x="1620" y="161"/>
                  </a:lnTo>
                  <a:lnTo>
                    <a:pt x="1624" y="167"/>
                  </a:lnTo>
                  <a:lnTo>
                    <a:pt x="1624" y="682"/>
                  </a:lnTo>
                  <a:lnTo>
                    <a:pt x="1620" y="690"/>
                  </a:lnTo>
                  <a:lnTo>
                    <a:pt x="1618" y="696"/>
                  </a:lnTo>
                  <a:lnTo>
                    <a:pt x="1613" y="703"/>
                  </a:lnTo>
                  <a:lnTo>
                    <a:pt x="1610" y="709"/>
                  </a:lnTo>
                  <a:lnTo>
                    <a:pt x="1603" y="715"/>
                  </a:lnTo>
                  <a:lnTo>
                    <a:pt x="1597" y="721"/>
                  </a:lnTo>
                  <a:lnTo>
                    <a:pt x="1589" y="726"/>
                  </a:lnTo>
                  <a:lnTo>
                    <a:pt x="1582" y="730"/>
                  </a:lnTo>
                  <a:lnTo>
                    <a:pt x="1572" y="735"/>
                  </a:lnTo>
                  <a:lnTo>
                    <a:pt x="1563" y="739"/>
                  </a:lnTo>
                  <a:lnTo>
                    <a:pt x="1553" y="743"/>
                  </a:lnTo>
                  <a:lnTo>
                    <a:pt x="1543" y="746"/>
                  </a:lnTo>
                  <a:lnTo>
                    <a:pt x="1531" y="749"/>
                  </a:lnTo>
                  <a:lnTo>
                    <a:pt x="1520" y="751"/>
                  </a:lnTo>
                  <a:lnTo>
                    <a:pt x="1508" y="753"/>
                  </a:lnTo>
                  <a:lnTo>
                    <a:pt x="1497" y="753"/>
                  </a:lnTo>
                  <a:lnTo>
                    <a:pt x="127" y="753"/>
                  </a:lnTo>
                  <a:lnTo>
                    <a:pt x="115" y="753"/>
                  </a:lnTo>
                  <a:lnTo>
                    <a:pt x="103" y="751"/>
                  </a:lnTo>
                  <a:lnTo>
                    <a:pt x="91" y="749"/>
                  </a:lnTo>
                  <a:lnTo>
                    <a:pt x="80" y="746"/>
                  </a:lnTo>
                  <a:lnTo>
                    <a:pt x="69" y="743"/>
                  </a:lnTo>
                  <a:lnTo>
                    <a:pt x="59" y="739"/>
                  </a:lnTo>
                  <a:lnTo>
                    <a:pt x="50" y="735"/>
                  </a:lnTo>
                  <a:lnTo>
                    <a:pt x="42" y="730"/>
                  </a:lnTo>
                  <a:lnTo>
                    <a:pt x="33" y="726"/>
                  </a:lnTo>
                  <a:lnTo>
                    <a:pt x="25" y="721"/>
                  </a:lnTo>
                  <a:lnTo>
                    <a:pt x="18" y="715"/>
                  </a:lnTo>
                  <a:lnTo>
                    <a:pt x="13" y="709"/>
                  </a:lnTo>
                  <a:lnTo>
                    <a:pt x="8" y="703"/>
                  </a:lnTo>
                  <a:lnTo>
                    <a:pt x="5" y="696"/>
                  </a:lnTo>
                  <a:lnTo>
                    <a:pt x="2" y="690"/>
                  </a:lnTo>
                  <a:lnTo>
                    <a:pt x="0" y="682"/>
                  </a:lnTo>
                  <a:lnTo>
                    <a:pt x="0" y="167"/>
                  </a:lnTo>
                  <a:lnTo>
                    <a:pt x="2" y="161"/>
                  </a:lnTo>
                  <a:lnTo>
                    <a:pt x="5" y="154"/>
                  </a:lnTo>
                  <a:lnTo>
                    <a:pt x="8" y="148"/>
                  </a:lnTo>
                  <a:lnTo>
                    <a:pt x="13" y="141"/>
                  </a:lnTo>
                  <a:lnTo>
                    <a:pt x="18" y="136"/>
                  </a:lnTo>
                  <a:lnTo>
                    <a:pt x="25" y="130"/>
                  </a:lnTo>
                  <a:lnTo>
                    <a:pt x="33" y="125"/>
                  </a:lnTo>
                  <a:lnTo>
                    <a:pt x="42" y="119"/>
                  </a:lnTo>
                  <a:lnTo>
                    <a:pt x="50" y="115"/>
                  </a:lnTo>
                  <a:lnTo>
                    <a:pt x="59" y="111"/>
                  </a:lnTo>
                  <a:lnTo>
                    <a:pt x="69" y="108"/>
                  </a:lnTo>
                  <a:lnTo>
                    <a:pt x="80" y="103"/>
                  </a:lnTo>
                  <a:lnTo>
                    <a:pt x="91" y="102"/>
                  </a:lnTo>
                  <a:lnTo>
                    <a:pt x="103" y="99"/>
                  </a:lnTo>
                  <a:lnTo>
                    <a:pt x="115" y="97"/>
                  </a:lnTo>
                  <a:lnTo>
                    <a:pt x="127" y="96"/>
                  </a:lnTo>
                  <a:lnTo>
                    <a:pt x="246" y="96"/>
                  </a:lnTo>
                  <a:lnTo>
                    <a:pt x="131" y="0"/>
                  </a:lnTo>
                  <a:lnTo>
                    <a:pt x="408" y="96"/>
                  </a:lnTo>
                  <a:lnTo>
                    <a:pt x="1497" y="96"/>
                  </a:lnTo>
                  <a:lnTo>
                    <a:pt x="1497" y="96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73920" y="4553640"/>
              <a:ext cx="1998360" cy="7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kst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n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ks its configured name server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kot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ww.nominum.com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ublic key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KEY </a:t>
            </a: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flags proto algorithm pub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he key can be used for: authentication, zone, user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pr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ocol identifier: DNSSEC, IPsec, TL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ypto algorithm: RSA, D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pubke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-64 public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KEY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example.com. IN KEY 256 3 1 AQPOz/KyZAsaXxv8hbx+7lfgv4iP5twIQtyNGVnpBAMTbOykxKMJNrBdg41AufR4hItZIi76vbd0R1emEXvPpB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RSA zone key for DNSSEC called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 examp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G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igital signature for some RR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Rset: resource records with same name, class, type and T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rribly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SIG </a:t>
            </a: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type alg labels ottl sig-exp sig-inc key-tag signer 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Rset type that the SIG record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, MX, SO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al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ypto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in the KEY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of labels in the name that are 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ludge for wildc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.exampl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ot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TTL of signed RR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sig-e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when the signature exp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sig-i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when the signature is vali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key-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cut to identify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when there are 2 or more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ig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of the public key to validate the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-64 encoding of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SIG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xample.com. 86400 SIG SOA ( 1 2 86400 2001072720082 20010627200820 42000 example.com. pGsWdt8qpm58kXDqkM8DLLKxjT8qqgTny9nY8jBHEiUAxGTV+i53fsIpVJOnWalUxbkP260OAR0bTHve4voN9g==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G record f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xample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SOA record signed with the key f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xamp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XT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oving a name or RR type does not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't just sign NULL str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: name NXT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next-nam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next-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of alphabetically next record in the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name points back to zone's SOA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record types that exist for th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NXT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im.example.com. NXT \ ns0.example.com  A SIG N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name in zone aft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im.exampl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s0.exampl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SIG and NXT records exist f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im.examp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226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the resolution process step-by-st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ng a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a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parent to sign zon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parent's signature of zon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th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lf-sign when the parent zone is not DNSSEC-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elf-sign example.com if com is not 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1: generate a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dnssec-ke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ND utility for generating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generate RSA, DSA, HMAC-MD5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ntropy from operating system to generate random keys: large prim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- Make a Key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262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dnssec-makekey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-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YYYMMDDHHMMSS | +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 start time (absolute or rel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-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YYYMMDDHHMMSS | +offset | "now" +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 end time (absolute or rel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-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TL of generated R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 of key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- Parent Zone Signs Child Zone’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dnssec-sig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-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YYYYMMDDHHMMSS | +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 start time (absolute or rel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-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YYYYMMDDHHMMSS | +offset | "now" + 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 end time (absolute or rel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4 - Signing The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 public key &amp; parent’s signature of that key to the unsigned zon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dnssec-sign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nsigned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2624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xample.com. IN SOA ns0.example.com. ( hostmaster.example.c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2001062400  ; seri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10800  ; refr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3600  ; r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2592000  ; ex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86400  ; time to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xample.com. IN  TXT  "$Id: example.com,v 1.2 2001/06/24 22:53:39 jim Exp $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266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ample.com. IN NS ns0.example.c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ample.com. IN MX 10 jim.example.c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im.example.com. IN A 10.11.12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s0.example.com. IN A 10.9.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dnssec-sign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dnssec-signzone  example.com \ Kexample.com.+001+4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example.com.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(unsigned) zone file left i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zonename.signe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 signed zon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xample.com.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's not pretty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Signed Zon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26240" cy="52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File written on Wed Jun 27 21:08:20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dnssec_signzone version 9.2.0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ample.com.  86400 IN SOA ns0.example.com. ( hostmaster.example.c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001062400 ; s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0800      ; refresh (3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3600       ; retry (1 h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592000    ; expire (4 weeks 2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     ; minimum (1 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SIG SOA 1 2 86400 20010727200820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0010627200820 42000 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GsWdt8qpm58kXDqkM8DLLKxjT8qqgTny9nY8jBHEiU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TV+i53fsIpVJOnWalUxbkP260OAR0bTHve4voN9g==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NS ns0.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SIG NS 1 2 86400 20010727200820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0010627200820 42000 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yFlzAYSM/CPqDjpsHPNTqKlSwniotFqM6K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cloIBlFOR6Tx6nCiV2Qk4VawPrRIeOAG+u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ZaV6jwrHl+Aujg==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MX 10 jim.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SIG MX 1 2 86400 20010727200820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0010627200820 42000 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Ysn8kCaO42JuGKgvt7Api+Uj8wr09Dj3W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rll2GYXFq4yeneRlq+UmiXqEZjSJXiwipK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Mn7pr2qv0T9IQ==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257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ser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ks a root name serv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288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315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341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367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393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420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446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472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3409560" y="2817360"/>
            <a:ext cx="2452680" cy="3063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395520" y="4124160"/>
            <a:ext cx="2343240" cy="1057320"/>
            <a:chOff x="3395520" y="4124160"/>
            <a:chExt cx="2343240" cy="1057320"/>
          </a:xfrm>
        </p:grpSpPr>
        <p:sp>
          <p:nvSpPr>
            <p:cNvPr id="499" name=""/>
            <p:cNvSpPr/>
            <p:nvPr/>
          </p:nvSpPr>
          <p:spPr>
            <a:xfrm>
              <a:off x="3395520" y="4124160"/>
              <a:ext cx="2343240" cy="1057320"/>
            </a:xfrm>
            <a:custGeom>
              <a:avLst/>
              <a:gdLst/>
              <a:ahLst/>
              <a:rect l="l" t="t" r="r" b="b"/>
              <a:pathLst>
                <a:path w="1624" h="755">
                  <a:moveTo>
                    <a:pt x="1496" y="96"/>
                  </a:moveTo>
                  <a:lnTo>
                    <a:pt x="1507" y="98"/>
                  </a:lnTo>
                  <a:lnTo>
                    <a:pt x="1519" y="99"/>
                  </a:lnTo>
                  <a:lnTo>
                    <a:pt x="1530" y="102"/>
                  </a:lnTo>
                  <a:lnTo>
                    <a:pt x="1542" y="104"/>
                  </a:lnTo>
                  <a:lnTo>
                    <a:pt x="1552" y="108"/>
                  </a:lnTo>
                  <a:lnTo>
                    <a:pt x="1563" y="111"/>
                  </a:lnTo>
                  <a:lnTo>
                    <a:pt x="1572" y="116"/>
                  </a:lnTo>
                  <a:lnTo>
                    <a:pt x="1581" y="120"/>
                  </a:lnTo>
                  <a:lnTo>
                    <a:pt x="1588" y="126"/>
                  </a:lnTo>
                  <a:lnTo>
                    <a:pt x="1596" y="131"/>
                  </a:lnTo>
                  <a:lnTo>
                    <a:pt x="1602" y="137"/>
                  </a:lnTo>
                  <a:lnTo>
                    <a:pt x="1609" y="142"/>
                  </a:lnTo>
                  <a:lnTo>
                    <a:pt x="1613" y="149"/>
                  </a:lnTo>
                  <a:lnTo>
                    <a:pt x="1617" y="155"/>
                  </a:lnTo>
                  <a:lnTo>
                    <a:pt x="1620" y="161"/>
                  </a:lnTo>
                  <a:lnTo>
                    <a:pt x="1623" y="167"/>
                  </a:lnTo>
                  <a:lnTo>
                    <a:pt x="1623" y="682"/>
                  </a:lnTo>
                  <a:lnTo>
                    <a:pt x="1620" y="690"/>
                  </a:lnTo>
                  <a:lnTo>
                    <a:pt x="1617" y="696"/>
                  </a:lnTo>
                  <a:lnTo>
                    <a:pt x="1613" y="703"/>
                  </a:lnTo>
                  <a:lnTo>
                    <a:pt x="1609" y="709"/>
                  </a:lnTo>
                  <a:lnTo>
                    <a:pt x="1602" y="715"/>
                  </a:lnTo>
                  <a:lnTo>
                    <a:pt x="1596" y="721"/>
                  </a:lnTo>
                  <a:lnTo>
                    <a:pt x="1588" y="727"/>
                  </a:lnTo>
                  <a:lnTo>
                    <a:pt x="1581" y="730"/>
                  </a:lnTo>
                  <a:lnTo>
                    <a:pt x="1572" y="736"/>
                  </a:lnTo>
                  <a:lnTo>
                    <a:pt x="1563" y="740"/>
                  </a:lnTo>
                  <a:lnTo>
                    <a:pt x="1552" y="743"/>
                  </a:lnTo>
                  <a:lnTo>
                    <a:pt x="1542" y="746"/>
                  </a:lnTo>
                  <a:lnTo>
                    <a:pt x="1530" y="749"/>
                  </a:lnTo>
                  <a:lnTo>
                    <a:pt x="1519" y="752"/>
                  </a:lnTo>
                  <a:lnTo>
                    <a:pt x="1507" y="754"/>
                  </a:lnTo>
                  <a:lnTo>
                    <a:pt x="1496" y="754"/>
                  </a:lnTo>
                  <a:lnTo>
                    <a:pt x="127" y="754"/>
                  </a:lnTo>
                  <a:lnTo>
                    <a:pt x="114" y="754"/>
                  </a:lnTo>
                  <a:lnTo>
                    <a:pt x="103" y="752"/>
                  </a:lnTo>
                  <a:lnTo>
                    <a:pt x="91" y="749"/>
                  </a:lnTo>
                  <a:lnTo>
                    <a:pt x="80" y="746"/>
                  </a:lnTo>
                  <a:lnTo>
                    <a:pt x="69" y="743"/>
                  </a:lnTo>
                  <a:lnTo>
                    <a:pt x="59" y="740"/>
                  </a:lnTo>
                  <a:lnTo>
                    <a:pt x="49" y="736"/>
                  </a:lnTo>
                  <a:lnTo>
                    <a:pt x="41" y="730"/>
                  </a:lnTo>
                  <a:lnTo>
                    <a:pt x="32" y="727"/>
                  </a:lnTo>
                  <a:lnTo>
                    <a:pt x="25" y="721"/>
                  </a:lnTo>
                  <a:lnTo>
                    <a:pt x="18" y="715"/>
                  </a:lnTo>
                  <a:lnTo>
                    <a:pt x="13" y="709"/>
                  </a:lnTo>
                  <a:lnTo>
                    <a:pt x="7" y="703"/>
                  </a:lnTo>
                  <a:lnTo>
                    <a:pt x="4" y="696"/>
                  </a:lnTo>
                  <a:lnTo>
                    <a:pt x="1" y="690"/>
                  </a:lnTo>
                  <a:lnTo>
                    <a:pt x="0" y="682"/>
                  </a:lnTo>
                  <a:lnTo>
                    <a:pt x="0" y="167"/>
                  </a:lnTo>
                  <a:lnTo>
                    <a:pt x="1" y="161"/>
                  </a:lnTo>
                  <a:lnTo>
                    <a:pt x="4" y="155"/>
                  </a:lnTo>
                  <a:lnTo>
                    <a:pt x="7" y="149"/>
                  </a:lnTo>
                  <a:lnTo>
                    <a:pt x="13" y="142"/>
                  </a:lnTo>
                  <a:lnTo>
                    <a:pt x="18" y="137"/>
                  </a:lnTo>
                  <a:lnTo>
                    <a:pt x="25" y="131"/>
                  </a:lnTo>
                  <a:lnTo>
                    <a:pt x="32" y="126"/>
                  </a:lnTo>
                  <a:lnTo>
                    <a:pt x="41" y="120"/>
                  </a:lnTo>
                  <a:lnTo>
                    <a:pt x="49" y="116"/>
                  </a:lnTo>
                  <a:lnTo>
                    <a:pt x="59" y="111"/>
                  </a:lnTo>
                  <a:lnTo>
                    <a:pt x="69" y="108"/>
                  </a:lnTo>
                  <a:lnTo>
                    <a:pt x="80" y="104"/>
                  </a:lnTo>
                  <a:lnTo>
                    <a:pt x="91" y="102"/>
                  </a:lnTo>
                  <a:lnTo>
                    <a:pt x="103" y="99"/>
                  </a:lnTo>
                  <a:lnTo>
                    <a:pt x="114" y="98"/>
                  </a:lnTo>
                  <a:lnTo>
                    <a:pt x="127" y="96"/>
                  </a:lnTo>
                  <a:lnTo>
                    <a:pt x="246" y="96"/>
                  </a:lnTo>
                  <a:lnTo>
                    <a:pt x="131" y="0"/>
                  </a:lnTo>
                  <a:lnTo>
                    <a:pt x="407" y="96"/>
                  </a:lnTo>
                  <a:lnTo>
                    <a:pt x="1496" y="96"/>
                  </a:lnTo>
                  <a:lnTo>
                    <a:pt x="1496" y="96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40680" y="4334040"/>
              <a:ext cx="199836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TXT "$Id: example.com,v 1.2 2001/06/24 22:53:39 jim Exp $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SIG TXT 1 2 86400 20010727200820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0010627200820 42000 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Kqz7FiIL1FSnFBWyVuyqgLr2p/GjBQVlj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fqtKFCQWTSytMNVyn52buyydy80Fup5Zo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kNfEBzQvlDViQ==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KEY 256 3 1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QPOz/KyZAsaXxv8hbx+7lfgv4iP5twIQt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VnpBAMTbOykxKMJNrBdg41AufR4hItZIi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bd0R1emEXvPpB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; key id = 4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NXT jim.example.com. NS SOA MX TXT SIG KEY N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SIG NXT 1 2 86400 20010727200820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0010627200820 42000 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hBUcRSzoMCwzc1FVgOKrl+mSgv7f/Ri8/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1dtGz/+0KKXa0u4s+T1SygG8wHs3Y/IOPq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n5YSbMtAmSajQ==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262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im.example.com. 86400 IN A 10.11.12.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SIG A 1 3 86400 20010727200820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0010627200820 42000 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ZpD/YrrFQzeFJWENIe4U1Z2xpVmRxzBabY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e61bqrLsg2EuOv7CRdNwxWvEbZPN4Rf64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aGV97him2C10Q==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NXT ns0.example.com. A SIG N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SIG NXT 1 3 86400 20010727200820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0010627200820 42000 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ub7z+Gq4ZnJqRB1ucJfsgIsMv8Wepkzrv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+kn3NfTOGBC51tJgcyW8HMxQz/D9ig39KO8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l6Wc7upvReUMA==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262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s0.example.com. 86400 IN A 10.9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SIG A 1 3 86400 20010727200820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0010627200820 42000 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Ks14BB6UVciyfxgJ4R5eXFZrRUmnuPhTgfj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0r3FCyvdOr6Uu5iLSTbzgulY+qZXaXF9tC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+65y5VxUk3WtBQ==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NXT example.com. A SIG N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86400 SIG NXT 1 3 86400 20010727200820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20010627200820 42000 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1TRC7idXJw/MpLBLY/sXBlNAoLcSjKKR7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D91i7hhW9OF4R8Ql01QU+MYrjui9kOw2i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8BY63MCfbqlnw==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 on Signed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ordering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are any comments in the unsigned zon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gned zone files are not human-re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No user servicable parts insid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one file is approximately 4 times bigg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RR has a SIG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n NXT record which also has a SIG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ying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d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149400" y="1427040"/>
            <a:ext cx="85262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dig example.com s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&lt;&lt;&gt;&gt; DiG 9.2.0a2 &lt;&lt;&gt;&gt; example.com s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global options:  printc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Got 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-&gt;&gt;HEADER&lt;&lt;- opcode: QUERY, status: NOERROR, id: 581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flags: qr aa rd ra; QUERY: 1, ANSWER: 1, AUTHORITY: 1, ADDITIONAL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QUESTION S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example.com.  IN S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ANSWER S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ample.com. IN SOA ns0.example.com. hostmaster.example.com. 2001062400 10800 3600 2592000 86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AUTHORITY S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ample.com. IN NS ns0.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ADDITIONAL S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s0.example.com. IN A 10.9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Query time: 5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SERVER: 127.0.0.1#53(127.0.0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WHEN: Mon Jun 25 22:45:07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MSG SIZE  rcvd: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SSEC-aware que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dig example.com soa +dns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&lt;&lt;&gt;&gt; DiG 9.2.0a2 &lt;&lt;&gt;&gt; example.com soa +dns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global options:  printc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Got 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-&gt;&gt;HEADER&lt;&lt;- opcode: QUERY, status: NOERROR, id: 44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flags: qr aa rd ra; QUERY: 1, ANSWER: 2, AUTHORITY: 2, ADDITIONAL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OPT PSEUDOS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EDNS: version:    0, udp=   40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QUESTION S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example.com. IN S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2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ANSWER S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ample.com.  IN SOA ns0.example.com. hostmaster.example.com. 2001062400 10800 3600 2592000 86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ample.com. IN SIG SOA 1 2 86400 20010725213738 20010625213738 2499 example.com. eAZ54DURplbBQEy+tuTJWuldooHEKoDB+nbKW1LL7pN2yGAI9UdsrZURnuJSgVQehT7AWTyqV8ldAhxBKUFoyQ=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AUTHORITY S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ample.com. IN NS ns0.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ample.com. IN SIG NS 1 2 3600 20010725213738 20010625213738 2499 example.c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R28oF6X+6rswIV7X5OM9Va9XW9Kqf+hCaDzamcnMp4OT7KDpikwDdLy620Uia+VWglC0Tva5XcXVDL54VnwlQ=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ADDITIONAL S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s0.example.com. IN A 10.9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ample.com. IN KEY 256 3 1 AQPR/qMZ4euseKDELUcPQ9G8AoO8Qkv3M7jmFwUUXZDtWx6vZR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b0lrbVcwUMOzWu1c/lAkDb8Iv6ruhabGCc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ample.com. IN SIG KEY 3 2 3600 20010725053856 20010625053856 5945 com. CAylEF0FQFYZOkzCquLtg9wYxFLsIb+qwVYgf+KuXBEG9txRByxC4Ug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502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ot ser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response is called a “refer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533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560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586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612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638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665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691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717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6781680" y="3581280"/>
            <a:ext cx="2149560" cy="1055880"/>
            <a:chOff x="6781680" y="3581280"/>
            <a:chExt cx="2149560" cy="1055880"/>
          </a:xfrm>
        </p:grpSpPr>
        <p:sp>
          <p:nvSpPr>
            <p:cNvPr id="743" name=""/>
            <p:cNvSpPr/>
            <p:nvPr/>
          </p:nvSpPr>
          <p:spPr>
            <a:xfrm>
              <a:off x="6781680" y="3581280"/>
              <a:ext cx="2149560" cy="1055880"/>
            </a:xfrm>
            <a:custGeom>
              <a:avLst/>
              <a:gdLst/>
              <a:ahLst/>
              <a:rect l="l" t="t" r="r" b="b"/>
              <a:pathLst>
                <a:path w="1623" h="754">
                  <a:moveTo>
                    <a:pt x="1496" y="96"/>
                  </a:moveTo>
                  <a:lnTo>
                    <a:pt x="1507" y="97"/>
                  </a:lnTo>
                  <a:lnTo>
                    <a:pt x="1519" y="99"/>
                  </a:lnTo>
                  <a:lnTo>
                    <a:pt x="1530" y="102"/>
                  </a:lnTo>
                  <a:lnTo>
                    <a:pt x="1542" y="103"/>
                  </a:lnTo>
                  <a:lnTo>
                    <a:pt x="1552" y="107"/>
                  </a:lnTo>
                  <a:lnTo>
                    <a:pt x="1562" y="111"/>
                  </a:lnTo>
                  <a:lnTo>
                    <a:pt x="1571" y="115"/>
                  </a:lnTo>
                  <a:lnTo>
                    <a:pt x="1581" y="119"/>
                  </a:lnTo>
                  <a:lnTo>
                    <a:pt x="1588" y="125"/>
                  </a:lnTo>
                  <a:lnTo>
                    <a:pt x="1596" y="130"/>
                  </a:lnTo>
                  <a:lnTo>
                    <a:pt x="1602" y="136"/>
                  </a:lnTo>
                  <a:lnTo>
                    <a:pt x="1609" y="141"/>
                  </a:lnTo>
                  <a:lnTo>
                    <a:pt x="1613" y="148"/>
                  </a:lnTo>
                  <a:lnTo>
                    <a:pt x="1616" y="154"/>
                  </a:lnTo>
                  <a:lnTo>
                    <a:pt x="1619" y="161"/>
                  </a:lnTo>
                  <a:lnTo>
                    <a:pt x="1622" y="167"/>
                  </a:lnTo>
                  <a:lnTo>
                    <a:pt x="1622" y="682"/>
                  </a:lnTo>
                  <a:lnTo>
                    <a:pt x="1619" y="690"/>
                  </a:lnTo>
                  <a:lnTo>
                    <a:pt x="1616" y="696"/>
                  </a:lnTo>
                  <a:lnTo>
                    <a:pt x="1613" y="703"/>
                  </a:lnTo>
                  <a:lnTo>
                    <a:pt x="1609" y="709"/>
                  </a:lnTo>
                  <a:lnTo>
                    <a:pt x="1602" y="715"/>
                  </a:lnTo>
                  <a:lnTo>
                    <a:pt x="1596" y="721"/>
                  </a:lnTo>
                  <a:lnTo>
                    <a:pt x="1588" y="726"/>
                  </a:lnTo>
                  <a:lnTo>
                    <a:pt x="1581" y="730"/>
                  </a:lnTo>
                  <a:lnTo>
                    <a:pt x="1571" y="735"/>
                  </a:lnTo>
                  <a:lnTo>
                    <a:pt x="1562" y="739"/>
                  </a:lnTo>
                  <a:lnTo>
                    <a:pt x="1552" y="743"/>
                  </a:lnTo>
                  <a:lnTo>
                    <a:pt x="1542" y="746"/>
                  </a:lnTo>
                  <a:lnTo>
                    <a:pt x="1530" y="749"/>
                  </a:lnTo>
                  <a:lnTo>
                    <a:pt x="1519" y="751"/>
                  </a:lnTo>
                  <a:lnTo>
                    <a:pt x="1507" y="753"/>
                  </a:lnTo>
                  <a:lnTo>
                    <a:pt x="1496" y="753"/>
                  </a:lnTo>
                  <a:lnTo>
                    <a:pt x="126" y="753"/>
                  </a:lnTo>
                  <a:lnTo>
                    <a:pt x="114" y="753"/>
                  </a:lnTo>
                  <a:lnTo>
                    <a:pt x="102" y="751"/>
                  </a:lnTo>
                  <a:lnTo>
                    <a:pt x="90" y="749"/>
                  </a:lnTo>
                  <a:lnTo>
                    <a:pt x="80" y="746"/>
                  </a:lnTo>
                  <a:lnTo>
                    <a:pt x="68" y="743"/>
                  </a:lnTo>
                  <a:lnTo>
                    <a:pt x="59" y="739"/>
                  </a:lnTo>
                  <a:lnTo>
                    <a:pt x="48" y="735"/>
                  </a:lnTo>
                  <a:lnTo>
                    <a:pt x="41" y="730"/>
                  </a:lnTo>
                  <a:lnTo>
                    <a:pt x="32" y="726"/>
                  </a:lnTo>
                  <a:lnTo>
                    <a:pt x="24" y="721"/>
                  </a:lnTo>
                  <a:lnTo>
                    <a:pt x="18" y="715"/>
                  </a:lnTo>
                  <a:lnTo>
                    <a:pt x="12" y="709"/>
                  </a:lnTo>
                  <a:lnTo>
                    <a:pt x="7" y="703"/>
                  </a:lnTo>
                  <a:lnTo>
                    <a:pt x="4" y="696"/>
                  </a:lnTo>
                  <a:lnTo>
                    <a:pt x="1" y="690"/>
                  </a:lnTo>
                  <a:lnTo>
                    <a:pt x="0" y="682"/>
                  </a:lnTo>
                  <a:lnTo>
                    <a:pt x="0" y="167"/>
                  </a:lnTo>
                  <a:lnTo>
                    <a:pt x="1" y="161"/>
                  </a:lnTo>
                  <a:lnTo>
                    <a:pt x="4" y="154"/>
                  </a:lnTo>
                  <a:lnTo>
                    <a:pt x="7" y="148"/>
                  </a:lnTo>
                  <a:lnTo>
                    <a:pt x="12" y="141"/>
                  </a:lnTo>
                  <a:lnTo>
                    <a:pt x="18" y="136"/>
                  </a:lnTo>
                  <a:lnTo>
                    <a:pt x="24" y="130"/>
                  </a:lnTo>
                  <a:lnTo>
                    <a:pt x="32" y="125"/>
                  </a:lnTo>
                  <a:lnTo>
                    <a:pt x="41" y="119"/>
                  </a:lnTo>
                  <a:lnTo>
                    <a:pt x="48" y="115"/>
                  </a:lnTo>
                  <a:lnTo>
                    <a:pt x="59" y="111"/>
                  </a:lnTo>
                  <a:lnTo>
                    <a:pt x="68" y="107"/>
                  </a:lnTo>
                  <a:lnTo>
                    <a:pt x="80" y="103"/>
                  </a:lnTo>
                  <a:lnTo>
                    <a:pt x="90" y="102"/>
                  </a:lnTo>
                  <a:lnTo>
                    <a:pt x="102" y="99"/>
                  </a:lnTo>
                  <a:lnTo>
                    <a:pt x="114" y="97"/>
                  </a:lnTo>
                  <a:lnTo>
                    <a:pt x="126" y="96"/>
                  </a:lnTo>
                  <a:lnTo>
                    <a:pt x="245" y="96"/>
                  </a:lnTo>
                  <a:lnTo>
                    <a:pt x="131" y="0"/>
                  </a:lnTo>
                  <a:lnTo>
                    <a:pt x="407" y="96"/>
                  </a:lnTo>
                  <a:lnTo>
                    <a:pt x="1496" y="96"/>
                  </a:lnTo>
                  <a:lnTo>
                    <a:pt x="1496" y="96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06680" y="3791160"/>
              <a:ext cx="1834200" cy="7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a list of the com name servers.  Ask one of them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 flipV="1">
            <a:off x="3409920" y="2588760"/>
            <a:ext cx="2452680" cy="3063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s0.example.com. IN SIG A 1 3 3600 20010725213738 20010625213738 2499 example.com. TeRV2qIiXROf60KLnrwgDNaDdSYJgX4IySAjrRkeoDujXv91NU0rWnAC inLTmGVX+hrryUFwIz0BYrdhZyvIaQ=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Query time: 5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SERVER: 127.0.0.1#53(127.0.0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WHEN: Mon Jun 25 22:45:15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; MSG SIZE  rcvd: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SSEC-aware 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use of EDNS0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r DNS payloads/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DNS query only has 512 byte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s truncated responses and TCP re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SEC-aware answer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crypto stuff: SIGs,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eds standard 512-byt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vial example with small ke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Up Islands of T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ot and top-level zones are not signed (y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o verify another DNSSEC-aware z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trusted-key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ment in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named.con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another "trusted" zone's public key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e's public key sent by some out-of-band means to another DNSSEC-aware nam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business partner, supplier, 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usted-key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52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sted-keys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.net. 256 3 3 "AMNOZhb05QlfBNuX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V+wsXwqAn6yhaw71smL0qTU/pWRXqom7eYFVdNU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jGPWMBOXT6CRY089c1RezLhu9vj4PsF4GRrJHfw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/B/jyCu4x8RITdvj9eCrYIF0DWbN4TzUhOOFYSL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KwfcwRFigXDPLDwAcawdLaT7dpuqzNvHXZWsuSvx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xBX0uKOG1o4JHhBpCAUcARX/r9Z7DGCgrq2NuCq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yRdNFPt2fgqXZOix3DeGkAYFgySFbNzIrEFG8y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Six7XC8XJA1Ou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RSA key f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xample.n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ru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7000"/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anything signed with its private 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26240" cy="51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s must support D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A will become mandatory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atent issues any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A is faster than RSA at sig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longer to verify DSA signatures th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&gt;1 algorithm doesn't provide stronger authenticity or "security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 data will be insecure if either key is 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Zone Sign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modest hardware: 300 Mhz Pent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Resource Records: 7.6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,000 Resource Records: 7445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processors mean quicker sig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re’s Law is a big help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pto hardware makes it even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ne signing is inherently paralleli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processor systems,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 Verification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modest hard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ing 1 RRset, 1 SIG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A-512: 108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A-1024: 346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A-512: 2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A-1024: 110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linear speed-up with faster CPUs and/or special crypto hardware (RSA chi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ng a single SIG record can’t easily be done in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Key 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s should be no bigger than parent zone's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oint making them 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's key "strength" defines child's "strengt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arger key sizes for long-lived SI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crypt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key lengths make sense for short-lived sign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valid for less than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Crypto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't use one key for 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A to sign zon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A to sign child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8-bit keys for signing zon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4-bit keys for signing child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keys "often enough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e Dynamic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RFC3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well explained in BIND9 documentation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s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9 computes SIG and NXT records on the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update requests on signe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server needs to read the file containing the privat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ing private keys on-line is maybe not a good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747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ser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ko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k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 server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ww.nominum.com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778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805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831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857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883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910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936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962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322800" y="3422520"/>
            <a:ext cx="2744640" cy="90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3406680" y="2421000"/>
            <a:ext cx="2343240" cy="1055520"/>
            <a:chOff x="3406680" y="2421000"/>
            <a:chExt cx="2343240" cy="1055520"/>
          </a:xfrm>
        </p:grpSpPr>
        <p:sp>
          <p:nvSpPr>
            <p:cNvPr id="989" name=""/>
            <p:cNvSpPr/>
            <p:nvPr/>
          </p:nvSpPr>
          <p:spPr>
            <a:xfrm>
              <a:off x="3406680" y="2421000"/>
              <a:ext cx="2343240" cy="1055520"/>
            </a:xfrm>
            <a:custGeom>
              <a:avLst/>
              <a:gdLst/>
              <a:ahLst/>
              <a:rect l="l" t="t" r="r" b="b"/>
              <a:pathLst>
                <a:path w="1623" h="754">
                  <a:moveTo>
                    <a:pt x="1496" y="657"/>
                  </a:moveTo>
                  <a:lnTo>
                    <a:pt x="1507" y="657"/>
                  </a:lnTo>
                  <a:lnTo>
                    <a:pt x="1518" y="655"/>
                  </a:lnTo>
                  <a:lnTo>
                    <a:pt x="1530" y="654"/>
                  </a:lnTo>
                  <a:lnTo>
                    <a:pt x="1542" y="650"/>
                  </a:lnTo>
                  <a:lnTo>
                    <a:pt x="1551" y="648"/>
                  </a:lnTo>
                  <a:lnTo>
                    <a:pt x="1562" y="643"/>
                  </a:lnTo>
                  <a:lnTo>
                    <a:pt x="1571" y="640"/>
                  </a:lnTo>
                  <a:lnTo>
                    <a:pt x="1581" y="634"/>
                  </a:lnTo>
                  <a:lnTo>
                    <a:pt x="1588" y="630"/>
                  </a:lnTo>
                  <a:lnTo>
                    <a:pt x="1596" y="625"/>
                  </a:lnTo>
                  <a:lnTo>
                    <a:pt x="1602" y="619"/>
                  </a:lnTo>
                  <a:lnTo>
                    <a:pt x="1609" y="613"/>
                  </a:lnTo>
                  <a:lnTo>
                    <a:pt x="1612" y="607"/>
                  </a:lnTo>
                  <a:lnTo>
                    <a:pt x="1616" y="600"/>
                  </a:lnTo>
                  <a:lnTo>
                    <a:pt x="1619" y="594"/>
                  </a:lnTo>
                  <a:lnTo>
                    <a:pt x="1622" y="586"/>
                  </a:lnTo>
                  <a:lnTo>
                    <a:pt x="1622" y="71"/>
                  </a:lnTo>
                  <a:lnTo>
                    <a:pt x="1619" y="65"/>
                  </a:lnTo>
                  <a:lnTo>
                    <a:pt x="1616" y="59"/>
                  </a:lnTo>
                  <a:lnTo>
                    <a:pt x="1612" y="53"/>
                  </a:lnTo>
                  <a:lnTo>
                    <a:pt x="1609" y="45"/>
                  </a:lnTo>
                  <a:lnTo>
                    <a:pt x="1602" y="41"/>
                  </a:lnTo>
                  <a:lnTo>
                    <a:pt x="1596" y="35"/>
                  </a:lnTo>
                  <a:lnTo>
                    <a:pt x="1588" y="30"/>
                  </a:lnTo>
                  <a:lnTo>
                    <a:pt x="1581" y="23"/>
                  </a:lnTo>
                  <a:lnTo>
                    <a:pt x="1571" y="20"/>
                  </a:lnTo>
                  <a:lnTo>
                    <a:pt x="1562" y="15"/>
                  </a:lnTo>
                  <a:lnTo>
                    <a:pt x="1551" y="12"/>
                  </a:lnTo>
                  <a:lnTo>
                    <a:pt x="1542" y="8"/>
                  </a:lnTo>
                  <a:lnTo>
                    <a:pt x="1530" y="6"/>
                  </a:lnTo>
                  <a:lnTo>
                    <a:pt x="1518" y="3"/>
                  </a:lnTo>
                  <a:lnTo>
                    <a:pt x="1507" y="2"/>
                  </a:lnTo>
                  <a:lnTo>
                    <a:pt x="1496" y="0"/>
                  </a:lnTo>
                  <a:lnTo>
                    <a:pt x="126" y="0"/>
                  </a:lnTo>
                  <a:lnTo>
                    <a:pt x="114" y="2"/>
                  </a:lnTo>
                  <a:lnTo>
                    <a:pt x="102" y="3"/>
                  </a:lnTo>
                  <a:lnTo>
                    <a:pt x="90" y="6"/>
                  </a:lnTo>
                  <a:lnTo>
                    <a:pt x="79" y="8"/>
                  </a:lnTo>
                  <a:lnTo>
                    <a:pt x="68" y="12"/>
                  </a:lnTo>
                  <a:lnTo>
                    <a:pt x="58" y="15"/>
                  </a:lnTo>
                  <a:lnTo>
                    <a:pt x="48" y="20"/>
                  </a:lnTo>
                  <a:lnTo>
                    <a:pt x="41" y="23"/>
                  </a:lnTo>
                  <a:lnTo>
                    <a:pt x="32" y="30"/>
                  </a:lnTo>
                  <a:lnTo>
                    <a:pt x="24" y="35"/>
                  </a:lnTo>
                  <a:lnTo>
                    <a:pt x="17" y="41"/>
                  </a:lnTo>
                  <a:lnTo>
                    <a:pt x="12" y="45"/>
                  </a:lnTo>
                  <a:lnTo>
                    <a:pt x="7" y="53"/>
                  </a:lnTo>
                  <a:lnTo>
                    <a:pt x="3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586"/>
                  </a:lnTo>
                  <a:lnTo>
                    <a:pt x="1" y="594"/>
                  </a:lnTo>
                  <a:lnTo>
                    <a:pt x="3" y="600"/>
                  </a:lnTo>
                  <a:lnTo>
                    <a:pt x="7" y="607"/>
                  </a:lnTo>
                  <a:lnTo>
                    <a:pt x="12" y="613"/>
                  </a:lnTo>
                  <a:lnTo>
                    <a:pt x="17" y="619"/>
                  </a:lnTo>
                  <a:lnTo>
                    <a:pt x="24" y="625"/>
                  </a:lnTo>
                  <a:lnTo>
                    <a:pt x="32" y="630"/>
                  </a:lnTo>
                  <a:lnTo>
                    <a:pt x="41" y="634"/>
                  </a:lnTo>
                  <a:lnTo>
                    <a:pt x="48" y="640"/>
                  </a:lnTo>
                  <a:lnTo>
                    <a:pt x="58" y="643"/>
                  </a:lnTo>
                  <a:lnTo>
                    <a:pt x="68" y="648"/>
                  </a:lnTo>
                  <a:lnTo>
                    <a:pt x="79" y="650"/>
                  </a:lnTo>
                  <a:lnTo>
                    <a:pt x="90" y="654"/>
                  </a:lnTo>
                  <a:lnTo>
                    <a:pt x="102" y="655"/>
                  </a:lnTo>
                  <a:lnTo>
                    <a:pt x="114" y="657"/>
                  </a:lnTo>
                  <a:lnTo>
                    <a:pt x="126" y="657"/>
                  </a:lnTo>
                  <a:lnTo>
                    <a:pt x="245" y="657"/>
                  </a:lnTo>
                  <a:lnTo>
                    <a:pt x="130" y="753"/>
                  </a:lnTo>
                  <a:lnTo>
                    <a:pt x="407" y="657"/>
                  </a:lnTo>
                  <a:lnTo>
                    <a:pt x="1496" y="657"/>
                  </a:lnTo>
                  <a:lnTo>
                    <a:pt x="1496" y="657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652200" y="2522880"/>
              <a:ext cx="1999800" cy="7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992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1019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4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1045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0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1071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SSEC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r DNS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break 512-byte payload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EDNS0 to allow bigg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revent truncated responses =&gt; TCP re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ne files are bigger and unre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zones can't be altered 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ng means changes to admi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eck-out, modify, check, check-in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d/remove/chan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ent zone should sign child zone's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ies close coupling of parent and child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bad thing, bu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ny broken/lame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~25% in tightly controlled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?% i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s of DNS clue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top-level domains are signed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kward registry/registrar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igns what and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XT records allow the whole zone to be trave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rollover is hard (and recursiv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zone key is a wea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Roll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s should changed regula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cryptographic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parent's key changes, it has to re-sign the keys of its secure child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zones then need to be re-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 on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 record "valid from/to" timestamps 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keys and SIGs introduced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dual-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ot Zone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ity of root key is cr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ise cannot be allowed (or suspec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it and reboot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vious magnet for att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ive single point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key must change from time to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 crypt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es eventually re-signing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SSEC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2624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S as a PK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NS is ubiquitous and wor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NSSEC means answers can be vali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DNS for storing &amp; distributing IPsec, SSL &amp; SSH key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tching keys becomes a (Secure) DNS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GP &amp; GPG ke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509 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RT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SSEC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2624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registries are planning to sign their TLDs f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cts under way in Netherlands, Sweden &amp;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PE's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n-addr.arp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isign/NSI's plan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protocol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S (Delegation Signer) rec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ations to NXT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S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new record type: Delegation Si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the name of a meta-key that I’ve 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signs child zone’s meta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’s meta key signs child’s zone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an pick a new zone key without needing the parent to sig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s parent/child zon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through IETF standaris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-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semantics for the NXT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to nex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in a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y a del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win for 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.9% of names there may never be 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signed zones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thing needs to be 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standarisation just about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85800" y="2844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262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ction has cov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DNS (DNSS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records for DNS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problems in deploying DNS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uses of Secure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097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1124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1151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6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1177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1203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3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7000"/>
            <a:ext cx="776448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 ser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ko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minum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1233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1260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1286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6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1312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1338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1365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5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0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1391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6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1417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7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1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322800" y="3422520"/>
            <a:ext cx="2744640" cy="9018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6934320" y="2440080"/>
            <a:ext cx="1981080" cy="1522080"/>
            <a:chOff x="6934320" y="2440080"/>
            <a:chExt cx="1981080" cy="1522080"/>
          </a:xfrm>
        </p:grpSpPr>
        <p:sp>
          <p:nvSpPr>
            <p:cNvPr id="1444" name=""/>
            <p:cNvSpPr/>
            <p:nvPr/>
          </p:nvSpPr>
          <p:spPr>
            <a:xfrm>
              <a:off x="6934320" y="2440080"/>
              <a:ext cx="1981080" cy="1522080"/>
            </a:xfrm>
            <a:custGeom>
              <a:avLst/>
              <a:gdLst/>
              <a:ahLst/>
              <a:rect l="l" t="t" r="r" b="b"/>
              <a:pathLst>
                <a:path w="1623" h="754">
                  <a:moveTo>
                    <a:pt x="1496" y="657"/>
                  </a:moveTo>
                  <a:lnTo>
                    <a:pt x="1507" y="657"/>
                  </a:lnTo>
                  <a:lnTo>
                    <a:pt x="1518" y="655"/>
                  </a:lnTo>
                  <a:lnTo>
                    <a:pt x="1530" y="654"/>
                  </a:lnTo>
                  <a:lnTo>
                    <a:pt x="1542" y="650"/>
                  </a:lnTo>
                  <a:lnTo>
                    <a:pt x="1551" y="648"/>
                  </a:lnTo>
                  <a:lnTo>
                    <a:pt x="1562" y="643"/>
                  </a:lnTo>
                  <a:lnTo>
                    <a:pt x="1571" y="640"/>
                  </a:lnTo>
                  <a:lnTo>
                    <a:pt x="1581" y="634"/>
                  </a:lnTo>
                  <a:lnTo>
                    <a:pt x="1588" y="630"/>
                  </a:lnTo>
                  <a:lnTo>
                    <a:pt x="1596" y="625"/>
                  </a:lnTo>
                  <a:lnTo>
                    <a:pt x="1602" y="619"/>
                  </a:lnTo>
                  <a:lnTo>
                    <a:pt x="1609" y="613"/>
                  </a:lnTo>
                  <a:lnTo>
                    <a:pt x="1612" y="607"/>
                  </a:lnTo>
                  <a:lnTo>
                    <a:pt x="1616" y="600"/>
                  </a:lnTo>
                  <a:lnTo>
                    <a:pt x="1619" y="594"/>
                  </a:lnTo>
                  <a:lnTo>
                    <a:pt x="1622" y="586"/>
                  </a:lnTo>
                  <a:lnTo>
                    <a:pt x="1622" y="71"/>
                  </a:lnTo>
                  <a:lnTo>
                    <a:pt x="1619" y="65"/>
                  </a:lnTo>
                  <a:lnTo>
                    <a:pt x="1616" y="59"/>
                  </a:lnTo>
                  <a:lnTo>
                    <a:pt x="1612" y="53"/>
                  </a:lnTo>
                  <a:lnTo>
                    <a:pt x="1609" y="45"/>
                  </a:lnTo>
                  <a:lnTo>
                    <a:pt x="1602" y="41"/>
                  </a:lnTo>
                  <a:lnTo>
                    <a:pt x="1596" y="35"/>
                  </a:lnTo>
                  <a:lnTo>
                    <a:pt x="1588" y="30"/>
                  </a:lnTo>
                  <a:lnTo>
                    <a:pt x="1581" y="23"/>
                  </a:lnTo>
                  <a:lnTo>
                    <a:pt x="1571" y="20"/>
                  </a:lnTo>
                  <a:lnTo>
                    <a:pt x="1562" y="15"/>
                  </a:lnTo>
                  <a:lnTo>
                    <a:pt x="1551" y="12"/>
                  </a:lnTo>
                  <a:lnTo>
                    <a:pt x="1542" y="8"/>
                  </a:lnTo>
                  <a:lnTo>
                    <a:pt x="1530" y="6"/>
                  </a:lnTo>
                  <a:lnTo>
                    <a:pt x="1518" y="3"/>
                  </a:lnTo>
                  <a:lnTo>
                    <a:pt x="1507" y="2"/>
                  </a:lnTo>
                  <a:lnTo>
                    <a:pt x="1496" y="0"/>
                  </a:lnTo>
                  <a:lnTo>
                    <a:pt x="126" y="0"/>
                  </a:lnTo>
                  <a:lnTo>
                    <a:pt x="114" y="2"/>
                  </a:lnTo>
                  <a:lnTo>
                    <a:pt x="102" y="3"/>
                  </a:lnTo>
                  <a:lnTo>
                    <a:pt x="90" y="6"/>
                  </a:lnTo>
                  <a:lnTo>
                    <a:pt x="79" y="8"/>
                  </a:lnTo>
                  <a:lnTo>
                    <a:pt x="68" y="12"/>
                  </a:lnTo>
                  <a:lnTo>
                    <a:pt x="58" y="15"/>
                  </a:lnTo>
                  <a:lnTo>
                    <a:pt x="48" y="20"/>
                  </a:lnTo>
                  <a:lnTo>
                    <a:pt x="41" y="23"/>
                  </a:lnTo>
                  <a:lnTo>
                    <a:pt x="32" y="30"/>
                  </a:lnTo>
                  <a:lnTo>
                    <a:pt x="24" y="35"/>
                  </a:lnTo>
                  <a:lnTo>
                    <a:pt x="17" y="41"/>
                  </a:lnTo>
                  <a:lnTo>
                    <a:pt x="12" y="45"/>
                  </a:lnTo>
                  <a:lnTo>
                    <a:pt x="7" y="53"/>
                  </a:lnTo>
                  <a:lnTo>
                    <a:pt x="3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586"/>
                  </a:lnTo>
                  <a:lnTo>
                    <a:pt x="1" y="594"/>
                  </a:lnTo>
                  <a:lnTo>
                    <a:pt x="3" y="600"/>
                  </a:lnTo>
                  <a:lnTo>
                    <a:pt x="7" y="607"/>
                  </a:lnTo>
                  <a:lnTo>
                    <a:pt x="12" y="613"/>
                  </a:lnTo>
                  <a:lnTo>
                    <a:pt x="17" y="619"/>
                  </a:lnTo>
                  <a:lnTo>
                    <a:pt x="24" y="625"/>
                  </a:lnTo>
                  <a:lnTo>
                    <a:pt x="32" y="630"/>
                  </a:lnTo>
                  <a:lnTo>
                    <a:pt x="41" y="634"/>
                  </a:lnTo>
                  <a:lnTo>
                    <a:pt x="48" y="640"/>
                  </a:lnTo>
                  <a:lnTo>
                    <a:pt x="58" y="643"/>
                  </a:lnTo>
                  <a:lnTo>
                    <a:pt x="68" y="648"/>
                  </a:lnTo>
                  <a:lnTo>
                    <a:pt x="79" y="650"/>
                  </a:lnTo>
                  <a:lnTo>
                    <a:pt x="90" y="654"/>
                  </a:lnTo>
                  <a:lnTo>
                    <a:pt x="102" y="655"/>
                  </a:lnTo>
                  <a:lnTo>
                    <a:pt x="114" y="657"/>
                  </a:lnTo>
                  <a:lnTo>
                    <a:pt x="126" y="657"/>
                  </a:lnTo>
                  <a:lnTo>
                    <a:pt x="245" y="657"/>
                  </a:lnTo>
                  <a:lnTo>
                    <a:pt x="130" y="753"/>
                  </a:lnTo>
                  <a:lnTo>
                    <a:pt x="407" y="657"/>
                  </a:lnTo>
                  <a:lnTo>
                    <a:pt x="1496" y="657"/>
                  </a:lnTo>
                  <a:lnTo>
                    <a:pt x="1496" y="657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141680" y="2586960"/>
              <a:ext cx="1690560" cy="10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a list of the nominum.com name servers.  Ask one of them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23:04:55Z</dcterms:created>
  <dc:creator/>
  <dc:description/>
  <dc:language>en-US</dc:language>
  <cp:lastModifiedBy>comas</cp:lastModifiedBy>
  <cp:lastPrinted>2001-11-09T20:58:25Z</cp:lastPrinted>
  <dcterms:modified xsi:type="dcterms:W3CDTF">2002-05-09T14:22:34Z</dcterms:modified>
  <cp:revision>12</cp:revision>
  <dc:subject/>
  <dc:title>Advanced Topics in DNS Administration</dc:title>
</cp:coreProperties>
</file>