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715D-798A-4900-8215-CCC490804C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B73-BCF8-414F-83D7-7D89622CACD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2D5-F266-4540-8F21-E2078886348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from 19 bits of address space with 8192 /48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16 bits of address space with 65,000 /48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years fo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9A7-BF74-40F0-B87B-85D6522D88B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842-F974-44E5-90F6-6E17A750E49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085-642D-433C-B709-138F51D184C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7B9-1A27-4C88-A638-03064504203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44C7-7047-45B5-80DD-3080BE0CE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0D2A-65FF-44F1-A3C6-10E82797A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C773-FAA6-4157-9A7C-5CC8654A6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CA4-165C-433E-B224-2CBCC7183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1DA1-8341-4015-98DD-1C88E8B5CA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19A2-123C-491C-9DD6-A17B23B884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FAEB-3A8D-4AD8-8D21-B415990010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EC7A-F472-4129-AC0F-A9AD456B9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9BCD-EA31-468D-AC4A-F9F397F33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FF61-D5E4-43EC-A78C-2E088ED41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C94F-8E1B-48EE-A580-F2A08A1CC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7785-8B26-42FD-A1A6-24490CBFD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9A92-4FE2-4483-BAFD-C35B35123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A49F-7826-4FC1-B728-81A2F2A6EE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40FB-0690-4B34-81ED-17445223A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E4DD-F360-499D-81E1-82565799A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103A-2802-4712-9CF4-BCF10C1BC6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56F-196D-4799-AD4E-C22C3E59E7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403-F68A-4AAD-A013-39D0B6DC52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F68-F3CA-4C5D-B72D-C2BE5D313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421-B1BA-47DB-B8EA-1BEA1F5D5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56D-2568-4561-8D36-ACDDA73D5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B5B4-1FD1-44F5-BE0B-89DC4C53BD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481-4D44-4BD7-9061-9B422C7BFD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D83-5CF4-469D-BD0A-519799D110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3A5-D4EE-4BAA-AB9B-355D2BBF5E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8FD-5A25-4DA2-AD74-575858ECCD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1AF-34CF-4692-BC7E-535FBA1586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CB8-3037-4C89-B00B-006282C49A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451-952B-44A7-A603-EC1A29AC2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BF2F-9A83-43C4-86E7-2577D099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11D8-0767-4437-B99D-6D2BC3EB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085C-4BE0-4149-B15D-0B2E300D4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60FB-EBD2-4B6B-BDB8-15880240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3E09-172F-47CC-880B-3A0C45FC3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99D1-2CDA-49EB-AE90-A818AF7DC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523880" indent="-152280">
              <a:spcBef>
                <a:spcPts val="799"/>
              </a:spcBef>
              <a:buClr>
                <a:srgbClr val="f9f5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1968480" indent="-13968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1968480" indent="-13968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1968480" indent="-13968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572160"/>
            <a:ext cx="565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39E-DFA1-4580-BF44-24C46F09D8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0" y="6572160"/>
            <a:ext cx="565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0C10-5248-41DC-8D42-C3E4692B0C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143000"/>
            <a:ext cx="8077320" cy="548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8066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0" y="6572160"/>
            <a:ext cx="565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2559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7094-3E13-4AD0-A80E-1E39A1A3E222}" type="slidenum">
              <a:rPr b="0" lang="en-US" sz="1000" spc="-1" strike="noStrike">
                <a:solidFill>
                  <a:srgbClr val="32559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ipv6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ipe.net/ripe/docs/ipv6-sparse.html" TargetMode="External"/><Relationship Id="rId3" Type="http://schemas.openxmlformats.org/officeDocument/2006/relationships/hyperlink" Target="http://www.apnic.net/meetings" TargetMode="External"/><Relationship Id="rId4" Type="http://schemas.openxmlformats.org/officeDocument/2006/relationships/hyperlink" Target="http://www.apnic.net/lists" TargetMode="Externa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293B-B88A-4CDA-8BEF-51F56C00B3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9f5e1"/>
                </a:solidFill>
                <a:latin typeface="Arial"/>
                <a:ea typeface="굴림"/>
              </a:rPr>
              <a:t>Where is APNIC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81536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96CF-BE39-45C3-9A9E-053D7D9B90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8066160" cy="5486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APNIC Memb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360" y="494172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1999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147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0720" y="515772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1998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49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9800" y="544500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1997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86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9640" y="414972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2000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206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33800" y="314172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2001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97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86520" y="2781360"/>
            <a:ext cx="323280" cy="3049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2002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9f5e1"/>
                </a:solidFill>
                <a:latin typeface="Arial Unicode MS"/>
              </a:rPr>
              <a:t>68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28C-8F3F-40BD-A41D-77CE80E756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APNIC Memb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777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7AA-C501-4F39-8FFE-2B0D169272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-regional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83800" y="6583320"/>
            <a:ext cx="375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f5e1"/>
                </a:solidFill>
                <a:latin typeface="Times New Roman"/>
              </a:rPr>
              <a:t>Ref http://www.un.org/depts/dhl/maplib/worldregions.htm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8064720" cy="54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792-C5CF-4B40-8C06-F07CC7FFBD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Policy Stat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7EFA-4DB3-4313-BBC6-44883B09C2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06640" y="600120"/>
            <a:ext cx="7635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5e1"/>
                </a:solidFill>
                <a:latin typeface="Arial"/>
              </a:rPr>
              <a:t>IPv6 Policy Hi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1999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– Joint RIR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terim polic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6 allocations beg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 1999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– Policy Review Begi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001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– Joint RIR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olicy and technical boundar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nd site assignments [RFC 3177]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002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– Joint RIR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itial allocation size to ISP/LI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itial allocation criteri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E354-C3FC-4F38-84BE-C1D1E80FA1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Pv6 provides 2</a:t>
            </a:r>
            <a:r>
              <a:rPr b="0" lang="en-US" sz="2800" spc="-1" strike="noStrike" baseline="50000">
                <a:solidFill>
                  <a:srgbClr val="ffff00"/>
                </a:solidFill>
                <a:latin typeface="Arial"/>
              </a:rPr>
              <a:t>48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ite addresses?</a:t>
            </a: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281,474,976,710,65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= 281 thousand billion addres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ddress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1447920"/>
            <a:ext cx="7602480" cy="914400"/>
            <a:chOff x="1219320" y="1447920"/>
            <a:chExt cx="7602480" cy="914400"/>
          </a:xfrm>
        </p:grpSpPr>
        <p:sp>
          <p:nvSpPr>
            <p:cNvPr id="169" name=""/>
            <p:cNvSpPr/>
            <p:nvPr/>
          </p:nvSpPr>
          <p:spPr>
            <a:xfrm>
              <a:off x="1219320" y="1676520"/>
              <a:ext cx="3657600" cy="6858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opological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1676520"/>
              <a:ext cx="3657600" cy="6858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Interface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9320" y="1447920"/>
              <a:ext cx="236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9f5e1"/>
                  </a:solidFill>
                  <a:latin typeface="Arial"/>
                </a:rPr>
                <a:t>/0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1447920"/>
              <a:ext cx="1600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9f5e1"/>
                  </a:solidFill>
                  <a:latin typeface="Arial"/>
                </a:rPr>
                <a:t>/64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34520" y="1447920"/>
              <a:ext cx="2872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9f5e1"/>
                  </a:solidFill>
                  <a:latin typeface="Arial"/>
                </a:rPr>
                <a:t>/127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2362320"/>
            <a:ext cx="7696080" cy="2286000"/>
            <a:chOff x="1219320" y="2362320"/>
            <a:chExt cx="7696080" cy="2286000"/>
          </a:xfrm>
        </p:grpSpPr>
        <p:grpSp>
          <p:nvGrpSpPr>
            <p:cNvPr id="175" name=""/>
            <p:cNvGrpSpPr/>
            <p:nvPr/>
          </p:nvGrpSpPr>
          <p:grpSpPr>
            <a:xfrm>
              <a:off x="1219320" y="3657600"/>
              <a:ext cx="7696080" cy="990720"/>
              <a:chOff x="1219320" y="3657600"/>
              <a:chExt cx="7696080" cy="990720"/>
            </a:xfrm>
          </p:grpSpPr>
          <p:sp>
            <p:nvSpPr>
              <p:cNvPr id="176" name=""/>
              <p:cNvSpPr/>
              <p:nvPr/>
            </p:nvSpPr>
            <p:spPr>
              <a:xfrm>
                <a:off x="1219320" y="3657600"/>
                <a:ext cx="609480" cy="7239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19320" y="3657600"/>
                <a:ext cx="5638680" cy="7239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frastructure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58000" y="3657600"/>
                <a:ext cx="1676520" cy="7239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End Site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19320" y="4419720"/>
                <a:ext cx="380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f5e1"/>
                    </a:solidFill>
                    <a:latin typeface="Arial"/>
                  </a:rPr>
                  <a:t>/0</a:t>
                </a:r>
                <a:endParaRPr b="0" lang="en-US" sz="12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534520" y="4419720"/>
                <a:ext cx="380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f5e1"/>
                    </a:solidFill>
                    <a:latin typeface="Arial"/>
                  </a:rPr>
                  <a:t>/64</a:t>
                </a:r>
                <a:endParaRPr b="0" lang="en-US" sz="12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58000" y="4419720"/>
                <a:ext cx="7444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f5e1"/>
                    </a:solidFill>
                    <a:latin typeface="Arial"/>
                  </a:rPr>
                  <a:t>/48</a:t>
                </a:r>
                <a:endParaRPr b="0" lang="en-US" sz="12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19320" y="2362320"/>
              <a:ext cx="0" cy="1295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2362320"/>
              <a:ext cx="3657600" cy="1295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76920" y="1676520"/>
            <a:ext cx="36576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657600"/>
            <a:ext cx="167652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676520"/>
            <a:ext cx="36576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5D86-8D7F-471C-AC5E-3A2E2E7D713B}" type="slidenum">
              <a:t>1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05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5e1"/>
                </a:solidFill>
                <a:latin typeface="Arial"/>
              </a:rPr>
              <a:t>IPv6 Initial Allocation Criteria &amp;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2417400"/>
            <a:ext cx="3875040" cy="310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09480" y="1746360"/>
          <a:ext cx="7848720" cy="45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746360"/>
                    <a:ext cx="784872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8A07-350A-418C-827F-52F4DE7151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ssign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fault assignment /48 for all End Sit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viding /16 bits of space for subne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nd Site defined as an end user of an ISP where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ISP assigns address space to the end user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ISP provides Internet transit service to the end us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ISP advertises an aggregate prefix route that contains the end user's assignment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 POPs are also defined as End Sit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/48s will also be assigned for sub-assignment of /64 and /128 to mobile devices, sensors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EE47-CAE5-466F-8D95-216D8321C6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ssign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arger assignments: Multiple /48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ome end sites will need more than one /48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quests to be reviewed at RIR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maller assignments: /64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ingle subnet devices should receive /64 onl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.g. simple mobile phon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maller assignments: /12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vices with no subnets should receive /128 onl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.g. remote senso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e RFC3177 (Sep 2001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9D03-2499-44AA-BD0A-1E5EBC4384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Document 22-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TU-T Study Group 2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y 2003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Source: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SB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itle: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IPv6 Address Management – Past, Present and Future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(by Anne Lord, APNIC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CAB1-8D63-4568-821F-3E835C78C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Util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assignments to End Sites are used to determine utilisation of IPv6 address block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mediate allocation hierarchy not conside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 assignments must be registe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tilisation is determined from registr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termediate allocation and assignment practices are the responsibility of the LIR…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1A3A-D958-4C08-8658-2A4D85C505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743200" y="2286000"/>
            <a:ext cx="3753720" cy="3004200"/>
            <a:chOff x="2743200" y="2286000"/>
            <a:chExt cx="3753720" cy="3004200"/>
          </a:xfrm>
        </p:grpSpPr>
        <p:cxnSp>
          <p:nvCxnSpPr>
            <p:cNvPr id="198" name=""/>
            <p:cNvCxnSpPr/>
            <p:nvPr/>
          </p:nvCxnSpPr>
          <p:spPr>
            <a:xfrm>
              <a:off x="5020920" y="3971880"/>
              <a:ext cx="1005480" cy="687960"/>
            </a:xfrm>
            <a:prstGeom prst="straightConnector1">
              <a:avLst/>
            </a:prstGeom>
            <a:ln w="57240">
              <a:solidFill>
                <a:srgbClr val="ff9900"/>
              </a:solidFill>
              <a:miter/>
              <a:tailEnd len="lg" type="triangle" w="lg"/>
            </a:ln>
          </p:spPr>
        </p:cxnSp>
        <p:grpSp>
          <p:nvGrpSpPr>
            <p:cNvPr id="199" name=""/>
            <p:cNvGrpSpPr/>
            <p:nvPr/>
          </p:nvGrpSpPr>
          <p:grpSpPr>
            <a:xfrm>
              <a:off x="3809880" y="2286000"/>
              <a:ext cx="1736640" cy="609480"/>
              <a:chOff x="3809880" y="2286000"/>
              <a:chExt cx="1736640" cy="609480"/>
            </a:xfrm>
          </p:grpSpPr>
          <p:sp>
            <p:nvSpPr>
              <p:cNvPr id="200" name=""/>
              <p:cNvSpPr/>
              <p:nvPr/>
            </p:nvSpPr>
            <p:spPr>
              <a:xfrm>
                <a:off x="3809880" y="2286000"/>
                <a:ext cx="1736640" cy="609480"/>
              </a:xfrm>
              <a:prstGeom prst="ellipse">
                <a:avLst/>
              </a:prstGeom>
              <a:solidFill>
                <a:srgbClr val="f9f5e1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20120" y="2362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IR/NIR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076640" y="3581280"/>
              <a:ext cx="1187280" cy="457200"/>
              <a:chOff x="4076640" y="3581280"/>
              <a:chExt cx="118728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4076640" y="3581280"/>
                <a:ext cx="1187280" cy="457200"/>
              </a:xfrm>
              <a:prstGeom prst="ellipse">
                <a:avLst/>
              </a:prstGeom>
              <a:solidFill>
                <a:srgbClr val="f9f5e1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23800" y="362880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R/NIR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607000" y="4648320"/>
              <a:ext cx="838080" cy="368280"/>
              <a:chOff x="5607000" y="4648320"/>
              <a:chExt cx="838080" cy="36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5607000" y="4678200"/>
                <a:ext cx="838080" cy="304200"/>
              </a:xfrm>
              <a:prstGeom prst="ellipse">
                <a:avLst/>
              </a:prstGeom>
              <a:solidFill>
                <a:srgbClr val="f9f5e1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1000" y="46483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SP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cxnSp>
          <p:nvCxnSpPr>
            <p:cNvPr id="208" name=""/>
            <p:cNvCxnSpPr/>
            <p:nvPr/>
          </p:nvCxnSpPr>
          <p:spPr>
            <a:xfrm>
              <a:off x="4669920" y="2895120"/>
              <a:ext cx="1080" cy="686520"/>
            </a:xfrm>
            <a:prstGeom prst="straightConnector1">
              <a:avLst/>
            </a:prstGeom>
            <a:ln w="57240">
              <a:solidFill>
                <a:srgbClr val="ff9900"/>
              </a:solidFill>
              <a:miter/>
              <a:tailEnd len="lg" type="triangle" w="lg"/>
            </a:ln>
          </p:spPr>
        </p:cxnSp>
        <p:sp>
          <p:nvSpPr>
            <p:cNvPr id="209" name=""/>
            <p:cNvSpPr/>
            <p:nvPr/>
          </p:nvSpPr>
          <p:spPr>
            <a:xfrm>
              <a:off x="2743200" y="46483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21000" y="46483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3" idx="3"/>
              <a:endCxn id="209" idx="7"/>
            </p:cNvCxnSpPr>
            <p:nvPr/>
          </p:nvCxnSpPr>
          <p:spPr>
            <a:xfrm flipH="1">
              <a:off x="3003120" y="3971520"/>
              <a:ext cx="1248480" cy="702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3" idx="3"/>
              <a:endCxn id="210" idx="0"/>
            </p:cNvCxnSpPr>
            <p:nvPr/>
          </p:nvCxnSpPr>
          <p:spPr>
            <a:xfrm flipH="1">
              <a:off x="3472560" y="3971880"/>
              <a:ext cx="778680" cy="6580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3900600" y="4648320"/>
              <a:ext cx="30456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3" idx="4"/>
              <a:endCxn id="213" idx="0"/>
            </p:cNvCxnSpPr>
            <p:nvPr/>
          </p:nvCxnSpPr>
          <p:spPr>
            <a:xfrm flipH="1">
              <a:off x="4052160" y="4038120"/>
              <a:ext cx="618120" cy="591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sp>
          <p:nvSpPr>
            <p:cNvPr id="215" name=""/>
            <p:cNvSpPr/>
            <p:nvPr/>
          </p:nvSpPr>
          <p:spPr>
            <a:xfrm>
              <a:off x="4479840" y="46483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203" idx="4"/>
              <a:endCxn id="215" idx="0"/>
            </p:cNvCxnSpPr>
            <p:nvPr/>
          </p:nvCxnSpPr>
          <p:spPr>
            <a:xfrm flipH="1">
              <a:off x="4631760" y="4038120"/>
              <a:ext cx="38520" cy="591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sp>
          <p:nvSpPr>
            <p:cNvPr id="217" name=""/>
            <p:cNvSpPr/>
            <p:nvPr/>
          </p:nvSpPr>
          <p:spPr>
            <a:xfrm>
              <a:off x="3051720" y="495288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ssignment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4200" y="2971800"/>
              <a:ext cx="115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llocation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7720" y="3886200"/>
              <a:ext cx="115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llocation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gist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IR is responsible for all registr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389480" y="4957560"/>
            <a:ext cx="3276720" cy="1247040"/>
            <a:chOff x="4389480" y="4957560"/>
            <a:chExt cx="3276720" cy="1247040"/>
          </a:xfrm>
        </p:grpSpPr>
        <p:sp>
          <p:nvSpPr>
            <p:cNvPr id="223" name=""/>
            <p:cNvSpPr/>
            <p:nvPr/>
          </p:nvSpPr>
          <p:spPr>
            <a:xfrm>
              <a:off x="438948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8312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7676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584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6128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3800" y="586728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ssignment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06" idx="3"/>
              <a:endCxn id="223" idx="7"/>
            </p:cNvCxnSpPr>
            <p:nvPr/>
          </p:nvCxnSpPr>
          <p:spPr>
            <a:xfrm flipH="1">
              <a:off x="4649040" y="4957920"/>
              <a:ext cx="1080360" cy="6307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cxnSp>
          <p:nvCxnSpPr>
            <p:cNvPr id="230" name=""/>
            <p:cNvCxnSpPr>
              <a:stCxn id="206" idx="3"/>
              <a:endCxn id="224" idx="0"/>
            </p:cNvCxnSpPr>
            <p:nvPr/>
          </p:nvCxnSpPr>
          <p:spPr>
            <a:xfrm flipH="1">
              <a:off x="5135040" y="4957560"/>
              <a:ext cx="594720" cy="586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cxnSp>
          <p:nvCxnSpPr>
            <p:cNvPr id="231" name=""/>
            <p:cNvCxnSpPr>
              <a:stCxn id="206" idx="4"/>
              <a:endCxn id="225" idx="0"/>
            </p:cNvCxnSpPr>
            <p:nvPr/>
          </p:nvCxnSpPr>
          <p:spPr>
            <a:xfrm flipH="1">
              <a:off x="5729040" y="5002200"/>
              <a:ext cx="297360" cy="5421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cxnSp>
          <p:nvCxnSpPr>
            <p:cNvPr id="232" name=""/>
            <p:cNvCxnSpPr>
              <a:stCxn id="206" idx="5"/>
              <a:endCxn id="226" idx="0"/>
            </p:cNvCxnSpPr>
            <p:nvPr/>
          </p:nvCxnSpPr>
          <p:spPr>
            <a:xfrm>
              <a:off x="6323040" y="4957560"/>
              <a:ext cx="596160" cy="586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cxnSp>
          <p:nvCxnSpPr>
            <p:cNvPr id="233" name=""/>
            <p:cNvCxnSpPr>
              <a:stCxn id="206" idx="5"/>
              <a:endCxn id="227" idx="1"/>
            </p:cNvCxnSpPr>
            <p:nvPr/>
          </p:nvCxnSpPr>
          <p:spPr>
            <a:xfrm>
              <a:off x="6322680" y="4957920"/>
              <a:ext cx="1083240" cy="6307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  <p:sp>
          <p:nvSpPr>
            <p:cNvPr id="234" name=""/>
            <p:cNvSpPr/>
            <p:nvPr/>
          </p:nvSpPr>
          <p:spPr>
            <a:xfrm>
              <a:off x="6172200" y="5562720"/>
              <a:ext cx="304920" cy="304560"/>
            </a:xfrm>
            <a:prstGeom prst="ellipse">
              <a:avLst/>
            </a:prstGeom>
            <a:solidFill>
              <a:srgbClr val="f9f5e1"/>
            </a:solidFill>
            <a:ln w="381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35" name=""/>
            <p:cNvCxnSpPr>
              <a:stCxn id="206" idx="4"/>
              <a:endCxn id="234" idx="0"/>
            </p:cNvCxnSpPr>
            <p:nvPr/>
          </p:nvCxnSpPr>
          <p:spPr>
            <a:xfrm>
              <a:off x="6025680" y="5002200"/>
              <a:ext cx="299160" cy="5421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</p:cxnSp>
      </p:grpSp>
      <p:grpSp>
        <p:nvGrpSpPr>
          <p:cNvPr id="236" name=""/>
          <p:cNvGrpSpPr/>
          <p:nvPr/>
        </p:nvGrpSpPr>
        <p:grpSpPr>
          <a:xfrm>
            <a:off x="1065960" y="2286000"/>
            <a:ext cx="6585840" cy="3581280"/>
            <a:chOff x="1065960" y="2286000"/>
            <a:chExt cx="6585840" cy="3581280"/>
          </a:xfrm>
        </p:grpSpPr>
        <p:grpSp>
          <p:nvGrpSpPr>
            <p:cNvPr id="237" name=""/>
            <p:cNvGrpSpPr/>
            <p:nvPr/>
          </p:nvGrpSpPr>
          <p:grpSpPr>
            <a:xfrm>
              <a:off x="2743200" y="4648320"/>
              <a:ext cx="4908600" cy="1218960"/>
              <a:chOff x="2743200" y="4648320"/>
              <a:chExt cx="4908600" cy="1218960"/>
            </a:xfrm>
          </p:grpSpPr>
          <p:sp>
            <p:nvSpPr>
              <p:cNvPr id="238" name=""/>
              <p:cNvSpPr/>
              <p:nvPr/>
            </p:nvSpPr>
            <p:spPr>
              <a:xfrm>
                <a:off x="4375080" y="55627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68720" y="55627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720" y="5562720"/>
                <a:ext cx="30456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51800" y="5562720"/>
                <a:ext cx="30456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46880" y="55627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57800" y="55627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46483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21000" y="46483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00600" y="4648320"/>
                <a:ext cx="30456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79840" y="4648320"/>
                <a:ext cx="304920" cy="304560"/>
              </a:xfrm>
              <a:prstGeom prst="ellipse">
                <a:avLst/>
              </a:prstGeom>
              <a:solidFill>
                <a:srgbClr val="19fa08"/>
              </a:solidFill>
              <a:ln w="381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cxnSp>
          <p:nvCxnSpPr>
            <p:cNvPr id="248" name=""/>
            <p:cNvCxnSpPr>
              <a:stCxn id="244" idx="2"/>
              <a:endCxn id="200" idx="2"/>
            </p:cNvCxnSpPr>
            <p:nvPr/>
          </p:nvCxnSpPr>
          <p:spPr>
            <a:xfrm flipH="1" rot="10800000">
              <a:off x="2723760" y="2590200"/>
              <a:ext cx="1086480" cy="2210400"/>
            </a:xfrm>
            <a:prstGeom prst="curvedConnector5">
              <a:avLst>
                <a:gd name="adj1" fmla="val -90487"/>
                <a:gd name="adj2" fmla="val 49991"/>
                <a:gd name="adj3" fmla="val -90487"/>
              </a:avLst>
            </a:prstGeom>
            <a:ln w="57240">
              <a:solidFill>
                <a:srgbClr val="19fa08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38" idx="2"/>
              <a:endCxn id="200" idx="2"/>
            </p:cNvCxnSpPr>
            <p:nvPr/>
          </p:nvCxnSpPr>
          <p:spPr>
            <a:xfrm rot="10800000">
              <a:off x="3809160" y="2590200"/>
              <a:ext cx="546480" cy="3124800"/>
            </a:xfrm>
            <a:prstGeom prst="curvedConnector5">
              <a:avLst>
                <a:gd name="adj1" fmla="val 602373"/>
                <a:gd name="adj2" fmla="val 49994"/>
                <a:gd name="adj3" fmla="val 602373"/>
              </a:avLst>
            </a:prstGeom>
            <a:ln w="57240">
              <a:solidFill>
                <a:srgbClr val="19fa08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1756440" y="228600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fa08"/>
                  </a:solidFill>
                  <a:latin typeface="Arial"/>
                </a:rPr>
                <a:t>Registration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BEF9-A549-4121-894A-E7D1EC080689}" type="slidenum">
              <a:t>21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Utilisation Requir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bsequent allocation may be requested when IPv6 utilisation requirement is me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tilisation of IPv6 address space is measured differently from IPv4 using the “Host Density-Ratio” (rfc3194)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D36C-3D82-4039-9612-0A28C32F2D6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Utilisation Requir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 Unicode MS"/>
              </a:rPr>
              <a:t>Under IPv4, address space utilisation measured as simple percentage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 Unicode MS"/>
              </a:rPr>
              <a:t>IPv4 utilisation requirement is 80%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When 80% of address space has been assigned or sub-allocated, LIR may receive mo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E.g. ISP has assigned 55,000 addresses from /1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819520" y="2362320"/>
                <a:ext cx="3908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tilis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sign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vailabl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43200" y="5334120"/>
                <a:ext cx="41148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sign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vailabl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FB2B-40E8-47D8-B071-016EC163490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o Measure Utilisation in IPv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resses utilised will be far fewer than addresses avail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ercentage utilised must reduce as address space grow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ecause of hierarchical addressing architectu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D-Ratio defines utilisation in hierarchical address space, m</a:t>
            </a:r>
            <a:r>
              <a:rPr b="0" lang="en-US" sz="2800" spc="-1" strike="noStrike">
                <a:solidFill>
                  <a:srgbClr val="f9f5e1"/>
                </a:solidFill>
                <a:latin typeface="Arial Unicode MS"/>
              </a:rPr>
              <a:t>easured according to end-site assignme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Value of 0.8 regarded as reason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s corresponds to comfortable trade-offs between pain and efficiency” (RFC3194, 2001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429000" y="4460760"/>
                <a:ext cx="2127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tilis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B1ED-BFBE-4A11-B803-E9487187A4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7924680" cy="48006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Utilisation (HD = 0.8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5760" y="6172200"/>
            <a:ext cx="77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FC3194 “The Host-Density Ratio for Address Assignment Efficiency”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616200" y="3548160"/>
            <a:ext cx="1067040" cy="1980720"/>
            <a:chOff x="3616200" y="3548160"/>
            <a:chExt cx="1067040" cy="1980720"/>
          </a:xfrm>
        </p:grpSpPr>
        <p:sp>
          <p:nvSpPr>
            <p:cNvPr id="264" name=""/>
            <p:cNvSpPr/>
            <p:nvPr/>
          </p:nvSpPr>
          <p:spPr>
            <a:xfrm>
              <a:off x="3616200" y="35481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/32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21120" y="3929040"/>
              <a:ext cx="0" cy="1599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21120" y="47671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10.9%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943600" y="3929040"/>
            <a:ext cx="1143000" cy="1600200"/>
            <a:chOff x="5943600" y="3929040"/>
            <a:chExt cx="1143000" cy="1600200"/>
          </a:xfrm>
        </p:grpSpPr>
        <p:sp>
          <p:nvSpPr>
            <p:cNvPr id="268" name=""/>
            <p:cNvSpPr/>
            <p:nvPr/>
          </p:nvSpPr>
          <p:spPr>
            <a:xfrm>
              <a:off x="6248520" y="4309920"/>
              <a:ext cx="0" cy="1219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51480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1.18%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43600" y="39290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/16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738920" y="4386240"/>
            <a:ext cx="1143000" cy="1143000"/>
            <a:chOff x="7738920" y="4386240"/>
            <a:chExt cx="1143000" cy="1143000"/>
          </a:xfrm>
        </p:grpSpPr>
        <p:sp>
          <p:nvSpPr>
            <p:cNvPr id="272" name=""/>
            <p:cNvSpPr/>
            <p:nvPr/>
          </p:nvSpPr>
          <p:spPr>
            <a:xfrm>
              <a:off x="7738920" y="51480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13%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77360" y="4767120"/>
              <a:ext cx="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72440" y="43862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/0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352680" y="1954080"/>
                <a:ext cx="2273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tilis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1AB-8BEB-4205-BF41-7641B0EFFC94}" type="slidenum">
              <a:t>25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equen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bsequent allocation can be made when ISP’s existing address space reaches utilisation of HD = 0.80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address management policies should also be me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16400" indent="-2638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rrect registr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6400" indent="-2638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rrect assignment practices et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bsequent allocation size is at least doub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16400" indent="-2638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sulting IPv6 Prefix is at least 1 bit short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6400" indent="-2638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r sufficient for at least 2 years requirem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2B91-FA63-4FAC-A091-0715EC412F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Condi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icense model of allo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ocations are not considered permanent, but always subject to review and reclam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icenses renewed automatically while addresses in use, consistent with polic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isting /35 allocation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number of /35s have been assigned under provisional IPv6 poli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lders of /35s are eligible to request /32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C26A-1A9C-4B2B-87D3-E2B78855F1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Policy -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ew policy now active global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olicy is subject to review </a:t>
            </a: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alway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olicies evolve as experience is gain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y member of the community may propose changes, alternativ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view is starting now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itial allocation criteria under review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ze of initial allocation may be review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ublic mailing lists and 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ipv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64A2-AB05-4B85-B2D2-0F8C56A0AF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Pv6 Resource Managemen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IR Proposa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3470-B92A-408D-BD5E-EB0BA4EA89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ddress Managem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t, Present and Fu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TU SG2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30 April 2003</a:t>
            </a:r>
            <a:br>
              <a:rPr sz="3200"/>
            </a:b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Geneva, Switzerla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nne Lord, APNI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F156-7536-47FB-B2A9-40B817316D9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ground and Motiv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ANA-RIR allocation syst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nchanged in 10+ yea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jor IPv4 address space fragment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ny ISPs have many separate prefix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6 should not go the same wa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oposal for new system for IPv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signed to minimise fragment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ost ISPs will have 1 prefix for many yea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cument developmen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cument jointly authored by R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ublished as </a:t>
            </a: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ripe-261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B5A5-7EE7-4DE3-A794-94CE30CCD2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Allocation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ANA allocates to RI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R maintains a pool of addres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ttempts to maximise aggregation within poo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hort-term reserv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parse allo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IRs allocate to LIRs/ISP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en pool runs low, RIR receives more from IAN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bsequent allocations to existing ISPs cannot be aggregat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2165-C554-473E-B92F-F57308830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Allocation System (IPv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66880" y="3200400"/>
            <a:ext cx="1067040" cy="2666880"/>
            <a:chOff x="2666880" y="3200400"/>
            <a:chExt cx="1067040" cy="2666880"/>
          </a:xfrm>
        </p:grpSpPr>
        <p:sp>
          <p:nvSpPr>
            <p:cNvPr id="290" name=""/>
            <p:cNvSpPr/>
            <p:nvPr/>
          </p:nvSpPr>
          <p:spPr>
            <a:xfrm>
              <a:off x="2666880" y="5486400"/>
              <a:ext cx="1067040" cy="380880"/>
            </a:xfrm>
            <a:prstGeom prst="ellipse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5592"/>
                  </a:solidFill>
                  <a:latin typeface="Arial Unicode MS"/>
                </a:rPr>
                <a:t>LIR/ISP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92" idx="4"/>
              <a:endCxn id="290" idx="0"/>
            </p:cNvCxnSpPr>
            <p:nvPr/>
          </p:nvCxnSpPr>
          <p:spPr>
            <a:xfrm>
              <a:off x="3200040" y="3200400"/>
              <a:ext cx="1080" cy="2286720"/>
            </a:xfrm>
            <a:prstGeom prst="straightConnector1">
              <a:avLst/>
            </a:prstGeom>
            <a:ln w="38160">
              <a:solidFill>
                <a:srgbClr val="f9d93b"/>
              </a:solidFill>
              <a:miter/>
              <a:tailEnd len="sm" type="triangle" w="sm"/>
            </a:ln>
          </p:spPr>
        </p:cxnSp>
      </p:grpSp>
      <p:sp>
        <p:nvSpPr>
          <p:cNvPr id="293" name=""/>
          <p:cNvSpPr/>
          <p:nvPr/>
        </p:nvSpPr>
        <p:spPr>
          <a:xfrm>
            <a:off x="4323240" y="28195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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2/8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94840" y="28195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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3/8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7920" y="48769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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2.100/1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920" y="51814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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2.101/1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44840" y="55357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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3.50/1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523880"/>
            <a:ext cx="1676160" cy="1676520"/>
            <a:chOff x="2362320" y="1523880"/>
            <a:chExt cx="1676160" cy="1676520"/>
          </a:xfrm>
        </p:grpSpPr>
        <p:sp>
          <p:nvSpPr>
            <p:cNvPr id="299" name=""/>
            <p:cNvSpPr/>
            <p:nvPr/>
          </p:nvSpPr>
          <p:spPr>
            <a:xfrm>
              <a:off x="2362320" y="1523880"/>
              <a:ext cx="1676160" cy="502920"/>
            </a:xfrm>
            <a:prstGeom prst="ellipse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25592"/>
                  </a:solidFill>
                  <a:latin typeface="Arial Unicode MS"/>
                </a:rPr>
                <a:t>IANA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4600" y="2809440"/>
              <a:ext cx="1371600" cy="390960"/>
            </a:xfrm>
            <a:prstGeom prst="ellipse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5592"/>
                  </a:solidFill>
                  <a:latin typeface="Arial Unicode MS"/>
                </a:rPr>
                <a:t>RIR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9" idx="4"/>
              <a:endCxn id="292" idx="0"/>
            </p:cNvCxnSpPr>
            <p:nvPr/>
          </p:nvCxnSpPr>
          <p:spPr>
            <a:xfrm>
              <a:off x="3200040" y="2026440"/>
              <a:ext cx="1080" cy="783000"/>
            </a:xfrm>
            <a:prstGeom prst="straightConnector1">
              <a:avLst/>
            </a:prstGeom>
            <a:ln w="38160">
              <a:solidFill>
                <a:srgbClr val="f9d93b"/>
              </a:solidFill>
              <a:miter/>
              <a:tailEnd len="sm" type="triangle" w="sm"/>
            </a:ln>
          </p:spPr>
        </p:cxnSp>
      </p:grpSp>
      <p:sp>
        <p:nvSpPr>
          <p:cNvPr id="301" name=""/>
          <p:cNvSpPr/>
          <p:nvPr/>
        </p:nvSpPr>
        <p:spPr>
          <a:xfrm>
            <a:off x="4502880" y="5535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212.100/15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8280" y="6140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ISP has 2 prefixes after 3 requests!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3AEF-BEAF-4578-9330-E1BFAA49AF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Allocation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4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ANA to RIR allocation unit: /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R to LIR/ISP: /20… /10…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ny ISPs have multiple prefix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ANA to RIR allocation unit: /23 (64 x /29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R to LIR/ISP: /32 minimu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Pv6 swamp is being created alread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ximum reservation per ISP is /29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A09C-571F-4B8B-81E5-D1E72A01B0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rse Allocation” syst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ximise “distance” between separate portable allo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ximise chance of aggregation of subsequent allo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mplemented as list of address prefixes to be allocated in or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 example…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5029200"/>
            <a:ext cx="68580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373040" y="5029200"/>
            <a:ext cx="1751040" cy="870840"/>
            <a:chOff x="1373040" y="5029200"/>
            <a:chExt cx="1751040" cy="870840"/>
          </a:xfrm>
        </p:grpSpPr>
        <p:sp>
          <p:nvSpPr>
            <p:cNvPr id="309" name=""/>
            <p:cNvSpPr/>
            <p:nvPr/>
          </p:nvSpPr>
          <p:spPr>
            <a:xfrm>
              <a:off x="1447920" y="5029200"/>
              <a:ext cx="167616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SP A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73040" y="55627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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802040" y="5029200"/>
            <a:ext cx="1217520" cy="870840"/>
            <a:chOff x="4802040" y="5029200"/>
            <a:chExt cx="1217520" cy="870840"/>
          </a:xfrm>
        </p:grpSpPr>
        <p:sp>
          <p:nvSpPr>
            <p:cNvPr id="312" name=""/>
            <p:cNvSpPr/>
            <p:nvPr/>
          </p:nvSpPr>
          <p:spPr>
            <a:xfrm>
              <a:off x="4853520" y="5029200"/>
              <a:ext cx="116604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SP B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2040" y="55627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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5029200"/>
            <a:ext cx="838440" cy="870840"/>
            <a:chOff x="3124080" y="5029200"/>
            <a:chExt cx="838440" cy="870840"/>
          </a:xfrm>
        </p:grpSpPr>
        <p:sp>
          <p:nvSpPr>
            <p:cNvPr id="315" name=""/>
            <p:cNvSpPr/>
            <p:nvPr/>
          </p:nvSpPr>
          <p:spPr>
            <a:xfrm>
              <a:off x="3160440" y="5029200"/>
              <a:ext cx="80208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SP C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5562720"/>
              <a:ext cx="25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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554520" y="5029200"/>
            <a:ext cx="684000" cy="870840"/>
            <a:chOff x="6554520" y="5029200"/>
            <a:chExt cx="684000" cy="870840"/>
          </a:xfrm>
        </p:grpSpPr>
        <p:sp>
          <p:nvSpPr>
            <p:cNvPr id="318" name=""/>
            <p:cNvSpPr/>
            <p:nvPr/>
          </p:nvSpPr>
          <p:spPr>
            <a:xfrm>
              <a:off x="6582600" y="5029200"/>
              <a:ext cx="65592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SP D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4520" y="55627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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363760" y="5029200"/>
            <a:ext cx="379440" cy="870840"/>
            <a:chOff x="2363760" y="5029200"/>
            <a:chExt cx="379440" cy="870840"/>
          </a:xfrm>
        </p:grpSpPr>
        <p:sp>
          <p:nvSpPr>
            <p:cNvPr id="321" name=""/>
            <p:cNvSpPr/>
            <p:nvPr/>
          </p:nvSpPr>
          <p:spPr>
            <a:xfrm>
              <a:off x="2378880" y="5029200"/>
              <a:ext cx="36432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ISP E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760" y="55627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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038480" y="5029200"/>
            <a:ext cx="381240" cy="870120"/>
            <a:chOff x="4038480" y="5029200"/>
            <a:chExt cx="381240" cy="870120"/>
          </a:xfrm>
        </p:grpSpPr>
        <p:sp>
          <p:nvSpPr>
            <p:cNvPr id="324" name=""/>
            <p:cNvSpPr/>
            <p:nvPr/>
          </p:nvSpPr>
          <p:spPr>
            <a:xfrm>
              <a:off x="4055040" y="5029200"/>
              <a:ext cx="36468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ISP G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55627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792760" y="5029200"/>
            <a:ext cx="379440" cy="870840"/>
            <a:chOff x="5792760" y="5029200"/>
            <a:chExt cx="379440" cy="870840"/>
          </a:xfrm>
        </p:grpSpPr>
        <p:sp>
          <p:nvSpPr>
            <p:cNvPr id="327" name=""/>
            <p:cNvSpPr/>
            <p:nvPr/>
          </p:nvSpPr>
          <p:spPr>
            <a:xfrm>
              <a:off x="5807880" y="5029200"/>
              <a:ext cx="36432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ISP F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2760" y="55627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Wingdings 2"/>
                  <a:ea typeface="Wingdings 2"/>
                </a:rPr>
                <a:t>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467480" y="5029200"/>
            <a:ext cx="381240" cy="870120"/>
            <a:chOff x="7467480" y="5029200"/>
            <a:chExt cx="381240" cy="870120"/>
          </a:xfrm>
        </p:grpSpPr>
        <p:sp>
          <p:nvSpPr>
            <p:cNvPr id="330" name=""/>
            <p:cNvSpPr/>
            <p:nvPr/>
          </p:nvSpPr>
          <p:spPr>
            <a:xfrm>
              <a:off x="7484040" y="5029200"/>
              <a:ext cx="364680" cy="533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ISP H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55627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447920" y="6095880"/>
            <a:ext cx="6858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29800" y="608004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vailable IPv6 address poo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D783-E2EB-4E81-9D5F-696691B7C9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parse allocation system will maximise aggreg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mple system, easily understoo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therwise known as “binary chop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d in practice by RIRs already (IPv4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ithin large address blocks (e.g. /8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d in other allocation system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.g. dynamic memory allo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D04A-E38B-4A05-AD0C-CB3E47FA8F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enefits increase as address pool increas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isting system breaks down in “overflow condition”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.e. where pool becomes too crowded or full, and another pool must be alloca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refore RIRs propose to share a single global poo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Known as Common Address Pool (CAP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naged by RIRs jointly, under “Common Registry Service” (CRS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C2CA-DFA5-416B-91A3-E18FD964B9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AP needs to be as large as possib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 ensure long life of single poo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 avoid unaggregatable allo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…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ANA to allocate 2000::/3 (FP001) for CA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or management by C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s address space already designated by IETF as Global Unicast, for allocation by R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67C0-8A6E-44CD-9A69-0F5CF07BB4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Reques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irst IPv6 allocation to IS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115884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IR sends request to CRS for new block of specified siz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115884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S allocates next entry from list of start addresse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bsequent allocation to IS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115884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IR sends request to CRS for expansion of existing allocation for that ISP (to certain specified size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115884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S provides extension of existing allo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620720" indent="-4572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f extension is not available, non-contiguous prefix will be allocate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2B10-29C4-439E-96A4-9E05C870C9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oiding Frag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istance between neighboring allocations is initially very larg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umb” algorithm can be used initial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owever, some ISP allocations will grow fast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reatening to “collide” with neighbou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marter” algorithm for new alloc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.g. If existing preceding allocation has grown to occupy more than a certain % of address space available to it, select next start address from the lis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2546-724D-4AF6-A4C5-E41E03E8C0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troduction to APNIC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policy statu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polic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uture IPv6 policies – a propos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AB29-B839-4E47-87F7-A3C330E3861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view of allocation proce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itial number of allocations limited to 2048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viding each ISP with up to /14 (!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ommence review after 1024</a:t>
            </a:r>
            <a:r>
              <a:rPr b="0" lang="en-US" sz="2000" spc="-1" strike="noStrike" baseline="30000">
                <a:solidFill>
                  <a:srgbClr val="f9f5e1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entry (2-3 years?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mmon Registry Service (CRS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unction to rotate between R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ster’ server at one RI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irror servers elsewher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verse DNS requirements (ip6.arpa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S administers master DNS serv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ther RIRs will be mirrors of mast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B820-9CB0-486B-85EF-AA1215C2B6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quires single large allo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ybe “Putting all our eggs in one basket”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R proposal is to utilise very large block, only one-eighth of IPv6 address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t possible to identify specific blocks allocated to specific RIRs/reg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.g. for filtering purpo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Rs note that this is not possible in IPv4 due to historical allo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487C-A81A-40BD-92F1-36D96D09E8C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f5e1"/>
                </a:solidFill>
                <a:latin typeface="Arial"/>
              </a:rPr>
              <a:t>Document available from</a:t>
            </a: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ripe.net/ripe/docs/ipv6-sparse.htm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f5e1"/>
                </a:solidFill>
                <a:latin typeface="Arial"/>
              </a:rPr>
              <a:t>APNIC IPv6 SIG</a:t>
            </a: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apnic.net/meetings</a:t>
            </a: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pnic.net/lists</a:t>
            </a: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0C8A-0A51-4021-9579-844AB83E0B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Long will IPv6 las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3BDD-901B-41B4-9C3E-9C4091D8EF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long will IPv6 las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address space is not very large, under current allocation polic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tal of 36 site addresses per person in 2010 (10 billion population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pace will be ‘rapidly’ exhausted, and policies will require review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ow will we do the next transition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as anyone thought about this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A010-C666-4D32-A3E3-8CB2F1A8EB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nne Lor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nne@apnic.ne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E2A6-EF4A-43E7-89CF-67E001830E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 to APN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6AC5-97A8-43B4-881D-B50C171547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What is APNIC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굴림"/>
              </a:rPr>
              <a:t>Regional Internet Registry (RIR)</a:t>
            </a:r>
            <a:br>
              <a:rPr sz="2800"/>
            </a:b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굴림"/>
              </a:rPr>
              <a:t>for the Asia Pacific Reg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Regional authority for Internet Resource distribu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IP addresse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굴림"/>
              </a:rPr>
              <a:t> (IPv4 and IPv6)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, AS numbers, reverse DNS deleg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굴림"/>
              </a:rPr>
              <a:t>Provide services to ~800 ISP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굴림"/>
              </a:rPr>
              <a:t>Industry self-regulatory bod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Established in 1993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Consensus-based, open and transpar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Non-profit, neutral and independ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Open membership-based structu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EEDF-AE16-46D9-9D33-7AF7E363AF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2556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es APNIC 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net resource managem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 address allocation to ISPs and N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 address assignment to end us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 number assignm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515880" indent="-5158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source regist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uthoritative registration server: </a:t>
            </a: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whois.apnic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ternet routing registry: </a:t>
            </a: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irr.apnic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515880" indent="-5158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NS managem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legate reverse DNS zones/domai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14400" indent="-2840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uthoritative DNS serv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97000" indent="-16668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9f5e1"/>
                </a:solidFill>
                <a:latin typeface="Arial"/>
              </a:rPr>
              <a:t>in-addr.arpa, ip6.arpa (ip6.int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6FF2-A1ED-4117-9A75-643CE2B56A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else does APNIC 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341000"/>
            <a:ext cx="790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olicy development and coordin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Open Policy Meetings: 2 per yea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079640" indent="-16524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Gs, WGs, BOFs, Training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O and ICANN proces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iaison: RIRs, IETF, ITU, other stakehold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raining and outreach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requent regional training cour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esentations, seminars, conferences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ubli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wsletter, web site, mailing lists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gional and global resource repor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00CB-5C5F-4EFE-ABEB-99A6BFB1A8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46240"/>
            <a:ext cx="7902360" cy="8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9f5e1"/>
                </a:solidFill>
                <a:latin typeface="Arial"/>
                <a:ea typeface="굴림"/>
              </a:rPr>
              <a:t>Where is APNIC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848360" cy="5384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83800" y="6583320"/>
            <a:ext cx="375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f5e1"/>
                </a:solidFill>
                <a:latin typeface="Times New Roman"/>
              </a:rPr>
              <a:t>Ref http://www.un.org/depts/dhl/maplib/worldregions.htm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92A7-2F12-4171-A175-7529909CFD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as</cp:lastModifiedBy>
  <dcterms:modified xsi:type="dcterms:W3CDTF">2003-05-02T06:51:15Z</dcterms:modified>
  <cp:revision>118</cp:revision>
  <dc:subject/>
  <dc:title>IPv6 Global Policy Discussion</dc:title>
</cp:coreProperties>
</file>