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19.jpeg" ContentType="image/jpeg"/>
  <Override PartName="/ppt/media/image6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2.png" ContentType="image/png"/>
  <Override PartName="/ppt/media/image24.wmf" ContentType="image/x-wmf"/>
  <Override PartName="/ppt/media/image15.jpeg" ContentType="image/jpeg"/>
  <Override PartName="/ppt/media/image25.wmf" ContentType="image/x-wm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4C06-AA2E-4BB9-80CC-20033613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EC7-11FE-4EEA-9BDE-96A70A37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834-20BC-4339-AA16-FBE6D7F2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53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7280" y="4379760"/>
            <a:ext cx="5049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64A-ED48-4D60-9121-C6700190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35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7640" y="4379760"/>
            <a:ext cx="5051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B221-C999-44FB-89F1-EA511A07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35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7640" y="4379760"/>
            <a:ext cx="5051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21E-6493-49B4-A9E6-4D3B7B20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35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79760"/>
            <a:ext cx="5051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F3B-F03A-460F-B3DD-F7E1D19E7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35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7640" y="4379760"/>
            <a:ext cx="5051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887-6DB6-4845-8165-D7736C12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53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280" y="4379760"/>
            <a:ext cx="5049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DEB-339A-4531-9940-1324BE40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5320" y="66816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7280" y="4379760"/>
            <a:ext cx="5049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4678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772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772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972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3640" y="4097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4678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97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828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160" y="6619680"/>
            <a:ext cx="84582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April 2003                                              ITU SG2, Geneva, Switzerland                               Axel Pawlik, RIPE N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629400"/>
            <a:ext cx="1828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5.jpeg"/><Relationship Id="rId6" Type="http://schemas.openxmlformats.org/officeDocument/2006/relationships/image" Target="../media/image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image" Target="../media/image5.jpe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image" Target="../media/image5.jpe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5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627200"/>
            <a:ext cx="6324480" cy="360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828800" y="1573200"/>
            <a:ext cx="6400800" cy="3646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997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162920" y="3073320"/>
            <a:ext cx="533160" cy="35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724280" y="238752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352680" y="287496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3352680" y="2895480"/>
            <a:ext cx="45720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1604880"/>
            <a:ext cx="6400800" cy="3646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998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2920" y="3073320"/>
            <a:ext cx="533160" cy="35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38752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895480"/>
            <a:ext cx="457200" cy="320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4724280" y="23623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2057400" y="3135240"/>
            <a:ext cx="380880" cy="29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7040" y="3733920"/>
            <a:ext cx="171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ANN / ASO M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0417 0.1926 E">
                                      <p:cBhvr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28800" y="1604880"/>
            <a:ext cx="6400800" cy="3646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52480" y="1519200"/>
            <a:ext cx="6477120" cy="366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609840" cy="40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02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188120" y="43894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3352680" y="2895480"/>
            <a:ext cx="457200" cy="32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057400" y="3135240"/>
            <a:ext cx="380880" cy="293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3805200" y="3962520"/>
            <a:ext cx="614520" cy="40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52480" y="1519200"/>
            <a:ext cx="6477120" cy="3738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52480" y="1585800"/>
            <a:ext cx="6400800" cy="367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609840" cy="406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merging RIR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188120" y="43894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352680" y="2895480"/>
            <a:ext cx="457200" cy="320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2057400" y="3135240"/>
            <a:ext cx="380880" cy="29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733920" y="4114800"/>
            <a:ext cx="614160" cy="409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4956120" y="3621240"/>
            <a:ext cx="53352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571840" y="537228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3720" y="1724040"/>
            <a:ext cx="4876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ructure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619360" y="1105200"/>
            <a:ext cx="3905280" cy="3528720"/>
            <a:chOff x="2619360" y="1105200"/>
            <a:chExt cx="3905280" cy="3528720"/>
          </a:xfrm>
        </p:grpSpPr>
        <p:sp>
          <p:nvSpPr>
            <p:cNvPr id="168" name="_s635908"/>
            <p:cNvSpPr/>
            <p:nvPr/>
          </p:nvSpPr>
          <p:spPr>
            <a:xfrm flipH="1">
              <a:off x="3631680" y="3546720"/>
              <a:ext cx="468360" cy="272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635909"/>
            <p:cNvSpPr/>
            <p:nvPr/>
          </p:nvSpPr>
          <p:spPr>
            <a:xfrm>
              <a:off x="2619360" y="354816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635910"/>
            <p:cNvSpPr/>
            <p:nvPr/>
          </p:nvSpPr>
          <p:spPr>
            <a:xfrm>
              <a:off x="5041800" y="3548160"/>
              <a:ext cx="470160" cy="270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635911"/>
            <p:cNvSpPr/>
            <p:nvPr/>
          </p:nvSpPr>
          <p:spPr>
            <a:xfrm>
              <a:off x="5438880" y="354672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mb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635912"/>
            <p:cNvSpPr/>
            <p:nvPr/>
          </p:nvSpPr>
          <p:spPr>
            <a:xfrm flipV="1">
              <a:off x="4572000" y="2190960"/>
              <a:ext cx="0" cy="542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635913"/>
            <p:cNvSpPr/>
            <p:nvPr/>
          </p:nvSpPr>
          <p:spPr>
            <a:xfrm>
              <a:off x="4029120" y="110520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-For-Pro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_s635914"/>
            <p:cNvSpPr/>
            <p:nvPr/>
          </p:nvSpPr>
          <p:spPr>
            <a:xfrm>
              <a:off x="4029120" y="273384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 for 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Financi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3434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to All Interested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s of Thous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4384800"/>
            <a:ext cx="32004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 Executiv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179" name="_s585732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585733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585734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585735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585736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585737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nterne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585738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242720" y="4724280"/>
            <a:ext cx="3782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Discussion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Policy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 of Policy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7160" y="4611600"/>
            <a:ext cx="1665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1295280"/>
            <a:ext cx="3124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1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v4 &amp; 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i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Routing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-addr.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6.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7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619360" y="1105200"/>
            <a:ext cx="3905280" cy="3528720"/>
            <a:chOff x="2619360" y="1105200"/>
            <a:chExt cx="3905280" cy="3528720"/>
          </a:xfrm>
        </p:grpSpPr>
        <p:sp>
          <p:nvSpPr>
            <p:cNvPr id="190" name="_s584708"/>
            <p:cNvSpPr/>
            <p:nvPr/>
          </p:nvSpPr>
          <p:spPr>
            <a:xfrm flipH="1">
              <a:off x="3631680" y="3546720"/>
              <a:ext cx="468360" cy="272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_s584709"/>
            <p:cNvSpPr/>
            <p:nvPr/>
          </p:nvSpPr>
          <p:spPr>
            <a:xfrm>
              <a:off x="2619360" y="354816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utr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_s584710"/>
            <p:cNvSpPr/>
            <p:nvPr/>
          </p:nvSpPr>
          <p:spPr>
            <a:xfrm>
              <a:off x="5041800" y="3548160"/>
              <a:ext cx="470160" cy="270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_s584711"/>
            <p:cNvSpPr/>
            <p:nvPr/>
          </p:nvSpPr>
          <p:spPr>
            <a:xfrm>
              <a:off x="5438880" y="354672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oordin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_s584712"/>
            <p:cNvSpPr/>
            <p:nvPr/>
          </p:nvSpPr>
          <p:spPr>
            <a:xfrm flipV="1">
              <a:off x="4572000" y="2190960"/>
              <a:ext cx="0" cy="542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_s584713"/>
            <p:cNvSpPr/>
            <p:nvPr/>
          </p:nvSpPr>
          <p:spPr>
            <a:xfrm>
              <a:off x="4029120" y="110520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584714"/>
            <p:cNvSpPr/>
            <p:nvPr/>
          </p:nvSpPr>
          <p:spPr>
            <a:xfrm>
              <a:off x="4029120" y="273384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4120" y="1219320"/>
            <a:ext cx="3124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 Secretari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 AC Sup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343400"/>
            <a:ext cx="4038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68200" indent="-266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ings and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7288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 represent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7288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7288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v6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676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41562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571840" y="537228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724040"/>
            <a:ext cx="6858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P Address Management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P Address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an IP Addr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is IP Address Space Mana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nformation Document 21-E</a:t>
            </a:r>
            <a:endParaRPr b="1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U-T Study Grou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tl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IR System (by Regional Internet Registries – APNIC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IN, LACNIC and RIPE NC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an IP Address?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Number Used for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 Dependent on Domain Nam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inite Public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 Ow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o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ea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ntellectual Proper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s IP Address Space Manag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Space Management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lementation of Policy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10" name="_s499716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499717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ggre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499718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499719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499720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499721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on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_s499722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ddress Management Objec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489280" y="1981080"/>
            <a:ext cx="3213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t Use of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ion Based on N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495680"/>
            <a:ext cx="31813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Routing Table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Provider-Based Routing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6680" y="4495680"/>
            <a:ext cx="2512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Uniqu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uble Sho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licy Implementa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 Industry Self-Regulation ]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R Sta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blish Policy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blish Procedure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lement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P/L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elop Intern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lement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571840" y="537228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29528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net Number Resource Management 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licy Development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[Industry Self-Regulation]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s IP Address Policy Developed?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rding to Policy Development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a Cyclical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6765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l List Arch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cy F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R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licy Development Principl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one Can Particip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cy F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l L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676520"/>
            <a:ext cx="3581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l Policy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4343400"/>
            <a:ext cx="3657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ology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6120" y="1828440"/>
            <a:ext cx="3848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icy Development Cycl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85600" y="49672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164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3440" y="19051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5080" y="28954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6640" y="496728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86000" y="2133720"/>
            <a:ext cx="1295280" cy="761760"/>
          </a:xfrm>
          <a:prstGeom prst="line">
            <a:avLst/>
          </a:prstGeom>
          <a:ln w="63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3429000"/>
            <a:ext cx="0" cy="1600200"/>
          </a:xfrm>
          <a:prstGeom prst="line">
            <a:avLst/>
          </a:prstGeom>
          <a:ln w="63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209680"/>
            <a:ext cx="1600200" cy="685800"/>
          </a:xfrm>
          <a:prstGeom prst="line">
            <a:avLst/>
          </a:prstGeom>
          <a:ln w="63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95480" y="5257800"/>
            <a:ext cx="327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286000" y="3428640"/>
            <a:ext cx="0" cy="1600200"/>
          </a:xfrm>
          <a:prstGeom prst="line">
            <a:avLst/>
          </a:prstGeom>
          <a:ln w="63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760" y="5715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y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8160" y="19051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 Policy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400" y="571500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ed Assessm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8040" y="167652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 Into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P/L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6280" y="4419720"/>
            <a:ext cx="28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 o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Technol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pcoming Public Policy Meeting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7640" y="23623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11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IN (2 per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ctober ** ARIN XII – Chicago, IL,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11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CNIC (2 per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vember  ** LACNIC V – Havana, C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11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PE NCC (3 per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 – 16 May ** RIPE 45 – Barcelona, Sp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11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NIC (2 per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 – 22 Aug ** APNIC 16 – Seoul, South Ko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62120" y="16002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NET NUMBER RESOUR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ATUS REPO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71840" y="544824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33720" y="20574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16002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294624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5313240"/>
            <a:ext cx="6324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Prepa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Regional Internet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PNIC, ARIN, LACNIC and RIPE N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1227240"/>
          <a:ext cx="919152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7240"/>
                    <a:ext cx="91915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020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Pv4 Address Space Status 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/8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1668600"/>
          <a:ext cx="9121680" cy="448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68600"/>
                    <a:ext cx="9121680" cy="44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Pv4 Allocations from RIRs to LIRs/I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arly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063800" y="2365200"/>
          <a:ext cx="7291080" cy="34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3800" y="2365200"/>
                    <a:ext cx="7291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1092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Pv4 Allocations from RIRs to LIRs/ISP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-Year Cumulative Total (1999 –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371600" y="1828800"/>
          <a:ext cx="647712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828800"/>
                    <a:ext cx="6477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1096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Numbe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914400" y="1428840"/>
          <a:ext cx="7383600" cy="515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28840"/>
                    <a:ext cx="73836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N Assignments from RIRs to LIRs/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arly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531800" y="2217600"/>
          <a:ext cx="6319800" cy="446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2217600"/>
                    <a:ext cx="6319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0" y="103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N Assignments from RIRs to LIRs/ISP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-Year Cumulative Total (1999 –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839880" y="1677960"/>
          <a:ext cx="7415280" cy="439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677960"/>
                    <a:ext cx="74152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ASN Assignments from RIRs to LIRs/ISP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62320" y="160020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400" y="2514600"/>
          <a:ext cx="9029520" cy="395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0" y="2514600"/>
                    <a:ext cx="902952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0" y="1066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Pv6 Allocations from RIRs to LIRs/I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arly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62320" y="160020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79440" y="2567160"/>
          <a:ext cx="8739000" cy="310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2567160"/>
                    <a:ext cx="87390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Pv6 Allocations from RIRs to LIRs/ISP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-Year Cumulative Total (1999 –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03440" y="1603440"/>
          <a:ext cx="6237360" cy="508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1603440"/>
                    <a:ext cx="6237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IPv6 Allocations from RIRs to LIRs/ISP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4560" y="1085400"/>
            <a:ext cx="691344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58640" y="2538360"/>
            <a:ext cx="694692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y &amp; 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 Addres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net Number Resource Management Policy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net Number Resourc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nks to RIR Statistic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828800"/>
            <a:ext cx="8001000" cy="38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w Data/Historical RIR Allo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aso.icann.org/rirs/stats/index.html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iana.org/assignments/ipv4-address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R S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apnic.net/info/report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arin.net/statistic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lacnic.net/IP-ASN-LACNIC-stat-en.pdf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http://www.ripe.net/ripencc/pub-services/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62120" y="16002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289480"/>
            <a:ext cx="7696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Prepa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Regional Internet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PNIC, ARIN, LACNIC and RIPE N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353040" cy="170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571840" y="537228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RIR Syst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724040"/>
            <a:ext cx="6858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story &amp; Evolution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28800" y="1604880"/>
            <a:ext cx="6400800" cy="3648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e 1992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4876920"/>
            <a:ext cx="2209680" cy="1587240"/>
            <a:chOff x="380880" y="4876920"/>
            <a:chExt cx="2209680" cy="158724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681200" y="5013720"/>
              <a:ext cx="9093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80880" y="4876920"/>
              <a:ext cx="1044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524600" y="5943960"/>
              <a:ext cx="89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FC 7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8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882880" y="5272200"/>
            <a:ext cx="437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ssignment of numbers is also handled by Jon.  If you are developing a protocol or application that will require the use of a link, socket, port, protocol, or network number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lease contact Jon to receive a number assignm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601640"/>
            <a:ext cx="6400800" cy="3648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828800" y="1593720"/>
            <a:ext cx="6400800" cy="364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992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724280" y="2362320"/>
            <a:ext cx="533520" cy="3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0600" y="3429000"/>
            <a:ext cx="218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C 13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graphic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28800" y="1611360"/>
            <a:ext cx="6400800" cy="3646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828800" y="1627200"/>
            <a:ext cx="6324480" cy="3603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993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24280" y="238752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352680" y="2895480"/>
            <a:ext cx="45720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162920" y="3073320"/>
            <a:ext cx="533160" cy="355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840" y="3809880"/>
            <a:ext cx="9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C 14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27200"/>
            <a:ext cx="6324480" cy="360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996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24280" y="238752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352680" y="2895480"/>
            <a:ext cx="457200" cy="30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162920" y="3073320"/>
            <a:ext cx="533160" cy="35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590920" y="31240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162920" y="3073320"/>
            <a:ext cx="533160" cy="355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480" y="3809880"/>
            <a:ext cx="9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C 20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9:02Z</dcterms:created>
  <dc:creator>Ray Plzak</dc:creator>
  <dc:description/>
  <dc:language>en-US</dc:language>
  <cp:lastModifiedBy>comas</cp:lastModifiedBy>
  <dcterms:modified xsi:type="dcterms:W3CDTF">2003-05-02T06:49:05Z</dcterms:modified>
  <cp:revision>170</cp:revision>
  <dc:subject/>
  <dc:title>Joint RIR at Shanghai</dc:title>
</cp:coreProperties>
</file>