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E6F-C9B6-4041-A561-CE5D13B9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532-CBE3-431F-BB5F-6E5D03A3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C70-CA54-49CA-96D7-A1FAE248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898-BDCC-481F-996E-8FFC6E94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9FE4-22BD-4D86-8EF4-052E79C7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2B87-5A2B-418E-BC93-520DE983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6DFB-4310-4573-8D46-7C91F874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EB5E-07C0-48DC-9FB5-F3707B48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928F-46C5-43E1-BAF8-36F0CDF7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719A-BC83-4B1A-A909-3E7ABB88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C8CF-652B-44D8-A19F-70753D63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FAE-E567-4F35-B6BE-ECA874D3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A542-029F-417E-A010-685C1EE5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39E6-6DBD-464A-AC29-6FB40AD6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9D6F-ED59-417F-9305-C8001ACE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BF9C-3EF7-4243-9CC0-77A8E770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2046-50BB-4DE1-B42D-8B86DABD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83B5-F4A4-446B-A746-AB8B8389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3C0-BED7-4C35-8B74-8E08B5CD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367B-114E-4327-A1D9-8CFCE847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A205-6851-4B8F-A3B2-E253CA06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869-85BE-4A7D-B5EC-71340B95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1D8-4A92-4D85-A3D1-A2DE5120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6B2-7BD3-474C-A983-2559AB82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7F1C-EA3A-4B2E-986A-D24B51F4F95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" name="itulogo-en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9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0583-BBBC-44CC-9DF2-9B27E3C7566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tu.int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Information</a:t>
            </a:r>
            <a:r>
              <a:rPr b="0" lang="en-US" sz="1200" spc="-1" strike="noStrike">
                <a:solidFill>
                  <a:srgbClr val="2a3d7a"/>
                </a:solidFill>
                <a:latin typeface="Times New Roman"/>
              </a:rPr>
              <a:t> Document 20-E</a:t>
            </a:r>
            <a:endParaRPr b="0" lang="en-US" sz="1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TU-T Study Group 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arch 2003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QUESTION: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L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SB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ITLE: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NGN activities in ITU-T (by Y-H. Choe, Engineer, ITU-T SG4)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  <a:ea typeface="바탕"/>
              </a:rPr>
              <a:t>General framework model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1027080" indent="-4554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General  architectural princip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 algn="just">
              <a:spcBef>
                <a:spcPts val="601"/>
              </a:spcBef>
              <a:buClr>
                <a:srgbClr val="fac164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is will provide a basis for NGN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fac164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The technical objective will be to develop a functional methodology and general mod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Functional architecture methodology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 algn="just">
              <a:spcBef>
                <a:spcPts val="601"/>
              </a:spcBef>
              <a:buClr>
                <a:srgbClr val="fac164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ill provide guidelines on how to define a functional architecture for NG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  <a:ea typeface="바탕"/>
              </a:rPr>
              <a:t>Functional architecture model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Use of generic RM techniques, Definition of interworking functions,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Determination of how end-to-end service, call control and user mobility can be supported across heterogeneous networks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Definition of functionality of NGN-aware terminals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In terms of software upgrade mechanism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Redundancy and evolution of cost-reduced termina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Version negotiation and managemen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  <a:ea typeface="바탕"/>
              </a:rPr>
              <a:t>Overall functional architecture model for NGN I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521360" y="1650960"/>
            <a:ext cx="5839560" cy="4520880"/>
            <a:chOff x="1521360" y="1650960"/>
            <a:chExt cx="5839560" cy="4520880"/>
          </a:xfrm>
        </p:grpSpPr>
        <p:grpSp>
          <p:nvGrpSpPr>
            <p:cNvPr id="306" name=""/>
            <p:cNvGrpSpPr/>
            <p:nvPr/>
          </p:nvGrpSpPr>
          <p:grpSpPr>
            <a:xfrm>
              <a:off x="2639880" y="3081600"/>
              <a:ext cx="4721040" cy="2901240"/>
              <a:chOff x="2639880" y="3081600"/>
              <a:chExt cx="4721040" cy="2901240"/>
            </a:xfrm>
          </p:grpSpPr>
          <p:sp>
            <p:nvSpPr>
              <p:cNvPr id="307" name=""/>
              <p:cNvSpPr/>
              <p:nvPr/>
            </p:nvSpPr>
            <p:spPr>
              <a:xfrm>
                <a:off x="2639880" y="3081600"/>
                <a:ext cx="4721040" cy="2901240"/>
              </a:xfrm>
              <a:custGeom>
                <a:avLst/>
                <a:gdLst/>
                <a:ahLst/>
                <a:rect l="l" t="t" r="r" b="b"/>
                <a:pathLst>
                  <a:path w="4818" h="3043">
                    <a:moveTo>
                      <a:pt x="311" y="0"/>
                    </a:moveTo>
                    <a:lnTo>
                      <a:pt x="0" y="312"/>
                    </a:lnTo>
                    <a:lnTo>
                      <a:pt x="0" y="3043"/>
                    </a:lnTo>
                    <a:lnTo>
                      <a:pt x="4506" y="3043"/>
                    </a:lnTo>
                    <a:lnTo>
                      <a:pt x="4818" y="2731"/>
                    </a:lnTo>
                    <a:lnTo>
                      <a:pt x="4818" y="0"/>
                    </a:lnTo>
                    <a:lnTo>
                      <a:pt x="311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639880" y="3081600"/>
                <a:ext cx="4721040" cy="297360"/>
              </a:xfrm>
              <a:custGeom>
                <a:avLst/>
                <a:gdLst/>
                <a:ahLst/>
                <a:rect l="l" t="t" r="r" b="b"/>
                <a:pathLst>
                  <a:path w="4818" h="312">
                    <a:moveTo>
                      <a:pt x="0" y="312"/>
                    </a:moveTo>
                    <a:lnTo>
                      <a:pt x="4506" y="312"/>
                    </a:lnTo>
                    <a:lnTo>
                      <a:pt x="4818" y="0"/>
                    </a:lnTo>
                    <a:lnTo>
                      <a:pt x="311" y="0"/>
                    </a:lnTo>
                    <a:lnTo>
                      <a:pt x="0" y="312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055280" y="3081600"/>
                <a:ext cx="305640" cy="2901240"/>
              </a:xfrm>
              <a:custGeom>
                <a:avLst/>
                <a:gdLst/>
                <a:ahLst/>
                <a:rect l="l" t="t" r="r" b="b"/>
                <a:pathLst>
                  <a:path w="312" h="3043">
                    <a:moveTo>
                      <a:pt x="0" y="312"/>
                    </a:moveTo>
                    <a:lnTo>
                      <a:pt x="312" y="0"/>
                    </a:lnTo>
                    <a:lnTo>
                      <a:pt x="312" y="2731"/>
                    </a:lnTo>
                    <a:lnTo>
                      <a:pt x="0" y="3043"/>
                    </a:lnTo>
                    <a:lnTo>
                      <a:pt x="0" y="312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639880" y="3081600"/>
                <a:ext cx="4721040" cy="2901240"/>
              </a:xfrm>
              <a:custGeom>
                <a:avLst/>
                <a:gdLst/>
                <a:ahLst/>
                <a:rect l="l" t="t" r="r" b="b"/>
                <a:pathLst>
                  <a:path w="4818" h="3043">
                    <a:moveTo>
                      <a:pt x="311" y="0"/>
                    </a:moveTo>
                    <a:lnTo>
                      <a:pt x="0" y="312"/>
                    </a:lnTo>
                    <a:lnTo>
                      <a:pt x="0" y="3043"/>
                    </a:lnTo>
                    <a:lnTo>
                      <a:pt x="4506" y="3043"/>
                    </a:lnTo>
                    <a:lnTo>
                      <a:pt x="4818" y="2731"/>
                    </a:lnTo>
                    <a:lnTo>
                      <a:pt x="4818" y="0"/>
                    </a:lnTo>
                    <a:lnTo>
                      <a:pt x="311" y="0"/>
                    </a:lnTo>
                    <a:close/>
                  </a:path>
                </a:pathLst>
              </a:custGeom>
              <a:noFill/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639880" y="3081600"/>
                <a:ext cx="4721040" cy="297360"/>
              </a:xfrm>
              <a:custGeom>
                <a:avLst/>
                <a:gdLst/>
                <a:ahLst/>
                <a:rect l="l" t="t" r="r" b="b"/>
                <a:pathLst>
                  <a:path w="4818" h="312">
                    <a:moveTo>
                      <a:pt x="0" y="312"/>
                    </a:moveTo>
                    <a:lnTo>
                      <a:pt x="4506" y="312"/>
                    </a:lnTo>
                    <a:lnTo>
                      <a:pt x="4818" y="0"/>
                    </a:lnTo>
                  </a:path>
                </a:pathLst>
              </a:custGeom>
              <a:noFill/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055280" y="3378960"/>
                <a:ext cx="1080" cy="260352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402280" y="5235120"/>
              <a:ext cx="4699080" cy="936720"/>
              <a:chOff x="2402280" y="5235120"/>
              <a:chExt cx="4699080" cy="936720"/>
            </a:xfrm>
          </p:grpSpPr>
          <p:sp>
            <p:nvSpPr>
              <p:cNvPr id="314" name=""/>
              <p:cNvSpPr/>
              <p:nvPr/>
            </p:nvSpPr>
            <p:spPr>
              <a:xfrm>
                <a:off x="2402280" y="5235120"/>
                <a:ext cx="4699080" cy="936720"/>
              </a:xfrm>
              <a:custGeom>
                <a:avLst/>
                <a:gdLst/>
                <a:ahLst/>
                <a:rect l="l" t="t" r="r" b="b"/>
                <a:pathLst>
                  <a:path w="4818" h="1205">
                    <a:moveTo>
                      <a:pt x="301" y="0"/>
                    </a:moveTo>
                    <a:lnTo>
                      <a:pt x="0" y="301"/>
                    </a:lnTo>
                    <a:lnTo>
                      <a:pt x="0" y="1205"/>
                    </a:lnTo>
                    <a:lnTo>
                      <a:pt x="4517" y="1205"/>
                    </a:lnTo>
                    <a:lnTo>
                      <a:pt x="4818" y="904"/>
                    </a:lnTo>
                    <a:lnTo>
                      <a:pt x="4818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402280" y="5235120"/>
                <a:ext cx="4699080" cy="234000"/>
              </a:xfrm>
              <a:custGeom>
                <a:avLst/>
                <a:gdLst/>
                <a:ahLst/>
                <a:rect l="l" t="t" r="r" b="b"/>
                <a:pathLst>
                  <a:path w="4818" h="301">
                    <a:moveTo>
                      <a:pt x="0" y="301"/>
                    </a:moveTo>
                    <a:lnTo>
                      <a:pt x="4517" y="301"/>
                    </a:lnTo>
                    <a:lnTo>
                      <a:pt x="4818" y="0"/>
                    </a:lnTo>
                    <a:lnTo>
                      <a:pt x="301" y="0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ad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807600" y="5235120"/>
                <a:ext cx="293400" cy="936720"/>
              </a:xfrm>
              <a:custGeom>
                <a:avLst/>
                <a:gdLst/>
                <a:ahLst/>
                <a:rect l="l" t="t" r="r" b="b"/>
                <a:pathLst>
                  <a:path w="301" h="1205">
                    <a:moveTo>
                      <a:pt x="0" y="301"/>
                    </a:moveTo>
                    <a:lnTo>
                      <a:pt x="301" y="0"/>
                    </a:lnTo>
                    <a:lnTo>
                      <a:pt x="301" y="904"/>
                    </a:lnTo>
                    <a:lnTo>
                      <a:pt x="0" y="1205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02280" y="5235120"/>
                <a:ext cx="4699080" cy="936720"/>
              </a:xfrm>
              <a:custGeom>
                <a:avLst/>
                <a:gdLst/>
                <a:ahLst/>
                <a:rect l="l" t="t" r="r" b="b"/>
                <a:pathLst>
                  <a:path w="4818" h="1205">
                    <a:moveTo>
                      <a:pt x="301" y="0"/>
                    </a:moveTo>
                    <a:lnTo>
                      <a:pt x="0" y="301"/>
                    </a:lnTo>
                    <a:lnTo>
                      <a:pt x="0" y="1205"/>
                    </a:lnTo>
                    <a:lnTo>
                      <a:pt x="4517" y="1205"/>
                    </a:lnTo>
                    <a:lnTo>
                      <a:pt x="4818" y="904"/>
                    </a:lnTo>
                    <a:lnTo>
                      <a:pt x="4818" y="0"/>
                    </a:lnTo>
                    <a:lnTo>
                      <a:pt x="301" y="0"/>
                    </a:lnTo>
                    <a:close/>
                  </a:path>
                </a:pathLst>
              </a:custGeom>
              <a:noFill/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02280" y="5235120"/>
                <a:ext cx="4699080" cy="234000"/>
              </a:xfrm>
              <a:custGeom>
                <a:avLst/>
                <a:gdLst/>
                <a:ahLst/>
                <a:rect l="l" t="t" r="r" b="b"/>
                <a:pathLst>
                  <a:path w="4818" h="301">
                    <a:moveTo>
                      <a:pt x="0" y="301"/>
                    </a:moveTo>
                    <a:lnTo>
                      <a:pt x="4517" y="301"/>
                    </a:lnTo>
                    <a:lnTo>
                      <a:pt x="4818" y="0"/>
                    </a:lnTo>
                  </a:path>
                </a:pathLst>
              </a:custGeom>
              <a:noFill/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807600" y="5469120"/>
                <a:ext cx="1080" cy="70272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2400480" y="3582360"/>
              <a:ext cx="3288960" cy="1940760"/>
              <a:chOff x="2400480" y="3582360"/>
              <a:chExt cx="3288960" cy="1940760"/>
            </a:xfrm>
          </p:grpSpPr>
          <p:sp>
            <p:nvSpPr>
              <p:cNvPr id="321" name=""/>
              <p:cNvSpPr/>
              <p:nvPr/>
            </p:nvSpPr>
            <p:spPr>
              <a:xfrm>
                <a:off x="2400480" y="3582360"/>
                <a:ext cx="3288960" cy="1940760"/>
              </a:xfrm>
              <a:custGeom>
                <a:avLst/>
                <a:gdLst/>
                <a:ahLst/>
                <a:rect l="l" t="t" r="r" b="b"/>
                <a:pathLst>
                  <a:path w="2551" h="2115">
                    <a:moveTo>
                      <a:pt x="309" y="0"/>
                    </a:moveTo>
                    <a:lnTo>
                      <a:pt x="0" y="309"/>
                    </a:lnTo>
                    <a:lnTo>
                      <a:pt x="0" y="2115"/>
                    </a:lnTo>
                    <a:lnTo>
                      <a:pt x="2242" y="2115"/>
                    </a:lnTo>
                    <a:lnTo>
                      <a:pt x="2551" y="1807"/>
                    </a:lnTo>
                    <a:lnTo>
                      <a:pt x="2551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00480" y="3582360"/>
                <a:ext cx="3288960" cy="283320"/>
              </a:xfrm>
              <a:custGeom>
                <a:avLst/>
                <a:gdLst/>
                <a:ahLst/>
                <a:rect l="l" t="t" r="r" b="b"/>
                <a:pathLst>
                  <a:path w="2551" h="309">
                    <a:moveTo>
                      <a:pt x="0" y="309"/>
                    </a:moveTo>
                    <a:lnTo>
                      <a:pt x="2242" y="309"/>
                    </a:lnTo>
                    <a:lnTo>
                      <a:pt x="2551" y="0"/>
                    </a:lnTo>
                    <a:lnTo>
                      <a:pt x="309" y="0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ff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90920" y="3582360"/>
                <a:ext cx="398160" cy="1940760"/>
              </a:xfrm>
              <a:custGeom>
                <a:avLst/>
                <a:gdLst/>
                <a:ahLst/>
                <a:rect l="l" t="t" r="r" b="b"/>
                <a:pathLst>
                  <a:path w="309" h="2115">
                    <a:moveTo>
                      <a:pt x="0" y="309"/>
                    </a:moveTo>
                    <a:lnTo>
                      <a:pt x="309" y="0"/>
                    </a:lnTo>
                    <a:lnTo>
                      <a:pt x="309" y="1807"/>
                    </a:lnTo>
                    <a:lnTo>
                      <a:pt x="0" y="2115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cd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400480" y="3582360"/>
                <a:ext cx="3288960" cy="1940760"/>
              </a:xfrm>
              <a:custGeom>
                <a:avLst/>
                <a:gdLst/>
                <a:ahLst/>
                <a:rect l="l" t="t" r="r" b="b"/>
                <a:pathLst>
                  <a:path w="2551" h="2115">
                    <a:moveTo>
                      <a:pt x="309" y="0"/>
                    </a:moveTo>
                    <a:lnTo>
                      <a:pt x="0" y="309"/>
                    </a:lnTo>
                    <a:lnTo>
                      <a:pt x="0" y="2115"/>
                    </a:lnTo>
                    <a:lnTo>
                      <a:pt x="2242" y="2115"/>
                    </a:lnTo>
                    <a:lnTo>
                      <a:pt x="2551" y="1807"/>
                    </a:lnTo>
                    <a:lnTo>
                      <a:pt x="2551" y="0"/>
                    </a:lnTo>
                    <a:lnTo>
                      <a:pt x="309" y="0"/>
                    </a:lnTo>
                    <a:close/>
                  </a:path>
                </a:pathLst>
              </a:custGeom>
              <a:noFill/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400480" y="3582360"/>
                <a:ext cx="3288960" cy="283320"/>
              </a:xfrm>
              <a:custGeom>
                <a:avLst/>
                <a:gdLst/>
                <a:ahLst/>
                <a:rect l="l" t="t" r="r" b="b"/>
                <a:pathLst>
                  <a:path w="2551" h="309">
                    <a:moveTo>
                      <a:pt x="0" y="309"/>
                    </a:moveTo>
                    <a:lnTo>
                      <a:pt x="2242" y="309"/>
                    </a:lnTo>
                    <a:lnTo>
                      <a:pt x="2551" y="0"/>
                    </a:lnTo>
                  </a:path>
                </a:pathLst>
              </a:custGeom>
              <a:noFill/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90920" y="3865680"/>
                <a:ext cx="1440" cy="165744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303880" y="3569760"/>
              <a:ext cx="1767600" cy="1967040"/>
              <a:chOff x="5303880" y="3569760"/>
              <a:chExt cx="1767600" cy="1967040"/>
            </a:xfrm>
          </p:grpSpPr>
          <p:sp>
            <p:nvSpPr>
              <p:cNvPr id="328" name=""/>
              <p:cNvSpPr/>
              <p:nvPr/>
            </p:nvSpPr>
            <p:spPr>
              <a:xfrm>
                <a:off x="5303880" y="3569760"/>
                <a:ext cx="1767600" cy="1967040"/>
              </a:xfrm>
              <a:custGeom>
                <a:avLst/>
                <a:gdLst/>
                <a:ahLst/>
                <a:rect l="l" t="t" r="r" b="b"/>
                <a:pathLst>
                  <a:path w="2542" h="2104">
                    <a:moveTo>
                      <a:pt x="306" y="0"/>
                    </a:moveTo>
                    <a:lnTo>
                      <a:pt x="0" y="306"/>
                    </a:lnTo>
                    <a:lnTo>
                      <a:pt x="0" y="2104"/>
                    </a:lnTo>
                    <a:lnTo>
                      <a:pt x="2237" y="2104"/>
                    </a:lnTo>
                    <a:lnTo>
                      <a:pt x="2542" y="1798"/>
                    </a:lnTo>
                    <a:lnTo>
                      <a:pt x="2542" y="0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303880" y="3569760"/>
                <a:ext cx="1767600" cy="285840"/>
              </a:xfrm>
              <a:custGeom>
                <a:avLst/>
                <a:gdLst/>
                <a:ahLst/>
                <a:rect l="l" t="t" r="r" b="b"/>
                <a:pathLst>
                  <a:path w="2542" h="306">
                    <a:moveTo>
                      <a:pt x="0" y="306"/>
                    </a:moveTo>
                    <a:lnTo>
                      <a:pt x="2237" y="306"/>
                    </a:lnTo>
                    <a:lnTo>
                      <a:pt x="2542" y="0"/>
                    </a:lnTo>
                    <a:lnTo>
                      <a:pt x="306" y="0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32ff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59440" y="3569760"/>
                <a:ext cx="212040" cy="1967040"/>
              </a:xfrm>
              <a:custGeom>
                <a:avLst/>
                <a:gdLst/>
                <a:ahLst/>
                <a:rect l="l" t="t" r="r" b="b"/>
                <a:pathLst>
                  <a:path w="305" h="2104">
                    <a:moveTo>
                      <a:pt x="0" y="306"/>
                    </a:moveTo>
                    <a:lnTo>
                      <a:pt x="305" y="0"/>
                    </a:lnTo>
                    <a:lnTo>
                      <a:pt x="305" y="1798"/>
                    </a:lnTo>
                    <a:lnTo>
                      <a:pt x="0" y="2104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00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303880" y="3569760"/>
                <a:ext cx="1767600" cy="1967040"/>
              </a:xfrm>
              <a:custGeom>
                <a:avLst/>
                <a:gdLst/>
                <a:ahLst/>
                <a:rect l="l" t="t" r="r" b="b"/>
                <a:pathLst>
                  <a:path w="2542" h="2104">
                    <a:moveTo>
                      <a:pt x="306" y="0"/>
                    </a:moveTo>
                    <a:lnTo>
                      <a:pt x="0" y="306"/>
                    </a:lnTo>
                    <a:lnTo>
                      <a:pt x="0" y="2104"/>
                    </a:lnTo>
                    <a:lnTo>
                      <a:pt x="2237" y="2104"/>
                    </a:lnTo>
                    <a:lnTo>
                      <a:pt x="2542" y="1798"/>
                    </a:lnTo>
                    <a:lnTo>
                      <a:pt x="2542" y="0"/>
                    </a:lnTo>
                    <a:lnTo>
                      <a:pt x="306" y="0"/>
                    </a:lnTo>
                    <a:close/>
                  </a:path>
                </a:pathLst>
              </a:custGeom>
              <a:noFill/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303880" y="3569760"/>
                <a:ext cx="1767600" cy="285840"/>
              </a:xfrm>
              <a:custGeom>
                <a:avLst/>
                <a:gdLst/>
                <a:ahLst/>
                <a:rect l="l" t="t" r="r" b="b"/>
                <a:pathLst>
                  <a:path w="2542" h="306">
                    <a:moveTo>
                      <a:pt x="0" y="306"/>
                    </a:moveTo>
                    <a:lnTo>
                      <a:pt x="2237" y="306"/>
                    </a:lnTo>
                    <a:lnTo>
                      <a:pt x="2542" y="0"/>
                    </a:lnTo>
                  </a:path>
                </a:pathLst>
              </a:custGeom>
              <a:noFill/>
              <a:ln w="5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9440" y="3855600"/>
                <a:ext cx="720" cy="1680840"/>
              </a:xfrm>
              <a:prstGeom prst="line">
                <a:avLst/>
              </a:prstGeom>
              <a:ln w="5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4384440" y="3588120"/>
              <a:ext cx="398160" cy="272520"/>
            </a:xfrm>
            <a:custGeom>
              <a:avLst/>
              <a:gdLst/>
              <a:ahLst/>
              <a:rect l="l" t="t" r="r" b="b"/>
              <a:pathLst>
                <a:path w="293" h="297">
                  <a:moveTo>
                    <a:pt x="0" y="284"/>
                  </a:moveTo>
                  <a:lnTo>
                    <a:pt x="10" y="297"/>
                  </a:lnTo>
                  <a:lnTo>
                    <a:pt x="293" y="13"/>
                  </a:lnTo>
                  <a:lnTo>
                    <a:pt x="283" y="0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92560" y="3600720"/>
              <a:ext cx="399600" cy="272160"/>
            </a:xfrm>
            <a:custGeom>
              <a:avLst/>
              <a:gdLst/>
              <a:ahLst/>
              <a:rect l="l" t="t" r="r" b="b"/>
              <a:pathLst>
                <a:path w="294" h="297">
                  <a:moveTo>
                    <a:pt x="0" y="284"/>
                  </a:moveTo>
                  <a:lnTo>
                    <a:pt x="10" y="297"/>
                  </a:lnTo>
                  <a:lnTo>
                    <a:pt x="294" y="13"/>
                  </a:lnTo>
                  <a:lnTo>
                    <a:pt x="283" y="0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02920" y="4451400"/>
              <a:ext cx="1244160" cy="2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49200" y="4913280"/>
              <a:ext cx="66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82080" y="4451400"/>
              <a:ext cx="823680" cy="2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29480" y="4924080"/>
              <a:ext cx="38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32160" y="3671280"/>
              <a:ext cx="91080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53040" y="3682440"/>
              <a:ext cx="43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Fulfilment</a:t>
              </a:r>
              <a:endParaRPr b="0" lang="en-US" sz="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94800" y="3671280"/>
              <a:ext cx="90684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25480" y="3681720"/>
              <a:ext cx="427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ssurance</a:t>
              </a:r>
              <a:endParaRPr b="0" lang="en-US" sz="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51840" y="3671280"/>
              <a:ext cx="67680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99080" y="368172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illing</a:t>
              </a:r>
              <a:endParaRPr b="0" lang="en-US" sz="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85600" y="3671280"/>
              <a:ext cx="92304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69720" y="3646800"/>
              <a:ext cx="49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nvocation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09280" y="3867120"/>
              <a:ext cx="24120" cy="168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51840" y="5882040"/>
              <a:ext cx="984240" cy="2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66480" y="5774040"/>
              <a:ext cx="49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98120" y="3564000"/>
              <a:ext cx="255600" cy="297360"/>
            </a:xfrm>
            <a:custGeom>
              <a:avLst/>
              <a:gdLst/>
              <a:ahLst/>
              <a:rect l="l" t="t" r="r" b="b"/>
              <a:pathLst>
                <a:path w="294" h="297">
                  <a:moveTo>
                    <a:pt x="0" y="284"/>
                  </a:moveTo>
                  <a:lnTo>
                    <a:pt x="10" y="297"/>
                  </a:lnTo>
                  <a:lnTo>
                    <a:pt x="294" y="13"/>
                  </a:lnTo>
                  <a:lnTo>
                    <a:pt x="283" y="0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2068920" y="3150360"/>
              <a:ext cx="747360" cy="520560"/>
              <a:chOff x="2068920" y="3150360"/>
              <a:chExt cx="74736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2068920" y="3150360"/>
                <a:ext cx="645840" cy="452160"/>
              </a:xfrm>
              <a:prstGeom prst="line">
                <a:avLst/>
              </a:prstGeom>
              <a:ln w="75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72640" y="3549600"/>
                <a:ext cx="143640" cy="121320"/>
              </a:xfrm>
              <a:custGeom>
                <a:avLst/>
                <a:gdLst/>
                <a:ahLst/>
                <a:rect l="l" t="t" r="r" b="b"/>
                <a:pathLst>
                  <a:path w="109" h="99">
                    <a:moveTo>
                      <a:pt x="0" y="80"/>
                    </a:moveTo>
                    <a:lnTo>
                      <a:pt x="109" y="99"/>
                    </a:lnTo>
                    <a:lnTo>
                      <a:pt x="59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2095920" y="3152880"/>
              <a:ext cx="1684440" cy="594000"/>
              <a:chOff x="2095920" y="3152880"/>
              <a:chExt cx="1684440" cy="594000"/>
            </a:xfrm>
          </p:grpSpPr>
          <p:sp>
            <p:nvSpPr>
              <p:cNvPr id="356" name=""/>
              <p:cNvSpPr/>
              <p:nvPr/>
            </p:nvSpPr>
            <p:spPr>
              <a:xfrm>
                <a:off x="2095920" y="3152880"/>
                <a:ext cx="1567440" cy="537840"/>
              </a:xfrm>
              <a:prstGeom prst="line">
                <a:avLst/>
              </a:prstGeom>
              <a:ln w="75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634200" y="3636000"/>
                <a:ext cx="146160" cy="110880"/>
              </a:xfrm>
              <a:custGeom>
                <a:avLst/>
                <a:gdLst/>
                <a:ahLst/>
                <a:rect l="l" t="t" r="r" b="b"/>
                <a:pathLst>
                  <a:path w="111" h="95">
                    <a:moveTo>
                      <a:pt x="0" y="95"/>
                    </a:moveTo>
                    <a:lnTo>
                      <a:pt x="111" y="83"/>
                    </a:lnTo>
                    <a:lnTo>
                      <a:pt x="35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2124720" y="3166920"/>
              <a:ext cx="2618280" cy="531000"/>
              <a:chOff x="2124720" y="3166920"/>
              <a:chExt cx="2618280" cy="531000"/>
            </a:xfrm>
          </p:grpSpPr>
          <p:sp>
            <p:nvSpPr>
              <p:cNvPr id="359" name=""/>
              <p:cNvSpPr/>
              <p:nvPr/>
            </p:nvSpPr>
            <p:spPr>
              <a:xfrm>
                <a:off x="2124720" y="3166920"/>
                <a:ext cx="2494440" cy="472320"/>
              </a:xfrm>
              <a:prstGeom prst="line">
                <a:avLst/>
              </a:prstGeom>
              <a:ln w="75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00800" y="3583080"/>
                <a:ext cx="142200" cy="114840"/>
              </a:xfrm>
              <a:custGeom>
                <a:avLst/>
                <a:gdLst/>
                <a:ahLst/>
                <a:rect l="l" t="t" r="r" b="b"/>
                <a:pathLst>
                  <a:path w="108" h="98">
                    <a:moveTo>
                      <a:pt x="0" y="98"/>
                    </a:moveTo>
                    <a:lnTo>
                      <a:pt x="108" y="69"/>
                    </a:lnTo>
                    <a:lnTo>
                      <a:pt x="21" y="0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100240" y="3147480"/>
              <a:ext cx="3670560" cy="609120"/>
              <a:chOff x="2100240" y="3147480"/>
              <a:chExt cx="3670560" cy="609120"/>
            </a:xfrm>
          </p:grpSpPr>
          <p:sp>
            <p:nvSpPr>
              <p:cNvPr id="362" name=""/>
              <p:cNvSpPr/>
              <p:nvPr/>
            </p:nvSpPr>
            <p:spPr>
              <a:xfrm>
                <a:off x="2100240" y="3147480"/>
                <a:ext cx="3561480" cy="551880"/>
              </a:xfrm>
              <a:prstGeom prst="line">
                <a:avLst/>
              </a:prstGeom>
              <a:ln w="75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647680" y="3643200"/>
                <a:ext cx="123120" cy="113400"/>
              </a:xfrm>
              <a:custGeom>
                <a:avLst/>
                <a:gdLst/>
                <a:ahLst/>
                <a:rect l="l" t="t" r="r" b="b"/>
                <a:pathLst>
                  <a:path w="107" h="99">
                    <a:moveTo>
                      <a:pt x="0" y="99"/>
                    </a:moveTo>
                    <a:lnTo>
                      <a:pt x="107" y="64"/>
                    </a:lnTo>
                    <a:lnTo>
                      <a:pt x="15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1521360" y="4216680"/>
              <a:ext cx="108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  <a:ea typeface="Gulim"/>
                </a:rPr>
                <a:t>Functional groupings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757520" y="4712040"/>
              <a:ext cx="962640" cy="324360"/>
              <a:chOff x="1757520" y="4712040"/>
              <a:chExt cx="962640" cy="324360"/>
            </a:xfrm>
          </p:grpSpPr>
          <p:sp>
            <p:nvSpPr>
              <p:cNvPr id="366" name=""/>
              <p:cNvSpPr/>
              <p:nvPr/>
            </p:nvSpPr>
            <p:spPr>
              <a:xfrm>
                <a:off x="1757520" y="4712040"/>
                <a:ext cx="846720" cy="284400"/>
              </a:xfrm>
              <a:prstGeom prst="line">
                <a:avLst/>
              </a:prstGeom>
              <a:ln w="7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67880" y="4955040"/>
                <a:ext cx="152280" cy="81360"/>
              </a:xfrm>
              <a:custGeom>
                <a:avLst/>
                <a:gdLst/>
                <a:ahLst/>
                <a:rect l="l" t="t" r="r" b="b"/>
                <a:pathLst>
                  <a:path w="112" h="89">
                    <a:moveTo>
                      <a:pt x="0" y="89"/>
                    </a:moveTo>
                    <a:lnTo>
                      <a:pt x="112" y="89"/>
                    </a:lnTo>
                    <a:lnTo>
                      <a:pt x="4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1757520" y="4712040"/>
              <a:ext cx="4046400" cy="297000"/>
              <a:chOff x="1757520" y="4712040"/>
              <a:chExt cx="4046400" cy="297000"/>
            </a:xfrm>
          </p:grpSpPr>
          <p:sp>
            <p:nvSpPr>
              <p:cNvPr id="369" name=""/>
              <p:cNvSpPr/>
              <p:nvPr/>
            </p:nvSpPr>
            <p:spPr>
              <a:xfrm>
                <a:off x="1757520" y="4712040"/>
                <a:ext cx="3916080" cy="251640"/>
              </a:xfrm>
              <a:prstGeom prst="line">
                <a:avLst/>
              </a:prstGeom>
              <a:ln w="7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662440" y="4918320"/>
                <a:ext cx="141480" cy="90720"/>
              </a:xfrm>
              <a:custGeom>
                <a:avLst/>
                <a:gdLst/>
                <a:ahLst/>
                <a:rect l="l" t="t" r="r" b="b"/>
                <a:pathLst>
                  <a:path w="104" h="99">
                    <a:moveTo>
                      <a:pt x="0" y="99"/>
                    </a:moveTo>
                    <a:lnTo>
                      <a:pt x="104" y="58"/>
                    </a:lnTo>
                    <a:lnTo>
                      <a:pt x="9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1757520" y="4712040"/>
              <a:ext cx="2039400" cy="1157400"/>
              <a:chOff x="1757520" y="4712040"/>
              <a:chExt cx="2039400" cy="1157400"/>
            </a:xfrm>
          </p:grpSpPr>
          <p:sp>
            <p:nvSpPr>
              <p:cNvPr id="372" name=""/>
              <p:cNvSpPr/>
              <p:nvPr/>
            </p:nvSpPr>
            <p:spPr>
              <a:xfrm>
                <a:off x="1757520" y="4712040"/>
                <a:ext cx="1933920" cy="1097640"/>
              </a:xfrm>
              <a:prstGeom prst="line">
                <a:avLst/>
              </a:prstGeom>
              <a:ln w="7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627720" y="5773320"/>
                <a:ext cx="169200" cy="9612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0" y="71"/>
                    </a:moveTo>
                    <a:lnTo>
                      <a:pt x="106" y="106"/>
                    </a:lnTo>
                    <a:lnTo>
                      <a:pt x="71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4150080" y="3088800"/>
              <a:ext cx="52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Resources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10800" y="1681920"/>
              <a:ext cx="4489560" cy="1008360"/>
            </a:xfrm>
            <a:custGeom>
              <a:avLst/>
              <a:gdLst/>
              <a:ahLst/>
              <a:rect l="l" t="t" r="r" b="b"/>
              <a:pathLst>
                <a:path w="5385" h="1701">
                  <a:moveTo>
                    <a:pt x="865" y="0"/>
                  </a:moveTo>
                  <a:lnTo>
                    <a:pt x="0" y="865"/>
                  </a:lnTo>
                  <a:lnTo>
                    <a:pt x="0" y="1701"/>
                  </a:lnTo>
                  <a:lnTo>
                    <a:pt x="4520" y="1701"/>
                  </a:lnTo>
                  <a:lnTo>
                    <a:pt x="5385" y="836"/>
                  </a:lnTo>
                  <a:lnTo>
                    <a:pt x="5385" y="0"/>
                  </a:lnTo>
                  <a:lnTo>
                    <a:pt x="865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91720" y="1670040"/>
              <a:ext cx="4508640" cy="648360"/>
            </a:xfrm>
            <a:custGeom>
              <a:avLst/>
              <a:gdLst/>
              <a:ahLst/>
              <a:rect l="l" t="t" r="r" b="b"/>
              <a:pathLst>
                <a:path w="5385" h="865">
                  <a:moveTo>
                    <a:pt x="0" y="865"/>
                  </a:moveTo>
                  <a:lnTo>
                    <a:pt x="4520" y="865"/>
                  </a:lnTo>
                  <a:lnTo>
                    <a:pt x="5385" y="0"/>
                  </a:lnTo>
                  <a:lnTo>
                    <a:pt x="865" y="0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ff8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76600" y="1670040"/>
              <a:ext cx="4523760" cy="997920"/>
            </a:xfrm>
            <a:custGeom>
              <a:avLst/>
              <a:gdLst/>
              <a:ahLst/>
              <a:rect l="l" t="t" r="r" b="b"/>
              <a:pathLst>
                <a:path w="5385" h="1701">
                  <a:moveTo>
                    <a:pt x="865" y="0"/>
                  </a:moveTo>
                  <a:lnTo>
                    <a:pt x="0" y="865"/>
                  </a:lnTo>
                  <a:lnTo>
                    <a:pt x="0" y="1701"/>
                  </a:lnTo>
                  <a:lnTo>
                    <a:pt x="4520" y="1701"/>
                  </a:lnTo>
                  <a:lnTo>
                    <a:pt x="5385" y="836"/>
                  </a:lnTo>
                  <a:lnTo>
                    <a:pt x="5385" y="0"/>
                  </a:lnTo>
                  <a:lnTo>
                    <a:pt x="865" y="0"/>
                  </a:lnTo>
                  <a:close/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80920" y="1650960"/>
              <a:ext cx="4507200" cy="529200"/>
            </a:xfrm>
            <a:custGeom>
              <a:avLst/>
              <a:gdLst/>
              <a:ahLst/>
              <a:rect l="l" t="t" r="r" b="b"/>
              <a:pathLst>
                <a:path w="5385" h="865">
                  <a:moveTo>
                    <a:pt x="0" y="865"/>
                  </a:moveTo>
                  <a:lnTo>
                    <a:pt x="4520" y="865"/>
                  </a:lnTo>
                  <a:lnTo>
                    <a:pt x="5385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41680" y="1853640"/>
              <a:ext cx="27302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36640" y="1700280"/>
              <a:ext cx="214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  <a:ea typeface="Gulim"/>
                </a:rPr>
                <a:t>Applicative, Middleware, Baseware  svc.s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471720" y="2170080"/>
              <a:ext cx="0" cy="4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62840" y="2422800"/>
              <a:ext cx="171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8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  <a:ea typeface="Gulim"/>
                </a:rPr>
                <a:t>Customer Operations Processes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a3d7a"/>
                </a:solidFill>
                <a:latin typeface="Times New Roman"/>
                <a:ea typeface="바탕"/>
              </a:rPr>
              <a:t>End-to-end Quality of Service (QoS)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o handle both the way in which different end system can reach agreement 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n the end-to-end QoS for a call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ow the parameters set with this upper layer protocol can be used to control the lower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ransport and access level QoS mechanisms. 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 the issue of upper layer QoS control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distinction can be made between telephony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he wider topic of QoS for multimedia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Likewise the control of lower layer QoS mechanisms is best divided into two topics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vertical” protocol linking the upper and lower layer QoS mechanisms (diffserv, etc)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lower layer “horizontal” mechanism to link the lower layer QoS control between different domains and network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72540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Gulim"/>
              </a:rPr>
              <a:t>Control Mechanism for Qo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Arial"/>
              </a:rPr>
              <a:t>DWDM based NGN QoS provis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5720" y="3343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143000" y="2590920"/>
          <a:ext cx="7162920" cy="39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90920"/>
                    <a:ext cx="716292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  <a:ea typeface="Arial Unicode MS"/>
              </a:rPr>
              <a:t>Service platforms(APIs)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GN work on service platforms(API) should concentrate o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Definition of service control architectures covering both OSA APIs and proxy aspect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Enhancement of mechanisms to support provision of services across multiple networks covering both service roaming and interconnectivity of service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Development of mechanisms to support user presence and user control of service customisation and profile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Impact of user mobility on service platform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46400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Enhancement “core” network management architectur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definition of basic network management services and interface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Development common TMN working method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TMN to TMN interoperation using X-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Information models for Optical Transport Network    (OTN) management for NG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Inclusion and application of new architectural concepts and new technologies such as tML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  <a:ea typeface="바탕"/>
              </a:rPr>
              <a:t>Network management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MPLS Gateway Networking Solution implicat.s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371600" y="1539360"/>
            <a:ext cx="7772400" cy="476892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992320" y="3014640"/>
            <a:ext cx="446040" cy="801720"/>
          </a:xfrm>
          <a:prstGeom prst="rect">
            <a:avLst/>
          </a:prstGeom>
          <a:ln w="0">
            <a:noFill/>
          </a:ln>
        </p:spPr>
      </p:pic>
      <p:pic>
        <p:nvPicPr>
          <p:cNvPr id="397" name="Big_Cloud" descr=""/>
          <p:cNvPicPr/>
          <p:nvPr/>
        </p:nvPicPr>
        <p:blipFill>
          <a:blip r:embed="rId2"/>
          <a:stretch/>
        </p:blipFill>
        <p:spPr>
          <a:xfrm>
            <a:off x="3137040" y="2530440"/>
            <a:ext cx="3122640" cy="27687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 flipH="1">
            <a:off x="6372360" y="1460520"/>
            <a:ext cx="1440" cy="5110200"/>
          </a:xfrm>
          <a:prstGeom prst="line">
            <a:avLst/>
          </a:prstGeom>
          <a:ln w="9360">
            <a:solidFill>
              <a:srgbClr val="5b52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32160" y="1511280"/>
            <a:ext cx="15840" cy="5022720"/>
          </a:xfrm>
          <a:prstGeom prst="line">
            <a:avLst/>
          </a:prstGeom>
          <a:ln w="9360">
            <a:solidFill>
              <a:srgbClr val="5b52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219720" y="1600200"/>
            <a:ext cx="27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Arial"/>
              </a:rPr>
              <a:t>Multiservice Access Network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8800" y="160020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Arial"/>
              </a:rPr>
              <a:t>Multiservice Access Network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15720" y="160020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5b5249"/>
                </a:solidFill>
                <a:latin typeface="Arial"/>
              </a:rPr>
              <a:t>Core Network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3040" y="4889160"/>
            <a:ext cx="833400" cy="540000"/>
          </a:xfrm>
          <a:prstGeom prst="rect">
            <a:avLst/>
          </a:prstGeom>
          <a:solidFill>
            <a:srgbClr val="ecf5fe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Arial"/>
              </a:rPr>
              <a:t>L3 VPN and other IP services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283760" y="3456000"/>
            <a:ext cx="48276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306440" y="3174840"/>
            <a:ext cx="487440" cy="18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86280" y="27176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Arial"/>
              </a:rPr>
              <a:t>AT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25880" y="291636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Arial"/>
              </a:rPr>
              <a:t>F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77920" y="3670200"/>
            <a:ext cx="782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287360" y="2938320"/>
            <a:ext cx="503280" cy="504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342800" y="5111640"/>
            <a:ext cx="284040" cy="18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7569360" y="3559320"/>
            <a:ext cx="504720" cy="28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7589880" y="3191040"/>
            <a:ext cx="458640" cy="144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20400" y="27226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Arial"/>
              </a:rPr>
              <a:t>AT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60000" y="294948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Arial"/>
              </a:rPr>
              <a:t>F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99520" y="3603600"/>
            <a:ext cx="782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7550280" y="2931840"/>
            <a:ext cx="503280" cy="324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7546680" y="5219640"/>
            <a:ext cx="501480" cy="64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06440" y="2838600"/>
            <a:ext cx="893880" cy="838080"/>
            <a:chOff x="406440" y="2838600"/>
            <a:chExt cx="893880" cy="838080"/>
          </a:xfrm>
        </p:grpSpPr>
        <p:sp>
          <p:nvSpPr>
            <p:cNvPr id="419" name=""/>
            <p:cNvSpPr/>
            <p:nvPr/>
          </p:nvSpPr>
          <p:spPr>
            <a:xfrm>
              <a:off x="406440" y="2838600"/>
              <a:ext cx="893880" cy="838080"/>
            </a:xfrm>
            <a:prstGeom prst="rect">
              <a:avLst/>
            </a:prstGeom>
            <a:solidFill>
              <a:srgbClr val="ecf5fe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6440" y="2871720"/>
              <a:ext cx="86688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buClr>
                  <a:srgbClr val="5b524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Arial"/>
                </a:rPr>
                <a:t>L2/L3 VPN services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5b524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Arial"/>
                </a:rPr>
                <a:t>Traditional L2 services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8031240" y="4998960"/>
            <a:ext cx="833400" cy="540000"/>
          </a:xfrm>
          <a:prstGeom prst="rect">
            <a:avLst/>
          </a:prstGeom>
          <a:solidFill>
            <a:srgbClr val="ecf5fe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Arial"/>
              </a:rPr>
              <a:t>L3 VPN and other IP services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8066160" y="2809800"/>
            <a:ext cx="931680" cy="812880"/>
            <a:chOff x="8066160" y="2809800"/>
            <a:chExt cx="931680" cy="812880"/>
          </a:xfrm>
        </p:grpSpPr>
        <p:sp>
          <p:nvSpPr>
            <p:cNvPr id="423" name=""/>
            <p:cNvSpPr/>
            <p:nvPr/>
          </p:nvSpPr>
          <p:spPr>
            <a:xfrm>
              <a:off x="8066160" y="2809800"/>
              <a:ext cx="931680" cy="812880"/>
            </a:xfrm>
            <a:prstGeom prst="rect">
              <a:avLst/>
            </a:prstGeom>
            <a:solidFill>
              <a:srgbClr val="ecf5fe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66160" y="2841840"/>
              <a:ext cx="90360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buClr>
                  <a:srgbClr val="5b524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Arial"/>
                </a:rPr>
                <a:t>L2/L3 VPN services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5b524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Arial"/>
                </a:rPr>
                <a:t>Traditional L2 services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425" name="Big_Cloud" descr=""/>
          <p:cNvPicPr/>
          <p:nvPr/>
        </p:nvPicPr>
        <p:blipFill>
          <a:blip r:embed="rId3"/>
          <a:stretch/>
        </p:blipFill>
        <p:spPr>
          <a:xfrm>
            <a:off x="6627960" y="4813200"/>
            <a:ext cx="1004760" cy="9223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 flipH="1">
            <a:off x="2647440" y="3319560"/>
            <a:ext cx="427320" cy="1440"/>
          </a:xfrm>
          <a:prstGeom prst="line">
            <a:avLst/>
          </a:prstGeom>
          <a:ln w="2844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39600" bIns="-396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370560" y="3234960"/>
            <a:ext cx="374760" cy="4680"/>
          </a:xfrm>
          <a:prstGeom prst="line">
            <a:avLst/>
          </a:prstGeom>
          <a:ln w="2844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98800" y="4359240"/>
            <a:ext cx="15573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Arial"/>
              </a:rPr>
              <a:t>MPLS Cor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2572920" y="4435560"/>
            <a:ext cx="716040" cy="5158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55800" y="4816440"/>
            <a:ext cx="8384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b5249"/>
                </a:solidFill>
                <a:latin typeface="Arial"/>
              </a:rPr>
              <a:t>IP Routing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31" name="Big_Cloud" descr=""/>
          <p:cNvPicPr/>
          <p:nvPr/>
        </p:nvPicPr>
        <p:blipFill>
          <a:blip r:embed="rId4"/>
          <a:stretch/>
        </p:blipFill>
        <p:spPr>
          <a:xfrm>
            <a:off x="1701720" y="2489040"/>
            <a:ext cx="995400" cy="17067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755360" y="3030480"/>
            <a:ext cx="8712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Arial"/>
              </a:rPr>
              <a:t>L2 Acces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Arial"/>
              </a:rPr>
              <a:t>Network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33" name="Big_Cloud" descr=""/>
          <p:cNvPicPr/>
          <p:nvPr/>
        </p:nvPicPr>
        <p:blipFill>
          <a:blip r:embed="rId5"/>
          <a:stretch/>
        </p:blipFill>
        <p:spPr>
          <a:xfrm>
            <a:off x="1606680" y="4502160"/>
            <a:ext cx="1149120" cy="9730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717240" y="5045040"/>
            <a:ext cx="8438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Arial"/>
              </a:rPr>
              <a:t>IP-bas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b5249"/>
                </a:solidFill>
                <a:latin typeface="Arial"/>
              </a:rPr>
              <a:t>Network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992920" y="4514760"/>
            <a:ext cx="726840" cy="4888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59560" y="4764240"/>
            <a:ext cx="838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b5249"/>
                </a:solidFill>
                <a:latin typeface="Arial"/>
              </a:rPr>
              <a:t>IP Routing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37" name="Big_Cloud" descr=""/>
          <p:cNvPicPr/>
          <p:nvPr/>
        </p:nvPicPr>
        <p:blipFill>
          <a:blip r:embed="rId6"/>
          <a:stretch/>
        </p:blipFill>
        <p:spPr>
          <a:xfrm>
            <a:off x="6643800" y="2482920"/>
            <a:ext cx="995400" cy="17064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6697080" y="3024360"/>
            <a:ext cx="8712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Arial"/>
              </a:rPr>
              <a:t>L2 Acces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Arial"/>
              </a:rPr>
              <a:t>Network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768320" y="1940040"/>
            <a:ext cx="5730840" cy="1012320"/>
            <a:chOff x="1768320" y="1940040"/>
            <a:chExt cx="5730840" cy="1012320"/>
          </a:xfrm>
        </p:grpSpPr>
        <p:sp>
          <p:nvSpPr>
            <p:cNvPr id="440" name=""/>
            <p:cNvSpPr/>
            <p:nvPr/>
          </p:nvSpPr>
          <p:spPr>
            <a:xfrm>
              <a:off x="1768320" y="2165040"/>
              <a:ext cx="5730840" cy="787320"/>
            </a:xfrm>
            <a:custGeom>
              <a:avLst/>
              <a:gdLst/>
              <a:ahLst/>
              <a:rect l="l" t="t" r="r" b="b"/>
              <a:pathLst>
                <a:path w="2514" h="465">
                  <a:moveTo>
                    <a:pt x="0" y="419"/>
                  </a:moveTo>
                  <a:cubicBezTo>
                    <a:pt x="201" y="350"/>
                    <a:pt x="788" y="0"/>
                    <a:pt x="1207" y="8"/>
                  </a:cubicBezTo>
                  <a:cubicBezTo>
                    <a:pt x="1626" y="16"/>
                    <a:pt x="2242" y="370"/>
                    <a:pt x="2514" y="465"/>
                  </a:cubicBezTo>
                </a:path>
              </a:pathLst>
            </a:custGeom>
            <a:noFill/>
            <a:ln cap="rnd" w="28440">
              <a:solidFill>
                <a:srgbClr val="2a3d7a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768120" y="1940040"/>
              <a:ext cx="186948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a3d7a"/>
                  </a:solidFill>
                  <a:latin typeface="Arial"/>
                </a:rPr>
                <a:t>End-to-end SPVC/SVCs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054240" y="3184560"/>
            <a:ext cx="397440" cy="279360"/>
            <a:chOff x="3054240" y="3184560"/>
            <a:chExt cx="397440" cy="279360"/>
          </a:xfrm>
        </p:grpSpPr>
        <p:sp>
          <p:nvSpPr>
            <p:cNvPr id="443" name=""/>
            <p:cNvSpPr/>
            <p:nvPr/>
          </p:nvSpPr>
          <p:spPr>
            <a:xfrm>
              <a:off x="3054240" y="3184560"/>
              <a:ext cx="322920" cy="279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54600" y="3213360"/>
              <a:ext cx="3970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Arial"/>
                </a:rPr>
                <a:t>IWF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3289320" y="2301840"/>
            <a:ext cx="2684520" cy="829800"/>
            <a:chOff x="3289320" y="2301840"/>
            <a:chExt cx="2684520" cy="829800"/>
          </a:xfrm>
        </p:grpSpPr>
        <p:sp>
          <p:nvSpPr>
            <p:cNvPr id="446" name=""/>
            <p:cNvSpPr/>
            <p:nvPr/>
          </p:nvSpPr>
          <p:spPr>
            <a:xfrm>
              <a:off x="3767040" y="2301840"/>
              <a:ext cx="16797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a3d7a"/>
                  </a:solidFill>
                  <a:latin typeface="Arial"/>
                </a:rPr>
                <a:t>PNNI Networking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89320" y="2663640"/>
              <a:ext cx="2684520" cy="468000"/>
            </a:xfrm>
            <a:custGeom>
              <a:avLst/>
              <a:gdLst/>
              <a:ahLst/>
              <a:rect l="l" t="t" r="r" b="b"/>
              <a:pathLst>
                <a:path w="2514" h="465">
                  <a:moveTo>
                    <a:pt x="0" y="419"/>
                  </a:moveTo>
                  <a:cubicBezTo>
                    <a:pt x="201" y="350"/>
                    <a:pt x="788" y="0"/>
                    <a:pt x="1207" y="8"/>
                  </a:cubicBezTo>
                  <a:cubicBezTo>
                    <a:pt x="1626" y="16"/>
                    <a:pt x="2242" y="370"/>
                    <a:pt x="2514" y="465"/>
                  </a:cubicBezTo>
                </a:path>
              </a:pathLst>
            </a:custGeom>
            <a:noFill/>
            <a:ln cap="rnd" w="28440">
              <a:solidFill>
                <a:srgbClr val="2a3d7a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365640" y="3368520"/>
            <a:ext cx="2781000" cy="723960"/>
            <a:chOff x="3365640" y="3368520"/>
            <a:chExt cx="2781000" cy="723960"/>
          </a:xfrm>
        </p:grpSpPr>
        <p:sp>
          <p:nvSpPr>
            <p:cNvPr id="449" name=""/>
            <p:cNvSpPr/>
            <p:nvPr/>
          </p:nvSpPr>
          <p:spPr>
            <a:xfrm>
              <a:off x="3365640" y="3368520"/>
              <a:ext cx="2781000" cy="723960"/>
            </a:xfrm>
            <a:custGeom>
              <a:avLst/>
              <a:gdLst/>
              <a:ahLst/>
              <a:rect l="l" t="t" r="r" b="b"/>
              <a:pathLst>
                <a:path w="1744" h="456">
                  <a:moveTo>
                    <a:pt x="0" y="0"/>
                  </a:moveTo>
                  <a:cubicBezTo>
                    <a:pt x="78" y="220"/>
                    <a:pt x="156" y="441"/>
                    <a:pt x="296" y="448"/>
                  </a:cubicBezTo>
                  <a:cubicBezTo>
                    <a:pt x="436" y="455"/>
                    <a:pt x="659" y="41"/>
                    <a:pt x="840" y="40"/>
                  </a:cubicBezTo>
                  <a:cubicBezTo>
                    <a:pt x="1021" y="39"/>
                    <a:pt x="1233" y="424"/>
                    <a:pt x="1384" y="440"/>
                  </a:cubicBezTo>
                  <a:cubicBezTo>
                    <a:pt x="1535" y="456"/>
                    <a:pt x="1683" y="193"/>
                    <a:pt x="1744" y="136"/>
                  </a:cubicBezTo>
                </a:path>
              </a:pathLst>
            </a:custGeom>
            <a:noFill/>
            <a:ln w="38160">
              <a:solidFill>
                <a:srgbClr val="2a3d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24160" y="3825720"/>
              <a:ext cx="11775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a3d7a"/>
                  </a:solidFill>
                  <a:latin typeface="Arial"/>
                </a:rPr>
                <a:t>Stacked LSPs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3289320" y="3216240"/>
            <a:ext cx="2666880" cy="457200"/>
          </a:xfrm>
          <a:custGeom>
            <a:avLst/>
            <a:gdLst/>
            <a:ahLst/>
            <a:rect l="l" t="t" r="r" b="b"/>
            <a:pathLst>
              <a:path w="1699" h="315">
                <a:moveTo>
                  <a:pt x="75" y="315"/>
                </a:moveTo>
                <a:cubicBezTo>
                  <a:pt x="37" y="309"/>
                  <a:pt x="0" y="303"/>
                  <a:pt x="123" y="251"/>
                </a:cubicBezTo>
                <a:cubicBezTo>
                  <a:pt x="246" y="199"/>
                  <a:pt x="548" y="0"/>
                  <a:pt x="811" y="3"/>
                </a:cubicBezTo>
                <a:cubicBezTo>
                  <a:pt x="1074" y="6"/>
                  <a:pt x="1386" y="136"/>
                  <a:pt x="1699" y="267"/>
                </a:cubicBezTo>
              </a:path>
            </a:pathLst>
          </a:custGeom>
          <a:noFill/>
          <a:ln cap="rnd" w="28440">
            <a:solidFill>
              <a:srgbClr val="2a3d7a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65000" y="2550960"/>
            <a:ext cx="12614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b5249"/>
                </a:solidFill>
                <a:latin typeface="Arial"/>
              </a:rPr>
              <a:t>MPLS Gatewa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20880" y="2606760"/>
            <a:ext cx="12614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b5249"/>
                </a:solidFill>
                <a:latin typeface="Arial"/>
              </a:rPr>
              <a:t>MPLS Gatewa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1319040" y="3637080"/>
            <a:ext cx="43992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7605720" y="3406680"/>
            <a:ext cx="496800" cy="144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374920" y="3514680"/>
            <a:ext cx="665280" cy="10731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97480" y="3494160"/>
            <a:ext cx="790560" cy="1326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14600" y="3156120"/>
            <a:ext cx="6224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3d7a"/>
                </a:solidFill>
                <a:latin typeface="Arial"/>
              </a:rPr>
              <a:t>PNNI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67600" y="3070080"/>
            <a:ext cx="6220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3d7a"/>
                </a:solidFill>
                <a:latin typeface="Arial"/>
              </a:rPr>
              <a:t>PNNI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7"/>
          <a:stretch/>
        </p:blipFill>
        <p:spPr>
          <a:xfrm>
            <a:off x="5964120" y="3090960"/>
            <a:ext cx="446040" cy="801720"/>
          </a:xfrm>
          <a:prstGeom prst="rect">
            <a:avLst/>
          </a:prstGeom>
          <a:ln w="0">
            <a:noFill/>
          </a:ln>
        </p:spPr>
      </p:pic>
      <p:grpSp>
        <p:nvGrpSpPr>
          <p:cNvPr id="461" name=""/>
          <p:cNvGrpSpPr/>
          <p:nvPr/>
        </p:nvGrpSpPr>
        <p:grpSpPr>
          <a:xfrm>
            <a:off x="6040440" y="3319560"/>
            <a:ext cx="397440" cy="279360"/>
            <a:chOff x="6040440" y="3319560"/>
            <a:chExt cx="397440" cy="279360"/>
          </a:xfrm>
        </p:grpSpPr>
        <p:sp>
          <p:nvSpPr>
            <p:cNvPr id="462" name=""/>
            <p:cNvSpPr/>
            <p:nvPr/>
          </p:nvSpPr>
          <p:spPr>
            <a:xfrm>
              <a:off x="6040440" y="3319560"/>
              <a:ext cx="322920" cy="279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40800" y="3348360"/>
              <a:ext cx="3970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Arial"/>
                </a:rPr>
                <a:t>IWF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743280" y="2949480"/>
            <a:ext cx="1679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a3d7a"/>
                </a:solidFill>
                <a:latin typeface="Arial"/>
              </a:rPr>
              <a:t>CR-LDP/RSVP-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64360" y="4740120"/>
            <a:ext cx="8438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Arial"/>
              </a:rPr>
              <a:t>IP-bas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b5249"/>
                </a:solidFill>
                <a:latin typeface="Arial"/>
              </a:rPr>
              <a:t>Network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</a:rPr>
              <a:t>OAM &amp; Fault Management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467" name="Big_Cloud" descr=""/>
          <p:cNvPicPr/>
          <p:nvPr/>
        </p:nvPicPr>
        <p:blipFill>
          <a:blip r:embed="rId1"/>
          <a:stretch/>
        </p:blipFill>
        <p:spPr>
          <a:xfrm>
            <a:off x="7140600" y="4255920"/>
            <a:ext cx="2003400" cy="924120"/>
          </a:xfrm>
          <a:prstGeom prst="rect">
            <a:avLst/>
          </a:prstGeom>
          <a:ln w="0">
            <a:noFill/>
          </a:ln>
        </p:spPr>
      </p:pic>
      <p:pic>
        <p:nvPicPr>
          <p:cNvPr id="468" name="Big_Cloud" descr=""/>
          <p:cNvPicPr/>
          <p:nvPr/>
        </p:nvPicPr>
        <p:blipFill>
          <a:blip r:embed="rId2"/>
          <a:stretch/>
        </p:blipFill>
        <p:spPr>
          <a:xfrm>
            <a:off x="3008160" y="2308320"/>
            <a:ext cx="4768920" cy="24890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 flipH="1" flipV="1">
            <a:off x="6889680" y="3154320"/>
            <a:ext cx="1184400" cy="7920"/>
          </a:xfrm>
          <a:prstGeom prst="line">
            <a:avLst/>
          </a:prstGeom>
          <a:ln w="2844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33120" bIns="-331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5059080" y="3743280"/>
            <a:ext cx="1127160" cy="647640"/>
          </a:xfrm>
          <a:prstGeom prst="line">
            <a:avLst/>
          </a:prstGeom>
          <a:ln w="2844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3720600" y="3567240"/>
            <a:ext cx="1055880" cy="353880"/>
          </a:xfrm>
          <a:prstGeom prst="line">
            <a:avLst/>
          </a:prstGeom>
          <a:ln w="2844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720600" y="3095640"/>
            <a:ext cx="1197000" cy="471600"/>
          </a:xfrm>
          <a:prstGeom prst="line">
            <a:avLst/>
          </a:prstGeom>
          <a:ln w="2844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3790440" y="3095640"/>
            <a:ext cx="2676600" cy="117360"/>
          </a:xfrm>
          <a:prstGeom prst="line">
            <a:avLst/>
          </a:prstGeom>
          <a:ln w="2844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6325920" y="3271680"/>
            <a:ext cx="423720" cy="295560"/>
          </a:xfrm>
          <a:prstGeom prst="line">
            <a:avLst/>
          </a:prstGeom>
          <a:ln w="2844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5128920" y="3271680"/>
            <a:ext cx="1338120" cy="236520"/>
          </a:xfrm>
          <a:prstGeom prst="line">
            <a:avLst/>
          </a:prstGeom>
          <a:ln w="2844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5128920" y="3567240"/>
            <a:ext cx="1057320" cy="117360"/>
          </a:xfrm>
          <a:prstGeom prst="line">
            <a:avLst/>
          </a:prstGeom>
          <a:ln w="2844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79840" y="3095640"/>
            <a:ext cx="0" cy="825480"/>
          </a:xfrm>
          <a:prstGeom prst="line">
            <a:avLst/>
          </a:prstGeom>
          <a:ln w="2844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2368080" y="3917880"/>
            <a:ext cx="1141560" cy="61920"/>
          </a:xfrm>
          <a:prstGeom prst="line">
            <a:avLst/>
          </a:prstGeom>
          <a:ln w="2844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20880" bIns="2088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3720600" y="4038120"/>
            <a:ext cx="986040" cy="352440"/>
          </a:xfrm>
          <a:prstGeom prst="line">
            <a:avLst/>
          </a:prstGeom>
          <a:ln w="2844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5200200" y="4390920"/>
            <a:ext cx="1055880" cy="0"/>
          </a:xfrm>
          <a:prstGeom prst="line">
            <a:avLst/>
          </a:prstGeom>
          <a:ln w="2844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6186600" y="3801600"/>
            <a:ext cx="280800" cy="530280"/>
          </a:xfrm>
          <a:prstGeom prst="line">
            <a:avLst/>
          </a:prstGeom>
          <a:ln w="2844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4637160" y="4214880"/>
            <a:ext cx="703080" cy="3920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4637160" y="3390840"/>
            <a:ext cx="703080" cy="3906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5904000" y="3508200"/>
            <a:ext cx="704880" cy="3906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6"/>
          <a:stretch/>
        </p:blipFill>
        <p:spPr>
          <a:xfrm>
            <a:off x="6397560" y="3036960"/>
            <a:ext cx="703440" cy="3920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7"/>
          <a:stretch/>
        </p:blipFill>
        <p:spPr>
          <a:xfrm>
            <a:off x="3227400" y="3801960"/>
            <a:ext cx="704880" cy="3920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8"/>
          <a:stretch/>
        </p:blipFill>
        <p:spPr>
          <a:xfrm>
            <a:off x="3227400" y="2860560"/>
            <a:ext cx="704880" cy="3906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9"/>
          <a:stretch/>
        </p:blipFill>
        <p:spPr>
          <a:xfrm>
            <a:off x="6045120" y="4156200"/>
            <a:ext cx="704880" cy="392040"/>
          </a:xfrm>
          <a:prstGeom prst="rect">
            <a:avLst/>
          </a:prstGeom>
          <a:ln w="0">
            <a:noFill/>
          </a:ln>
        </p:spPr>
      </p:pic>
      <p:pic>
        <p:nvPicPr>
          <p:cNvPr id="489" name="Big_Cloud" descr=""/>
          <p:cNvPicPr/>
          <p:nvPr/>
        </p:nvPicPr>
        <p:blipFill>
          <a:blip r:embed="rId10"/>
          <a:stretch/>
        </p:blipFill>
        <p:spPr>
          <a:xfrm>
            <a:off x="851040" y="3375000"/>
            <a:ext cx="1546200" cy="11890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867240" y="3701880"/>
            <a:ext cx="1459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Arial"/>
              </a:rPr>
              <a:t>ATM Network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5b524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422480" y="4438800"/>
            <a:ext cx="1515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Arial"/>
              </a:rPr>
              <a:t>ATM Network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05280" y="3154320"/>
            <a:ext cx="2589120" cy="836640"/>
          </a:xfrm>
          <a:custGeom>
            <a:avLst/>
            <a:gdLst/>
            <a:ahLst/>
            <a:rect l="l" t="t" r="r" b="b"/>
            <a:pathLst>
              <a:path w="3142" h="1199">
                <a:moveTo>
                  <a:pt x="0" y="1010"/>
                </a:moveTo>
                <a:lnTo>
                  <a:pt x="702" y="766"/>
                </a:lnTo>
                <a:lnTo>
                  <a:pt x="1566" y="430"/>
                </a:lnTo>
                <a:lnTo>
                  <a:pt x="2838" y="183"/>
                </a:lnTo>
                <a:lnTo>
                  <a:pt x="2975" y="0"/>
                </a:lnTo>
                <a:lnTo>
                  <a:pt x="3142" y="78"/>
                </a:lnTo>
                <a:lnTo>
                  <a:pt x="2927" y="330"/>
                </a:lnTo>
                <a:lnTo>
                  <a:pt x="1566" y="622"/>
                </a:lnTo>
                <a:lnTo>
                  <a:pt x="58" y="1199"/>
                </a:lnTo>
                <a:lnTo>
                  <a:pt x="0" y="1010"/>
                </a:lnTo>
                <a:close/>
              </a:path>
            </a:pathLst>
          </a:custGeom>
          <a:solidFill>
            <a:srgbClr val="b0ae6a"/>
          </a:solidFill>
          <a:ln w="1260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874400" y="2524320"/>
            <a:ext cx="1483920" cy="871200"/>
            <a:chOff x="4874400" y="2524320"/>
            <a:chExt cx="1483920" cy="871200"/>
          </a:xfrm>
        </p:grpSpPr>
        <p:sp>
          <p:nvSpPr>
            <p:cNvPr id="494" name=""/>
            <p:cNvSpPr/>
            <p:nvPr/>
          </p:nvSpPr>
          <p:spPr>
            <a:xfrm>
              <a:off x="4874400" y="2524320"/>
              <a:ext cx="14839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b5249"/>
                  </a:solidFill>
                  <a:latin typeface="Arial"/>
                </a:rPr>
                <a:t>LSP “tunnel” 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51920" y="2808720"/>
              <a:ext cx="54000" cy="5868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8215200" y="3279600"/>
            <a:ext cx="28800" cy="1008360"/>
          </a:xfrm>
          <a:prstGeom prst="line">
            <a:avLst/>
          </a:prstGeom>
          <a:ln w="2844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402640" y="3111480"/>
            <a:ext cx="594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Arial"/>
              </a:rPr>
              <a:t>IWF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117640" y="2478240"/>
            <a:ext cx="594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Arial"/>
              </a:rPr>
              <a:t>IWF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08120" y="3741840"/>
            <a:ext cx="243000" cy="3366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072280" y="2967120"/>
            <a:ext cx="244800" cy="3366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56040" y="3662280"/>
            <a:ext cx="392400" cy="368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19200" y="4087800"/>
            <a:ext cx="390600" cy="368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684760" y="3105000"/>
            <a:ext cx="390600" cy="3668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263080" y="2770200"/>
            <a:ext cx="392040" cy="368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5943600"/>
            <a:ext cx="392040" cy="368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33840" y="6019920"/>
            <a:ext cx="2748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Arial"/>
              </a:rPr>
              <a:t>= Possible trouble locatio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3200" y="2068560"/>
            <a:ext cx="0" cy="4554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610400" y="2068560"/>
            <a:ext cx="0" cy="4554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319480" y="2068560"/>
            <a:ext cx="0" cy="4554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006720" y="2068560"/>
            <a:ext cx="0" cy="4554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3200" y="2308320"/>
            <a:ext cx="1646280" cy="0"/>
          </a:xfrm>
          <a:prstGeom prst="line">
            <a:avLst/>
          </a:prstGeom>
          <a:ln w="9360">
            <a:solidFill>
              <a:srgbClr val="5b524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03640" y="2308320"/>
            <a:ext cx="703080" cy="0"/>
          </a:xfrm>
          <a:prstGeom prst="line">
            <a:avLst/>
          </a:prstGeom>
          <a:ln w="9360">
            <a:solidFill>
              <a:srgbClr val="5b524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011400" y="2308320"/>
            <a:ext cx="4599000" cy="0"/>
          </a:xfrm>
          <a:prstGeom prst="line">
            <a:avLst/>
          </a:prstGeom>
          <a:ln w="9360">
            <a:solidFill>
              <a:srgbClr val="5b524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09960" y="1905120"/>
            <a:ext cx="6166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Arial"/>
              </a:rPr>
              <a:t>I.610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76480" y="1905120"/>
            <a:ext cx="808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Arial"/>
              </a:rPr>
              <a:t>Y.1711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368080" y="1905120"/>
            <a:ext cx="570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Arial"/>
              </a:rPr>
              <a:t>Y.iw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81080" y="4940280"/>
            <a:ext cx="1316160" cy="5446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10680" y="5092560"/>
            <a:ext cx="1077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Arial"/>
              </a:rPr>
              <a:t>OSF/TM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716120" y="448308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764240" y="4940280"/>
            <a:ext cx="1315800" cy="5446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068080" y="5092560"/>
            <a:ext cx="752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Arial"/>
              </a:rPr>
              <a:t>SNM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450040" y="471132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01920" y="5192640"/>
            <a:ext cx="2374920" cy="0"/>
          </a:xfrm>
          <a:prstGeom prst="line">
            <a:avLst/>
          </a:prstGeom>
          <a:ln w="9360">
            <a:solidFill>
              <a:srgbClr val="5b524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094200" y="4989600"/>
            <a:ext cx="838080" cy="3808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365640" y="5043600"/>
            <a:ext cx="2890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519200" y="4711680"/>
            <a:ext cx="390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48440" y="4851360"/>
            <a:ext cx="390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846800" y="4524480"/>
            <a:ext cx="8863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Arial"/>
              </a:rPr>
              <a:t>Q3, M3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  <a:ea typeface="바탕"/>
              </a:rPr>
              <a:t>Security</a:t>
            </a:r>
            <a:r>
              <a:rPr b="1" lang="en-US" sz="40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64796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Key Productio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Key Management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uthenticatio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550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eed to further develop authentication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lobal certification on security products/solution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vision of support for the transition from a traditional network environment to IP-based network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</a:rPr>
              <a:t>CONTENT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NGN activ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NGN project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N Aspec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solution in ITU-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  <a:ea typeface="바탕"/>
              </a:rPr>
              <a:t>Mobility</a:t>
            </a:r>
            <a:r>
              <a:rPr b="1" lang="en-US" sz="40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24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G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reless network and terminal configurability, including the adaptation of resource allocation,</a:t>
            </a:r>
            <a:endParaRPr b="0" lang="en-US" sz="2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24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tegration of fixed/mobile/broadcasting networks and rules for distribution and decentralized control of functional entities,</a:t>
            </a:r>
            <a:endParaRPr b="0" lang="en-US" sz="2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24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otocols that permit the network to adapt dynamically to changing channel conditions/Hand-over</a:t>
            </a:r>
            <a:endParaRPr b="0" lang="en-US" sz="2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24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바탕"/>
              </a:rPr>
              <a:t>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obal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바탕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aming, </a:t>
            </a:r>
            <a:endParaRPr b="0" lang="en-US" sz="2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24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gestion-control algorithms,</a:t>
            </a:r>
            <a:endParaRPr b="0" lang="en-US" sz="25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</a:rPr>
              <a:t>Total Solution in ITU-T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46400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 Environment 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al Functionalit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cal and Transport Networ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oS, Data network and Telecommunication Softwar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Managemen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ling and protocol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guage and Tool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 protocol and IP-based networ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al aspects, Service provision and Performanc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-magnetic environmen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medi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648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GN is the most expected near future network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rst Recommendation is expected 2004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ill combine Fixed network and Wireless network 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akes come true to ‘Mobile computing Environment’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TU-T is the most perfect org. to NGN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ring your business/requirements and make it Universal Recommendation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lease visit :  </a:t>
            </a:r>
            <a:r>
              <a:rPr b="0" lang="en-US" sz="27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http://www.itu.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</a:rPr>
              <a:t>NGN Initial Consideration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GN difficult to define in terms of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 technologies, specific architecture, Topolog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fy high-level paradigm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ion of concerns, services from networks, Service Platform approac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fy emerging NGN-generic issue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tectural principles, OSI model relevanc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for NGN models to show separation of concerns via functional architectur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/Core Separation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titive Access to Servic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Network”  to include switching/rout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transport technologies, Ethernet, ATM, IP, MPLS in various combination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obal Roaming (fixed and wireless networks)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Arial"/>
              </a:rPr>
              <a:t>NGN Service concept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6000" y="1727280"/>
            <a:ext cx="8164800" cy="4195080"/>
            <a:chOff x="486000" y="1727280"/>
            <a:chExt cx="8164800" cy="4195080"/>
          </a:xfrm>
        </p:grpSpPr>
        <p:sp>
          <p:nvSpPr>
            <p:cNvPr id="100" name=""/>
            <p:cNvSpPr/>
            <p:nvPr/>
          </p:nvSpPr>
          <p:spPr>
            <a:xfrm>
              <a:off x="486000" y="2676600"/>
              <a:ext cx="176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  <a:ea typeface="Gulim"/>
                </a:rPr>
                <a:t>Communicating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  <a:ea typeface="Gulim"/>
                </a:rPr>
                <a:t>Digital 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  <a:ea typeface="Gulim"/>
                </a:rPr>
                <a:t>Camera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67000" y="2044800"/>
              <a:ext cx="182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  <a:ea typeface="Gulim"/>
                </a:rPr>
                <a:t>Communicating 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  <a:ea typeface="Gulim"/>
                </a:rPr>
                <a:t>Coffee-maker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22360" y="2319840"/>
              <a:ext cx="23007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  <a:ea typeface="Gulim"/>
                </a:rPr>
                <a:t>IP Clock-radio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b5249"/>
                  </a:solidFill>
                  <a:latin typeface="Arial"/>
                  <a:ea typeface="Gulim"/>
                </a:rPr>
                <a:t>(Stan Moyer, Telcordia)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33680" y="5038920"/>
              <a:ext cx="15890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  <a:ea typeface="Gulim"/>
                </a:rPr>
                <a:t>IP Lighbulb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b5249"/>
                  </a:solidFill>
                  <a:latin typeface="Arial"/>
                  <a:ea typeface="Gulim"/>
                </a:rPr>
                <a:t>(Vint Cerf, MCI)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3520" y="518688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  <a:ea typeface="Gulim"/>
                </a:rPr>
                <a:t>Digital Car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04520" y="5279760"/>
              <a:ext cx="14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  <a:ea typeface="Gulim"/>
                </a:rPr>
                <a:t>IP Radio/TV/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  <a:ea typeface="Gulim"/>
                </a:rPr>
                <a:t>Audio Player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971640" y="3341520"/>
              <a:ext cx="496080" cy="443520"/>
              <a:chOff x="971640" y="3341520"/>
              <a:chExt cx="496080" cy="443520"/>
            </a:xfrm>
          </p:grpSpPr>
          <p:sp>
            <p:nvSpPr>
              <p:cNvPr id="107" name=""/>
              <p:cNvSpPr/>
              <p:nvPr/>
            </p:nvSpPr>
            <p:spPr>
              <a:xfrm>
                <a:off x="971640" y="3516840"/>
                <a:ext cx="496080" cy="2682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114920" y="3575160"/>
                <a:ext cx="182520" cy="1396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1062720" y="3423240"/>
                <a:ext cx="78480" cy="936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28600" y="3446640"/>
                <a:ext cx="20844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24080" y="3446640"/>
                <a:ext cx="39240" cy="698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23480" y="3341520"/>
                <a:ext cx="0" cy="1753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875920" y="3854520"/>
              <a:ext cx="836280" cy="235080"/>
              <a:chOff x="5875920" y="3854520"/>
              <a:chExt cx="836280" cy="235080"/>
            </a:xfrm>
          </p:grpSpPr>
          <p:sp>
            <p:nvSpPr>
              <p:cNvPr id="114" name=""/>
              <p:cNvSpPr/>
              <p:nvPr/>
            </p:nvSpPr>
            <p:spPr>
              <a:xfrm>
                <a:off x="5875920" y="3936240"/>
                <a:ext cx="234000" cy="1533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87680" y="3936240"/>
                <a:ext cx="234000" cy="1533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31800" y="3946680"/>
                <a:ext cx="222840" cy="0"/>
              </a:xfrm>
              <a:prstGeom prst="line">
                <a:avLst/>
              </a:prstGeom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6065280" y="3875040"/>
                <a:ext cx="301320" cy="7128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6411240" y="3885120"/>
                <a:ext cx="256320" cy="7128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366600" y="3875040"/>
                <a:ext cx="44280" cy="201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645240" y="3895200"/>
                <a:ext cx="66960" cy="306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973120" y="3854520"/>
                <a:ext cx="0" cy="817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6023880" y="4029840"/>
              <a:ext cx="26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  <a:ea typeface="Gulim"/>
                </a:rPr>
                <a:t>Virtual vision in ordinary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  <a:ea typeface="Gulim"/>
                </a:rPr>
                <a:t>prescription  eyeglasses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2102040" y="2553840"/>
              <a:ext cx="770760" cy="651960"/>
              <a:chOff x="2102040" y="2553840"/>
              <a:chExt cx="770760" cy="651960"/>
            </a:xfrm>
          </p:grpSpPr>
          <p:sp>
            <p:nvSpPr>
              <p:cNvPr id="124" name=""/>
              <p:cNvSpPr/>
              <p:nvPr/>
            </p:nvSpPr>
            <p:spPr>
              <a:xfrm>
                <a:off x="2184480" y="3135240"/>
                <a:ext cx="652320" cy="70560"/>
              </a:xfrm>
              <a:prstGeom prst="rect">
                <a:avLst/>
              </a:prstGeom>
              <a:solidFill>
                <a:srgbClr val="5b5249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242800" y="2845080"/>
                <a:ext cx="538200" cy="307080"/>
              </a:xfrm>
              <a:prstGeom prst="can">
                <a:avLst>
                  <a:gd name="adj" fmla="val 25000"/>
                </a:avLst>
              </a:prstGeom>
              <a:solidFill>
                <a:srgbClr val="99cc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400000">
                <a:off x="2649600" y="2897280"/>
                <a:ext cx="228960" cy="2170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5b5249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83840" y="2553840"/>
                <a:ext cx="471960" cy="236160"/>
              </a:xfrm>
              <a:prstGeom prst="can">
                <a:avLst>
                  <a:gd name="adj" fmla="val 25000"/>
                </a:avLst>
              </a:prstGeom>
              <a:solidFill>
                <a:srgbClr val="cec8ba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75560" y="2758680"/>
                <a:ext cx="480240" cy="103320"/>
              </a:xfrm>
              <a:custGeom>
                <a:avLst/>
                <a:gdLst>
                  <a:gd name="textAreaLeft" fmla="*/ 105480 w 480240"/>
                  <a:gd name="textAreaRight" fmla="*/ 374760 w 480240"/>
                  <a:gd name="textAreaTop" fmla="*/ 22680 h 103320"/>
                  <a:gd name="textAreaBottom" fmla="*/ 80640 h 10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175840" y="2584440"/>
                <a:ext cx="99360" cy="189000"/>
              </a:xfrm>
              <a:prstGeom prst="rect">
                <a:avLst/>
              </a:prstGeom>
              <a:solidFill>
                <a:srgbClr val="5b5249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102040" y="2583360"/>
                <a:ext cx="72720" cy="622440"/>
              </a:xfrm>
              <a:prstGeom prst="rect">
                <a:avLst/>
              </a:prstGeom>
              <a:solidFill>
                <a:srgbClr val="5b5249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533760" y="2865960"/>
              <a:ext cx="939600" cy="219600"/>
              <a:chOff x="3533760" y="2865960"/>
              <a:chExt cx="939600" cy="219600"/>
            </a:xfrm>
          </p:grpSpPr>
          <p:sp>
            <p:nvSpPr>
              <p:cNvPr id="132" name=""/>
              <p:cNvSpPr/>
              <p:nvPr/>
            </p:nvSpPr>
            <p:spPr>
              <a:xfrm>
                <a:off x="3533760" y="2865960"/>
                <a:ext cx="939600" cy="2196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97840" y="2913120"/>
                <a:ext cx="302760" cy="76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81960" y="2950200"/>
                <a:ext cx="83520" cy="67680"/>
              </a:xfrm>
              <a:prstGeom prst="rect">
                <a:avLst/>
              </a:prstGeom>
              <a:solidFill>
                <a:srgbClr val="5b5249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05800" y="2947680"/>
                <a:ext cx="83880" cy="67680"/>
              </a:xfrm>
              <a:prstGeom prst="rect">
                <a:avLst/>
              </a:prstGeom>
              <a:solidFill>
                <a:srgbClr val="5b5249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30360" y="2954880"/>
                <a:ext cx="83520" cy="67680"/>
              </a:xfrm>
              <a:prstGeom prst="rect">
                <a:avLst/>
              </a:prstGeom>
              <a:solidFill>
                <a:srgbClr val="5b5249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pic>
          <p:nvPicPr>
            <p:cNvPr id="137" name="bd04924_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5480280" y="4465440"/>
              <a:ext cx="726840" cy="6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903600" y="4721040"/>
              <a:ext cx="1126440" cy="473760"/>
              <a:chOff x="903600" y="4721040"/>
              <a:chExt cx="1126440" cy="47376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1063800" y="4997160"/>
                <a:ext cx="230400" cy="197640"/>
                <a:chOff x="1063800" y="4997160"/>
                <a:chExt cx="230400" cy="197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063800" y="4997160"/>
                  <a:ext cx="230400" cy="197640"/>
                </a:xfrm>
                <a:prstGeom prst="ellipse">
                  <a:avLst/>
                </a:prstGeom>
                <a:solidFill>
                  <a:srgbClr val="5b5249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09520" y="5017320"/>
                  <a:ext cx="136440" cy="132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1671840" y="4995720"/>
                <a:ext cx="230400" cy="197640"/>
                <a:chOff x="1671840" y="4995720"/>
                <a:chExt cx="230400" cy="1976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671840" y="4995720"/>
                  <a:ext cx="230400" cy="197640"/>
                </a:xfrm>
                <a:prstGeom prst="ellipse">
                  <a:avLst/>
                </a:prstGeom>
                <a:solidFill>
                  <a:srgbClr val="5b5249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717560" y="5015880"/>
                  <a:ext cx="136440" cy="132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997200" y="4744800"/>
                <a:ext cx="780120" cy="3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02" y="7"/>
                    </a:moveTo>
                    <a:arcTo wR="10800" hR="10800" stAng="-5526769" swAng="55267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02" y="7"/>
                    </a:moveTo>
                    <a:arcTo wR="10800" hR="10800" stAng="-5526769" swAng="5526769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1061280" y="4730760"/>
                <a:ext cx="781560" cy="44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439" y="327"/>
                    </a:moveTo>
                    <a:arcTo wR="10800" hR="10800" stAng="-4551425" swAng="45514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439" y="327"/>
                    </a:moveTo>
                    <a:arcTo wR="10800" hR="10800" stAng="-4551425" swAng="4551425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937440" y="4942440"/>
                <a:ext cx="1092600" cy="1310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03600" y="4721040"/>
                <a:ext cx="92160" cy="20988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3670560" y="4874760"/>
              <a:ext cx="596160" cy="389160"/>
              <a:chOff x="3670560" y="4874760"/>
              <a:chExt cx="596160" cy="389160"/>
            </a:xfrm>
          </p:grpSpPr>
          <p:sp>
            <p:nvSpPr>
              <p:cNvPr id="150" name=""/>
              <p:cNvSpPr/>
              <p:nvPr/>
            </p:nvSpPr>
            <p:spPr>
              <a:xfrm>
                <a:off x="3670560" y="4960800"/>
                <a:ext cx="596160" cy="3031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91440" y="4979880"/>
                <a:ext cx="281880" cy="23688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990240" y="5153760"/>
                <a:ext cx="83880" cy="67320"/>
              </a:xfrm>
              <a:prstGeom prst="rect">
                <a:avLst/>
              </a:prstGeom>
              <a:solidFill>
                <a:srgbClr val="5b5249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14440" y="5151240"/>
                <a:ext cx="83880" cy="67320"/>
              </a:xfrm>
              <a:prstGeom prst="rect">
                <a:avLst/>
              </a:prstGeom>
              <a:solidFill>
                <a:srgbClr val="5b5249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22040" y="4874760"/>
                <a:ext cx="470160" cy="151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5b5249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362320" y="3461760"/>
              <a:ext cx="3114720" cy="997920"/>
              <a:chOff x="2362320" y="3461760"/>
              <a:chExt cx="3114720" cy="9979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4190760" y="3551400"/>
                <a:ext cx="1286280" cy="863640"/>
                <a:chOff x="4190760" y="3551400"/>
                <a:chExt cx="1286280" cy="86364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4677840" y="3551400"/>
                  <a:ext cx="799200" cy="696240"/>
                  <a:chOff x="4677840" y="3551400"/>
                  <a:chExt cx="799200" cy="696240"/>
                </a:xfrm>
              </p:grpSpPr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4892400" y="3640680"/>
                    <a:ext cx="584640" cy="516960"/>
                    <a:chOff x="4892400" y="3640680"/>
                    <a:chExt cx="584640" cy="516960"/>
                  </a:xfrm>
                </p:grpSpPr>
                <p:grpSp>
                  <p:nvGrpSpPr>
                    <p:cNvPr id="159" name=""/>
                    <p:cNvGrpSpPr/>
                    <p:nvPr/>
                  </p:nvGrpSpPr>
                  <p:grpSpPr>
                    <a:xfrm>
                      <a:off x="4892400" y="3640680"/>
                      <a:ext cx="584640" cy="516960"/>
                      <a:chOff x="4892400" y="3640680"/>
                      <a:chExt cx="584640" cy="516960"/>
                    </a:xfrm>
                  </p:grpSpPr>
                  <p:grpSp>
                    <p:nvGrpSpPr>
                      <p:cNvPr id="160" name=""/>
                      <p:cNvGrpSpPr/>
                      <p:nvPr/>
                    </p:nvGrpSpPr>
                    <p:grpSpPr>
                      <a:xfrm>
                        <a:off x="5028120" y="3673080"/>
                        <a:ext cx="448920" cy="416520"/>
                        <a:chOff x="5028120" y="3673080"/>
                        <a:chExt cx="448920" cy="416520"/>
                      </a:xfrm>
                    </p:grpSpPr>
                    <p:grpSp>
                      <p:nvGrpSpPr>
                        <p:cNvPr id="161" name=""/>
                        <p:cNvGrpSpPr/>
                        <p:nvPr/>
                      </p:nvGrpSpPr>
                      <p:grpSpPr>
                        <a:xfrm>
                          <a:off x="5086800" y="3673080"/>
                          <a:ext cx="390240" cy="416520"/>
                          <a:chOff x="5086800" y="3673080"/>
                          <a:chExt cx="390240" cy="416520"/>
                        </a:xfrm>
                      </p:grpSpPr>
                      <p:sp>
                        <p:nvSpPr>
                          <p:cNvPr id="162" name=""/>
                          <p:cNvSpPr/>
                          <p:nvPr/>
                        </p:nvSpPr>
                        <p:spPr>
                          <a:xfrm>
                            <a:off x="5280840" y="3919320"/>
                            <a:ext cx="196200" cy="11556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cbe4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4920" bIns="349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5b524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3" name=""/>
                          <p:cNvSpPr/>
                          <p:nvPr/>
                        </p:nvSpPr>
                        <p:spPr>
                          <a:xfrm>
                            <a:off x="5124600" y="3940920"/>
                            <a:ext cx="254880" cy="14868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cbe4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5b524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4" name=""/>
                          <p:cNvSpPr/>
                          <p:nvPr/>
                        </p:nvSpPr>
                        <p:spPr>
                          <a:xfrm>
                            <a:off x="5242320" y="3762720"/>
                            <a:ext cx="176040" cy="11592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cbe4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5280" bIns="35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5b524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5" name=""/>
                          <p:cNvSpPr/>
                          <p:nvPr/>
                        </p:nvSpPr>
                        <p:spPr>
                          <a:xfrm>
                            <a:off x="5086800" y="3673080"/>
                            <a:ext cx="234360" cy="14868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cbe4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5b524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6" name=""/>
                          <p:cNvSpPr/>
                          <p:nvPr/>
                        </p:nvSpPr>
                        <p:spPr>
                          <a:xfrm>
                            <a:off x="5234400" y="3759480"/>
                            <a:ext cx="175680" cy="244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7" h="224">
                                <a:moveTo>
                                  <a:pt x="86" y="223"/>
                                </a:moveTo>
                                <a:lnTo>
                                  <a:pt x="48" y="223"/>
                                </a:lnTo>
                                <a:lnTo>
                                  <a:pt x="0" y="0"/>
                                </a:lnTo>
                                <a:lnTo>
                                  <a:pt x="48" y="20"/>
                                </a:lnTo>
                                <a:lnTo>
                                  <a:pt x="57" y="133"/>
                                </a:lnTo>
                                <a:lnTo>
                                  <a:pt x="86" y="223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cbe4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5b5249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5028120" y="3795480"/>
                          <a:ext cx="352080" cy="2044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cbe4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b524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5028120" y="3919320"/>
                          <a:ext cx="254520" cy="1483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cbe4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b5249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5096880" y="3735360"/>
                          <a:ext cx="177840" cy="258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236">
                              <a:moveTo>
                                <a:pt x="87" y="40"/>
                              </a:moveTo>
                              <a:lnTo>
                                <a:pt x="77" y="92"/>
                              </a:lnTo>
                              <a:lnTo>
                                <a:pt x="87" y="205"/>
                              </a:lnTo>
                              <a:lnTo>
                                <a:pt x="58" y="235"/>
                              </a:lnTo>
                              <a:lnTo>
                                <a:pt x="0" y="103"/>
                              </a:lnTo>
                              <a:lnTo>
                                <a:pt x="48" y="0"/>
                              </a:lnTo>
                              <a:lnTo>
                                <a:pt x="87" y="40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cbe4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b5249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5028120" y="4042080"/>
                        <a:ext cx="196200" cy="115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cbe4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920" bIns="34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" name=""/>
                      <p:cNvSpPr/>
                      <p:nvPr/>
                    </p:nvSpPr>
                    <p:spPr>
                      <a:xfrm>
                        <a:off x="4892400" y="3640680"/>
                        <a:ext cx="239400" cy="1486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cbe4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" name=""/>
                      <p:cNvSpPr/>
                      <p:nvPr/>
                    </p:nvSpPr>
                    <p:spPr>
                      <a:xfrm>
                        <a:off x="5078880" y="4005720"/>
                        <a:ext cx="13752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51">
                            <a:moveTo>
                              <a:pt x="67" y="30"/>
                            </a:moveTo>
                            <a:lnTo>
                              <a:pt x="48" y="50"/>
                            </a:lnTo>
                            <a:lnTo>
                              <a:pt x="0" y="30"/>
                            </a:lnTo>
                            <a:lnTo>
                              <a:pt x="48" y="0"/>
                            </a:lnTo>
                            <a:lnTo>
                              <a:pt x="67" y="3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cbe4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5058720" y="3705120"/>
                      <a:ext cx="80640" cy="8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81">
                          <a:moveTo>
                            <a:pt x="19" y="0"/>
                          </a:moveTo>
                          <a:lnTo>
                            <a:pt x="39" y="10"/>
                          </a:lnTo>
                          <a:lnTo>
                            <a:pt x="39" y="80"/>
                          </a:lnTo>
                          <a:lnTo>
                            <a:pt x="0" y="70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cbe4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4677840" y="3551400"/>
                    <a:ext cx="546840" cy="628200"/>
                    <a:chOff x="4677840" y="3551400"/>
                    <a:chExt cx="546840" cy="62820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4736520" y="3919680"/>
                      <a:ext cx="450000" cy="259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be4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4774680" y="3740040"/>
                      <a:ext cx="450000" cy="261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be4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4677840" y="3551400"/>
                      <a:ext cx="352440" cy="205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be4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4888080" y="3673440"/>
                      <a:ext cx="180360" cy="115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be4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5280" bIns="35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4766760" y="3648600"/>
                      <a:ext cx="310320" cy="23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3" h="215">
                          <a:moveTo>
                            <a:pt x="104" y="10"/>
                          </a:moveTo>
                          <a:lnTo>
                            <a:pt x="104" y="30"/>
                          </a:lnTo>
                          <a:lnTo>
                            <a:pt x="142" y="82"/>
                          </a:lnTo>
                          <a:lnTo>
                            <a:pt x="152" y="92"/>
                          </a:lnTo>
                          <a:lnTo>
                            <a:pt x="96" y="214"/>
                          </a:lnTo>
                          <a:lnTo>
                            <a:pt x="0" y="0"/>
                          </a:lnTo>
                          <a:lnTo>
                            <a:pt x="104" y="1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cbe4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4922640" y="3960000"/>
                      <a:ext cx="19260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73">
                          <a:moveTo>
                            <a:pt x="84" y="10"/>
                          </a:moveTo>
                          <a:lnTo>
                            <a:pt x="94" y="30"/>
                          </a:lnTo>
                          <a:lnTo>
                            <a:pt x="0" y="72"/>
                          </a:lnTo>
                          <a:lnTo>
                            <a:pt x="0" y="0"/>
                          </a:lnTo>
                          <a:lnTo>
                            <a:pt x="84" y="1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cbe4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1" name=""/>
                  <p:cNvSpPr/>
                  <p:nvPr/>
                </p:nvSpPr>
                <p:spPr>
                  <a:xfrm>
                    <a:off x="4677840" y="4098960"/>
                    <a:ext cx="239040" cy="148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be4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4827600" y="4084920"/>
                    <a:ext cx="13608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71">
                        <a:moveTo>
                          <a:pt x="29" y="70"/>
                        </a:moveTo>
                        <a:lnTo>
                          <a:pt x="66" y="50"/>
                        </a:lnTo>
                        <a:lnTo>
                          <a:pt x="19" y="0"/>
                        </a:lnTo>
                        <a:lnTo>
                          <a:pt x="0" y="20"/>
                        </a:lnTo>
                        <a:lnTo>
                          <a:pt x="29" y="7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cbe4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" name=""/>
                <p:cNvSpPr/>
                <p:nvPr/>
              </p:nvSpPr>
              <p:spPr>
                <a:xfrm>
                  <a:off x="4190760" y="4231440"/>
                  <a:ext cx="298440" cy="18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e4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424400" y="4231440"/>
                  <a:ext cx="259560" cy="15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e4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558320" y="4187880"/>
                  <a:ext cx="261720" cy="14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e4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357080" y="4162680"/>
                  <a:ext cx="486720" cy="201960"/>
                </a:xfrm>
                <a:custGeom>
                  <a:avLst/>
                  <a:gdLst/>
                  <a:ahLst/>
                  <a:rect l="l" t="t" r="r" b="b"/>
                  <a:pathLst>
                    <a:path w="240" h="185">
                      <a:moveTo>
                        <a:pt x="229" y="52"/>
                      </a:moveTo>
                      <a:lnTo>
                        <a:pt x="202" y="62"/>
                      </a:lnTo>
                      <a:lnTo>
                        <a:pt x="133" y="132"/>
                      </a:lnTo>
                      <a:lnTo>
                        <a:pt x="125" y="164"/>
                      </a:lnTo>
                      <a:lnTo>
                        <a:pt x="48" y="164"/>
                      </a:lnTo>
                      <a:lnTo>
                        <a:pt x="38" y="184"/>
                      </a:lnTo>
                      <a:lnTo>
                        <a:pt x="0" y="122"/>
                      </a:lnTo>
                      <a:lnTo>
                        <a:pt x="162" y="0"/>
                      </a:lnTo>
                      <a:lnTo>
                        <a:pt x="239" y="30"/>
                      </a:lnTo>
                      <a:lnTo>
                        <a:pt x="229" y="52"/>
                      </a:lnTo>
                    </a:path>
                  </a:pathLst>
                </a:custGeom>
                <a:gradFill rotWithShape="0">
                  <a:gsLst>
                    <a:gs pos="0">
                      <a:srgbClr val="cbe4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2362320" y="3562200"/>
                <a:ext cx="784800" cy="595800"/>
                <a:chOff x="2362320" y="3562200"/>
                <a:chExt cx="784800" cy="59580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2362320" y="3640680"/>
                  <a:ext cx="433800" cy="360360"/>
                  <a:chOff x="2362320" y="3640680"/>
                  <a:chExt cx="433800" cy="3603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2362320" y="3763080"/>
                    <a:ext cx="200880" cy="115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be4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400840" y="3852720"/>
                    <a:ext cx="239040" cy="148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be4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439360" y="3640680"/>
                    <a:ext cx="356760" cy="216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be4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414880" y="3770640"/>
                    <a:ext cx="13536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13">
                        <a:moveTo>
                          <a:pt x="37" y="0"/>
                        </a:moveTo>
                        <a:lnTo>
                          <a:pt x="0" y="20"/>
                        </a:lnTo>
                        <a:lnTo>
                          <a:pt x="0" y="92"/>
                        </a:lnTo>
                        <a:lnTo>
                          <a:pt x="19" y="112"/>
                        </a:lnTo>
                        <a:lnTo>
                          <a:pt x="66" y="92"/>
                        </a:lnTo>
                        <a:lnTo>
                          <a:pt x="37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cbe4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2498400" y="3562200"/>
                  <a:ext cx="648720" cy="595800"/>
                  <a:chOff x="2498400" y="3562200"/>
                  <a:chExt cx="648720" cy="59580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2712960" y="3583800"/>
                    <a:ext cx="434160" cy="27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be4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2498400" y="3763080"/>
                    <a:ext cx="239040" cy="148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be4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557080" y="3852000"/>
                    <a:ext cx="336600" cy="216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be4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654280" y="3941640"/>
                    <a:ext cx="356760" cy="216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be4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674440" y="3706560"/>
                    <a:ext cx="316440" cy="18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be4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928240" y="3562200"/>
                    <a:ext cx="19836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be4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765880" y="3670200"/>
                    <a:ext cx="2329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93">
                        <a:moveTo>
                          <a:pt x="0" y="20"/>
                        </a:moveTo>
                        <a:lnTo>
                          <a:pt x="19" y="62"/>
                        </a:lnTo>
                        <a:lnTo>
                          <a:pt x="114" y="92"/>
                        </a:lnTo>
                        <a:lnTo>
                          <a:pt x="114" y="30"/>
                        </a:lnTo>
                        <a:lnTo>
                          <a:pt x="10" y="0"/>
                        </a:lnTo>
                        <a:lnTo>
                          <a:pt x="0" y="2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cbe4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567160" y="3825720"/>
                    <a:ext cx="259200" cy="19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76">
                        <a:moveTo>
                          <a:pt x="79" y="0"/>
                        </a:moveTo>
                        <a:lnTo>
                          <a:pt x="0" y="40"/>
                        </a:lnTo>
                        <a:lnTo>
                          <a:pt x="29" y="83"/>
                        </a:lnTo>
                        <a:lnTo>
                          <a:pt x="29" y="165"/>
                        </a:lnTo>
                        <a:lnTo>
                          <a:pt x="48" y="175"/>
                        </a:lnTo>
                        <a:lnTo>
                          <a:pt x="117" y="123"/>
                        </a:lnTo>
                        <a:lnTo>
                          <a:pt x="127" y="20"/>
                        </a:lnTo>
                        <a:lnTo>
                          <a:pt x="79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cbe4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2" name=""/>
                <p:cNvSpPr/>
                <p:nvPr/>
              </p:nvSpPr>
              <p:spPr>
                <a:xfrm>
                  <a:off x="2900160" y="3613320"/>
                  <a:ext cx="1580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93">
                      <a:moveTo>
                        <a:pt x="0" y="52"/>
                      </a:moveTo>
                      <a:lnTo>
                        <a:pt x="38" y="0"/>
                      </a:lnTo>
                      <a:lnTo>
                        <a:pt x="77" y="52"/>
                      </a:lnTo>
                      <a:lnTo>
                        <a:pt x="38" y="92"/>
                      </a:lnTo>
                      <a:lnTo>
                        <a:pt x="0" y="52"/>
                      </a:lnTo>
                    </a:path>
                  </a:pathLst>
                </a:custGeom>
                <a:gradFill rotWithShape="0">
                  <a:gsLst>
                    <a:gs pos="0">
                      <a:srgbClr val="cbe4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751840" y="3461760"/>
                <a:ext cx="2278440" cy="997920"/>
                <a:chOff x="2751840" y="3461760"/>
                <a:chExt cx="2278440" cy="9979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451680" y="3494160"/>
                  <a:ext cx="569880" cy="32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e4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916440" y="3461760"/>
                  <a:ext cx="454680" cy="27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e4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326480" y="3740400"/>
                  <a:ext cx="703800" cy="41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e4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005280" y="3920040"/>
                  <a:ext cx="801720" cy="48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e4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111560" y="3974760"/>
                  <a:ext cx="606240" cy="36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e4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810520" y="4008600"/>
                  <a:ext cx="434160" cy="27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e4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751840" y="3797640"/>
                  <a:ext cx="450360" cy="27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e4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946240" y="3551400"/>
                  <a:ext cx="704520" cy="42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e4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567600" y="4042800"/>
                  <a:ext cx="705960" cy="41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e4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24040" y="3584160"/>
                  <a:ext cx="547560" cy="32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e4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267800" y="3461760"/>
                  <a:ext cx="509400" cy="29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e4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918160" y="3537000"/>
                  <a:ext cx="1984320" cy="793080"/>
                </a:xfrm>
                <a:custGeom>
                  <a:avLst/>
                  <a:gdLst/>
                  <a:ahLst/>
                  <a:rect l="l" t="t" r="r" b="b"/>
                  <a:pathLst>
                    <a:path w="978" h="725">
                      <a:moveTo>
                        <a:pt x="306" y="72"/>
                      </a:moveTo>
                      <a:lnTo>
                        <a:pt x="345" y="20"/>
                      </a:lnTo>
                      <a:lnTo>
                        <a:pt x="526" y="20"/>
                      </a:lnTo>
                      <a:lnTo>
                        <a:pt x="651" y="0"/>
                      </a:lnTo>
                      <a:lnTo>
                        <a:pt x="815" y="92"/>
                      </a:lnTo>
                      <a:lnTo>
                        <a:pt x="900" y="62"/>
                      </a:lnTo>
                      <a:lnTo>
                        <a:pt x="940" y="72"/>
                      </a:lnTo>
                      <a:lnTo>
                        <a:pt x="948" y="285"/>
                      </a:lnTo>
                      <a:lnTo>
                        <a:pt x="977" y="327"/>
                      </a:lnTo>
                      <a:lnTo>
                        <a:pt x="900" y="490"/>
                      </a:lnTo>
                      <a:lnTo>
                        <a:pt x="815" y="367"/>
                      </a:lnTo>
                      <a:lnTo>
                        <a:pt x="794" y="429"/>
                      </a:lnTo>
                      <a:lnTo>
                        <a:pt x="680" y="662"/>
                      </a:lnTo>
                      <a:lnTo>
                        <a:pt x="297" y="724"/>
                      </a:lnTo>
                      <a:lnTo>
                        <a:pt x="96" y="674"/>
                      </a:lnTo>
                      <a:lnTo>
                        <a:pt x="38" y="530"/>
                      </a:lnTo>
                      <a:lnTo>
                        <a:pt x="38" y="387"/>
                      </a:lnTo>
                      <a:lnTo>
                        <a:pt x="0" y="275"/>
                      </a:lnTo>
                      <a:lnTo>
                        <a:pt x="306" y="72"/>
                      </a:lnTo>
                    </a:path>
                  </a:pathLst>
                </a:custGeom>
                <a:gradFill rotWithShape="0">
                  <a:gsLst>
                    <a:gs pos="0">
                      <a:srgbClr val="cbe4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" name=""/>
            <p:cNvSpPr/>
            <p:nvPr/>
          </p:nvSpPr>
          <p:spPr>
            <a:xfrm>
              <a:off x="3060720" y="3783960"/>
              <a:ext cx="157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Gulim"/>
                </a:rPr>
                <a:t>Internet (NGI)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41160" y="3627720"/>
              <a:ext cx="823680" cy="1134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66440" y="4195800"/>
              <a:ext cx="363960" cy="73116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75200" y="3146400"/>
              <a:ext cx="8640" cy="31536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5479920" y="3898080"/>
              <a:ext cx="365400" cy="9396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35560" y="3225600"/>
              <a:ext cx="303120" cy="36072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144520" y="4327200"/>
              <a:ext cx="728280" cy="59868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45880" y="4508280"/>
              <a:ext cx="29880" cy="33444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70680" y="5015520"/>
              <a:ext cx="886320" cy="14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58320" y="47181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  <a:ea typeface="Gulim"/>
                </a:rPr>
                <a:t>AC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22240" y="41846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  <a:ea typeface="Gulim"/>
                </a:rPr>
                <a:t>IP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48000" y="4977000"/>
              <a:ext cx="77040" cy="87120"/>
            </a:xfrm>
            <a:prstGeom prst="rect">
              <a:avLst/>
            </a:prstGeom>
            <a:solidFill>
              <a:srgbClr val="5b5249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41600" y="4996440"/>
              <a:ext cx="62280" cy="10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19640" y="5032080"/>
              <a:ext cx="93600" cy="14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62840" y="4569120"/>
              <a:ext cx="209520" cy="1792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375280" y="4397400"/>
              <a:ext cx="261360" cy="2084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43160" y="4180680"/>
              <a:ext cx="1668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b5249"/>
                  </a:solidFill>
                  <a:latin typeface="Arial"/>
                  <a:ea typeface="Gulim"/>
                </a:rPr>
                <a:t>Engine monitoring,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b5249"/>
                  </a:solidFill>
                  <a:latin typeface="Arial"/>
                  <a:ea typeface="Gulim"/>
                </a:rPr>
                <a:t>toll collection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10840" y="4645440"/>
              <a:ext cx="1532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b5249"/>
                  </a:solidFill>
                  <a:latin typeface="Arial"/>
                  <a:ea typeface="Gulim"/>
                </a:rPr>
                <a:t>Maps, directions,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b5249"/>
                  </a:solidFill>
                  <a:latin typeface="Arial"/>
                  <a:ea typeface="Gulim"/>
                </a:rPr>
                <a:t>Internet radio,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b5249"/>
                  </a:solidFill>
                  <a:latin typeface="Arial"/>
                  <a:ea typeface="Gulim"/>
                </a:rPr>
                <a:t>engine software 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b5249"/>
                  </a:solidFill>
                  <a:latin typeface="Arial"/>
                  <a:ea typeface="Gulim"/>
                </a:rPr>
                <a:t>upgrades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571000" y="2856240"/>
              <a:ext cx="637200" cy="267840"/>
              <a:chOff x="5571000" y="2856240"/>
              <a:chExt cx="637200" cy="267840"/>
            </a:xfrm>
          </p:grpSpPr>
          <p:sp>
            <p:nvSpPr>
              <p:cNvPr id="235" name=""/>
              <p:cNvSpPr/>
              <p:nvPr/>
            </p:nvSpPr>
            <p:spPr>
              <a:xfrm>
                <a:off x="5673600" y="3065760"/>
                <a:ext cx="385560" cy="58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73600" y="2856240"/>
                <a:ext cx="534600" cy="200520"/>
              </a:xfrm>
              <a:prstGeom prst="parallelogram">
                <a:avLst>
                  <a:gd name="adj" fmla="val 66652"/>
                </a:avLst>
              </a:prstGeom>
              <a:solidFill>
                <a:srgbClr val="969696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205680" y="2874960"/>
                <a:ext cx="0" cy="1904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6059520" y="3046320"/>
                <a:ext cx="146160" cy="6588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94480" y="2856240"/>
                <a:ext cx="11556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571000" y="2856240"/>
                <a:ext cx="113760" cy="1803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580360" y="3036600"/>
                <a:ext cx="12528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571000" y="3046680"/>
                <a:ext cx="30600" cy="5688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590080" y="3103920"/>
                <a:ext cx="7380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870160" y="2883960"/>
                <a:ext cx="219600" cy="0"/>
              </a:xfrm>
              <a:prstGeom prst="line">
                <a:avLst/>
              </a:prstGeom>
              <a:ln w="22320">
                <a:solidFill>
                  <a:srgbClr val="5b524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26960" y="2938680"/>
                <a:ext cx="219960" cy="0"/>
              </a:xfrm>
              <a:prstGeom prst="line">
                <a:avLst/>
              </a:prstGeom>
              <a:ln w="22320">
                <a:solidFill>
                  <a:srgbClr val="5b524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783760" y="2993400"/>
                <a:ext cx="219960" cy="0"/>
              </a:xfrm>
              <a:prstGeom prst="line">
                <a:avLst/>
              </a:prstGeom>
              <a:ln w="22320">
                <a:solidFill>
                  <a:srgbClr val="5b524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 flipH="1">
              <a:off x="5075280" y="3165840"/>
              <a:ext cx="677880" cy="5310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31240" y="283428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  <a:ea typeface="Gulim"/>
                </a:rPr>
                <a:t>IP Telephone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5027040" y="1738080"/>
              <a:ext cx="450360" cy="585000"/>
              <a:chOff x="5027040" y="1738080"/>
              <a:chExt cx="450360" cy="585000"/>
            </a:xfrm>
          </p:grpSpPr>
          <p:sp>
            <p:nvSpPr>
              <p:cNvPr id="250" name=""/>
              <p:cNvSpPr/>
              <p:nvPr/>
            </p:nvSpPr>
            <p:spPr>
              <a:xfrm>
                <a:off x="5027040" y="1923480"/>
                <a:ext cx="450360" cy="294840"/>
              </a:xfrm>
              <a:prstGeom prst="ellipse">
                <a:avLst/>
              </a:prstGeom>
              <a:solidFill>
                <a:srgbClr val="996600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109480" y="1769760"/>
                <a:ext cx="272520" cy="161280"/>
              </a:xfrm>
              <a:prstGeom prst="ellipse">
                <a:avLst/>
              </a:prstGeom>
              <a:solidFill>
                <a:srgbClr val="996600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54760" y="1739160"/>
                <a:ext cx="104760" cy="57240"/>
              </a:xfrm>
              <a:prstGeom prst="ellipse">
                <a:avLst/>
              </a:prstGeom>
              <a:solidFill>
                <a:srgbClr val="996600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324760" y="1738080"/>
                <a:ext cx="104760" cy="56880"/>
              </a:xfrm>
              <a:prstGeom prst="ellipse">
                <a:avLst/>
              </a:prstGeom>
              <a:solidFill>
                <a:srgbClr val="996600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141200">
                <a:off x="5086440" y="2177640"/>
                <a:ext cx="95040" cy="133200"/>
              </a:xfrm>
              <a:prstGeom prst="ellipse">
                <a:avLst/>
              </a:prstGeom>
              <a:solidFill>
                <a:srgbClr val="996600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20458800">
                <a:off x="5313960" y="2176200"/>
                <a:ext cx="95040" cy="133200"/>
              </a:xfrm>
              <a:prstGeom prst="ellipse">
                <a:avLst/>
              </a:prstGeom>
              <a:solidFill>
                <a:srgbClr val="996600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4495680" y="17974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  <a:ea typeface="Gulim"/>
                </a:rPr>
                <a:t>Toys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739400" y="2317320"/>
              <a:ext cx="563400" cy="115956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6370560" y="3252960"/>
              <a:ext cx="606600" cy="278640"/>
              <a:chOff x="6370560" y="3252960"/>
              <a:chExt cx="606600" cy="278640"/>
            </a:xfrm>
          </p:grpSpPr>
          <p:sp>
            <p:nvSpPr>
              <p:cNvPr id="259" name=""/>
              <p:cNvSpPr/>
              <p:nvPr/>
            </p:nvSpPr>
            <p:spPr>
              <a:xfrm>
                <a:off x="6372360" y="3389040"/>
                <a:ext cx="583560" cy="142560"/>
              </a:xfrm>
              <a:prstGeom prst="cube">
                <a:avLst>
                  <a:gd name="adj" fmla="val 25000"/>
                </a:avLst>
              </a:prstGeom>
              <a:solidFill>
                <a:srgbClr val="cec8ba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6863040" y="3265560"/>
                <a:ext cx="114120" cy="142560"/>
              </a:xfrm>
              <a:prstGeom prst="line">
                <a:avLst/>
              </a:prstGeom>
              <a:ln w="3168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flipV="1">
                <a:off x="6370560" y="3252960"/>
                <a:ext cx="114120" cy="142560"/>
              </a:xfrm>
              <a:prstGeom prst="line">
                <a:avLst/>
              </a:prstGeom>
              <a:ln w="3168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 flipH="1">
              <a:off x="5377680" y="3506040"/>
              <a:ext cx="981360" cy="29412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12080" y="326700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  <a:ea typeface="Gulim"/>
                </a:rPr>
                <a:t>Games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64" name="en00349_" descr=""/>
            <p:cNvPicPr/>
            <p:nvPr/>
          </p:nvPicPr>
          <p:blipFill>
            <a:blip r:embed="rId3"/>
            <a:stretch/>
          </p:blipFill>
          <p:spPr>
            <a:xfrm>
              <a:off x="5667480" y="1727280"/>
              <a:ext cx="1415520" cy="72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 flipH="1">
              <a:off x="4873680" y="2467800"/>
              <a:ext cx="876960" cy="11304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63240" y="240408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  <a:ea typeface="Gulim"/>
                </a:rPr>
                <a:t>Musical instruments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533520" y="1066680"/>
            <a:ext cx="4800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933480" y="2057400"/>
            <a:ext cx="7334280" cy="4341960"/>
            <a:chOff x="933480" y="2057400"/>
            <a:chExt cx="7334280" cy="4341960"/>
          </a:xfrm>
        </p:grpSpPr>
        <p:sp>
          <p:nvSpPr>
            <p:cNvPr id="269" name=""/>
            <p:cNvSpPr/>
            <p:nvPr/>
          </p:nvSpPr>
          <p:spPr>
            <a:xfrm flipV="1">
              <a:off x="4124160" y="4799880"/>
              <a:ext cx="762120" cy="399960"/>
            </a:xfrm>
            <a:prstGeom prst="downArrow">
              <a:avLst>
                <a:gd name="adj1" fmla="val 50000"/>
                <a:gd name="adj2" fmla="val 35417"/>
              </a:avLst>
            </a:prstGeom>
            <a:gradFill rotWithShape="0">
              <a:gsLst>
                <a:gs pos="0">
                  <a:srgbClr val="ff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24160" y="3286080"/>
              <a:ext cx="762120" cy="399960"/>
            </a:xfrm>
            <a:prstGeom prst="downArrow">
              <a:avLst>
                <a:gd name="adj1" fmla="val 50000"/>
                <a:gd name="adj2" fmla="val 354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57240" y="2057400"/>
              <a:ext cx="7238880" cy="1219320"/>
            </a:xfrm>
            <a:prstGeom prst="rect">
              <a:avLst/>
            </a:prstGeom>
            <a:gradFill rotWithShape="0">
              <a:gsLst>
                <a:gs pos="0">
                  <a:srgbClr val="2fab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63880" y="2209680"/>
              <a:ext cx="122544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  <a:effectLst>
              <a:outerShdw dist="17819" dir="2700000" blurRad="0" rotWithShape="0">
                <a:srgbClr val="cec8b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38320" y="2219400"/>
              <a:ext cx="1325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b5249"/>
                  </a:solidFill>
                  <a:latin typeface="Arial"/>
                  <a:ea typeface="바탕"/>
                </a:rPr>
                <a:t>IntServ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89160" y="2209680"/>
              <a:ext cx="122544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  <a:effectLst>
              <a:outerShdw dist="17819" dir="2700000" blurRad="0" rotWithShape="0">
                <a:srgbClr val="cec8b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63600" y="2219400"/>
              <a:ext cx="13240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b5249"/>
                  </a:solidFill>
                  <a:latin typeface="Arial"/>
                  <a:ea typeface="바탕"/>
                </a:rPr>
                <a:t>IP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16360" y="2209680"/>
              <a:ext cx="122580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  <a:effectLst>
              <a:outerShdw dist="17819" dir="2700000" blurRad="0" rotWithShape="0">
                <a:srgbClr val="cec8b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91160" y="2219400"/>
              <a:ext cx="1325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b5249"/>
                  </a:solidFill>
                  <a:latin typeface="Arial"/>
                  <a:ea typeface="바탕"/>
                </a:rPr>
                <a:t>DiffServ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18160" y="2209680"/>
              <a:ext cx="1225800" cy="40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  <a:effectLst>
              <a:outerShdw dist="17819" dir="2700000" blurRad="0" rotWithShape="0">
                <a:srgbClr val="cec8b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92960" y="2219400"/>
              <a:ext cx="13222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b5249"/>
                  </a:solidFill>
                  <a:latin typeface="Arial"/>
                  <a:ea typeface="바탕"/>
                </a:rPr>
                <a:t>MPLS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5840" y="2743200"/>
              <a:ext cx="68184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87920" y="2759040"/>
              <a:ext cx="44798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b5249"/>
                  </a:solidFill>
                  <a:latin typeface="Times New Roman"/>
                  <a:ea typeface="바탕"/>
                </a:rPr>
                <a:t>Internet QoS / Required to large Bandwidth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57240" y="5180040"/>
              <a:ext cx="7238880" cy="121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8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30320" y="5332320"/>
              <a:ext cx="180360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  <a:effectLst>
              <a:outerShdw dist="17819" dir="2700000" blurRad="0" rotWithShape="0">
                <a:srgbClr val="cec8b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05120" y="5342040"/>
              <a:ext cx="19476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b5249"/>
                  </a:solidFill>
                  <a:latin typeface="Arial"/>
                  <a:ea typeface="바탕"/>
                </a:rPr>
                <a:t>SONET/SDH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18280" y="5332320"/>
              <a:ext cx="15778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  <a:effectLst>
              <a:outerShdw dist="17819" dir="2700000" blurRad="0" rotWithShape="0">
                <a:srgbClr val="cec8b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80120" y="5342040"/>
              <a:ext cx="1703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b5249"/>
                  </a:solidFill>
                  <a:latin typeface="Arial"/>
                  <a:ea typeface="바탕"/>
                </a:rPr>
                <a:t>DWDM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85840" y="5865840"/>
              <a:ext cx="68184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87920" y="5881680"/>
              <a:ext cx="44798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5b5249"/>
                  </a:solidFill>
                  <a:latin typeface="Times New Roman"/>
                  <a:ea typeface="바탕"/>
                </a:rPr>
                <a:t>Survivability &amp; Network optimizatio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33480" y="3795840"/>
              <a:ext cx="7223040" cy="9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  <a:ea typeface="바탕"/>
                </a:rPr>
                <a:t>IP/DiffServ/GMPLS over DWDM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  <a:ea typeface="바탕"/>
                </a:rPr>
                <a:t>Differentiated Optical QoS Service Framework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72576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Gulim"/>
              </a:rPr>
              <a:t>NGN Backbone N.K. technology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  <a:ea typeface="바탕"/>
              </a:rPr>
              <a:t>ITU-T NGN activities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G2 (Operational aspects of service provision, networks and performance, including numbering, naming, and addressing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G 4  (Network Management including TM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G 11 (Signaling requirements and protocol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G 12 (End-to-end transmission performance of networks and terminals, QoS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G 13 (Multi-protocol and IP-based networks and their internetworking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G 15 (Optical and other transport network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G1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media services, systems and terminals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G 17 (Data Networks and Telecommunication Softwar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SG ("IMT-2000 and Beyond and for mobilit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  <a:ea typeface="바탕"/>
              </a:rPr>
              <a:t>NGN project pla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concept of a NGN has been introduced to take account the new situation in telecoms, characterized by a lot of factors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06200" indent="-4460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t aims at open competition between operators due to the total deregulation of markets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06200" indent="-4460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plosion of digital traffic, e.g. due to the increasing use of internet, increasing demand from users for new multimedia services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06200" indent="-4460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creasing demand from users for a general mobility, etc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jor goal is to facilitate convergence of networks and servic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  <a:ea typeface="바탕"/>
              </a:rPr>
              <a:t>Basic characteristics of NG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cket-based transfer,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paration of control function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coupling of service provision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pport for a wide range of service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roadband capabilitie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working with legacy network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eneralized mobilit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Unfettered acces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  <a:ea typeface="바탕"/>
              </a:rPr>
              <a:t>ITU-T Study areas on NGN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3240">
            <a:solidFill>
              <a:srgbClr val="5b524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General framework mode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Functional architecture model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End-to-end Quality of Service (Qo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Service platforms (API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Network manag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Secu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바탕"/>
              </a:rPr>
              <a:t>Mobil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1:54:58Z</dcterms:created>
  <dc:creator>Administrator</dc:creator>
  <dc:description/>
  <dc:language>en-US</dc:language>
  <cp:lastModifiedBy>comas</cp:lastModifiedBy>
  <dcterms:modified xsi:type="dcterms:W3CDTF">2003-03-28T08:25:15Z</dcterms:modified>
  <cp:revision>62</cp:revision>
  <dc:subject/>
  <dc:title>PowerPoint Presentation</dc:title>
</cp:coreProperties>
</file>