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wmf" ContentType="image/x-wmf"/>
  <Override PartName="/ppt/media/image12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0954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5900760" y="-360"/>
            <a:ext cx="84312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95320" y="74088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99640" y="4698720"/>
            <a:ext cx="2646360" cy="12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618120"/>
            <a:ext cx="6746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6373800" y="9618120"/>
            <a:ext cx="3700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5E54D50-A93D-4BBC-9DE0-3F2BB26FE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373800" y="9618120"/>
            <a:ext cx="3700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B0CB83-C24C-4B03-A8C2-8B7BC418D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0" y="9618120"/>
            <a:ext cx="6746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-360"/>
            <a:ext cx="10954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900760" y="-360"/>
            <a:ext cx="84312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896400" y="4698720"/>
            <a:ext cx="494532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6373800" y="9618120"/>
            <a:ext cx="3700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5F16BD4-A1AD-4509-9739-BA2184F81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0" y="9618120"/>
            <a:ext cx="6746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-360"/>
            <a:ext cx="10954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900760" y="-360"/>
            <a:ext cx="84312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896400" y="4698720"/>
            <a:ext cx="494532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6373800" y="9618120"/>
            <a:ext cx="3700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B88C9E3-54E5-4D31-A927-27210E97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0" y="9618120"/>
            <a:ext cx="6746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-360"/>
            <a:ext cx="10954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900760" y="-360"/>
            <a:ext cx="84312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896400" y="4698720"/>
            <a:ext cx="494532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96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996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996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63480" y="53640"/>
            <a:ext cx="7718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Bef>
                <a:spcPts val="4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3480" y="53640"/>
            <a:ext cx="7718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Bef>
                <a:spcPts val="4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96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1" marL="754200" indent="-28116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2" marL="1263600" indent="-31896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3" marL="1690560" indent="-23652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4" marL="2093760" indent="-19044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5" marL="2093760" indent="-19044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6" marL="2093760" indent="-19044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7939080" y="6642000"/>
            <a:ext cx="1125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326880" y="114120"/>
            <a:ext cx="12960" cy="120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1920" y="228600"/>
            <a:ext cx="1125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013520" y="6180120"/>
          <a:ext cx="1838520" cy="39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3520" y="6180120"/>
                    <a:ext cx="183852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295200" y="63831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6F3B-D9D0-4F53-A66C-6A591A452022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991720" y="594360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asini" descr=""/>
          <p:cNvPicPr/>
          <p:nvPr/>
        </p:nvPicPr>
        <p:blipFill>
          <a:blip r:embed="rId2"/>
          <a:srcRect l="12069" t="0" r="0" b="0"/>
          <a:stretch/>
        </p:blipFill>
        <p:spPr>
          <a:xfrm>
            <a:off x="0" y="0"/>
            <a:ext cx="3886200" cy="346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25760"/>
            <a:ext cx="5638680" cy="34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67160" y="0"/>
            <a:ext cx="5676840" cy="34257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800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4648320"/>
            <a:ext cx="2666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00800" y="6310440"/>
            <a:ext cx="1981080" cy="3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-11160" y="-457200"/>
          <a:ext cx="3516480" cy="599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-457200"/>
                    <a:ext cx="3516480" cy="59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3467160"/>
            <a:ext cx="350532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9040" y="3517920"/>
            <a:ext cx="1125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759880" y="5613120"/>
            <a:ext cx="12600" cy="120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4920" y="6705720"/>
            <a:ext cx="1125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17400" y="4067280"/>
            <a:ext cx="42620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orkshop on IP-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d Mediacom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TU - 25th April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iovanni Colomb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I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0680" y="3325680"/>
            <a:ext cx="0" cy="12621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0840" y="174600"/>
            <a:ext cx="826272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ervice </a:t>
            </a: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path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 closing the loop </a:t>
            </a:r>
            <a:r>
              <a:rPr b="1" lang="it-IT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85760" y="1389240"/>
            <a:ext cx="56044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1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service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otential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system and technological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41880" y="4740120"/>
            <a:ext cx="44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eld and technological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7362720" y="1986120"/>
            <a:ext cx="15840" cy="26683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84320" y="2004840"/>
            <a:ext cx="17780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21200" y="2900520"/>
            <a:ext cx="15242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19840" y="3852720"/>
            <a:ext cx="5256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49840"/>
            <a:ext cx="26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Market-dri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70640" y="5407200"/>
            <a:ext cx="347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ervice validation, awar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essence of technological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ocial and political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720" y="1770120"/>
            <a:ext cx="174600" cy="2496960"/>
          </a:xfrm>
          <a:prstGeom prst="downArrow">
            <a:avLst>
              <a:gd name="adj1" fmla="val 50000"/>
              <a:gd name="adj2" fmla="val 35752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714200">
            <a:off x="2277720" y="5762160"/>
            <a:ext cx="436680" cy="160560"/>
          </a:xfrm>
          <a:prstGeom prst="rightArrow">
            <a:avLst>
              <a:gd name="adj1" fmla="val 50000"/>
              <a:gd name="adj2" fmla="val 6799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8922200">
            <a:off x="6488280" y="5543280"/>
            <a:ext cx="536400" cy="160200"/>
          </a:xfrm>
          <a:prstGeom prst="rightArrow">
            <a:avLst>
              <a:gd name="adj1" fmla="val 50000"/>
              <a:gd name="adj2" fmla="val 83708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218880"/>
            <a:ext cx="8601120" cy="12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jor convergence trends in the development contex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646280"/>
            <a:ext cx="56880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services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personalization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service control and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network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738760" y="1465200"/>
            <a:ext cx="2741040" cy="1981440"/>
            <a:chOff x="5738760" y="1465200"/>
            <a:chExt cx="2741040" cy="1981440"/>
          </a:xfrm>
        </p:grpSpPr>
        <p:pic>
          <p:nvPicPr>
            <p:cNvPr id="117" name="T_ppccasio" descr=""/>
            <p:cNvPicPr/>
            <p:nvPr/>
          </p:nvPicPr>
          <p:blipFill>
            <a:blip r:embed="rId1"/>
            <a:stretch/>
          </p:blipFill>
          <p:spPr>
            <a:xfrm>
              <a:off x="8032680" y="2681280"/>
              <a:ext cx="4208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DDI's%20WAP%20Phone" descr=""/>
            <p:cNvPicPr/>
            <p:nvPr/>
          </p:nvPicPr>
          <p:blipFill>
            <a:blip r:embed="rId2"/>
            <a:stretch/>
          </p:blipFill>
          <p:spPr>
            <a:xfrm>
              <a:off x="5738760" y="1659240"/>
              <a:ext cx="228600" cy="63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neopoint" descr=""/>
            <p:cNvPicPr/>
            <p:nvPr/>
          </p:nvPicPr>
          <p:blipFill>
            <a:blip r:embed="rId3"/>
            <a:stretch/>
          </p:blipFill>
          <p:spPr>
            <a:xfrm>
              <a:off x="6700320" y="1620360"/>
              <a:ext cx="55728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Epson%20Locatio" descr=""/>
            <p:cNvPicPr/>
            <p:nvPr/>
          </p:nvPicPr>
          <p:blipFill>
            <a:blip r:embed="rId4"/>
            <a:stretch/>
          </p:blipFill>
          <p:spPr>
            <a:xfrm>
              <a:off x="6521400" y="2547720"/>
              <a:ext cx="1055880" cy="8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796000" y="2439360"/>
              <a:ext cx="199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741360" y="3446640"/>
              <a:ext cx="1738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74360" y="1465200"/>
              <a:ext cx="1620000" cy="1981440"/>
            </a:xfrm>
            <a:prstGeom prst="ellipse">
              <a:avLst/>
            </a:prstGeom>
            <a:noFill/>
            <a:ln cap="rnd" w="57240">
              <a:solidFill>
                <a:srgbClr val="4d4d4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734080" y="4430880"/>
            <a:ext cx="1492200" cy="1104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956120" y="56167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16000" y="369396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voice,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71640" y="4684680"/>
            <a:ext cx="2900160" cy="1959120"/>
            <a:chOff x="971640" y="4684680"/>
            <a:chExt cx="2900160" cy="1959120"/>
          </a:xfrm>
        </p:grpSpPr>
        <p:grpSp>
          <p:nvGrpSpPr>
            <p:cNvPr id="128" name=""/>
            <p:cNvGrpSpPr/>
            <p:nvPr/>
          </p:nvGrpSpPr>
          <p:grpSpPr>
            <a:xfrm>
              <a:off x="2742840" y="5396040"/>
              <a:ext cx="692640" cy="507240"/>
              <a:chOff x="2742840" y="5396040"/>
              <a:chExt cx="692640" cy="507240"/>
            </a:xfrm>
          </p:grpSpPr>
          <p:sp>
            <p:nvSpPr>
              <p:cNvPr id="129" name=""/>
              <p:cNvSpPr/>
              <p:nvPr/>
            </p:nvSpPr>
            <p:spPr>
              <a:xfrm>
                <a:off x="2756160" y="5776560"/>
                <a:ext cx="672480" cy="126720"/>
              </a:xfrm>
              <a:prstGeom prst="ellipse">
                <a:avLst/>
              </a:prstGeom>
              <a:solidFill>
                <a:srgbClr val="73737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42840" y="5478840"/>
                <a:ext cx="692640" cy="3650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56160" y="5403600"/>
                <a:ext cx="672480" cy="126720"/>
              </a:xfrm>
              <a:prstGeom prst="ellipse">
                <a:avLst/>
              </a:prstGeom>
              <a:solidFill>
                <a:srgbClr val="cc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742840" y="5478840"/>
                <a:ext cx="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34040" y="5490000"/>
                <a:ext cx="0" cy="34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01760" y="5480280"/>
                <a:ext cx="48960" cy="2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27320" y="5453280"/>
                <a:ext cx="74520" cy="86760"/>
              </a:xfrm>
              <a:custGeom>
                <a:avLst/>
                <a:gdLst/>
                <a:ahLst/>
                <a:rect l="l" t="t" r="r" b="b"/>
                <a:pathLst>
                  <a:path w="44" h="45">
                    <a:moveTo>
                      <a:pt x="10" y="0"/>
                    </a:moveTo>
                    <a:lnTo>
                      <a:pt x="0" y="44"/>
                    </a:lnTo>
                    <a:lnTo>
                      <a:pt x="43" y="37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2914920" y="5480280"/>
                <a:ext cx="15732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63080" y="5447880"/>
                <a:ext cx="72360" cy="9000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42" y="46"/>
                    </a:moveTo>
                    <a:lnTo>
                      <a:pt x="40" y="0"/>
                    </a:lnTo>
                    <a:lnTo>
                      <a:pt x="0" y="26"/>
                    </a:lnTo>
                    <a:lnTo>
                      <a:pt x="42" y="4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3090240" y="5451480"/>
                <a:ext cx="15408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22000" y="5411160"/>
                <a:ext cx="74880" cy="8820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0"/>
                    </a:moveTo>
                    <a:lnTo>
                      <a:pt x="5" y="45"/>
                    </a:lnTo>
                    <a:lnTo>
                      <a:pt x="43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3008520" y="5434200"/>
                <a:ext cx="5400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57760" y="5396040"/>
                <a:ext cx="77400" cy="882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36" y="45"/>
                    </a:moveTo>
                    <a:lnTo>
                      <a:pt x="45" y="0"/>
                    </a:lnTo>
                    <a:lnTo>
                      <a:pt x="0" y="12"/>
                    </a:lnTo>
                    <a:lnTo>
                      <a:pt x="36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751760" y="5388840"/>
              <a:ext cx="707400" cy="803880"/>
            </a:xfrm>
            <a:prstGeom prst="rect">
              <a:avLst/>
            </a:prstGeom>
            <a:solidFill>
              <a:srgbClr val="a6a6a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7560" y="5511600"/>
              <a:ext cx="218520" cy="39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10400" y="5909400"/>
              <a:ext cx="1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012040" y="5511600"/>
              <a:ext cx="218520" cy="39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835280" y="5909400"/>
              <a:ext cx="1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1640" y="5617080"/>
              <a:ext cx="772200" cy="61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75000" y="5604120"/>
              <a:ext cx="237600" cy="69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7160" y="5725440"/>
              <a:ext cx="30600" cy="32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18000" y="5725440"/>
              <a:ext cx="26640" cy="32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5600" y="5722560"/>
              <a:ext cx="29880" cy="32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36440" y="5722560"/>
              <a:ext cx="28440" cy="32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93320" y="5721120"/>
              <a:ext cx="28440" cy="32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1" y="16"/>
                  </a:lnTo>
                  <a:lnTo>
                    <a:pt x="16" y="14"/>
                  </a:lnTo>
                  <a:lnTo>
                    <a:pt x="14" y="0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54160" y="5721120"/>
              <a:ext cx="28440" cy="32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15000" y="5721120"/>
              <a:ext cx="28440" cy="32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72240" y="5719680"/>
              <a:ext cx="28440" cy="31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1" y="16"/>
                  </a:lnTo>
                  <a:lnTo>
                    <a:pt x="16" y="14"/>
                  </a:lnTo>
                  <a:lnTo>
                    <a:pt x="14" y="0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33080" y="5719680"/>
              <a:ext cx="28440" cy="31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91760" y="5719680"/>
              <a:ext cx="28800" cy="31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51160" y="5716800"/>
              <a:ext cx="26640" cy="32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1" y="16"/>
                  </a:lnTo>
                  <a:lnTo>
                    <a:pt x="16" y="14"/>
                  </a:lnTo>
                  <a:lnTo>
                    <a:pt x="14" y="0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12000" y="5716800"/>
              <a:ext cx="26640" cy="32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57160" y="5627160"/>
              <a:ext cx="30600" cy="32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18000" y="5625360"/>
              <a:ext cx="26640" cy="32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75600" y="5625360"/>
              <a:ext cx="29880" cy="32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36440" y="5622840"/>
              <a:ext cx="28440" cy="32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95120" y="5622840"/>
              <a:ext cx="28800" cy="32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54160" y="5621400"/>
              <a:ext cx="28440" cy="32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15000" y="5621400"/>
              <a:ext cx="28440" cy="32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4040" y="5619960"/>
              <a:ext cx="28440" cy="31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33080" y="5619960"/>
              <a:ext cx="28440" cy="31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91760" y="5617080"/>
              <a:ext cx="28800" cy="32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51160" y="5617080"/>
              <a:ext cx="30600" cy="32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12000" y="5614200"/>
              <a:ext cx="26640" cy="31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022400" y="6047640"/>
              <a:ext cx="70956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022400" y="6139080"/>
              <a:ext cx="68868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93720" y="6275520"/>
              <a:ext cx="8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3440" y="59947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pac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80800" y="5026680"/>
              <a:ext cx="2192040" cy="208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service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91720" y="4765680"/>
              <a:ext cx="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97480" y="46846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705640" y="3274920"/>
            <a:ext cx="272880" cy="831960"/>
          </a:xfrm>
          <a:prstGeom prst="downArrow">
            <a:avLst>
              <a:gd name="adj1" fmla="val 50000"/>
              <a:gd name="adj2" fmla="val 7622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13000" y="2877840"/>
            <a:ext cx="2079720" cy="16812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854680" y="2049480"/>
            <a:ext cx="2268720" cy="86040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19760" y="2965320"/>
            <a:ext cx="2190600" cy="94140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10400" y="1944720"/>
            <a:ext cx="1009440" cy="642960"/>
            <a:chOff x="6710400" y="1944720"/>
            <a:chExt cx="1009440" cy="642960"/>
          </a:xfrm>
        </p:grpSpPr>
        <p:sp>
          <p:nvSpPr>
            <p:cNvPr id="185" name=""/>
            <p:cNvSpPr/>
            <p:nvPr/>
          </p:nvSpPr>
          <p:spPr>
            <a:xfrm>
              <a:off x="6710400" y="1944720"/>
              <a:ext cx="1009440" cy="642960"/>
            </a:xfrm>
            <a:custGeom>
              <a:avLst/>
              <a:gdLst/>
              <a:ahLst/>
              <a:rect l="l" t="t" r="r" b="b"/>
              <a:pathLst>
                <a:path w="2827" h="1421">
                  <a:moveTo>
                    <a:pt x="255" y="949"/>
                  </a:moveTo>
                  <a:lnTo>
                    <a:pt x="228" y="946"/>
                  </a:lnTo>
                  <a:lnTo>
                    <a:pt x="202" y="942"/>
                  </a:lnTo>
                  <a:lnTo>
                    <a:pt x="178" y="936"/>
                  </a:lnTo>
                  <a:lnTo>
                    <a:pt x="154" y="928"/>
                  </a:lnTo>
                  <a:lnTo>
                    <a:pt x="132" y="919"/>
                  </a:lnTo>
                  <a:lnTo>
                    <a:pt x="111" y="909"/>
                  </a:lnTo>
                  <a:lnTo>
                    <a:pt x="91" y="897"/>
                  </a:lnTo>
                  <a:lnTo>
                    <a:pt x="73" y="885"/>
                  </a:lnTo>
                  <a:lnTo>
                    <a:pt x="57" y="871"/>
                  </a:lnTo>
                  <a:lnTo>
                    <a:pt x="42" y="857"/>
                  </a:lnTo>
                  <a:lnTo>
                    <a:pt x="30" y="841"/>
                  </a:lnTo>
                  <a:lnTo>
                    <a:pt x="19" y="825"/>
                  </a:lnTo>
                  <a:lnTo>
                    <a:pt x="11" y="808"/>
                  </a:lnTo>
                  <a:lnTo>
                    <a:pt x="5" y="791"/>
                  </a:lnTo>
                  <a:lnTo>
                    <a:pt x="1" y="773"/>
                  </a:lnTo>
                  <a:lnTo>
                    <a:pt x="0" y="754"/>
                  </a:lnTo>
                  <a:lnTo>
                    <a:pt x="1" y="741"/>
                  </a:lnTo>
                  <a:lnTo>
                    <a:pt x="3" y="728"/>
                  </a:lnTo>
                  <a:lnTo>
                    <a:pt x="6" y="716"/>
                  </a:lnTo>
                  <a:lnTo>
                    <a:pt x="10" y="703"/>
                  </a:lnTo>
                  <a:lnTo>
                    <a:pt x="15" y="691"/>
                  </a:lnTo>
                  <a:lnTo>
                    <a:pt x="22" y="679"/>
                  </a:lnTo>
                  <a:lnTo>
                    <a:pt x="29" y="668"/>
                  </a:lnTo>
                  <a:lnTo>
                    <a:pt x="38" y="657"/>
                  </a:lnTo>
                  <a:lnTo>
                    <a:pt x="48" y="646"/>
                  </a:lnTo>
                  <a:lnTo>
                    <a:pt x="58" y="636"/>
                  </a:lnTo>
                  <a:lnTo>
                    <a:pt x="82" y="617"/>
                  </a:lnTo>
                  <a:lnTo>
                    <a:pt x="110" y="600"/>
                  </a:lnTo>
                  <a:lnTo>
                    <a:pt x="141" y="585"/>
                  </a:lnTo>
                  <a:lnTo>
                    <a:pt x="139" y="588"/>
                  </a:lnTo>
                  <a:lnTo>
                    <a:pt x="122" y="574"/>
                  </a:lnTo>
                  <a:lnTo>
                    <a:pt x="106" y="559"/>
                  </a:lnTo>
                  <a:lnTo>
                    <a:pt x="93" y="543"/>
                  </a:lnTo>
                  <a:lnTo>
                    <a:pt x="82" y="526"/>
                  </a:lnTo>
                  <a:lnTo>
                    <a:pt x="73" y="509"/>
                  </a:lnTo>
                  <a:lnTo>
                    <a:pt x="67" y="491"/>
                  </a:lnTo>
                  <a:lnTo>
                    <a:pt x="63" y="473"/>
                  </a:lnTo>
                  <a:lnTo>
                    <a:pt x="62" y="455"/>
                  </a:lnTo>
                  <a:lnTo>
                    <a:pt x="64" y="435"/>
                  </a:lnTo>
                  <a:lnTo>
                    <a:pt x="68" y="416"/>
                  </a:lnTo>
                  <a:lnTo>
                    <a:pt x="75" y="397"/>
                  </a:lnTo>
                  <a:lnTo>
                    <a:pt x="84" y="379"/>
                  </a:lnTo>
                  <a:lnTo>
                    <a:pt x="97" y="362"/>
                  </a:lnTo>
                  <a:lnTo>
                    <a:pt x="111" y="346"/>
                  </a:lnTo>
                  <a:lnTo>
                    <a:pt x="127" y="331"/>
                  </a:lnTo>
                  <a:lnTo>
                    <a:pt x="146" y="317"/>
                  </a:lnTo>
                  <a:lnTo>
                    <a:pt x="166" y="304"/>
                  </a:lnTo>
                  <a:lnTo>
                    <a:pt x="188" y="293"/>
                  </a:lnTo>
                  <a:lnTo>
                    <a:pt x="211" y="284"/>
                  </a:lnTo>
                  <a:lnTo>
                    <a:pt x="236" y="275"/>
                  </a:lnTo>
                  <a:lnTo>
                    <a:pt x="262" y="269"/>
                  </a:lnTo>
                  <a:lnTo>
                    <a:pt x="290" y="264"/>
                  </a:lnTo>
                  <a:lnTo>
                    <a:pt x="318" y="261"/>
                  </a:lnTo>
                  <a:lnTo>
                    <a:pt x="347" y="260"/>
                  </a:lnTo>
                  <a:lnTo>
                    <a:pt x="364" y="260"/>
                  </a:lnTo>
                  <a:lnTo>
                    <a:pt x="381" y="261"/>
                  </a:lnTo>
                  <a:lnTo>
                    <a:pt x="379" y="260"/>
                  </a:lnTo>
                  <a:lnTo>
                    <a:pt x="397" y="240"/>
                  </a:lnTo>
                  <a:lnTo>
                    <a:pt x="416" y="222"/>
                  </a:lnTo>
                  <a:lnTo>
                    <a:pt x="437" y="204"/>
                  </a:lnTo>
                  <a:lnTo>
                    <a:pt x="460" y="187"/>
                  </a:lnTo>
                  <a:lnTo>
                    <a:pt x="484" y="172"/>
                  </a:lnTo>
                  <a:lnTo>
                    <a:pt x="509" y="158"/>
                  </a:lnTo>
                  <a:lnTo>
                    <a:pt x="536" y="144"/>
                  </a:lnTo>
                  <a:lnTo>
                    <a:pt x="564" y="133"/>
                  </a:lnTo>
                  <a:lnTo>
                    <a:pt x="593" y="122"/>
                  </a:lnTo>
                  <a:lnTo>
                    <a:pt x="623" y="113"/>
                  </a:lnTo>
                  <a:lnTo>
                    <a:pt x="654" y="105"/>
                  </a:lnTo>
                  <a:lnTo>
                    <a:pt x="685" y="98"/>
                  </a:lnTo>
                  <a:lnTo>
                    <a:pt x="718" y="93"/>
                  </a:lnTo>
                  <a:lnTo>
                    <a:pt x="751" y="89"/>
                  </a:lnTo>
                  <a:lnTo>
                    <a:pt x="784" y="87"/>
                  </a:lnTo>
                  <a:lnTo>
                    <a:pt x="818" y="86"/>
                  </a:lnTo>
                  <a:lnTo>
                    <a:pt x="852" y="87"/>
                  </a:lnTo>
                  <a:lnTo>
                    <a:pt x="886" y="89"/>
                  </a:lnTo>
                  <a:lnTo>
                    <a:pt x="919" y="93"/>
                  </a:lnTo>
                  <a:lnTo>
                    <a:pt x="953" y="99"/>
                  </a:lnTo>
                  <a:lnTo>
                    <a:pt x="985" y="105"/>
                  </a:lnTo>
                  <a:lnTo>
                    <a:pt x="1017" y="114"/>
                  </a:lnTo>
                  <a:lnTo>
                    <a:pt x="1048" y="124"/>
                  </a:lnTo>
                  <a:lnTo>
                    <a:pt x="1078" y="135"/>
                  </a:lnTo>
                  <a:lnTo>
                    <a:pt x="1077" y="135"/>
                  </a:lnTo>
                  <a:lnTo>
                    <a:pt x="1093" y="120"/>
                  </a:lnTo>
                  <a:lnTo>
                    <a:pt x="1110" y="105"/>
                  </a:lnTo>
                  <a:lnTo>
                    <a:pt x="1129" y="91"/>
                  </a:lnTo>
                  <a:lnTo>
                    <a:pt x="1148" y="79"/>
                  </a:lnTo>
                  <a:lnTo>
                    <a:pt x="1169" y="66"/>
                  </a:lnTo>
                  <a:lnTo>
                    <a:pt x="1190" y="55"/>
                  </a:lnTo>
                  <a:lnTo>
                    <a:pt x="1236" y="36"/>
                  </a:lnTo>
                  <a:lnTo>
                    <a:pt x="1260" y="28"/>
                  </a:lnTo>
                  <a:lnTo>
                    <a:pt x="1285" y="21"/>
                  </a:lnTo>
                  <a:lnTo>
                    <a:pt x="1310" y="14"/>
                  </a:lnTo>
                  <a:lnTo>
                    <a:pt x="1336" y="9"/>
                  </a:lnTo>
                  <a:lnTo>
                    <a:pt x="1363" y="5"/>
                  </a:lnTo>
                  <a:lnTo>
                    <a:pt x="1389" y="2"/>
                  </a:lnTo>
                  <a:lnTo>
                    <a:pt x="1417" y="1"/>
                  </a:lnTo>
                  <a:lnTo>
                    <a:pt x="1444" y="0"/>
                  </a:lnTo>
                  <a:lnTo>
                    <a:pt x="1480" y="1"/>
                  </a:lnTo>
                  <a:lnTo>
                    <a:pt x="1516" y="4"/>
                  </a:lnTo>
                  <a:lnTo>
                    <a:pt x="1551" y="9"/>
                  </a:lnTo>
                  <a:lnTo>
                    <a:pt x="1585" y="16"/>
                  </a:lnTo>
                  <a:lnTo>
                    <a:pt x="1617" y="24"/>
                  </a:lnTo>
                  <a:lnTo>
                    <a:pt x="1649" y="35"/>
                  </a:lnTo>
                  <a:lnTo>
                    <a:pt x="1679" y="47"/>
                  </a:lnTo>
                  <a:lnTo>
                    <a:pt x="1708" y="60"/>
                  </a:lnTo>
                  <a:lnTo>
                    <a:pt x="1735" y="75"/>
                  </a:lnTo>
                  <a:lnTo>
                    <a:pt x="1760" y="91"/>
                  </a:lnTo>
                  <a:lnTo>
                    <a:pt x="1783" y="109"/>
                  </a:lnTo>
                  <a:lnTo>
                    <a:pt x="1805" y="128"/>
                  </a:lnTo>
                  <a:lnTo>
                    <a:pt x="1824" y="149"/>
                  </a:lnTo>
                  <a:lnTo>
                    <a:pt x="1841" y="170"/>
                  </a:lnTo>
                  <a:lnTo>
                    <a:pt x="1855" y="193"/>
                  </a:lnTo>
                  <a:lnTo>
                    <a:pt x="1867" y="216"/>
                  </a:lnTo>
                  <a:lnTo>
                    <a:pt x="1868" y="214"/>
                  </a:lnTo>
                  <a:lnTo>
                    <a:pt x="1891" y="205"/>
                  </a:lnTo>
                  <a:lnTo>
                    <a:pt x="1915" y="197"/>
                  </a:lnTo>
                  <a:lnTo>
                    <a:pt x="1939" y="190"/>
                  </a:lnTo>
                  <a:lnTo>
                    <a:pt x="1964" y="185"/>
                  </a:lnTo>
                  <a:lnTo>
                    <a:pt x="1989" y="181"/>
                  </a:lnTo>
                  <a:lnTo>
                    <a:pt x="2015" y="177"/>
                  </a:lnTo>
                  <a:lnTo>
                    <a:pt x="2042" y="176"/>
                  </a:lnTo>
                  <a:lnTo>
                    <a:pt x="2068" y="175"/>
                  </a:lnTo>
                  <a:lnTo>
                    <a:pt x="2107" y="176"/>
                  </a:lnTo>
                  <a:lnTo>
                    <a:pt x="2144" y="180"/>
                  </a:lnTo>
                  <a:lnTo>
                    <a:pt x="2180" y="186"/>
                  </a:lnTo>
                  <a:lnTo>
                    <a:pt x="2215" y="195"/>
                  </a:lnTo>
                  <a:lnTo>
                    <a:pt x="2248" y="206"/>
                  </a:lnTo>
                  <a:lnTo>
                    <a:pt x="2279" y="219"/>
                  </a:lnTo>
                  <a:lnTo>
                    <a:pt x="2308" y="233"/>
                  </a:lnTo>
                  <a:lnTo>
                    <a:pt x="2335" y="250"/>
                  </a:lnTo>
                  <a:lnTo>
                    <a:pt x="2359" y="268"/>
                  </a:lnTo>
                  <a:lnTo>
                    <a:pt x="2381" y="288"/>
                  </a:lnTo>
                  <a:lnTo>
                    <a:pt x="2400" y="309"/>
                  </a:lnTo>
                  <a:lnTo>
                    <a:pt x="2416" y="331"/>
                  </a:lnTo>
                  <a:lnTo>
                    <a:pt x="2429" y="355"/>
                  </a:lnTo>
                  <a:lnTo>
                    <a:pt x="2439" y="379"/>
                  </a:lnTo>
                  <a:lnTo>
                    <a:pt x="2445" y="405"/>
                  </a:lnTo>
                  <a:lnTo>
                    <a:pt x="2447" y="431"/>
                  </a:lnTo>
                  <a:lnTo>
                    <a:pt x="2446" y="432"/>
                  </a:lnTo>
                  <a:lnTo>
                    <a:pt x="2486" y="437"/>
                  </a:lnTo>
                  <a:lnTo>
                    <a:pt x="2525" y="445"/>
                  </a:lnTo>
                  <a:lnTo>
                    <a:pt x="2562" y="455"/>
                  </a:lnTo>
                  <a:lnTo>
                    <a:pt x="2598" y="467"/>
                  </a:lnTo>
                  <a:lnTo>
                    <a:pt x="2631" y="481"/>
                  </a:lnTo>
                  <a:lnTo>
                    <a:pt x="2662" y="496"/>
                  </a:lnTo>
                  <a:lnTo>
                    <a:pt x="2692" y="514"/>
                  </a:lnTo>
                  <a:lnTo>
                    <a:pt x="2718" y="533"/>
                  </a:lnTo>
                  <a:lnTo>
                    <a:pt x="2742" y="554"/>
                  </a:lnTo>
                  <a:lnTo>
                    <a:pt x="2764" y="576"/>
                  </a:lnTo>
                  <a:lnTo>
                    <a:pt x="2783" y="600"/>
                  </a:lnTo>
                  <a:lnTo>
                    <a:pt x="2798" y="624"/>
                  </a:lnTo>
                  <a:lnTo>
                    <a:pt x="2811" y="650"/>
                  </a:lnTo>
                  <a:lnTo>
                    <a:pt x="2820" y="677"/>
                  </a:lnTo>
                  <a:lnTo>
                    <a:pt x="2825" y="704"/>
                  </a:lnTo>
                  <a:lnTo>
                    <a:pt x="2827" y="732"/>
                  </a:lnTo>
                  <a:lnTo>
                    <a:pt x="2825" y="757"/>
                  </a:lnTo>
                  <a:lnTo>
                    <a:pt x="2821" y="782"/>
                  </a:lnTo>
                  <a:lnTo>
                    <a:pt x="2813" y="806"/>
                  </a:lnTo>
                  <a:lnTo>
                    <a:pt x="2803" y="830"/>
                  </a:lnTo>
                  <a:lnTo>
                    <a:pt x="2790" y="853"/>
                  </a:lnTo>
                  <a:lnTo>
                    <a:pt x="2774" y="875"/>
                  </a:lnTo>
                  <a:lnTo>
                    <a:pt x="2756" y="897"/>
                  </a:lnTo>
                  <a:lnTo>
                    <a:pt x="2735" y="917"/>
                  </a:lnTo>
                  <a:lnTo>
                    <a:pt x="2734" y="917"/>
                  </a:lnTo>
                  <a:lnTo>
                    <a:pt x="2746" y="940"/>
                  </a:lnTo>
                  <a:lnTo>
                    <a:pt x="2755" y="963"/>
                  </a:lnTo>
                  <a:lnTo>
                    <a:pt x="2760" y="987"/>
                  </a:lnTo>
                  <a:lnTo>
                    <a:pt x="2762" y="1011"/>
                  </a:lnTo>
                  <a:lnTo>
                    <a:pt x="2761" y="1031"/>
                  </a:lnTo>
                  <a:lnTo>
                    <a:pt x="2757" y="1051"/>
                  </a:lnTo>
                  <a:lnTo>
                    <a:pt x="2751" y="1070"/>
                  </a:lnTo>
                  <a:lnTo>
                    <a:pt x="2743" y="1089"/>
                  </a:lnTo>
                  <a:lnTo>
                    <a:pt x="2733" y="1107"/>
                  </a:lnTo>
                  <a:lnTo>
                    <a:pt x="2721" y="1124"/>
                  </a:lnTo>
                  <a:lnTo>
                    <a:pt x="2707" y="1141"/>
                  </a:lnTo>
                  <a:lnTo>
                    <a:pt x="2691" y="1157"/>
                  </a:lnTo>
                  <a:lnTo>
                    <a:pt x="2673" y="1171"/>
                  </a:lnTo>
                  <a:lnTo>
                    <a:pt x="2653" y="1185"/>
                  </a:lnTo>
                  <a:lnTo>
                    <a:pt x="2632" y="1198"/>
                  </a:lnTo>
                  <a:lnTo>
                    <a:pt x="2609" y="1209"/>
                  </a:lnTo>
                  <a:lnTo>
                    <a:pt x="2585" y="1220"/>
                  </a:lnTo>
                  <a:lnTo>
                    <a:pt x="2560" y="1228"/>
                  </a:lnTo>
                  <a:lnTo>
                    <a:pt x="2533" y="1236"/>
                  </a:lnTo>
                  <a:lnTo>
                    <a:pt x="2505" y="1242"/>
                  </a:lnTo>
                  <a:lnTo>
                    <a:pt x="2506" y="1243"/>
                  </a:lnTo>
                  <a:lnTo>
                    <a:pt x="2500" y="1262"/>
                  </a:lnTo>
                  <a:lnTo>
                    <a:pt x="2491" y="1280"/>
                  </a:lnTo>
                  <a:lnTo>
                    <a:pt x="2480" y="1298"/>
                  </a:lnTo>
                  <a:lnTo>
                    <a:pt x="2467" y="1314"/>
                  </a:lnTo>
                  <a:lnTo>
                    <a:pt x="2452" y="1330"/>
                  </a:lnTo>
                  <a:lnTo>
                    <a:pt x="2436" y="1345"/>
                  </a:lnTo>
                  <a:lnTo>
                    <a:pt x="2417" y="1358"/>
                  </a:lnTo>
                  <a:lnTo>
                    <a:pt x="2397" y="1371"/>
                  </a:lnTo>
                  <a:lnTo>
                    <a:pt x="2376" y="1382"/>
                  </a:lnTo>
                  <a:lnTo>
                    <a:pt x="2353" y="1392"/>
                  </a:lnTo>
                  <a:lnTo>
                    <a:pt x="2328" y="1400"/>
                  </a:lnTo>
                  <a:lnTo>
                    <a:pt x="2303" y="1408"/>
                  </a:lnTo>
                  <a:lnTo>
                    <a:pt x="2277" y="1413"/>
                  </a:lnTo>
                  <a:lnTo>
                    <a:pt x="2250" y="1418"/>
                  </a:lnTo>
                  <a:lnTo>
                    <a:pt x="2222" y="1420"/>
                  </a:lnTo>
                  <a:lnTo>
                    <a:pt x="2193" y="1421"/>
                  </a:lnTo>
                  <a:lnTo>
                    <a:pt x="2158" y="1420"/>
                  </a:lnTo>
                  <a:lnTo>
                    <a:pt x="2124" y="1416"/>
                  </a:lnTo>
                  <a:lnTo>
                    <a:pt x="2091" y="1410"/>
                  </a:lnTo>
                  <a:lnTo>
                    <a:pt x="2060" y="1401"/>
                  </a:lnTo>
                  <a:lnTo>
                    <a:pt x="2029" y="1390"/>
                  </a:lnTo>
                  <a:lnTo>
                    <a:pt x="2001" y="1377"/>
                  </a:lnTo>
                  <a:lnTo>
                    <a:pt x="1975" y="1361"/>
                  </a:lnTo>
                  <a:lnTo>
                    <a:pt x="1951" y="1344"/>
                  </a:lnTo>
                  <a:lnTo>
                    <a:pt x="1951" y="1344"/>
                  </a:lnTo>
                  <a:lnTo>
                    <a:pt x="1929" y="1361"/>
                  </a:lnTo>
                  <a:lnTo>
                    <a:pt x="1905" y="1377"/>
                  </a:lnTo>
                  <a:lnTo>
                    <a:pt x="1879" y="1390"/>
                  </a:lnTo>
                  <a:lnTo>
                    <a:pt x="1851" y="1401"/>
                  </a:lnTo>
                  <a:lnTo>
                    <a:pt x="1821" y="1410"/>
                  </a:lnTo>
                  <a:lnTo>
                    <a:pt x="1789" y="1416"/>
                  </a:lnTo>
                  <a:lnTo>
                    <a:pt x="1757" y="1420"/>
                  </a:lnTo>
                  <a:lnTo>
                    <a:pt x="1724" y="1421"/>
                  </a:lnTo>
                  <a:lnTo>
                    <a:pt x="1684" y="1419"/>
                  </a:lnTo>
                  <a:lnTo>
                    <a:pt x="1645" y="1413"/>
                  </a:lnTo>
                  <a:lnTo>
                    <a:pt x="1609" y="1404"/>
                  </a:lnTo>
                  <a:lnTo>
                    <a:pt x="1574" y="1392"/>
                  </a:lnTo>
                  <a:lnTo>
                    <a:pt x="1542" y="1376"/>
                  </a:lnTo>
                  <a:lnTo>
                    <a:pt x="1514" y="1358"/>
                  </a:lnTo>
                  <a:lnTo>
                    <a:pt x="1501" y="1348"/>
                  </a:lnTo>
                  <a:lnTo>
                    <a:pt x="1489" y="1337"/>
                  </a:lnTo>
                  <a:lnTo>
                    <a:pt x="1479" y="1325"/>
                  </a:lnTo>
                  <a:lnTo>
                    <a:pt x="1469" y="1313"/>
                  </a:lnTo>
                  <a:lnTo>
                    <a:pt x="1470" y="1310"/>
                  </a:lnTo>
                  <a:lnTo>
                    <a:pt x="1444" y="1326"/>
                  </a:lnTo>
                  <a:lnTo>
                    <a:pt x="1417" y="1339"/>
                  </a:lnTo>
                  <a:lnTo>
                    <a:pt x="1388" y="1351"/>
                  </a:lnTo>
                  <a:lnTo>
                    <a:pt x="1357" y="1361"/>
                  </a:lnTo>
                  <a:lnTo>
                    <a:pt x="1325" y="1368"/>
                  </a:lnTo>
                  <a:lnTo>
                    <a:pt x="1292" y="1374"/>
                  </a:lnTo>
                  <a:lnTo>
                    <a:pt x="1259" y="1377"/>
                  </a:lnTo>
                  <a:lnTo>
                    <a:pt x="1225" y="1378"/>
                  </a:lnTo>
                  <a:lnTo>
                    <a:pt x="1201" y="1377"/>
                  </a:lnTo>
                  <a:lnTo>
                    <a:pt x="1177" y="1376"/>
                  </a:lnTo>
                  <a:lnTo>
                    <a:pt x="1154" y="1373"/>
                  </a:lnTo>
                  <a:lnTo>
                    <a:pt x="1131" y="1369"/>
                  </a:lnTo>
                  <a:lnTo>
                    <a:pt x="1109" y="1364"/>
                  </a:lnTo>
                  <a:lnTo>
                    <a:pt x="1087" y="1358"/>
                  </a:lnTo>
                  <a:lnTo>
                    <a:pt x="1045" y="1344"/>
                  </a:lnTo>
                  <a:lnTo>
                    <a:pt x="1007" y="1325"/>
                  </a:lnTo>
                  <a:lnTo>
                    <a:pt x="989" y="1315"/>
                  </a:lnTo>
                  <a:lnTo>
                    <a:pt x="972" y="1304"/>
                  </a:lnTo>
                  <a:lnTo>
                    <a:pt x="957" y="1292"/>
                  </a:lnTo>
                  <a:lnTo>
                    <a:pt x="942" y="1279"/>
                  </a:lnTo>
                  <a:lnTo>
                    <a:pt x="929" y="1265"/>
                  </a:lnTo>
                  <a:lnTo>
                    <a:pt x="917" y="1251"/>
                  </a:lnTo>
                  <a:lnTo>
                    <a:pt x="916" y="1250"/>
                  </a:lnTo>
                  <a:lnTo>
                    <a:pt x="890" y="1260"/>
                  </a:lnTo>
                  <a:lnTo>
                    <a:pt x="863" y="1268"/>
                  </a:lnTo>
                  <a:lnTo>
                    <a:pt x="836" y="1275"/>
                  </a:lnTo>
                  <a:lnTo>
                    <a:pt x="808" y="1281"/>
                  </a:lnTo>
                  <a:lnTo>
                    <a:pt x="780" y="1285"/>
                  </a:lnTo>
                  <a:lnTo>
                    <a:pt x="751" y="1288"/>
                  </a:lnTo>
                  <a:lnTo>
                    <a:pt x="722" y="1290"/>
                  </a:lnTo>
                  <a:lnTo>
                    <a:pt x="692" y="1291"/>
                  </a:lnTo>
                  <a:lnTo>
                    <a:pt x="647" y="1289"/>
                  </a:lnTo>
                  <a:lnTo>
                    <a:pt x="603" y="1285"/>
                  </a:lnTo>
                  <a:lnTo>
                    <a:pt x="561" y="1277"/>
                  </a:lnTo>
                  <a:lnTo>
                    <a:pt x="520" y="1267"/>
                  </a:lnTo>
                  <a:lnTo>
                    <a:pt x="481" y="1255"/>
                  </a:lnTo>
                  <a:lnTo>
                    <a:pt x="445" y="1240"/>
                  </a:lnTo>
                  <a:lnTo>
                    <a:pt x="411" y="1222"/>
                  </a:lnTo>
                  <a:lnTo>
                    <a:pt x="380" y="1203"/>
                  </a:lnTo>
                  <a:lnTo>
                    <a:pt x="351" y="1181"/>
                  </a:lnTo>
                  <a:lnTo>
                    <a:pt x="326" y="1158"/>
                  </a:lnTo>
                  <a:lnTo>
                    <a:pt x="303" y="1133"/>
                  </a:lnTo>
                  <a:lnTo>
                    <a:pt x="285" y="1107"/>
                  </a:lnTo>
                  <a:lnTo>
                    <a:pt x="270" y="1079"/>
                  </a:lnTo>
                  <a:lnTo>
                    <a:pt x="264" y="1065"/>
                  </a:lnTo>
                  <a:lnTo>
                    <a:pt x="259" y="1050"/>
                  </a:lnTo>
                  <a:lnTo>
                    <a:pt x="255" y="1035"/>
                  </a:lnTo>
                  <a:lnTo>
                    <a:pt x="252" y="1020"/>
                  </a:lnTo>
                  <a:lnTo>
                    <a:pt x="251" y="1005"/>
                  </a:lnTo>
                  <a:lnTo>
                    <a:pt x="250" y="989"/>
                  </a:lnTo>
                  <a:lnTo>
                    <a:pt x="251" y="969"/>
                  </a:lnTo>
                  <a:lnTo>
                    <a:pt x="254" y="948"/>
                  </a:lnTo>
                  <a:lnTo>
                    <a:pt x="255" y="94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10400" y="1944720"/>
              <a:ext cx="1009440" cy="642960"/>
            </a:xfrm>
            <a:custGeom>
              <a:avLst/>
              <a:gdLst/>
              <a:ahLst/>
              <a:rect l="l" t="t" r="r" b="b"/>
              <a:pathLst>
                <a:path w="2827" h="1421">
                  <a:moveTo>
                    <a:pt x="255" y="949"/>
                  </a:moveTo>
                  <a:lnTo>
                    <a:pt x="228" y="946"/>
                  </a:lnTo>
                  <a:lnTo>
                    <a:pt x="202" y="942"/>
                  </a:lnTo>
                  <a:lnTo>
                    <a:pt x="178" y="936"/>
                  </a:lnTo>
                  <a:lnTo>
                    <a:pt x="154" y="928"/>
                  </a:lnTo>
                  <a:lnTo>
                    <a:pt x="132" y="919"/>
                  </a:lnTo>
                  <a:lnTo>
                    <a:pt x="111" y="909"/>
                  </a:lnTo>
                  <a:lnTo>
                    <a:pt x="91" y="897"/>
                  </a:lnTo>
                  <a:lnTo>
                    <a:pt x="73" y="885"/>
                  </a:lnTo>
                  <a:lnTo>
                    <a:pt x="57" y="871"/>
                  </a:lnTo>
                  <a:lnTo>
                    <a:pt x="42" y="857"/>
                  </a:lnTo>
                  <a:lnTo>
                    <a:pt x="30" y="841"/>
                  </a:lnTo>
                  <a:lnTo>
                    <a:pt x="19" y="825"/>
                  </a:lnTo>
                  <a:lnTo>
                    <a:pt x="11" y="808"/>
                  </a:lnTo>
                  <a:lnTo>
                    <a:pt x="5" y="791"/>
                  </a:lnTo>
                  <a:lnTo>
                    <a:pt x="1" y="773"/>
                  </a:lnTo>
                  <a:lnTo>
                    <a:pt x="0" y="754"/>
                  </a:lnTo>
                  <a:lnTo>
                    <a:pt x="1" y="741"/>
                  </a:lnTo>
                  <a:lnTo>
                    <a:pt x="3" y="728"/>
                  </a:lnTo>
                  <a:lnTo>
                    <a:pt x="6" y="716"/>
                  </a:lnTo>
                  <a:lnTo>
                    <a:pt x="10" y="703"/>
                  </a:lnTo>
                  <a:lnTo>
                    <a:pt x="15" y="691"/>
                  </a:lnTo>
                  <a:lnTo>
                    <a:pt x="22" y="679"/>
                  </a:lnTo>
                  <a:lnTo>
                    <a:pt x="29" y="668"/>
                  </a:lnTo>
                  <a:lnTo>
                    <a:pt x="38" y="657"/>
                  </a:lnTo>
                  <a:lnTo>
                    <a:pt x="48" y="646"/>
                  </a:lnTo>
                  <a:lnTo>
                    <a:pt x="58" y="636"/>
                  </a:lnTo>
                  <a:lnTo>
                    <a:pt x="82" y="617"/>
                  </a:lnTo>
                  <a:lnTo>
                    <a:pt x="110" y="600"/>
                  </a:lnTo>
                  <a:lnTo>
                    <a:pt x="141" y="585"/>
                  </a:lnTo>
                  <a:lnTo>
                    <a:pt x="139" y="588"/>
                  </a:lnTo>
                  <a:lnTo>
                    <a:pt x="122" y="574"/>
                  </a:lnTo>
                  <a:lnTo>
                    <a:pt x="106" y="559"/>
                  </a:lnTo>
                  <a:lnTo>
                    <a:pt x="93" y="543"/>
                  </a:lnTo>
                  <a:lnTo>
                    <a:pt x="82" y="526"/>
                  </a:lnTo>
                  <a:lnTo>
                    <a:pt x="73" y="509"/>
                  </a:lnTo>
                  <a:lnTo>
                    <a:pt x="67" y="491"/>
                  </a:lnTo>
                  <a:lnTo>
                    <a:pt x="63" y="473"/>
                  </a:lnTo>
                  <a:lnTo>
                    <a:pt x="62" y="455"/>
                  </a:lnTo>
                  <a:lnTo>
                    <a:pt x="64" y="435"/>
                  </a:lnTo>
                  <a:lnTo>
                    <a:pt x="68" y="416"/>
                  </a:lnTo>
                  <a:lnTo>
                    <a:pt x="75" y="397"/>
                  </a:lnTo>
                  <a:lnTo>
                    <a:pt x="84" y="379"/>
                  </a:lnTo>
                  <a:lnTo>
                    <a:pt x="97" y="362"/>
                  </a:lnTo>
                  <a:lnTo>
                    <a:pt x="111" y="346"/>
                  </a:lnTo>
                  <a:lnTo>
                    <a:pt x="127" y="331"/>
                  </a:lnTo>
                  <a:lnTo>
                    <a:pt x="146" y="317"/>
                  </a:lnTo>
                  <a:lnTo>
                    <a:pt x="166" y="304"/>
                  </a:lnTo>
                  <a:lnTo>
                    <a:pt x="188" y="293"/>
                  </a:lnTo>
                  <a:lnTo>
                    <a:pt x="211" y="284"/>
                  </a:lnTo>
                  <a:lnTo>
                    <a:pt x="236" y="275"/>
                  </a:lnTo>
                  <a:lnTo>
                    <a:pt x="262" y="269"/>
                  </a:lnTo>
                  <a:lnTo>
                    <a:pt x="290" y="264"/>
                  </a:lnTo>
                  <a:lnTo>
                    <a:pt x="318" y="261"/>
                  </a:lnTo>
                  <a:lnTo>
                    <a:pt x="347" y="260"/>
                  </a:lnTo>
                  <a:lnTo>
                    <a:pt x="364" y="260"/>
                  </a:lnTo>
                  <a:lnTo>
                    <a:pt x="381" y="261"/>
                  </a:lnTo>
                  <a:lnTo>
                    <a:pt x="379" y="260"/>
                  </a:lnTo>
                  <a:lnTo>
                    <a:pt x="397" y="240"/>
                  </a:lnTo>
                  <a:lnTo>
                    <a:pt x="416" y="222"/>
                  </a:lnTo>
                  <a:lnTo>
                    <a:pt x="437" y="204"/>
                  </a:lnTo>
                  <a:lnTo>
                    <a:pt x="460" y="187"/>
                  </a:lnTo>
                  <a:lnTo>
                    <a:pt x="484" y="172"/>
                  </a:lnTo>
                  <a:lnTo>
                    <a:pt x="509" y="158"/>
                  </a:lnTo>
                  <a:lnTo>
                    <a:pt x="536" y="144"/>
                  </a:lnTo>
                  <a:lnTo>
                    <a:pt x="564" y="133"/>
                  </a:lnTo>
                  <a:lnTo>
                    <a:pt x="593" y="122"/>
                  </a:lnTo>
                  <a:lnTo>
                    <a:pt x="623" y="113"/>
                  </a:lnTo>
                  <a:lnTo>
                    <a:pt x="654" y="105"/>
                  </a:lnTo>
                  <a:lnTo>
                    <a:pt x="685" y="98"/>
                  </a:lnTo>
                  <a:lnTo>
                    <a:pt x="718" y="93"/>
                  </a:lnTo>
                  <a:lnTo>
                    <a:pt x="751" y="89"/>
                  </a:lnTo>
                  <a:lnTo>
                    <a:pt x="784" y="87"/>
                  </a:lnTo>
                  <a:lnTo>
                    <a:pt x="818" y="86"/>
                  </a:lnTo>
                  <a:lnTo>
                    <a:pt x="852" y="87"/>
                  </a:lnTo>
                  <a:lnTo>
                    <a:pt x="886" y="89"/>
                  </a:lnTo>
                  <a:lnTo>
                    <a:pt x="919" y="93"/>
                  </a:lnTo>
                  <a:lnTo>
                    <a:pt x="953" y="99"/>
                  </a:lnTo>
                  <a:lnTo>
                    <a:pt x="985" y="105"/>
                  </a:lnTo>
                  <a:lnTo>
                    <a:pt x="1017" y="114"/>
                  </a:lnTo>
                  <a:lnTo>
                    <a:pt x="1048" y="124"/>
                  </a:lnTo>
                  <a:lnTo>
                    <a:pt x="1078" y="135"/>
                  </a:lnTo>
                  <a:lnTo>
                    <a:pt x="1077" y="135"/>
                  </a:lnTo>
                  <a:lnTo>
                    <a:pt x="1093" y="120"/>
                  </a:lnTo>
                  <a:lnTo>
                    <a:pt x="1110" y="105"/>
                  </a:lnTo>
                  <a:lnTo>
                    <a:pt x="1129" y="91"/>
                  </a:lnTo>
                  <a:lnTo>
                    <a:pt x="1148" y="79"/>
                  </a:lnTo>
                  <a:lnTo>
                    <a:pt x="1169" y="66"/>
                  </a:lnTo>
                  <a:lnTo>
                    <a:pt x="1190" y="55"/>
                  </a:lnTo>
                  <a:lnTo>
                    <a:pt x="1236" y="36"/>
                  </a:lnTo>
                  <a:lnTo>
                    <a:pt x="1260" y="28"/>
                  </a:lnTo>
                  <a:lnTo>
                    <a:pt x="1285" y="21"/>
                  </a:lnTo>
                  <a:lnTo>
                    <a:pt x="1310" y="14"/>
                  </a:lnTo>
                  <a:lnTo>
                    <a:pt x="1336" y="9"/>
                  </a:lnTo>
                  <a:lnTo>
                    <a:pt x="1363" y="5"/>
                  </a:lnTo>
                  <a:lnTo>
                    <a:pt x="1389" y="2"/>
                  </a:lnTo>
                  <a:lnTo>
                    <a:pt x="1417" y="1"/>
                  </a:lnTo>
                  <a:lnTo>
                    <a:pt x="1444" y="0"/>
                  </a:lnTo>
                  <a:lnTo>
                    <a:pt x="1480" y="1"/>
                  </a:lnTo>
                  <a:lnTo>
                    <a:pt x="1516" y="4"/>
                  </a:lnTo>
                  <a:lnTo>
                    <a:pt x="1551" y="9"/>
                  </a:lnTo>
                  <a:lnTo>
                    <a:pt x="1585" y="16"/>
                  </a:lnTo>
                  <a:lnTo>
                    <a:pt x="1617" y="24"/>
                  </a:lnTo>
                  <a:lnTo>
                    <a:pt x="1649" y="35"/>
                  </a:lnTo>
                  <a:lnTo>
                    <a:pt x="1679" y="47"/>
                  </a:lnTo>
                  <a:lnTo>
                    <a:pt x="1708" y="60"/>
                  </a:lnTo>
                  <a:lnTo>
                    <a:pt x="1735" y="75"/>
                  </a:lnTo>
                  <a:lnTo>
                    <a:pt x="1760" y="91"/>
                  </a:lnTo>
                  <a:lnTo>
                    <a:pt x="1783" y="109"/>
                  </a:lnTo>
                  <a:lnTo>
                    <a:pt x="1805" y="128"/>
                  </a:lnTo>
                  <a:lnTo>
                    <a:pt x="1824" y="149"/>
                  </a:lnTo>
                  <a:lnTo>
                    <a:pt x="1841" y="170"/>
                  </a:lnTo>
                  <a:lnTo>
                    <a:pt x="1855" y="193"/>
                  </a:lnTo>
                  <a:lnTo>
                    <a:pt x="1867" y="216"/>
                  </a:lnTo>
                  <a:lnTo>
                    <a:pt x="1868" y="214"/>
                  </a:lnTo>
                  <a:lnTo>
                    <a:pt x="1891" y="205"/>
                  </a:lnTo>
                  <a:lnTo>
                    <a:pt x="1915" y="197"/>
                  </a:lnTo>
                  <a:lnTo>
                    <a:pt x="1939" y="190"/>
                  </a:lnTo>
                  <a:lnTo>
                    <a:pt x="1964" y="185"/>
                  </a:lnTo>
                  <a:lnTo>
                    <a:pt x="1989" y="181"/>
                  </a:lnTo>
                  <a:lnTo>
                    <a:pt x="2015" y="177"/>
                  </a:lnTo>
                  <a:lnTo>
                    <a:pt x="2042" y="176"/>
                  </a:lnTo>
                  <a:lnTo>
                    <a:pt x="2068" y="175"/>
                  </a:lnTo>
                  <a:lnTo>
                    <a:pt x="2107" y="176"/>
                  </a:lnTo>
                  <a:lnTo>
                    <a:pt x="2144" y="180"/>
                  </a:lnTo>
                  <a:lnTo>
                    <a:pt x="2180" y="186"/>
                  </a:lnTo>
                  <a:lnTo>
                    <a:pt x="2215" y="195"/>
                  </a:lnTo>
                  <a:lnTo>
                    <a:pt x="2248" y="206"/>
                  </a:lnTo>
                  <a:lnTo>
                    <a:pt x="2279" y="219"/>
                  </a:lnTo>
                  <a:lnTo>
                    <a:pt x="2308" y="233"/>
                  </a:lnTo>
                  <a:lnTo>
                    <a:pt x="2335" y="250"/>
                  </a:lnTo>
                  <a:lnTo>
                    <a:pt x="2359" y="268"/>
                  </a:lnTo>
                  <a:lnTo>
                    <a:pt x="2381" y="288"/>
                  </a:lnTo>
                  <a:lnTo>
                    <a:pt x="2400" y="309"/>
                  </a:lnTo>
                  <a:lnTo>
                    <a:pt x="2416" y="331"/>
                  </a:lnTo>
                  <a:lnTo>
                    <a:pt x="2429" y="355"/>
                  </a:lnTo>
                  <a:lnTo>
                    <a:pt x="2439" y="379"/>
                  </a:lnTo>
                  <a:lnTo>
                    <a:pt x="2445" y="405"/>
                  </a:lnTo>
                  <a:lnTo>
                    <a:pt x="2447" y="431"/>
                  </a:lnTo>
                  <a:lnTo>
                    <a:pt x="2446" y="432"/>
                  </a:lnTo>
                  <a:lnTo>
                    <a:pt x="2486" y="437"/>
                  </a:lnTo>
                  <a:lnTo>
                    <a:pt x="2525" y="445"/>
                  </a:lnTo>
                  <a:lnTo>
                    <a:pt x="2562" y="455"/>
                  </a:lnTo>
                  <a:lnTo>
                    <a:pt x="2598" y="467"/>
                  </a:lnTo>
                  <a:lnTo>
                    <a:pt x="2631" y="481"/>
                  </a:lnTo>
                  <a:lnTo>
                    <a:pt x="2662" y="496"/>
                  </a:lnTo>
                  <a:lnTo>
                    <a:pt x="2692" y="514"/>
                  </a:lnTo>
                  <a:lnTo>
                    <a:pt x="2718" y="533"/>
                  </a:lnTo>
                  <a:lnTo>
                    <a:pt x="2742" y="554"/>
                  </a:lnTo>
                  <a:lnTo>
                    <a:pt x="2764" y="576"/>
                  </a:lnTo>
                  <a:lnTo>
                    <a:pt x="2783" y="600"/>
                  </a:lnTo>
                  <a:lnTo>
                    <a:pt x="2798" y="624"/>
                  </a:lnTo>
                  <a:lnTo>
                    <a:pt x="2811" y="650"/>
                  </a:lnTo>
                  <a:lnTo>
                    <a:pt x="2820" y="677"/>
                  </a:lnTo>
                  <a:lnTo>
                    <a:pt x="2825" y="704"/>
                  </a:lnTo>
                  <a:lnTo>
                    <a:pt x="2827" y="732"/>
                  </a:lnTo>
                  <a:lnTo>
                    <a:pt x="2825" y="757"/>
                  </a:lnTo>
                  <a:lnTo>
                    <a:pt x="2821" y="782"/>
                  </a:lnTo>
                  <a:lnTo>
                    <a:pt x="2813" y="806"/>
                  </a:lnTo>
                  <a:lnTo>
                    <a:pt x="2803" y="830"/>
                  </a:lnTo>
                  <a:lnTo>
                    <a:pt x="2790" y="853"/>
                  </a:lnTo>
                  <a:lnTo>
                    <a:pt x="2774" y="875"/>
                  </a:lnTo>
                  <a:lnTo>
                    <a:pt x="2756" y="897"/>
                  </a:lnTo>
                  <a:lnTo>
                    <a:pt x="2735" y="917"/>
                  </a:lnTo>
                  <a:lnTo>
                    <a:pt x="2734" y="917"/>
                  </a:lnTo>
                  <a:lnTo>
                    <a:pt x="2746" y="940"/>
                  </a:lnTo>
                  <a:lnTo>
                    <a:pt x="2755" y="963"/>
                  </a:lnTo>
                  <a:lnTo>
                    <a:pt x="2760" y="987"/>
                  </a:lnTo>
                  <a:lnTo>
                    <a:pt x="2762" y="1011"/>
                  </a:lnTo>
                  <a:lnTo>
                    <a:pt x="2761" y="1031"/>
                  </a:lnTo>
                  <a:lnTo>
                    <a:pt x="2757" y="1051"/>
                  </a:lnTo>
                  <a:lnTo>
                    <a:pt x="2751" y="1070"/>
                  </a:lnTo>
                  <a:lnTo>
                    <a:pt x="2743" y="1089"/>
                  </a:lnTo>
                  <a:lnTo>
                    <a:pt x="2733" y="1107"/>
                  </a:lnTo>
                  <a:lnTo>
                    <a:pt x="2721" y="1124"/>
                  </a:lnTo>
                  <a:lnTo>
                    <a:pt x="2707" y="1141"/>
                  </a:lnTo>
                  <a:lnTo>
                    <a:pt x="2691" y="1157"/>
                  </a:lnTo>
                  <a:lnTo>
                    <a:pt x="2673" y="1171"/>
                  </a:lnTo>
                  <a:lnTo>
                    <a:pt x="2653" y="1185"/>
                  </a:lnTo>
                  <a:lnTo>
                    <a:pt x="2632" y="1198"/>
                  </a:lnTo>
                  <a:lnTo>
                    <a:pt x="2609" y="1209"/>
                  </a:lnTo>
                  <a:lnTo>
                    <a:pt x="2585" y="1220"/>
                  </a:lnTo>
                  <a:lnTo>
                    <a:pt x="2560" y="1228"/>
                  </a:lnTo>
                  <a:lnTo>
                    <a:pt x="2533" y="1236"/>
                  </a:lnTo>
                  <a:lnTo>
                    <a:pt x="2505" y="1242"/>
                  </a:lnTo>
                  <a:lnTo>
                    <a:pt x="2506" y="1243"/>
                  </a:lnTo>
                  <a:lnTo>
                    <a:pt x="2500" y="1262"/>
                  </a:lnTo>
                  <a:lnTo>
                    <a:pt x="2491" y="1280"/>
                  </a:lnTo>
                  <a:lnTo>
                    <a:pt x="2480" y="1298"/>
                  </a:lnTo>
                  <a:lnTo>
                    <a:pt x="2467" y="1314"/>
                  </a:lnTo>
                  <a:lnTo>
                    <a:pt x="2452" y="1330"/>
                  </a:lnTo>
                  <a:lnTo>
                    <a:pt x="2436" y="1345"/>
                  </a:lnTo>
                  <a:lnTo>
                    <a:pt x="2417" y="1358"/>
                  </a:lnTo>
                  <a:lnTo>
                    <a:pt x="2397" y="1371"/>
                  </a:lnTo>
                  <a:lnTo>
                    <a:pt x="2376" y="1382"/>
                  </a:lnTo>
                  <a:lnTo>
                    <a:pt x="2353" y="1392"/>
                  </a:lnTo>
                  <a:lnTo>
                    <a:pt x="2328" y="1400"/>
                  </a:lnTo>
                  <a:lnTo>
                    <a:pt x="2303" y="1408"/>
                  </a:lnTo>
                  <a:lnTo>
                    <a:pt x="2277" y="1413"/>
                  </a:lnTo>
                  <a:lnTo>
                    <a:pt x="2250" y="1418"/>
                  </a:lnTo>
                  <a:lnTo>
                    <a:pt x="2222" y="1420"/>
                  </a:lnTo>
                  <a:lnTo>
                    <a:pt x="2193" y="1421"/>
                  </a:lnTo>
                  <a:lnTo>
                    <a:pt x="2158" y="1420"/>
                  </a:lnTo>
                  <a:lnTo>
                    <a:pt x="2124" y="1416"/>
                  </a:lnTo>
                  <a:lnTo>
                    <a:pt x="2091" y="1410"/>
                  </a:lnTo>
                  <a:lnTo>
                    <a:pt x="2060" y="1401"/>
                  </a:lnTo>
                  <a:lnTo>
                    <a:pt x="2029" y="1390"/>
                  </a:lnTo>
                  <a:lnTo>
                    <a:pt x="2001" y="1377"/>
                  </a:lnTo>
                  <a:lnTo>
                    <a:pt x="1975" y="1361"/>
                  </a:lnTo>
                  <a:lnTo>
                    <a:pt x="1951" y="1344"/>
                  </a:lnTo>
                  <a:lnTo>
                    <a:pt x="1951" y="1344"/>
                  </a:lnTo>
                  <a:lnTo>
                    <a:pt x="1929" y="1361"/>
                  </a:lnTo>
                  <a:lnTo>
                    <a:pt x="1905" y="1377"/>
                  </a:lnTo>
                  <a:lnTo>
                    <a:pt x="1879" y="1390"/>
                  </a:lnTo>
                  <a:lnTo>
                    <a:pt x="1851" y="1401"/>
                  </a:lnTo>
                  <a:lnTo>
                    <a:pt x="1821" y="1410"/>
                  </a:lnTo>
                  <a:lnTo>
                    <a:pt x="1789" y="1416"/>
                  </a:lnTo>
                  <a:lnTo>
                    <a:pt x="1757" y="1420"/>
                  </a:lnTo>
                  <a:lnTo>
                    <a:pt x="1724" y="1421"/>
                  </a:lnTo>
                  <a:lnTo>
                    <a:pt x="1684" y="1419"/>
                  </a:lnTo>
                  <a:lnTo>
                    <a:pt x="1645" y="1413"/>
                  </a:lnTo>
                  <a:lnTo>
                    <a:pt x="1609" y="1404"/>
                  </a:lnTo>
                  <a:lnTo>
                    <a:pt x="1574" y="1392"/>
                  </a:lnTo>
                  <a:lnTo>
                    <a:pt x="1542" y="1376"/>
                  </a:lnTo>
                  <a:lnTo>
                    <a:pt x="1514" y="1358"/>
                  </a:lnTo>
                  <a:lnTo>
                    <a:pt x="1501" y="1348"/>
                  </a:lnTo>
                  <a:lnTo>
                    <a:pt x="1489" y="1337"/>
                  </a:lnTo>
                  <a:lnTo>
                    <a:pt x="1479" y="1325"/>
                  </a:lnTo>
                  <a:lnTo>
                    <a:pt x="1469" y="1313"/>
                  </a:lnTo>
                  <a:lnTo>
                    <a:pt x="1470" y="1310"/>
                  </a:lnTo>
                  <a:lnTo>
                    <a:pt x="1444" y="1326"/>
                  </a:lnTo>
                  <a:lnTo>
                    <a:pt x="1417" y="1339"/>
                  </a:lnTo>
                  <a:lnTo>
                    <a:pt x="1388" y="1351"/>
                  </a:lnTo>
                  <a:lnTo>
                    <a:pt x="1357" y="1361"/>
                  </a:lnTo>
                  <a:lnTo>
                    <a:pt x="1325" y="1368"/>
                  </a:lnTo>
                  <a:lnTo>
                    <a:pt x="1292" y="1374"/>
                  </a:lnTo>
                  <a:lnTo>
                    <a:pt x="1259" y="1377"/>
                  </a:lnTo>
                  <a:lnTo>
                    <a:pt x="1225" y="1378"/>
                  </a:lnTo>
                  <a:lnTo>
                    <a:pt x="1201" y="1377"/>
                  </a:lnTo>
                  <a:lnTo>
                    <a:pt x="1177" y="1376"/>
                  </a:lnTo>
                  <a:lnTo>
                    <a:pt x="1154" y="1373"/>
                  </a:lnTo>
                  <a:lnTo>
                    <a:pt x="1131" y="1369"/>
                  </a:lnTo>
                  <a:lnTo>
                    <a:pt x="1109" y="1364"/>
                  </a:lnTo>
                  <a:lnTo>
                    <a:pt x="1087" y="1358"/>
                  </a:lnTo>
                  <a:lnTo>
                    <a:pt x="1045" y="1344"/>
                  </a:lnTo>
                  <a:lnTo>
                    <a:pt x="1007" y="1325"/>
                  </a:lnTo>
                  <a:lnTo>
                    <a:pt x="989" y="1315"/>
                  </a:lnTo>
                  <a:lnTo>
                    <a:pt x="972" y="1304"/>
                  </a:lnTo>
                  <a:lnTo>
                    <a:pt x="957" y="1292"/>
                  </a:lnTo>
                  <a:lnTo>
                    <a:pt x="942" y="1279"/>
                  </a:lnTo>
                  <a:lnTo>
                    <a:pt x="929" y="1265"/>
                  </a:lnTo>
                  <a:lnTo>
                    <a:pt x="917" y="1251"/>
                  </a:lnTo>
                  <a:lnTo>
                    <a:pt x="916" y="1250"/>
                  </a:lnTo>
                  <a:lnTo>
                    <a:pt x="890" y="1260"/>
                  </a:lnTo>
                  <a:lnTo>
                    <a:pt x="863" y="1268"/>
                  </a:lnTo>
                  <a:lnTo>
                    <a:pt x="836" y="1275"/>
                  </a:lnTo>
                  <a:lnTo>
                    <a:pt x="808" y="1281"/>
                  </a:lnTo>
                  <a:lnTo>
                    <a:pt x="780" y="1285"/>
                  </a:lnTo>
                  <a:lnTo>
                    <a:pt x="751" y="1288"/>
                  </a:lnTo>
                  <a:lnTo>
                    <a:pt x="722" y="1290"/>
                  </a:lnTo>
                  <a:lnTo>
                    <a:pt x="692" y="1291"/>
                  </a:lnTo>
                  <a:lnTo>
                    <a:pt x="647" y="1289"/>
                  </a:lnTo>
                  <a:lnTo>
                    <a:pt x="603" y="1285"/>
                  </a:lnTo>
                  <a:lnTo>
                    <a:pt x="561" y="1277"/>
                  </a:lnTo>
                  <a:lnTo>
                    <a:pt x="520" y="1267"/>
                  </a:lnTo>
                  <a:lnTo>
                    <a:pt x="481" y="1255"/>
                  </a:lnTo>
                  <a:lnTo>
                    <a:pt x="445" y="1240"/>
                  </a:lnTo>
                  <a:lnTo>
                    <a:pt x="411" y="1222"/>
                  </a:lnTo>
                  <a:lnTo>
                    <a:pt x="380" y="1203"/>
                  </a:lnTo>
                  <a:lnTo>
                    <a:pt x="351" y="1181"/>
                  </a:lnTo>
                  <a:lnTo>
                    <a:pt x="326" y="1158"/>
                  </a:lnTo>
                  <a:lnTo>
                    <a:pt x="303" y="1133"/>
                  </a:lnTo>
                  <a:lnTo>
                    <a:pt x="285" y="1107"/>
                  </a:lnTo>
                  <a:lnTo>
                    <a:pt x="270" y="1079"/>
                  </a:lnTo>
                  <a:lnTo>
                    <a:pt x="264" y="1065"/>
                  </a:lnTo>
                  <a:lnTo>
                    <a:pt x="259" y="1050"/>
                  </a:lnTo>
                  <a:lnTo>
                    <a:pt x="255" y="1035"/>
                  </a:lnTo>
                  <a:lnTo>
                    <a:pt x="252" y="1020"/>
                  </a:lnTo>
                  <a:lnTo>
                    <a:pt x="251" y="1005"/>
                  </a:lnTo>
                  <a:lnTo>
                    <a:pt x="250" y="989"/>
                  </a:lnTo>
                  <a:lnTo>
                    <a:pt x="251" y="969"/>
                  </a:lnTo>
                  <a:lnTo>
                    <a:pt x="254" y="948"/>
                  </a:lnTo>
                  <a:lnTo>
                    <a:pt x="255" y="94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60440" y="2197440"/>
              <a:ext cx="58680" cy="1152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33" y="15"/>
                  </a:lnTo>
                  <a:lnTo>
                    <a:pt x="69" y="7"/>
                  </a:lnTo>
                  <a:lnTo>
                    <a:pt x="106" y="2"/>
                  </a:lnTo>
                  <a:lnTo>
                    <a:pt x="143" y="0"/>
                  </a:lnTo>
                  <a:lnTo>
                    <a:pt x="154" y="0"/>
                  </a:lnTo>
                  <a:lnTo>
                    <a:pt x="1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46120" y="2062800"/>
              <a:ext cx="25560" cy="5760"/>
            </a:xfrm>
            <a:custGeom>
              <a:avLst/>
              <a:gdLst/>
              <a:ahLst/>
              <a:rect l="l" t="t" r="r" b="b"/>
              <a:pathLst>
                <a:path w="72" h="13">
                  <a:moveTo>
                    <a:pt x="0" y="0"/>
                  </a:moveTo>
                  <a:lnTo>
                    <a:pt x="37" y="5"/>
                  </a:lnTo>
                  <a:lnTo>
                    <a:pt x="55" y="8"/>
                  </a:lnTo>
                  <a:lnTo>
                    <a:pt x="72" y="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79040" y="2005560"/>
              <a:ext cx="15480" cy="2556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9" y="42"/>
                  </a:lnTo>
                  <a:lnTo>
                    <a:pt x="20" y="28"/>
                  </a:lnTo>
                  <a:lnTo>
                    <a:pt x="31" y="14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77120" y="2042280"/>
              <a:ext cx="6120" cy="2772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6" y="15"/>
                  </a:lnTo>
                  <a:lnTo>
                    <a:pt x="11" y="31"/>
                  </a:lnTo>
                  <a:lnTo>
                    <a:pt x="15" y="46"/>
                  </a:lnTo>
                  <a:lnTo>
                    <a:pt x="18" y="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08160" y="2139840"/>
              <a:ext cx="75960" cy="106200"/>
            </a:xfrm>
            <a:custGeom>
              <a:avLst/>
              <a:gdLst/>
              <a:ahLst/>
              <a:rect l="l" t="t" r="r" b="b"/>
              <a:pathLst>
                <a:path w="213" h="235">
                  <a:moveTo>
                    <a:pt x="213" y="0"/>
                  </a:moveTo>
                  <a:lnTo>
                    <a:pt x="213" y="1"/>
                  </a:lnTo>
                  <a:lnTo>
                    <a:pt x="213" y="2"/>
                  </a:lnTo>
                  <a:lnTo>
                    <a:pt x="212" y="20"/>
                  </a:lnTo>
                  <a:lnTo>
                    <a:pt x="209" y="39"/>
                  </a:lnTo>
                  <a:lnTo>
                    <a:pt x="205" y="57"/>
                  </a:lnTo>
                  <a:lnTo>
                    <a:pt x="198" y="74"/>
                  </a:lnTo>
                  <a:lnTo>
                    <a:pt x="190" y="91"/>
                  </a:lnTo>
                  <a:lnTo>
                    <a:pt x="180" y="108"/>
                  </a:lnTo>
                  <a:lnTo>
                    <a:pt x="168" y="124"/>
                  </a:lnTo>
                  <a:lnTo>
                    <a:pt x="155" y="140"/>
                  </a:lnTo>
                  <a:lnTo>
                    <a:pt x="141" y="154"/>
                  </a:lnTo>
                  <a:lnTo>
                    <a:pt x="125" y="169"/>
                  </a:lnTo>
                  <a:lnTo>
                    <a:pt x="107" y="182"/>
                  </a:lnTo>
                  <a:lnTo>
                    <a:pt x="88" y="194"/>
                  </a:lnTo>
                  <a:lnTo>
                    <a:pt x="68" y="206"/>
                  </a:lnTo>
                  <a:lnTo>
                    <a:pt x="47" y="217"/>
                  </a:lnTo>
                  <a:lnTo>
                    <a:pt x="24" y="226"/>
                  </a:lnTo>
                  <a:lnTo>
                    <a:pt x="0" y="2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52880" y="2319840"/>
              <a:ext cx="33840" cy="39600"/>
            </a:xfrm>
            <a:custGeom>
              <a:avLst/>
              <a:gdLst/>
              <a:ahLst/>
              <a:rect l="l" t="t" r="r" b="b"/>
              <a:pathLst>
                <a:path w="95" h="88">
                  <a:moveTo>
                    <a:pt x="0" y="0"/>
                  </a:moveTo>
                  <a:lnTo>
                    <a:pt x="29" y="19"/>
                  </a:lnTo>
                  <a:lnTo>
                    <a:pt x="55" y="40"/>
                  </a:lnTo>
                  <a:lnTo>
                    <a:pt x="67" y="52"/>
                  </a:lnTo>
                  <a:lnTo>
                    <a:pt x="77" y="63"/>
                  </a:lnTo>
                  <a:lnTo>
                    <a:pt x="87" y="75"/>
                  </a:lnTo>
                  <a:lnTo>
                    <a:pt x="95" y="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05360" y="2488320"/>
              <a:ext cx="1440" cy="1872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5" y="0"/>
                  </a:moveTo>
                  <a:lnTo>
                    <a:pt x="5" y="3"/>
                  </a:lnTo>
                  <a:lnTo>
                    <a:pt x="4" y="23"/>
                  </a:lnTo>
                  <a:lnTo>
                    <a:pt x="0" y="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89720" y="2529000"/>
              <a:ext cx="17280" cy="2376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53"/>
                  </a:moveTo>
                  <a:lnTo>
                    <a:pt x="35" y="41"/>
                  </a:lnTo>
                  <a:lnTo>
                    <a:pt x="22" y="28"/>
                  </a:lnTo>
                  <a:lnTo>
                    <a:pt x="10" y="1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26280" y="2518200"/>
              <a:ext cx="8280" cy="205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4" y="46"/>
                  </a:moveTo>
                  <a:lnTo>
                    <a:pt x="16" y="35"/>
                  </a:lnTo>
                  <a:lnTo>
                    <a:pt x="10" y="23"/>
                  </a:lnTo>
                  <a:lnTo>
                    <a:pt x="4" y="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7280" y="2490120"/>
              <a:ext cx="30240" cy="201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85" y="0"/>
                  </a:moveTo>
                  <a:lnTo>
                    <a:pt x="65" y="13"/>
                  </a:lnTo>
                  <a:lnTo>
                    <a:pt x="44" y="24"/>
                  </a:lnTo>
                  <a:lnTo>
                    <a:pt x="0" y="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00760" y="2352960"/>
              <a:ext cx="5040" cy="205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46"/>
                  </a:moveTo>
                  <a:lnTo>
                    <a:pt x="6" y="23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841920" y="2560680"/>
            <a:ext cx="1011240" cy="642960"/>
            <a:chOff x="3841920" y="2560680"/>
            <a:chExt cx="1011240" cy="642960"/>
          </a:xfrm>
        </p:grpSpPr>
        <p:sp>
          <p:nvSpPr>
            <p:cNvPr id="199" name=""/>
            <p:cNvSpPr/>
            <p:nvPr/>
          </p:nvSpPr>
          <p:spPr>
            <a:xfrm>
              <a:off x="3841920" y="2560680"/>
              <a:ext cx="1011240" cy="642960"/>
            </a:xfrm>
            <a:custGeom>
              <a:avLst/>
              <a:gdLst/>
              <a:ahLst/>
              <a:rect l="l" t="t" r="r" b="b"/>
              <a:pathLst>
                <a:path w="2827" h="1421">
                  <a:moveTo>
                    <a:pt x="255" y="949"/>
                  </a:moveTo>
                  <a:lnTo>
                    <a:pt x="228" y="946"/>
                  </a:lnTo>
                  <a:lnTo>
                    <a:pt x="202" y="942"/>
                  </a:lnTo>
                  <a:lnTo>
                    <a:pt x="178" y="936"/>
                  </a:lnTo>
                  <a:lnTo>
                    <a:pt x="154" y="928"/>
                  </a:lnTo>
                  <a:lnTo>
                    <a:pt x="132" y="919"/>
                  </a:lnTo>
                  <a:lnTo>
                    <a:pt x="111" y="909"/>
                  </a:lnTo>
                  <a:lnTo>
                    <a:pt x="91" y="897"/>
                  </a:lnTo>
                  <a:lnTo>
                    <a:pt x="73" y="885"/>
                  </a:lnTo>
                  <a:lnTo>
                    <a:pt x="57" y="871"/>
                  </a:lnTo>
                  <a:lnTo>
                    <a:pt x="42" y="857"/>
                  </a:lnTo>
                  <a:lnTo>
                    <a:pt x="30" y="841"/>
                  </a:lnTo>
                  <a:lnTo>
                    <a:pt x="19" y="825"/>
                  </a:lnTo>
                  <a:lnTo>
                    <a:pt x="11" y="808"/>
                  </a:lnTo>
                  <a:lnTo>
                    <a:pt x="5" y="791"/>
                  </a:lnTo>
                  <a:lnTo>
                    <a:pt x="1" y="773"/>
                  </a:lnTo>
                  <a:lnTo>
                    <a:pt x="0" y="754"/>
                  </a:lnTo>
                  <a:lnTo>
                    <a:pt x="1" y="741"/>
                  </a:lnTo>
                  <a:lnTo>
                    <a:pt x="3" y="728"/>
                  </a:lnTo>
                  <a:lnTo>
                    <a:pt x="6" y="716"/>
                  </a:lnTo>
                  <a:lnTo>
                    <a:pt x="10" y="703"/>
                  </a:lnTo>
                  <a:lnTo>
                    <a:pt x="15" y="691"/>
                  </a:lnTo>
                  <a:lnTo>
                    <a:pt x="22" y="679"/>
                  </a:lnTo>
                  <a:lnTo>
                    <a:pt x="29" y="668"/>
                  </a:lnTo>
                  <a:lnTo>
                    <a:pt x="38" y="657"/>
                  </a:lnTo>
                  <a:lnTo>
                    <a:pt x="48" y="646"/>
                  </a:lnTo>
                  <a:lnTo>
                    <a:pt x="58" y="636"/>
                  </a:lnTo>
                  <a:lnTo>
                    <a:pt x="82" y="617"/>
                  </a:lnTo>
                  <a:lnTo>
                    <a:pt x="110" y="600"/>
                  </a:lnTo>
                  <a:lnTo>
                    <a:pt x="141" y="585"/>
                  </a:lnTo>
                  <a:lnTo>
                    <a:pt x="139" y="588"/>
                  </a:lnTo>
                  <a:lnTo>
                    <a:pt x="122" y="574"/>
                  </a:lnTo>
                  <a:lnTo>
                    <a:pt x="106" y="559"/>
                  </a:lnTo>
                  <a:lnTo>
                    <a:pt x="93" y="543"/>
                  </a:lnTo>
                  <a:lnTo>
                    <a:pt x="82" y="526"/>
                  </a:lnTo>
                  <a:lnTo>
                    <a:pt x="73" y="509"/>
                  </a:lnTo>
                  <a:lnTo>
                    <a:pt x="67" y="491"/>
                  </a:lnTo>
                  <a:lnTo>
                    <a:pt x="63" y="473"/>
                  </a:lnTo>
                  <a:lnTo>
                    <a:pt x="62" y="455"/>
                  </a:lnTo>
                  <a:lnTo>
                    <a:pt x="64" y="435"/>
                  </a:lnTo>
                  <a:lnTo>
                    <a:pt x="68" y="416"/>
                  </a:lnTo>
                  <a:lnTo>
                    <a:pt x="75" y="397"/>
                  </a:lnTo>
                  <a:lnTo>
                    <a:pt x="84" y="379"/>
                  </a:lnTo>
                  <a:lnTo>
                    <a:pt x="97" y="362"/>
                  </a:lnTo>
                  <a:lnTo>
                    <a:pt x="111" y="346"/>
                  </a:lnTo>
                  <a:lnTo>
                    <a:pt x="127" y="331"/>
                  </a:lnTo>
                  <a:lnTo>
                    <a:pt x="146" y="317"/>
                  </a:lnTo>
                  <a:lnTo>
                    <a:pt x="166" y="304"/>
                  </a:lnTo>
                  <a:lnTo>
                    <a:pt x="188" y="293"/>
                  </a:lnTo>
                  <a:lnTo>
                    <a:pt x="211" y="284"/>
                  </a:lnTo>
                  <a:lnTo>
                    <a:pt x="236" y="275"/>
                  </a:lnTo>
                  <a:lnTo>
                    <a:pt x="262" y="269"/>
                  </a:lnTo>
                  <a:lnTo>
                    <a:pt x="290" y="264"/>
                  </a:lnTo>
                  <a:lnTo>
                    <a:pt x="318" y="261"/>
                  </a:lnTo>
                  <a:lnTo>
                    <a:pt x="347" y="260"/>
                  </a:lnTo>
                  <a:lnTo>
                    <a:pt x="364" y="260"/>
                  </a:lnTo>
                  <a:lnTo>
                    <a:pt x="381" y="261"/>
                  </a:lnTo>
                  <a:lnTo>
                    <a:pt x="379" y="260"/>
                  </a:lnTo>
                  <a:lnTo>
                    <a:pt x="397" y="240"/>
                  </a:lnTo>
                  <a:lnTo>
                    <a:pt x="416" y="222"/>
                  </a:lnTo>
                  <a:lnTo>
                    <a:pt x="437" y="204"/>
                  </a:lnTo>
                  <a:lnTo>
                    <a:pt x="460" y="187"/>
                  </a:lnTo>
                  <a:lnTo>
                    <a:pt x="484" y="172"/>
                  </a:lnTo>
                  <a:lnTo>
                    <a:pt x="509" y="158"/>
                  </a:lnTo>
                  <a:lnTo>
                    <a:pt x="536" y="144"/>
                  </a:lnTo>
                  <a:lnTo>
                    <a:pt x="564" y="133"/>
                  </a:lnTo>
                  <a:lnTo>
                    <a:pt x="593" y="122"/>
                  </a:lnTo>
                  <a:lnTo>
                    <a:pt x="623" y="113"/>
                  </a:lnTo>
                  <a:lnTo>
                    <a:pt x="654" y="105"/>
                  </a:lnTo>
                  <a:lnTo>
                    <a:pt x="685" y="98"/>
                  </a:lnTo>
                  <a:lnTo>
                    <a:pt x="718" y="93"/>
                  </a:lnTo>
                  <a:lnTo>
                    <a:pt x="751" y="89"/>
                  </a:lnTo>
                  <a:lnTo>
                    <a:pt x="784" y="87"/>
                  </a:lnTo>
                  <a:lnTo>
                    <a:pt x="818" y="86"/>
                  </a:lnTo>
                  <a:lnTo>
                    <a:pt x="852" y="87"/>
                  </a:lnTo>
                  <a:lnTo>
                    <a:pt x="886" y="89"/>
                  </a:lnTo>
                  <a:lnTo>
                    <a:pt x="919" y="93"/>
                  </a:lnTo>
                  <a:lnTo>
                    <a:pt x="953" y="99"/>
                  </a:lnTo>
                  <a:lnTo>
                    <a:pt x="985" y="105"/>
                  </a:lnTo>
                  <a:lnTo>
                    <a:pt x="1017" y="114"/>
                  </a:lnTo>
                  <a:lnTo>
                    <a:pt x="1048" y="124"/>
                  </a:lnTo>
                  <a:lnTo>
                    <a:pt x="1078" y="135"/>
                  </a:lnTo>
                  <a:lnTo>
                    <a:pt x="1077" y="135"/>
                  </a:lnTo>
                  <a:lnTo>
                    <a:pt x="1093" y="120"/>
                  </a:lnTo>
                  <a:lnTo>
                    <a:pt x="1110" y="105"/>
                  </a:lnTo>
                  <a:lnTo>
                    <a:pt x="1129" y="91"/>
                  </a:lnTo>
                  <a:lnTo>
                    <a:pt x="1148" y="79"/>
                  </a:lnTo>
                  <a:lnTo>
                    <a:pt x="1169" y="66"/>
                  </a:lnTo>
                  <a:lnTo>
                    <a:pt x="1190" y="55"/>
                  </a:lnTo>
                  <a:lnTo>
                    <a:pt x="1236" y="36"/>
                  </a:lnTo>
                  <a:lnTo>
                    <a:pt x="1260" y="28"/>
                  </a:lnTo>
                  <a:lnTo>
                    <a:pt x="1285" y="21"/>
                  </a:lnTo>
                  <a:lnTo>
                    <a:pt x="1310" y="14"/>
                  </a:lnTo>
                  <a:lnTo>
                    <a:pt x="1336" y="9"/>
                  </a:lnTo>
                  <a:lnTo>
                    <a:pt x="1363" y="5"/>
                  </a:lnTo>
                  <a:lnTo>
                    <a:pt x="1389" y="2"/>
                  </a:lnTo>
                  <a:lnTo>
                    <a:pt x="1417" y="1"/>
                  </a:lnTo>
                  <a:lnTo>
                    <a:pt x="1444" y="0"/>
                  </a:lnTo>
                  <a:lnTo>
                    <a:pt x="1480" y="1"/>
                  </a:lnTo>
                  <a:lnTo>
                    <a:pt x="1516" y="4"/>
                  </a:lnTo>
                  <a:lnTo>
                    <a:pt x="1551" y="9"/>
                  </a:lnTo>
                  <a:lnTo>
                    <a:pt x="1585" y="16"/>
                  </a:lnTo>
                  <a:lnTo>
                    <a:pt x="1617" y="24"/>
                  </a:lnTo>
                  <a:lnTo>
                    <a:pt x="1649" y="35"/>
                  </a:lnTo>
                  <a:lnTo>
                    <a:pt x="1679" y="47"/>
                  </a:lnTo>
                  <a:lnTo>
                    <a:pt x="1708" y="60"/>
                  </a:lnTo>
                  <a:lnTo>
                    <a:pt x="1735" y="75"/>
                  </a:lnTo>
                  <a:lnTo>
                    <a:pt x="1760" y="91"/>
                  </a:lnTo>
                  <a:lnTo>
                    <a:pt x="1783" y="109"/>
                  </a:lnTo>
                  <a:lnTo>
                    <a:pt x="1805" y="128"/>
                  </a:lnTo>
                  <a:lnTo>
                    <a:pt x="1824" y="149"/>
                  </a:lnTo>
                  <a:lnTo>
                    <a:pt x="1841" y="170"/>
                  </a:lnTo>
                  <a:lnTo>
                    <a:pt x="1855" y="193"/>
                  </a:lnTo>
                  <a:lnTo>
                    <a:pt x="1867" y="216"/>
                  </a:lnTo>
                  <a:lnTo>
                    <a:pt x="1868" y="214"/>
                  </a:lnTo>
                  <a:lnTo>
                    <a:pt x="1891" y="205"/>
                  </a:lnTo>
                  <a:lnTo>
                    <a:pt x="1915" y="197"/>
                  </a:lnTo>
                  <a:lnTo>
                    <a:pt x="1939" y="190"/>
                  </a:lnTo>
                  <a:lnTo>
                    <a:pt x="1964" y="185"/>
                  </a:lnTo>
                  <a:lnTo>
                    <a:pt x="1989" y="181"/>
                  </a:lnTo>
                  <a:lnTo>
                    <a:pt x="2015" y="177"/>
                  </a:lnTo>
                  <a:lnTo>
                    <a:pt x="2042" y="176"/>
                  </a:lnTo>
                  <a:lnTo>
                    <a:pt x="2068" y="175"/>
                  </a:lnTo>
                  <a:lnTo>
                    <a:pt x="2107" y="176"/>
                  </a:lnTo>
                  <a:lnTo>
                    <a:pt x="2144" y="180"/>
                  </a:lnTo>
                  <a:lnTo>
                    <a:pt x="2180" y="186"/>
                  </a:lnTo>
                  <a:lnTo>
                    <a:pt x="2215" y="195"/>
                  </a:lnTo>
                  <a:lnTo>
                    <a:pt x="2248" y="206"/>
                  </a:lnTo>
                  <a:lnTo>
                    <a:pt x="2279" y="219"/>
                  </a:lnTo>
                  <a:lnTo>
                    <a:pt x="2308" y="233"/>
                  </a:lnTo>
                  <a:lnTo>
                    <a:pt x="2335" y="250"/>
                  </a:lnTo>
                  <a:lnTo>
                    <a:pt x="2359" y="268"/>
                  </a:lnTo>
                  <a:lnTo>
                    <a:pt x="2381" y="288"/>
                  </a:lnTo>
                  <a:lnTo>
                    <a:pt x="2400" y="309"/>
                  </a:lnTo>
                  <a:lnTo>
                    <a:pt x="2416" y="331"/>
                  </a:lnTo>
                  <a:lnTo>
                    <a:pt x="2429" y="355"/>
                  </a:lnTo>
                  <a:lnTo>
                    <a:pt x="2439" y="379"/>
                  </a:lnTo>
                  <a:lnTo>
                    <a:pt x="2445" y="405"/>
                  </a:lnTo>
                  <a:lnTo>
                    <a:pt x="2447" y="431"/>
                  </a:lnTo>
                  <a:lnTo>
                    <a:pt x="2446" y="432"/>
                  </a:lnTo>
                  <a:lnTo>
                    <a:pt x="2486" y="437"/>
                  </a:lnTo>
                  <a:lnTo>
                    <a:pt x="2525" y="445"/>
                  </a:lnTo>
                  <a:lnTo>
                    <a:pt x="2562" y="455"/>
                  </a:lnTo>
                  <a:lnTo>
                    <a:pt x="2598" y="467"/>
                  </a:lnTo>
                  <a:lnTo>
                    <a:pt x="2631" y="481"/>
                  </a:lnTo>
                  <a:lnTo>
                    <a:pt x="2662" y="496"/>
                  </a:lnTo>
                  <a:lnTo>
                    <a:pt x="2692" y="514"/>
                  </a:lnTo>
                  <a:lnTo>
                    <a:pt x="2718" y="533"/>
                  </a:lnTo>
                  <a:lnTo>
                    <a:pt x="2742" y="554"/>
                  </a:lnTo>
                  <a:lnTo>
                    <a:pt x="2764" y="576"/>
                  </a:lnTo>
                  <a:lnTo>
                    <a:pt x="2783" y="600"/>
                  </a:lnTo>
                  <a:lnTo>
                    <a:pt x="2798" y="624"/>
                  </a:lnTo>
                  <a:lnTo>
                    <a:pt x="2811" y="650"/>
                  </a:lnTo>
                  <a:lnTo>
                    <a:pt x="2820" y="677"/>
                  </a:lnTo>
                  <a:lnTo>
                    <a:pt x="2825" y="704"/>
                  </a:lnTo>
                  <a:lnTo>
                    <a:pt x="2827" y="732"/>
                  </a:lnTo>
                  <a:lnTo>
                    <a:pt x="2825" y="757"/>
                  </a:lnTo>
                  <a:lnTo>
                    <a:pt x="2821" y="782"/>
                  </a:lnTo>
                  <a:lnTo>
                    <a:pt x="2813" y="806"/>
                  </a:lnTo>
                  <a:lnTo>
                    <a:pt x="2803" y="830"/>
                  </a:lnTo>
                  <a:lnTo>
                    <a:pt x="2790" y="853"/>
                  </a:lnTo>
                  <a:lnTo>
                    <a:pt x="2774" y="875"/>
                  </a:lnTo>
                  <a:lnTo>
                    <a:pt x="2756" y="897"/>
                  </a:lnTo>
                  <a:lnTo>
                    <a:pt x="2735" y="917"/>
                  </a:lnTo>
                  <a:lnTo>
                    <a:pt x="2734" y="917"/>
                  </a:lnTo>
                  <a:lnTo>
                    <a:pt x="2746" y="940"/>
                  </a:lnTo>
                  <a:lnTo>
                    <a:pt x="2755" y="963"/>
                  </a:lnTo>
                  <a:lnTo>
                    <a:pt x="2760" y="987"/>
                  </a:lnTo>
                  <a:lnTo>
                    <a:pt x="2762" y="1011"/>
                  </a:lnTo>
                  <a:lnTo>
                    <a:pt x="2761" y="1031"/>
                  </a:lnTo>
                  <a:lnTo>
                    <a:pt x="2757" y="1051"/>
                  </a:lnTo>
                  <a:lnTo>
                    <a:pt x="2751" y="1070"/>
                  </a:lnTo>
                  <a:lnTo>
                    <a:pt x="2743" y="1089"/>
                  </a:lnTo>
                  <a:lnTo>
                    <a:pt x="2733" y="1107"/>
                  </a:lnTo>
                  <a:lnTo>
                    <a:pt x="2721" y="1124"/>
                  </a:lnTo>
                  <a:lnTo>
                    <a:pt x="2707" y="1141"/>
                  </a:lnTo>
                  <a:lnTo>
                    <a:pt x="2691" y="1157"/>
                  </a:lnTo>
                  <a:lnTo>
                    <a:pt x="2673" y="1171"/>
                  </a:lnTo>
                  <a:lnTo>
                    <a:pt x="2653" y="1185"/>
                  </a:lnTo>
                  <a:lnTo>
                    <a:pt x="2632" y="1198"/>
                  </a:lnTo>
                  <a:lnTo>
                    <a:pt x="2609" y="1209"/>
                  </a:lnTo>
                  <a:lnTo>
                    <a:pt x="2585" y="1220"/>
                  </a:lnTo>
                  <a:lnTo>
                    <a:pt x="2560" y="1228"/>
                  </a:lnTo>
                  <a:lnTo>
                    <a:pt x="2533" y="1236"/>
                  </a:lnTo>
                  <a:lnTo>
                    <a:pt x="2505" y="1242"/>
                  </a:lnTo>
                  <a:lnTo>
                    <a:pt x="2506" y="1243"/>
                  </a:lnTo>
                  <a:lnTo>
                    <a:pt x="2500" y="1262"/>
                  </a:lnTo>
                  <a:lnTo>
                    <a:pt x="2491" y="1280"/>
                  </a:lnTo>
                  <a:lnTo>
                    <a:pt x="2480" y="1298"/>
                  </a:lnTo>
                  <a:lnTo>
                    <a:pt x="2467" y="1314"/>
                  </a:lnTo>
                  <a:lnTo>
                    <a:pt x="2452" y="1330"/>
                  </a:lnTo>
                  <a:lnTo>
                    <a:pt x="2436" y="1345"/>
                  </a:lnTo>
                  <a:lnTo>
                    <a:pt x="2417" y="1358"/>
                  </a:lnTo>
                  <a:lnTo>
                    <a:pt x="2397" y="1371"/>
                  </a:lnTo>
                  <a:lnTo>
                    <a:pt x="2376" y="1382"/>
                  </a:lnTo>
                  <a:lnTo>
                    <a:pt x="2353" y="1392"/>
                  </a:lnTo>
                  <a:lnTo>
                    <a:pt x="2328" y="1400"/>
                  </a:lnTo>
                  <a:lnTo>
                    <a:pt x="2303" y="1408"/>
                  </a:lnTo>
                  <a:lnTo>
                    <a:pt x="2277" y="1413"/>
                  </a:lnTo>
                  <a:lnTo>
                    <a:pt x="2250" y="1418"/>
                  </a:lnTo>
                  <a:lnTo>
                    <a:pt x="2222" y="1420"/>
                  </a:lnTo>
                  <a:lnTo>
                    <a:pt x="2193" y="1421"/>
                  </a:lnTo>
                  <a:lnTo>
                    <a:pt x="2158" y="1420"/>
                  </a:lnTo>
                  <a:lnTo>
                    <a:pt x="2124" y="1416"/>
                  </a:lnTo>
                  <a:lnTo>
                    <a:pt x="2091" y="1410"/>
                  </a:lnTo>
                  <a:lnTo>
                    <a:pt x="2060" y="1401"/>
                  </a:lnTo>
                  <a:lnTo>
                    <a:pt x="2029" y="1390"/>
                  </a:lnTo>
                  <a:lnTo>
                    <a:pt x="2001" y="1377"/>
                  </a:lnTo>
                  <a:lnTo>
                    <a:pt x="1975" y="1361"/>
                  </a:lnTo>
                  <a:lnTo>
                    <a:pt x="1951" y="1344"/>
                  </a:lnTo>
                  <a:lnTo>
                    <a:pt x="1951" y="1344"/>
                  </a:lnTo>
                  <a:lnTo>
                    <a:pt x="1929" y="1361"/>
                  </a:lnTo>
                  <a:lnTo>
                    <a:pt x="1905" y="1377"/>
                  </a:lnTo>
                  <a:lnTo>
                    <a:pt x="1879" y="1390"/>
                  </a:lnTo>
                  <a:lnTo>
                    <a:pt x="1851" y="1401"/>
                  </a:lnTo>
                  <a:lnTo>
                    <a:pt x="1821" y="1410"/>
                  </a:lnTo>
                  <a:lnTo>
                    <a:pt x="1789" y="1416"/>
                  </a:lnTo>
                  <a:lnTo>
                    <a:pt x="1757" y="1420"/>
                  </a:lnTo>
                  <a:lnTo>
                    <a:pt x="1724" y="1421"/>
                  </a:lnTo>
                  <a:lnTo>
                    <a:pt x="1684" y="1419"/>
                  </a:lnTo>
                  <a:lnTo>
                    <a:pt x="1645" y="1413"/>
                  </a:lnTo>
                  <a:lnTo>
                    <a:pt x="1609" y="1404"/>
                  </a:lnTo>
                  <a:lnTo>
                    <a:pt x="1574" y="1392"/>
                  </a:lnTo>
                  <a:lnTo>
                    <a:pt x="1542" y="1376"/>
                  </a:lnTo>
                  <a:lnTo>
                    <a:pt x="1514" y="1358"/>
                  </a:lnTo>
                  <a:lnTo>
                    <a:pt x="1501" y="1348"/>
                  </a:lnTo>
                  <a:lnTo>
                    <a:pt x="1489" y="1337"/>
                  </a:lnTo>
                  <a:lnTo>
                    <a:pt x="1479" y="1325"/>
                  </a:lnTo>
                  <a:lnTo>
                    <a:pt x="1469" y="1313"/>
                  </a:lnTo>
                  <a:lnTo>
                    <a:pt x="1470" y="1310"/>
                  </a:lnTo>
                  <a:lnTo>
                    <a:pt x="1444" y="1326"/>
                  </a:lnTo>
                  <a:lnTo>
                    <a:pt x="1417" y="1339"/>
                  </a:lnTo>
                  <a:lnTo>
                    <a:pt x="1388" y="1351"/>
                  </a:lnTo>
                  <a:lnTo>
                    <a:pt x="1357" y="1361"/>
                  </a:lnTo>
                  <a:lnTo>
                    <a:pt x="1325" y="1368"/>
                  </a:lnTo>
                  <a:lnTo>
                    <a:pt x="1292" y="1374"/>
                  </a:lnTo>
                  <a:lnTo>
                    <a:pt x="1259" y="1377"/>
                  </a:lnTo>
                  <a:lnTo>
                    <a:pt x="1225" y="1378"/>
                  </a:lnTo>
                  <a:lnTo>
                    <a:pt x="1201" y="1377"/>
                  </a:lnTo>
                  <a:lnTo>
                    <a:pt x="1177" y="1376"/>
                  </a:lnTo>
                  <a:lnTo>
                    <a:pt x="1154" y="1373"/>
                  </a:lnTo>
                  <a:lnTo>
                    <a:pt x="1131" y="1369"/>
                  </a:lnTo>
                  <a:lnTo>
                    <a:pt x="1109" y="1364"/>
                  </a:lnTo>
                  <a:lnTo>
                    <a:pt x="1087" y="1358"/>
                  </a:lnTo>
                  <a:lnTo>
                    <a:pt x="1045" y="1344"/>
                  </a:lnTo>
                  <a:lnTo>
                    <a:pt x="1007" y="1325"/>
                  </a:lnTo>
                  <a:lnTo>
                    <a:pt x="989" y="1315"/>
                  </a:lnTo>
                  <a:lnTo>
                    <a:pt x="972" y="1304"/>
                  </a:lnTo>
                  <a:lnTo>
                    <a:pt x="957" y="1292"/>
                  </a:lnTo>
                  <a:lnTo>
                    <a:pt x="942" y="1279"/>
                  </a:lnTo>
                  <a:lnTo>
                    <a:pt x="929" y="1265"/>
                  </a:lnTo>
                  <a:lnTo>
                    <a:pt x="917" y="1251"/>
                  </a:lnTo>
                  <a:lnTo>
                    <a:pt x="916" y="1250"/>
                  </a:lnTo>
                  <a:lnTo>
                    <a:pt x="890" y="1260"/>
                  </a:lnTo>
                  <a:lnTo>
                    <a:pt x="863" y="1268"/>
                  </a:lnTo>
                  <a:lnTo>
                    <a:pt x="836" y="1275"/>
                  </a:lnTo>
                  <a:lnTo>
                    <a:pt x="808" y="1281"/>
                  </a:lnTo>
                  <a:lnTo>
                    <a:pt x="780" y="1285"/>
                  </a:lnTo>
                  <a:lnTo>
                    <a:pt x="751" y="1288"/>
                  </a:lnTo>
                  <a:lnTo>
                    <a:pt x="722" y="1290"/>
                  </a:lnTo>
                  <a:lnTo>
                    <a:pt x="692" y="1291"/>
                  </a:lnTo>
                  <a:lnTo>
                    <a:pt x="647" y="1289"/>
                  </a:lnTo>
                  <a:lnTo>
                    <a:pt x="603" y="1285"/>
                  </a:lnTo>
                  <a:lnTo>
                    <a:pt x="561" y="1277"/>
                  </a:lnTo>
                  <a:lnTo>
                    <a:pt x="520" y="1267"/>
                  </a:lnTo>
                  <a:lnTo>
                    <a:pt x="481" y="1255"/>
                  </a:lnTo>
                  <a:lnTo>
                    <a:pt x="445" y="1240"/>
                  </a:lnTo>
                  <a:lnTo>
                    <a:pt x="411" y="1222"/>
                  </a:lnTo>
                  <a:lnTo>
                    <a:pt x="380" y="1203"/>
                  </a:lnTo>
                  <a:lnTo>
                    <a:pt x="351" y="1181"/>
                  </a:lnTo>
                  <a:lnTo>
                    <a:pt x="326" y="1158"/>
                  </a:lnTo>
                  <a:lnTo>
                    <a:pt x="303" y="1133"/>
                  </a:lnTo>
                  <a:lnTo>
                    <a:pt x="285" y="1107"/>
                  </a:lnTo>
                  <a:lnTo>
                    <a:pt x="270" y="1079"/>
                  </a:lnTo>
                  <a:lnTo>
                    <a:pt x="264" y="1065"/>
                  </a:lnTo>
                  <a:lnTo>
                    <a:pt x="259" y="1050"/>
                  </a:lnTo>
                  <a:lnTo>
                    <a:pt x="255" y="1035"/>
                  </a:lnTo>
                  <a:lnTo>
                    <a:pt x="252" y="1020"/>
                  </a:lnTo>
                  <a:lnTo>
                    <a:pt x="251" y="1005"/>
                  </a:lnTo>
                  <a:lnTo>
                    <a:pt x="250" y="989"/>
                  </a:lnTo>
                  <a:lnTo>
                    <a:pt x="251" y="969"/>
                  </a:lnTo>
                  <a:lnTo>
                    <a:pt x="254" y="948"/>
                  </a:lnTo>
                  <a:lnTo>
                    <a:pt x="255" y="94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41920" y="2560680"/>
              <a:ext cx="1011240" cy="642960"/>
            </a:xfrm>
            <a:custGeom>
              <a:avLst/>
              <a:gdLst/>
              <a:ahLst/>
              <a:rect l="l" t="t" r="r" b="b"/>
              <a:pathLst>
                <a:path w="2827" h="1421">
                  <a:moveTo>
                    <a:pt x="255" y="949"/>
                  </a:moveTo>
                  <a:lnTo>
                    <a:pt x="228" y="946"/>
                  </a:lnTo>
                  <a:lnTo>
                    <a:pt x="202" y="942"/>
                  </a:lnTo>
                  <a:lnTo>
                    <a:pt x="178" y="936"/>
                  </a:lnTo>
                  <a:lnTo>
                    <a:pt x="154" y="928"/>
                  </a:lnTo>
                  <a:lnTo>
                    <a:pt x="132" y="919"/>
                  </a:lnTo>
                  <a:lnTo>
                    <a:pt x="111" y="909"/>
                  </a:lnTo>
                  <a:lnTo>
                    <a:pt x="91" y="897"/>
                  </a:lnTo>
                  <a:lnTo>
                    <a:pt x="73" y="885"/>
                  </a:lnTo>
                  <a:lnTo>
                    <a:pt x="57" y="871"/>
                  </a:lnTo>
                  <a:lnTo>
                    <a:pt x="42" y="857"/>
                  </a:lnTo>
                  <a:lnTo>
                    <a:pt x="30" y="841"/>
                  </a:lnTo>
                  <a:lnTo>
                    <a:pt x="19" y="825"/>
                  </a:lnTo>
                  <a:lnTo>
                    <a:pt x="11" y="808"/>
                  </a:lnTo>
                  <a:lnTo>
                    <a:pt x="5" y="791"/>
                  </a:lnTo>
                  <a:lnTo>
                    <a:pt x="1" y="773"/>
                  </a:lnTo>
                  <a:lnTo>
                    <a:pt x="0" y="754"/>
                  </a:lnTo>
                  <a:lnTo>
                    <a:pt x="1" y="741"/>
                  </a:lnTo>
                  <a:lnTo>
                    <a:pt x="3" y="728"/>
                  </a:lnTo>
                  <a:lnTo>
                    <a:pt x="6" y="716"/>
                  </a:lnTo>
                  <a:lnTo>
                    <a:pt x="10" y="703"/>
                  </a:lnTo>
                  <a:lnTo>
                    <a:pt x="15" y="691"/>
                  </a:lnTo>
                  <a:lnTo>
                    <a:pt x="22" y="679"/>
                  </a:lnTo>
                  <a:lnTo>
                    <a:pt x="29" y="668"/>
                  </a:lnTo>
                  <a:lnTo>
                    <a:pt x="38" y="657"/>
                  </a:lnTo>
                  <a:lnTo>
                    <a:pt x="48" y="646"/>
                  </a:lnTo>
                  <a:lnTo>
                    <a:pt x="58" y="636"/>
                  </a:lnTo>
                  <a:lnTo>
                    <a:pt x="82" y="617"/>
                  </a:lnTo>
                  <a:lnTo>
                    <a:pt x="110" y="600"/>
                  </a:lnTo>
                  <a:lnTo>
                    <a:pt x="141" y="585"/>
                  </a:lnTo>
                  <a:lnTo>
                    <a:pt x="139" y="588"/>
                  </a:lnTo>
                  <a:lnTo>
                    <a:pt x="122" y="574"/>
                  </a:lnTo>
                  <a:lnTo>
                    <a:pt x="106" y="559"/>
                  </a:lnTo>
                  <a:lnTo>
                    <a:pt x="93" y="543"/>
                  </a:lnTo>
                  <a:lnTo>
                    <a:pt x="82" y="526"/>
                  </a:lnTo>
                  <a:lnTo>
                    <a:pt x="73" y="509"/>
                  </a:lnTo>
                  <a:lnTo>
                    <a:pt x="67" y="491"/>
                  </a:lnTo>
                  <a:lnTo>
                    <a:pt x="63" y="473"/>
                  </a:lnTo>
                  <a:lnTo>
                    <a:pt x="62" y="455"/>
                  </a:lnTo>
                  <a:lnTo>
                    <a:pt x="64" y="435"/>
                  </a:lnTo>
                  <a:lnTo>
                    <a:pt x="68" y="416"/>
                  </a:lnTo>
                  <a:lnTo>
                    <a:pt x="75" y="397"/>
                  </a:lnTo>
                  <a:lnTo>
                    <a:pt x="84" y="379"/>
                  </a:lnTo>
                  <a:lnTo>
                    <a:pt x="97" y="362"/>
                  </a:lnTo>
                  <a:lnTo>
                    <a:pt x="111" y="346"/>
                  </a:lnTo>
                  <a:lnTo>
                    <a:pt x="127" y="331"/>
                  </a:lnTo>
                  <a:lnTo>
                    <a:pt x="146" y="317"/>
                  </a:lnTo>
                  <a:lnTo>
                    <a:pt x="166" y="304"/>
                  </a:lnTo>
                  <a:lnTo>
                    <a:pt x="188" y="293"/>
                  </a:lnTo>
                  <a:lnTo>
                    <a:pt x="211" y="284"/>
                  </a:lnTo>
                  <a:lnTo>
                    <a:pt x="236" y="275"/>
                  </a:lnTo>
                  <a:lnTo>
                    <a:pt x="262" y="269"/>
                  </a:lnTo>
                  <a:lnTo>
                    <a:pt x="290" y="264"/>
                  </a:lnTo>
                  <a:lnTo>
                    <a:pt x="318" y="261"/>
                  </a:lnTo>
                  <a:lnTo>
                    <a:pt x="347" y="260"/>
                  </a:lnTo>
                  <a:lnTo>
                    <a:pt x="364" y="260"/>
                  </a:lnTo>
                  <a:lnTo>
                    <a:pt x="381" y="261"/>
                  </a:lnTo>
                  <a:lnTo>
                    <a:pt x="379" y="260"/>
                  </a:lnTo>
                  <a:lnTo>
                    <a:pt x="397" y="240"/>
                  </a:lnTo>
                  <a:lnTo>
                    <a:pt x="416" y="222"/>
                  </a:lnTo>
                  <a:lnTo>
                    <a:pt x="437" y="204"/>
                  </a:lnTo>
                  <a:lnTo>
                    <a:pt x="460" y="187"/>
                  </a:lnTo>
                  <a:lnTo>
                    <a:pt x="484" y="172"/>
                  </a:lnTo>
                  <a:lnTo>
                    <a:pt x="509" y="158"/>
                  </a:lnTo>
                  <a:lnTo>
                    <a:pt x="536" y="144"/>
                  </a:lnTo>
                  <a:lnTo>
                    <a:pt x="564" y="133"/>
                  </a:lnTo>
                  <a:lnTo>
                    <a:pt x="593" y="122"/>
                  </a:lnTo>
                  <a:lnTo>
                    <a:pt x="623" y="113"/>
                  </a:lnTo>
                  <a:lnTo>
                    <a:pt x="654" y="105"/>
                  </a:lnTo>
                  <a:lnTo>
                    <a:pt x="685" y="98"/>
                  </a:lnTo>
                  <a:lnTo>
                    <a:pt x="718" y="93"/>
                  </a:lnTo>
                  <a:lnTo>
                    <a:pt x="751" y="89"/>
                  </a:lnTo>
                  <a:lnTo>
                    <a:pt x="784" y="87"/>
                  </a:lnTo>
                  <a:lnTo>
                    <a:pt x="818" y="86"/>
                  </a:lnTo>
                  <a:lnTo>
                    <a:pt x="852" y="87"/>
                  </a:lnTo>
                  <a:lnTo>
                    <a:pt x="886" y="89"/>
                  </a:lnTo>
                  <a:lnTo>
                    <a:pt x="919" y="93"/>
                  </a:lnTo>
                  <a:lnTo>
                    <a:pt x="953" y="99"/>
                  </a:lnTo>
                  <a:lnTo>
                    <a:pt x="985" y="105"/>
                  </a:lnTo>
                  <a:lnTo>
                    <a:pt x="1017" y="114"/>
                  </a:lnTo>
                  <a:lnTo>
                    <a:pt x="1048" y="124"/>
                  </a:lnTo>
                  <a:lnTo>
                    <a:pt x="1078" y="135"/>
                  </a:lnTo>
                  <a:lnTo>
                    <a:pt x="1077" y="135"/>
                  </a:lnTo>
                  <a:lnTo>
                    <a:pt x="1093" y="120"/>
                  </a:lnTo>
                  <a:lnTo>
                    <a:pt x="1110" y="105"/>
                  </a:lnTo>
                  <a:lnTo>
                    <a:pt x="1129" y="91"/>
                  </a:lnTo>
                  <a:lnTo>
                    <a:pt x="1148" y="79"/>
                  </a:lnTo>
                  <a:lnTo>
                    <a:pt x="1169" y="66"/>
                  </a:lnTo>
                  <a:lnTo>
                    <a:pt x="1190" y="55"/>
                  </a:lnTo>
                  <a:lnTo>
                    <a:pt x="1236" y="36"/>
                  </a:lnTo>
                  <a:lnTo>
                    <a:pt x="1260" y="28"/>
                  </a:lnTo>
                  <a:lnTo>
                    <a:pt x="1285" y="21"/>
                  </a:lnTo>
                  <a:lnTo>
                    <a:pt x="1310" y="14"/>
                  </a:lnTo>
                  <a:lnTo>
                    <a:pt x="1336" y="9"/>
                  </a:lnTo>
                  <a:lnTo>
                    <a:pt x="1363" y="5"/>
                  </a:lnTo>
                  <a:lnTo>
                    <a:pt x="1389" y="2"/>
                  </a:lnTo>
                  <a:lnTo>
                    <a:pt x="1417" y="1"/>
                  </a:lnTo>
                  <a:lnTo>
                    <a:pt x="1444" y="0"/>
                  </a:lnTo>
                  <a:lnTo>
                    <a:pt x="1480" y="1"/>
                  </a:lnTo>
                  <a:lnTo>
                    <a:pt x="1516" y="4"/>
                  </a:lnTo>
                  <a:lnTo>
                    <a:pt x="1551" y="9"/>
                  </a:lnTo>
                  <a:lnTo>
                    <a:pt x="1585" y="16"/>
                  </a:lnTo>
                  <a:lnTo>
                    <a:pt x="1617" y="24"/>
                  </a:lnTo>
                  <a:lnTo>
                    <a:pt x="1649" y="35"/>
                  </a:lnTo>
                  <a:lnTo>
                    <a:pt x="1679" y="47"/>
                  </a:lnTo>
                  <a:lnTo>
                    <a:pt x="1708" y="60"/>
                  </a:lnTo>
                  <a:lnTo>
                    <a:pt x="1735" y="75"/>
                  </a:lnTo>
                  <a:lnTo>
                    <a:pt x="1760" y="91"/>
                  </a:lnTo>
                  <a:lnTo>
                    <a:pt x="1783" y="109"/>
                  </a:lnTo>
                  <a:lnTo>
                    <a:pt x="1805" y="128"/>
                  </a:lnTo>
                  <a:lnTo>
                    <a:pt x="1824" y="149"/>
                  </a:lnTo>
                  <a:lnTo>
                    <a:pt x="1841" y="170"/>
                  </a:lnTo>
                  <a:lnTo>
                    <a:pt x="1855" y="193"/>
                  </a:lnTo>
                  <a:lnTo>
                    <a:pt x="1867" y="216"/>
                  </a:lnTo>
                  <a:lnTo>
                    <a:pt x="1868" y="214"/>
                  </a:lnTo>
                  <a:lnTo>
                    <a:pt x="1891" y="205"/>
                  </a:lnTo>
                  <a:lnTo>
                    <a:pt x="1915" y="197"/>
                  </a:lnTo>
                  <a:lnTo>
                    <a:pt x="1939" y="190"/>
                  </a:lnTo>
                  <a:lnTo>
                    <a:pt x="1964" y="185"/>
                  </a:lnTo>
                  <a:lnTo>
                    <a:pt x="1989" y="181"/>
                  </a:lnTo>
                  <a:lnTo>
                    <a:pt x="2015" y="177"/>
                  </a:lnTo>
                  <a:lnTo>
                    <a:pt x="2042" y="176"/>
                  </a:lnTo>
                  <a:lnTo>
                    <a:pt x="2068" y="175"/>
                  </a:lnTo>
                  <a:lnTo>
                    <a:pt x="2107" y="176"/>
                  </a:lnTo>
                  <a:lnTo>
                    <a:pt x="2144" y="180"/>
                  </a:lnTo>
                  <a:lnTo>
                    <a:pt x="2180" y="186"/>
                  </a:lnTo>
                  <a:lnTo>
                    <a:pt x="2215" y="195"/>
                  </a:lnTo>
                  <a:lnTo>
                    <a:pt x="2248" y="206"/>
                  </a:lnTo>
                  <a:lnTo>
                    <a:pt x="2279" y="219"/>
                  </a:lnTo>
                  <a:lnTo>
                    <a:pt x="2308" y="233"/>
                  </a:lnTo>
                  <a:lnTo>
                    <a:pt x="2335" y="250"/>
                  </a:lnTo>
                  <a:lnTo>
                    <a:pt x="2359" y="268"/>
                  </a:lnTo>
                  <a:lnTo>
                    <a:pt x="2381" y="288"/>
                  </a:lnTo>
                  <a:lnTo>
                    <a:pt x="2400" y="309"/>
                  </a:lnTo>
                  <a:lnTo>
                    <a:pt x="2416" y="331"/>
                  </a:lnTo>
                  <a:lnTo>
                    <a:pt x="2429" y="355"/>
                  </a:lnTo>
                  <a:lnTo>
                    <a:pt x="2439" y="379"/>
                  </a:lnTo>
                  <a:lnTo>
                    <a:pt x="2445" y="405"/>
                  </a:lnTo>
                  <a:lnTo>
                    <a:pt x="2447" y="431"/>
                  </a:lnTo>
                  <a:lnTo>
                    <a:pt x="2446" y="432"/>
                  </a:lnTo>
                  <a:lnTo>
                    <a:pt x="2486" y="437"/>
                  </a:lnTo>
                  <a:lnTo>
                    <a:pt x="2525" y="445"/>
                  </a:lnTo>
                  <a:lnTo>
                    <a:pt x="2562" y="455"/>
                  </a:lnTo>
                  <a:lnTo>
                    <a:pt x="2598" y="467"/>
                  </a:lnTo>
                  <a:lnTo>
                    <a:pt x="2631" y="481"/>
                  </a:lnTo>
                  <a:lnTo>
                    <a:pt x="2662" y="496"/>
                  </a:lnTo>
                  <a:lnTo>
                    <a:pt x="2692" y="514"/>
                  </a:lnTo>
                  <a:lnTo>
                    <a:pt x="2718" y="533"/>
                  </a:lnTo>
                  <a:lnTo>
                    <a:pt x="2742" y="554"/>
                  </a:lnTo>
                  <a:lnTo>
                    <a:pt x="2764" y="576"/>
                  </a:lnTo>
                  <a:lnTo>
                    <a:pt x="2783" y="600"/>
                  </a:lnTo>
                  <a:lnTo>
                    <a:pt x="2798" y="624"/>
                  </a:lnTo>
                  <a:lnTo>
                    <a:pt x="2811" y="650"/>
                  </a:lnTo>
                  <a:lnTo>
                    <a:pt x="2820" y="677"/>
                  </a:lnTo>
                  <a:lnTo>
                    <a:pt x="2825" y="704"/>
                  </a:lnTo>
                  <a:lnTo>
                    <a:pt x="2827" y="732"/>
                  </a:lnTo>
                  <a:lnTo>
                    <a:pt x="2825" y="757"/>
                  </a:lnTo>
                  <a:lnTo>
                    <a:pt x="2821" y="782"/>
                  </a:lnTo>
                  <a:lnTo>
                    <a:pt x="2813" y="806"/>
                  </a:lnTo>
                  <a:lnTo>
                    <a:pt x="2803" y="830"/>
                  </a:lnTo>
                  <a:lnTo>
                    <a:pt x="2790" y="853"/>
                  </a:lnTo>
                  <a:lnTo>
                    <a:pt x="2774" y="875"/>
                  </a:lnTo>
                  <a:lnTo>
                    <a:pt x="2756" y="897"/>
                  </a:lnTo>
                  <a:lnTo>
                    <a:pt x="2735" y="917"/>
                  </a:lnTo>
                  <a:lnTo>
                    <a:pt x="2734" y="917"/>
                  </a:lnTo>
                  <a:lnTo>
                    <a:pt x="2746" y="940"/>
                  </a:lnTo>
                  <a:lnTo>
                    <a:pt x="2755" y="963"/>
                  </a:lnTo>
                  <a:lnTo>
                    <a:pt x="2760" y="987"/>
                  </a:lnTo>
                  <a:lnTo>
                    <a:pt x="2762" y="1011"/>
                  </a:lnTo>
                  <a:lnTo>
                    <a:pt x="2761" y="1031"/>
                  </a:lnTo>
                  <a:lnTo>
                    <a:pt x="2757" y="1051"/>
                  </a:lnTo>
                  <a:lnTo>
                    <a:pt x="2751" y="1070"/>
                  </a:lnTo>
                  <a:lnTo>
                    <a:pt x="2743" y="1089"/>
                  </a:lnTo>
                  <a:lnTo>
                    <a:pt x="2733" y="1107"/>
                  </a:lnTo>
                  <a:lnTo>
                    <a:pt x="2721" y="1124"/>
                  </a:lnTo>
                  <a:lnTo>
                    <a:pt x="2707" y="1141"/>
                  </a:lnTo>
                  <a:lnTo>
                    <a:pt x="2691" y="1157"/>
                  </a:lnTo>
                  <a:lnTo>
                    <a:pt x="2673" y="1171"/>
                  </a:lnTo>
                  <a:lnTo>
                    <a:pt x="2653" y="1185"/>
                  </a:lnTo>
                  <a:lnTo>
                    <a:pt x="2632" y="1198"/>
                  </a:lnTo>
                  <a:lnTo>
                    <a:pt x="2609" y="1209"/>
                  </a:lnTo>
                  <a:lnTo>
                    <a:pt x="2585" y="1220"/>
                  </a:lnTo>
                  <a:lnTo>
                    <a:pt x="2560" y="1228"/>
                  </a:lnTo>
                  <a:lnTo>
                    <a:pt x="2533" y="1236"/>
                  </a:lnTo>
                  <a:lnTo>
                    <a:pt x="2505" y="1242"/>
                  </a:lnTo>
                  <a:lnTo>
                    <a:pt x="2506" y="1243"/>
                  </a:lnTo>
                  <a:lnTo>
                    <a:pt x="2500" y="1262"/>
                  </a:lnTo>
                  <a:lnTo>
                    <a:pt x="2491" y="1280"/>
                  </a:lnTo>
                  <a:lnTo>
                    <a:pt x="2480" y="1298"/>
                  </a:lnTo>
                  <a:lnTo>
                    <a:pt x="2467" y="1314"/>
                  </a:lnTo>
                  <a:lnTo>
                    <a:pt x="2452" y="1330"/>
                  </a:lnTo>
                  <a:lnTo>
                    <a:pt x="2436" y="1345"/>
                  </a:lnTo>
                  <a:lnTo>
                    <a:pt x="2417" y="1358"/>
                  </a:lnTo>
                  <a:lnTo>
                    <a:pt x="2397" y="1371"/>
                  </a:lnTo>
                  <a:lnTo>
                    <a:pt x="2376" y="1382"/>
                  </a:lnTo>
                  <a:lnTo>
                    <a:pt x="2353" y="1392"/>
                  </a:lnTo>
                  <a:lnTo>
                    <a:pt x="2328" y="1400"/>
                  </a:lnTo>
                  <a:lnTo>
                    <a:pt x="2303" y="1408"/>
                  </a:lnTo>
                  <a:lnTo>
                    <a:pt x="2277" y="1413"/>
                  </a:lnTo>
                  <a:lnTo>
                    <a:pt x="2250" y="1418"/>
                  </a:lnTo>
                  <a:lnTo>
                    <a:pt x="2222" y="1420"/>
                  </a:lnTo>
                  <a:lnTo>
                    <a:pt x="2193" y="1421"/>
                  </a:lnTo>
                  <a:lnTo>
                    <a:pt x="2158" y="1420"/>
                  </a:lnTo>
                  <a:lnTo>
                    <a:pt x="2124" y="1416"/>
                  </a:lnTo>
                  <a:lnTo>
                    <a:pt x="2091" y="1410"/>
                  </a:lnTo>
                  <a:lnTo>
                    <a:pt x="2060" y="1401"/>
                  </a:lnTo>
                  <a:lnTo>
                    <a:pt x="2029" y="1390"/>
                  </a:lnTo>
                  <a:lnTo>
                    <a:pt x="2001" y="1377"/>
                  </a:lnTo>
                  <a:lnTo>
                    <a:pt x="1975" y="1361"/>
                  </a:lnTo>
                  <a:lnTo>
                    <a:pt x="1951" y="1344"/>
                  </a:lnTo>
                  <a:lnTo>
                    <a:pt x="1951" y="1344"/>
                  </a:lnTo>
                  <a:lnTo>
                    <a:pt x="1929" y="1361"/>
                  </a:lnTo>
                  <a:lnTo>
                    <a:pt x="1905" y="1377"/>
                  </a:lnTo>
                  <a:lnTo>
                    <a:pt x="1879" y="1390"/>
                  </a:lnTo>
                  <a:lnTo>
                    <a:pt x="1851" y="1401"/>
                  </a:lnTo>
                  <a:lnTo>
                    <a:pt x="1821" y="1410"/>
                  </a:lnTo>
                  <a:lnTo>
                    <a:pt x="1789" y="1416"/>
                  </a:lnTo>
                  <a:lnTo>
                    <a:pt x="1757" y="1420"/>
                  </a:lnTo>
                  <a:lnTo>
                    <a:pt x="1724" y="1421"/>
                  </a:lnTo>
                  <a:lnTo>
                    <a:pt x="1684" y="1419"/>
                  </a:lnTo>
                  <a:lnTo>
                    <a:pt x="1645" y="1413"/>
                  </a:lnTo>
                  <a:lnTo>
                    <a:pt x="1609" y="1404"/>
                  </a:lnTo>
                  <a:lnTo>
                    <a:pt x="1574" y="1392"/>
                  </a:lnTo>
                  <a:lnTo>
                    <a:pt x="1542" y="1376"/>
                  </a:lnTo>
                  <a:lnTo>
                    <a:pt x="1514" y="1358"/>
                  </a:lnTo>
                  <a:lnTo>
                    <a:pt x="1501" y="1348"/>
                  </a:lnTo>
                  <a:lnTo>
                    <a:pt x="1489" y="1337"/>
                  </a:lnTo>
                  <a:lnTo>
                    <a:pt x="1479" y="1325"/>
                  </a:lnTo>
                  <a:lnTo>
                    <a:pt x="1469" y="1313"/>
                  </a:lnTo>
                  <a:lnTo>
                    <a:pt x="1470" y="1310"/>
                  </a:lnTo>
                  <a:lnTo>
                    <a:pt x="1444" y="1326"/>
                  </a:lnTo>
                  <a:lnTo>
                    <a:pt x="1417" y="1339"/>
                  </a:lnTo>
                  <a:lnTo>
                    <a:pt x="1388" y="1351"/>
                  </a:lnTo>
                  <a:lnTo>
                    <a:pt x="1357" y="1361"/>
                  </a:lnTo>
                  <a:lnTo>
                    <a:pt x="1325" y="1368"/>
                  </a:lnTo>
                  <a:lnTo>
                    <a:pt x="1292" y="1374"/>
                  </a:lnTo>
                  <a:lnTo>
                    <a:pt x="1259" y="1377"/>
                  </a:lnTo>
                  <a:lnTo>
                    <a:pt x="1225" y="1378"/>
                  </a:lnTo>
                  <a:lnTo>
                    <a:pt x="1201" y="1377"/>
                  </a:lnTo>
                  <a:lnTo>
                    <a:pt x="1177" y="1376"/>
                  </a:lnTo>
                  <a:lnTo>
                    <a:pt x="1154" y="1373"/>
                  </a:lnTo>
                  <a:lnTo>
                    <a:pt x="1131" y="1369"/>
                  </a:lnTo>
                  <a:lnTo>
                    <a:pt x="1109" y="1364"/>
                  </a:lnTo>
                  <a:lnTo>
                    <a:pt x="1087" y="1358"/>
                  </a:lnTo>
                  <a:lnTo>
                    <a:pt x="1045" y="1344"/>
                  </a:lnTo>
                  <a:lnTo>
                    <a:pt x="1007" y="1325"/>
                  </a:lnTo>
                  <a:lnTo>
                    <a:pt x="989" y="1315"/>
                  </a:lnTo>
                  <a:lnTo>
                    <a:pt x="972" y="1304"/>
                  </a:lnTo>
                  <a:lnTo>
                    <a:pt x="957" y="1292"/>
                  </a:lnTo>
                  <a:lnTo>
                    <a:pt x="942" y="1279"/>
                  </a:lnTo>
                  <a:lnTo>
                    <a:pt x="929" y="1265"/>
                  </a:lnTo>
                  <a:lnTo>
                    <a:pt x="917" y="1251"/>
                  </a:lnTo>
                  <a:lnTo>
                    <a:pt x="916" y="1250"/>
                  </a:lnTo>
                  <a:lnTo>
                    <a:pt x="890" y="1260"/>
                  </a:lnTo>
                  <a:lnTo>
                    <a:pt x="863" y="1268"/>
                  </a:lnTo>
                  <a:lnTo>
                    <a:pt x="836" y="1275"/>
                  </a:lnTo>
                  <a:lnTo>
                    <a:pt x="808" y="1281"/>
                  </a:lnTo>
                  <a:lnTo>
                    <a:pt x="780" y="1285"/>
                  </a:lnTo>
                  <a:lnTo>
                    <a:pt x="751" y="1288"/>
                  </a:lnTo>
                  <a:lnTo>
                    <a:pt x="722" y="1290"/>
                  </a:lnTo>
                  <a:lnTo>
                    <a:pt x="692" y="1291"/>
                  </a:lnTo>
                  <a:lnTo>
                    <a:pt x="647" y="1289"/>
                  </a:lnTo>
                  <a:lnTo>
                    <a:pt x="603" y="1285"/>
                  </a:lnTo>
                  <a:lnTo>
                    <a:pt x="561" y="1277"/>
                  </a:lnTo>
                  <a:lnTo>
                    <a:pt x="520" y="1267"/>
                  </a:lnTo>
                  <a:lnTo>
                    <a:pt x="481" y="1255"/>
                  </a:lnTo>
                  <a:lnTo>
                    <a:pt x="445" y="1240"/>
                  </a:lnTo>
                  <a:lnTo>
                    <a:pt x="411" y="1222"/>
                  </a:lnTo>
                  <a:lnTo>
                    <a:pt x="380" y="1203"/>
                  </a:lnTo>
                  <a:lnTo>
                    <a:pt x="351" y="1181"/>
                  </a:lnTo>
                  <a:lnTo>
                    <a:pt x="326" y="1158"/>
                  </a:lnTo>
                  <a:lnTo>
                    <a:pt x="303" y="1133"/>
                  </a:lnTo>
                  <a:lnTo>
                    <a:pt x="285" y="1107"/>
                  </a:lnTo>
                  <a:lnTo>
                    <a:pt x="270" y="1079"/>
                  </a:lnTo>
                  <a:lnTo>
                    <a:pt x="264" y="1065"/>
                  </a:lnTo>
                  <a:lnTo>
                    <a:pt x="259" y="1050"/>
                  </a:lnTo>
                  <a:lnTo>
                    <a:pt x="255" y="1035"/>
                  </a:lnTo>
                  <a:lnTo>
                    <a:pt x="252" y="1020"/>
                  </a:lnTo>
                  <a:lnTo>
                    <a:pt x="251" y="1005"/>
                  </a:lnTo>
                  <a:lnTo>
                    <a:pt x="250" y="989"/>
                  </a:lnTo>
                  <a:lnTo>
                    <a:pt x="251" y="969"/>
                  </a:lnTo>
                  <a:lnTo>
                    <a:pt x="254" y="948"/>
                  </a:lnTo>
                  <a:lnTo>
                    <a:pt x="255" y="94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92320" y="2813400"/>
              <a:ext cx="58680" cy="1152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33" y="15"/>
                  </a:lnTo>
                  <a:lnTo>
                    <a:pt x="69" y="7"/>
                  </a:lnTo>
                  <a:lnTo>
                    <a:pt x="106" y="2"/>
                  </a:lnTo>
                  <a:lnTo>
                    <a:pt x="143" y="0"/>
                  </a:lnTo>
                  <a:lnTo>
                    <a:pt x="154" y="0"/>
                  </a:lnTo>
                  <a:lnTo>
                    <a:pt x="1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78000" y="2678760"/>
              <a:ext cx="25560" cy="5760"/>
            </a:xfrm>
            <a:custGeom>
              <a:avLst/>
              <a:gdLst/>
              <a:ahLst/>
              <a:rect l="l" t="t" r="r" b="b"/>
              <a:pathLst>
                <a:path w="72" h="13">
                  <a:moveTo>
                    <a:pt x="0" y="0"/>
                  </a:moveTo>
                  <a:lnTo>
                    <a:pt x="37" y="5"/>
                  </a:lnTo>
                  <a:lnTo>
                    <a:pt x="55" y="8"/>
                  </a:lnTo>
                  <a:lnTo>
                    <a:pt x="72" y="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11280" y="2621520"/>
              <a:ext cx="15480" cy="2556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9" y="42"/>
                  </a:lnTo>
                  <a:lnTo>
                    <a:pt x="20" y="28"/>
                  </a:lnTo>
                  <a:lnTo>
                    <a:pt x="31" y="14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09720" y="2658240"/>
              <a:ext cx="6120" cy="2772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6" y="15"/>
                  </a:lnTo>
                  <a:lnTo>
                    <a:pt x="11" y="31"/>
                  </a:lnTo>
                  <a:lnTo>
                    <a:pt x="15" y="46"/>
                  </a:lnTo>
                  <a:lnTo>
                    <a:pt x="18" y="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1120" y="2755800"/>
              <a:ext cx="75960" cy="106200"/>
            </a:xfrm>
            <a:custGeom>
              <a:avLst/>
              <a:gdLst/>
              <a:ahLst/>
              <a:rect l="l" t="t" r="r" b="b"/>
              <a:pathLst>
                <a:path w="213" h="235">
                  <a:moveTo>
                    <a:pt x="213" y="0"/>
                  </a:moveTo>
                  <a:lnTo>
                    <a:pt x="213" y="1"/>
                  </a:lnTo>
                  <a:lnTo>
                    <a:pt x="213" y="2"/>
                  </a:lnTo>
                  <a:lnTo>
                    <a:pt x="212" y="20"/>
                  </a:lnTo>
                  <a:lnTo>
                    <a:pt x="209" y="39"/>
                  </a:lnTo>
                  <a:lnTo>
                    <a:pt x="205" y="57"/>
                  </a:lnTo>
                  <a:lnTo>
                    <a:pt x="198" y="74"/>
                  </a:lnTo>
                  <a:lnTo>
                    <a:pt x="190" y="91"/>
                  </a:lnTo>
                  <a:lnTo>
                    <a:pt x="180" y="108"/>
                  </a:lnTo>
                  <a:lnTo>
                    <a:pt x="168" y="124"/>
                  </a:lnTo>
                  <a:lnTo>
                    <a:pt x="155" y="140"/>
                  </a:lnTo>
                  <a:lnTo>
                    <a:pt x="141" y="154"/>
                  </a:lnTo>
                  <a:lnTo>
                    <a:pt x="125" y="169"/>
                  </a:lnTo>
                  <a:lnTo>
                    <a:pt x="107" y="182"/>
                  </a:lnTo>
                  <a:lnTo>
                    <a:pt x="88" y="194"/>
                  </a:lnTo>
                  <a:lnTo>
                    <a:pt x="68" y="206"/>
                  </a:lnTo>
                  <a:lnTo>
                    <a:pt x="47" y="217"/>
                  </a:lnTo>
                  <a:lnTo>
                    <a:pt x="24" y="226"/>
                  </a:lnTo>
                  <a:lnTo>
                    <a:pt x="0" y="2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85840" y="2935800"/>
              <a:ext cx="33840" cy="39600"/>
            </a:xfrm>
            <a:custGeom>
              <a:avLst/>
              <a:gdLst/>
              <a:ahLst/>
              <a:rect l="l" t="t" r="r" b="b"/>
              <a:pathLst>
                <a:path w="95" h="88">
                  <a:moveTo>
                    <a:pt x="0" y="0"/>
                  </a:moveTo>
                  <a:lnTo>
                    <a:pt x="29" y="19"/>
                  </a:lnTo>
                  <a:lnTo>
                    <a:pt x="55" y="40"/>
                  </a:lnTo>
                  <a:lnTo>
                    <a:pt x="67" y="52"/>
                  </a:lnTo>
                  <a:lnTo>
                    <a:pt x="77" y="63"/>
                  </a:lnTo>
                  <a:lnTo>
                    <a:pt x="87" y="75"/>
                  </a:lnTo>
                  <a:lnTo>
                    <a:pt x="95" y="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38320" y="3104280"/>
              <a:ext cx="1440" cy="1872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5" y="0"/>
                  </a:moveTo>
                  <a:lnTo>
                    <a:pt x="5" y="3"/>
                  </a:lnTo>
                  <a:lnTo>
                    <a:pt x="4" y="23"/>
                  </a:lnTo>
                  <a:lnTo>
                    <a:pt x="0" y="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22320" y="3144960"/>
              <a:ext cx="17280" cy="2376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53"/>
                  </a:moveTo>
                  <a:lnTo>
                    <a:pt x="35" y="41"/>
                  </a:lnTo>
                  <a:lnTo>
                    <a:pt x="22" y="28"/>
                  </a:lnTo>
                  <a:lnTo>
                    <a:pt x="10" y="1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58880" y="3134160"/>
              <a:ext cx="8280" cy="205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4" y="46"/>
                  </a:moveTo>
                  <a:lnTo>
                    <a:pt x="16" y="35"/>
                  </a:lnTo>
                  <a:lnTo>
                    <a:pt x="10" y="23"/>
                  </a:lnTo>
                  <a:lnTo>
                    <a:pt x="4" y="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69520" y="3106080"/>
              <a:ext cx="30240" cy="201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85" y="0"/>
                  </a:moveTo>
                  <a:lnTo>
                    <a:pt x="65" y="13"/>
                  </a:lnTo>
                  <a:lnTo>
                    <a:pt x="44" y="24"/>
                  </a:lnTo>
                  <a:lnTo>
                    <a:pt x="0" y="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2640" y="2968920"/>
              <a:ext cx="5040" cy="205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46"/>
                  </a:moveTo>
                  <a:lnTo>
                    <a:pt x="6" y="23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729960" y="326988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Origin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629400" y="3287880"/>
            <a:ext cx="1009800" cy="644400"/>
            <a:chOff x="6629400" y="3287880"/>
            <a:chExt cx="1009800" cy="644400"/>
          </a:xfrm>
        </p:grpSpPr>
        <p:sp>
          <p:nvSpPr>
            <p:cNvPr id="214" name=""/>
            <p:cNvSpPr/>
            <p:nvPr/>
          </p:nvSpPr>
          <p:spPr>
            <a:xfrm>
              <a:off x="6629400" y="3287880"/>
              <a:ext cx="1009800" cy="644400"/>
            </a:xfrm>
            <a:custGeom>
              <a:avLst/>
              <a:gdLst/>
              <a:ahLst/>
              <a:rect l="l" t="t" r="r" b="b"/>
              <a:pathLst>
                <a:path w="2827" h="1421">
                  <a:moveTo>
                    <a:pt x="255" y="949"/>
                  </a:moveTo>
                  <a:lnTo>
                    <a:pt x="228" y="946"/>
                  </a:lnTo>
                  <a:lnTo>
                    <a:pt x="202" y="942"/>
                  </a:lnTo>
                  <a:lnTo>
                    <a:pt x="178" y="936"/>
                  </a:lnTo>
                  <a:lnTo>
                    <a:pt x="154" y="928"/>
                  </a:lnTo>
                  <a:lnTo>
                    <a:pt x="132" y="919"/>
                  </a:lnTo>
                  <a:lnTo>
                    <a:pt x="111" y="909"/>
                  </a:lnTo>
                  <a:lnTo>
                    <a:pt x="91" y="897"/>
                  </a:lnTo>
                  <a:lnTo>
                    <a:pt x="73" y="885"/>
                  </a:lnTo>
                  <a:lnTo>
                    <a:pt x="57" y="871"/>
                  </a:lnTo>
                  <a:lnTo>
                    <a:pt x="42" y="857"/>
                  </a:lnTo>
                  <a:lnTo>
                    <a:pt x="30" y="841"/>
                  </a:lnTo>
                  <a:lnTo>
                    <a:pt x="19" y="825"/>
                  </a:lnTo>
                  <a:lnTo>
                    <a:pt x="11" y="808"/>
                  </a:lnTo>
                  <a:lnTo>
                    <a:pt x="5" y="791"/>
                  </a:lnTo>
                  <a:lnTo>
                    <a:pt x="1" y="773"/>
                  </a:lnTo>
                  <a:lnTo>
                    <a:pt x="0" y="754"/>
                  </a:lnTo>
                  <a:lnTo>
                    <a:pt x="1" y="741"/>
                  </a:lnTo>
                  <a:lnTo>
                    <a:pt x="3" y="728"/>
                  </a:lnTo>
                  <a:lnTo>
                    <a:pt x="6" y="716"/>
                  </a:lnTo>
                  <a:lnTo>
                    <a:pt x="10" y="703"/>
                  </a:lnTo>
                  <a:lnTo>
                    <a:pt x="15" y="691"/>
                  </a:lnTo>
                  <a:lnTo>
                    <a:pt x="22" y="679"/>
                  </a:lnTo>
                  <a:lnTo>
                    <a:pt x="29" y="668"/>
                  </a:lnTo>
                  <a:lnTo>
                    <a:pt x="38" y="657"/>
                  </a:lnTo>
                  <a:lnTo>
                    <a:pt x="48" y="646"/>
                  </a:lnTo>
                  <a:lnTo>
                    <a:pt x="58" y="636"/>
                  </a:lnTo>
                  <a:lnTo>
                    <a:pt x="82" y="617"/>
                  </a:lnTo>
                  <a:lnTo>
                    <a:pt x="110" y="600"/>
                  </a:lnTo>
                  <a:lnTo>
                    <a:pt x="141" y="585"/>
                  </a:lnTo>
                  <a:lnTo>
                    <a:pt x="139" y="588"/>
                  </a:lnTo>
                  <a:lnTo>
                    <a:pt x="122" y="574"/>
                  </a:lnTo>
                  <a:lnTo>
                    <a:pt x="106" y="559"/>
                  </a:lnTo>
                  <a:lnTo>
                    <a:pt x="93" y="543"/>
                  </a:lnTo>
                  <a:lnTo>
                    <a:pt x="82" y="526"/>
                  </a:lnTo>
                  <a:lnTo>
                    <a:pt x="73" y="509"/>
                  </a:lnTo>
                  <a:lnTo>
                    <a:pt x="67" y="491"/>
                  </a:lnTo>
                  <a:lnTo>
                    <a:pt x="63" y="473"/>
                  </a:lnTo>
                  <a:lnTo>
                    <a:pt x="62" y="455"/>
                  </a:lnTo>
                  <a:lnTo>
                    <a:pt x="64" y="435"/>
                  </a:lnTo>
                  <a:lnTo>
                    <a:pt x="68" y="416"/>
                  </a:lnTo>
                  <a:lnTo>
                    <a:pt x="75" y="397"/>
                  </a:lnTo>
                  <a:lnTo>
                    <a:pt x="84" y="379"/>
                  </a:lnTo>
                  <a:lnTo>
                    <a:pt x="97" y="362"/>
                  </a:lnTo>
                  <a:lnTo>
                    <a:pt x="111" y="346"/>
                  </a:lnTo>
                  <a:lnTo>
                    <a:pt x="127" y="331"/>
                  </a:lnTo>
                  <a:lnTo>
                    <a:pt x="146" y="317"/>
                  </a:lnTo>
                  <a:lnTo>
                    <a:pt x="166" y="304"/>
                  </a:lnTo>
                  <a:lnTo>
                    <a:pt x="188" y="293"/>
                  </a:lnTo>
                  <a:lnTo>
                    <a:pt x="211" y="284"/>
                  </a:lnTo>
                  <a:lnTo>
                    <a:pt x="236" y="275"/>
                  </a:lnTo>
                  <a:lnTo>
                    <a:pt x="262" y="269"/>
                  </a:lnTo>
                  <a:lnTo>
                    <a:pt x="290" y="264"/>
                  </a:lnTo>
                  <a:lnTo>
                    <a:pt x="318" y="261"/>
                  </a:lnTo>
                  <a:lnTo>
                    <a:pt x="347" y="260"/>
                  </a:lnTo>
                  <a:lnTo>
                    <a:pt x="364" y="260"/>
                  </a:lnTo>
                  <a:lnTo>
                    <a:pt x="381" y="261"/>
                  </a:lnTo>
                  <a:lnTo>
                    <a:pt x="379" y="260"/>
                  </a:lnTo>
                  <a:lnTo>
                    <a:pt x="397" y="240"/>
                  </a:lnTo>
                  <a:lnTo>
                    <a:pt x="416" y="222"/>
                  </a:lnTo>
                  <a:lnTo>
                    <a:pt x="437" y="204"/>
                  </a:lnTo>
                  <a:lnTo>
                    <a:pt x="460" y="187"/>
                  </a:lnTo>
                  <a:lnTo>
                    <a:pt x="484" y="172"/>
                  </a:lnTo>
                  <a:lnTo>
                    <a:pt x="509" y="158"/>
                  </a:lnTo>
                  <a:lnTo>
                    <a:pt x="536" y="144"/>
                  </a:lnTo>
                  <a:lnTo>
                    <a:pt x="564" y="133"/>
                  </a:lnTo>
                  <a:lnTo>
                    <a:pt x="593" y="122"/>
                  </a:lnTo>
                  <a:lnTo>
                    <a:pt x="623" y="113"/>
                  </a:lnTo>
                  <a:lnTo>
                    <a:pt x="654" y="105"/>
                  </a:lnTo>
                  <a:lnTo>
                    <a:pt x="685" y="98"/>
                  </a:lnTo>
                  <a:lnTo>
                    <a:pt x="718" y="93"/>
                  </a:lnTo>
                  <a:lnTo>
                    <a:pt x="751" y="89"/>
                  </a:lnTo>
                  <a:lnTo>
                    <a:pt x="784" y="87"/>
                  </a:lnTo>
                  <a:lnTo>
                    <a:pt x="818" y="86"/>
                  </a:lnTo>
                  <a:lnTo>
                    <a:pt x="852" y="87"/>
                  </a:lnTo>
                  <a:lnTo>
                    <a:pt x="886" y="89"/>
                  </a:lnTo>
                  <a:lnTo>
                    <a:pt x="919" y="93"/>
                  </a:lnTo>
                  <a:lnTo>
                    <a:pt x="953" y="99"/>
                  </a:lnTo>
                  <a:lnTo>
                    <a:pt x="985" y="105"/>
                  </a:lnTo>
                  <a:lnTo>
                    <a:pt x="1017" y="114"/>
                  </a:lnTo>
                  <a:lnTo>
                    <a:pt x="1048" y="124"/>
                  </a:lnTo>
                  <a:lnTo>
                    <a:pt x="1078" y="135"/>
                  </a:lnTo>
                  <a:lnTo>
                    <a:pt x="1077" y="135"/>
                  </a:lnTo>
                  <a:lnTo>
                    <a:pt x="1093" y="120"/>
                  </a:lnTo>
                  <a:lnTo>
                    <a:pt x="1110" y="105"/>
                  </a:lnTo>
                  <a:lnTo>
                    <a:pt x="1129" y="91"/>
                  </a:lnTo>
                  <a:lnTo>
                    <a:pt x="1148" y="79"/>
                  </a:lnTo>
                  <a:lnTo>
                    <a:pt x="1169" y="66"/>
                  </a:lnTo>
                  <a:lnTo>
                    <a:pt x="1190" y="55"/>
                  </a:lnTo>
                  <a:lnTo>
                    <a:pt x="1236" y="36"/>
                  </a:lnTo>
                  <a:lnTo>
                    <a:pt x="1260" y="28"/>
                  </a:lnTo>
                  <a:lnTo>
                    <a:pt x="1285" y="21"/>
                  </a:lnTo>
                  <a:lnTo>
                    <a:pt x="1310" y="14"/>
                  </a:lnTo>
                  <a:lnTo>
                    <a:pt x="1336" y="9"/>
                  </a:lnTo>
                  <a:lnTo>
                    <a:pt x="1363" y="5"/>
                  </a:lnTo>
                  <a:lnTo>
                    <a:pt x="1389" y="2"/>
                  </a:lnTo>
                  <a:lnTo>
                    <a:pt x="1417" y="1"/>
                  </a:lnTo>
                  <a:lnTo>
                    <a:pt x="1444" y="0"/>
                  </a:lnTo>
                  <a:lnTo>
                    <a:pt x="1480" y="1"/>
                  </a:lnTo>
                  <a:lnTo>
                    <a:pt x="1516" y="4"/>
                  </a:lnTo>
                  <a:lnTo>
                    <a:pt x="1551" y="9"/>
                  </a:lnTo>
                  <a:lnTo>
                    <a:pt x="1585" y="16"/>
                  </a:lnTo>
                  <a:lnTo>
                    <a:pt x="1617" y="24"/>
                  </a:lnTo>
                  <a:lnTo>
                    <a:pt x="1649" y="35"/>
                  </a:lnTo>
                  <a:lnTo>
                    <a:pt x="1679" y="47"/>
                  </a:lnTo>
                  <a:lnTo>
                    <a:pt x="1708" y="60"/>
                  </a:lnTo>
                  <a:lnTo>
                    <a:pt x="1735" y="75"/>
                  </a:lnTo>
                  <a:lnTo>
                    <a:pt x="1760" y="91"/>
                  </a:lnTo>
                  <a:lnTo>
                    <a:pt x="1783" y="109"/>
                  </a:lnTo>
                  <a:lnTo>
                    <a:pt x="1805" y="128"/>
                  </a:lnTo>
                  <a:lnTo>
                    <a:pt x="1824" y="149"/>
                  </a:lnTo>
                  <a:lnTo>
                    <a:pt x="1841" y="170"/>
                  </a:lnTo>
                  <a:lnTo>
                    <a:pt x="1855" y="193"/>
                  </a:lnTo>
                  <a:lnTo>
                    <a:pt x="1867" y="216"/>
                  </a:lnTo>
                  <a:lnTo>
                    <a:pt x="1868" y="214"/>
                  </a:lnTo>
                  <a:lnTo>
                    <a:pt x="1891" y="205"/>
                  </a:lnTo>
                  <a:lnTo>
                    <a:pt x="1915" y="197"/>
                  </a:lnTo>
                  <a:lnTo>
                    <a:pt x="1939" y="190"/>
                  </a:lnTo>
                  <a:lnTo>
                    <a:pt x="1964" y="185"/>
                  </a:lnTo>
                  <a:lnTo>
                    <a:pt x="1989" y="181"/>
                  </a:lnTo>
                  <a:lnTo>
                    <a:pt x="2015" y="177"/>
                  </a:lnTo>
                  <a:lnTo>
                    <a:pt x="2042" y="176"/>
                  </a:lnTo>
                  <a:lnTo>
                    <a:pt x="2068" y="175"/>
                  </a:lnTo>
                  <a:lnTo>
                    <a:pt x="2107" y="176"/>
                  </a:lnTo>
                  <a:lnTo>
                    <a:pt x="2144" y="180"/>
                  </a:lnTo>
                  <a:lnTo>
                    <a:pt x="2180" y="186"/>
                  </a:lnTo>
                  <a:lnTo>
                    <a:pt x="2215" y="195"/>
                  </a:lnTo>
                  <a:lnTo>
                    <a:pt x="2248" y="206"/>
                  </a:lnTo>
                  <a:lnTo>
                    <a:pt x="2279" y="219"/>
                  </a:lnTo>
                  <a:lnTo>
                    <a:pt x="2308" y="233"/>
                  </a:lnTo>
                  <a:lnTo>
                    <a:pt x="2335" y="250"/>
                  </a:lnTo>
                  <a:lnTo>
                    <a:pt x="2359" y="268"/>
                  </a:lnTo>
                  <a:lnTo>
                    <a:pt x="2381" y="288"/>
                  </a:lnTo>
                  <a:lnTo>
                    <a:pt x="2400" y="309"/>
                  </a:lnTo>
                  <a:lnTo>
                    <a:pt x="2416" y="331"/>
                  </a:lnTo>
                  <a:lnTo>
                    <a:pt x="2429" y="355"/>
                  </a:lnTo>
                  <a:lnTo>
                    <a:pt x="2439" y="379"/>
                  </a:lnTo>
                  <a:lnTo>
                    <a:pt x="2445" y="405"/>
                  </a:lnTo>
                  <a:lnTo>
                    <a:pt x="2447" y="431"/>
                  </a:lnTo>
                  <a:lnTo>
                    <a:pt x="2446" y="432"/>
                  </a:lnTo>
                  <a:lnTo>
                    <a:pt x="2486" y="437"/>
                  </a:lnTo>
                  <a:lnTo>
                    <a:pt x="2525" y="445"/>
                  </a:lnTo>
                  <a:lnTo>
                    <a:pt x="2562" y="455"/>
                  </a:lnTo>
                  <a:lnTo>
                    <a:pt x="2598" y="467"/>
                  </a:lnTo>
                  <a:lnTo>
                    <a:pt x="2631" y="481"/>
                  </a:lnTo>
                  <a:lnTo>
                    <a:pt x="2662" y="496"/>
                  </a:lnTo>
                  <a:lnTo>
                    <a:pt x="2692" y="514"/>
                  </a:lnTo>
                  <a:lnTo>
                    <a:pt x="2718" y="533"/>
                  </a:lnTo>
                  <a:lnTo>
                    <a:pt x="2742" y="554"/>
                  </a:lnTo>
                  <a:lnTo>
                    <a:pt x="2764" y="576"/>
                  </a:lnTo>
                  <a:lnTo>
                    <a:pt x="2783" y="600"/>
                  </a:lnTo>
                  <a:lnTo>
                    <a:pt x="2798" y="624"/>
                  </a:lnTo>
                  <a:lnTo>
                    <a:pt x="2811" y="650"/>
                  </a:lnTo>
                  <a:lnTo>
                    <a:pt x="2820" y="677"/>
                  </a:lnTo>
                  <a:lnTo>
                    <a:pt x="2825" y="704"/>
                  </a:lnTo>
                  <a:lnTo>
                    <a:pt x="2827" y="732"/>
                  </a:lnTo>
                  <a:lnTo>
                    <a:pt x="2825" y="757"/>
                  </a:lnTo>
                  <a:lnTo>
                    <a:pt x="2821" y="782"/>
                  </a:lnTo>
                  <a:lnTo>
                    <a:pt x="2813" y="806"/>
                  </a:lnTo>
                  <a:lnTo>
                    <a:pt x="2803" y="830"/>
                  </a:lnTo>
                  <a:lnTo>
                    <a:pt x="2790" y="853"/>
                  </a:lnTo>
                  <a:lnTo>
                    <a:pt x="2774" y="875"/>
                  </a:lnTo>
                  <a:lnTo>
                    <a:pt x="2756" y="897"/>
                  </a:lnTo>
                  <a:lnTo>
                    <a:pt x="2735" y="917"/>
                  </a:lnTo>
                  <a:lnTo>
                    <a:pt x="2734" y="917"/>
                  </a:lnTo>
                  <a:lnTo>
                    <a:pt x="2746" y="940"/>
                  </a:lnTo>
                  <a:lnTo>
                    <a:pt x="2755" y="963"/>
                  </a:lnTo>
                  <a:lnTo>
                    <a:pt x="2760" y="987"/>
                  </a:lnTo>
                  <a:lnTo>
                    <a:pt x="2762" y="1011"/>
                  </a:lnTo>
                  <a:lnTo>
                    <a:pt x="2761" y="1031"/>
                  </a:lnTo>
                  <a:lnTo>
                    <a:pt x="2757" y="1051"/>
                  </a:lnTo>
                  <a:lnTo>
                    <a:pt x="2751" y="1070"/>
                  </a:lnTo>
                  <a:lnTo>
                    <a:pt x="2743" y="1089"/>
                  </a:lnTo>
                  <a:lnTo>
                    <a:pt x="2733" y="1107"/>
                  </a:lnTo>
                  <a:lnTo>
                    <a:pt x="2721" y="1124"/>
                  </a:lnTo>
                  <a:lnTo>
                    <a:pt x="2707" y="1141"/>
                  </a:lnTo>
                  <a:lnTo>
                    <a:pt x="2691" y="1157"/>
                  </a:lnTo>
                  <a:lnTo>
                    <a:pt x="2673" y="1171"/>
                  </a:lnTo>
                  <a:lnTo>
                    <a:pt x="2653" y="1185"/>
                  </a:lnTo>
                  <a:lnTo>
                    <a:pt x="2632" y="1198"/>
                  </a:lnTo>
                  <a:lnTo>
                    <a:pt x="2609" y="1209"/>
                  </a:lnTo>
                  <a:lnTo>
                    <a:pt x="2585" y="1220"/>
                  </a:lnTo>
                  <a:lnTo>
                    <a:pt x="2560" y="1228"/>
                  </a:lnTo>
                  <a:lnTo>
                    <a:pt x="2533" y="1236"/>
                  </a:lnTo>
                  <a:lnTo>
                    <a:pt x="2505" y="1242"/>
                  </a:lnTo>
                  <a:lnTo>
                    <a:pt x="2506" y="1243"/>
                  </a:lnTo>
                  <a:lnTo>
                    <a:pt x="2500" y="1262"/>
                  </a:lnTo>
                  <a:lnTo>
                    <a:pt x="2491" y="1280"/>
                  </a:lnTo>
                  <a:lnTo>
                    <a:pt x="2480" y="1298"/>
                  </a:lnTo>
                  <a:lnTo>
                    <a:pt x="2467" y="1314"/>
                  </a:lnTo>
                  <a:lnTo>
                    <a:pt x="2452" y="1330"/>
                  </a:lnTo>
                  <a:lnTo>
                    <a:pt x="2436" y="1345"/>
                  </a:lnTo>
                  <a:lnTo>
                    <a:pt x="2417" y="1358"/>
                  </a:lnTo>
                  <a:lnTo>
                    <a:pt x="2397" y="1371"/>
                  </a:lnTo>
                  <a:lnTo>
                    <a:pt x="2376" y="1382"/>
                  </a:lnTo>
                  <a:lnTo>
                    <a:pt x="2353" y="1392"/>
                  </a:lnTo>
                  <a:lnTo>
                    <a:pt x="2328" y="1400"/>
                  </a:lnTo>
                  <a:lnTo>
                    <a:pt x="2303" y="1408"/>
                  </a:lnTo>
                  <a:lnTo>
                    <a:pt x="2277" y="1413"/>
                  </a:lnTo>
                  <a:lnTo>
                    <a:pt x="2250" y="1418"/>
                  </a:lnTo>
                  <a:lnTo>
                    <a:pt x="2222" y="1420"/>
                  </a:lnTo>
                  <a:lnTo>
                    <a:pt x="2193" y="1421"/>
                  </a:lnTo>
                  <a:lnTo>
                    <a:pt x="2158" y="1420"/>
                  </a:lnTo>
                  <a:lnTo>
                    <a:pt x="2124" y="1416"/>
                  </a:lnTo>
                  <a:lnTo>
                    <a:pt x="2091" y="1410"/>
                  </a:lnTo>
                  <a:lnTo>
                    <a:pt x="2060" y="1401"/>
                  </a:lnTo>
                  <a:lnTo>
                    <a:pt x="2029" y="1390"/>
                  </a:lnTo>
                  <a:lnTo>
                    <a:pt x="2001" y="1377"/>
                  </a:lnTo>
                  <a:lnTo>
                    <a:pt x="1975" y="1361"/>
                  </a:lnTo>
                  <a:lnTo>
                    <a:pt x="1951" y="1344"/>
                  </a:lnTo>
                  <a:lnTo>
                    <a:pt x="1951" y="1344"/>
                  </a:lnTo>
                  <a:lnTo>
                    <a:pt x="1929" y="1361"/>
                  </a:lnTo>
                  <a:lnTo>
                    <a:pt x="1905" y="1377"/>
                  </a:lnTo>
                  <a:lnTo>
                    <a:pt x="1879" y="1390"/>
                  </a:lnTo>
                  <a:lnTo>
                    <a:pt x="1851" y="1401"/>
                  </a:lnTo>
                  <a:lnTo>
                    <a:pt x="1821" y="1410"/>
                  </a:lnTo>
                  <a:lnTo>
                    <a:pt x="1789" y="1416"/>
                  </a:lnTo>
                  <a:lnTo>
                    <a:pt x="1757" y="1420"/>
                  </a:lnTo>
                  <a:lnTo>
                    <a:pt x="1724" y="1421"/>
                  </a:lnTo>
                  <a:lnTo>
                    <a:pt x="1684" y="1419"/>
                  </a:lnTo>
                  <a:lnTo>
                    <a:pt x="1645" y="1413"/>
                  </a:lnTo>
                  <a:lnTo>
                    <a:pt x="1609" y="1404"/>
                  </a:lnTo>
                  <a:lnTo>
                    <a:pt x="1574" y="1392"/>
                  </a:lnTo>
                  <a:lnTo>
                    <a:pt x="1542" y="1376"/>
                  </a:lnTo>
                  <a:lnTo>
                    <a:pt x="1514" y="1358"/>
                  </a:lnTo>
                  <a:lnTo>
                    <a:pt x="1501" y="1348"/>
                  </a:lnTo>
                  <a:lnTo>
                    <a:pt x="1489" y="1337"/>
                  </a:lnTo>
                  <a:lnTo>
                    <a:pt x="1479" y="1325"/>
                  </a:lnTo>
                  <a:lnTo>
                    <a:pt x="1469" y="1313"/>
                  </a:lnTo>
                  <a:lnTo>
                    <a:pt x="1470" y="1310"/>
                  </a:lnTo>
                  <a:lnTo>
                    <a:pt x="1444" y="1326"/>
                  </a:lnTo>
                  <a:lnTo>
                    <a:pt x="1417" y="1339"/>
                  </a:lnTo>
                  <a:lnTo>
                    <a:pt x="1388" y="1351"/>
                  </a:lnTo>
                  <a:lnTo>
                    <a:pt x="1357" y="1361"/>
                  </a:lnTo>
                  <a:lnTo>
                    <a:pt x="1325" y="1368"/>
                  </a:lnTo>
                  <a:lnTo>
                    <a:pt x="1292" y="1374"/>
                  </a:lnTo>
                  <a:lnTo>
                    <a:pt x="1259" y="1377"/>
                  </a:lnTo>
                  <a:lnTo>
                    <a:pt x="1225" y="1378"/>
                  </a:lnTo>
                  <a:lnTo>
                    <a:pt x="1201" y="1377"/>
                  </a:lnTo>
                  <a:lnTo>
                    <a:pt x="1177" y="1376"/>
                  </a:lnTo>
                  <a:lnTo>
                    <a:pt x="1154" y="1373"/>
                  </a:lnTo>
                  <a:lnTo>
                    <a:pt x="1131" y="1369"/>
                  </a:lnTo>
                  <a:lnTo>
                    <a:pt x="1109" y="1364"/>
                  </a:lnTo>
                  <a:lnTo>
                    <a:pt x="1087" y="1358"/>
                  </a:lnTo>
                  <a:lnTo>
                    <a:pt x="1045" y="1344"/>
                  </a:lnTo>
                  <a:lnTo>
                    <a:pt x="1007" y="1325"/>
                  </a:lnTo>
                  <a:lnTo>
                    <a:pt x="989" y="1315"/>
                  </a:lnTo>
                  <a:lnTo>
                    <a:pt x="972" y="1304"/>
                  </a:lnTo>
                  <a:lnTo>
                    <a:pt x="957" y="1292"/>
                  </a:lnTo>
                  <a:lnTo>
                    <a:pt x="942" y="1279"/>
                  </a:lnTo>
                  <a:lnTo>
                    <a:pt x="929" y="1265"/>
                  </a:lnTo>
                  <a:lnTo>
                    <a:pt x="917" y="1251"/>
                  </a:lnTo>
                  <a:lnTo>
                    <a:pt x="916" y="1250"/>
                  </a:lnTo>
                  <a:lnTo>
                    <a:pt x="890" y="1260"/>
                  </a:lnTo>
                  <a:lnTo>
                    <a:pt x="863" y="1268"/>
                  </a:lnTo>
                  <a:lnTo>
                    <a:pt x="836" y="1275"/>
                  </a:lnTo>
                  <a:lnTo>
                    <a:pt x="808" y="1281"/>
                  </a:lnTo>
                  <a:lnTo>
                    <a:pt x="780" y="1285"/>
                  </a:lnTo>
                  <a:lnTo>
                    <a:pt x="751" y="1288"/>
                  </a:lnTo>
                  <a:lnTo>
                    <a:pt x="722" y="1290"/>
                  </a:lnTo>
                  <a:lnTo>
                    <a:pt x="692" y="1291"/>
                  </a:lnTo>
                  <a:lnTo>
                    <a:pt x="647" y="1289"/>
                  </a:lnTo>
                  <a:lnTo>
                    <a:pt x="603" y="1285"/>
                  </a:lnTo>
                  <a:lnTo>
                    <a:pt x="561" y="1277"/>
                  </a:lnTo>
                  <a:lnTo>
                    <a:pt x="520" y="1267"/>
                  </a:lnTo>
                  <a:lnTo>
                    <a:pt x="481" y="1255"/>
                  </a:lnTo>
                  <a:lnTo>
                    <a:pt x="445" y="1240"/>
                  </a:lnTo>
                  <a:lnTo>
                    <a:pt x="411" y="1222"/>
                  </a:lnTo>
                  <a:lnTo>
                    <a:pt x="380" y="1203"/>
                  </a:lnTo>
                  <a:lnTo>
                    <a:pt x="351" y="1181"/>
                  </a:lnTo>
                  <a:lnTo>
                    <a:pt x="326" y="1158"/>
                  </a:lnTo>
                  <a:lnTo>
                    <a:pt x="303" y="1133"/>
                  </a:lnTo>
                  <a:lnTo>
                    <a:pt x="285" y="1107"/>
                  </a:lnTo>
                  <a:lnTo>
                    <a:pt x="270" y="1079"/>
                  </a:lnTo>
                  <a:lnTo>
                    <a:pt x="264" y="1065"/>
                  </a:lnTo>
                  <a:lnTo>
                    <a:pt x="259" y="1050"/>
                  </a:lnTo>
                  <a:lnTo>
                    <a:pt x="255" y="1035"/>
                  </a:lnTo>
                  <a:lnTo>
                    <a:pt x="252" y="1020"/>
                  </a:lnTo>
                  <a:lnTo>
                    <a:pt x="251" y="1005"/>
                  </a:lnTo>
                  <a:lnTo>
                    <a:pt x="250" y="989"/>
                  </a:lnTo>
                  <a:lnTo>
                    <a:pt x="251" y="969"/>
                  </a:lnTo>
                  <a:lnTo>
                    <a:pt x="254" y="948"/>
                  </a:lnTo>
                  <a:lnTo>
                    <a:pt x="255" y="94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29400" y="3287880"/>
              <a:ext cx="1009800" cy="644400"/>
            </a:xfrm>
            <a:custGeom>
              <a:avLst/>
              <a:gdLst/>
              <a:ahLst/>
              <a:rect l="l" t="t" r="r" b="b"/>
              <a:pathLst>
                <a:path w="2827" h="1421">
                  <a:moveTo>
                    <a:pt x="255" y="949"/>
                  </a:moveTo>
                  <a:lnTo>
                    <a:pt x="228" y="946"/>
                  </a:lnTo>
                  <a:lnTo>
                    <a:pt x="202" y="942"/>
                  </a:lnTo>
                  <a:lnTo>
                    <a:pt x="178" y="936"/>
                  </a:lnTo>
                  <a:lnTo>
                    <a:pt x="154" y="928"/>
                  </a:lnTo>
                  <a:lnTo>
                    <a:pt x="132" y="919"/>
                  </a:lnTo>
                  <a:lnTo>
                    <a:pt x="111" y="909"/>
                  </a:lnTo>
                  <a:lnTo>
                    <a:pt x="91" y="897"/>
                  </a:lnTo>
                  <a:lnTo>
                    <a:pt x="73" y="885"/>
                  </a:lnTo>
                  <a:lnTo>
                    <a:pt x="57" y="871"/>
                  </a:lnTo>
                  <a:lnTo>
                    <a:pt x="42" y="857"/>
                  </a:lnTo>
                  <a:lnTo>
                    <a:pt x="30" y="841"/>
                  </a:lnTo>
                  <a:lnTo>
                    <a:pt x="19" y="825"/>
                  </a:lnTo>
                  <a:lnTo>
                    <a:pt x="11" y="808"/>
                  </a:lnTo>
                  <a:lnTo>
                    <a:pt x="5" y="791"/>
                  </a:lnTo>
                  <a:lnTo>
                    <a:pt x="1" y="773"/>
                  </a:lnTo>
                  <a:lnTo>
                    <a:pt x="0" y="754"/>
                  </a:lnTo>
                  <a:lnTo>
                    <a:pt x="1" y="741"/>
                  </a:lnTo>
                  <a:lnTo>
                    <a:pt x="3" y="728"/>
                  </a:lnTo>
                  <a:lnTo>
                    <a:pt x="6" y="716"/>
                  </a:lnTo>
                  <a:lnTo>
                    <a:pt x="10" y="703"/>
                  </a:lnTo>
                  <a:lnTo>
                    <a:pt x="15" y="691"/>
                  </a:lnTo>
                  <a:lnTo>
                    <a:pt x="22" y="679"/>
                  </a:lnTo>
                  <a:lnTo>
                    <a:pt x="29" y="668"/>
                  </a:lnTo>
                  <a:lnTo>
                    <a:pt x="38" y="657"/>
                  </a:lnTo>
                  <a:lnTo>
                    <a:pt x="48" y="646"/>
                  </a:lnTo>
                  <a:lnTo>
                    <a:pt x="58" y="636"/>
                  </a:lnTo>
                  <a:lnTo>
                    <a:pt x="82" y="617"/>
                  </a:lnTo>
                  <a:lnTo>
                    <a:pt x="110" y="600"/>
                  </a:lnTo>
                  <a:lnTo>
                    <a:pt x="141" y="585"/>
                  </a:lnTo>
                  <a:lnTo>
                    <a:pt x="139" y="588"/>
                  </a:lnTo>
                  <a:lnTo>
                    <a:pt x="122" y="574"/>
                  </a:lnTo>
                  <a:lnTo>
                    <a:pt x="106" y="559"/>
                  </a:lnTo>
                  <a:lnTo>
                    <a:pt x="93" y="543"/>
                  </a:lnTo>
                  <a:lnTo>
                    <a:pt x="82" y="526"/>
                  </a:lnTo>
                  <a:lnTo>
                    <a:pt x="73" y="509"/>
                  </a:lnTo>
                  <a:lnTo>
                    <a:pt x="67" y="491"/>
                  </a:lnTo>
                  <a:lnTo>
                    <a:pt x="63" y="473"/>
                  </a:lnTo>
                  <a:lnTo>
                    <a:pt x="62" y="455"/>
                  </a:lnTo>
                  <a:lnTo>
                    <a:pt x="64" y="435"/>
                  </a:lnTo>
                  <a:lnTo>
                    <a:pt x="68" y="416"/>
                  </a:lnTo>
                  <a:lnTo>
                    <a:pt x="75" y="397"/>
                  </a:lnTo>
                  <a:lnTo>
                    <a:pt x="84" y="379"/>
                  </a:lnTo>
                  <a:lnTo>
                    <a:pt x="97" y="362"/>
                  </a:lnTo>
                  <a:lnTo>
                    <a:pt x="111" y="346"/>
                  </a:lnTo>
                  <a:lnTo>
                    <a:pt x="127" y="331"/>
                  </a:lnTo>
                  <a:lnTo>
                    <a:pt x="146" y="317"/>
                  </a:lnTo>
                  <a:lnTo>
                    <a:pt x="166" y="304"/>
                  </a:lnTo>
                  <a:lnTo>
                    <a:pt x="188" y="293"/>
                  </a:lnTo>
                  <a:lnTo>
                    <a:pt x="211" y="284"/>
                  </a:lnTo>
                  <a:lnTo>
                    <a:pt x="236" y="275"/>
                  </a:lnTo>
                  <a:lnTo>
                    <a:pt x="262" y="269"/>
                  </a:lnTo>
                  <a:lnTo>
                    <a:pt x="290" y="264"/>
                  </a:lnTo>
                  <a:lnTo>
                    <a:pt x="318" y="261"/>
                  </a:lnTo>
                  <a:lnTo>
                    <a:pt x="347" y="260"/>
                  </a:lnTo>
                  <a:lnTo>
                    <a:pt x="364" y="260"/>
                  </a:lnTo>
                  <a:lnTo>
                    <a:pt x="381" y="261"/>
                  </a:lnTo>
                  <a:lnTo>
                    <a:pt x="379" y="260"/>
                  </a:lnTo>
                  <a:lnTo>
                    <a:pt x="397" y="240"/>
                  </a:lnTo>
                  <a:lnTo>
                    <a:pt x="416" y="222"/>
                  </a:lnTo>
                  <a:lnTo>
                    <a:pt x="437" y="204"/>
                  </a:lnTo>
                  <a:lnTo>
                    <a:pt x="460" y="187"/>
                  </a:lnTo>
                  <a:lnTo>
                    <a:pt x="484" y="172"/>
                  </a:lnTo>
                  <a:lnTo>
                    <a:pt x="509" y="158"/>
                  </a:lnTo>
                  <a:lnTo>
                    <a:pt x="536" y="144"/>
                  </a:lnTo>
                  <a:lnTo>
                    <a:pt x="564" y="133"/>
                  </a:lnTo>
                  <a:lnTo>
                    <a:pt x="593" y="122"/>
                  </a:lnTo>
                  <a:lnTo>
                    <a:pt x="623" y="113"/>
                  </a:lnTo>
                  <a:lnTo>
                    <a:pt x="654" y="105"/>
                  </a:lnTo>
                  <a:lnTo>
                    <a:pt x="685" y="98"/>
                  </a:lnTo>
                  <a:lnTo>
                    <a:pt x="718" y="93"/>
                  </a:lnTo>
                  <a:lnTo>
                    <a:pt x="751" y="89"/>
                  </a:lnTo>
                  <a:lnTo>
                    <a:pt x="784" y="87"/>
                  </a:lnTo>
                  <a:lnTo>
                    <a:pt x="818" y="86"/>
                  </a:lnTo>
                  <a:lnTo>
                    <a:pt x="852" y="87"/>
                  </a:lnTo>
                  <a:lnTo>
                    <a:pt x="886" y="89"/>
                  </a:lnTo>
                  <a:lnTo>
                    <a:pt x="919" y="93"/>
                  </a:lnTo>
                  <a:lnTo>
                    <a:pt x="953" y="99"/>
                  </a:lnTo>
                  <a:lnTo>
                    <a:pt x="985" y="105"/>
                  </a:lnTo>
                  <a:lnTo>
                    <a:pt x="1017" y="114"/>
                  </a:lnTo>
                  <a:lnTo>
                    <a:pt x="1048" y="124"/>
                  </a:lnTo>
                  <a:lnTo>
                    <a:pt x="1078" y="135"/>
                  </a:lnTo>
                  <a:lnTo>
                    <a:pt x="1077" y="135"/>
                  </a:lnTo>
                  <a:lnTo>
                    <a:pt x="1093" y="120"/>
                  </a:lnTo>
                  <a:lnTo>
                    <a:pt x="1110" y="105"/>
                  </a:lnTo>
                  <a:lnTo>
                    <a:pt x="1129" y="91"/>
                  </a:lnTo>
                  <a:lnTo>
                    <a:pt x="1148" y="79"/>
                  </a:lnTo>
                  <a:lnTo>
                    <a:pt x="1169" y="66"/>
                  </a:lnTo>
                  <a:lnTo>
                    <a:pt x="1190" y="55"/>
                  </a:lnTo>
                  <a:lnTo>
                    <a:pt x="1236" y="36"/>
                  </a:lnTo>
                  <a:lnTo>
                    <a:pt x="1260" y="28"/>
                  </a:lnTo>
                  <a:lnTo>
                    <a:pt x="1285" y="21"/>
                  </a:lnTo>
                  <a:lnTo>
                    <a:pt x="1310" y="14"/>
                  </a:lnTo>
                  <a:lnTo>
                    <a:pt x="1336" y="9"/>
                  </a:lnTo>
                  <a:lnTo>
                    <a:pt x="1363" y="5"/>
                  </a:lnTo>
                  <a:lnTo>
                    <a:pt x="1389" y="2"/>
                  </a:lnTo>
                  <a:lnTo>
                    <a:pt x="1417" y="1"/>
                  </a:lnTo>
                  <a:lnTo>
                    <a:pt x="1444" y="0"/>
                  </a:lnTo>
                  <a:lnTo>
                    <a:pt x="1480" y="1"/>
                  </a:lnTo>
                  <a:lnTo>
                    <a:pt x="1516" y="4"/>
                  </a:lnTo>
                  <a:lnTo>
                    <a:pt x="1551" y="9"/>
                  </a:lnTo>
                  <a:lnTo>
                    <a:pt x="1585" y="16"/>
                  </a:lnTo>
                  <a:lnTo>
                    <a:pt x="1617" y="24"/>
                  </a:lnTo>
                  <a:lnTo>
                    <a:pt x="1649" y="35"/>
                  </a:lnTo>
                  <a:lnTo>
                    <a:pt x="1679" y="47"/>
                  </a:lnTo>
                  <a:lnTo>
                    <a:pt x="1708" y="60"/>
                  </a:lnTo>
                  <a:lnTo>
                    <a:pt x="1735" y="75"/>
                  </a:lnTo>
                  <a:lnTo>
                    <a:pt x="1760" y="91"/>
                  </a:lnTo>
                  <a:lnTo>
                    <a:pt x="1783" y="109"/>
                  </a:lnTo>
                  <a:lnTo>
                    <a:pt x="1805" y="128"/>
                  </a:lnTo>
                  <a:lnTo>
                    <a:pt x="1824" y="149"/>
                  </a:lnTo>
                  <a:lnTo>
                    <a:pt x="1841" y="170"/>
                  </a:lnTo>
                  <a:lnTo>
                    <a:pt x="1855" y="193"/>
                  </a:lnTo>
                  <a:lnTo>
                    <a:pt x="1867" y="216"/>
                  </a:lnTo>
                  <a:lnTo>
                    <a:pt x="1868" y="214"/>
                  </a:lnTo>
                  <a:lnTo>
                    <a:pt x="1891" y="205"/>
                  </a:lnTo>
                  <a:lnTo>
                    <a:pt x="1915" y="197"/>
                  </a:lnTo>
                  <a:lnTo>
                    <a:pt x="1939" y="190"/>
                  </a:lnTo>
                  <a:lnTo>
                    <a:pt x="1964" y="185"/>
                  </a:lnTo>
                  <a:lnTo>
                    <a:pt x="1989" y="181"/>
                  </a:lnTo>
                  <a:lnTo>
                    <a:pt x="2015" y="177"/>
                  </a:lnTo>
                  <a:lnTo>
                    <a:pt x="2042" y="176"/>
                  </a:lnTo>
                  <a:lnTo>
                    <a:pt x="2068" y="175"/>
                  </a:lnTo>
                  <a:lnTo>
                    <a:pt x="2107" y="176"/>
                  </a:lnTo>
                  <a:lnTo>
                    <a:pt x="2144" y="180"/>
                  </a:lnTo>
                  <a:lnTo>
                    <a:pt x="2180" y="186"/>
                  </a:lnTo>
                  <a:lnTo>
                    <a:pt x="2215" y="195"/>
                  </a:lnTo>
                  <a:lnTo>
                    <a:pt x="2248" y="206"/>
                  </a:lnTo>
                  <a:lnTo>
                    <a:pt x="2279" y="219"/>
                  </a:lnTo>
                  <a:lnTo>
                    <a:pt x="2308" y="233"/>
                  </a:lnTo>
                  <a:lnTo>
                    <a:pt x="2335" y="250"/>
                  </a:lnTo>
                  <a:lnTo>
                    <a:pt x="2359" y="268"/>
                  </a:lnTo>
                  <a:lnTo>
                    <a:pt x="2381" y="288"/>
                  </a:lnTo>
                  <a:lnTo>
                    <a:pt x="2400" y="309"/>
                  </a:lnTo>
                  <a:lnTo>
                    <a:pt x="2416" y="331"/>
                  </a:lnTo>
                  <a:lnTo>
                    <a:pt x="2429" y="355"/>
                  </a:lnTo>
                  <a:lnTo>
                    <a:pt x="2439" y="379"/>
                  </a:lnTo>
                  <a:lnTo>
                    <a:pt x="2445" y="405"/>
                  </a:lnTo>
                  <a:lnTo>
                    <a:pt x="2447" y="431"/>
                  </a:lnTo>
                  <a:lnTo>
                    <a:pt x="2446" y="432"/>
                  </a:lnTo>
                  <a:lnTo>
                    <a:pt x="2486" y="437"/>
                  </a:lnTo>
                  <a:lnTo>
                    <a:pt x="2525" y="445"/>
                  </a:lnTo>
                  <a:lnTo>
                    <a:pt x="2562" y="455"/>
                  </a:lnTo>
                  <a:lnTo>
                    <a:pt x="2598" y="467"/>
                  </a:lnTo>
                  <a:lnTo>
                    <a:pt x="2631" y="481"/>
                  </a:lnTo>
                  <a:lnTo>
                    <a:pt x="2662" y="496"/>
                  </a:lnTo>
                  <a:lnTo>
                    <a:pt x="2692" y="514"/>
                  </a:lnTo>
                  <a:lnTo>
                    <a:pt x="2718" y="533"/>
                  </a:lnTo>
                  <a:lnTo>
                    <a:pt x="2742" y="554"/>
                  </a:lnTo>
                  <a:lnTo>
                    <a:pt x="2764" y="576"/>
                  </a:lnTo>
                  <a:lnTo>
                    <a:pt x="2783" y="600"/>
                  </a:lnTo>
                  <a:lnTo>
                    <a:pt x="2798" y="624"/>
                  </a:lnTo>
                  <a:lnTo>
                    <a:pt x="2811" y="650"/>
                  </a:lnTo>
                  <a:lnTo>
                    <a:pt x="2820" y="677"/>
                  </a:lnTo>
                  <a:lnTo>
                    <a:pt x="2825" y="704"/>
                  </a:lnTo>
                  <a:lnTo>
                    <a:pt x="2827" y="732"/>
                  </a:lnTo>
                  <a:lnTo>
                    <a:pt x="2825" y="757"/>
                  </a:lnTo>
                  <a:lnTo>
                    <a:pt x="2821" y="782"/>
                  </a:lnTo>
                  <a:lnTo>
                    <a:pt x="2813" y="806"/>
                  </a:lnTo>
                  <a:lnTo>
                    <a:pt x="2803" y="830"/>
                  </a:lnTo>
                  <a:lnTo>
                    <a:pt x="2790" y="853"/>
                  </a:lnTo>
                  <a:lnTo>
                    <a:pt x="2774" y="875"/>
                  </a:lnTo>
                  <a:lnTo>
                    <a:pt x="2756" y="897"/>
                  </a:lnTo>
                  <a:lnTo>
                    <a:pt x="2735" y="917"/>
                  </a:lnTo>
                  <a:lnTo>
                    <a:pt x="2734" y="917"/>
                  </a:lnTo>
                  <a:lnTo>
                    <a:pt x="2746" y="940"/>
                  </a:lnTo>
                  <a:lnTo>
                    <a:pt x="2755" y="963"/>
                  </a:lnTo>
                  <a:lnTo>
                    <a:pt x="2760" y="987"/>
                  </a:lnTo>
                  <a:lnTo>
                    <a:pt x="2762" y="1011"/>
                  </a:lnTo>
                  <a:lnTo>
                    <a:pt x="2761" y="1031"/>
                  </a:lnTo>
                  <a:lnTo>
                    <a:pt x="2757" y="1051"/>
                  </a:lnTo>
                  <a:lnTo>
                    <a:pt x="2751" y="1070"/>
                  </a:lnTo>
                  <a:lnTo>
                    <a:pt x="2743" y="1089"/>
                  </a:lnTo>
                  <a:lnTo>
                    <a:pt x="2733" y="1107"/>
                  </a:lnTo>
                  <a:lnTo>
                    <a:pt x="2721" y="1124"/>
                  </a:lnTo>
                  <a:lnTo>
                    <a:pt x="2707" y="1141"/>
                  </a:lnTo>
                  <a:lnTo>
                    <a:pt x="2691" y="1157"/>
                  </a:lnTo>
                  <a:lnTo>
                    <a:pt x="2673" y="1171"/>
                  </a:lnTo>
                  <a:lnTo>
                    <a:pt x="2653" y="1185"/>
                  </a:lnTo>
                  <a:lnTo>
                    <a:pt x="2632" y="1198"/>
                  </a:lnTo>
                  <a:lnTo>
                    <a:pt x="2609" y="1209"/>
                  </a:lnTo>
                  <a:lnTo>
                    <a:pt x="2585" y="1220"/>
                  </a:lnTo>
                  <a:lnTo>
                    <a:pt x="2560" y="1228"/>
                  </a:lnTo>
                  <a:lnTo>
                    <a:pt x="2533" y="1236"/>
                  </a:lnTo>
                  <a:lnTo>
                    <a:pt x="2505" y="1242"/>
                  </a:lnTo>
                  <a:lnTo>
                    <a:pt x="2506" y="1243"/>
                  </a:lnTo>
                  <a:lnTo>
                    <a:pt x="2500" y="1262"/>
                  </a:lnTo>
                  <a:lnTo>
                    <a:pt x="2491" y="1280"/>
                  </a:lnTo>
                  <a:lnTo>
                    <a:pt x="2480" y="1298"/>
                  </a:lnTo>
                  <a:lnTo>
                    <a:pt x="2467" y="1314"/>
                  </a:lnTo>
                  <a:lnTo>
                    <a:pt x="2452" y="1330"/>
                  </a:lnTo>
                  <a:lnTo>
                    <a:pt x="2436" y="1345"/>
                  </a:lnTo>
                  <a:lnTo>
                    <a:pt x="2417" y="1358"/>
                  </a:lnTo>
                  <a:lnTo>
                    <a:pt x="2397" y="1371"/>
                  </a:lnTo>
                  <a:lnTo>
                    <a:pt x="2376" y="1382"/>
                  </a:lnTo>
                  <a:lnTo>
                    <a:pt x="2353" y="1392"/>
                  </a:lnTo>
                  <a:lnTo>
                    <a:pt x="2328" y="1400"/>
                  </a:lnTo>
                  <a:lnTo>
                    <a:pt x="2303" y="1408"/>
                  </a:lnTo>
                  <a:lnTo>
                    <a:pt x="2277" y="1413"/>
                  </a:lnTo>
                  <a:lnTo>
                    <a:pt x="2250" y="1418"/>
                  </a:lnTo>
                  <a:lnTo>
                    <a:pt x="2222" y="1420"/>
                  </a:lnTo>
                  <a:lnTo>
                    <a:pt x="2193" y="1421"/>
                  </a:lnTo>
                  <a:lnTo>
                    <a:pt x="2158" y="1420"/>
                  </a:lnTo>
                  <a:lnTo>
                    <a:pt x="2124" y="1416"/>
                  </a:lnTo>
                  <a:lnTo>
                    <a:pt x="2091" y="1410"/>
                  </a:lnTo>
                  <a:lnTo>
                    <a:pt x="2060" y="1401"/>
                  </a:lnTo>
                  <a:lnTo>
                    <a:pt x="2029" y="1390"/>
                  </a:lnTo>
                  <a:lnTo>
                    <a:pt x="2001" y="1377"/>
                  </a:lnTo>
                  <a:lnTo>
                    <a:pt x="1975" y="1361"/>
                  </a:lnTo>
                  <a:lnTo>
                    <a:pt x="1951" y="1344"/>
                  </a:lnTo>
                  <a:lnTo>
                    <a:pt x="1951" y="1344"/>
                  </a:lnTo>
                  <a:lnTo>
                    <a:pt x="1929" y="1361"/>
                  </a:lnTo>
                  <a:lnTo>
                    <a:pt x="1905" y="1377"/>
                  </a:lnTo>
                  <a:lnTo>
                    <a:pt x="1879" y="1390"/>
                  </a:lnTo>
                  <a:lnTo>
                    <a:pt x="1851" y="1401"/>
                  </a:lnTo>
                  <a:lnTo>
                    <a:pt x="1821" y="1410"/>
                  </a:lnTo>
                  <a:lnTo>
                    <a:pt x="1789" y="1416"/>
                  </a:lnTo>
                  <a:lnTo>
                    <a:pt x="1757" y="1420"/>
                  </a:lnTo>
                  <a:lnTo>
                    <a:pt x="1724" y="1421"/>
                  </a:lnTo>
                  <a:lnTo>
                    <a:pt x="1684" y="1419"/>
                  </a:lnTo>
                  <a:lnTo>
                    <a:pt x="1645" y="1413"/>
                  </a:lnTo>
                  <a:lnTo>
                    <a:pt x="1609" y="1404"/>
                  </a:lnTo>
                  <a:lnTo>
                    <a:pt x="1574" y="1392"/>
                  </a:lnTo>
                  <a:lnTo>
                    <a:pt x="1542" y="1376"/>
                  </a:lnTo>
                  <a:lnTo>
                    <a:pt x="1514" y="1358"/>
                  </a:lnTo>
                  <a:lnTo>
                    <a:pt x="1501" y="1348"/>
                  </a:lnTo>
                  <a:lnTo>
                    <a:pt x="1489" y="1337"/>
                  </a:lnTo>
                  <a:lnTo>
                    <a:pt x="1479" y="1325"/>
                  </a:lnTo>
                  <a:lnTo>
                    <a:pt x="1469" y="1313"/>
                  </a:lnTo>
                  <a:lnTo>
                    <a:pt x="1470" y="1310"/>
                  </a:lnTo>
                  <a:lnTo>
                    <a:pt x="1444" y="1326"/>
                  </a:lnTo>
                  <a:lnTo>
                    <a:pt x="1417" y="1339"/>
                  </a:lnTo>
                  <a:lnTo>
                    <a:pt x="1388" y="1351"/>
                  </a:lnTo>
                  <a:lnTo>
                    <a:pt x="1357" y="1361"/>
                  </a:lnTo>
                  <a:lnTo>
                    <a:pt x="1325" y="1368"/>
                  </a:lnTo>
                  <a:lnTo>
                    <a:pt x="1292" y="1374"/>
                  </a:lnTo>
                  <a:lnTo>
                    <a:pt x="1259" y="1377"/>
                  </a:lnTo>
                  <a:lnTo>
                    <a:pt x="1225" y="1378"/>
                  </a:lnTo>
                  <a:lnTo>
                    <a:pt x="1201" y="1377"/>
                  </a:lnTo>
                  <a:lnTo>
                    <a:pt x="1177" y="1376"/>
                  </a:lnTo>
                  <a:lnTo>
                    <a:pt x="1154" y="1373"/>
                  </a:lnTo>
                  <a:lnTo>
                    <a:pt x="1131" y="1369"/>
                  </a:lnTo>
                  <a:lnTo>
                    <a:pt x="1109" y="1364"/>
                  </a:lnTo>
                  <a:lnTo>
                    <a:pt x="1087" y="1358"/>
                  </a:lnTo>
                  <a:lnTo>
                    <a:pt x="1045" y="1344"/>
                  </a:lnTo>
                  <a:lnTo>
                    <a:pt x="1007" y="1325"/>
                  </a:lnTo>
                  <a:lnTo>
                    <a:pt x="989" y="1315"/>
                  </a:lnTo>
                  <a:lnTo>
                    <a:pt x="972" y="1304"/>
                  </a:lnTo>
                  <a:lnTo>
                    <a:pt x="957" y="1292"/>
                  </a:lnTo>
                  <a:lnTo>
                    <a:pt x="942" y="1279"/>
                  </a:lnTo>
                  <a:lnTo>
                    <a:pt x="929" y="1265"/>
                  </a:lnTo>
                  <a:lnTo>
                    <a:pt x="917" y="1251"/>
                  </a:lnTo>
                  <a:lnTo>
                    <a:pt x="916" y="1250"/>
                  </a:lnTo>
                  <a:lnTo>
                    <a:pt x="890" y="1260"/>
                  </a:lnTo>
                  <a:lnTo>
                    <a:pt x="863" y="1268"/>
                  </a:lnTo>
                  <a:lnTo>
                    <a:pt x="836" y="1275"/>
                  </a:lnTo>
                  <a:lnTo>
                    <a:pt x="808" y="1281"/>
                  </a:lnTo>
                  <a:lnTo>
                    <a:pt x="780" y="1285"/>
                  </a:lnTo>
                  <a:lnTo>
                    <a:pt x="751" y="1288"/>
                  </a:lnTo>
                  <a:lnTo>
                    <a:pt x="722" y="1290"/>
                  </a:lnTo>
                  <a:lnTo>
                    <a:pt x="692" y="1291"/>
                  </a:lnTo>
                  <a:lnTo>
                    <a:pt x="647" y="1289"/>
                  </a:lnTo>
                  <a:lnTo>
                    <a:pt x="603" y="1285"/>
                  </a:lnTo>
                  <a:lnTo>
                    <a:pt x="561" y="1277"/>
                  </a:lnTo>
                  <a:lnTo>
                    <a:pt x="520" y="1267"/>
                  </a:lnTo>
                  <a:lnTo>
                    <a:pt x="481" y="1255"/>
                  </a:lnTo>
                  <a:lnTo>
                    <a:pt x="445" y="1240"/>
                  </a:lnTo>
                  <a:lnTo>
                    <a:pt x="411" y="1222"/>
                  </a:lnTo>
                  <a:lnTo>
                    <a:pt x="380" y="1203"/>
                  </a:lnTo>
                  <a:lnTo>
                    <a:pt x="351" y="1181"/>
                  </a:lnTo>
                  <a:lnTo>
                    <a:pt x="326" y="1158"/>
                  </a:lnTo>
                  <a:lnTo>
                    <a:pt x="303" y="1133"/>
                  </a:lnTo>
                  <a:lnTo>
                    <a:pt x="285" y="1107"/>
                  </a:lnTo>
                  <a:lnTo>
                    <a:pt x="270" y="1079"/>
                  </a:lnTo>
                  <a:lnTo>
                    <a:pt x="264" y="1065"/>
                  </a:lnTo>
                  <a:lnTo>
                    <a:pt x="259" y="1050"/>
                  </a:lnTo>
                  <a:lnTo>
                    <a:pt x="255" y="1035"/>
                  </a:lnTo>
                  <a:lnTo>
                    <a:pt x="252" y="1020"/>
                  </a:lnTo>
                  <a:lnTo>
                    <a:pt x="251" y="1005"/>
                  </a:lnTo>
                  <a:lnTo>
                    <a:pt x="250" y="989"/>
                  </a:lnTo>
                  <a:lnTo>
                    <a:pt x="251" y="969"/>
                  </a:lnTo>
                  <a:lnTo>
                    <a:pt x="254" y="948"/>
                  </a:lnTo>
                  <a:lnTo>
                    <a:pt x="255" y="94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79440" y="3541320"/>
              <a:ext cx="58680" cy="1152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33" y="15"/>
                  </a:lnTo>
                  <a:lnTo>
                    <a:pt x="69" y="7"/>
                  </a:lnTo>
                  <a:lnTo>
                    <a:pt x="106" y="2"/>
                  </a:lnTo>
                  <a:lnTo>
                    <a:pt x="143" y="0"/>
                  </a:lnTo>
                  <a:lnTo>
                    <a:pt x="154" y="0"/>
                  </a:lnTo>
                  <a:lnTo>
                    <a:pt x="1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65480" y="3405960"/>
              <a:ext cx="25560" cy="5760"/>
            </a:xfrm>
            <a:custGeom>
              <a:avLst/>
              <a:gdLst/>
              <a:ahLst/>
              <a:rect l="l" t="t" r="r" b="b"/>
              <a:pathLst>
                <a:path w="72" h="13">
                  <a:moveTo>
                    <a:pt x="0" y="0"/>
                  </a:moveTo>
                  <a:lnTo>
                    <a:pt x="37" y="5"/>
                  </a:lnTo>
                  <a:lnTo>
                    <a:pt x="55" y="8"/>
                  </a:lnTo>
                  <a:lnTo>
                    <a:pt x="72" y="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98400" y="3349080"/>
              <a:ext cx="15480" cy="2592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9" y="42"/>
                  </a:lnTo>
                  <a:lnTo>
                    <a:pt x="20" y="28"/>
                  </a:lnTo>
                  <a:lnTo>
                    <a:pt x="31" y="14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96480" y="3385800"/>
              <a:ext cx="6120" cy="280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6" y="15"/>
                  </a:lnTo>
                  <a:lnTo>
                    <a:pt x="11" y="31"/>
                  </a:lnTo>
                  <a:lnTo>
                    <a:pt x="15" y="46"/>
                  </a:lnTo>
                  <a:lnTo>
                    <a:pt x="18" y="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27520" y="3483360"/>
              <a:ext cx="75960" cy="106560"/>
            </a:xfrm>
            <a:custGeom>
              <a:avLst/>
              <a:gdLst/>
              <a:ahLst/>
              <a:rect l="l" t="t" r="r" b="b"/>
              <a:pathLst>
                <a:path w="213" h="235">
                  <a:moveTo>
                    <a:pt x="213" y="0"/>
                  </a:moveTo>
                  <a:lnTo>
                    <a:pt x="213" y="1"/>
                  </a:lnTo>
                  <a:lnTo>
                    <a:pt x="213" y="2"/>
                  </a:lnTo>
                  <a:lnTo>
                    <a:pt x="212" y="20"/>
                  </a:lnTo>
                  <a:lnTo>
                    <a:pt x="209" y="39"/>
                  </a:lnTo>
                  <a:lnTo>
                    <a:pt x="205" y="57"/>
                  </a:lnTo>
                  <a:lnTo>
                    <a:pt x="198" y="74"/>
                  </a:lnTo>
                  <a:lnTo>
                    <a:pt x="190" y="91"/>
                  </a:lnTo>
                  <a:lnTo>
                    <a:pt x="180" y="108"/>
                  </a:lnTo>
                  <a:lnTo>
                    <a:pt x="168" y="124"/>
                  </a:lnTo>
                  <a:lnTo>
                    <a:pt x="155" y="140"/>
                  </a:lnTo>
                  <a:lnTo>
                    <a:pt x="141" y="154"/>
                  </a:lnTo>
                  <a:lnTo>
                    <a:pt x="125" y="169"/>
                  </a:lnTo>
                  <a:lnTo>
                    <a:pt x="107" y="182"/>
                  </a:lnTo>
                  <a:lnTo>
                    <a:pt x="88" y="194"/>
                  </a:lnTo>
                  <a:lnTo>
                    <a:pt x="68" y="206"/>
                  </a:lnTo>
                  <a:lnTo>
                    <a:pt x="47" y="217"/>
                  </a:lnTo>
                  <a:lnTo>
                    <a:pt x="24" y="226"/>
                  </a:lnTo>
                  <a:lnTo>
                    <a:pt x="0" y="2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72240" y="3663720"/>
              <a:ext cx="33840" cy="39600"/>
            </a:xfrm>
            <a:custGeom>
              <a:avLst/>
              <a:gdLst/>
              <a:ahLst/>
              <a:rect l="l" t="t" r="r" b="b"/>
              <a:pathLst>
                <a:path w="95" h="88">
                  <a:moveTo>
                    <a:pt x="0" y="0"/>
                  </a:moveTo>
                  <a:lnTo>
                    <a:pt x="29" y="19"/>
                  </a:lnTo>
                  <a:lnTo>
                    <a:pt x="55" y="40"/>
                  </a:lnTo>
                  <a:lnTo>
                    <a:pt x="67" y="52"/>
                  </a:lnTo>
                  <a:lnTo>
                    <a:pt x="77" y="63"/>
                  </a:lnTo>
                  <a:lnTo>
                    <a:pt x="87" y="75"/>
                  </a:lnTo>
                  <a:lnTo>
                    <a:pt x="95" y="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24720" y="3832560"/>
              <a:ext cx="1440" cy="1872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5" y="0"/>
                  </a:moveTo>
                  <a:lnTo>
                    <a:pt x="5" y="3"/>
                  </a:lnTo>
                  <a:lnTo>
                    <a:pt x="4" y="23"/>
                  </a:lnTo>
                  <a:lnTo>
                    <a:pt x="0" y="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8720" y="3873240"/>
              <a:ext cx="17280" cy="2376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53"/>
                  </a:moveTo>
                  <a:lnTo>
                    <a:pt x="35" y="41"/>
                  </a:lnTo>
                  <a:lnTo>
                    <a:pt x="22" y="28"/>
                  </a:lnTo>
                  <a:lnTo>
                    <a:pt x="10" y="1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45640" y="3862440"/>
              <a:ext cx="8280" cy="208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4" y="46"/>
                  </a:moveTo>
                  <a:lnTo>
                    <a:pt x="16" y="35"/>
                  </a:lnTo>
                  <a:lnTo>
                    <a:pt x="10" y="23"/>
                  </a:lnTo>
                  <a:lnTo>
                    <a:pt x="4" y="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56640" y="3834360"/>
              <a:ext cx="30240" cy="201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85" y="0"/>
                  </a:moveTo>
                  <a:lnTo>
                    <a:pt x="65" y="13"/>
                  </a:lnTo>
                  <a:lnTo>
                    <a:pt x="44" y="24"/>
                  </a:lnTo>
                  <a:lnTo>
                    <a:pt x="0" y="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0120" y="3696840"/>
              <a:ext cx="5040" cy="2088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46"/>
                  </a:moveTo>
                  <a:lnTo>
                    <a:pt x="6" y="23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183280" y="2201760"/>
            <a:ext cx="1263600" cy="1224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29520" y="2691720"/>
            <a:ext cx="25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Terminating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05040" y="33634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Ca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92840" y="44557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Ca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79520" y="2083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06520" y="34362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78280" y="4228920"/>
            <a:ext cx="20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On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One B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One point of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4114800"/>
            <a:ext cx="1962000" cy="1355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074080" y="1617840"/>
            <a:ext cx="469800" cy="628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698920" y="2860560"/>
            <a:ext cx="717480" cy="574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7886880" y="3659040"/>
            <a:ext cx="717480" cy="574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1680" y="439560"/>
            <a:ext cx="826308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Convergence of fixed and mobil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elecommunication </a:t>
            </a: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servic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551880" y="2054160"/>
            <a:ext cx="139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regul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1120" y="359712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bu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of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9640" y="481644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aligning IN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800" y="5730840"/>
            <a:ext cx="57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adapting service control logic and related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35080" y="3147840"/>
            <a:ext cx="218880" cy="400320"/>
          </a:xfrm>
          <a:prstGeom prst="downArrow">
            <a:avLst>
              <a:gd name="adj1" fmla="val 50000"/>
              <a:gd name="adj2" fmla="val 45724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30200" y="4370400"/>
            <a:ext cx="219240" cy="399960"/>
          </a:xfrm>
          <a:prstGeom prst="downArrow">
            <a:avLst>
              <a:gd name="adj1" fmla="val 50000"/>
              <a:gd name="adj2" fmla="val 45608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25640" y="5326200"/>
            <a:ext cx="219240" cy="399960"/>
          </a:xfrm>
          <a:prstGeom prst="downArrow">
            <a:avLst>
              <a:gd name="adj1" fmla="val 50000"/>
              <a:gd name="adj2" fmla="val 45608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4153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ireless attract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substitution trend</a:t>
            </a:r>
            <a:r>
              <a:rPr b="1" lang="it-IT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2050200" y="6269040"/>
            <a:ext cx="674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28760" y="4086720"/>
            <a:ext cx="1299960" cy="807480"/>
            <a:chOff x="428760" y="4086720"/>
            <a:chExt cx="1299960" cy="807480"/>
          </a:xfrm>
        </p:grpSpPr>
        <p:grpSp>
          <p:nvGrpSpPr>
            <p:cNvPr id="249" name=""/>
            <p:cNvGrpSpPr/>
            <p:nvPr/>
          </p:nvGrpSpPr>
          <p:grpSpPr>
            <a:xfrm>
              <a:off x="1185840" y="4123080"/>
              <a:ext cx="542880" cy="697680"/>
              <a:chOff x="1185840" y="4123080"/>
              <a:chExt cx="542880" cy="69768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391400" y="4257360"/>
                <a:ext cx="337320" cy="563400"/>
                <a:chOff x="1391400" y="4257360"/>
                <a:chExt cx="337320" cy="56340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1476000" y="4331520"/>
                  <a:ext cx="252720" cy="415800"/>
                  <a:chOff x="1476000" y="4331520"/>
                  <a:chExt cx="252720" cy="415800"/>
                </a:xfrm>
              </p:grpSpPr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1476000" y="4331520"/>
                    <a:ext cx="252720" cy="415800"/>
                    <a:chOff x="1476000" y="4331520"/>
                    <a:chExt cx="252720" cy="415800"/>
                  </a:xfrm>
                </p:grpSpPr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1539360" y="4380840"/>
                      <a:ext cx="189360" cy="342000"/>
                      <a:chOff x="1539360" y="4380840"/>
                      <a:chExt cx="189360" cy="342000"/>
                    </a:xfrm>
                  </p:grpSpPr>
                  <p:grpSp>
                    <p:nvGrpSpPr>
                      <p:cNvPr id="254" name=""/>
                      <p:cNvGrpSpPr/>
                      <p:nvPr/>
                    </p:nvGrpSpPr>
                    <p:grpSpPr>
                      <a:xfrm>
                        <a:off x="1560240" y="4380840"/>
                        <a:ext cx="168480" cy="342000"/>
                        <a:chOff x="1560240" y="4380840"/>
                        <a:chExt cx="168480" cy="342000"/>
                      </a:xfrm>
                    </p:grpSpPr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V="1">
                          <a:off x="1644840" y="4429440"/>
                          <a:ext cx="83880" cy="9792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V="1">
                          <a:off x="1580760" y="4380840"/>
                          <a:ext cx="105840" cy="12240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V="1">
                          <a:off x="1623600" y="4551480"/>
                          <a:ext cx="83880" cy="9864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1560240" y="4600440"/>
                          <a:ext cx="105840" cy="12240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1626120" y="4452120"/>
                          <a:ext cx="71640" cy="19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8" h="574">
                              <a:moveTo>
                                <a:pt x="238" y="569"/>
                              </a:moveTo>
                              <a:lnTo>
                                <a:pt x="138" y="574"/>
                              </a:lnTo>
                              <a:lnTo>
                                <a:pt x="0" y="0"/>
                              </a:lnTo>
                              <a:lnTo>
                                <a:pt x="147" y="46"/>
                              </a:lnTo>
                              <a:lnTo>
                                <a:pt x="151" y="327"/>
                              </a:lnTo>
                              <a:lnTo>
                                <a:pt x="238" y="56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0" name=""/>
                      <p:cNvSpPr/>
                      <p:nvPr/>
                    </p:nvSpPr>
                    <p:spPr>
                      <a:xfrm flipV="1">
                        <a:off x="1539360" y="4453560"/>
                        <a:ext cx="147600" cy="171360"/>
                      </a:xfrm>
                      <a:prstGeom prst="ellipse">
                        <a:avLst/>
                      </a:prstGeom>
                      <a:solidFill>
                        <a:srgbClr val="eaeaea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 flipV="1">
                        <a:off x="1539360" y="4404240"/>
                        <a:ext cx="105480" cy="123120"/>
                      </a:xfrm>
                      <a:prstGeom prst="ellipse">
                        <a:avLst/>
                      </a:prstGeom>
                      <a:solidFill>
                        <a:srgbClr val="eaeaea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 flipV="1">
                        <a:off x="1571040" y="4458960"/>
                        <a:ext cx="75600" cy="20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" h="617">
                            <a:moveTo>
                              <a:pt x="229" y="103"/>
                            </a:moveTo>
                            <a:lnTo>
                              <a:pt x="199" y="236"/>
                            </a:lnTo>
                            <a:lnTo>
                              <a:pt x="252" y="533"/>
                            </a:lnTo>
                            <a:lnTo>
                              <a:pt x="151" y="617"/>
                            </a:lnTo>
                            <a:lnTo>
                              <a:pt x="0" y="260"/>
                            </a:lnTo>
                            <a:lnTo>
                              <a:pt x="121" y="0"/>
                            </a:lnTo>
                            <a:lnTo>
                              <a:pt x="229" y="103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3" name=""/>
                    <p:cNvSpPr/>
                    <p:nvPr/>
                  </p:nvSpPr>
                  <p:spPr>
                    <a:xfrm flipV="1">
                      <a:off x="1539360" y="4331520"/>
                      <a:ext cx="83880" cy="9792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 flipV="1">
                      <a:off x="1476000" y="4624200"/>
                      <a:ext cx="105480" cy="12312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V="1">
                      <a:off x="1563840" y="4405320"/>
                      <a:ext cx="558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28">
                          <a:moveTo>
                            <a:pt x="185" y="80"/>
                          </a:moveTo>
                          <a:lnTo>
                            <a:pt x="129" y="128"/>
                          </a:lnTo>
                          <a:lnTo>
                            <a:pt x="0" y="62"/>
                          </a:lnTo>
                          <a:lnTo>
                            <a:pt x="129" y="0"/>
                          </a:lnTo>
                          <a:lnTo>
                            <a:pt x="185" y="80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6" name=""/>
                  <p:cNvSpPr/>
                  <p:nvPr/>
                </p:nvSpPr>
                <p:spPr>
                  <a:xfrm flipV="1">
                    <a:off x="1555920" y="4622400"/>
                    <a:ext cx="334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203">
                        <a:moveTo>
                          <a:pt x="56" y="0"/>
                        </a:moveTo>
                        <a:lnTo>
                          <a:pt x="112" y="4"/>
                        </a:lnTo>
                        <a:lnTo>
                          <a:pt x="90" y="203"/>
                        </a:lnTo>
                        <a:lnTo>
                          <a:pt x="0" y="163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1391400" y="4307040"/>
                  <a:ext cx="231840" cy="513720"/>
                  <a:chOff x="1391400" y="4307040"/>
                  <a:chExt cx="231840" cy="51372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flipV="1">
                    <a:off x="1412280" y="4307040"/>
                    <a:ext cx="190080" cy="2203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1433520" y="4453560"/>
                    <a:ext cx="189720" cy="2203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1391400" y="4648680"/>
                    <a:ext cx="148320" cy="17208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V="1">
                    <a:off x="1476000" y="4624920"/>
                    <a:ext cx="84240" cy="979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V="1">
                    <a:off x="1435320" y="4548600"/>
                    <a:ext cx="12672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560">
                        <a:moveTo>
                          <a:pt x="300" y="22"/>
                        </a:moveTo>
                        <a:lnTo>
                          <a:pt x="295" y="91"/>
                        </a:lnTo>
                        <a:lnTo>
                          <a:pt x="395" y="215"/>
                        </a:lnTo>
                        <a:lnTo>
                          <a:pt x="422" y="228"/>
                        </a:lnTo>
                        <a:lnTo>
                          <a:pt x="274" y="560"/>
                        </a:lnTo>
                        <a:lnTo>
                          <a:pt x="0" y="0"/>
                        </a:lnTo>
                        <a:lnTo>
                          <a:pt x="300" y="22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1494360" y="4428360"/>
                    <a:ext cx="83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7" h="169">
                        <a:moveTo>
                          <a:pt x="246" y="23"/>
                        </a:moveTo>
                        <a:lnTo>
                          <a:pt x="277" y="75"/>
                        </a:lnTo>
                        <a:lnTo>
                          <a:pt x="0" y="169"/>
                        </a:lnTo>
                        <a:lnTo>
                          <a:pt x="8" y="0"/>
                        </a:lnTo>
                        <a:lnTo>
                          <a:pt x="246" y="23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 flipV="1">
                  <a:off x="1391400" y="4257360"/>
                  <a:ext cx="105480" cy="1231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1458720" y="4323600"/>
                  <a:ext cx="56520" cy="66600"/>
                </a:xfrm>
                <a:custGeom>
                  <a:avLst/>
                  <a:gdLst/>
                  <a:ahLst/>
                  <a:rect l="l" t="t" r="r" b="b"/>
                  <a:pathLst>
                    <a:path w="189" h="197">
                      <a:moveTo>
                        <a:pt x="77" y="197"/>
                      </a:moveTo>
                      <a:lnTo>
                        <a:pt x="189" y="130"/>
                      </a:lnTo>
                      <a:lnTo>
                        <a:pt x="59" y="0"/>
                      </a:lnTo>
                      <a:lnTo>
                        <a:pt x="0" y="72"/>
                      </a:lnTo>
                      <a:lnTo>
                        <a:pt x="77" y="19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 flipV="1">
                <a:off x="1185840" y="4123080"/>
                <a:ext cx="126720" cy="1468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285920" y="4147560"/>
                <a:ext cx="106200" cy="12240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343880" y="4187160"/>
                <a:ext cx="106200" cy="12312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261080" y="4164480"/>
                <a:ext cx="204840" cy="161280"/>
              </a:xfrm>
              <a:custGeom>
                <a:avLst/>
                <a:gdLst/>
                <a:ahLst/>
                <a:rect l="l" t="t" r="r" b="b"/>
                <a:pathLst>
                  <a:path w="680" h="474">
                    <a:moveTo>
                      <a:pt x="632" y="138"/>
                    </a:moveTo>
                    <a:lnTo>
                      <a:pt x="570" y="170"/>
                    </a:lnTo>
                    <a:lnTo>
                      <a:pt x="388" y="358"/>
                    </a:lnTo>
                    <a:lnTo>
                      <a:pt x="344" y="438"/>
                    </a:lnTo>
                    <a:lnTo>
                      <a:pt x="144" y="438"/>
                    </a:lnTo>
                    <a:lnTo>
                      <a:pt x="101" y="474"/>
                    </a:lnTo>
                    <a:lnTo>
                      <a:pt x="0" y="336"/>
                    </a:lnTo>
                    <a:lnTo>
                      <a:pt x="458" y="0"/>
                    </a:lnTo>
                    <a:lnTo>
                      <a:pt x="680" y="77"/>
                    </a:lnTo>
                    <a:lnTo>
                      <a:pt x="632" y="13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28760" y="4331160"/>
              <a:ext cx="329040" cy="484920"/>
              <a:chOff x="428760" y="4331160"/>
              <a:chExt cx="329040" cy="48492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428760" y="4453560"/>
                <a:ext cx="181800" cy="294120"/>
                <a:chOff x="428760" y="4453560"/>
                <a:chExt cx="181800" cy="294120"/>
              </a:xfrm>
            </p:grpSpPr>
            <p:sp>
              <p:nvSpPr>
                <p:cNvPr id="282" name=""/>
                <p:cNvSpPr/>
                <p:nvPr/>
              </p:nvSpPr>
              <p:spPr>
                <a:xfrm flipV="1">
                  <a:off x="428760" y="4551840"/>
                  <a:ext cx="84600" cy="9864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441720" y="4453560"/>
                  <a:ext cx="105480" cy="12240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462960" y="4575600"/>
                  <a:ext cx="147600" cy="1717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454680" y="4542480"/>
                  <a:ext cx="55440" cy="93960"/>
                </a:xfrm>
                <a:custGeom>
                  <a:avLst/>
                  <a:gdLst/>
                  <a:ahLst/>
                  <a:rect l="l" t="t" r="r" b="b"/>
                  <a:pathLst>
                    <a:path w="184" h="276">
                      <a:moveTo>
                        <a:pt x="107" y="0"/>
                      </a:moveTo>
                      <a:lnTo>
                        <a:pt x="0" y="54"/>
                      </a:lnTo>
                      <a:lnTo>
                        <a:pt x="3" y="222"/>
                      </a:lnTo>
                      <a:lnTo>
                        <a:pt x="39" y="276"/>
                      </a:lnTo>
                      <a:lnTo>
                        <a:pt x="184" y="222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484200" y="4331160"/>
                <a:ext cx="273600" cy="484920"/>
                <a:chOff x="484200" y="4331160"/>
                <a:chExt cx="273600" cy="484920"/>
              </a:xfrm>
            </p:grpSpPr>
            <p:sp>
              <p:nvSpPr>
                <p:cNvPr id="287" name=""/>
                <p:cNvSpPr/>
                <p:nvPr/>
              </p:nvSpPr>
              <p:spPr>
                <a:xfrm flipV="1">
                  <a:off x="568440" y="4576320"/>
                  <a:ext cx="189360" cy="2203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84200" y="4527000"/>
                  <a:ext cx="106200" cy="1231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505080" y="4404600"/>
                  <a:ext cx="148320" cy="17136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547560" y="4331160"/>
                  <a:ext cx="147960" cy="17208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558360" y="4546080"/>
                  <a:ext cx="132120" cy="14976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663480" y="4718880"/>
                  <a:ext cx="84240" cy="9720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599400" y="4643280"/>
                  <a:ext cx="92880" cy="77400"/>
                </a:xfrm>
                <a:custGeom>
                  <a:avLst/>
                  <a:gdLst/>
                  <a:ahLst/>
                  <a:rect l="l" t="t" r="r" b="b"/>
                  <a:pathLst>
                    <a:path w="308" h="227">
                      <a:moveTo>
                        <a:pt x="0" y="61"/>
                      </a:moveTo>
                      <a:lnTo>
                        <a:pt x="39" y="169"/>
                      </a:lnTo>
                      <a:lnTo>
                        <a:pt x="308" y="227"/>
                      </a:lnTo>
                      <a:lnTo>
                        <a:pt x="308" y="85"/>
                      </a:lnTo>
                      <a:lnTo>
                        <a:pt x="18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513720" y="4444560"/>
                  <a:ext cx="106200" cy="150840"/>
                </a:xfrm>
                <a:custGeom>
                  <a:avLst/>
                  <a:gdLst/>
                  <a:ahLst/>
                  <a:rect l="l" t="t" r="r" b="b"/>
                  <a:pathLst>
                    <a:path w="352" h="443">
                      <a:moveTo>
                        <a:pt x="217" y="0"/>
                      </a:moveTo>
                      <a:lnTo>
                        <a:pt x="0" y="112"/>
                      </a:lnTo>
                      <a:lnTo>
                        <a:pt x="91" y="201"/>
                      </a:lnTo>
                      <a:lnTo>
                        <a:pt x="104" y="416"/>
                      </a:lnTo>
                      <a:lnTo>
                        <a:pt x="156" y="443"/>
                      </a:lnTo>
                      <a:lnTo>
                        <a:pt x="338" y="305"/>
                      </a:lnTo>
                      <a:lnTo>
                        <a:pt x="352" y="46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 flipV="1">
                <a:off x="659880" y="4688280"/>
                <a:ext cx="59040" cy="75600"/>
              </a:xfrm>
              <a:custGeom>
                <a:avLst/>
                <a:gdLst/>
                <a:ahLst/>
                <a:rect l="l" t="t" r="r" b="b"/>
                <a:pathLst>
                  <a:path w="194" h="223">
                    <a:moveTo>
                      <a:pt x="0" y="120"/>
                    </a:moveTo>
                    <a:lnTo>
                      <a:pt x="82" y="0"/>
                    </a:lnTo>
                    <a:lnTo>
                      <a:pt x="194" y="120"/>
                    </a:lnTo>
                    <a:lnTo>
                      <a:pt x="100" y="2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89680" y="4086720"/>
              <a:ext cx="949680" cy="807480"/>
              <a:chOff x="589680" y="4086720"/>
              <a:chExt cx="949680" cy="80748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884520" y="4600440"/>
                <a:ext cx="232560" cy="2692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1074600" y="4673880"/>
                <a:ext cx="189720" cy="22032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1243440" y="4331160"/>
                <a:ext cx="295920" cy="34272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694440" y="4134960"/>
                <a:ext cx="337680" cy="39240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159200" y="4184640"/>
                <a:ext cx="253080" cy="29376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610560" y="4233600"/>
                <a:ext cx="189720" cy="22032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89680" y="4405320"/>
                <a:ext cx="189720" cy="21960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73920" y="4477320"/>
                <a:ext cx="295560" cy="3430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927360" y="4086720"/>
                <a:ext cx="295560" cy="34272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1285920" y="4527000"/>
                <a:ext cx="231840" cy="2692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1222560" y="4650120"/>
                <a:ext cx="210960" cy="2440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66720" y="4191120"/>
                <a:ext cx="819360" cy="637560"/>
              </a:xfrm>
              <a:custGeom>
                <a:avLst/>
                <a:gdLst/>
                <a:ahLst/>
                <a:rect l="l" t="t" r="r" b="b"/>
                <a:pathLst>
                  <a:path w="2716" h="1875">
                    <a:moveTo>
                      <a:pt x="837" y="188"/>
                    </a:moveTo>
                    <a:lnTo>
                      <a:pt x="951" y="54"/>
                    </a:lnTo>
                    <a:lnTo>
                      <a:pt x="1458" y="62"/>
                    </a:lnTo>
                    <a:lnTo>
                      <a:pt x="1817" y="0"/>
                    </a:lnTo>
                    <a:lnTo>
                      <a:pt x="2271" y="224"/>
                    </a:lnTo>
                    <a:lnTo>
                      <a:pt x="2497" y="161"/>
                    </a:lnTo>
                    <a:lnTo>
                      <a:pt x="2620" y="188"/>
                    </a:lnTo>
                    <a:lnTo>
                      <a:pt x="2646" y="744"/>
                    </a:lnTo>
                    <a:lnTo>
                      <a:pt x="2716" y="833"/>
                    </a:lnTo>
                    <a:lnTo>
                      <a:pt x="2507" y="1265"/>
                    </a:lnTo>
                    <a:lnTo>
                      <a:pt x="2279" y="968"/>
                    </a:lnTo>
                    <a:lnTo>
                      <a:pt x="2217" y="1121"/>
                    </a:lnTo>
                    <a:lnTo>
                      <a:pt x="1896" y="1713"/>
                    </a:lnTo>
                    <a:lnTo>
                      <a:pt x="820" y="1875"/>
                    </a:lnTo>
                    <a:lnTo>
                      <a:pt x="262" y="1758"/>
                    </a:lnTo>
                    <a:lnTo>
                      <a:pt x="87" y="1390"/>
                    </a:lnTo>
                    <a:lnTo>
                      <a:pt x="87" y="1013"/>
                    </a:lnTo>
                    <a:lnTo>
                      <a:pt x="0" y="699"/>
                    </a:lnTo>
                    <a:lnTo>
                      <a:pt x="837" y="18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2016000" y="4161960"/>
            <a:ext cx="1300320" cy="808200"/>
            <a:chOff x="2016000" y="4161960"/>
            <a:chExt cx="1300320" cy="808200"/>
          </a:xfrm>
        </p:grpSpPr>
        <p:grpSp>
          <p:nvGrpSpPr>
            <p:cNvPr id="310" name=""/>
            <p:cNvGrpSpPr/>
            <p:nvPr/>
          </p:nvGrpSpPr>
          <p:grpSpPr>
            <a:xfrm>
              <a:off x="2773440" y="4198680"/>
              <a:ext cx="542880" cy="698040"/>
              <a:chOff x="2773440" y="4198680"/>
              <a:chExt cx="542880" cy="6980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2979000" y="4332960"/>
                <a:ext cx="337320" cy="563760"/>
                <a:chOff x="2979000" y="4332960"/>
                <a:chExt cx="337320" cy="563760"/>
              </a:xfrm>
            </p:grpSpPr>
            <p:grpSp>
              <p:nvGrpSpPr>
                <p:cNvPr id="312" name=""/>
                <p:cNvGrpSpPr/>
                <p:nvPr/>
              </p:nvGrpSpPr>
              <p:grpSpPr>
                <a:xfrm>
                  <a:off x="3063600" y="4407120"/>
                  <a:ext cx="252720" cy="416160"/>
                  <a:chOff x="3063600" y="4407120"/>
                  <a:chExt cx="252720" cy="41616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063600" y="4407120"/>
                    <a:ext cx="252720" cy="416160"/>
                    <a:chOff x="3063600" y="4407120"/>
                    <a:chExt cx="252720" cy="416160"/>
                  </a:xfrm>
                </p:grpSpPr>
                <p:grpSp>
                  <p:nvGrpSpPr>
                    <p:cNvPr id="314" name=""/>
                    <p:cNvGrpSpPr/>
                    <p:nvPr/>
                  </p:nvGrpSpPr>
                  <p:grpSpPr>
                    <a:xfrm>
                      <a:off x="3126960" y="4456800"/>
                      <a:ext cx="189360" cy="342000"/>
                      <a:chOff x="3126960" y="4456800"/>
                      <a:chExt cx="189360" cy="342000"/>
                    </a:xfrm>
                  </p:grpSpPr>
                  <p:grpSp>
                    <p:nvGrpSpPr>
                      <p:cNvPr id="315" name=""/>
                      <p:cNvGrpSpPr/>
                      <p:nvPr/>
                    </p:nvGrpSpPr>
                    <p:grpSpPr>
                      <a:xfrm>
                        <a:off x="3147840" y="4456800"/>
                        <a:ext cx="168480" cy="342000"/>
                        <a:chOff x="3147840" y="4456800"/>
                        <a:chExt cx="168480" cy="342000"/>
                      </a:xfrm>
                    </p:grpSpPr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 flipV="1">
                          <a:off x="3232440" y="4505400"/>
                          <a:ext cx="83880" cy="9792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 flipV="1">
                          <a:off x="3168360" y="4456800"/>
                          <a:ext cx="105840" cy="12240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 flipV="1">
                          <a:off x="3211200" y="4627440"/>
                          <a:ext cx="83880" cy="9864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9" name=""/>
                        <p:cNvSpPr/>
                        <p:nvPr/>
                      </p:nvSpPr>
                      <p:spPr>
                        <a:xfrm flipV="1">
                          <a:off x="3147840" y="4676400"/>
                          <a:ext cx="105840" cy="12240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 flipV="1">
                          <a:off x="3213720" y="4528080"/>
                          <a:ext cx="71640" cy="19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8" h="574">
                              <a:moveTo>
                                <a:pt x="238" y="569"/>
                              </a:moveTo>
                              <a:lnTo>
                                <a:pt x="138" y="574"/>
                              </a:lnTo>
                              <a:lnTo>
                                <a:pt x="0" y="0"/>
                              </a:lnTo>
                              <a:lnTo>
                                <a:pt x="147" y="46"/>
                              </a:lnTo>
                              <a:lnTo>
                                <a:pt x="151" y="327"/>
                              </a:lnTo>
                              <a:lnTo>
                                <a:pt x="238" y="56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21" name=""/>
                      <p:cNvSpPr/>
                      <p:nvPr/>
                    </p:nvSpPr>
                    <p:spPr>
                      <a:xfrm flipV="1">
                        <a:off x="3126960" y="4529520"/>
                        <a:ext cx="147600" cy="171360"/>
                      </a:xfrm>
                      <a:prstGeom prst="ellipse">
                        <a:avLst/>
                      </a:prstGeom>
                      <a:solidFill>
                        <a:srgbClr val="eaeaea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 flipV="1">
                        <a:off x="3126960" y="4480200"/>
                        <a:ext cx="105480" cy="123120"/>
                      </a:xfrm>
                      <a:prstGeom prst="ellipse">
                        <a:avLst/>
                      </a:prstGeom>
                      <a:solidFill>
                        <a:srgbClr val="eaeaea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 flipV="1">
                        <a:off x="3158640" y="4534920"/>
                        <a:ext cx="75600" cy="20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" h="617">
                            <a:moveTo>
                              <a:pt x="229" y="103"/>
                            </a:moveTo>
                            <a:lnTo>
                              <a:pt x="199" y="236"/>
                            </a:lnTo>
                            <a:lnTo>
                              <a:pt x="252" y="533"/>
                            </a:lnTo>
                            <a:lnTo>
                              <a:pt x="151" y="617"/>
                            </a:lnTo>
                            <a:lnTo>
                              <a:pt x="0" y="260"/>
                            </a:lnTo>
                            <a:lnTo>
                              <a:pt x="121" y="0"/>
                            </a:lnTo>
                            <a:lnTo>
                              <a:pt x="229" y="103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24" name=""/>
                    <p:cNvSpPr/>
                    <p:nvPr/>
                  </p:nvSpPr>
                  <p:spPr>
                    <a:xfrm flipV="1">
                      <a:off x="3126960" y="4407120"/>
                      <a:ext cx="83880" cy="9792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V="1">
                      <a:off x="3063600" y="4700160"/>
                      <a:ext cx="105480" cy="12312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V="1">
                      <a:off x="3151440" y="4480560"/>
                      <a:ext cx="5580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28">
                          <a:moveTo>
                            <a:pt x="185" y="80"/>
                          </a:moveTo>
                          <a:lnTo>
                            <a:pt x="129" y="128"/>
                          </a:lnTo>
                          <a:lnTo>
                            <a:pt x="0" y="62"/>
                          </a:lnTo>
                          <a:lnTo>
                            <a:pt x="129" y="0"/>
                          </a:lnTo>
                          <a:lnTo>
                            <a:pt x="185" y="80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7" name=""/>
                  <p:cNvSpPr/>
                  <p:nvPr/>
                </p:nvSpPr>
                <p:spPr>
                  <a:xfrm flipV="1">
                    <a:off x="3143520" y="4697640"/>
                    <a:ext cx="334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203">
                        <a:moveTo>
                          <a:pt x="56" y="0"/>
                        </a:moveTo>
                        <a:lnTo>
                          <a:pt x="112" y="4"/>
                        </a:lnTo>
                        <a:lnTo>
                          <a:pt x="90" y="203"/>
                        </a:lnTo>
                        <a:lnTo>
                          <a:pt x="0" y="163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2979000" y="4383000"/>
                  <a:ext cx="231840" cy="513720"/>
                  <a:chOff x="2979000" y="4383000"/>
                  <a:chExt cx="231840" cy="51372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flipV="1">
                    <a:off x="2999880" y="4383000"/>
                    <a:ext cx="190080" cy="2203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V="1">
                    <a:off x="3021120" y="4529520"/>
                    <a:ext cx="189720" cy="2203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V="1">
                    <a:off x="2979000" y="4724640"/>
                    <a:ext cx="148320" cy="17208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V="1">
                    <a:off x="3063600" y="4700880"/>
                    <a:ext cx="84240" cy="979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V="1">
                    <a:off x="3022920" y="4624200"/>
                    <a:ext cx="12672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560">
                        <a:moveTo>
                          <a:pt x="300" y="22"/>
                        </a:moveTo>
                        <a:lnTo>
                          <a:pt x="295" y="91"/>
                        </a:lnTo>
                        <a:lnTo>
                          <a:pt x="395" y="215"/>
                        </a:lnTo>
                        <a:lnTo>
                          <a:pt x="422" y="228"/>
                        </a:lnTo>
                        <a:lnTo>
                          <a:pt x="274" y="560"/>
                        </a:lnTo>
                        <a:lnTo>
                          <a:pt x="0" y="0"/>
                        </a:lnTo>
                        <a:lnTo>
                          <a:pt x="300" y="22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V="1">
                    <a:off x="3081960" y="4504320"/>
                    <a:ext cx="83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7" h="169">
                        <a:moveTo>
                          <a:pt x="246" y="23"/>
                        </a:moveTo>
                        <a:lnTo>
                          <a:pt x="277" y="75"/>
                        </a:lnTo>
                        <a:lnTo>
                          <a:pt x="0" y="169"/>
                        </a:lnTo>
                        <a:lnTo>
                          <a:pt x="8" y="0"/>
                        </a:lnTo>
                        <a:lnTo>
                          <a:pt x="246" y="23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 flipV="1">
                  <a:off x="2979000" y="4332960"/>
                  <a:ext cx="105480" cy="1231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3046320" y="4399560"/>
                  <a:ext cx="56520" cy="66600"/>
                </a:xfrm>
                <a:custGeom>
                  <a:avLst/>
                  <a:gdLst/>
                  <a:ahLst/>
                  <a:rect l="l" t="t" r="r" b="b"/>
                  <a:pathLst>
                    <a:path w="189" h="197">
                      <a:moveTo>
                        <a:pt x="77" y="197"/>
                      </a:moveTo>
                      <a:lnTo>
                        <a:pt x="189" y="130"/>
                      </a:lnTo>
                      <a:lnTo>
                        <a:pt x="59" y="0"/>
                      </a:lnTo>
                      <a:lnTo>
                        <a:pt x="0" y="72"/>
                      </a:lnTo>
                      <a:lnTo>
                        <a:pt x="77" y="19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 flipV="1">
                <a:off x="2773440" y="4198680"/>
                <a:ext cx="126720" cy="1468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2873520" y="4223160"/>
                <a:ext cx="106200" cy="12240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2931480" y="4262760"/>
                <a:ext cx="106200" cy="12312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2848680" y="4240440"/>
                <a:ext cx="204840" cy="161280"/>
              </a:xfrm>
              <a:custGeom>
                <a:avLst/>
                <a:gdLst/>
                <a:ahLst/>
                <a:rect l="l" t="t" r="r" b="b"/>
                <a:pathLst>
                  <a:path w="680" h="474">
                    <a:moveTo>
                      <a:pt x="632" y="138"/>
                    </a:moveTo>
                    <a:lnTo>
                      <a:pt x="570" y="170"/>
                    </a:lnTo>
                    <a:lnTo>
                      <a:pt x="388" y="358"/>
                    </a:lnTo>
                    <a:lnTo>
                      <a:pt x="344" y="438"/>
                    </a:lnTo>
                    <a:lnTo>
                      <a:pt x="144" y="438"/>
                    </a:lnTo>
                    <a:lnTo>
                      <a:pt x="101" y="474"/>
                    </a:lnTo>
                    <a:lnTo>
                      <a:pt x="0" y="336"/>
                    </a:lnTo>
                    <a:lnTo>
                      <a:pt x="458" y="0"/>
                    </a:lnTo>
                    <a:lnTo>
                      <a:pt x="680" y="77"/>
                    </a:lnTo>
                    <a:lnTo>
                      <a:pt x="632" y="13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016000" y="4407120"/>
              <a:ext cx="329040" cy="484920"/>
              <a:chOff x="2016000" y="4407120"/>
              <a:chExt cx="329040" cy="4849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016000" y="4529520"/>
                <a:ext cx="181800" cy="294120"/>
                <a:chOff x="2016000" y="4529520"/>
                <a:chExt cx="181800" cy="294120"/>
              </a:xfrm>
            </p:grpSpPr>
            <p:sp>
              <p:nvSpPr>
                <p:cNvPr id="343" name=""/>
                <p:cNvSpPr/>
                <p:nvPr/>
              </p:nvSpPr>
              <p:spPr>
                <a:xfrm flipV="1">
                  <a:off x="2016000" y="4627800"/>
                  <a:ext cx="84600" cy="9864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2028960" y="4529520"/>
                  <a:ext cx="105480" cy="12240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2050200" y="4651560"/>
                  <a:ext cx="147600" cy="1717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2041920" y="4618440"/>
                  <a:ext cx="55440" cy="93960"/>
                </a:xfrm>
                <a:custGeom>
                  <a:avLst/>
                  <a:gdLst/>
                  <a:ahLst/>
                  <a:rect l="l" t="t" r="r" b="b"/>
                  <a:pathLst>
                    <a:path w="184" h="276">
                      <a:moveTo>
                        <a:pt x="107" y="0"/>
                      </a:moveTo>
                      <a:lnTo>
                        <a:pt x="0" y="54"/>
                      </a:lnTo>
                      <a:lnTo>
                        <a:pt x="3" y="222"/>
                      </a:lnTo>
                      <a:lnTo>
                        <a:pt x="39" y="276"/>
                      </a:lnTo>
                      <a:lnTo>
                        <a:pt x="184" y="222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2071440" y="4407120"/>
                <a:ext cx="273600" cy="484920"/>
                <a:chOff x="2071440" y="4407120"/>
                <a:chExt cx="273600" cy="484920"/>
              </a:xfrm>
            </p:grpSpPr>
            <p:sp>
              <p:nvSpPr>
                <p:cNvPr id="348" name=""/>
                <p:cNvSpPr/>
                <p:nvPr/>
              </p:nvSpPr>
              <p:spPr>
                <a:xfrm flipV="1">
                  <a:off x="2155680" y="4652280"/>
                  <a:ext cx="189360" cy="2203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2071440" y="4602960"/>
                  <a:ext cx="106200" cy="1231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2092320" y="4480560"/>
                  <a:ext cx="148320" cy="17136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2134800" y="4407120"/>
                  <a:ext cx="147960" cy="17208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2145600" y="4622040"/>
                  <a:ext cx="132120" cy="14976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2250720" y="4794840"/>
                  <a:ext cx="84240" cy="9720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V="1">
                  <a:off x="2186640" y="4719240"/>
                  <a:ext cx="92880" cy="77400"/>
                </a:xfrm>
                <a:custGeom>
                  <a:avLst/>
                  <a:gdLst/>
                  <a:ahLst/>
                  <a:rect l="l" t="t" r="r" b="b"/>
                  <a:pathLst>
                    <a:path w="308" h="227">
                      <a:moveTo>
                        <a:pt x="0" y="61"/>
                      </a:moveTo>
                      <a:lnTo>
                        <a:pt x="39" y="169"/>
                      </a:lnTo>
                      <a:lnTo>
                        <a:pt x="308" y="227"/>
                      </a:lnTo>
                      <a:lnTo>
                        <a:pt x="308" y="85"/>
                      </a:lnTo>
                      <a:lnTo>
                        <a:pt x="18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2100960" y="4520520"/>
                  <a:ext cx="106200" cy="150840"/>
                </a:xfrm>
                <a:custGeom>
                  <a:avLst/>
                  <a:gdLst/>
                  <a:ahLst/>
                  <a:rect l="l" t="t" r="r" b="b"/>
                  <a:pathLst>
                    <a:path w="352" h="443">
                      <a:moveTo>
                        <a:pt x="217" y="0"/>
                      </a:moveTo>
                      <a:lnTo>
                        <a:pt x="0" y="112"/>
                      </a:lnTo>
                      <a:lnTo>
                        <a:pt x="91" y="201"/>
                      </a:lnTo>
                      <a:lnTo>
                        <a:pt x="104" y="416"/>
                      </a:lnTo>
                      <a:lnTo>
                        <a:pt x="156" y="443"/>
                      </a:lnTo>
                      <a:lnTo>
                        <a:pt x="338" y="305"/>
                      </a:lnTo>
                      <a:lnTo>
                        <a:pt x="352" y="46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 flipV="1">
                <a:off x="2247120" y="4764240"/>
                <a:ext cx="59040" cy="75600"/>
              </a:xfrm>
              <a:custGeom>
                <a:avLst/>
                <a:gdLst/>
                <a:ahLst/>
                <a:rect l="l" t="t" r="r" b="b"/>
                <a:pathLst>
                  <a:path w="194" h="223">
                    <a:moveTo>
                      <a:pt x="0" y="120"/>
                    </a:moveTo>
                    <a:lnTo>
                      <a:pt x="82" y="0"/>
                    </a:lnTo>
                    <a:lnTo>
                      <a:pt x="194" y="120"/>
                    </a:lnTo>
                    <a:lnTo>
                      <a:pt x="100" y="2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176920" y="4161960"/>
              <a:ext cx="950400" cy="808200"/>
              <a:chOff x="2176920" y="4161960"/>
              <a:chExt cx="950400" cy="808200"/>
            </a:xfrm>
          </p:grpSpPr>
          <p:sp>
            <p:nvSpPr>
              <p:cNvPr id="358" name=""/>
              <p:cNvSpPr/>
              <p:nvPr/>
            </p:nvSpPr>
            <p:spPr>
              <a:xfrm flipV="1">
                <a:off x="2471760" y="4675680"/>
                <a:ext cx="232920" cy="26964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2661840" y="4749120"/>
                <a:ext cx="190080" cy="2206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2831040" y="4406040"/>
                <a:ext cx="296280" cy="3430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2281680" y="4210200"/>
                <a:ext cx="338040" cy="39276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2746440" y="4259880"/>
                <a:ext cx="253440" cy="29412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2197800" y="4308480"/>
                <a:ext cx="190080" cy="2206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176920" y="4480920"/>
                <a:ext cx="190080" cy="21960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2261160" y="4553280"/>
                <a:ext cx="295560" cy="3430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2514600" y="4161600"/>
                <a:ext cx="295560" cy="3430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873160" y="4602240"/>
                <a:ext cx="232200" cy="26964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2809800" y="4725360"/>
                <a:ext cx="210960" cy="24444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2253960" y="4267080"/>
                <a:ext cx="819720" cy="637920"/>
              </a:xfrm>
              <a:custGeom>
                <a:avLst/>
                <a:gdLst/>
                <a:ahLst/>
                <a:rect l="l" t="t" r="r" b="b"/>
                <a:pathLst>
                  <a:path w="2716" h="1875">
                    <a:moveTo>
                      <a:pt x="837" y="188"/>
                    </a:moveTo>
                    <a:lnTo>
                      <a:pt x="951" y="54"/>
                    </a:lnTo>
                    <a:lnTo>
                      <a:pt x="1458" y="62"/>
                    </a:lnTo>
                    <a:lnTo>
                      <a:pt x="1817" y="0"/>
                    </a:lnTo>
                    <a:lnTo>
                      <a:pt x="2271" y="224"/>
                    </a:lnTo>
                    <a:lnTo>
                      <a:pt x="2497" y="161"/>
                    </a:lnTo>
                    <a:lnTo>
                      <a:pt x="2620" y="188"/>
                    </a:lnTo>
                    <a:lnTo>
                      <a:pt x="2646" y="744"/>
                    </a:lnTo>
                    <a:lnTo>
                      <a:pt x="2716" y="833"/>
                    </a:lnTo>
                    <a:lnTo>
                      <a:pt x="2507" y="1265"/>
                    </a:lnTo>
                    <a:lnTo>
                      <a:pt x="2279" y="968"/>
                    </a:lnTo>
                    <a:lnTo>
                      <a:pt x="2217" y="1121"/>
                    </a:lnTo>
                    <a:lnTo>
                      <a:pt x="1896" y="1713"/>
                    </a:lnTo>
                    <a:lnTo>
                      <a:pt x="820" y="1875"/>
                    </a:lnTo>
                    <a:lnTo>
                      <a:pt x="262" y="1758"/>
                    </a:lnTo>
                    <a:lnTo>
                      <a:pt x="87" y="1390"/>
                    </a:lnTo>
                    <a:lnTo>
                      <a:pt x="87" y="1013"/>
                    </a:lnTo>
                    <a:lnTo>
                      <a:pt x="0" y="699"/>
                    </a:lnTo>
                    <a:lnTo>
                      <a:pt x="837" y="18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1222200" y="4848120"/>
            <a:ext cx="114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373480" y="4975200"/>
            <a:ext cx="35064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85640" y="4924440"/>
            <a:ext cx="540000" cy="488520"/>
            <a:chOff x="485640" y="4924440"/>
            <a:chExt cx="540000" cy="488520"/>
          </a:xfrm>
        </p:grpSpPr>
        <p:grpSp>
          <p:nvGrpSpPr>
            <p:cNvPr id="373" name=""/>
            <p:cNvGrpSpPr/>
            <p:nvPr/>
          </p:nvGrpSpPr>
          <p:grpSpPr>
            <a:xfrm>
              <a:off x="570960" y="4924440"/>
              <a:ext cx="366480" cy="488520"/>
              <a:chOff x="570960" y="4924440"/>
              <a:chExt cx="366480" cy="488520"/>
            </a:xfrm>
          </p:grpSpPr>
          <p:sp>
            <p:nvSpPr>
              <p:cNvPr id="374" name=""/>
              <p:cNvSpPr/>
              <p:nvPr/>
            </p:nvSpPr>
            <p:spPr>
              <a:xfrm>
                <a:off x="570960" y="4981320"/>
                <a:ext cx="363600" cy="429840"/>
              </a:xfrm>
              <a:custGeom>
                <a:avLst/>
                <a:gdLst/>
                <a:ahLst/>
                <a:rect l="l" t="t" r="r" b="b"/>
                <a:pathLst>
                  <a:path w="242" h="271">
                    <a:moveTo>
                      <a:pt x="0" y="0"/>
                    </a:moveTo>
                    <a:lnTo>
                      <a:pt x="0" y="265"/>
                    </a:lnTo>
                    <a:lnTo>
                      <a:pt x="5" y="270"/>
                    </a:lnTo>
                    <a:lnTo>
                      <a:pt x="237" y="265"/>
                    </a:lnTo>
                    <a:lnTo>
                      <a:pt x="239" y="256"/>
                    </a:lnTo>
                    <a:lnTo>
                      <a:pt x="241" y="5"/>
                    </a:lnTo>
                    <a:lnTo>
                      <a:pt x="2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9960" y="4981320"/>
                <a:ext cx="357480" cy="423360"/>
              </a:xfrm>
              <a:custGeom>
                <a:avLst/>
                <a:gdLst/>
                <a:ahLst/>
                <a:rect l="l" t="t" r="r" b="b"/>
                <a:pathLst>
                  <a:path w="238" h="267">
                    <a:moveTo>
                      <a:pt x="0" y="0"/>
                    </a:moveTo>
                    <a:lnTo>
                      <a:pt x="237" y="0"/>
                    </a:lnTo>
                    <a:lnTo>
                      <a:pt x="237" y="266"/>
                    </a:lnTo>
                    <a:lnTo>
                      <a:pt x="0" y="26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6520" y="5000400"/>
                <a:ext cx="322920" cy="412560"/>
              </a:xfrm>
              <a:custGeom>
                <a:avLst/>
                <a:gdLst/>
                <a:ahLst/>
                <a:rect l="l" t="t" r="r" b="b"/>
                <a:pathLst>
                  <a:path w="215" h="260">
                    <a:moveTo>
                      <a:pt x="0" y="0"/>
                    </a:moveTo>
                    <a:lnTo>
                      <a:pt x="214" y="0"/>
                    </a:lnTo>
                    <a:lnTo>
                      <a:pt x="214" y="259"/>
                    </a:lnTo>
                    <a:lnTo>
                      <a:pt x="0" y="25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2400" y="4989240"/>
                <a:ext cx="0" cy="1440"/>
              </a:xfrm>
              <a:prstGeom prst="line">
                <a:avLst/>
              </a:prstGeom>
              <a:ln w="12600">
                <a:solidFill>
                  <a:srgbClr val="83d0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85880" y="5011560"/>
                <a:ext cx="109440" cy="26640"/>
              </a:xfrm>
              <a:custGeom>
                <a:avLst/>
                <a:gdLst/>
                <a:ahLst/>
                <a:rect l="l" t="t" r="r" b="b"/>
                <a:pathLst>
                  <a:path w="73" h="17">
                    <a:moveTo>
                      <a:pt x="0" y="0"/>
                    </a:moveTo>
                    <a:lnTo>
                      <a:pt x="72" y="0"/>
                    </a:lnTo>
                    <a:lnTo>
                      <a:pt x="7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9960" y="4997160"/>
                <a:ext cx="0" cy="2880"/>
              </a:xfrm>
              <a:prstGeom prst="line">
                <a:avLst/>
              </a:prstGeom>
              <a:ln w="12600">
                <a:solidFill>
                  <a:srgbClr val="83d0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93440" y="5019480"/>
                <a:ext cx="109440" cy="26640"/>
              </a:xfrm>
              <a:custGeom>
                <a:avLst/>
                <a:gdLst/>
                <a:ahLst/>
                <a:rect l="l" t="t" r="r" b="b"/>
                <a:pathLst>
                  <a:path w="73" h="17">
                    <a:moveTo>
                      <a:pt x="0" y="0"/>
                    </a:moveTo>
                    <a:lnTo>
                      <a:pt x="72" y="0"/>
                    </a:lnTo>
                    <a:lnTo>
                      <a:pt x="7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88120" y="4924440"/>
                <a:ext cx="25560" cy="6336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16" y="39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16" y="39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485640" y="5060880"/>
              <a:ext cx="54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828880" y="5762520"/>
            <a:ext cx="353880" cy="295200"/>
            <a:chOff x="2828880" y="5762520"/>
            <a:chExt cx="353880" cy="295200"/>
          </a:xfrm>
        </p:grpSpPr>
        <p:grpSp>
          <p:nvGrpSpPr>
            <p:cNvPr id="384" name=""/>
            <p:cNvGrpSpPr/>
            <p:nvPr/>
          </p:nvGrpSpPr>
          <p:grpSpPr>
            <a:xfrm>
              <a:off x="2828880" y="5762520"/>
              <a:ext cx="353880" cy="126720"/>
              <a:chOff x="2828880" y="5762520"/>
              <a:chExt cx="353880" cy="126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830320" y="5849640"/>
                <a:ext cx="93960" cy="39600"/>
              </a:xfrm>
              <a:custGeom>
                <a:avLst/>
                <a:gdLst/>
                <a:ahLst/>
                <a:rect l="l" t="t" r="r" b="b"/>
                <a:pathLst>
                  <a:path w="63" h="25">
                    <a:moveTo>
                      <a:pt x="4" y="24"/>
                    </a:moveTo>
                    <a:lnTo>
                      <a:pt x="0" y="7"/>
                    </a:lnTo>
                    <a:lnTo>
                      <a:pt x="60" y="0"/>
                    </a:lnTo>
                    <a:lnTo>
                      <a:pt x="62" y="16"/>
                    </a:lnTo>
                    <a:lnTo>
                      <a:pt x="4" y="24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28880" y="5762520"/>
                <a:ext cx="353880" cy="99720"/>
              </a:xfrm>
              <a:custGeom>
                <a:avLst/>
                <a:gdLst/>
                <a:ahLst/>
                <a:rect l="l" t="t" r="r" b="b"/>
                <a:pathLst>
                  <a:path w="236" h="63">
                    <a:moveTo>
                      <a:pt x="0" y="62"/>
                    </a:moveTo>
                    <a:lnTo>
                      <a:pt x="2" y="34"/>
                    </a:lnTo>
                    <a:lnTo>
                      <a:pt x="16" y="16"/>
                    </a:lnTo>
                    <a:lnTo>
                      <a:pt x="54" y="5"/>
                    </a:lnTo>
                    <a:lnTo>
                      <a:pt x="95" y="1"/>
                    </a:lnTo>
                    <a:lnTo>
                      <a:pt x="127" y="0"/>
                    </a:lnTo>
                    <a:lnTo>
                      <a:pt x="162" y="3"/>
                    </a:lnTo>
                    <a:lnTo>
                      <a:pt x="189" y="9"/>
                    </a:lnTo>
                    <a:lnTo>
                      <a:pt x="215" y="17"/>
                    </a:lnTo>
                    <a:lnTo>
                      <a:pt x="228" y="32"/>
                    </a:lnTo>
                    <a:lnTo>
                      <a:pt x="235" y="59"/>
                    </a:lnTo>
                    <a:lnTo>
                      <a:pt x="176" y="57"/>
                    </a:lnTo>
                    <a:lnTo>
                      <a:pt x="180" y="39"/>
                    </a:lnTo>
                    <a:lnTo>
                      <a:pt x="164" y="34"/>
                    </a:lnTo>
                    <a:lnTo>
                      <a:pt x="149" y="31"/>
                    </a:lnTo>
                    <a:lnTo>
                      <a:pt x="126" y="29"/>
                    </a:lnTo>
                    <a:lnTo>
                      <a:pt x="94" y="29"/>
                    </a:lnTo>
                    <a:lnTo>
                      <a:pt x="70" y="33"/>
                    </a:lnTo>
                    <a:lnTo>
                      <a:pt x="54" y="36"/>
                    </a:lnTo>
                    <a:lnTo>
                      <a:pt x="59" y="54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094200" y="5852880"/>
                <a:ext cx="86400" cy="3024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0" y="0"/>
                    </a:moveTo>
                    <a:lnTo>
                      <a:pt x="57" y="2"/>
                    </a:lnTo>
                    <a:lnTo>
                      <a:pt x="54" y="18"/>
                    </a:lnTo>
                    <a:lnTo>
                      <a:pt x="2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2907000" y="5827320"/>
              <a:ext cx="201960" cy="165240"/>
            </a:xfrm>
            <a:custGeom>
              <a:avLst/>
              <a:gdLst/>
              <a:ahLst/>
              <a:rect l="l" t="t" r="r" b="b"/>
              <a:pathLst>
                <a:path w="135" h="104">
                  <a:moveTo>
                    <a:pt x="0" y="103"/>
                  </a:moveTo>
                  <a:lnTo>
                    <a:pt x="12" y="0"/>
                  </a:lnTo>
                  <a:lnTo>
                    <a:pt x="121" y="0"/>
                  </a:lnTo>
                  <a:lnTo>
                    <a:pt x="134" y="103"/>
                  </a:lnTo>
                  <a:lnTo>
                    <a:pt x="0" y="103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87200" y="5989320"/>
              <a:ext cx="236880" cy="68400"/>
            </a:xfrm>
            <a:custGeom>
              <a:avLst/>
              <a:gdLst/>
              <a:ahLst/>
              <a:rect l="l" t="t" r="r" b="b"/>
              <a:pathLst>
                <a:path w="158" h="43">
                  <a:moveTo>
                    <a:pt x="12" y="0"/>
                  </a:moveTo>
                  <a:lnTo>
                    <a:pt x="144" y="0"/>
                  </a:lnTo>
                  <a:lnTo>
                    <a:pt x="157" y="42"/>
                  </a:lnTo>
                  <a:lnTo>
                    <a:pt x="0" y="42"/>
                  </a:lnTo>
                  <a:lnTo>
                    <a:pt x="12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87200" y="5825880"/>
              <a:ext cx="38880" cy="231840"/>
            </a:xfrm>
            <a:custGeom>
              <a:avLst/>
              <a:gdLst/>
              <a:ahLst/>
              <a:rect l="l" t="t" r="r" b="b"/>
              <a:pathLst>
                <a:path w="26" h="146">
                  <a:moveTo>
                    <a:pt x="12" y="103"/>
                  </a:moveTo>
                  <a:lnTo>
                    <a:pt x="0" y="145"/>
                  </a:lnTo>
                  <a:lnTo>
                    <a:pt x="13" y="42"/>
                  </a:lnTo>
                  <a:lnTo>
                    <a:pt x="25" y="0"/>
                  </a:lnTo>
                  <a:lnTo>
                    <a:pt x="12" y="103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85200" y="5824440"/>
              <a:ext cx="38880" cy="231480"/>
            </a:xfrm>
            <a:custGeom>
              <a:avLst/>
              <a:gdLst/>
              <a:ahLst/>
              <a:rect l="l" t="t" r="r" b="b"/>
              <a:pathLst>
                <a:path w="26" h="146">
                  <a:moveTo>
                    <a:pt x="12" y="102"/>
                  </a:moveTo>
                  <a:lnTo>
                    <a:pt x="25" y="145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12" y="10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41200" y="5797440"/>
              <a:ext cx="3132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8"/>
                  </a:moveTo>
                  <a:lnTo>
                    <a:pt x="0" y="13"/>
                  </a:lnTo>
                  <a:lnTo>
                    <a:pt x="3" y="0"/>
                  </a:lnTo>
                  <a:lnTo>
                    <a:pt x="16" y="0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34080" y="5797440"/>
              <a:ext cx="3276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18"/>
                  </a:moveTo>
                  <a:lnTo>
                    <a:pt x="0" y="13"/>
                  </a:lnTo>
                  <a:lnTo>
                    <a:pt x="3" y="0"/>
                  </a:lnTo>
                  <a:lnTo>
                    <a:pt x="17" y="0"/>
                  </a:lnTo>
                  <a:lnTo>
                    <a:pt x="21" y="12"/>
                  </a:lnTo>
                  <a:lnTo>
                    <a:pt x="21" y="18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23200" y="5837040"/>
              <a:ext cx="169200" cy="139680"/>
            </a:xfrm>
            <a:custGeom>
              <a:avLst/>
              <a:gdLst/>
              <a:ahLst/>
              <a:rect l="l" t="t" r="r" b="b"/>
              <a:pathLst>
                <a:path w="113" h="88">
                  <a:moveTo>
                    <a:pt x="0" y="87"/>
                  </a:moveTo>
                  <a:lnTo>
                    <a:pt x="10" y="0"/>
                  </a:lnTo>
                  <a:lnTo>
                    <a:pt x="101" y="0"/>
                  </a:lnTo>
                  <a:lnTo>
                    <a:pt x="112" y="87"/>
                  </a:lnTo>
                  <a:lnTo>
                    <a:pt x="0" y="8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2968200" y="5865480"/>
              <a:ext cx="75960" cy="93600"/>
              <a:chOff x="2968200" y="5865480"/>
              <a:chExt cx="75960" cy="93600"/>
            </a:xfrm>
          </p:grpSpPr>
          <p:sp>
            <p:nvSpPr>
              <p:cNvPr id="396" name=""/>
              <p:cNvSpPr/>
              <p:nvPr/>
            </p:nvSpPr>
            <p:spPr>
              <a:xfrm>
                <a:off x="2968200" y="5865480"/>
                <a:ext cx="1476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998080" y="5865480"/>
                <a:ext cx="1476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29400" y="5865480"/>
                <a:ext cx="1476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968200" y="5892480"/>
                <a:ext cx="1476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98080" y="5892480"/>
                <a:ext cx="1476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029400" y="5892480"/>
                <a:ext cx="1476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968200" y="5919480"/>
                <a:ext cx="1476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98080" y="5919480"/>
                <a:ext cx="1476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029400" y="5919480"/>
                <a:ext cx="1476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68200" y="5945040"/>
                <a:ext cx="14760" cy="14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998080" y="5945040"/>
                <a:ext cx="14760" cy="14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29400" y="5945040"/>
                <a:ext cx="14760" cy="14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793800" y="5659560"/>
            <a:ext cx="255600" cy="703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68160" y="5545080"/>
            <a:ext cx="147960" cy="525600"/>
          </a:xfrm>
          <a:custGeom>
            <a:avLst/>
            <a:gdLst/>
            <a:ahLst/>
            <a:rect l="l" t="t" r="r" b="b"/>
            <a:pathLst>
              <a:path w="98" h="331">
                <a:moveTo>
                  <a:pt x="98" y="0"/>
                </a:moveTo>
                <a:cubicBezTo>
                  <a:pt x="52" y="22"/>
                  <a:pt x="6" y="45"/>
                  <a:pt x="3" y="71"/>
                </a:cubicBezTo>
                <a:cubicBezTo>
                  <a:pt x="0" y="97"/>
                  <a:pt x="78" y="126"/>
                  <a:pt x="82" y="157"/>
                </a:cubicBezTo>
                <a:cubicBezTo>
                  <a:pt x="86" y="188"/>
                  <a:pt x="31" y="231"/>
                  <a:pt x="27" y="260"/>
                </a:cubicBezTo>
                <a:cubicBezTo>
                  <a:pt x="23" y="289"/>
                  <a:pt x="44" y="318"/>
                  <a:pt x="58" y="33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19280" y="4390920"/>
            <a:ext cx="683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M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06880" y="4390920"/>
            <a:ext cx="654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7840" y="59277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119320" y="5545080"/>
            <a:ext cx="433080" cy="712440"/>
            <a:chOff x="2119320" y="5545080"/>
            <a:chExt cx="433080" cy="712440"/>
          </a:xfrm>
        </p:grpSpPr>
        <p:sp>
          <p:nvSpPr>
            <p:cNvPr id="414" name=""/>
            <p:cNvSpPr/>
            <p:nvPr/>
          </p:nvSpPr>
          <p:spPr>
            <a:xfrm>
              <a:off x="2122560" y="5545080"/>
              <a:ext cx="429840" cy="708840"/>
            </a:xfrm>
            <a:prstGeom prst="cube">
              <a:avLst>
                <a:gd name="adj" fmla="val 17384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560" y="5641560"/>
              <a:ext cx="361080" cy="61596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299" y="0"/>
                  </a:moveTo>
                  <a:lnTo>
                    <a:pt x="0" y="0"/>
                  </a:lnTo>
                  <a:lnTo>
                    <a:pt x="0" y="470"/>
                  </a:lnTo>
                  <a:lnTo>
                    <a:pt x="299" y="470"/>
                  </a:lnTo>
                  <a:lnTo>
                    <a:pt x="299" y="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122560" y="6103440"/>
              <a:ext cx="361080" cy="102600"/>
              <a:chOff x="2122560" y="6103440"/>
              <a:chExt cx="361080" cy="102600"/>
            </a:xfrm>
          </p:grpSpPr>
          <p:sp>
            <p:nvSpPr>
              <p:cNvPr id="417" name=""/>
              <p:cNvSpPr/>
              <p:nvPr/>
            </p:nvSpPr>
            <p:spPr>
              <a:xfrm>
                <a:off x="2122560" y="6103440"/>
                <a:ext cx="361080" cy="37440"/>
              </a:xfrm>
              <a:custGeom>
                <a:avLst/>
                <a:gdLst/>
                <a:ahLst/>
                <a:rect l="l" t="t" r="r" b="b"/>
                <a:pathLst>
                  <a:path w="300" h="29">
                    <a:moveTo>
                      <a:pt x="299" y="0"/>
                    </a:moveTo>
                    <a:lnTo>
                      <a:pt x="0" y="0"/>
                    </a:lnTo>
                    <a:lnTo>
                      <a:pt x="0" y="28"/>
                    </a:lnTo>
                    <a:lnTo>
                      <a:pt x="299" y="28"/>
                    </a:lnTo>
                    <a:lnTo>
                      <a:pt x="29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122560" y="6123960"/>
                <a:ext cx="361080" cy="38880"/>
              </a:xfrm>
              <a:custGeom>
                <a:avLst/>
                <a:gdLst/>
                <a:ahLst/>
                <a:rect l="l" t="t" r="r" b="b"/>
                <a:pathLst>
                  <a:path w="300" h="30">
                    <a:moveTo>
                      <a:pt x="299" y="0"/>
                    </a:moveTo>
                    <a:lnTo>
                      <a:pt x="0" y="0"/>
                    </a:lnTo>
                    <a:lnTo>
                      <a:pt x="0" y="29"/>
                    </a:lnTo>
                    <a:lnTo>
                      <a:pt x="299" y="29"/>
                    </a:lnTo>
                    <a:lnTo>
                      <a:pt x="29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122560" y="6143400"/>
                <a:ext cx="361080" cy="39240"/>
              </a:xfrm>
              <a:custGeom>
                <a:avLst/>
                <a:gdLst/>
                <a:ahLst/>
                <a:rect l="l" t="t" r="r" b="b"/>
                <a:pathLst>
                  <a:path w="300" h="30">
                    <a:moveTo>
                      <a:pt x="299" y="0"/>
                    </a:moveTo>
                    <a:lnTo>
                      <a:pt x="0" y="0"/>
                    </a:lnTo>
                    <a:lnTo>
                      <a:pt x="0" y="29"/>
                    </a:lnTo>
                    <a:lnTo>
                      <a:pt x="299" y="29"/>
                    </a:lnTo>
                    <a:lnTo>
                      <a:pt x="29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122560" y="6165720"/>
                <a:ext cx="361080" cy="40320"/>
              </a:xfrm>
              <a:custGeom>
                <a:avLst/>
                <a:gdLst/>
                <a:ahLst/>
                <a:rect l="l" t="t" r="r" b="b"/>
                <a:pathLst>
                  <a:path w="300" h="31">
                    <a:moveTo>
                      <a:pt x="299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299" y="30"/>
                    </a:lnTo>
                    <a:lnTo>
                      <a:pt x="29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2122560" y="5916240"/>
              <a:ext cx="361080" cy="37800"/>
            </a:xfrm>
            <a:custGeom>
              <a:avLst/>
              <a:gdLst/>
              <a:ahLst/>
              <a:rect l="l" t="t" r="r" b="b"/>
              <a:pathLst>
                <a:path w="300" h="29">
                  <a:moveTo>
                    <a:pt x="299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299" y="28"/>
                  </a:lnTo>
                  <a:lnTo>
                    <a:pt x="299" y="0"/>
                  </a:lnTo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20200" y="5683320"/>
              <a:ext cx="31320" cy="240480"/>
            </a:xfrm>
            <a:custGeom>
              <a:avLst/>
              <a:gdLst/>
              <a:ahLst/>
              <a:rect l="l" t="t" r="r" b="b"/>
              <a:pathLst>
                <a:path w="26" h="184">
                  <a:moveTo>
                    <a:pt x="25" y="18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25" y="183"/>
                  </a:lnTo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19320" y="5682240"/>
              <a:ext cx="363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37320" y="5722560"/>
              <a:ext cx="133560" cy="13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91120" y="5955480"/>
              <a:ext cx="55440" cy="1044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88880" y="5955480"/>
              <a:ext cx="61200" cy="1044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790560" y="4772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34600" y="31464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ndoor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VPN, PN, 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66720" y="3205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-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321160" y="3968280"/>
            <a:ext cx="1300320" cy="808200"/>
            <a:chOff x="5321160" y="3968280"/>
            <a:chExt cx="1300320" cy="808200"/>
          </a:xfrm>
        </p:grpSpPr>
        <p:grpSp>
          <p:nvGrpSpPr>
            <p:cNvPr id="431" name=""/>
            <p:cNvGrpSpPr/>
            <p:nvPr/>
          </p:nvGrpSpPr>
          <p:grpSpPr>
            <a:xfrm>
              <a:off x="6078600" y="4005000"/>
              <a:ext cx="542880" cy="698040"/>
              <a:chOff x="6078600" y="4005000"/>
              <a:chExt cx="542880" cy="69804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6284160" y="4139280"/>
                <a:ext cx="337320" cy="563760"/>
                <a:chOff x="6284160" y="4139280"/>
                <a:chExt cx="337320" cy="56376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6368760" y="4213440"/>
                  <a:ext cx="252720" cy="416160"/>
                  <a:chOff x="6368760" y="4213440"/>
                  <a:chExt cx="252720" cy="416160"/>
                </a:xfrm>
              </p:grpSpPr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6368760" y="4213440"/>
                    <a:ext cx="252720" cy="416160"/>
                    <a:chOff x="6368760" y="4213440"/>
                    <a:chExt cx="252720" cy="416160"/>
                  </a:xfrm>
                </p:grpSpPr>
                <p:grpSp>
                  <p:nvGrpSpPr>
                    <p:cNvPr id="435" name=""/>
                    <p:cNvGrpSpPr/>
                    <p:nvPr/>
                  </p:nvGrpSpPr>
                  <p:grpSpPr>
                    <a:xfrm>
                      <a:off x="6432120" y="4263120"/>
                      <a:ext cx="189360" cy="342000"/>
                      <a:chOff x="6432120" y="4263120"/>
                      <a:chExt cx="189360" cy="342000"/>
                    </a:xfrm>
                  </p:grpSpPr>
                  <p:grpSp>
                    <p:nvGrpSpPr>
                      <p:cNvPr id="436" name=""/>
                      <p:cNvGrpSpPr/>
                      <p:nvPr/>
                    </p:nvGrpSpPr>
                    <p:grpSpPr>
                      <a:xfrm>
                        <a:off x="6453000" y="4263120"/>
                        <a:ext cx="168480" cy="342000"/>
                        <a:chOff x="6453000" y="4263120"/>
                        <a:chExt cx="168480" cy="342000"/>
                      </a:xfrm>
                    </p:grpSpPr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 flipV="1">
                          <a:off x="6537600" y="4311720"/>
                          <a:ext cx="83880" cy="9792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 flipV="1">
                          <a:off x="6473520" y="4263120"/>
                          <a:ext cx="105840" cy="12240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 flipV="1">
                          <a:off x="6516360" y="4433760"/>
                          <a:ext cx="83880" cy="9864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 flipV="1">
                          <a:off x="6453000" y="4482720"/>
                          <a:ext cx="105840" cy="12240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 flipV="1">
                          <a:off x="6518880" y="4334400"/>
                          <a:ext cx="71640" cy="19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8" h="574">
                              <a:moveTo>
                                <a:pt x="238" y="569"/>
                              </a:moveTo>
                              <a:lnTo>
                                <a:pt x="138" y="574"/>
                              </a:lnTo>
                              <a:lnTo>
                                <a:pt x="0" y="0"/>
                              </a:lnTo>
                              <a:lnTo>
                                <a:pt x="147" y="46"/>
                              </a:lnTo>
                              <a:lnTo>
                                <a:pt x="151" y="327"/>
                              </a:lnTo>
                              <a:lnTo>
                                <a:pt x="238" y="56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 flipV="1">
                        <a:off x="6432120" y="4335840"/>
                        <a:ext cx="147600" cy="171360"/>
                      </a:xfrm>
                      <a:prstGeom prst="ellipse">
                        <a:avLst/>
                      </a:prstGeom>
                      <a:solidFill>
                        <a:srgbClr val="eaeaea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 flipV="1">
                        <a:off x="6432120" y="4286520"/>
                        <a:ext cx="105480" cy="123120"/>
                      </a:xfrm>
                      <a:prstGeom prst="ellipse">
                        <a:avLst/>
                      </a:prstGeom>
                      <a:solidFill>
                        <a:srgbClr val="eaeaea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 flipV="1">
                        <a:off x="6463800" y="4341240"/>
                        <a:ext cx="75600" cy="20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" h="617">
                            <a:moveTo>
                              <a:pt x="229" y="103"/>
                            </a:moveTo>
                            <a:lnTo>
                              <a:pt x="199" y="236"/>
                            </a:lnTo>
                            <a:lnTo>
                              <a:pt x="252" y="533"/>
                            </a:lnTo>
                            <a:lnTo>
                              <a:pt x="151" y="617"/>
                            </a:lnTo>
                            <a:lnTo>
                              <a:pt x="0" y="260"/>
                            </a:lnTo>
                            <a:lnTo>
                              <a:pt x="121" y="0"/>
                            </a:lnTo>
                            <a:lnTo>
                              <a:pt x="229" y="103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45" name=""/>
                    <p:cNvSpPr/>
                    <p:nvPr/>
                  </p:nvSpPr>
                  <p:spPr>
                    <a:xfrm flipV="1">
                      <a:off x="6432120" y="4213440"/>
                      <a:ext cx="83880" cy="9792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 flipV="1">
                      <a:off x="6368760" y="4506480"/>
                      <a:ext cx="105480" cy="12312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V="1">
                      <a:off x="6456600" y="4286880"/>
                      <a:ext cx="5580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28">
                          <a:moveTo>
                            <a:pt x="185" y="80"/>
                          </a:moveTo>
                          <a:lnTo>
                            <a:pt x="129" y="128"/>
                          </a:lnTo>
                          <a:lnTo>
                            <a:pt x="0" y="62"/>
                          </a:lnTo>
                          <a:lnTo>
                            <a:pt x="129" y="0"/>
                          </a:lnTo>
                          <a:lnTo>
                            <a:pt x="185" y="80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 flipV="1">
                    <a:off x="6448680" y="4503960"/>
                    <a:ext cx="334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203">
                        <a:moveTo>
                          <a:pt x="56" y="0"/>
                        </a:moveTo>
                        <a:lnTo>
                          <a:pt x="112" y="4"/>
                        </a:lnTo>
                        <a:lnTo>
                          <a:pt x="90" y="203"/>
                        </a:lnTo>
                        <a:lnTo>
                          <a:pt x="0" y="163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6284160" y="4189320"/>
                  <a:ext cx="231840" cy="513720"/>
                  <a:chOff x="6284160" y="4189320"/>
                  <a:chExt cx="231840" cy="5137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V="1">
                    <a:off x="6305040" y="4189320"/>
                    <a:ext cx="190080" cy="2203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V="1">
                    <a:off x="6326280" y="4335840"/>
                    <a:ext cx="189720" cy="2203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>
                    <a:off x="6284160" y="4530960"/>
                    <a:ext cx="148320" cy="17208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V="1">
                    <a:off x="6368760" y="4507200"/>
                    <a:ext cx="84240" cy="979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V="1">
                    <a:off x="6328080" y="4430520"/>
                    <a:ext cx="12672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560">
                        <a:moveTo>
                          <a:pt x="300" y="22"/>
                        </a:moveTo>
                        <a:lnTo>
                          <a:pt x="295" y="91"/>
                        </a:lnTo>
                        <a:lnTo>
                          <a:pt x="395" y="215"/>
                        </a:lnTo>
                        <a:lnTo>
                          <a:pt x="422" y="228"/>
                        </a:lnTo>
                        <a:lnTo>
                          <a:pt x="274" y="560"/>
                        </a:lnTo>
                        <a:lnTo>
                          <a:pt x="0" y="0"/>
                        </a:lnTo>
                        <a:lnTo>
                          <a:pt x="300" y="22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V="1">
                    <a:off x="6387120" y="4310640"/>
                    <a:ext cx="83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7" h="169">
                        <a:moveTo>
                          <a:pt x="246" y="23"/>
                        </a:moveTo>
                        <a:lnTo>
                          <a:pt x="277" y="75"/>
                        </a:lnTo>
                        <a:lnTo>
                          <a:pt x="0" y="169"/>
                        </a:lnTo>
                        <a:lnTo>
                          <a:pt x="8" y="0"/>
                        </a:lnTo>
                        <a:lnTo>
                          <a:pt x="246" y="23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6" name=""/>
                <p:cNvSpPr/>
                <p:nvPr/>
              </p:nvSpPr>
              <p:spPr>
                <a:xfrm flipV="1">
                  <a:off x="6284160" y="4139280"/>
                  <a:ext cx="105480" cy="1231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V="1">
                  <a:off x="6351480" y="4205880"/>
                  <a:ext cx="56520" cy="66600"/>
                </a:xfrm>
                <a:custGeom>
                  <a:avLst/>
                  <a:gdLst/>
                  <a:ahLst/>
                  <a:rect l="l" t="t" r="r" b="b"/>
                  <a:pathLst>
                    <a:path w="189" h="197">
                      <a:moveTo>
                        <a:pt x="77" y="197"/>
                      </a:moveTo>
                      <a:lnTo>
                        <a:pt x="189" y="130"/>
                      </a:lnTo>
                      <a:lnTo>
                        <a:pt x="59" y="0"/>
                      </a:lnTo>
                      <a:lnTo>
                        <a:pt x="0" y="72"/>
                      </a:lnTo>
                      <a:lnTo>
                        <a:pt x="77" y="19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 flipV="1">
                <a:off x="6078600" y="4005000"/>
                <a:ext cx="126720" cy="1468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178680" y="4029480"/>
                <a:ext cx="106200" cy="12240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236640" y="4069080"/>
                <a:ext cx="106200" cy="12312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153840" y="4046760"/>
                <a:ext cx="204840" cy="161280"/>
              </a:xfrm>
              <a:custGeom>
                <a:avLst/>
                <a:gdLst/>
                <a:ahLst/>
                <a:rect l="l" t="t" r="r" b="b"/>
                <a:pathLst>
                  <a:path w="680" h="474">
                    <a:moveTo>
                      <a:pt x="632" y="138"/>
                    </a:moveTo>
                    <a:lnTo>
                      <a:pt x="570" y="170"/>
                    </a:lnTo>
                    <a:lnTo>
                      <a:pt x="388" y="358"/>
                    </a:lnTo>
                    <a:lnTo>
                      <a:pt x="344" y="438"/>
                    </a:lnTo>
                    <a:lnTo>
                      <a:pt x="144" y="438"/>
                    </a:lnTo>
                    <a:lnTo>
                      <a:pt x="101" y="474"/>
                    </a:lnTo>
                    <a:lnTo>
                      <a:pt x="0" y="336"/>
                    </a:lnTo>
                    <a:lnTo>
                      <a:pt x="458" y="0"/>
                    </a:lnTo>
                    <a:lnTo>
                      <a:pt x="680" y="77"/>
                    </a:lnTo>
                    <a:lnTo>
                      <a:pt x="632" y="13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5321160" y="4213440"/>
              <a:ext cx="329040" cy="484920"/>
              <a:chOff x="5321160" y="4213440"/>
              <a:chExt cx="329040" cy="48492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5321160" y="4335840"/>
                <a:ext cx="181800" cy="294120"/>
                <a:chOff x="5321160" y="4335840"/>
                <a:chExt cx="181800" cy="294120"/>
              </a:xfrm>
            </p:grpSpPr>
            <p:sp>
              <p:nvSpPr>
                <p:cNvPr id="464" name=""/>
                <p:cNvSpPr/>
                <p:nvPr/>
              </p:nvSpPr>
              <p:spPr>
                <a:xfrm flipV="1">
                  <a:off x="5321160" y="4434120"/>
                  <a:ext cx="84600" cy="9864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V="1">
                  <a:off x="5334120" y="4335840"/>
                  <a:ext cx="105480" cy="12240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5355360" y="4457880"/>
                  <a:ext cx="147600" cy="1717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5347080" y="4424760"/>
                  <a:ext cx="55440" cy="93960"/>
                </a:xfrm>
                <a:custGeom>
                  <a:avLst/>
                  <a:gdLst/>
                  <a:ahLst/>
                  <a:rect l="l" t="t" r="r" b="b"/>
                  <a:pathLst>
                    <a:path w="184" h="276">
                      <a:moveTo>
                        <a:pt x="107" y="0"/>
                      </a:moveTo>
                      <a:lnTo>
                        <a:pt x="0" y="54"/>
                      </a:lnTo>
                      <a:lnTo>
                        <a:pt x="3" y="222"/>
                      </a:lnTo>
                      <a:lnTo>
                        <a:pt x="39" y="276"/>
                      </a:lnTo>
                      <a:lnTo>
                        <a:pt x="184" y="222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5376600" y="4213440"/>
                <a:ext cx="273600" cy="484920"/>
                <a:chOff x="5376600" y="4213440"/>
                <a:chExt cx="273600" cy="484920"/>
              </a:xfrm>
            </p:grpSpPr>
            <p:sp>
              <p:nvSpPr>
                <p:cNvPr id="469" name=""/>
                <p:cNvSpPr/>
                <p:nvPr/>
              </p:nvSpPr>
              <p:spPr>
                <a:xfrm flipV="1">
                  <a:off x="5460840" y="4458600"/>
                  <a:ext cx="189360" cy="2203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V="1">
                  <a:off x="5376600" y="4409280"/>
                  <a:ext cx="106200" cy="1231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V="1">
                  <a:off x="5397480" y="4286880"/>
                  <a:ext cx="148320" cy="17136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V="1">
                  <a:off x="5439960" y="4213440"/>
                  <a:ext cx="147960" cy="17208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V="1">
                  <a:off x="5450760" y="4428360"/>
                  <a:ext cx="132120" cy="14976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5555880" y="4601160"/>
                  <a:ext cx="84240" cy="9720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5491800" y="4525560"/>
                  <a:ext cx="92880" cy="77400"/>
                </a:xfrm>
                <a:custGeom>
                  <a:avLst/>
                  <a:gdLst/>
                  <a:ahLst/>
                  <a:rect l="l" t="t" r="r" b="b"/>
                  <a:pathLst>
                    <a:path w="308" h="227">
                      <a:moveTo>
                        <a:pt x="0" y="61"/>
                      </a:moveTo>
                      <a:lnTo>
                        <a:pt x="39" y="169"/>
                      </a:lnTo>
                      <a:lnTo>
                        <a:pt x="308" y="227"/>
                      </a:lnTo>
                      <a:lnTo>
                        <a:pt x="308" y="85"/>
                      </a:lnTo>
                      <a:lnTo>
                        <a:pt x="18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406120" y="4326840"/>
                  <a:ext cx="106200" cy="150840"/>
                </a:xfrm>
                <a:custGeom>
                  <a:avLst/>
                  <a:gdLst/>
                  <a:ahLst/>
                  <a:rect l="l" t="t" r="r" b="b"/>
                  <a:pathLst>
                    <a:path w="352" h="443">
                      <a:moveTo>
                        <a:pt x="217" y="0"/>
                      </a:moveTo>
                      <a:lnTo>
                        <a:pt x="0" y="112"/>
                      </a:lnTo>
                      <a:lnTo>
                        <a:pt x="91" y="201"/>
                      </a:lnTo>
                      <a:lnTo>
                        <a:pt x="104" y="416"/>
                      </a:lnTo>
                      <a:lnTo>
                        <a:pt x="156" y="443"/>
                      </a:lnTo>
                      <a:lnTo>
                        <a:pt x="338" y="305"/>
                      </a:lnTo>
                      <a:lnTo>
                        <a:pt x="352" y="46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 flipV="1">
                <a:off x="5552280" y="4570560"/>
                <a:ext cx="59040" cy="75600"/>
              </a:xfrm>
              <a:custGeom>
                <a:avLst/>
                <a:gdLst/>
                <a:ahLst/>
                <a:rect l="l" t="t" r="r" b="b"/>
                <a:pathLst>
                  <a:path w="194" h="223">
                    <a:moveTo>
                      <a:pt x="0" y="120"/>
                    </a:moveTo>
                    <a:lnTo>
                      <a:pt x="82" y="0"/>
                    </a:lnTo>
                    <a:lnTo>
                      <a:pt x="194" y="120"/>
                    </a:lnTo>
                    <a:lnTo>
                      <a:pt x="100" y="2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5482080" y="3968280"/>
              <a:ext cx="950400" cy="808200"/>
              <a:chOff x="5482080" y="3968280"/>
              <a:chExt cx="950400" cy="808200"/>
            </a:xfrm>
          </p:grpSpPr>
          <p:sp>
            <p:nvSpPr>
              <p:cNvPr id="479" name=""/>
              <p:cNvSpPr/>
              <p:nvPr/>
            </p:nvSpPr>
            <p:spPr>
              <a:xfrm flipV="1">
                <a:off x="5776920" y="4482000"/>
                <a:ext cx="232920" cy="26964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967000" y="4555440"/>
                <a:ext cx="190080" cy="2206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6136200" y="4212360"/>
                <a:ext cx="296280" cy="3430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5586840" y="4016520"/>
                <a:ext cx="338040" cy="39276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6051600" y="4066200"/>
                <a:ext cx="253440" cy="29412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502960" y="4114800"/>
                <a:ext cx="190080" cy="2206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482080" y="4287240"/>
                <a:ext cx="190080" cy="21960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5566320" y="4359600"/>
                <a:ext cx="295560" cy="3430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5819760" y="3967920"/>
                <a:ext cx="295560" cy="3430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178320" y="4408560"/>
                <a:ext cx="232200" cy="26964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114960" y="4531680"/>
                <a:ext cx="210960" cy="24444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5559120" y="4073400"/>
                <a:ext cx="819720" cy="637920"/>
              </a:xfrm>
              <a:custGeom>
                <a:avLst/>
                <a:gdLst/>
                <a:ahLst/>
                <a:rect l="l" t="t" r="r" b="b"/>
                <a:pathLst>
                  <a:path w="2716" h="1875">
                    <a:moveTo>
                      <a:pt x="837" y="188"/>
                    </a:moveTo>
                    <a:lnTo>
                      <a:pt x="951" y="54"/>
                    </a:lnTo>
                    <a:lnTo>
                      <a:pt x="1458" y="62"/>
                    </a:lnTo>
                    <a:lnTo>
                      <a:pt x="1817" y="0"/>
                    </a:lnTo>
                    <a:lnTo>
                      <a:pt x="2271" y="224"/>
                    </a:lnTo>
                    <a:lnTo>
                      <a:pt x="2497" y="161"/>
                    </a:lnTo>
                    <a:lnTo>
                      <a:pt x="2620" y="188"/>
                    </a:lnTo>
                    <a:lnTo>
                      <a:pt x="2646" y="744"/>
                    </a:lnTo>
                    <a:lnTo>
                      <a:pt x="2716" y="833"/>
                    </a:lnTo>
                    <a:lnTo>
                      <a:pt x="2507" y="1265"/>
                    </a:lnTo>
                    <a:lnTo>
                      <a:pt x="2279" y="968"/>
                    </a:lnTo>
                    <a:lnTo>
                      <a:pt x="2217" y="1121"/>
                    </a:lnTo>
                    <a:lnTo>
                      <a:pt x="1896" y="1713"/>
                    </a:lnTo>
                    <a:lnTo>
                      <a:pt x="820" y="1875"/>
                    </a:lnTo>
                    <a:lnTo>
                      <a:pt x="262" y="1758"/>
                    </a:lnTo>
                    <a:lnTo>
                      <a:pt x="87" y="1390"/>
                    </a:lnTo>
                    <a:lnTo>
                      <a:pt x="87" y="1013"/>
                    </a:lnTo>
                    <a:lnTo>
                      <a:pt x="0" y="699"/>
                    </a:lnTo>
                    <a:lnTo>
                      <a:pt x="837" y="18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6908760" y="4044600"/>
            <a:ext cx="1300320" cy="808200"/>
            <a:chOff x="6908760" y="4044600"/>
            <a:chExt cx="1300320" cy="808200"/>
          </a:xfrm>
        </p:grpSpPr>
        <p:grpSp>
          <p:nvGrpSpPr>
            <p:cNvPr id="492" name=""/>
            <p:cNvGrpSpPr/>
            <p:nvPr/>
          </p:nvGrpSpPr>
          <p:grpSpPr>
            <a:xfrm>
              <a:off x="7666200" y="4081320"/>
              <a:ext cx="542880" cy="698040"/>
              <a:chOff x="7666200" y="4081320"/>
              <a:chExt cx="542880" cy="69804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7871760" y="4215600"/>
                <a:ext cx="337320" cy="563760"/>
                <a:chOff x="7871760" y="4215600"/>
                <a:chExt cx="337320" cy="56376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7956360" y="4289760"/>
                  <a:ext cx="252720" cy="416160"/>
                  <a:chOff x="7956360" y="4289760"/>
                  <a:chExt cx="252720" cy="41616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7956360" y="4289760"/>
                    <a:ext cx="252720" cy="416160"/>
                    <a:chOff x="7956360" y="4289760"/>
                    <a:chExt cx="252720" cy="416160"/>
                  </a:xfrm>
                </p:grpSpPr>
                <p:grpSp>
                  <p:nvGrpSpPr>
                    <p:cNvPr id="496" name=""/>
                    <p:cNvGrpSpPr/>
                    <p:nvPr/>
                  </p:nvGrpSpPr>
                  <p:grpSpPr>
                    <a:xfrm>
                      <a:off x="8019720" y="4339440"/>
                      <a:ext cx="189360" cy="342000"/>
                      <a:chOff x="8019720" y="4339440"/>
                      <a:chExt cx="189360" cy="342000"/>
                    </a:xfrm>
                  </p:grpSpPr>
                  <p:grpSp>
                    <p:nvGrpSpPr>
                      <p:cNvPr id="497" name=""/>
                      <p:cNvGrpSpPr/>
                      <p:nvPr/>
                    </p:nvGrpSpPr>
                    <p:grpSpPr>
                      <a:xfrm>
                        <a:off x="8040600" y="4339440"/>
                        <a:ext cx="168480" cy="342000"/>
                        <a:chOff x="8040600" y="4339440"/>
                        <a:chExt cx="168480" cy="342000"/>
                      </a:xfrm>
                    </p:grpSpPr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 flipV="1">
                          <a:off x="8125200" y="4388040"/>
                          <a:ext cx="83880" cy="9792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 flipV="1">
                          <a:off x="8061120" y="4339440"/>
                          <a:ext cx="105840" cy="12240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 flipV="1">
                          <a:off x="8103960" y="4510080"/>
                          <a:ext cx="83880" cy="9864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 flipV="1">
                          <a:off x="8040600" y="4559040"/>
                          <a:ext cx="105840" cy="122400"/>
                        </a:xfrm>
                        <a:prstGeom prst="ellipse">
                          <a:avLst/>
                        </a:prstGeom>
                        <a:solidFill>
                          <a:srgbClr val="eaeaea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 flipV="1">
                          <a:off x="8106480" y="4410720"/>
                          <a:ext cx="71640" cy="19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8" h="574">
                              <a:moveTo>
                                <a:pt x="238" y="569"/>
                              </a:moveTo>
                              <a:lnTo>
                                <a:pt x="138" y="574"/>
                              </a:lnTo>
                              <a:lnTo>
                                <a:pt x="0" y="0"/>
                              </a:lnTo>
                              <a:lnTo>
                                <a:pt x="147" y="46"/>
                              </a:lnTo>
                              <a:lnTo>
                                <a:pt x="151" y="327"/>
                              </a:lnTo>
                              <a:lnTo>
                                <a:pt x="238" y="56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03" name=""/>
                      <p:cNvSpPr/>
                      <p:nvPr/>
                    </p:nvSpPr>
                    <p:spPr>
                      <a:xfrm flipV="1">
                        <a:off x="8019720" y="4412160"/>
                        <a:ext cx="147600" cy="171360"/>
                      </a:xfrm>
                      <a:prstGeom prst="ellipse">
                        <a:avLst/>
                      </a:prstGeom>
                      <a:solidFill>
                        <a:srgbClr val="eaeaea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 flipV="1">
                        <a:off x="8019720" y="4362840"/>
                        <a:ext cx="105480" cy="123120"/>
                      </a:xfrm>
                      <a:prstGeom prst="ellipse">
                        <a:avLst/>
                      </a:prstGeom>
                      <a:solidFill>
                        <a:srgbClr val="eaeaea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5" name=""/>
                      <p:cNvSpPr/>
                      <p:nvPr/>
                    </p:nvSpPr>
                    <p:spPr>
                      <a:xfrm flipV="1">
                        <a:off x="8051400" y="4417560"/>
                        <a:ext cx="75600" cy="20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" h="617">
                            <a:moveTo>
                              <a:pt x="229" y="103"/>
                            </a:moveTo>
                            <a:lnTo>
                              <a:pt x="199" y="236"/>
                            </a:lnTo>
                            <a:lnTo>
                              <a:pt x="252" y="533"/>
                            </a:lnTo>
                            <a:lnTo>
                              <a:pt x="151" y="617"/>
                            </a:lnTo>
                            <a:lnTo>
                              <a:pt x="0" y="260"/>
                            </a:lnTo>
                            <a:lnTo>
                              <a:pt x="121" y="0"/>
                            </a:lnTo>
                            <a:lnTo>
                              <a:pt x="229" y="103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8019720" y="4289760"/>
                      <a:ext cx="83880" cy="9792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V="1">
                      <a:off x="7956360" y="4582800"/>
                      <a:ext cx="105480" cy="12312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V="1">
                      <a:off x="8044200" y="4363200"/>
                      <a:ext cx="5580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28">
                          <a:moveTo>
                            <a:pt x="185" y="80"/>
                          </a:moveTo>
                          <a:lnTo>
                            <a:pt x="129" y="128"/>
                          </a:lnTo>
                          <a:lnTo>
                            <a:pt x="0" y="62"/>
                          </a:lnTo>
                          <a:lnTo>
                            <a:pt x="129" y="0"/>
                          </a:lnTo>
                          <a:lnTo>
                            <a:pt x="185" y="80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9" name=""/>
                  <p:cNvSpPr/>
                  <p:nvPr/>
                </p:nvSpPr>
                <p:spPr>
                  <a:xfrm flipV="1">
                    <a:off x="8036280" y="4580280"/>
                    <a:ext cx="334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203">
                        <a:moveTo>
                          <a:pt x="56" y="0"/>
                        </a:moveTo>
                        <a:lnTo>
                          <a:pt x="112" y="4"/>
                        </a:lnTo>
                        <a:lnTo>
                          <a:pt x="90" y="203"/>
                        </a:lnTo>
                        <a:lnTo>
                          <a:pt x="0" y="163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7871760" y="4265640"/>
                  <a:ext cx="231840" cy="513720"/>
                  <a:chOff x="7871760" y="4265640"/>
                  <a:chExt cx="231840" cy="51372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 flipV="1">
                    <a:off x="7892640" y="4265640"/>
                    <a:ext cx="190080" cy="2203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V="1">
                    <a:off x="7913880" y="4412160"/>
                    <a:ext cx="189720" cy="2203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V="1">
                    <a:off x="7871760" y="4607280"/>
                    <a:ext cx="148320" cy="17208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V="1">
                    <a:off x="7956360" y="4583520"/>
                    <a:ext cx="84240" cy="979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V="1">
                    <a:off x="7915680" y="4506840"/>
                    <a:ext cx="12672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560">
                        <a:moveTo>
                          <a:pt x="300" y="22"/>
                        </a:moveTo>
                        <a:lnTo>
                          <a:pt x="295" y="91"/>
                        </a:lnTo>
                        <a:lnTo>
                          <a:pt x="395" y="215"/>
                        </a:lnTo>
                        <a:lnTo>
                          <a:pt x="422" y="228"/>
                        </a:lnTo>
                        <a:lnTo>
                          <a:pt x="274" y="560"/>
                        </a:lnTo>
                        <a:lnTo>
                          <a:pt x="0" y="0"/>
                        </a:lnTo>
                        <a:lnTo>
                          <a:pt x="300" y="22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V="1">
                    <a:off x="7974720" y="4386960"/>
                    <a:ext cx="83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7" h="169">
                        <a:moveTo>
                          <a:pt x="246" y="23"/>
                        </a:moveTo>
                        <a:lnTo>
                          <a:pt x="277" y="75"/>
                        </a:lnTo>
                        <a:lnTo>
                          <a:pt x="0" y="169"/>
                        </a:lnTo>
                        <a:lnTo>
                          <a:pt x="8" y="0"/>
                        </a:lnTo>
                        <a:lnTo>
                          <a:pt x="246" y="23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7" name=""/>
                <p:cNvSpPr/>
                <p:nvPr/>
              </p:nvSpPr>
              <p:spPr>
                <a:xfrm flipV="1">
                  <a:off x="7871760" y="4215600"/>
                  <a:ext cx="105480" cy="1231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V="1">
                  <a:off x="7939080" y="4282200"/>
                  <a:ext cx="56520" cy="66600"/>
                </a:xfrm>
                <a:custGeom>
                  <a:avLst/>
                  <a:gdLst/>
                  <a:ahLst/>
                  <a:rect l="l" t="t" r="r" b="b"/>
                  <a:pathLst>
                    <a:path w="189" h="197">
                      <a:moveTo>
                        <a:pt x="77" y="197"/>
                      </a:moveTo>
                      <a:lnTo>
                        <a:pt x="189" y="130"/>
                      </a:lnTo>
                      <a:lnTo>
                        <a:pt x="59" y="0"/>
                      </a:lnTo>
                      <a:lnTo>
                        <a:pt x="0" y="72"/>
                      </a:lnTo>
                      <a:lnTo>
                        <a:pt x="77" y="19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 flipV="1">
                <a:off x="7666200" y="4081320"/>
                <a:ext cx="126720" cy="1468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7766280" y="4105800"/>
                <a:ext cx="106200" cy="12240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24240" y="4145400"/>
                <a:ext cx="106200" cy="12312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7741440" y="4123080"/>
                <a:ext cx="204840" cy="161280"/>
              </a:xfrm>
              <a:custGeom>
                <a:avLst/>
                <a:gdLst/>
                <a:ahLst/>
                <a:rect l="l" t="t" r="r" b="b"/>
                <a:pathLst>
                  <a:path w="680" h="474">
                    <a:moveTo>
                      <a:pt x="632" y="138"/>
                    </a:moveTo>
                    <a:lnTo>
                      <a:pt x="570" y="170"/>
                    </a:lnTo>
                    <a:lnTo>
                      <a:pt x="388" y="358"/>
                    </a:lnTo>
                    <a:lnTo>
                      <a:pt x="344" y="438"/>
                    </a:lnTo>
                    <a:lnTo>
                      <a:pt x="144" y="438"/>
                    </a:lnTo>
                    <a:lnTo>
                      <a:pt x="101" y="474"/>
                    </a:lnTo>
                    <a:lnTo>
                      <a:pt x="0" y="336"/>
                    </a:lnTo>
                    <a:lnTo>
                      <a:pt x="458" y="0"/>
                    </a:lnTo>
                    <a:lnTo>
                      <a:pt x="680" y="77"/>
                    </a:lnTo>
                    <a:lnTo>
                      <a:pt x="632" y="13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6908760" y="4289760"/>
              <a:ext cx="329040" cy="484920"/>
              <a:chOff x="6908760" y="4289760"/>
              <a:chExt cx="329040" cy="48492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6908760" y="4412160"/>
                <a:ext cx="181800" cy="294120"/>
                <a:chOff x="6908760" y="4412160"/>
                <a:chExt cx="181800" cy="294120"/>
              </a:xfrm>
            </p:grpSpPr>
            <p:sp>
              <p:nvSpPr>
                <p:cNvPr id="525" name=""/>
                <p:cNvSpPr/>
                <p:nvPr/>
              </p:nvSpPr>
              <p:spPr>
                <a:xfrm flipV="1">
                  <a:off x="6908760" y="4510440"/>
                  <a:ext cx="84600" cy="9864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V="1">
                  <a:off x="6921720" y="4412160"/>
                  <a:ext cx="105480" cy="12240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6942960" y="4534200"/>
                  <a:ext cx="147600" cy="1717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6934680" y="4501080"/>
                  <a:ext cx="55440" cy="93960"/>
                </a:xfrm>
                <a:custGeom>
                  <a:avLst/>
                  <a:gdLst/>
                  <a:ahLst/>
                  <a:rect l="l" t="t" r="r" b="b"/>
                  <a:pathLst>
                    <a:path w="184" h="276">
                      <a:moveTo>
                        <a:pt x="107" y="0"/>
                      </a:moveTo>
                      <a:lnTo>
                        <a:pt x="0" y="54"/>
                      </a:lnTo>
                      <a:lnTo>
                        <a:pt x="3" y="222"/>
                      </a:lnTo>
                      <a:lnTo>
                        <a:pt x="39" y="276"/>
                      </a:lnTo>
                      <a:lnTo>
                        <a:pt x="184" y="222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6964200" y="4289760"/>
                <a:ext cx="273600" cy="484920"/>
                <a:chOff x="6964200" y="4289760"/>
                <a:chExt cx="273600" cy="484920"/>
              </a:xfrm>
            </p:grpSpPr>
            <p:sp>
              <p:nvSpPr>
                <p:cNvPr id="530" name=""/>
                <p:cNvSpPr/>
                <p:nvPr/>
              </p:nvSpPr>
              <p:spPr>
                <a:xfrm flipV="1">
                  <a:off x="7048440" y="4534920"/>
                  <a:ext cx="189360" cy="2203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V="1">
                  <a:off x="6964200" y="4485600"/>
                  <a:ext cx="106200" cy="12312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6985080" y="4363200"/>
                  <a:ext cx="148320" cy="17136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7027560" y="4289760"/>
                  <a:ext cx="147960" cy="17208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V="1">
                  <a:off x="7038360" y="4504680"/>
                  <a:ext cx="132120" cy="14976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7143480" y="4677480"/>
                  <a:ext cx="84240" cy="97200"/>
                </a:xfrm>
                <a:prstGeom prst="ellipse">
                  <a:avLst/>
                </a:prstGeom>
                <a:solidFill>
                  <a:srgbClr val="eaeaea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7079400" y="4601880"/>
                  <a:ext cx="92880" cy="77400"/>
                </a:xfrm>
                <a:custGeom>
                  <a:avLst/>
                  <a:gdLst/>
                  <a:ahLst/>
                  <a:rect l="l" t="t" r="r" b="b"/>
                  <a:pathLst>
                    <a:path w="308" h="227">
                      <a:moveTo>
                        <a:pt x="0" y="61"/>
                      </a:moveTo>
                      <a:lnTo>
                        <a:pt x="39" y="169"/>
                      </a:lnTo>
                      <a:lnTo>
                        <a:pt x="308" y="227"/>
                      </a:lnTo>
                      <a:lnTo>
                        <a:pt x="308" y="85"/>
                      </a:lnTo>
                      <a:lnTo>
                        <a:pt x="18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V="1">
                  <a:off x="6993720" y="4403160"/>
                  <a:ext cx="106200" cy="150840"/>
                </a:xfrm>
                <a:custGeom>
                  <a:avLst/>
                  <a:gdLst/>
                  <a:ahLst/>
                  <a:rect l="l" t="t" r="r" b="b"/>
                  <a:pathLst>
                    <a:path w="352" h="443">
                      <a:moveTo>
                        <a:pt x="217" y="0"/>
                      </a:moveTo>
                      <a:lnTo>
                        <a:pt x="0" y="112"/>
                      </a:lnTo>
                      <a:lnTo>
                        <a:pt x="91" y="201"/>
                      </a:lnTo>
                      <a:lnTo>
                        <a:pt x="104" y="416"/>
                      </a:lnTo>
                      <a:lnTo>
                        <a:pt x="156" y="443"/>
                      </a:lnTo>
                      <a:lnTo>
                        <a:pt x="338" y="305"/>
                      </a:lnTo>
                      <a:lnTo>
                        <a:pt x="352" y="46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 flipV="1">
                <a:off x="7139880" y="4646880"/>
                <a:ext cx="59040" cy="75600"/>
              </a:xfrm>
              <a:custGeom>
                <a:avLst/>
                <a:gdLst/>
                <a:ahLst/>
                <a:rect l="l" t="t" r="r" b="b"/>
                <a:pathLst>
                  <a:path w="194" h="223">
                    <a:moveTo>
                      <a:pt x="0" y="120"/>
                    </a:moveTo>
                    <a:lnTo>
                      <a:pt x="82" y="0"/>
                    </a:lnTo>
                    <a:lnTo>
                      <a:pt x="194" y="120"/>
                    </a:lnTo>
                    <a:lnTo>
                      <a:pt x="100" y="2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7069680" y="4044600"/>
              <a:ext cx="950400" cy="808200"/>
              <a:chOff x="7069680" y="4044600"/>
              <a:chExt cx="950400" cy="808200"/>
            </a:xfrm>
          </p:grpSpPr>
          <p:sp>
            <p:nvSpPr>
              <p:cNvPr id="540" name=""/>
              <p:cNvSpPr/>
              <p:nvPr/>
            </p:nvSpPr>
            <p:spPr>
              <a:xfrm flipV="1">
                <a:off x="7364520" y="4558320"/>
                <a:ext cx="232920" cy="26964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554600" y="4631760"/>
                <a:ext cx="190080" cy="2206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723800" y="4288680"/>
                <a:ext cx="296280" cy="3430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174440" y="4092840"/>
                <a:ext cx="338040" cy="39276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639200" y="4142520"/>
                <a:ext cx="253440" cy="29412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090560" y="4191120"/>
                <a:ext cx="190080" cy="2206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069680" y="4363560"/>
                <a:ext cx="190080" cy="21960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7153920" y="4435920"/>
                <a:ext cx="295560" cy="3430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7407360" y="4044240"/>
                <a:ext cx="295560" cy="34308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7765920" y="4484880"/>
                <a:ext cx="232200" cy="26964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702560" y="4608000"/>
                <a:ext cx="210960" cy="244440"/>
              </a:xfrm>
              <a:prstGeom prst="ellipse">
                <a:avLst/>
              </a:prstGeom>
              <a:solidFill>
                <a:srgbClr val="eaeaea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7146720" y="4149720"/>
                <a:ext cx="819720" cy="637920"/>
              </a:xfrm>
              <a:custGeom>
                <a:avLst/>
                <a:gdLst/>
                <a:ahLst/>
                <a:rect l="l" t="t" r="r" b="b"/>
                <a:pathLst>
                  <a:path w="2716" h="1875">
                    <a:moveTo>
                      <a:pt x="837" y="188"/>
                    </a:moveTo>
                    <a:lnTo>
                      <a:pt x="951" y="54"/>
                    </a:lnTo>
                    <a:lnTo>
                      <a:pt x="1458" y="62"/>
                    </a:lnTo>
                    <a:lnTo>
                      <a:pt x="1817" y="0"/>
                    </a:lnTo>
                    <a:lnTo>
                      <a:pt x="2271" y="224"/>
                    </a:lnTo>
                    <a:lnTo>
                      <a:pt x="2497" y="161"/>
                    </a:lnTo>
                    <a:lnTo>
                      <a:pt x="2620" y="188"/>
                    </a:lnTo>
                    <a:lnTo>
                      <a:pt x="2646" y="744"/>
                    </a:lnTo>
                    <a:lnTo>
                      <a:pt x="2716" y="833"/>
                    </a:lnTo>
                    <a:lnTo>
                      <a:pt x="2507" y="1265"/>
                    </a:lnTo>
                    <a:lnTo>
                      <a:pt x="2279" y="968"/>
                    </a:lnTo>
                    <a:lnTo>
                      <a:pt x="2217" y="1121"/>
                    </a:lnTo>
                    <a:lnTo>
                      <a:pt x="1896" y="1713"/>
                    </a:lnTo>
                    <a:lnTo>
                      <a:pt x="820" y="1875"/>
                    </a:lnTo>
                    <a:lnTo>
                      <a:pt x="262" y="1758"/>
                    </a:lnTo>
                    <a:lnTo>
                      <a:pt x="87" y="1390"/>
                    </a:lnTo>
                    <a:lnTo>
                      <a:pt x="87" y="1013"/>
                    </a:lnTo>
                    <a:lnTo>
                      <a:pt x="0" y="699"/>
                    </a:lnTo>
                    <a:lnTo>
                      <a:pt x="837" y="18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5612040" y="4273560"/>
            <a:ext cx="683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M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201080" y="4273560"/>
            <a:ext cx="654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7867800" y="5808600"/>
            <a:ext cx="353880" cy="295200"/>
            <a:chOff x="7867800" y="5808600"/>
            <a:chExt cx="353880" cy="295200"/>
          </a:xfrm>
        </p:grpSpPr>
        <p:grpSp>
          <p:nvGrpSpPr>
            <p:cNvPr id="555" name=""/>
            <p:cNvGrpSpPr/>
            <p:nvPr/>
          </p:nvGrpSpPr>
          <p:grpSpPr>
            <a:xfrm>
              <a:off x="7867800" y="5808600"/>
              <a:ext cx="353880" cy="126720"/>
              <a:chOff x="7867800" y="5808600"/>
              <a:chExt cx="353880" cy="126720"/>
            </a:xfrm>
          </p:grpSpPr>
          <p:sp>
            <p:nvSpPr>
              <p:cNvPr id="556" name=""/>
              <p:cNvSpPr/>
              <p:nvPr/>
            </p:nvSpPr>
            <p:spPr>
              <a:xfrm>
                <a:off x="7869240" y="5895720"/>
                <a:ext cx="93960" cy="39600"/>
              </a:xfrm>
              <a:custGeom>
                <a:avLst/>
                <a:gdLst/>
                <a:ahLst/>
                <a:rect l="l" t="t" r="r" b="b"/>
                <a:pathLst>
                  <a:path w="63" h="25">
                    <a:moveTo>
                      <a:pt x="4" y="24"/>
                    </a:moveTo>
                    <a:lnTo>
                      <a:pt x="0" y="7"/>
                    </a:lnTo>
                    <a:lnTo>
                      <a:pt x="60" y="0"/>
                    </a:lnTo>
                    <a:lnTo>
                      <a:pt x="62" y="16"/>
                    </a:lnTo>
                    <a:lnTo>
                      <a:pt x="4" y="24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867800" y="5808600"/>
                <a:ext cx="353880" cy="99720"/>
              </a:xfrm>
              <a:custGeom>
                <a:avLst/>
                <a:gdLst/>
                <a:ahLst/>
                <a:rect l="l" t="t" r="r" b="b"/>
                <a:pathLst>
                  <a:path w="236" h="63">
                    <a:moveTo>
                      <a:pt x="0" y="62"/>
                    </a:moveTo>
                    <a:lnTo>
                      <a:pt x="2" y="34"/>
                    </a:lnTo>
                    <a:lnTo>
                      <a:pt x="16" y="16"/>
                    </a:lnTo>
                    <a:lnTo>
                      <a:pt x="54" y="5"/>
                    </a:lnTo>
                    <a:lnTo>
                      <a:pt x="95" y="1"/>
                    </a:lnTo>
                    <a:lnTo>
                      <a:pt x="127" y="0"/>
                    </a:lnTo>
                    <a:lnTo>
                      <a:pt x="162" y="3"/>
                    </a:lnTo>
                    <a:lnTo>
                      <a:pt x="189" y="9"/>
                    </a:lnTo>
                    <a:lnTo>
                      <a:pt x="215" y="17"/>
                    </a:lnTo>
                    <a:lnTo>
                      <a:pt x="228" y="32"/>
                    </a:lnTo>
                    <a:lnTo>
                      <a:pt x="235" y="59"/>
                    </a:lnTo>
                    <a:lnTo>
                      <a:pt x="176" y="57"/>
                    </a:lnTo>
                    <a:lnTo>
                      <a:pt x="180" y="39"/>
                    </a:lnTo>
                    <a:lnTo>
                      <a:pt x="164" y="34"/>
                    </a:lnTo>
                    <a:lnTo>
                      <a:pt x="149" y="31"/>
                    </a:lnTo>
                    <a:lnTo>
                      <a:pt x="126" y="29"/>
                    </a:lnTo>
                    <a:lnTo>
                      <a:pt x="94" y="29"/>
                    </a:lnTo>
                    <a:lnTo>
                      <a:pt x="70" y="33"/>
                    </a:lnTo>
                    <a:lnTo>
                      <a:pt x="54" y="36"/>
                    </a:lnTo>
                    <a:lnTo>
                      <a:pt x="59" y="54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133120" y="5898960"/>
                <a:ext cx="86400" cy="3024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0" y="0"/>
                    </a:moveTo>
                    <a:lnTo>
                      <a:pt x="57" y="2"/>
                    </a:lnTo>
                    <a:lnTo>
                      <a:pt x="54" y="18"/>
                    </a:lnTo>
                    <a:lnTo>
                      <a:pt x="2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7945920" y="5873400"/>
              <a:ext cx="201960" cy="165240"/>
            </a:xfrm>
            <a:custGeom>
              <a:avLst/>
              <a:gdLst/>
              <a:ahLst/>
              <a:rect l="l" t="t" r="r" b="b"/>
              <a:pathLst>
                <a:path w="135" h="104">
                  <a:moveTo>
                    <a:pt x="0" y="103"/>
                  </a:moveTo>
                  <a:lnTo>
                    <a:pt x="12" y="0"/>
                  </a:lnTo>
                  <a:lnTo>
                    <a:pt x="121" y="0"/>
                  </a:lnTo>
                  <a:lnTo>
                    <a:pt x="134" y="103"/>
                  </a:lnTo>
                  <a:lnTo>
                    <a:pt x="0" y="103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926120" y="6035400"/>
              <a:ext cx="236880" cy="68400"/>
            </a:xfrm>
            <a:custGeom>
              <a:avLst/>
              <a:gdLst/>
              <a:ahLst/>
              <a:rect l="l" t="t" r="r" b="b"/>
              <a:pathLst>
                <a:path w="158" h="43">
                  <a:moveTo>
                    <a:pt x="12" y="0"/>
                  </a:moveTo>
                  <a:lnTo>
                    <a:pt x="144" y="0"/>
                  </a:lnTo>
                  <a:lnTo>
                    <a:pt x="157" y="42"/>
                  </a:lnTo>
                  <a:lnTo>
                    <a:pt x="0" y="42"/>
                  </a:lnTo>
                  <a:lnTo>
                    <a:pt x="12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6120" y="5871960"/>
              <a:ext cx="38880" cy="231840"/>
            </a:xfrm>
            <a:custGeom>
              <a:avLst/>
              <a:gdLst/>
              <a:ahLst/>
              <a:rect l="l" t="t" r="r" b="b"/>
              <a:pathLst>
                <a:path w="26" h="146">
                  <a:moveTo>
                    <a:pt x="12" y="103"/>
                  </a:moveTo>
                  <a:lnTo>
                    <a:pt x="0" y="145"/>
                  </a:lnTo>
                  <a:lnTo>
                    <a:pt x="13" y="42"/>
                  </a:lnTo>
                  <a:lnTo>
                    <a:pt x="25" y="0"/>
                  </a:lnTo>
                  <a:lnTo>
                    <a:pt x="12" y="103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24120" y="5870520"/>
              <a:ext cx="38880" cy="231480"/>
            </a:xfrm>
            <a:custGeom>
              <a:avLst/>
              <a:gdLst/>
              <a:ahLst/>
              <a:rect l="l" t="t" r="r" b="b"/>
              <a:pathLst>
                <a:path w="26" h="146">
                  <a:moveTo>
                    <a:pt x="12" y="102"/>
                  </a:moveTo>
                  <a:lnTo>
                    <a:pt x="25" y="145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12" y="10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80120" y="5843520"/>
              <a:ext cx="3132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8"/>
                  </a:moveTo>
                  <a:lnTo>
                    <a:pt x="0" y="13"/>
                  </a:lnTo>
                  <a:lnTo>
                    <a:pt x="3" y="0"/>
                  </a:lnTo>
                  <a:lnTo>
                    <a:pt x="16" y="0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73000" y="5843520"/>
              <a:ext cx="3276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18"/>
                  </a:moveTo>
                  <a:lnTo>
                    <a:pt x="0" y="13"/>
                  </a:lnTo>
                  <a:lnTo>
                    <a:pt x="3" y="0"/>
                  </a:lnTo>
                  <a:lnTo>
                    <a:pt x="17" y="0"/>
                  </a:lnTo>
                  <a:lnTo>
                    <a:pt x="21" y="12"/>
                  </a:lnTo>
                  <a:lnTo>
                    <a:pt x="21" y="18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962120" y="5883120"/>
              <a:ext cx="169200" cy="139680"/>
            </a:xfrm>
            <a:custGeom>
              <a:avLst/>
              <a:gdLst/>
              <a:ahLst/>
              <a:rect l="l" t="t" r="r" b="b"/>
              <a:pathLst>
                <a:path w="113" h="88">
                  <a:moveTo>
                    <a:pt x="0" y="87"/>
                  </a:moveTo>
                  <a:lnTo>
                    <a:pt x="10" y="0"/>
                  </a:lnTo>
                  <a:lnTo>
                    <a:pt x="101" y="0"/>
                  </a:lnTo>
                  <a:lnTo>
                    <a:pt x="112" y="87"/>
                  </a:lnTo>
                  <a:lnTo>
                    <a:pt x="0" y="8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8007120" y="5911560"/>
              <a:ext cx="75960" cy="93600"/>
              <a:chOff x="8007120" y="5911560"/>
              <a:chExt cx="75960" cy="93600"/>
            </a:xfrm>
          </p:grpSpPr>
          <p:sp>
            <p:nvSpPr>
              <p:cNvPr id="567" name=""/>
              <p:cNvSpPr/>
              <p:nvPr/>
            </p:nvSpPr>
            <p:spPr>
              <a:xfrm>
                <a:off x="8007120" y="5911560"/>
                <a:ext cx="1476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037000" y="5911560"/>
                <a:ext cx="1476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068320" y="5911560"/>
                <a:ext cx="1476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007120" y="5938560"/>
                <a:ext cx="1476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037000" y="5938560"/>
                <a:ext cx="1476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068320" y="5938560"/>
                <a:ext cx="1476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007120" y="5965560"/>
                <a:ext cx="1476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037000" y="5965560"/>
                <a:ext cx="1476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068320" y="5965560"/>
                <a:ext cx="1476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007120" y="5991120"/>
                <a:ext cx="14760" cy="14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037000" y="5991120"/>
                <a:ext cx="14760" cy="14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068320" y="5991120"/>
                <a:ext cx="14760" cy="14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 flipH="1">
            <a:off x="4745160" y="4425840"/>
            <a:ext cx="57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297320" y="4273560"/>
            <a:ext cx="540000" cy="488520"/>
            <a:chOff x="4297320" y="4273560"/>
            <a:chExt cx="540000" cy="488520"/>
          </a:xfrm>
        </p:grpSpPr>
        <p:grpSp>
          <p:nvGrpSpPr>
            <p:cNvPr id="581" name=""/>
            <p:cNvGrpSpPr/>
            <p:nvPr/>
          </p:nvGrpSpPr>
          <p:grpSpPr>
            <a:xfrm>
              <a:off x="4379760" y="4273560"/>
              <a:ext cx="366120" cy="488520"/>
              <a:chOff x="4379760" y="4273560"/>
              <a:chExt cx="366120" cy="488520"/>
            </a:xfrm>
          </p:grpSpPr>
          <p:sp>
            <p:nvSpPr>
              <p:cNvPr id="582" name=""/>
              <p:cNvSpPr/>
              <p:nvPr/>
            </p:nvSpPr>
            <p:spPr>
              <a:xfrm>
                <a:off x="4379760" y="4330440"/>
                <a:ext cx="363240" cy="429840"/>
              </a:xfrm>
              <a:custGeom>
                <a:avLst/>
                <a:gdLst/>
                <a:ahLst/>
                <a:rect l="l" t="t" r="r" b="b"/>
                <a:pathLst>
                  <a:path w="242" h="271">
                    <a:moveTo>
                      <a:pt x="0" y="0"/>
                    </a:moveTo>
                    <a:lnTo>
                      <a:pt x="0" y="265"/>
                    </a:lnTo>
                    <a:lnTo>
                      <a:pt x="5" y="270"/>
                    </a:lnTo>
                    <a:lnTo>
                      <a:pt x="237" y="265"/>
                    </a:lnTo>
                    <a:lnTo>
                      <a:pt x="239" y="256"/>
                    </a:lnTo>
                    <a:lnTo>
                      <a:pt x="241" y="5"/>
                    </a:lnTo>
                    <a:lnTo>
                      <a:pt x="2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88760" y="4330440"/>
                <a:ext cx="357120" cy="423360"/>
              </a:xfrm>
              <a:custGeom>
                <a:avLst/>
                <a:gdLst/>
                <a:ahLst/>
                <a:rect l="l" t="t" r="r" b="b"/>
                <a:pathLst>
                  <a:path w="238" h="267">
                    <a:moveTo>
                      <a:pt x="0" y="0"/>
                    </a:moveTo>
                    <a:lnTo>
                      <a:pt x="237" y="0"/>
                    </a:lnTo>
                    <a:lnTo>
                      <a:pt x="237" y="266"/>
                    </a:lnTo>
                    <a:lnTo>
                      <a:pt x="0" y="26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04960" y="4349520"/>
                <a:ext cx="322560" cy="412560"/>
              </a:xfrm>
              <a:custGeom>
                <a:avLst/>
                <a:gdLst/>
                <a:ahLst/>
                <a:rect l="l" t="t" r="r" b="b"/>
                <a:pathLst>
                  <a:path w="215" h="260">
                    <a:moveTo>
                      <a:pt x="0" y="0"/>
                    </a:moveTo>
                    <a:lnTo>
                      <a:pt x="214" y="0"/>
                    </a:lnTo>
                    <a:lnTo>
                      <a:pt x="214" y="259"/>
                    </a:lnTo>
                    <a:lnTo>
                      <a:pt x="0" y="25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381200" y="4338360"/>
                <a:ext cx="0" cy="1440"/>
              </a:xfrm>
              <a:prstGeom prst="line">
                <a:avLst/>
              </a:prstGeom>
              <a:ln w="12600">
                <a:solidFill>
                  <a:srgbClr val="83d0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594680" y="4360680"/>
                <a:ext cx="109440" cy="26640"/>
              </a:xfrm>
              <a:custGeom>
                <a:avLst/>
                <a:gdLst/>
                <a:ahLst/>
                <a:rect l="l" t="t" r="r" b="b"/>
                <a:pathLst>
                  <a:path w="73" h="17">
                    <a:moveTo>
                      <a:pt x="0" y="0"/>
                    </a:moveTo>
                    <a:lnTo>
                      <a:pt x="72" y="0"/>
                    </a:lnTo>
                    <a:lnTo>
                      <a:pt x="7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388760" y="4346280"/>
                <a:ext cx="0" cy="2880"/>
              </a:xfrm>
              <a:prstGeom prst="line">
                <a:avLst/>
              </a:prstGeom>
              <a:ln w="12600">
                <a:solidFill>
                  <a:srgbClr val="83d0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601880" y="4368600"/>
                <a:ext cx="109440" cy="26640"/>
              </a:xfrm>
              <a:custGeom>
                <a:avLst/>
                <a:gdLst/>
                <a:ahLst/>
                <a:rect l="l" t="t" r="r" b="b"/>
                <a:pathLst>
                  <a:path w="73" h="17">
                    <a:moveTo>
                      <a:pt x="0" y="0"/>
                    </a:moveTo>
                    <a:lnTo>
                      <a:pt x="72" y="0"/>
                    </a:lnTo>
                    <a:lnTo>
                      <a:pt x="7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96560" y="4273560"/>
                <a:ext cx="25200" cy="6336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16" y="39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16" y="39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4297320" y="4410000"/>
              <a:ext cx="54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7410600" y="5106960"/>
            <a:ext cx="333360" cy="26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13360" y="554688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039160" y="5546880"/>
            <a:ext cx="0" cy="27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80240" y="5548320"/>
            <a:ext cx="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502320" y="5268960"/>
            <a:ext cx="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546960" y="5661000"/>
            <a:ext cx="485640" cy="7239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6308640" y="5108400"/>
            <a:ext cx="333360" cy="26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4905360" y="5208480"/>
            <a:ext cx="254160" cy="7034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302080" y="5700600"/>
            <a:ext cx="249480" cy="363600"/>
          </a:xfrm>
          <a:custGeom>
            <a:avLst/>
            <a:gdLst/>
            <a:ahLst/>
            <a:rect l="l" t="t" r="r" b="b"/>
            <a:pathLst>
              <a:path w="166" h="229">
                <a:moveTo>
                  <a:pt x="0" y="121"/>
                </a:moveTo>
                <a:cubicBezTo>
                  <a:pt x="41" y="175"/>
                  <a:pt x="82" y="229"/>
                  <a:pt x="95" y="215"/>
                </a:cubicBezTo>
                <a:cubicBezTo>
                  <a:pt x="108" y="201"/>
                  <a:pt x="67" y="68"/>
                  <a:pt x="79" y="34"/>
                </a:cubicBezTo>
                <a:cubicBezTo>
                  <a:pt x="91" y="0"/>
                  <a:pt x="153" y="18"/>
                  <a:pt x="166" y="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84600" y="4960800"/>
            <a:ext cx="273240" cy="389160"/>
          </a:xfrm>
          <a:custGeom>
            <a:avLst/>
            <a:gdLst/>
            <a:ahLst/>
            <a:rect l="l" t="t" r="r" b="b"/>
            <a:pathLst>
              <a:path w="181" h="245">
                <a:moveTo>
                  <a:pt x="177" y="245"/>
                </a:moveTo>
                <a:cubicBezTo>
                  <a:pt x="91" y="212"/>
                  <a:pt x="6" y="180"/>
                  <a:pt x="3" y="158"/>
                </a:cubicBezTo>
                <a:cubicBezTo>
                  <a:pt x="0" y="136"/>
                  <a:pt x="141" y="137"/>
                  <a:pt x="161" y="111"/>
                </a:cubicBezTo>
                <a:cubicBezTo>
                  <a:pt x="181" y="85"/>
                  <a:pt x="132" y="18"/>
                  <a:pt x="1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612200" y="53704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588080" y="483192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6058080" y="4781520"/>
            <a:ext cx="42696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13360" y="553392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5545080" y="5673600"/>
            <a:ext cx="540000" cy="489240"/>
            <a:chOff x="5545080" y="5673600"/>
            <a:chExt cx="540000" cy="489240"/>
          </a:xfrm>
        </p:grpSpPr>
        <p:grpSp>
          <p:nvGrpSpPr>
            <p:cNvPr id="606" name=""/>
            <p:cNvGrpSpPr/>
            <p:nvPr/>
          </p:nvGrpSpPr>
          <p:grpSpPr>
            <a:xfrm>
              <a:off x="5628960" y="5673600"/>
              <a:ext cx="366120" cy="489240"/>
              <a:chOff x="5628960" y="5673600"/>
              <a:chExt cx="366120" cy="489240"/>
            </a:xfrm>
          </p:grpSpPr>
          <p:sp>
            <p:nvSpPr>
              <p:cNvPr id="607" name=""/>
              <p:cNvSpPr/>
              <p:nvPr/>
            </p:nvSpPr>
            <p:spPr>
              <a:xfrm>
                <a:off x="5628960" y="5730840"/>
                <a:ext cx="363240" cy="430200"/>
              </a:xfrm>
              <a:custGeom>
                <a:avLst/>
                <a:gdLst/>
                <a:ahLst/>
                <a:rect l="l" t="t" r="r" b="b"/>
                <a:pathLst>
                  <a:path w="242" h="271">
                    <a:moveTo>
                      <a:pt x="0" y="0"/>
                    </a:moveTo>
                    <a:lnTo>
                      <a:pt x="0" y="265"/>
                    </a:lnTo>
                    <a:lnTo>
                      <a:pt x="5" y="270"/>
                    </a:lnTo>
                    <a:lnTo>
                      <a:pt x="237" y="265"/>
                    </a:lnTo>
                    <a:lnTo>
                      <a:pt x="239" y="256"/>
                    </a:lnTo>
                    <a:lnTo>
                      <a:pt x="241" y="5"/>
                    </a:lnTo>
                    <a:lnTo>
                      <a:pt x="2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637960" y="5730840"/>
                <a:ext cx="357120" cy="423720"/>
              </a:xfrm>
              <a:custGeom>
                <a:avLst/>
                <a:gdLst/>
                <a:ahLst/>
                <a:rect l="l" t="t" r="r" b="b"/>
                <a:pathLst>
                  <a:path w="238" h="267">
                    <a:moveTo>
                      <a:pt x="0" y="0"/>
                    </a:moveTo>
                    <a:lnTo>
                      <a:pt x="237" y="0"/>
                    </a:lnTo>
                    <a:lnTo>
                      <a:pt x="237" y="266"/>
                    </a:lnTo>
                    <a:lnTo>
                      <a:pt x="0" y="26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54160" y="5749920"/>
                <a:ext cx="322560" cy="412920"/>
              </a:xfrm>
              <a:custGeom>
                <a:avLst/>
                <a:gdLst/>
                <a:ahLst/>
                <a:rect l="l" t="t" r="r" b="b"/>
                <a:pathLst>
                  <a:path w="215" h="260">
                    <a:moveTo>
                      <a:pt x="0" y="0"/>
                    </a:moveTo>
                    <a:lnTo>
                      <a:pt x="214" y="0"/>
                    </a:lnTo>
                    <a:lnTo>
                      <a:pt x="214" y="259"/>
                    </a:lnTo>
                    <a:lnTo>
                      <a:pt x="0" y="25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630400" y="5738760"/>
                <a:ext cx="0" cy="1800"/>
              </a:xfrm>
              <a:prstGeom prst="line">
                <a:avLst/>
              </a:prstGeom>
              <a:ln w="12600">
                <a:solidFill>
                  <a:srgbClr val="83d0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43880" y="5761080"/>
                <a:ext cx="109440" cy="27000"/>
              </a:xfrm>
              <a:custGeom>
                <a:avLst/>
                <a:gdLst/>
                <a:ahLst/>
                <a:rect l="l" t="t" r="r" b="b"/>
                <a:pathLst>
                  <a:path w="73" h="17">
                    <a:moveTo>
                      <a:pt x="0" y="0"/>
                    </a:moveTo>
                    <a:lnTo>
                      <a:pt x="72" y="0"/>
                    </a:lnTo>
                    <a:lnTo>
                      <a:pt x="7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637960" y="5746680"/>
                <a:ext cx="0" cy="3240"/>
              </a:xfrm>
              <a:prstGeom prst="line">
                <a:avLst/>
              </a:prstGeom>
              <a:ln w="12600">
                <a:solidFill>
                  <a:srgbClr val="83d0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851080" y="5769000"/>
                <a:ext cx="109440" cy="27000"/>
              </a:xfrm>
              <a:custGeom>
                <a:avLst/>
                <a:gdLst/>
                <a:ahLst/>
                <a:rect l="l" t="t" r="r" b="b"/>
                <a:pathLst>
                  <a:path w="73" h="17">
                    <a:moveTo>
                      <a:pt x="0" y="0"/>
                    </a:moveTo>
                    <a:lnTo>
                      <a:pt x="72" y="0"/>
                    </a:lnTo>
                    <a:lnTo>
                      <a:pt x="7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945760" y="567360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16" y="39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16" y="39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83d0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545080" y="5810400"/>
              <a:ext cx="54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466560" y="318780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voice dis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5560" y="123516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wireless and personal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50160" y="1755720"/>
            <a:ext cx="32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single (multimode) ter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5200" y="2259000"/>
            <a:ext cx="64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roaming procedures, vertical HO, bandwidth segr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1668000">
            <a:off x="178920" y="2026800"/>
            <a:ext cx="2087640" cy="184320"/>
          </a:xfrm>
          <a:prstGeom prst="rightArrow">
            <a:avLst>
              <a:gd name="adj1" fmla="val 50000"/>
              <a:gd name="adj2" fmla="val 283154"/>
            </a:avLst>
          </a:prstGeom>
          <a:solidFill>
            <a:srgbClr val="0000cc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487600" y="3349800"/>
            <a:ext cx="406440" cy="152280"/>
          </a:xfrm>
          <a:prstGeom prst="rightArrow">
            <a:avLst>
              <a:gd name="adj1" fmla="val 50000"/>
              <a:gd name="adj2" fmla="val 66726"/>
            </a:avLst>
          </a:prstGeom>
          <a:solidFill>
            <a:srgbClr val="0000cc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499000" y="3321000"/>
            <a:ext cx="406440" cy="152280"/>
          </a:xfrm>
          <a:prstGeom prst="rightArrow">
            <a:avLst>
              <a:gd name="adj1" fmla="val 50000"/>
              <a:gd name="adj2" fmla="val 66726"/>
            </a:avLst>
          </a:prstGeom>
          <a:solidFill>
            <a:srgbClr val="0000cc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7:40:13Z</dcterms:created>
  <dc:creator>Laptop</dc:creator>
  <dc:description/>
  <dc:language>en-US</dc:language>
  <cp:lastModifiedBy>**********</cp:lastModifiedBy>
  <cp:lastPrinted>2001-02-26T16:05:52Z</cp:lastPrinted>
  <dcterms:modified xsi:type="dcterms:W3CDTF">2001-04-24T12:17:09Z</dcterms:modified>
  <cp:revision>654</cp:revision>
  <dc:subject/>
  <dc:title>The Management Team</dc:title>
</cp:coreProperties>
</file>