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0954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5900760" y="-360"/>
            <a:ext cx="84312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95320" y="74088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99640" y="4698720"/>
            <a:ext cx="2646360" cy="12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618120"/>
            <a:ext cx="67464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6373800" y="9618120"/>
            <a:ext cx="3700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D3879A4-0F5F-4A71-83BC-58ADD7CB0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6373800" y="9618120"/>
            <a:ext cx="3700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FC7DA5F-93BD-486A-B053-1B46C7B49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0" y="9618120"/>
            <a:ext cx="67464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-360" y="-360"/>
            <a:ext cx="10954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5900760" y="-360"/>
            <a:ext cx="84312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066680" y="86832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47440" y="4836960"/>
            <a:ext cx="5103720" cy="43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6373800" y="9618120"/>
            <a:ext cx="3700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D145800-BAAE-44FF-ABFD-0E245CCF9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0" y="9618120"/>
            <a:ext cx="67464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-360"/>
            <a:ext cx="10954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5900760" y="-360"/>
            <a:ext cx="84312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066680" y="86832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847440" y="4836960"/>
            <a:ext cx="5103720" cy="43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6373800" y="9618120"/>
            <a:ext cx="3700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3B41689-1EE3-45AC-A07D-735035183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0" y="9618120"/>
            <a:ext cx="67464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-360" y="-360"/>
            <a:ext cx="10954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900760" y="-360"/>
            <a:ext cx="84312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898560" y="74448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896400" y="4698720"/>
            <a:ext cx="4945320" cy="44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6373800" y="9618120"/>
            <a:ext cx="3700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994D9B8-2AAB-45B4-B9BC-92A169E5C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0" y="9618120"/>
            <a:ext cx="67464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-360"/>
            <a:ext cx="109548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900760" y="-360"/>
            <a:ext cx="84312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898560" y="74448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896400" y="4698720"/>
            <a:ext cx="4945320" cy="44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96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7880" y="15238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89960" y="15238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7880" y="39121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89960" y="39121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63480" y="53640"/>
            <a:ext cx="7718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00"/>
              </a:lnSpc>
              <a:spcBef>
                <a:spcPts val="47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5238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5238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9121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9121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63480" y="53640"/>
            <a:ext cx="7718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00"/>
              </a:lnSpc>
              <a:spcBef>
                <a:spcPts val="47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9600" y="39121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9600" y="15238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098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7718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lvl="1" marL="754200" indent="-28116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lvl="2" marL="1263600" indent="-31896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lvl="3" marL="1690560" indent="-23652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lvl="4" marL="2093760" indent="-19044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lvl="5" marL="2093760" indent="-19044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lvl="6" marL="2093760" indent="-190440">
              <a:lnSpc>
                <a:spcPts val="3098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7939080" y="6642000"/>
            <a:ext cx="1125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326880" y="114120"/>
            <a:ext cx="12960" cy="120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1920" y="228600"/>
            <a:ext cx="1125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013520" y="6180120"/>
          <a:ext cx="1838520" cy="39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3520" y="6180120"/>
                    <a:ext cx="183852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295200" y="638316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4275-7CE7-4DD5-9BEC-B944F4DCC641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991720" y="5943600"/>
            <a:ext cx="0" cy="9144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masini" descr=""/>
          <p:cNvPicPr/>
          <p:nvPr/>
        </p:nvPicPr>
        <p:blipFill>
          <a:blip r:embed="rId2"/>
          <a:srcRect l="12069" t="0" r="0" b="0"/>
          <a:stretch/>
        </p:blipFill>
        <p:spPr>
          <a:xfrm>
            <a:off x="0" y="0"/>
            <a:ext cx="3886200" cy="346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25760"/>
            <a:ext cx="5638680" cy="342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67160" y="0"/>
            <a:ext cx="5676840" cy="34257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800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4648320"/>
            <a:ext cx="2666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400800" y="6310440"/>
            <a:ext cx="1981080" cy="3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23720" y="304920"/>
            <a:ext cx="8467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From Service Control alignment to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Open Service Archite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55640" y="1709640"/>
            <a:ext cx="7454880" cy="3435480"/>
            <a:chOff x="755640" y="1709640"/>
            <a:chExt cx="7454880" cy="3435480"/>
          </a:xfrm>
        </p:grpSpPr>
        <p:sp>
          <p:nvSpPr>
            <p:cNvPr id="96" name=""/>
            <p:cNvSpPr/>
            <p:nvPr/>
          </p:nvSpPr>
          <p:spPr>
            <a:xfrm>
              <a:off x="4206960" y="2770200"/>
              <a:ext cx="0" cy="2085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5546880" y="4117680"/>
              <a:ext cx="155088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711040" y="4167720"/>
              <a:ext cx="117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irel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etwork G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14640" y="4386240"/>
              <a:ext cx="2532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24560" y="3414960"/>
              <a:ext cx="914400" cy="644400"/>
            </a:xfrm>
            <a:prstGeom prst="flowChartMagneticDisk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-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04880" y="3136680"/>
              <a:ext cx="1476360" cy="179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atew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236320" y="3315960"/>
              <a:ext cx="7164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13480" y="3046320"/>
              <a:ext cx="1477800" cy="179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atew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92960" y="3297240"/>
              <a:ext cx="271440" cy="20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14560" y="3895560"/>
              <a:ext cx="293760" cy="223920"/>
            </a:xfrm>
            <a:custGeom>
              <a:avLst/>
              <a:gdLst/>
              <a:ahLst/>
              <a:rect l="l" t="t" r="r" b="b"/>
              <a:pathLst>
                <a:path w="200" h="240">
                  <a:moveTo>
                    <a:pt x="200" y="0"/>
                  </a:moveTo>
                  <a:cubicBezTo>
                    <a:pt x="108" y="32"/>
                    <a:pt x="16" y="64"/>
                    <a:pt x="8" y="96"/>
                  </a:cubicBezTo>
                  <a:cubicBezTo>
                    <a:pt x="0" y="128"/>
                    <a:pt x="144" y="168"/>
                    <a:pt x="152" y="192"/>
                  </a:cubicBezTo>
                  <a:cubicBezTo>
                    <a:pt x="160" y="216"/>
                    <a:pt x="108" y="228"/>
                    <a:pt x="56" y="24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36680" y="2154240"/>
              <a:ext cx="4079880" cy="492120"/>
            </a:xfrm>
            <a:prstGeom prst="ellipse">
              <a:avLst/>
            </a:prstGeom>
            <a:solidFill>
              <a:srgbClr val="66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ervices and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658960" y="2646360"/>
              <a:ext cx="774720" cy="49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2320" y="2601720"/>
              <a:ext cx="914400" cy="44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82600" y="2377800"/>
              <a:ext cx="3024360" cy="714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206960" y="2377440"/>
              <a:ext cx="2954160" cy="714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4320" y="1709640"/>
              <a:ext cx="1982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Service Provi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22320" y="3161160"/>
              <a:ext cx="18068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Fixed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7072560" y="3596400"/>
              <a:ext cx="1935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Mobile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86040" y="3367440"/>
              <a:ext cx="914400" cy="644400"/>
            </a:xfrm>
            <a:prstGeom prst="flowChartMagneticDisk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-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1467000" y="4117680"/>
              <a:ext cx="155088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642680" y="4177440"/>
              <a:ext cx="1148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ixed 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" name=""/>
            <p:cNvCxnSpPr>
              <a:stCxn id="97" idx="0"/>
              <a:endCxn id="100" idx="3"/>
            </p:cNvCxnSpPr>
            <p:nvPr/>
          </p:nvCxnSpPr>
          <p:spPr>
            <a:xfrm flipH="1" flipV="1" rot="5400000">
              <a:off x="6572880" y="3808800"/>
              <a:ext cx="58680" cy="559800"/>
            </a:xfrm>
            <a:prstGeom prst="curvedConnector3">
              <a:avLst>
                <a:gd name="adj1" fmla="val 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5070600" y="3526920"/>
              <a:ext cx="914400" cy="592560"/>
            </a:xfrm>
            <a:prstGeom prst="flowChartMagneticDisk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L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42040" y="4019400"/>
              <a:ext cx="236520" cy="255600"/>
            </a:xfrm>
            <a:custGeom>
              <a:avLst/>
              <a:gdLst/>
              <a:ahLst/>
              <a:rect l="l" t="t" r="r" b="b"/>
              <a:pathLst>
                <a:path w="344" h="336">
                  <a:moveTo>
                    <a:pt x="344" y="336"/>
                  </a:moveTo>
                  <a:cubicBezTo>
                    <a:pt x="228" y="316"/>
                    <a:pt x="112" y="296"/>
                    <a:pt x="56" y="240"/>
                  </a:cubicBezTo>
                  <a:cubicBezTo>
                    <a:pt x="0" y="184"/>
                    <a:pt x="40" y="24"/>
                    <a:pt x="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748480" y="3245760"/>
              <a:ext cx="3553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4560" y="3273120"/>
              <a:ext cx="1981080" cy="516240"/>
            </a:xfrm>
            <a:prstGeom prst="leftRightArrow">
              <a:avLst>
                <a:gd name="adj1" fmla="val 50000"/>
                <a:gd name="adj2" fmla="val 76395"/>
              </a:avLst>
            </a:prstGeom>
            <a:gradFill rotWithShape="0">
              <a:gsLst>
                <a:gs pos="0">
                  <a:srgbClr val="ffff99"/>
                </a:gs>
                <a:gs pos="50000">
                  <a:srgbClr val="fefee9"/>
                </a:gs>
                <a:gs pos="100000">
                  <a:srgbClr val="ffff99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alignm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8616200">
              <a:off x="5162400" y="2351160"/>
              <a:ext cx="257040" cy="762120"/>
            </a:xfrm>
            <a:prstGeom prst="upArrow">
              <a:avLst>
                <a:gd name="adj1" fmla="val 50000"/>
                <a:gd name="adj2" fmla="val 74125"/>
              </a:avLst>
            </a:prstGeom>
            <a:gradFill rotWithShape="0">
              <a:gsLst>
                <a:gs pos="0">
                  <a:srgbClr val="ffff99"/>
                </a:gs>
                <a:gs pos="50000">
                  <a:srgbClr val="fefee9"/>
                </a:gs>
                <a:gs pos="100000">
                  <a:srgbClr val="ffff99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168400">
              <a:off x="3258720" y="2543040"/>
              <a:ext cx="406440" cy="485640"/>
            </a:xfrm>
            <a:prstGeom prst="upArrow">
              <a:avLst>
                <a:gd name="adj1" fmla="val 50000"/>
                <a:gd name="adj2" fmla="val 29872"/>
              </a:avLst>
            </a:prstGeom>
            <a:gradFill rotWithShape="0">
              <a:gsLst>
                <a:gs pos="0">
                  <a:srgbClr val="ffff99"/>
                </a:gs>
                <a:gs pos="50000">
                  <a:srgbClr val="fefee9"/>
                </a:gs>
                <a:gs pos="100000">
                  <a:srgbClr val="ffff99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29160" y="2529720"/>
              <a:ext cx="13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open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72280" y="4778280"/>
              <a:ext cx="999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/</a:t>
              </a:r>
              <a:r>
                <a:rPr b="1" lang="en-US" sz="1800" spc="-1" strike="noStrike">
                  <a:solidFill>
                    <a:srgbClr val="231ad6"/>
                  </a:solidFill>
                  <a:latin typeface="Arial"/>
                </a:rPr>
                <a:t>S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68640" y="4716360"/>
              <a:ext cx="1213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SC/</a:t>
              </a:r>
              <a:r>
                <a:rPr b="1" lang="en-US" sz="1800" spc="-1" strike="noStrike">
                  <a:solidFill>
                    <a:srgbClr val="231ad6"/>
                  </a:solidFill>
                  <a:latin typeface="Arial"/>
                </a:rPr>
                <a:t>S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45880" y="557532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Open Service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02840" y="5616720"/>
            <a:ext cx="33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a new 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new service creation moda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etwork - service transpar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8280" y="5688000"/>
            <a:ext cx="0" cy="838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723360" y="3492360"/>
            <a:ext cx="1878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Applica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400" y="3581280"/>
            <a:ext cx="14976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Interfa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74760" y="4392720"/>
            <a:ext cx="2268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Service Control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7960" y="5110200"/>
            <a:ext cx="1637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Resource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880" y="4821120"/>
            <a:ext cx="191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Control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25840" y="3414600"/>
            <a:ext cx="1627200" cy="522360"/>
          </a:xfrm>
          <a:prstGeom prst="rect">
            <a:avLst/>
          </a:prstGeom>
          <a:solidFill>
            <a:srgbClr val="67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54520" y="3414600"/>
            <a:ext cx="1628640" cy="522360"/>
          </a:xfrm>
          <a:prstGeom prst="rect">
            <a:avLst/>
          </a:prstGeom>
          <a:solidFill>
            <a:srgbClr val="67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53040" y="3633840"/>
            <a:ext cx="501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11480" y="4314960"/>
            <a:ext cx="4260600" cy="538200"/>
          </a:xfrm>
          <a:prstGeom prst="rect">
            <a:avLst/>
          </a:prstGeom>
          <a:solidFill>
            <a:srgbClr val="c0c0c0"/>
          </a:soli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twork intelligence servers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393696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78280" y="393696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68800" y="393696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83120" y="393696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85960" y="4111560"/>
            <a:ext cx="35704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9800" y="5072040"/>
            <a:ext cx="1692360" cy="392040"/>
          </a:xfrm>
          <a:prstGeom prst="rect">
            <a:avLst/>
          </a:prstGeom>
          <a:solidFill>
            <a:srgbClr val="b3b3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pecial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36880" y="4853160"/>
            <a:ext cx="0" cy="21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75000" y="4853160"/>
            <a:ext cx="0" cy="21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78280" y="4853160"/>
            <a:ext cx="0" cy="21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76880" y="4853160"/>
            <a:ext cx="0" cy="21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853160"/>
            <a:ext cx="0" cy="21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2120" y="4853160"/>
            <a:ext cx="0" cy="21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06960" y="4853160"/>
            <a:ext cx="0" cy="21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0200" y="5419800"/>
            <a:ext cx="500040" cy="39348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336" y="0"/>
                </a:moveTo>
                <a:lnTo>
                  <a:pt x="96" y="192"/>
                </a:lnTo>
                <a:lnTo>
                  <a:pt x="0" y="384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5000" y="5419800"/>
            <a:ext cx="565200" cy="39348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0"/>
                </a:moveTo>
                <a:lnTo>
                  <a:pt x="336" y="192"/>
                </a:lnTo>
                <a:lnTo>
                  <a:pt x="384" y="384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02120" y="5419800"/>
            <a:ext cx="1566720" cy="350640"/>
          </a:xfrm>
          <a:custGeom>
            <a:avLst/>
            <a:gdLst/>
            <a:ahLst/>
            <a:rect l="l" t="t" r="r" b="b"/>
            <a:pathLst>
              <a:path w="1008" h="336">
                <a:moveTo>
                  <a:pt x="0" y="0"/>
                </a:moveTo>
                <a:lnTo>
                  <a:pt x="864" y="144"/>
                </a:lnTo>
                <a:lnTo>
                  <a:pt x="1008" y="336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5770440"/>
            <a:ext cx="1315800" cy="390600"/>
          </a:xfrm>
          <a:prstGeom prst="ellipse">
            <a:avLst/>
          </a:prstGeom>
          <a:solidFill>
            <a:srgbClr val="b3b3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71640" y="5770440"/>
            <a:ext cx="1316160" cy="390600"/>
          </a:xfrm>
          <a:prstGeom prst="ellipse">
            <a:avLst/>
          </a:prstGeom>
          <a:solidFill>
            <a:srgbClr val="b3b3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92640" y="5726160"/>
            <a:ext cx="1316160" cy="390600"/>
          </a:xfrm>
          <a:prstGeom prst="ellipse">
            <a:avLst/>
          </a:prstGeom>
          <a:solidFill>
            <a:srgbClr val="b3b3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09760" y="5072040"/>
            <a:ext cx="2444760" cy="392040"/>
          </a:xfrm>
          <a:prstGeom prst="rect">
            <a:avLst/>
          </a:prstGeom>
          <a:solidFill>
            <a:srgbClr val="b3b3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twork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9680" y="304920"/>
            <a:ext cx="846756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Open Service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341360"/>
            <a:ext cx="58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a single application for several transport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3360" y="1762200"/>
            <a:ext cx="58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control modules implementing service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47920" y="2224080"/>
            <a:ext cx="57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opening of programming interfaces to third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570200">
            <a:off x="334440" y="2122560"/>
            <a:ext cx="2089440" cy="187200"/>
          </a:xfrm>
          <a:prstGeom prst="rightArrow">
            <a:avLst>
              <a:gd name="adj1" fmla="val 50000"/>
              <a:gd name="adj2" fmla="val 279038"/>
            </a:avLst>
          </a:prstGeom>
          <a:solidFill>
            <a:srgbClr val="67beff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2520" y="304920"/>
            <a:ext cx="8467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Wireless and IP - converging between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continuous and discrete mobility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502240" y="4344840"/>
            <a:ext cx="2158560" cy="1932840"/>
            <a:chOff x="5502240" y="4344840"/>
            <a:chExt cx="2158560" cy="1932840"/>
          </a:xfrm>
        </p:grpSpPr>
        <p:sp>
          <p:nvSpPr>
            <p:cNvPr id="166" name=""/>
            <p:cNvSpPr/>
            <p:nvPr/>
          </p:nvSpPr>
          <p:spPr>
            <a:xfrm>
              <a:off x="5502240" y="4672440"/>
              <a:ext cx="1211040" cy="1292040"/>
            </a:xfrm>
            <a:prstGeom prst="ellipse">
              <a:avLst/>
            </a:prstGeom>
            <a:solidFill>
              <a:srgbClr val="8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97280" y="4774320"/>
              <a:ext cx="1163520" cy="1166040"/>
            </a:xfrm>
            <a:prstGeom prst="ellipse">
              <a:avLst/>
            </a:prstGeom>
            <a:solidFill>
              <a:srgbClr val="8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16280" y="5133960"/>
              <a:ext cx="1068120" cy="1085400"/>
            </a:xfrm>
            <a:prstGeom prst="ellipse">
              <a:avLst/>
            </a:prstGeom>
            <a:solidFill>
              <a:srgbClr val="8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84600" y="4451400"/>
              <a:ext cx="1020600" cy="910440"/>
            </a:xfrm>
            <a:prstGeom prst="ellipse">
              <a:avLst/>
            </a:prstGeom>
            <a:solidFill>
              <a:srgbClr val="8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17680" y="5097600"/>
              <a:ext cx="921960" cy="1180080"/>
            </a:xfrm>
            <a:prstGeom prst="ellipse">
              <a:avLst/>
            </a:prstGeom>
            <a:solidFill>
              <a:srgbClr val="8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26600" y="4344840"/>
              <a:ext cx="921960" cy="1218600"/>
            </a:xfrm>
            <a:prstGeom prst="ellipse">
              <a:avLst/>
            </a:prstGeom>
            <a:solidFill>
              <a:srgbClr val="8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937120" y="4797360"/>
            <a:ext cx="1233720" cy="328680"/>
          </a:xfrm>
          <a:prstGeom prst="rect">
            <a:avLst/>
          </a:prstGeom>
          <a:solidFill>
            <a:srgbClr val="8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ct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40120" y="4416480"/>
            <a:ext cx="200160" cy="303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9"/>
              </a:gs>
              <a:gs pos="100000">
                <a:srgbClr val="ffff99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30920" y="5994360"/>
            <a:ext cx="199800" cy="303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9"/>
              </a:gs>
              <a:gs pos="100000">
                <a:srgbClr val="ffff99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645320" y="4392720"/>
            <a:ext cx="1206360" cy="748800"/>
            <a:chOff x="7645320" y="4392720"/>
            <a:chExt cx="1206360" cy="748800"/>
          </a:xfrm>
        </p:grpSpPr>
        <p:sp>
          <p:nvSpPr>
            <p:cNvPr id="176" name=""/>
            <p:cNvSpPr/>
            <p:nvPr/>
          </p:nvSpPr>
          <p:spPr>
            <a:xfrm>
              <a:off x="7645320" y="4519440"/>
              <a:ext cx="676800" cy="50076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01520" y="4559040"/>
              <a:ext cx="650160" cy="4518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160" y="4698360"/>
              <a:ext cx="597240" cy="42048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38520" y="4434120"/>
              <a:ext cx="570600" cy="3528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77520" y="4684320"/>
              <a:ext cx="51516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26400" y="4392720"/>
              <a:ext cx="515160" cy="47232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889760" y="4567320"/>
            <a:ext cx="689040" cy="328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ct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79440" y="4511520"/>
            <a:ext cx="13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Times New Roman"/>
              </a:rPr>
              <a:t>PSTN/PL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57760" y="5808600"/>
            <a:ext cx="523800" cy="358920"/>
          </a:xfrm>
          <a:prstGeom prst="rect">
            <a:avLst/>
          </a:prstGeom>
          <a:solidFill>
            <a:srgbClr val="ff816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56160" y="4732200"/>
            <a:ext cx="525600" cy="358920"/>
          </a:xfrm>
          <a:prstGeom prst="rect">
            <a:avLst/>
          </a:prstGeom>
          <a:solidFill>
            <a:srgbClr val="ff816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60640" y="4656240"/>
            <a:ext cx="452520" cy="533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H="1">
            <a:off x="4562640" y="4122720"/>
            <a:ext cx="7920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1840" y="4124160"/>
            <a:ext cx="79560" cy="38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562640" y="4379760"/>
            <a:ext cx="12996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4590720" y="4381560"/>
            <a:ext cx="1285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562640" y="4270320"/>
            <a:ext cx="10476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613040" y="4270320"/>
            <a:ext cx="10476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640400" y="4038120"/>
            <a:ext cx="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13400" y="4095720"/>
            <a:ext cx="5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13400" y="4075200"/>
            <a:ext cx="5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13400" y="4054320"/>
            <a:ext cx="5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768920" y="6210360"/>
            <a:ext cx="7920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49920" y="6211800"/>
            <a:ext cx="7920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768920" y="6467400"/>
            <a:ext cx="13176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797360" y="6469200"/>
            <a:ext cx="1303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768920" y="6357960"/>
            <a:ext cx="10620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4819320" y="6357960"/>
            <a:ext cx="10620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846680" y="6125760"/>
            <a:ext cx="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19680" y="6183360"/>
            <a:ext cx="5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19680" y="6162840"/>
            <a:ext cx="5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19680" y="6141960"/>
            <a:ext cx="5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64120" y="4703760"/>
            <a:ext cx="1443240" cy="706320"/>
          </a:xfrm>
          <a:custGeom>
            <a:avLst/>
            <a:gdLst/>
            <a:ahLst/>
            <a:rect l="l" t="t" r="r" b="b"/>
            <a:pathLst>
              <a:path w="1527" h="624">
                <a:moveTo>
                  <a:pt x="0" y="160"/>
                </a:moveTo>
                <a:cubicBezTo>
                  <a:pt x="99" y="80"/>
                  <a:pt x="198" y="0"/>
                  <a:pt x="365" y="64"/>
                </a:cubicBezTo>
                <a:cubicBezTo>
                  <a:pt x="532" y="128"/>
                  <a:pt x="805" y="464"/>
                  <a:pt x="999" y="544"/>
                </a:cubicBezTo>
                <a:cubicBezTo>
                  <a:pt x="1193" y="624"/>
                  <a:pt x="1439" y="544"/>
                  <a:pt x="1527" y="5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00640" y="5492880"/>
            <a:ext cx="1233720" cy="696960"/>
          </a:xfrm>
          <a:custGeom>
            <a:avLst/>
            <a:gdLst/>
            <a:ahLst/>
            <a:rect l="l" t="t" r="r" b="b"/>
            <a:pathLst>
              <a:path w="1305" h="615">
                <a:moveTo>
                  <a:pt x="0" y="442"/>
                </a:moveTo>
                <a:cubicBezTo>
                  <a:pt x="250" y="528"/>
                  <a:pt x="500" y="615"/>
                  <a:pt x="681" y="557"/>
                </a:cubicBezTo>
                <a:cubicBezTo>
                  <a:pt x="862" y="499"/>
                  <a:pt x="981" y="189"/>
                  <a:pt x="1085" y="96"/>
                </a:cubicBezTo>
                <a:cubicBezTo>
                  <a:pt x="1189" y="3"/>
                  <a:pt x="1270" y="16"/>
                  <a:pt x="130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80360" y="5219640"/>
            <a:ext cx="525240" cy="360360"/>
          </a:xfrm>
          <a:prstGeom prst="rect">
            <a:avLst/>
          </a:prstGeom>
          <a:solidFill>
            <a:srgbClr val="ff816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99360" y="4520520"/>
            <a:ext cx="11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Times New Roman"/>
              </a:rPr>
              <a:t>mobile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Times New Roman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30920" y="4656240"/>
            <a:ext cx="52524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130720" y="5994000"/>
            <a:ext cx="527040" cy="15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9200" y="47923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Times New Roman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50800" y="6249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Times New Roman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20160" y="495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18800" y="5796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20943000">
            <a:off x="6318000" y="5340240"/>
            <a:ext cx="117360" cy="347760"/>
          </a:xfrm>
          <a:prstGeom prst="downArrow">
            <a:avLst>
              <a:gd name="adj1" fmla="val 50000"/>
              <a:gd name="adj2" fmla="val 74080"/>
            </a:avLst>
          </a:prstGeom>
          <a:gradFill rotWithShape="0">
            <a:gsLst>
              <a:gs pos="0">
                <a:srgbClr val="ffff99"/>
              </a:gs>
              <a:gs pos="50000">
                <a:srgbClr val="fefee9"/>
              </a:gs>
              <a:gs pos="100000">
                <a:srgbClr val="ffff99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21007200">
            <a:off x="4485960" y="5124240"/>
            <a:ext cx="100080" cy="792000"/>
          </a:xfrm>
          <a:prstGeom prst="downArrow">
            <a:avLst>
              <a:gd name="adj1" fmla="val 50000"/>
              <a:gd name="adj2" fmla="val 197842"/>
            </a:avLst>
          </a:prstGeom>
          <a:gradFill rotWithShape="0">
            <a:gsLst>
              <a:gs pos="0">
                <a:srgbClr val="ffff99"/>
              </a:gs>
              <a:gs pos="50000">
                <a:srgbClr val="fefee9"/>
              </a:gs>
              <a:gs pos="100000">
                <a:srgbClr val="ffff99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46600" y="5091120"/>
            <a:ext cx="119160" cy="7174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5865840" y="5091120"/>
            <a:ext cx="117360" cy="69696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67280" y="5081760"/>
            <a:ext cx="198360" cy="3013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9"/>
              </a:gs>
              <a:gs pos="100000">
                <a:srgbClr val="ffff99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165640" y="5014440"/>
            <a:ext cx="29052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65400" y="5705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Times New Roman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3680" y="436860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Times New Roman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2920" y="616248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Times New Roman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924680" y="5136840"/>
            <a:ext cx="203400" cy="2588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7880" y="525780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the GPRS com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36160" y="2868480"/>
            <a:ext cx="37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Mobile - IP in the Cor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3433680"/>
            <a:ext cx="200160" cy="303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9"/>
              </a:gs>
              <a:gs pos="100000">
                <a:srgbClr val="ffff99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64800" y="3139920"/>
            <a:ext cx="7956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46160" y="3141720"/>
            <a:ext cx="7776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965160" y="3397320"/>
            <a:ext cx="13176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993600" y="3398760"/>
            <a:ext cx="1303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965160" y="3287880"/>
            <a:ext cx="10656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1015920" y="3287880"/>
            <a:ext cx="10656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042920" y="3055680"/>
            <a:ext cx="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15920" y="3112920"/>
            <a:ext cx="5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15920" y="3092400"/>
            <a:ext cx="5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15920" y="3071880"/>
            <a:ext cx="5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81720" y="38095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Times New Roman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3429000"/>
            <a:ext cx="200160" cy="303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9"/>
              </a:gs>
              <a:gs pos="100000">
                <a:srgbClr val="ffff99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53840" y="3809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Times New Roman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73280" y="3429000"/>
            <a:ext cx="201600" cy="303120"/>
          </a:xfrm>
          <a:prstGeom prst="rect">
            <a:avLst/>
          </a:prstGeom>
          <a:solidFill>
            <a:srgbClr val="fb847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9560" y="3429000"/>
            <a:ext cx="199800" cy="303120"/>
          </a:xfrm>
          <a:prstGeom prst="rect">
            <a:avLst/>
          </a:prstGeom>
          <a:solidFill>
            <a:srgbClr val="fb847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71440" y="2895480"/>
            <a:ext cx="452520" cy="533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328480" y="3809520"/>
            <a:ext cx="141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Times New Roman"/>
              </a:rPr>
              <a:t>Cor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84320" y="1752480"/>
            <a:ext cx="2438280" cy="3812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Times New Roman"/>
              </a:rPr>
              <a:t>IP end-to-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97200" y="2514600"/>
            <a:ext cx="812520" cy="30492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</a:rPr>
              <a:t>I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03640" y="2133720"/>
            <a:ext cx="1218960" cy="38088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</a:rPr>
              <a:t>tu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84320" y="2133720"/>
            <a:ext cx="1219320" cy="38088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</a:rPr>
              <a:t>radio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09720" y="2514600"/>
            <a:ext cx="812880" cy="30492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84320" y="2514600"/>
            <a:ext cx="812880" cy="30492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</a:rPr>
              <a:t>GSM 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63800" y="4343400"/>
            <a:ext cx="339840" cy="533520"/>
          </a:xfrm>
          <a:prstGeom prst="upArrow">
            <a:avLst>
              <a:gd name="adj1" fmla="val 50000"/>
              <a:gd name="adj2" fmla="val 39248"/>
            </a:avLst>
          </a:prstGeom>
          <a:solidFill>
            <a:srgbClr val="67beff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67320" y="3505320"/>
            <a:ext cx="338400" cy="609480"/>
          </a:xfrm>
          <a:prstGeom prst="downArrow">
            <a:avLst>
              <a:gd name="adj1" fmla="val 50000"/>
              <a:gd name="adj2" fmla="val 45027"/>
            </a:avLst>
          </a:prstGeom>
          <a:solidFill>
            <a:srgbClr val="67beff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45960" y="380880"/>
            <a:ext cx="8940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Wireless and IP - medium term convergence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between circuit and packet modes</a:t>
            </a:r>
            <a:br>
              <a:rPr sz="36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66040" y="5149800"/>
            <a:ext cx="363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4840" y="2889360"/>
            <a:ext cx="2266920" cy="2658960"/>
          </a:xfrm>
          <a:custGeom>
            <a:avLst/>
            <a:gdLst>
              <a:gd name="textAreaLeft" fmla="*/ 63720 w 2266920"/>
              <a:gd name="textAreaRight" fmla="*/ 2203200 w 2266920"/>
              <a:gd name="textAreaTop" fmla="*/ 63720 h 2658960"/>
              <a:gd name="textAreaBottom" fmla="*/ 2595240 h 2658960"/>
            </a:gdLst>
            <a:ahLst/>
            <a:rect l="textAreaLeft" t="textAreaTop" r="textAreaRight" b="textAreaBottom"/>
            <a:pathLst>
              <a:path w="21600" h="25335">
                <a:moveTo>
                  <a:pt x="2080" y="0"/>
                </a:moveTo>
                <a:arcTo wR="2080" hR="2080" stAng="16200000" swAng="-5400000"/>
                <a:lnTo>
                  <a:pt x="0" y="23255"/>
                </a:lnTo>
                <a:arcTo wR="2080" hR="2080" stAng="10800000" swAng="-5400000"/>
                <a:lnTo>
                  <a:pt x="19520" y="25335"/>
                </a:lnTo>
                <a:arcTo wR="2080" hR="2080" stAng="5400000" swAng="-5400000"/>
                <a:lnTo>
                  <a:pt x="21600" y="2080"/>
                </a:lnTo>
                <a:arcTo wR="2080" hR="2080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68440" y="3182760"/>
            <a:ext cx="943920" cy="341280"/>
            <a:chOff x="568440" y="3182760"/>
            <a:chExt cx="943920" cy="341280"/>
          </a:xfrm>
        </p:grpSpPr>
        <p:sp>
          <p:nvSpPr>
            <p:cNvPr id="259" name=""/>
            <p:cNvSpPr/>
            <p:nvPr/>
          </p:nvSpPr>
          <p:spPr>
            <a:xfrm>
              <a:off x="568440" y="3182760"/>
              <a:ext cx="895680" cy="338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1840" y="3237120"/>
              <a:ext cx="9205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No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312920" y="3338640"/>
            <a:ext cx="358560" cy="0"/>
          </a:xfrm>
          <a:prstGeom prst="line">
            <a:avLst/>
          </a:prstGeom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03240" y="5213520"/>
            <a:ext cx="981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UTR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86200" y="4041720"/>
            <a:ext cx="4111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54320" y="3825720"/>
            <a:ext cx="612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I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68280" y="3006720"/>
            <a:ext cx="696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I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54320" y="4322880"/>
            <a:ext cx="166680" cy="1951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55480" y="3666960"/>
            <a:ext cx="946080" cy="341280"/>
            <a:chOff x="555480" y="3666960"/>
            <a:chExt cx="946080" cy="341280"/>
          </a:xfrm>
        </p:grpSpPr>
        <p:sp>
          <p:nvSpPr>
            <p:cNvPr id="268" name=""/>
            <p:cNvSpPr/>
            <p:nvPr/>
          </p:nvSpPr>
          <p:spPr>
            <a:xfrm>
              <a:off x="555480" y="3666960"/>
              <a:ext cx="897480" cy="338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8880" y="3721320"/>
              <a:ext cx="9226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No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44680" y="4159080"/>
            <a:ext cx="943920" cy="340560"/>
            <a:chOff x="544680" y="4159080"/>
            <a:chExt cx="943920" cy="340560"/>
          </a:xfrm>
        </p:grpSpPr>
        <p:sp>
          <p:nvSpPr>
            <p:cNvPr id="271" name=""/>
            <p:cNvSpPr/>
            <p:nvPr/>
          </p:nvSpPr>
          <p:spPr>
            <a:xfrm>
              <a:off x="544680" y="4159080"/>
              <a:ext cx="895680" cy="339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8080" y="4212720"/>
              <a:ext cx="9205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No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33520" y="4605480"/>
            <a:ext cx="942480" cy="340200"/>
            <a:chOff x="533520" y="4605480"/>
            <a:chExt cx="942480" cy="340200"/>
          </a:xfrm>
        </p:grpSpPr>
        <p:sp>
          <p:nvSpPr>
            <p:cNvPr id="274" name=""/>
            <p:cNvSpPr/>
            <p:nvPr/>
          </p:nvSpPr>
          <p:spPr>
            <a:xfrm>
              <a:off x="533520" y="4605480"/>
              <a:ext cx="894240" cy="337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6920" y="4658760"/>
              <a:ext cx="919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No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flipV="1">
            <a:off x="1336680" y="3357360"/>
            <a:ext cx="345960" cy="415800"/>
          </a:xfrm>
          <a:prstGeom prst="line">
            <a:avLst/>
          </a:prstGeom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71480" y="3147840"/>
            <a:ext cx="1071360" cy="398520"/>
            <a:chOff x="1671480" y="3147840"/>
            <a:chExt cx="1071360" cy="398520"/>
          </a:xfrm>
        </p:grpSpPr>
        <p:sp>
          <p:nvSpPr>
            <p:cNvPr id="278" name=""/>
            <p:cNvSpPr/>
            <p:nvPr/>
          </p:nvSpPr>
          <p:spPr>
            <a:xfrm>
              <a:off x="1671480" y="3147840"/>
              <a:ext cx="1071360" cy="398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69480" y="3225600"/>
              <a:ext cx="735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N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301760" y="4314960"/>
            <a:ext cx="369720" cy="112680"/>
          </a:xfrm>
          <a:prstGeom prst="line">
            <a:avLst/>
          </a:prstGeom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336680" y="4484160"/>
            <a:ext cx="334800" cy="181080"/>
          </a:xfrm>
          <a:prstGeom prst="line">
            <a:avLst/>
          </a:prstGeom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658880" y="4276800"/>
            <a:ext cx="1060200" cy="398520"/>
            <a:chOff x="1658880" y="4276800"/>
            <a:chExt cx="1060200" cy="398520"/>
          </a:xfrm>
        </p:grpSpPr>
        <p:sp>
          <p:nvSpPr>
            <p:cNvPr id="283" name=""/>
            <p:cNvSpPr/>
            <p:nvPr/>
          </p:nvSpPr>
          <p:spPr>
            <a:xfrm>
              <a:off x="1658880" y="4276800"/>
              <a:ext cx="1060200" cy="398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54720" y="4354560"/>
              <a:ext cx="7275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N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637000" y="4419720"/>
            <a:ext cx="195120" cy="0"/>
          </a:xfrm>
          <a:prstGeom prst="line">
            <a:avLst/>
          </a:prstGeom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60680" y="2917800"/>
            <a:ext cx="1890720" cy="2649600"/>
          </a:xfrm>
          <a:custGeom>
            <a:avLst/>
            <a:gdLst>
              <a:gd name="textAreaLeft" fmla="*/ 53280 w 1890720"/>
              <a:gd name="textAreaRight" fmla="*/ 1837440 w 1890720"/>
              <a:gd name="textAreaTop" fmla="*/ 53280 h 2649600"/>
              <a:gd name="textAreaBottom" fmla="*/ 2596320 h 2649600"/>
            </a:gdLst>
            <a:ahLst/>
            <a:rect l="textAreaLeft" t="textAreaTop" r="textAreaRight" b="textAreaBottom"/>
            <a:pathLst>
              <a:path w="21600" h="30268">
                <a:moveTo>
                  <a:pt x="2080" y="0"/>
                </a:moveTo>
                <a:arcTo wR="2080" hR="2080" stAng="16200000" swAng="-5400000"/>
                <a:lnTo>
                  <a:pt x="0" y="28188"/>
                </a:lnTo>
                <a:arcTo wR="2080" hR="2080" stAng="10800000" swAng="-5400000"/>
                <a:lnTo>
                  <a:pt x="19520" y="30268"/>
                </a:lnTo>
                <a:arcTo wR="2080" hR="2080" stAng="5400000" swAng="-5400000"/>
                <a:lnTo>
                  <a:pt x="21600" y="2080"/>
                </a:lnTo>
                <a:arcTo wR="2080" hR="2080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638520" y="4255920"/>
            <a:ext cx="587520" cy="427320"/>
            <a:chOff x="3638520" y="4255920"/>
            <a:chExt cx="587520" cy="427320"/>
          </a:xfrm>
        </p:grpSpPr>
        <p:sp>
          <p:nvSpPr>
            <p:cNvPr id="288" name=""/>
            <p:cNvSpPr/>
            <p:nvPr/>
          </p:nvSpPr>
          <p:spPr>
            <a:xfrm>
              <a:off x="3638520" y="4255920"/>
              <a:ext cx="587520" cy="42732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3696840" y="4339440"/>
              <a:ext cx="468360" cy="236880"/>
              <a:chOff x="3696840" y="4339440"/>
              <a:chExt cx="468360" cy="236880"/>
            </a:xfrm>
          </p:grpSpPr>
          <p:sp>
            <p:nvSpPr>
              <p:cNvPr id="290" name=""/>
              <p:cNvSpPr/>
              <p:nvPr/>
            </p:nvSpPr>
            <p:spPr>
              <a:xfrm>
                <a:off x="3696840" y="4339440"/>
                <a:ext cx="298440" cy="236880"/>
              </a:xfrm>
              <a:custGeom>
                <a:avLst/>
                <a:gdLst/>
                <a:ahLst/>
                <a:rect l="l" t="t" r="r" b="b"/>
                <a:pathLst>
                  <a:path w="336" h="288">
                    <a:moveTo>
                      <a:pt x="0" y="288"/>
                    </a:moveTo>
                    <a:lnTo>
                      <a:pt x="192" y="288"/>
                    </a:lnTo>
                    <a:lnTo>
                      <a:pt x="336" y="0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3866400" y="4339440"/>
                <a:ext cx="298440" cy="236880"/>
              </a:xfrm>
              <a:custGeom>
                <a:avLst/>
                <a:gdLst/>
                <a:ahLst/>
                <a:rect l="l" t="t" r="r" b="b"/>
                <a:pathLst>
                  <a:path w="336" h="288">
                    <a:moveTo>
                      <a:pt x="0" y="288"/>
                    </a:moveTo>
                    <a:lnTo>
                      <a:pt x="192" y="288"/>
                    </a:lnTo>
                    <a:lnTo>
                      <a:pt x="336" y="0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3252960" y="4373640"/>
            <a:ext cx="363240" cy="0"/>
          </a:xfrm>
          <a:prstGeom prst="line">
            <a:avLst/>
          </a:prstGeom>
          <a:ln w="76320">
            <a:solidFill>
              <a:srgbClr val="0638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578480" y="3981600"/>
            <a:ext cx="713880" cy="539280"/>
            <a:chOff x="4578480" y="3981600"/>
            <a:chExt cx="713880" cy="539280"/>
          </a:xfrm>
        </p:grpSpPr>
        <p:sp>
          <p:nvSpPr>
            <p:cNvPr id="294" name=""/>
            <p:cNvSpPr/>
            <p:nvPr/>
          </p:nvSpPr>
          <p:spPr>
            <a:xfrm>
              <a:off x="4578480" y="3981600"/>
              <a:ext cx="702360" cy="227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01880" y="4206600"/>
              <a:ext cx="6904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VL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638520" y="4834080"/>
            <a:ext cx="1021680" cy="474480"/>
            <a:chOff x="3638520" y="4834080"/>
            <a:chExt cx="1021680" cy="474480"/>
          </a:xfrm>
        </p:grpSpPr>
        <p:grpSp>
          <p:nvGrpSpPr>
            <p:cNvPr id="297" name=""/>
            <p:cNvGrpSpPr/>
            <p:nvPr/>
          </p:nvGrpSpPr>
          <p:grpSpPr>
            <a:xfrm>
              <a:off x="3638520" y="4834080"/>
              <a:ext cx="1021680" cy="474480"/>
              <a:chOff x="3638520" y="4834080"/>
              <a:chExt cx="1021680" cy="474480"/>
            </a:xfrm>
          </p:grpSpPr>
          <p:sp>
            <p:nvSpPr>
              <p:cNvPr id="298" name=""/>
              <p:cNvSpPr/>
              <p:nvPr/>
            </p:nvSpPr>
            <p:spPr>
              <a:xfrm>
                <a:off x="3638520" y="4834080"/>
                <a:ext cx="1021680" cy="474480"/>
              </a:xfrm>
              <a:prstGeom prst="rect">
                <a:avLst/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280" rIns="98280" tIns="48960" bIns="48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857040" y="4892040"/>
                <a:ext cx="63864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90560"/>
                    <a:tab algn="l" pos="1581120"/>
                    <a:tab algn="l" pos="2371680"/>
                    <a:tab algn="l" pos="3162240"/>
                    <a:tab algn="l" pos="3952800"/>
                    <a:tab algn="l" pos="4743360"/>
                    <a:tab algn="l" pos="5533920"/>
                    <a:tab algn="l" pos="6324480"/>
                    <a:tab algn="l" pos="7115040"/>
                    <a:tab algn="l" pos="7905600"/>
                    <a:tab algn="l" pos="8696160"/>
                    <a:tab algn="l" pos="9487080"/>
                    <a:tab algn="l" pos="102776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3772440" y="4947840"/>
              <a:ext cx="79380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GSN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979800" y="4098240"/>
            <a:ext cx="0" cy="112680"/>
          </a:xfrm>
          <a:prstGeom prst="line">
            <a:avLst/>
          </a:prstGeom>
          <a:ln w="76320">
            <a:solidFill>
              <a:srgbClr val="0638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546360" y="3573360"/>
            <a:ext cx="1160280" cy="501840"/>
            <a:chOff x="3546360" y="3573360"/>
            <a:chExt cx="1160280" cy="501840"/>
          </a:xfrm>
        </p:grpSpPr>
        <p:sp>
          <p:nvSpPr>
            <p:cNvPr id="303" name=""/>
            <p:cNvSpPr/>
            <p:nvPr/>
          </p:nvSpPr>
          <p:spPr>
            <a:xfrm>
              <a:off x="3546360" y="3573360"/>
              <a:ext cx="1160280" cy="50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19520" y="3702240"/>
              <a:ext cx="854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90000"/>
                </a:lnSpc>
                <a:spcBef>
                  <a:spcPts val="1063"/>
                </a:spcBef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700" spc="-1" strike="noStrike">
                  <a:solidFill>
                    <a:srgbClr val="333333"/>
                  </a:solidFill>
                  <a:latin typeface="Arial"/>
                </a:rPr>
                <a:t>MSC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925800" y="3164040"/>
            <a:ext cx="638280" cy="328320"/>
            <a:chOff x="3925800" y="3164040"/>
            <a:chExt cx="638280" cy="328320"/>
          </a:xfrm>
        </p:grpSpPr>
        <p:sp>
          <p:nvSpPr>
            <p:cNvPr id="306" name=""/>
            <p:cNvSpPr/>
            <p:nvPr/>
          </p:nvSpPr>
          <p:spPr>
            <a:xfrm>
              <a:off x="3933360" y="3164040"/>
              <a:ext cx="588600" cy="24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25800" y="3178080"/>
              <a:ext cx="638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79800" y="4695120"/>
            <a:ext cx="0" cy="1141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52960" y="4468680"/>
            <a:ext cx="363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48000" y="3433680"/>
            <a:ext cx="0" cy="114480"/>
          </a:xfrm>
          <a:prstGeom prst="line">
            <a:avLst/>
          </a:prstGeom>
          <a:ln w="76320">
            <a:solidFill>
              <a:srgbClr val="0638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16280" y="5261040"/>
            <a:ext cx="851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U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602240" y="4511520"/>
            <a:ext cx="304560" cy="44640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56000" y="4473720"/>
            <a:ext cx="568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80120" y="4284720"/>
            <a:ext cx="868320" cy="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40680" y="4325760"/>
            <a:ext cx="39996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57520" y="3335400"/>
            <a:ext cx="1125720" cy="560160"/>
          </a:xfrm>
          <a:prstGeom prst="line">
            <a:avLst/>
          </a:prstGeom>
          <a:ln w="1015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733920" y="3212640"/>
            <a:ext cx="855720" cy="747720"/>
          </a:xfrm>
          <a:prstGeom prst="line">
            <a:avLst/>
          </a:prstGeom>
          <a:ln w="1015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77120" y="4064040"/>
            <a:ext cx="8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ISD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734000" y="5103720"/>
            <a:ext cx="1008000" cy="792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749920" y="4351320"/>
            <a:ext cx="2559600" cy="1464480"/>
            <a:chOff x="5749920" y="4351320"/>
            <a:chExt cx="2559600" cy="1464480"/>
          </a:xfrm>
        </p:grpSpPr>
        <p:grpSp>
          <p:nvGrpSpPr>
            <p:cNvPr id="321" name=""/>
            <p:cNvGrpSpPr/>
            <p:nvPr/>
          </p:nvGrpSpPr>
          <p:grpSpPr>
            <a:xfrm>
              <a:off x="5749920" y="4351320"/>
              <a:ext cx="2559600" cy="1464480"/>
              <a:chOff x="5749920" y="4351320"/>
              <a:chExt cx="2559600" cy="1464480"/>
            </a:xfrm>
          </p:grpSpPr>
          <p:sp>
            <p:nvSpPr>
              <p:cNvPr id="322" name=""/>
              <p:cNvSpPr/>
              <p:nvPr/>
            </p:nvSpPr>
            <p:spPr>
              <a:xfrm>
                <a:off x="5749920" y="4599360"/>
                <a:ext cx="1436040" cy="978840"/>
              </a:xfrm>
              <a:prstGeom prst="ellipse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4680" rIns="94680" tIns="47160" bIns="47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930000" y="4676760"/>
                <a:ext cx="1379520" cy="883440"/>
              </a:xfrm>
              <a:prstGeom prst="ellipse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4680" rIns="94680" tIns="47160" bIns="47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833880" y="4949280"/>
                <a:ext cx="1266840" cy="822240"/>
              </a:xfrm>
              <a:prstGeom prst="ellipse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4680" rIns="94680" tIns="47160" bIns="47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796440" y="4431960"/>
                <a:ext cx="1210320" cy="689760"/>
              </a:xfrm>
              <a:prstGeom prst="ellipse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4680" rIns="94680" tIns="47160" bIns="47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242400" y="4921560"/>
                <a:ext cx="1093320" cy="894240"/>
              </a:xfrm>
              <a:prstGeom prst="ellipse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4680" rIns="94680" tIns="47160" bIns="47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134400" y="4351320"/>
                <a:ext cx="1093320" cy="923400"/>
              </a:xfrm>
              <a:prstGeom prst="ellipse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4680" rIns="94680" tIns="47160" bIns="47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267600" y="4695120"/>
              <a:ext cx="1462320" cy="329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 algn="ctr">
                <a:lnSpc>
                  <a:spcPct val="90000"/>
                </a:lnSpc>
                <a:spcBef>
                  <a:spcPts val="1063"/>
                </a:spcBef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602400" y="4975200"/>
            <a:ext cx="8920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IP/M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956720" y="4908600"/>
            <a:ext cx="539640" cy="171000"/>
            <a:chOff x="7956720" y="4908600"/>
            <a:chExt cx="539640" cy="171000"/>
          </a:xfrm>
        </p:grpSpPr>
        <p:sp>
          <p:nvSpPr>
            <p:cNvPr id="331" name=""/>
            <p:cNvSpPr/>
            <p:nvPr/>
          </p:nvSpPr>
          <p:spPr>
            <a:xfrm>
              <a:off x="7956720" y="4915800"/>
              <a:ext cx="539640" cy="16200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42760" y="4950360"/>
              <a:ext cx="133200" cy="75240"/>
            </a:xfrm>
            <a:prstGeom prst="rightArrow">
              <a:avLst>
                <a:gd name="adj1" fmla="val 50000"/>
                <a:gd name="adj2" fmla="val 44258"/>
              </a:avLst>
            </a:prstGeom>
            <a:solidFill>
              <a:srgbClr val="000000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256600" y="4960440"/>
              <a:ext cx="133200" cy="74520"/>
            </a:xfrm>
            <a:prstGeom prst="rightArrow">
              <a:avLst>
                <a:gd name="adj1" fmla="val 50000"/>
                <a:gd name="adj2" fmla="val 44686"/>
              </a:avLst>
            </a:prstGeom>
            <a:solidFill>
              <a:srgbClr val="000000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rot="16200000">
              <a:off x="8200800" y="4897080"/>
              <a:ext cx="89280" cy="111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 rot="16200000">
              <a:off x="8132040" y="4978440"/>
              <a:ext cx="89280" cy="113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509720" y="5573880"/>
            <a:ext cx="860040" cy="489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500" spc="-1" strike="noStrike">
                <a:solidFill>
                  <a:srgbClr val="f8fef8"/>
                </a:solidFill>
                <a:latin typeface="Arial"/>
              </a:rPr>
              <a:t>Fore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500" spc="-1" strike="noStrike">
                <a:solidFill>
                  <a:srgbClr val="f8fef8"/>
                </a:solidFill>
                <a:latin typeface="Arial"/>
              </a:rPr>
              <a:t>Ag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522680" y="4898880"/>
            <a:ext cx="527040" cy="180720"/>
            <a:chOff x="4522680" y="4898880"/>
            <a:chExt cx="527040" cy="180720"/>
          </a:xfrm>
        </p:grpSpPr>
        <p:sp>
          <p:nvSpPr>
            <p:cNvPr id="338" name=""/>
            <p:cNvSpPr/>
            <p:nvPr/>
          </p:nvSpPr>
          <p:spPr>
            <a:xfrm>
              <a:off x="4522680" y="4906440"/>
              <a:ext cx="527040" cy="17136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06920" y="4943160"/>
              <a:ext cx="130320" cy="79560"/>
            </a:xfrm>
            <a:prstGeom prst="rightArrow">
              <a:avLst>
                <a:gd name="adj1" fmla="val 50000"/>
                <a:gd name="adj2" fmla="val 40950"/>
              </a:avLst>
            </a:prstGeom>
            <a:solidFill>
              <a:srgbClr val="000000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4815720" y="4953960"/>
              <a:ext cx="130320" cy="78480"/>
            </a:xfrm>
            <a:prstGeom prst="rightArrow">
              <a:avLst>
                <a:gd name="adj1" fmla="val 50000"/>
                <a:gd name="adj2" fmla="val 41514"/>
              </a:avLst>
            </a:prstGeom>
            <a:solidFill>
              <a:srgbClr val="000000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16200000">
              <a:off x="4757040" y="4891320"/>
              <a:ext cx="94320" cy="109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 rot="16200000">
              <a:off x="4690080" y="4977000"/>
              <a:ext cx="94320" cy="110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5288040" y="4857840"/>
            <a:ext cx="511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1880" y="4875120"/>
            <a:ext cx="527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02360" y="3948120"/>
            <a:ext cx="725040" cy="523080"/>
            <a:chOff x="6102360" y="3948120"/>
            <a:chExt cx="725040" cy="523080"/>
          </a:xfrm>
        </p:grpSpPr>
        <p:sp>
          <p:nvSpPr>
            <p:cNvPr id="346" name=""/>
            <p:cNvSpPr/>
            <p:nvPr/>
          </p:nvSpPr>
          <p:spPr>
            <a:xfrm>
              <a:off x="6102360" y="3948120"/>
              <a:ext cx="702000" cy="227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160" bIns="47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37280" y="4156920"/>
              <a:ext cx="690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HL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7508880" y="4246560"/>
            <a:ext cx="587520" cy="243000"/>
          </a:xfrm>
          <a:prstGeom prst="rect">
            <a:avLst/>
          </a:prstGeom>
          <a:solidFill>
            <a:srgbClr val="99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18240" y="4184640"/>
            <a:ext cx="636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IW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17240" y="1800360"/>
            <a:ext cx="61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QoS improvement in IP for delay-sensitiv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adaptation of radio and IP resource control and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2160" y="3557520"/>
            <a:ext cx="0" cy="652680"/>
          </a:xfrm>
          <a:prstGeom prst="line">
            <a:avLst/>
          </a:prstGeom>
          <a:ln w="7632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99440" y="5370480"/>
            <a:ext cx="1687320" cy="284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500" spc="-1" strike="noStrike">
                <a:solidFill>
                  <a:srgbClr val="f8fef8"/>
                </a:solidFill>
                <a:latin typeface="Arial"/>
              </a:rPr>
              <a:t>Home Ag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94360" y="3441600"/>
            <a:ext cx="804960" cy="4460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S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5994360" y="1233360"/>
            <a:ext cx="3149640" cy="1074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150920" y="1743840"/>
            <a:ext cx="2398320" cy="1828080"/>
            <a:chOff x="1150920" y="1743840"/>
            <a:chExt cx="2398320" cy="1828080"/>
          </a:xfrm>
        </p:grpSpPr>
        <p:sp>
          <p:nvSpPr>
            <p:cNvPr id="356" name=""/>
            <p:cNvSpPr/>
            <p:nvPr/>
          </p:nvSpPr>
          <p:spPr>
            <a:xfrm>
              <a:off x="1150920" y="1743840"/>
              <a:ext cx="2349360" cy="585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P Next Generation 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2722320" y="2338560"/>
              <a:ext cx="826920" cy="1233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047600" y="4365720"/>
            <a:ext cx="4286520" cy="1695960"/>
            <a:chOff x="1047600" y="4365720"/>
            <a:chExt cx="4286520" cy="1695960"/>
          </a:xfrm>
        </p:grpSpPr>
        <p:sp>
          <p:nvSpPr>
            <p:cNvPr id="359" name=""/>
            <p:cNvSpPr/>
            <p:nvPr/>
          </p:nvSpPr>
          <p:spPr>
            <a:xfrm>
              <a:off x="1047600" y="5475960"/>
              <a:ext cx="4286520" cy="585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variety of terminals: IP Phones, Mobile Phones, Internet Appliance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2106720" y="4365720"/>
              <a:ext cx="466560" cy="109512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043680" y="3400560"/>
            <a:ext cx="2921040" cy="2692800"/>
            <a:chOff x="6043680" y="3400560"/>
            <a:chExt cx="2921040" cy="2692800"/>
          </a:xfrm>
        </p:grpSpPr>
        <p:sp>
          <p:nvSpPr>
            <p:cNvPr id="362" name=""/>
            <p:cNvSpPr/>
            <p:nvPr/>
          </p:nvSpPr>
          <p:spPr>
            <a:xfrm>
              <a:off x="6043680" y="5507640"/>
              <a:ext cx="2921040" cy="585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gration/Applications Voice/Data/We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172280" y="3400560"/>
              <a:ext cx="357120" cy="20937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9960" y="1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IP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087920" y="3533760"/>
            <a:ext cx="1243080" cy="1217880"/>
            <a:chOff x="1087920" y="3533760"/>
            <a:chExt cx="1243080" cy="1217880"/>
          </a:xfrm>
        </p:grpSpPr>
        <p:graphicFrame>
          <p:nvGraphicFramePr>
            <p:cNvPr id="366" name=""/>
            <p:cNvGraphicFramePr/>
            <p:nvPr/>
          </p:nvGraphicFramePr>
          <p:xfrm>
            <a:off x="1203840" y="3533760"/>
            <a:ext cx="1009800" cy="89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03840" y="3533760"/>
                      <a:ext cx="1009800" cy="89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8" name=""/>
            <p:cNvSpPr/>
            <p:nvPr/>
          </p:nvSpPr>
          <p:spPr>
            <a:xfrm>
              <a:off x="1087920" y="4353120"/>
              <a:ext cx="1243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Verdana"/>
                </a:rPr>
                <a:t>PC / Works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Verdana"/>
                </a:rPr>
                <a:t>CLI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414520" y="3510000"/>
            <a:ext cx="187020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17960" y="3347640"/>
            <a:ext cx="496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S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60640" y="2423880"/>
            <a:ext cx="1003320" cy="49104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85760" y="3360600"/>
            <a:ext cx="1292400" cy="308160"/>
          </a:xfrm>
          <a:prstGeom prst="roundRect">
            <a:avLst>
              <a:gd name="adj" fmla="val 16667"/>
            </a:avLst>
          </a:prstGeom>
          <a:solidFill>
            <a:srgbClr val="b3b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P User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7544160" y="3537000"/>
            <a:ext cx="1243080" cy="1217880"/>
            <a:chOff x="7544160" y="3537000"/>
            <a:chExt cx="1243080" cy="1217880"/>
          </a:xfrm>
        </p:grpSpPr>
        <p:graphicFrame>
          <p:nvGraphicFramePr>
            <p:cNvPr id="374" name=""/>
            <p:cNvGraphicFramePr/>
            <p:nvPr/>
          </p:nvGraphicFramePr>
          <p:xfrm>
            <a:off x="7660080" y="3537000"/>
            <a:ext cx="1009800" cy="892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60080" y="3537000"/>
                      <a:ext cx="1009800" cy="89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"/>
            <p:cNvSpPr/>
            <p:nvPr/>
          </p:nvSpPr>
          <p:spPr>
            <a:xfrm>
              <a:off x="7544160" y="4356360"/>
              <a:ext cx="1243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Verdana"/>
                </a:rPr>
                <a:t>PC / Works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Verdana"/>
                </a:rPr>
                <a:t>CLI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7542360" y="3363840"/>
            <a:ext cx="1292040" cy="308160"/>
          </a:xfrm>
          <a:prstGeom prst="roundRect">
            <a:avLst>
              <a:gd name="adj" fmla="val 16667"/>
            </a:avLst>
          </a:prstGeom>
          <a:solidFill>
            <a:srgbClr val="b3b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P User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310640" y="3546360"/>
            <a:ext cx="1243080" cy="1218240"/>
            <a:chOff x="4310640" y="3546360"/>
            <a:chExt cx="1243080" cy="1218240"/>
          </a:xfrm>
        </p:grpSpPr>
        <p:graphicFrame>
          <p:nvGraphicFramePr>
            <p:cNvPr id="379" name=""/>
            <p:cNvGraphicFramePr/>
            <p:nvPr/>
          </p:nvGraphicFramePr>
          <p:xfrm>
            <a:off x="4426200" y="3546360"/>
            <a:ext cx="1010160" cy="892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26200" y="3546360"/>
                      <a:ext cx="1010160" cy="89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4310640" y="4366080"/>
              <a:ext cx="1243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Verdana"/>
                </a:rPr>
                <a:t>PC / Works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Verdan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308480" y="3373560"/>
            <a:ext cx="1292400" cy="307800"/>
          </a:xfrm>
          <a:prstGeom prst="roundRect">
            <a:avLst>
              <a:gd name="adj" fmla="val 16667"/>
            </a:avLst>
          </a:prstGeom>
          <a:solidFill>
            <a:srgbClr val="b3b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P Proxy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08480" y="2951280"/>
            <a:ext cx="1292400" cy="307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ice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22840" y="3522600"/>
            <a:ext cx="187020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37520" y="3374640"/>
            <a:ext cx="496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S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8880" y="3052800"/>
            <a:ext cx="8346960" cy="2171520"/>
          </a:xfrm>
          <a:custGeom>
            <a:avLst/>
            <a:gdLst/>
            <a:ahLst/>
            <a:rect l="l" t="t" r="r" b="b"/>
            <a:pathLst>
              <a:path w="5258" h="1306">
                <a:moveTo>
                  <a:pt x="220" y="0"/>
                </a:moveTo>
                <a:lnTo>
                  <a:pt x="0" y="0"/>
                </a:lnTo>
                <a:lnTo>
                  <a:pt x="0" y="1306"/>
                </a:lnTo>
                <a:lnTo>
                  <a:pt x="5258" y="1306"/>
                </a:lnTo>
                <a:lnTo>
                  <a:pt x="5258" y="27"/>
                </a:lnTo>
                <a:lnTo>
                  <a:pt x="5082" y="27"/>
                </a:lnTo>
              </a:path>
            </a:pathLst>
          </a:custGeom>
          <a:noFill/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85760" y="2924280"/>
            <a:ext cx="1292400" cy="307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14160" y="5052600"/>
            <a:ext cx="1358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Media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1280" y="2558880"/>
            <a:ext cx="928800" cy="308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095480" y="3249720"/>
            <a:ext cx="1274760" cy="83880"/>
          </a:xfrm>
          <a:prstGeom prst="rect">
            <a:avLst/>
          </a:prstGeom>
          <a:solidFill>
            <a:srgbClr val="b3b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27960" y="2948040"/>
            <a:ext cx="1292040" cy="307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37320" y="3259080"/>
            <a:ext cx="1274760" cy="84240"/>
          </a:xfrm>
          <a:prstGeom prst="rect">
            <a:avLst/>
          </a:prstGeom>
          <a:solidFill>
            <a:srgbClr val="b3b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49360" y="3136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43760" y="31381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14960" y="3278160"/>
            <a:ext cx="1274760" cy="84240"/>
          </a:xfrm>
          <a:prstGeom prst="rect">
            <a:avLst/>
          </a:prstGeom>
          <a:solidFill>
            <a:srgbClr val="b3b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8840" y="31507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592600" y="2252160"/>
            <a:ext cx="1605240" cy="8082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573880" y="2247480"/>
            <a:ext cx="1604880" cy="109692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45120" y="1344600"/>
            <a:ext cx="309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Is for the basic TLC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 Processing Syntax for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logic 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3320" y="215640"/>
            <a:ext cx="837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ransport capability</a:t>
            </a:r>
            <a:br>
              <a:rPr sz="40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hoosing a suitable adaptation for mobile data servic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"/>
          <p:cNvSpPr/>
          <p:nvPr/>
        </p:nvSpPr>
        <p:spPr>
          <a:xfrm>
            <a:off x="1693800" y="1981080"/>
            <a:ext cx="44640" cy="292320"/>
          </a:xfrm>
          <a:custGeom>
            <a:avLst/>
            <a:gdLst>
              <a:gd name="textAreaLeft" fmla="*/ 3240 w 44640"/>
              <a:gd name="textAreaRight" fmla="*/ 41400 w 44640"/>
              <a:gd name="textAreaTop" fmla="*/ 3240 h 292320"/>
              <a:gd name="textAreaBottom" fmla="*/ 289080 h 292320"/>
            </a:gdLst>
            <a:ahLst/>
            <a:rect l="textAreaLeft" t="textAreaTop" r="textAreaRight" b="textAreaBottom"/>
            <a:pathLst>
              <a:path w="21600" h="140486">
                <a:moveTo>
                  <a:pt x="5400" y="0"/>
                </a:moveTo>
                <a:arcTo wR="5400" hR="5400" stAng="16200000" swAng="-5400000"/>
                <a:lnTo>
                  <a:pt x="0" y="135086"/>
                </a:lnTo>
                <a:arcTo wR="5400" hR="5400" stAng="10800000" swAng="-5400000"/>
                <a:lnTo>
                  <a:pt x="16200" y="140486"/>
                </a:lnTo>
                <a:arcTo wR="5400" hR="5400" stAng="5400000" swAng="-5400000"/>
                <a:lnTo>
                  <a:pt x="21600" y="5400"/>
                </a:lnTo>
                <a:arcTo wR="5400" hR="54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7629480" y="1981080"/>
            <a:ext cx="566280" cy="649080"/>
            <a:chOff x="7629480" y="1981080"/>
            <a:chExt cx="566280" cy="649080"/>
          </a:xfrm>
        </p:grpSpPr>
        <p:grpSp>
          <p:nvGrpSpPr>
            <p:cNvPr id="403" name=""/>
            <p:cNvGrpSpPr/>
            <p:nvPr/>
          </p:nvGrpSpPr>
          <p:grpSpPr>
            <a:xfrm>
              <a:off x="7629480" y="2500200"/>
              <a:ext cx="566280" cy="129960"/>
              <a:chOff x="7629480" y="2500200"/>
              <a:chExt cx="566280" cy="129960"/>
            </a:xfrm>
          </p:grpSpPr>
          <p:sp>
            <p:nvSpPr>
              <p:cNvPr id="404" name=""/>
              <p:cNvSpPr/>
              <p:nvPr/>
            </p:nvSpPr>
            <p:spPr>
              <a:xfrm>
                <a:off x="7651800" y="2603160"/>
                <a:ext cx="543960" cy="2700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629480" y="2500200"/>
                <a:ext cx="543960" cy="93600"/>
              </a:xfrm>
              <a:custGeom>
                <a:avLst/>
                <a:gdLst/>
                <a:ahLst/>
                <a:rect l="l" t="t" r="r" b="b"/>
                <a:pathLst>
                  <a:path w="434" h="59">
                    <a:moveTo>
                      <a:pt x="0" y="59"/>
                    </a:moveTo>
                    <a:lnTo>
                      <a:pt x="48" y="0"/>
                    </a:lnTo>
                    <a:lnTo>
                      <a:pt x="398" y="0"/>
                    </a:lnTo>
                    <a:lnTo>
                      <a:pt x="434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cc"/>
              </a:solidFill>
              <a:ln w="1908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29480" y="2500200"/>
                <a:ext cx="543960" cy="93600"/>
              </a:xfrm>
              <a:custGeom>
                <a:avLst/>
                <a:gdLst/>
                <a:ahLst/>
                <a:rect l="l" t="t" r="r" b="b"/>
                <a:pathLst>
                  <a:path w="434" h="59">
                    <a:moveTo>
                      <a:pt x="0" y="59"/>
                    </a:moveTo>
                    <a:lnTo>
                      <a:pt x="48" y="0"/>
                    </a:lnTo>
                    <a:lnTo>
                      <a:pt x="398" y="0"/>
                    </a:lnTo>
                    <a:lnTo>
                      <a:pt x="434" y="59"/>
                    </a:lnTo>
                    <a:lnTo>
                      <a:pt x="0" y="59"/>
                    </a:lnTo>
                    <a:close/>
                  </a:path>
                </a:pathLst>
              </a:custGeom>
              <a:noFill/>
              <a:ln w="1908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7727040" y="1981080"/>
              <a:ext cx="378360" cy="338040"/>
              <a:chOff x="7727040" y="1981080"/>
              <a:chExt cx="378360" cy="338040"/>
            </a:xfrm>
          </p:grpSpPr>
          <p:sp>
            <p:nvSpPr>
              <p:cNvPr id="408" name=""/>
              <p:cNvSpPr/>
              <p:nvPr/>
            </p:nvSpPr>
            <p:spPr>
              <a:xfrm>
                <a:off x="7727040" y="1981080"/>
                <a:ext cx="378360" cy="338040"/>
              </a:xfrm>
              <a:prstGeom prst="roundRect">
                <a:avLst>
                  <a:gd name="adj" fmla="val 10870"/>
                </a:avLst>
              </a:prstGeom>
              <a:solidFill>
                <a:srgbClr val="ffffcc"/>
              </a:solidFill>
              <a:ln w="1908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758000" y="2011320"/>
                <a:ext cx="300600" cy="276120"/>
              </a:xfrm>
              <a:prstGeom prst="roundRect">
                <a:avLst>
                  <a:gd name="adj" fmla="val 13157"/>
                </a:avLst>
              </a:prstGeom>
              <a:solidFill>
                <a:srgbClr val="99ffff"/>
              </a:solidFill>
              <a:ln w="1908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833240" y="2306520"/>
                <a:ext cx="165240" cy="12600"/>
              </a:xfrm>
              <a:prstGeom prst="rect">
                <a:avLst/>
              </a:prstGeom>
              <a:solidFill>
                <a:srgbClr val="262626"/>
              </a:solidFill>
              <a:ln w="1908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7666920" y="2322360"/>
              <a:ext cx="514080" cy="168120"/>
              <a:chOff x="7666920" y="2322360"/>
              <a:chExt cx="514080" cy="168120"/>
            </a:xfrm>
          </p:grpSpPr>
          <p:sp>
            <p:nvSpPr>
              <p:cNvPr id="412" name=""/>
              <p:cNvSpPr/>
              <p:nvPr/>
            </p:nvSpPr>
            <p:spPr>
              <a:xfrm>
                <a:off x="7666920" y="2322360"/>
                <a:ext cx="514080" cy="168120"/>
              </a:xfrm>
              <a:prstGeom prst="roundRect">
                <a:avLst>
                  <a:gd name="adj" fmla="val 8333"/>
                </a:avLst>
              </a:prstGeom>
              <a:solidFill>
                <a:srgbClr val="ffffcc"/>
              </a:solidFill>
              <a:ln w="1908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998840" y="2354040"/>
                <a:ext cx="151560" cy="120600"/>
              </a:xfrm>
              <a:prstGeom prst="roundRect">
                <a:avLst>
                  <a:gd name="adj" fmla="val 11111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021520" y="2422440"/>
                <a:ext cx="91440" cy="1440"/>
              </a:xfrm>
              <a:prstGeom prst="line">
                <a:avLst/>
              </a:prstGeom>
              <a:ln w="19080">
                <a:solidFill>
                  <a:srgbClr val="bbbb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021520" y="2374560"/>
                <a:ext cx="91440" cy="1800"/>
              </a:xfrm>
              <a:prstGeom prst="line">
                <a:avLst/>
              </a:prstGeom>
              <a:ln w="19080">
                <a:solidFill>
                  <a:srgbClr val="bbbb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81680" y="2354040"/>
                <a:ext cx="29880" cy="11160"/>
              </a:xfrm>
              <a:prstGeom prst="rect">
                <a:avLst/>
              </a:prstGeom>
              <a:solidFill>
                <a:srgbClr val="262626"/>
              </a:solidFill>
              <a:ln w="1908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7674120" y="2406600"/>
                <a:ext cx="1080" cy="31680"/>
              </a:xfrm>
              <a:prstGeom prst="line">
                <a:avLst/>
              </a:prstGeom>
              <a:ln w="1908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7704360" y="2406600"/>
                <a:ext cx="1080" cy="31680"/>
              </a:xfrm>
              <a:prstGeom prst="line">
                <a:avLst/>
              </a:prstGeom>
              <a:ln w="1908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7734600" y="2406600"/>
                <a:ext cx="1080" cy="31680"/>
              </a:xfrm>
              <a:prstGeom prst="line">
                <a:avLst/>
              </a:prstGeom>
              <a:ln w="1908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7750800" y="2406600"/>
                <a:ext cx="1080" cy="31680"/>
              </a:xfrm>
              <a:prstGeom prst="line">
                <a:avLst/>
              </a:prstGeom>
              <a:ln w="1908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7765560" y="2406600"/>
                <a:ext cx="1080" cy="31680"/>
              </a:xfrm>
              <a:prstGeom prst="line">
                <a:avLst/>
              </a:prstGeom>
              <a:ln w="1908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7795800" y="2406600"/>
                <a:ext cx="1080" cy="31680"/>
              </a:xfrm>
              <a:prstGeom prst="line">
                <a:avLst/>
              </a:prstGeom>
              <a:ln w="1908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7826040" y="2406600"/>
                <a:ext cx="1080" cy="31680"/>
              </a:xfrm>
              <a:prstGeom prst="line">
                <a:avLst/>
              </a:prstGeom>
              <a:ln w="1908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7841160" y="2406600"/>
                <a:ext cx="1080" cy="31680"/>
              </a:xfrm>
              <a:prstGeom prst="line">
                <a:avLst/>
              </a:prstGeom>
              <a:ln w="1908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7856280" y="2406600"/>
                <a:ext cx="1080" cy="31680"/>
              </a:xfrm>
              <a:prstGeom prst="line">
                <a:avLst/>
              </a:prstGeom>
              <a:ln w="1908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7886160" y="2406600"/>
                <a:ext cx="1080" cy="31680"/>
              </a:xfrm>
              <a:prstGeom prst="line">
                <a:avLst/>
              </a:prstGeom>
              <a:ln w="1908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7916040" y="2406600"/>
                <a:ext cx="1080" cy="31680"/>
              </a:xfrm>
              <a:prstGeom prst="line">
                <a:avLst/>
              </a:prstGeom>
              <a:ln w="1908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7931160" y="2406600"/>
                <a:ext cx="1080" cy="31680"/>
              </a:xfrm>
              <a:prstGeom prst="line">
                <a:avLst/>
              </a:prstGeom>
              <a:ln w="1908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7946280" y="2406600"/>
                <a:ext cx="1080" cy="31680"/>
              </a:xfrm>
              <a:prstGeom prst="line">
                <a:avLst/>
              </a:prstGeom>
              <a:ln w="1908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066880" y="2374560"/>
                <a:ext cx="30960" cy="15840"/>
              </a:xfrm>
              <a:prstGeom prst="rect">
                <a:avLst/>
              </a:prstGeom>
              <a:solidFill>
                <a:srgbClr val="bbbbbb"/>
              </a:solidFill>
              <a:ln w="19080">
                <a:solidFill>
                  <a:srgbClr val="bbbb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074080" y="2415960"/>
                <a:ext cx="16200" cy="12600"/>
              </a:xfrm>
              <a:prstGeom prst="rect">
                <a:avLst/>
              </a:prstGeom>
              <a:solidFill>
                <a:srgbClr val="bbbbbb"/>
              </a:solidFill>
              <a:ln w="19080">
                <a:solidFill>
                  <a:srgbClr val="bbbb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58360" y="2354040"/>
                <a:ext cx="59760" cy="111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50800" y="2360520"/>
                <a:ext cx="29880" cy="29880"/>
              </a:xfrm>
              <a:prstGeom prst="ellipse">
                <a:avLst/>
              </a:prstGeom>
              <a:solidFill>
                <a:srgbClr val="00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795800" y="2360520"/>
                <a:ext cx="1476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>
            <a:off x="1790640" y="2624040"/>
            <a:ext cx="55357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776240" y="2593800"/>
            <a:ext cx="5580360" cy="46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76240" y="2562120"/>
            <a:ext cx="5580360" cy="46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76240" y="2530440"/>
            <a:ext cx="5580360" cy="47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76240" y="2500200"/>
            <a:ext cx="5580360" cy="46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76240" y="2484360"/>
            <a:ext cx="5580360" cy="46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76240" y="2452680"/>
            <a:ext cx="5580360" cy="47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90640" y="2438280"/>
            <a:ext cx="55357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790640" y="2422440"/>
            <a:ext cx="55357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776240" y="2374920"/>
            <a:ext cx="5580360" cy="4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776240" y="2344680"/>
            <a:ext cx="5580360" cy="46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76240" y="2313000"/>
            <a:ext cx="5580360" cy="47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76240" y="2297160"/>
            <a:ext cx="5580360" cy="47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76240" y="2266920"/>
            <a:ext cx="5580360" cy="46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776240" y="2235240"/>
            <a:ext cx="5580360" cy="47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84520" y="2228760"/>
            <a:ext cx="5533920" cy="40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75120" y="2795760"/>
            <a:ext cx="1800" cy="12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75120" y="3075120"/>
            <a:ext cx="180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75120" y="3355920"/>
            <a:ext cx="180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75120" y="3635280"/>
            <a:ext cx="1800" cy="12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75120" y="3900600"/>
            <a:ext cx="180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98920" y="2795760"/>
            <a:ext cx="1440" cy="12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98920" y="3075120"/>
            <a:ext cx="144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698920" y="3340080"/>
            <a:ext cx="144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033640" y="2763720"/>
            <a:ext cx="58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Times New Roman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30520" y="276372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Times New Roman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326360" y="2655720"/>
            <a:ext cx="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326360" y="2935440"/>
            <a:ext cx="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326360" y="3216240"/>
            <a:ext cx="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26360" y="3495600"/>
            <a:ext cx="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26360" y="3760920"/>
            <a:ext cx="0" cy="1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67960" y="263988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57200" y="265428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46360" y="2639880"/>
            <a:ext cx="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46360" y="2919240"/>
            <a:ext cx="0" cy="12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46360" y="3200400"/>
            <a:ext cx="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46360" y="3479760"/>
            <a:ext cx="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46360" y="3745080"/>
            <a:ext cx="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890960" y="2251080"/>
            <a:ext cx="1800" cy="34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55920" y="2214720"/>
            <a:ext cx="212400" cy="43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1540080" y="235836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cc"/>
                </a:solidFill>
                <a:latin typeface="Times New Roman"/>
              </a:rPr>
              <a:t>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747720" y="2001960"/>
            <a:ext cx="717120" cy="575640"/>
            <a:chOff x="747720" y="2001960"/>
            <a:chExt cx="717120" cy="575640"/>
          </a:xfrm>
        </p:grpSpPr>
        <p:sp>
          <p:nvSpPr>
            <p:cNvPr id="477" name=""/>
            <p:cNvSpPr/>
            <p:nvPr/>
          </p:nvSpPr>
          <p:spPr>
            <a:xfrm>
              <a:off x="747720" y="2360520"/>
              <a:ext cx="679680" cy="217080"/>
            </a:xfrm>
            <a:custGeom>
              <a:avLst/>
              <a:gdLst/>
              <a:ahLst/>
              <a:rect l="l" t="t" r="r" b="b"/>
              <a:pathLst>
                <a:path w="542" h="137">
                  <a:moveTo>
                    <a:pt x="12" y="127"/>
                  </a:moveTo>
                  <a:lnTo>
                    <a:pt x="24" y="127"/>
                  </a:lnTo>
                  <a:lnTo>
                    <a:pt x="72" y="127"/>
                  </a:lnTo>
                  <a:lnTo>
                    <a:pt x="132" y="127"/>
                  </a:lnTo>
                  <a:lnTo>
                    <a:pt x="181" y="127"/>
                  </a:lnTo>
                  <a:lnTo>
                    <a:pt x="241" y="127"/>
                  </a:lnTo>
                  <a:lnTo>
                    <a:pt x="337" y="127"/>
                  </a:lnTo>
                  <a:lnTo>
                    <a:pt x="410" y="127"/>
                  </a:lnTo>
                  <a:lnTo>
                    <a:pt x="458" y="127"/>
                  </a:lnTo>
                  <a:lnTo>
                    <a:pt x="482" y="127"/>
                  </a:lnTo>
                  <a:lnTo>
                    <a:pt x="494" y="117"/>
                  </a:lnTo>
                  <a:lnTo>
                    <a:pt x="494" y="117"/>
                  </a:lnTo>
                  <a:lnTo>
                    <a:pt x="494" y="107"/>
                  </a:lnTo>
                  <a:lnTo>
                    <a:pt x="506" y="78"/>
                  </a:lnTo>
                  <a:lnTo>
                    <a:pt x="530" y="39"/>
                  </a:lnTo>
                  <a:lnTo>
                    <a:pt x="530" y="19"/>
                  </a:lnTo>
                  <a:lnTo>
                    <a:pt x="530" y="0"/>
                  </a:lnTo>
                  <a:lnTo>
                    <a:pt x="542" y="19"/>
                  </a:lnTo>
                  <a:lnTo>
                    <a:pt x="542" y="39"/>
                  </a:lnTo>
                  <a:lnTo>
                    <a:pt x="530" y="78"/>
                  </a:lnTo>
                  <a:lnTo>
                    <a:pt x="506" y="107"/>
                  </a:lnTo>
                  <a:lnTo>
                    <a:pt x="506" y="117"/>
                  </a:lnTo>
                  <a:lnTo>
                    <a:pt x="494" y="127"/>
                  </a:lnTo>
                  <a:lnTo>
                    <a:pt x="494" y="137"/>
                  </a:lnTo>
                  <a:lnTo>
                    <a:pt x="482" y="137"/>
                  </a:lnTo>
                  <a:lnTo>
                    <a:pt x="470" y="137"/>
                  </a:lnTo>
                  <a:lnTo>
                    <a:pt x="422" y="137"/>
                  </a:lnTo>
                  <a:lnTo>
                    <a:pt x="349" y="137"/>
                  </a:lnTo>
                  <a:lnTo>
                    <a:pt x="253" y="137"/>
                  </a:lnTo>
                  <a:lnTo>
                    <a:pt x="193" y="137"/>
                  </a:lnTo>
                  <a:lnTo>
                    <a:pt x="145" y="137"/>
                  </a:lnTo>
                  <a:lnTo>
                    <a:pt x="84" y="137"/>
                  </a:lnTo>
                  <a:lnTo>
                    <a:pt x="36" y="137"/>
                  </a:lnTo>
                  <a:lnTo>
                    <a:pt x="24" y="137"/>
                  </a:lnTo>
                  <a:lnTo>
                    <a:pt x="12" y="137"/>
                  </a:lnTo>
                  <a:lnTo>
                    <a:pt x="0" y="127"/>
                  </a:lnTo>
                  <a:lnTo>
                    <a:pt x="12" y="127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7720" y="2360520"/>
              <a:ext cx="679680" cy="217080"/>
            </a:xfrm>
            <a:custGeom>
              <a:avLst/>
              <a:gdLst/>
              <a:ahLst/>
              <a:rect l="l" t="t" r="r" b="b"/>
              <a:pathLst>
                <a:path w="542" h="137">
                  <a:moveTo>
                    <a:pt x="530" y="0"/>
                  </a:moveTo>
                  <a:lnTo>
                    <a:pt x="542" y="0"/>
                  </a:lnTo>
                  <a:lnTo>
                    <a:pt x="542" y="9"/>
                  </a:lnTo>
                  <a:lnTo>
                    <a:pt x="542" y="19"/>
                  </a:lnTo>
                  <a:lnTo>
                    <a:pt x="530" y="58"/>
                  </a:lnTo>
                  <a:lnTo>
                    <a:pt x="506" y="107"/>
                  </a:lnTo>
                  <a:lnTo>
                    <a:pt x="494" y="127"/>
                  </a:lnTo>
                  <a:lnTo>
                    <a:pt x="482" y="137"/>
                  </a:lnTo>
                  <a:lnTo>
                    <a:pt x="458" y="137"/>
                  </a:lnTo>
                  <a:lnTo>
                    <a:pt x="410" y="137"/>
                  </a:lnTo>
                  <a:lnTo>
                    <a:pt x="337" y="137"/>
                  </a:lnTo>
                  <a:lnTo>
                    <a:pt x="241" y="137"/>
                  </a:lnTo>
                  <a:lnTo>
                    <a:pt x="181" y="137"/>
                  </a:lnTo>
                  <a:lnTo>
                    <a:pt x="132" y="137"/>
                  </a:lnTo>
                  <a:lnTo>
                    <a:pt x="72" y="137"/>
                  </a:lnTo>
                  <a:lnTo>
                    <a:pt x="24" y="137"/>
                  </a:lnTo>
                  <a:lnTo>
                    <a:pt x="12" y="137"/>
                  </a:lnTo>
                  <a:lnTo>
                    <a:pt x="0" y="127"/>
                  </a:lnTo>
                  <a:lnTo>
                    <a:pt x="0" y="107"/>
                  </a:lnTo>
                  <a:lnTo>
                    <a:pt x="24" y="58"/>
                  </a:lnTo>
                  <a:lnTo>
                    <a:pt x="48" y="9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96" y="0"/>
                  </a:lnTo>
                  <a:lnTo>
                    <a:pt x="145" y="0"/>
                  </a:lnTo>
                  <a:lnTo>
                    <a:pt x="301" y="0"/>
                  </a:lnTo>
                  <a:lnTo>
                    <a:pt x="458" y="0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2312640"/>
              <a:ext cx="574200" cy="1440"/>
            </a:xfrm>
            <a:custGeom>
              <a:avLst/>
              <a:gdLst/>
              <a:ahLst/>
              <a:rect l="l" t="t" r="r" b="b"/>
              <a:pathLst>
                <a:path w="458" h="0">
                  <a:moveTo>
                    <a:pt x="0" y="0"/>
                  </a:moveTo>
                  <a:lnTo>
                    <a:pt x="4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38080" y="2312640"/>
              <a:ext cx="57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2312640"/>
              <a:ext cx="57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2960" y="2001960"/>
              <a:ext cx="634320" cy="294840"/>
            </a:xfrm>
            <a:custGeom>
              <a:avLst/>
              <a:gdLst/>
              <a:ahLst/>
              <a:rect l="l" t="t" r="r" b="b"/>
              <a:pathLst>
                <a:path w="506" h="186">
                  <a:moveTo>
                    <a:pt x="265" y="0"/>
                  </a:moveTo>
                  <a:lnTo>
                    <a:pt x="362" y="0"/>
                  </a:lnTo>
                  <a:lnTo>
                    <a:pt x="434" y="0"/>
                  </a:lnTo>
                  <a:lnTo>
                    <a:pt x="470" y="0"/>
                  </a:lnTo>
                  <a:lnTo>
                    <a:pt x="494" y="0"/>
                  </a:lnTo>
                  <a:lnTo>
                    <a:pt x="506" y="0"/>
                  </a:lnTo>
                  <a:lnTo>
                    <a:pt x="506" y="10"/>
                  </a:lnTo>
                  <a:lnTo>
                    <a:pt x="506" y="20"/>
                  </a:lnTo>
                  <a:lnTo>
                    <a:pt x="506" y="40"/>
                  </a:lnTo>
                  <a:lnTo>
                    <a:pt x="506" y="89"/>
                  </a:lnTo>
                  <a:lnTo>
                    <a:pt x="494" y="137"/>
                  </a:lnTo>
                  <a:lnTo>
                    <a:pt x="494" y="167"/>
                  </a:lnTo>
                  <a:lnTo>
                    <a:pt x="482" y="177"/>
                  </a:lnTo>
                  <a:lnTo>
                    <a:pt x="470" y="186"/>
                  </a:lnTo>
                  <a:lnTo>
                    <a:pt x="446" y="186"/>
                  </a:lnTo>
                  <a:lnTo>
                    <a:pt x="410" y="186"/>
                  </a:lnTo>
                  <a:lnTo>
                    <a:pt x="337" y="186"/>
                  </a:lnTo>
                  <a:lnTo>
                    <a:pt x="241" y="186"/>
                  </a:lnTo>
                  <a:lnTo>
                    <a:pt x="145" y="186"/>
                  </a:lnTo>
                  <a:lnTo>
                    <a:pt x="72" y="186"/>
                  </a:lnTo>
                  <a:lnTo>
                    <a:pt x="24" y="186"/>
                  </a:lnTo>
                  <a:lnTo>
                    <a:pt x="12" y="186"/>
                  </a:lnTo>
                  <a:lnTo>
                    <a:pt x="0" y="177"/>
                  </a:lnTo>
                  <a:lnTo>
                    <a:pt x="0" y="167"/>
                  </a:lnTo>
                  <a:lnTo>
                    <a:pt x="0" y="137"/>
                  </a:lnTo>
                  <a:lnTo>
                    <a:pt x="12" y="89"/>
                  </a:lnTo>
                  <a:lnTo>
                    <a:pt x="24" y="30"/>
                  </a:lnTo>
                  <a:lnTo>
                    <a:pt x="24" y="1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05" y="0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1155240" y="2001960"/>
              <a:ext cx="2721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83080" y="2049120"/>
              <a:ext cx="514080" cy="233280"/>
            </a:xfrm>
            <a:custGeom>
              <a:avLst/>
              <a:gdLst/>
              <a:ahLst/>
              <a:rect l="l" t="t" r="r" b="b"/>
              <a:pathLst>
                <a:path w="410" h="147">
                  <a:moveTo>
                    <a:pt x="410" y="0"/>
                  </a:moveTo>
                  <a:lnTo>
                    <a:pt x="398" y="147"/>
                  </a:lnTo>
                  <a:lnTo>
                    <a:pt x="0" y="147"/>
                  </a:lnTo>
                  <a:lnTo>
                    <a:pt x="24" y="0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83080" y="2049120"/>
              <a:ext cx="514080" cy="233280"/>
            </a:xfrm>
            <a:custGeom>
              <a:avLst/>
              <a:gdLst/>
              <a:ahLst/>
              <a:rect l="l" t="t" r="r" b="b"/>
              <a:pathLst>
                <a:path w="410" h="147">
                  <a:moveTo>
                    <a:pt x="410" y="0"/>
                  </a:moveTo>
                  <a:lnTo>
                    <a:pt x="398" y="147"/>
                  </a:lnTo>
                  <a:lnTo>
                    <a:pt x="0" y="147"/>
                  </a:lnTo>
                  <a:lnTo>
                    <a:pt x="24" y="0"/>
                  </a:lnTo>
                  <a:lnTo>
                    <a:pt x="41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7720" y="2360520"/>
              <a:ext cx="679680" cy="217080"/>
            </a:xfrm>
            <a:custGeom>
              <a:avLst/>
              <a:gdLst/>
              <a:ahLst/>
              <a:rect l="l" t="t" r="r" b="b"/>
              <a:pathLst>
                <a:path w="542" h="137">
                  <a:moveTo>
                    <a:pt x="530" y="0"/>
                  </a:moveTo>
                  <a:lnTo>
                    <a:pt x="542" y="19"/>
                  </a:lnTo>
                  <a:lnTo>
                    <a:pt x="542" y="39"/>
                  </a:lnTo>
                  <a:lnTo>
                    <a:pt x="530" y="78"/>
                  </a:lnTo>
                  <a:lnTo>
                    <a:pt x="506" y="107"/>
                  </a:lnTo>
                  <a:lnTo>
                    <a:pt x="506" y="117"/>
                  </a:lnTo>
                  <a:lnTo>
                    <a:pt x="494" y="127"/>
                  </a:lnTo>
                  <a:lnTo>
                    <a:pt x="494" y="137"/>
                  </a:lnTo>
                  <a:lnTo>
                    <a:pt x="482" y="137"/>
                  </a:lnTo>
                  <a:lnTo>
                    <a:pt x="470" y="137"/>
                  </a:lnTo>
                  <a:lnTo>
                    <a:pt x="422" y="137"/>
                  </a:lnTo>
                  <a:lnTo>
                    <a:pt x="349" y="137"/>
                  </a:lnTo>
                  <a:lnTo>
                    <a:pt x="253" y="137"/>
                  </a:lnTo>
                  <a:lnTo>
                    <a:pt x="193" y="137"/>
                  </a:lnTo>
                  <a:lnTo>
                    <a:pt x="145" y="137"/>
                  </a:lnTo>
                  <a:lnTo>
                    <a:pt x="84" y="137"/>
                  </a:lnTo>
                  <a:lnTo>
                    <a:pt x="36" y="137"/>
                  </a:lnTo>
                  <a:lnTo>
                    <a:pt x="24" y="137"/>
                  </a:lnTo>
                  <a:lnTo>
                    <a:pt x="12" y="137"/>
                  </a:lnTo>
                  <a:lnTo>
                    <a:pt x="0" y="127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47720" y="2360520"/>
              <a:ext cx="679680" cy="217080"/>
            </a:xfrm>
            <a:custGeom>
              <a:avLst/>
              <a:gdLst/>
              <a:ahLst/>
              <a:rect l="l" t="t" r="r" b="b"/>
              <a:pathLst>
                <a:path w="542" h="137">
                  <a:moveTo>
                    <a:pt x="530" y="0"/>
                  </a:moveTo>
                  <a:lnTo>
                    <a:pt x="542" y="19"/>
                  </a:lnTo>
                  <a:lnTo>
                    <a:pt x="542" y="39"/>
                  </a:lnTo>
                  <a:lnTo>
                    <a:pt x="530" y="78"/>
                  </a:lnTo>
                  <a:lnTo>
                    <a:pt x="506" y="107"/>
                  </a:lnTo>
                  <a:lnTo>
                    <a:pt x="506" y="117"/>
                  </a:lnTo>
                  <a:lnTo>
                    <a:pt x="494" y="127"/>
                  </a:lnTo>
                  <a:lnTo>
                    <a:pt x="494" y="137"/>
                  </a:lnTo>
                  <a:lnTo>
                    <a:pt x="482" y="137"/>
                  </a:lnTo>
                  <a:lnTo>
                    <a:pt x="470" y="137"/>
                  </a:lnTo>
                  <a:lnTo>
                    <a:pt x="422" y="137"/>
                  </a:lnTo>
                  <a:lnTo>
                    <a:pt x="349" y="137"/>
                  </a:lnTo>
                  <a:lnTo>
                    <a:pt x="253" y="137"/>
                  </a:lnTo>
                  <a:lnTo>
                    <a:pt x="193" y="137"/>
                  </a:lnTo>
                  <a:lnTo>
                    <a:pt x="145" y="137"/>
                  </a:lnTo>
                  <a:lnTo>
                    <a:pt x="84" y="137"/>
                  </a:lnTo>
                  <a:lnTo>
                    <a:pt x="36" y="137"/>
                  </a:lnTo>
                  <a:lnTo>
                    <a:pt x="24" y="137"/>
                  </a:lnTo>
                  <a:lnTo>
                    <a:pt x="12" y="137"/>
                  </a:lnTo>
                  <a:lnTo>
                    <a:pt x="0" y="1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04720" y="2322360"/>
              <a:ext cx="60120" cy="74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22960" y="2312640"/>
              <a:ext cx="14760" cy="4752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12" y="30"/>
                  </a:moveTo>
                  <a:lnTo>
                    <a:pt x="12" y="30"/>
                  </a:lnTo>
                  <a:lnTo>
                    <a:pt x="0" y="2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22960" y="2312640"/>
              <a:ext cx="14760" cy="4752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12" y="30"/>
                  </a:moveTo>
                  <a:lnTo>
                    <a:pt x="12" y="30"/>
                  </a:lnTo>
                  <a:lnTo>
                    <a:pt x="0" y="20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762480" y="2360520"/>
              <a:ext cx="634680" cy="185400"/>
              <a:chOff x="762480" y="2360520"/>
              <a:chExt cx="634680" cy="185400"/>
            </a:xfrm>
          </p:grpSpPr>
          <p:sp>
            <p:nvSpPr>
              <p:cNvPr id="492" name=""/>
              <p:cNvSpPr/>
              <p:nvPr/>
            </p:nvSpPr>
            <p:spPr>
              <a:xfrm>
                <a:off x="762480" y="2360520"/>
                <a:ext cx="634680" cy="185400"/>
              </a:xfrm>
              <a:custGeom>
                <a:avLst/>
                <a:gdLst/>
                <a:ahLst/>
                <a:rect l="l" t="t" r="r" b="b"/>
                <a:pathLst>
                  <a:path w="506" h="117">
                    <a:moveTo>
                      <a:pt x="506" y="0"/>
                    </a:moveTo>
                    <a:lnTo>
                      <a:pt x="470" y="117"/>
                    </a:lnTo>
                    <a:lnTo>
                      <a:pt x="0" y="117"/>
                    </a:lnTo>
                    <a:lnTo>
                      <a:pt x="48" y="0"/>
                    </a:lnTo>
                    <a:lnTo>
                      <a:pt x="506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62480" y="2360520"/>
                <a:ext cx="634680" cy="185400"/>
              </a:xfrm>
              <a:custGeom>
                <a:avLst/>
                <a:gdLst/>
                <a:ahLst/>
                <a:rect l="l" t="t" r="r" b="b"/>
                <a:pathLst>
                  <a:path w="506" h="117">
                    <a:moveTo>
                      <a:pt x="506" y="0"/>
                    </a:moveTo>
                    <a:lnTo>
                      <a:pt x="470" y="117"/>
                    </a:lnTo>
                    <a:lnTo>
                      <a:pt x="0" y="117"/>
                    </a:lnTo>
                    <a:lnTo>
                      <a:pt x="48" y="0"/>
                    </a:lnTo>
                    <a:lnTo>
                      <a:pt x="506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92360" y="2515680"/>
                <a:ext cx="29880" cy="14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92360" y="2515680"/>
                <a:ext cx="29880" cy="14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37720" y="2515680"/>
                <a:ext cx="29880" cy="14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37720" y="2515680"/>
                <a:ext cx="29880" cy="14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912600" y="2515680"/>
                <a:ext cx="121680" cy="14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912600" y="2515680"/>
                <a:ext cx="121680" cy="14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67960" y="2515680"/>
                <a:ext cx="29520" cy="14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67960" y="2515680"/>
                <a:ext cx="29520" cy="14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049400" y="2515680"/>
                <a:ext cx="29880" cy="14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049400" y="2515680"/>
                <a:ext cx="29880" cy="14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094760" y="2515680"/>
                <a:ext cx="29880" cy="14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094760" y="2515680"/>
                <a:ext cx="29880" cy="14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140120" y="2515680"/>
                <a:ext cx="29520" cy="14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140120" y="2515680"/>
                <a:ext cx="29520" cy="14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184760" y="2515680"/>
                <a:ext cx="29880" cy="14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184760" y="2515680"/>
                <a:ext cx="29880" cy="14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230120" y="2515680"/>
                <a:ext cx="30960" cy="14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230120" y="2515680"/>
                <a:ext cx="30960" cy="14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276560" y="2515680"/>
                <a:ext cx="29880" cy="14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276560" y="2515680"/>
                <a:ext cx="29880" cy="14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06800" y="2515680"/>
                <a:ext cx="29880" cy="14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06800" y="2515680"/>
                <a:ext cx="29880" cy="14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92360" y="248400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92360" y="248400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37720" y="248400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37720" y="248400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019520" y="248400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019520" y="248400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064520" y="248400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064520" y="248400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109880" y="248400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109880" y="248400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54880" y="248400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54880" y="248400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199880" y="248400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199880" y="248400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230120" y="2484000"/>
                <a:ext cx="3096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230120" y="2484000"/>
                <a:ext cx="3096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276560" y="248400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276560" y="248400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21560" y="248400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21560" y="248400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07480" y="2451960"/>
                <a:ext cx="2988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07480" y="2451960"/>
                <a:ext cx="2988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52840" y="2451960"/>
                <a:ext cx="2988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52840" y="2451960"/>
                <a:ext cx="2988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19520" y="2451960"/>
                <a:ext cx="2988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019520" y="2451960"/>
                <a:ext cx="2988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064520" y="2451960"/>
                <a:ext cx="2988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064520" y="2451960"/>
                <a:ext cx="2988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109880" y="2451960"/>
                <a:ext cx="2988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109880" y="2451960"/>
                <a:ext cx="2988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154880" y="2451960"/>
                <a:ext cx="2988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154880" y="2451960"/>
                <a:ext cx="2988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199880" y="2451960"/>
                <a:ext cx="2988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199880" y="2451960"/>
                <a:ext cx="2988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245240" y="2451960"/>
                <a:ext cx="3096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245240" y="2451960"/>
                <a:ext cx="3096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291680" y="2451960"/>
                <a:ext cx="2988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291680" y="2451960"/>
                <a:ext cx="2988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36680" y="2451960"/>
                <a:ext cx="2988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36680" y="2451960"/>
                <a:ext cx="2988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07480" y="242208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07480" y="242208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52840" y="242208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52840" y="242208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34640" y="242208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34640" y="242208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079640" y="242208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079640" y="242208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125000" y="2422080"/>
                <a:ext cx="2952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125000" y="2422080"/>
                <a:ext cx="2952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170000" y="242208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170000" y="242208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199880" y="242208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199880" y="242208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245240" y="2422080"/>
                <a:ext cx="3096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245240" y="2422080"/>
                <a:ext cx="3096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291680" y="242208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91680" y="242208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36680" y="242208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36680" y="242208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22600" y="2390040"/>
                <a:ext cx="2988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22600" y="2390040"/>
                <a:ext cx="2988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67960" y="2390040"/>
                <a:ext cx="2952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67960" y="2390040"/>
                <a:ext cx="2952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049400" y="2390040"/>
                <a:ext cx="2988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049400" y="2390040"/>
                <a:ext cx="2988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094760" y="2390040"/>
                <a:ext cx="2988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094760" y="2390040"/>
                <a:ext cx="2988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125000" y="2390040"/>
                <a:ext cx="2952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125000" y="2390040"/>
                <a:ext cx="2952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170000" y="2390040"/>
                <a:ext cx="2988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170000" y="2390040"/>
                <a:ext cx="2988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215000" y="2390040"/>
                <a:ext cx="2988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215000" y="2390040"/>
                <a:ext cx="2988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261440" y="2390040"/>
                <a:ext cx="2988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261440" y="2390040"/>
                <a:ext cx="2988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06800" y="2390040"/>
                <a:ext cx="2988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06800" y="2390040"/>
                <a:ext cx="2988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51800" y="2390040"/>
                <a:ext cx="2988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51800" y="2390040"/>
                <a:ext cx="2988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2720" y="2484000"/>
                <a:ext cx="2952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82720" y="2484000"/>
                <a:ext cx="2952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929160" y="248400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29160" y="248400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974160" y="248400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974160" y="248400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7840" y="2451960"/>
                <a:ext cx="3132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7840" y="2451960"/>
                <a:ext cx="3132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44280" y="2451960"/>
                <a:ext cx="2952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944280" y="2451960"/>
                <a:ext cx="2952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974160" y="2451960"/>
                <a:ext cx="2988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974160" y="2451960"/>
                <a:ext cx="2988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7840" y="2422080"/>
                <a:ext cx="3132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97840" y="2422080"/>
                <a:ext cx="3132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944280" y="2422080"/>
                <a:ext cx="2952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944280" y="2422080"/>
                <a:ext cx="2952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989280" y="2422080"/>
                <a:ext cx="29880" cy="1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989280" y="2422080"/>
                <a:ext cx="29880" cy="15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12600" y="2390040"/>
                <a:ext cx="3132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912600" y="2390040"/>
                <a:ext cx="3132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959400" y="2390040"/>
                <a:ext cx="2952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959400" y="2390040"/>
                <a:ext cx="2952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004400" y="2390040"/>
                <a:ext cx="29880" cy="1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004400" y="2390040"/>
                <a:ext cx="29880" cy="15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912960" y="2033280"/>
              <a:ext cx="76320" cy="144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12960" y="2033280"/>
              <a:ext cx="76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12960" y="2033280"/>
              <a:ext cx="76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12960" y="2033280"/>
              <a:ext cx="76320" cy="144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12960" y="2033280"/>
              <a:ext cx="76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12960" y="2033280"/>
              <a:ext cx="76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02320" y="2011320"/>
              <a:ext cx="151560" cy="43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404720" y="2228760"/>
              <a:ext cx="14760" cy="2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404720" y="2228760"/>
              <a:ext cx="14760" cy="2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38080" y="2312640"/>
              <a:ext cx="559080" cy="1440"/>
            </a:xfrm>
            <a:custGeom>
              <a:avLst/>
              <a:gdLst/>
              <a:ahLst/>
              <a:rect l="l" t="t" r="r" b="b"/>
              <a:pathLst>
                <a:path w="446" h="0">
                  <a:moveTo>
                    <a:pt x="0" y="0"/>
                  </a:moveTo>
                  <a:lnTo>
                    <a:pt x="4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38080" y="2312640"/>
              <a:ext cx="55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38080" y="2312640"/>
              <a:ext cx="55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7318440" y="2214720"/>
            <a:ext cx="210960" cy="43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16200000">
            <a:off x="7354800" y="236232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cc"/>
                </a:solidFill>
                <a:latin typeface="Times New Roman"/>
              </a:rPr>
              <a:t>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744560" y="3390840"/>
            <a:ext cx="3132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927680" y="3390840"/>
            <a:ext cx="2422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799000" y="34671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GPRS/U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1760" y="34480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703600" y="2249640"/>
            <a:ext cx="1440" cy="34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0560" y="4272120"/>
            <a:ext cx="843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ata services and the radio access: searching consistency 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Radio configuration, service characteristics and performance requirements</a:t>
            </a: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000080" y="5194440"/>
            <a:ext cx="526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radio dimensioning (time slots) and sharing deg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hannel coding 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interference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TCP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- level se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88800" y="175680"/>
            <a:ext cx="8128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-CDMA radio resource control</a:t>
            </a:r>
            <a:br>
              <a:rPr sz="40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xample: re-arranging cod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2" name=""/>
          <p:cNvSpPr/>
          <p:nvPr/>
        </p:nvSpPr>
        <p:spPr>
          <a:xfrm>
            <a:off x="903240" y="3048120"/>
            <a:ext cx="145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Times New Roman"/>
              </a:rPr>
              <a:t>code hand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2800" y="1752480"/>
            <a:ext cx="2475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Times New Roman"/>
              </a:rPr>
              <a:t>orthogonal code lim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Times New Roman"/>
              </a:rPr>
              <a:t>(down lin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44520" y="4921200"/>
            <a:ext cx="97776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322280" y="4413240"/>
            <a:ext cx="0" cy="10256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335240" y="5424480"/>
            <a:ext cx="13460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335240" y="4414680"/>
            <a:ext cx="1346040" cy="18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2668680" y="4150800"/>
            <a:ext cx="0" cy="505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681280" y="4156200"/>
            <a:ext cx="171936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681280" y="4646520"/>
            <a:ext cx="1719360" cy="18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668680" y="5184360"/>
            <a:ext cx="0" cy="5065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681280" y="5192640"/>
            <a:ext cx="1719360" cy="18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81280" y="5681520"/>
            <a:ext cx="1719360" cy="18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00640" y="3994200"/>
            <a:ext cx="1440" cy="3348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00640" y="4491000"/>
            <a:ext cx="1440" cy="335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00640" y="5018040"/>
            <a:ext cx="1440" cy="3333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00640" y="5535720"/>
            <a:ext cx="1440" cy="3348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9720" y="5961240"/>
            <a:ext cx="60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63de8"/>
                </a:solidFill>
                <a:latin typeface="Arial"/>
              </a:rPr>
              <a:t>SF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754640" y="5961240"/>
            <a:ext cx="60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63de8"/>
                </a:solidFill>
                <a:latin typeface="Arial"/>
              </a:rPr>
              <a:t>SF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70600" y="5961240"/>
            <a:ext cx="60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63de8"/>
                </a:solidFill>
                <a:latin typeface="Arial"/>
              </a:rPr>
              <a:t>SF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81120" y="4148280"/>
            <a:ext cx="1014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63de8"/>
                </a:solidFill>
                <a:latin typeface="Arial"/>
              </a:rPr>
              <a:t>C</a:t>
            </a:r>
            <a:r>
              <a:rPr b="1" lang="it-IT" sz="1600" spc="-1" strike="noStrike" baseline="-20000">
                <a:solidFill>
                  <a:srgbClr val="063de8"/>
                </a:solidFill>
                <a:latin typeface="Arial"/>
              </a:rPr>
              <a:t>2,1</a:t>
            </a:r>
            <a:r>
              <a:rPr b="1" lang="it-IT" sz="1600" spc="-1" strike="noStrike">
                <a:solidFill>
                  <a:srgbClr val="063de8"/>
                </a:solidFill>
                <a:latin typeface="Arial"/>
              </a:rPr>
              <a:t> = (1,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539000" y="5156280"/>
            <a:ext cx="108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63de8"/>
                </a:solidFill>
                <a:latin typeface="Arial"/>
              </a:rPr>
              <a:t>C</a:t>
            </a:r>
            <a:r>
              <a:rPr b="1" lang="it-IT" sz="1600" spc="-1" strike="noStrike" baseline="-20000">
                <a:solidFill>
                  <a:srgbClr val="063de8"/>
                </a:solidFill>
                <a:latin typeface="Arial"/>
              </a:rPr>
              <a:t>2,2</a:t>
            </a:r>
            <a:r>
              <a:rPr b="1" lang="it-IT" sz="1600" spc="-1" strike="noStrike">
                <a:solidFill>
                  <a:srgbClr val="063de8"/>
                </a:solidFill>
                <a:latin typeface="Arial"/>
              </a:rPr>
              <a:t> = (1,-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0120" y="4691160"/>
            <a:ext cx="9320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63de8"/>
                </a:solidFill>
                <a:latin typeface="Arial"/>
              </a:rPr>
              <a:t>C</a:t>
            </a:r>
            <a:r>
              <a:rPr b="1" lang="it-IT" sz="1600" spc="-1" strike="noStrike" baseline="-20000">
                <a:solidFill>
                  <a:srgbClr val="063de8"/>
                </a:solidFill>
                <a:latin typeface="Arial"/>
              </a:rPr>
              <a:t>1,1</a:t>
            </a:r>
            <a:r>
              <a:rPr b="1" lang="it-IT" sz="1600" spc="-1" strike="noStrike">
                <a:solidFill>
                  <a:srgbClr val="063de8"/>
                </a:solidFill>
                <a:latin typeface="Arial"/>
              </a:rPr>
              <a:t> = (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58400" y="3908520"/>
            <a:ext cx="13525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63de8"/>
                </a:solidFill>
                <a:latin typeface="Arial"/>
              </a:rPr>
              <a:t>C</a:t>
            </a:r>
            <a:r>
              <a:rPr b="1" lang="it-IT" sz="1600" spc="-1" strike="noStrike" baseline="-20000">
                <a:solidFill>
                  <a:srgbClr val="063de8"/>
                </a:solidFill>
                <a:latin typeface="Arial"/>
              </a:rPr>
              <a:t>4,1</a:t>
            </a:r>
            <a:r>
              <a:rPr b="1" lang="it-IT" sz="1600" spc="-1" strike="noStrike">
                <a:solidFill>
                  <a:srgbClr val="063de8"/>
                </a:solidFill>
                <a:latin typeface="Arial"/>
              </a:rPr>
              <a:t> = (1,1,1,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885040" y="4368960"/>
            <a:ext cx="148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63de8"/>
                </a:solidFill>
                <a:latin typeface="Arial"/>
              </a:rPr>
              <a:t>C</a:t>
            </a:r>
            <a:r>
              <a:rPr b="1" lang="it-IT" sz="1600" spc="-1" strike="noStrike" baseline="-20000">
                <a:solidFill>
                  <a:srgbClr val="063de8"/>
                </a:solidFill>
                <a:latin typeface="Arial"/>
              </a:rPr>
              <a:t>4,2</a:t>
            </a:r>
            <a:r>
              <a:rPr b="1" lang="it-IT" sz="1600" spc="-1" strike="noStrike">
                <a:solidFill>
                  <a:srgbClr val="063de8"/>
                </a:solidFill>
                <a:latin typeface="Arial"/>
              </a:rPr>
              <a:t> = (1,1,-1,-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97560" y="4951440"/>
            <a:ext cx="148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63de8"/>
                </a:solidFill>
                <a:latin typeface="Arial"/>
              </a:rPr>
              <a:t>C</a:t>
            </a:r>
            <a:r>
              <a:rPr b="1" lang="it-IT" sz="1600" spc="-1" strike="noStrike" baseline="-20000">
                <a:solidFill>
                  <a:srgbClr val="063de8"/>
                </a:solidFill>
                <a:latin typeface="Arial"/>
              </a:rPr>
              <a:t>4,3</a:t>
            </a:r>
            <a:r>
              <a:rPr b="1" lang="it-IT" sz="1600" spc="-1" strike="noStrike">
                <a:solidFill>
                  <a:srgbClr val="063de8"/>
                </a:solidFill>
                <a:latin typeface="Arial"/>
              </a:rPr>
              <a:t> = (1,-1,1,-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05480" y="5459400"/>
            <a:ext cx="148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63de8"/>
                </a:solidFill>
                <a:latin typeface="Arial"/>
              </a:rPr>
              <a:t>C</a:t>
            </a:r>
            <a:r>
              <a:rPr b="1" lang="it-IT" sz="1600" spc="-1" strike="noStrike" baseline="-20000">
                <a:solidFill>
                  <a:srgbClr val="063de8"/>
                </a:solidFill>
                <a:latin typeface="Arial"/>
              </a:rPr>
              <a:t>4,4</a:t>
            </a:r>
            <a:r>
              <a:rPr b="1" lang="it-IT" sz="1600" spc="-1" strike="noStrike">
                <a:solidFill>
                  <a:srgbClr val="063de8"/>
                </a:solidFill>
                <a:latin typeface="Arial"/>
              </a:rPr>
              <a:t> = (1,-1,-1,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416480" y="3994200"/>
            <a:ext cx="7351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4416480" y="4491000"/>
            <a:ext cx="7351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16480" y="4317840"/>
            <a:ext cx="7351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4416480" y="4815000"/>
            <a:ext cx="7351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16480" y="5014800"/>
            <a:ext cx="7351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416480" y="5337000"/>
            <a:ext cx="7351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416480" y="5537160"/>
            <a:ext cx="7351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4416480" y="5859360"/>
            <a:ext cx="7351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00600" y="4930920"/>
            <a:ext cx="203040" cy="2016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4800600" y="4930920"/>
            <a:ext cx="203040" cy="2016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70600" y="4325760"/>
            <a:ext cx="271440" cy="67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cubicBezTo>
                  <a:pt x="96" y="400"/>
                  <a:pt x="192" y="320"/>
                  <a:pt x="192" y="240"/>
                </a:cubicBezTo>
                <a:cubicBezTo>
                  <a:pt x="192" y="160"/>
                  <a:pt x="96" y="80"/>
                  <a:pt x="0" y="0"/>
                </a:cubicBezTo>
              </a:path>
            </a:pathLst>
          </a:custGeom>
          <a:noFill/>
          <a:ln w="3816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800600" y="4259160"/>
            <a:ext cx="203040" cy="201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4800600" y="4259160"/>
            <a:ext cx="203040" cy="201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625760" y="2590920"/>
            <a:ext cx="271440" cy="380880"/>
          </a:xfrm>
          <a:prstGeom prst="downArrow">
            <a:avLst>
              <a:gd name="adj1" fmla="val 50000"/>
              <a:gd name="adj2" fmla="val 35080"/>
            </a:avLst>
          </a:prstGeom>
          <a:solidFill>
            <a:srgbClr val="0000cc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65840" y="4557600"/>
            <a:ext cx="27925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Times New Roman"/>
              </a:rPr>
              <a:t>choosing the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cc"/>
                </a:solidFill>
                <a:latin typeface="Times New Roman"/>
              </a:rPr>
              <a:t>inactiv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Times New Roman"/>
              </a:rPr>
              <a:t>and trading-off the u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Times New Roman"/>
              </a:rPr>
              <a:t>dedicated/shared 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Times New Roman"/>
              </a:rPr>
              <a:t>for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00600" y="3336840"/>
            <a:ext cx="203040" cy="149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4800600" y="3336840"/>
            <a:ext cx="203040" cy="149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05720" y="1989000"/>
            <a:ext cx="31896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24680" y="1782720"/>
            <a:ext cx="0" cy="4158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29360" y="2192400"/>
            <a:ext cx="43812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29360" y="1782720"/>
            <a:ext cx="438120" cy="18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462800" y="1676160"/>
            <a:ext cx="0" cy="2048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467480" y="1677960"/>
            <a:ext cx="56052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467480" y="1876320"/>
            <a:ext cx="560520" cy="18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7462800" y="2095200"/>
            <a:ext cx="0" cy="2048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467480" y="2098800"/>
            <a:ext cx="56052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467480" y="2297160"/>
            <a:ext cx="56052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6705720" y="2520720"/>
            <a:ext cx="1322280" cy="624960"/>
            <a:chOff x="6705720" y="2520720"/>
            <a:chExt cx="1322280" cy="624960"/>
          </a:xfrm>
        </p:grpSpPr>
        <p:sp>
          <p:nvSpPr>
            <p:cNvPr id="696" name=""/>
            <p:cNvSpPr/>
            <p:nvPr/>
          </p:nvSpPr>
          <p:spPr>
            <a:xfrm>
              <a:off x="6705720" y="2833560"/>
              <a:ext cx="3186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024320" y="2627280"/>
              <a:ext cx="0" cy="4165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029000" y="3038040"/>
              <a:ext cx="4388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029000" y="2628000"/>
              <a:ext cx="438840" cy="3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7463160" y="2520720"/>
              <a:ext cx="0" cy="2048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467840" y="2522880"/>
              <a:ext cx="560160" cy="3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67840" y="2722320"/>
              <a:ext cx="560160" cy="3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7463160" y="2940120"/>
              <a:ext cx="0" cy="2055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67840" y="2943720"/>
              <a:ext cx="560160" cy="7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7840" y="3142800"/>
              <a:ext cx="560160" cy="3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7523640" y="3238560"/>
            <a:ext cx="61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63de8"/>
                </a:solidFill>
                <a:latin typeface="Arial"/>
              </a:rPr>
              <a:t>SF =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76920" y="2382840"/>
            <a:ext cx="31896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95880" y="2176560"/>
            <a:ext cx="0" cy="4158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00560" y="2587680"/>
            <a:ext cx="43812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200560" y="2178000"/>
            <a:ext cx="43812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634000" y="2069640"/>
            <a:ext cx="0" cy="20484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638680" y="2073240"/>
            <a:ext cx="56052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638680" y="2271600"/>
            <a:ext cx="560520" cy="18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5634000" y="2489040"/>
            <a:ext cx="0" cy="206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638680" y="2494080"/>
            <a:ext cx="5605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638680" y="2690640"/>
            <a:ext cx="5605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367320" y="2352600"/>
            <a:ext cx="66960" cy="55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637320" y="2352600"/>
            <a:ext cx="68400" cy="55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180200" y="2465280"/>
            <a:ext cx="66600" cy="55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80200" y="2295360"/>
            <a:ext cx="66600" cy="572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556600" y="28036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Times New Roman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21520" y="179532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de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973920" y="3917880"/>
            <a:ext cx="272880" cy="466920"/>
          </a:xfrm>
          <a:prstGeom prst="upArrow">
            <a:avLst>
              <a:gd name="adj1" fmla="val 50000"/>
              <a:gd name="adj2" fmla="val 42777"/>
            </a:avLst>
          </a:prstGeom>
          <a:solidFill>
            <a:srgbClr val="0000cc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0080" y="219240"/>
            <a:ext cx="86835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nclusion: emerging convergence elements in wireless communic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5" name=""/>
          <p:cNvSpPr/>
          <p:nvPr/>
        </p:nvSpPr>
        <p:spPr>
          <a:xfrm>
            <a:off x="251640" y="1652760"/>
            <a:ext cx="4881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5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Application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Service creation 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System and technological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739760" y="2022480"/>
            <a:ext cx="2934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fixed -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voice  -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attraction attitude of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62840" y="3408480"/>
            <a:ext cx="27363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role of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open service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virtual hom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206520" y="5551560"/>
            <a:ext cx="3233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mobile - IP mobility paradig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mobile - IP transport and Q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603680" y="3784680"/>
            <a:ext cx="325440" cy="214200"/>
          </a:xfrm>
          <a:prstGeom prst="rightArrow">
            <a:avLst>
              <a:gd name="adj1" fmla="val 50000"/>
              <a:gd name="adj2" fmla="val 37983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237200" y="2529000"/>
            <a:ext cx="323640" cy="214200"/>
          </a:xfrm>
          <a:prstGeom prst="rightArrow">
            <a:avLst>
              <a:gd name="adj1" fmla="val 50000"/>
              <a:gd name="adj2" fmla="val 37773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167440" y="5138640"/>
            <a:ext cx="203040" cy="362160"/>
          </a:xfrm>
          <a:prstGeom prst="downArrow">
            <a:avLst>
              <a:gd name="adj1" fmla="val 50000"/>
              <a:gd name="adj2" fmla="val 4459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702320" y="2263680"/>
            <a:ext cx="0" cy="9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254560" y="3657600"/>
            <a:ext cx="0" cy="855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192480" y="5776920"/>
            <a:ext cx="0" cy="565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7:40:13Z</dcterms:created>
  <dc:creator>Laptop</dc:creator>
  <dc:description/>
  <dc:language>en-US</dc:language>
  <cp:lastModifiedBy>**********</cp:lastModifiedBy>
  <cp:lastPrinted>2001-02-26T16:05:52Z</cp:lastPrinted>
  <dcterms:modified xsi:type="dcterms:W3CDTF">2001-04-24T12:18:25Z</dcterms:modified>
  <cp:revision>654</cp:revision>
  <dc:subject/>
  <dc:title>The Management Team</dc:title>
</cp:coreProperties>
</file>