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1.wmf" ContentType="image/x-wmf"/>
  <Override PartName="/ppt/media/image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2.png" ContentType="image/png"/>
  <Override PartName="/ppt/media/image10.wmf" ContentType="image/x-wmf"/>
  <Override PartName="/ppt/media/image5.wmf" ContentType="image/x-wmf"/>
  <Override PartName="/ppt/media/image6.jpeg" ContentType="image/jpeg"/>
  <Override PartName="/ppt/media/image8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42800" cy="98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109548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5900760" y="-360"/>
            <a:ext cx="84312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895320" y="74088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899640" y="4698720"/>
            <a:ext cx="2646360" cy="122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0" y="9618120"/>
            <a:ext cx="67464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6373800" y="9618120"/>
            <a:ext cx="37008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12FA1F4-5F63-4EAE-A5DD-C9A7FDC66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898200" y="4698720"/>
            <a:ext cx="4946760" cy="445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codifica video (MPEG-4 o Real) a 40 kbit/s e’ quella tipicamente usata su Internet per servizi streaming da accessi dial-up (V.90 e ISD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codifica video (MPEG-4 o Real) a 300 kbit/s e’ quella attualmente piu’ diffusa su Internet per servizi streaming IP su accessi ADSL per utenza residenziale: infatti, la loro (maggiore) velocita’ nominale e’ garantita solo sul rilegamento d’utente, mentre in centrale e nei livelli di rete piu’ alti si introduce un qualche livello di concentrazione (multiplazione statistica). La velocita’ nominale di una linea ADSL (e.g. 640 kbit/s) per accesso Internet veloce e’ quindi, analogamente a quanto avviene per qualsiasi accesso IP, piu’ propriamente una velocita’ di picco,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 txBox="1"/>
          <p:nvPr/>
        </p:nvSpPr>
        <p:spPr>
          <a:xfrm>
            <a:off x="6373800" y="9618120"/>
            <a:ext cx="37008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40FD214-E6B4-442D-90CB-AE0BBBAAA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0" y="9618120"/>
            <a:ext cx="67464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-360" y="-360"/>
            <a:ext cx="109548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5900760" y="-360"/>
            <a:ext cx="84312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066680" y="86832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847440" y="4836960"/>
            <a:ext cx="5103720" cy="43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adoption of innovative solutions will widen the role of the involved 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Mobile operators acting as Internet Service Providers and offering the radio access to other ISPs at the sam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or the user: direct use of standard IP/based applications (IP protocol directly available on the mobile terminal) and availability of applications open to Intranet and Internet environ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 Mobile operator acting as ISP can rely on an autonomous addressing capability (Domain Name Server) and on an autonomous service creation cap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 txBox="1"/>
          <p:nvPr/>
        </p:nvSpPr>
        <p:spPr>
          <a:xfrm>
            <a:off x="6373800" y="9618120"/>
            <a:ext cx="37008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8712350-DE30-44A8-B464-383207B10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0" y="9618120"/>
            <a:ext cx="67464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-360" y="-360"/>
            <a:ext cx="109548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5900760" y="-360"/>
            <a:ext cx="84312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898560" y="74448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896400" y="4698720"/>
            <a:ext cx="4945320" cy="446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696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29600" y="15238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29600" y="39121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7880" y="152388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89960" y="152388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7880" y="391212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89960" y="391212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52388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63480" y="53640"/>
            <a:ext cx="7718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00"/>
              </a:lnSpc>
              <a:spcBef>
                <a:spcPts val="476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52388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5238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9121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5238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696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696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5238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9121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52388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52388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91212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91212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29600" y="152388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63480" y="53640"/>
            <a:ext cx="7718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00"/>
              </a:lnSpc>
              <a:spcBef>
                <a:spcPts val="476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52388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5238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29600" y="39121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29600" y="15238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696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ts val="3098"/>
              </a:lnSpc>
              <a:spcBef>
                <a:spcPts val="8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  <a:p>
            <a:pPr lvl="1" marL="754200" indent="-281160">
              <a:lnSpc>
                <a:spcPts val="3098"/>
              </a:lnSpc>
              <a:spcBef>
                <a:spcPts val="85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  <a:p>
            <a:pPr lvl="2" marL="1263600" indent="-318960">
              <a:lnSpc>
                <a:spcPts val="3098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  <a:p>
            <a:pPr lvl="3" marL="1690560" indent="-236520">
              <a:lnSpc>
                <a:spcPts val="3098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  <a:p>
            <a:pPr lvl="4" marL="2093760" indent="-190440">
              <a:lnSpc>
                <a:spcPts val="3098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  <a:p>
            <a:pPr lvl="5" marL="2093760" indent="-190440">
              <a:lnSpc>
                <a:spcPts val="3098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  <a:p>
            <a:pPr lvl="6" marL="2093760" indent="-190440">
              <a:lnSpc>
                <a:spcPts val="3098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"/>
          <p:cNvSpPr/>
          <p:nvPr/>
        </p:nvSpPr>
        <p:spPr>
          <a:xfrm>
            <a:off x="7939080" y="6642000"/>
            <a:ext cx="1125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326880" y="114120"/>
            <a:ext cx="12960" cy="1206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1920" y="228600"/>
            <a:ext cx="1125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013520" y="6180120"/>
          <a:ext cx="1838520" cy="39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3520" y="6180120"/>
                    <a:ext cx="183852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295200" y="638316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5FC3-C8CE-4BFE-B9C0-333E9ABFB456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991720" y="5943600"/>
            <a:ext cx="0" cy="9144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masini" descr=""/>
          <p:cNvPicPr/>
          <p:nvPr/>
        </p:nvPicPr>
        <p:blipFill>
          <a:blip r:embed="rId2"/>
          <a:srcRect l="12069" t="0" r="0" b="0"/>
          <a:stretch/>
        </p:blipFill>
        <p:spPr>
          <a:xfrm>
            <a:off x="0" y="0"/>
            <a:ext cx="3886200" cy="3462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25760"/>
            <a:ext cx="5638680" cy="342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67160" y="0"/>
            <a:ext cx="5676840" cy="34257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80920" y="533160"/>
            <a:ext cx="4800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4648320"/>
            <a:ext cx="2666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400800" y="6310440"/>
            <a:ext cx="1981080" cy="31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7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1520" y="258480"/>
            <a:ext cx="847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Times New Roman"/>
              </a:rPr>
              <a:t>Mobile services and IP</a:t>
            </a:r>
            <a:br>
              <a:rPr sz="3600"/>
            </a:b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nvergence</a:t>
            </a: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in progress </a:t>
            </a: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through mediation elemen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6926400" y="445788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 Fa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416720" y="2670120"/>
            <a:ext cx="14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05ef"/>
                </a:solidFill>
                <a:latin typeface="Arial"/>
              </a:rPr>
              <a:t>HTML,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19200" y="2014560"/>
            <a:ext cx="1611360" cy="3855960"/>
          </a:xfrm>
          <a:prstGeom prst="ellipse">
            <a:avLst/>
          </a:prstGeom>
          <a:solidFill>
            <a:srgbClr val="2bd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284800" y="4765680"/>
            <a:ext cx="466560" cy="819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529000" y="2798640"/>
            <a:ext cx="14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d01"/>
                </a:solidFill>
                <a:latin typeface="Times New Roman"/>
              </a:rPr>
              <a:t>GSM data li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19200" y="2776680"/>
            <a:ext cx="2151360" cy="1440"/>
          </a:xfrm>
          <a:prstGeom prst="line">
            <a:avLst/>
          </a:prstGeom>
          <a:ln w="5724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36840" y="5226120"/>
            <a:ext cx="1392120" cy="0"/>
          </a:xfrm>
          <a:prstGeom prst="line">
            <a:avLst/>
          </a:prstGeom>
          <a:ln w="5724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78600" y="2855880"/>
            <a:ext cx="712800" cy="523800"/>
          </a:xfrm>
          <a:prstGeom prst="line">
            <a:avLst/>
          </a:prstGeom>
          <a:ln w="5724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830920" y="4745160"/>
            <a:ext cx="793800" cy="458640"/>
          </a:xfrm>
          <a:prstGeom prst="line">
            <a:avLst/>
          </a:prstGeom>
          <a:ln w="5724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988320" y="3941640"/>
            <a:ext cx="682560" cy="47808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5911920" y="2252520"/>
            <a:ext cx="964440" cy="819000"/>
            <a:chOff x="5911920" y="2252520"/>
            <a:chExt cx="964440" cy="819000"/>
          </a:xfrm>
        </p:grpSpPr>
        <p:sp>
          <p:nvSpPr>
            <p:cNvPr id="106" name=""/>
            <p:cNvSpPr/>
            <p:nvPr/>
          </p:nvSpPr>
          <p:spPr>
            <a:xfrm>
              <a:off x="5911920" y="2520720"/>
              <a:ext cx="823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6007320" y="2252520"/>
              <a:ext cx="869040" cy="724680"/>
              <a:chOff x="6007320" y="2252520"/>
              <a:chExt cx="869040" cy="724680"/>
            </a:xfrm>
          </p:grpSpPr>
          <p:sp>
            <p:nvSpPr>
              <p:cNvPr id="108" name=""/>
              <p:cNvSpPr/>
              <p:nvPr/>
            </p:nvSpPr>
            <p:spPr>
              <a:xfrm>
                <a:off x="6235920" y="2531880"/>
                <a:ext cx="30600" cy="3348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0" y="30"/>
                    </a:moveTo>
                    <a:lnTo>
                      <a:pt x="0" y="0"/>
                    </a:lnTo>
                    <a:lnTo>
                      <a:pt x="29" y="0"/>
                    </a:lnTo>
                    <a:lnTo>
                      <a:pt x="29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295320" y="2531880"/>
                <a:ext cx="32760" cy="3348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0" y="30"/>
                    </a:moveTo>
                    <a:lnTo>
                      <a:pt x="0" y="0"/>
                    </a:lnTo>
                    <a:lnTo>
                      <a:pt x="31" y="0"/>
                    </a:lnTo>
                    <a:lnTo>
                      <a:pt x="31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776f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354720" y="2531880"/>
                <a:ext cx="32760" cy="3348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0" y="30"/>
                    </a:moveTo>
                    <a:lnTo>
                      <a:pt x="0" y="0"/>
                    </a:lnTo>
                    <a:lnTo>
                      <a:pt x="31" y="0"/>
                    </a:lnTo>
                    <a:lnTo>
                      <a:pt x="31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e6d7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415200" y="2531880"/>
                <a:ext cx="30600" cy="3348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0" y="30"/>
                    </a:moveTo>
                    <a:lnTo>
                      <a:pt x="0" y="0"/>
                    </a:lnTo>
                    <a:lnTo>
                      <a:pt x="29" y="0"/>
                    </a:lnTo>
                    <a:lnTo>
                      <a:pt x="29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c8bc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476760" y="2531880"/>
                <a:ext cx="29520" cy="3348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0" y="30"/>
                    </a:moveTo>
                    <a:lnTo>
                      <a:pt x="0" y="0"/>
                    </a:lnTo>
                    <a:lnTo>
                      <a:pt x="28" y="0"/>
                    </a:lnTo>
                    <a:lnTo>
                      <a:pt x="28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c8bc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36160" y="2531880"/>
                <a:ext cx="30600" cy="3348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0" y="30"/>
                    </a:moveTo>
                    <a:lnTo>
                      <a:pt x="0" y="0"/>
                    </a:lnTo>
                    <a:lnTo>
                      <a:pt x="29" y="0"/>
                    </a:lnTo>
                    <a:lnTo>
                      <a:pt x="29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c8bc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595560" y="2531880"/>
                <a:ext cx="31320" cy="3348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30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c8bc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656040" y="2531880"/>
                <a:ext cx="31680" cy="3348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30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b500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378120" y="2633760"/>
                <a:ext cx="304560" cy="93960"/>
              </a:xfrm>
              <a:custGeom>
                <a:avLst/>
                <a:gdLst/>
                <a:ahLst/>
                <a:rect l="l" t="t" r="r" b="b"/>
                <a:pathLst>
                  <a:path w="297" h="86">
                    <a:moveTo>
                      <a:pt x="16" y="0"/>
                    </a:moveTo>
                    <a:lnTo>
                      <a:pt x="270" y="1"/>
                    </a:lnTo>
                    <a:lnTo>
                      <a:pt x="296" y="85"/>
                    </a:lnTo>
                    <a:lnTo>
                      <a:pt x="0" y="85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d0b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378120" y="2738880"/>
                <a:ext cx="304560" cy="21600"/>
              </a:xfrm>
              <a:custGeom>
                <a:avLst/>
                <a:gdLst/>
                <a:ahLst/>
                <a:rect l="l" t="t" r="r" b="b"/>
                <a:pathLst>
                  <a:path w="297" h="20">
                    <a:moveTo>
                      <a:pt x="296" y="19"/>
                    </a:moveTo>
                    <a:lnTo>
                      <a:pt x="296" y="0"/>
                    </a:lnTo>
                    <a:lnTo>
                      <a:pt x="0" y="0"/>
                    </a:lnTo>
                    <a:lnTo>
                      <a:pt x="0" y="19"/>
                    </a:lnTo>
                    <a:lnTo>
                      <a:pt x="296" y="19"/>
                    </a:lnTo>
                  </a:path>
                </a:pathLst>
              </a:custGeom>
              <a:solidFill>
                <a:srgbClr val="e7d9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61280" y="2629080"/>
                <a:ext cx="136440" cy="64440"/>
              </a:xfrm>
              <a:prstGeom prst="ellipse">
                <a:avLst/>
              </a:prstGeom>
              <a:solidFill>
                <a:srgbClr val="776f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330960" y="2325960"/>
                <a:ext cx="20160" cy="328320"/>
              </a:xfrm>
              <a:custGeom>
                <a:avLst/>
                <a:gdLst/>
                <a:ahLst/>
                <a:rect l="l" t="t" r="r" b="b"/>
                <a:pathLst>
                  <a:path w="20" h="300">
                    <a:moveTo>
                      <a:pt x="13" y="0"/>
                    </a:moveTo>
                    <a:lnTo>
                      <a:pt x="0" y="11"/>
                    </a:lnTo>
                    <a:lnTo>
                      <a:pt x="0" y="253"/>
                    </a:lnTo>
                    <a:lnTo>
                      <a:pt x="19" y="299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aa99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370200" y="2325960"/>
                <a:ext cx="357840" cy="360000"/>
              </a:xfrm>
              <a:custGeom>
                <a:avLst/>
                <a:gdLst/>
                <a:ahLst/>
                <a:rect l="l" t="t" r="r" b="b"/>
                <a:pathLst>
                  <a:path w="349" h="329">
                    <a:moveTo>
                      <a:pt x="348" y="294"/>
                    </a:moveTo>
                    <a:lnTo>
                      <a:pt x="0" y="328"/>
                    </a:lnTo>
                    <a:lnTo>
                      <a:pt x="0" y="15"/>
                    </a:lnTo>
                    <a:lnTo>
                      <a:pt x="348" y="0"/>
                    </a:lnTo>
                    <a:lnTo>
                      <a:pt x="348" y="294"/>
                    </a:lnTo>
                  </a:path>
                </a:pathLst>
              </a:custGeom>
              <a:solidFill>
                <a:srgbClr val="8c8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351480" y="2302920"/>
                <a:ext cx="376200" cy="24840"/>
              </a:xfrm>
              <a:custGeom>
                <a:avLst/>
                <a:gdLst/>
                <a:ahLst/>
                <a:rect l="l" t="t" r="r" b="b"/>
                <a:pathLst>
                  <a:path w="367" h="23">
                    <a:moveTo>
                      <a:pt x="366" y="13"/>
                    </a:moveTo>
                    <a:lnTo>
                      <a:pt x="343" y="0"/>
                    </a:lnTo>
                    <a:lnTo>
                      <a:pt x="0" y="9"/>
                    </a:lnTo>
                    <a:lnTo>
                      <a:pt x="18" y="22"/>
                    </a:lnTo>
                    <a:lnTo>
                      <a:pt x="366" y="13"/>
                    </a:lnTo>
                  </a:path>
                </a:pathLst>
              </a:custGeom>
              <a:solidFill>
                <a:srgbClr val="faf2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351480" y="2318040"/>
                <a:ext cx="19440" cy="367560"/>
              </a:xfrm>
              <a:custGeom>
                <a:avLst/>
                <a:gdLst/>
                <a:ahLst/>
                <a:rect l="l" t="t" r="r" b="b"/>
                <a:pathLst>
                  <a:path w="19" h="336">
                    <a:moveTo>
                      <a:pt x="0" y="0"/>
                    </a:moveTo>
                    <a:lnTo>
                      <a:pt x="18" y="22"/>
                    </a:lnTo>
                    <a:lnTo>
                      <a:pt x="18" y="335"/>
                    </a:lnTo>
                    <a:lnTo>
                      <a:pt x="0" y="30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8bc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710760" y="2325960"/>
                <a:ext cx="19080" cy="320760"/>
              </a:xfrm>
              <a:custGeom>
                <a:avLst/>
                <a:gdLst/>
                <a:ahLst/>
                <a:rect l="l" t="t" r="r" b="b"/>
                <a:pathLst>
                  <a:path w="19" h="293">
                    <a:moveTo>
                      <a:pt x="18" y="0"/>
                    </a:moveTo>
                    <a:lnTo>
                      <a:pt x="0" y="18"/>
                    </a:lnTo>
                    <a:lnTo>
                      <a:pt x="0" y="263"/>
                    </a:lnTo>
                    <a:lnTo>
                      <a:pt x="18" y="292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7d9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370200" y="2626920"/>
                <a:ext cx="357840" cy="59040"/>
              </a:xfrm>
              <a:custGeom>
                <a:avLst/>
                <a:gdLst/>
                <a:ahLst/>
                <a:rect l="l" t="t" r="r" b="b"/>
                <a:pathLst>
                  <a:path w="349" h="54">
                    <a:moveTo>
                      <a:pt x="348" y="25"/>
                    </a:moveTo>
                    <a:lnTo>
                      <a:pt x="320" y="0"/>
                    </a:lnTo>
                    <a:lnTo>
                      <a:pt x="26" y="23"/>
                    </a:lnTo>
                    <a:lnTo>
                      <a:pt x="0" y="53"/>
                    </a:lnTo>
                    <a:lnTo>
                      <a:pt x="348" y="25"/>
                    </a:lnTo>
                  </a:path>
                </a:pathLst>
              </a:custGeom>
              <a:solidFill>
                <a:srgbClr val="e7d9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370200" y="2342160"/>
                <a:ext cx="19080" cy="343800"/>
              </a:xfrm>
              <a:custGeom>
                <a:avLst/>
                <a:gdLst/>
                <a:ahLst/>
                <a:rect l="l" t="t" r="r" b="b"/>
                <a:pathLst>
                  <a:path w="19" h="314">
                    <a:moveTo>
                      <a:pt x="0" y="313"/>
                    </a:moveTo>
                    <a:lnTo>
                      <a:pt x="18" y="278"/>
                    </a:lnTo>
                    <a:lnTo>
                      <a:pt x="18" y="14"/>
                    </a:lnTo>
                    <a:lnTo>
                      <a:pt x="0" y="0"/>
                    </a:lnTo>
                    <a:lnTo>
                      <a:pt x="0" y="313"/>
                    </a:lnTo>
                  </a:path>
                </a:pathLst>
              </a:custGeom>
              <a:solidFill>
                <a:srgbClr val="e7d9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370200" y="2325960"/>
                <a:ext cx="357840" cy="20520"/>
              </a:xfrm>
              <a:custGeom>
                <a:avLst/>
                <a:gdLst/>
                <a:ahLst/>
                <a:rect l="l" t="t" r="r" b="b"/>
                <a:pathLst>
                  <a:path w="349" h="19">
                    <a:moveTo>
                      <a:pt x="0" y="9"/>
                    </a:moveTo>
                    <a:lnTo>
                      <a:pt x="26" y="18"/>
                    </a:lnTo>
                    <a:lnTo>
                      <a:pt x="320" y="10"/>
                    </a:lnTo>
                    <a:lnTo>
                      <a:pt x="348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e7d9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180480" y="2318040"/>
                <a:ext cx="135000" cy="534600"/>
              </a:xfrm>
              <a:custGeom>
                <a:avLst/>
                <a:gdLst/>
                <a:ahLst/>
                <a:rect l="l" t="t" r="r" b="b"/>
                <a:pathLst>
                  <a:path w="132" h="488">
                    <a:moveTo>
                      <a:pt x="131" y="0"/>
                    </a:moveTo>
                    <a:lnTo>
                      <a:pt x="131" y="435"/>
                    </a:lnTo>
                    <a:lnTo>
                      <a:pt x="0" y="487"/>
                    </a:lnTo>
                    <a:lnTo>
                      <a:pt x="0" y="19"/>
                    </a:lnTo>
                    <a:lnTo>
                      <a:pt x="131" y="0"/>
                    </a:lnTo>
                  </a:path>
                </a:pathLst>
              </a:custGeom>
              <a:solidFill>
                <a:srgbClr val="e7d9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009120" y="2252520"/>
                <a:ext cx="306720" cy="71280"/>
              </a:xfrm>
              <a:custGeom>
                <a:avLst/>
                <a:gdLst/>
                <a:ahLst/>
                <a:rect l="l" t="t" r="r" b="b"/>
                <a:pathLst>
                  <a:path w="299" h="65">
                    <a:moveTo>
                      <a:pt x="298" y="48"/>
                    </a:moveTo>
                    <a:lnTo>
                      <a:pt x="140" y="0"/>
                    </a:lnTo>
                    <a:lnTo>
                      <a:pt x="0" y="16"/>
                    </a:lnTo>
                    <a:lnTo>
                      <a:pt x="159" y="64"/>
                    </a:lnTo>
                    <a:lnTo>
                      <a:pt x="298" y="48"/>
                    </a:lnTo>
                  </a:path>
                </a:pathLst>
              </a:custGeom>
              <a:solidFill>
                <a:srgbClr val="f9f2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009120" y="2274120"/>
                <a:ext cx="157680" cy="578520"/>
              </a:xfrm>
              <a:custGeom>
                <a:avLst/>
                <a:gdLst/>
                <a:ahLst/>
                <a:rect l="l" t="t" r="r" b="b"/>
                <a:pathLst>
                  <a:path w="154" h="528">
                    <a:moveTo>
                      <a:pt x="153" y="58"/>
                    </a:moveTo>
                    <a:lnTo>
                      <a:pt x="0" y="0"/>
                    </a:lnTo>
                    <a:lnTo>
                      <a:pt x="0" y="436"/>
                    </a:lnTo>
                    <a:lnTo>
                      <a:pt x="153" y="527"/>
                    </a:lnTo>
                    <a:lnTo>
                      <a:pt x="153" y="58"/>
                    </a:lnTo>
                  </a:path>
                </a:pathLst>
              </a:custGeom>
              <a:solidFill>
                <a:srgbClr val="c8bc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191640" y="2563200"/>
                <a:ext cx="112680" cy="106200"/>
              </a:xfrm>
              <a:custGeom>
                <a:avLst/>
                <a:gdLst/>
                <a:ahLst/>
                <a:rect l="l" t="t" r="r" b="b"/>
                <a:pathLst>
                  <a:path w="110" h="97">
                    <a:moveTo>
                      <a:pt x="109" y="0"/>
                    </a:moveTo>
                    <a:lnTo>
                      <a:pt x="109" y="67"/>
                    </a:lnTo>
                    <a:lnTo>
                      <a:pt x="0" y="96"/>
                    </a:lnTo>
                    <a:lnTo>
                      <a:pt x="0" y="27"/>
                    </a:lnTo>
                    <a:lnTo>
                      <a:pt x="109" y="0"/>
                    </a:lnTo>
                  </a:path>
                </a:pathLst>
              </a:custGeom>
              <a:solidFill>
                <a:srgbClr val="c8bc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191640" y="2444040"/>
                <a:ext cx="112680" cy="104040"/>
              </a:xfrm>
              <a:custGeom>
                <a:avLst/>
                <a:gdLst/>
                <a:ahLst/>
                <a:rect l="l" t="t" r="r" b="b"/>
                <a:pathLst>
                  <a:path w="110" h="95">
                    <a:moveTo>
                      <a:pt x="109" y="0"/>
                    </a:moveTo>
                    <a:lnTo>
                      <a:pt x="109" y="67"/>
                    </a:lnTo>
                    <a:lnTo>
                      <a:pt x="0" y="94"/>
                    </a:lnTo>
                    <a:lnTo>
                      <a:pt x="0" y="21"/>
                    </a:lnTo>
                    <a:lnTo>
                      <a:pt x="109" y="0"/>
                    </a:lnTo>
                  </a:path>
                </a:pathLst>
              </a:custGeom>
              <a:solidFill>
                <a:srgbClr val="c8bc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311520" y="2441880"/>
                <a:ext cx="19440" cy="77400"/>
              </a:xfrm>
              <a:custGeom>
                <a:avLst/>
                <a:gdLst/>
                <a:ahLst/>
                <a:rect l="l" t="t" r="r" b="b"/>
                <a:pathLst>
                  <a:path w="19" h="71">
                    <a:moveTo>
                      <a:pt x="0" y="1"/>
                    </a:moveTo>
                    <a:lnTo>
                      <a:pt x="18" y="0"/>
                    </a:lnTo>
                    <a:lnTo>
                      <a:pt x="18" y="70"/>
                    </a:lnTo>
                    <a:lnTo>
                      <a:pt x="0" y="6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ada3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191640" y="2527200"/>
                <a:ext cx="118800" cy="27000"/>
              </a:xfrm>
              <a:custGeom>
                <a:avLst/>
                <a:gdLst/>
                <a:ahLst/>
                <a:rect l="l" t="t" r="r" b="b"/>
                <a:pathLst>
                  <a:path w="116" h="25">
                    <a:moveTo>
                      <a:pt x="115" y="4"/>
                    </a:moveTo>
                    <a:lnTo>
                      <a:pt x="109" y="0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115" y="4"/>
                    </a:lnTo>
                  </a:path>
                </a:pathLst>
              </a:custGeom>
              <a:solidFill>
                <a:srgbClr val="fae8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202800" y="2532960"/>
                <a:ext cx="120600" cy="33840"/>
              </a:xfrm>
              <a:custGeom>
                <a:avLst/>
                <a:gdLst/>
                <a:ahLst/>
                <a:rect l="l" t="t" r="r" b="b"/>
                <a:pathLst>
                  <a:path w="118" h="31">
                    <a:moveTo>
                      <a:pt x="110" y="0"/>
                    </a:moveTo>
                    <a:lnTo>
                      <a:pt x="117" y="9"/>
                    </a:lnTo>
                    <a:lnTo>
                      <a:pt x="6" y="30"/>
                    </a:lnTo>
                    <a:lnTo>
                      <a:pt x="0" y="21"/>
                    </a:lnTo>
                    <a:lnTo>
                      <a:pt x="110" y="0"/>
                    </a:lnTo>
                  </a:path>
                </a:pathLst>
              </a:custGeom>
              <a:solidFill>
                <a:srgbClr val="e8d7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202800" y="2548080"/>
                <a:ext cx="120600" cy="31680"/>
              </a:xfrm>
              <a:custGeom>
                <a:avLst/>
                <a:gdLst/>
                <a:ahLst/>
                <a:rect l="l" t="t" r="r" b="b"/>
                <a:pathLst>
                  <a:path w="118" h="29">
                    <a:moveTo>
                      <a:pt x="117" y="0"/>
                    </a:moveTo>
                    <a:lnTo>
                      <a:pt x="110" y="7"/>
                    </a:lnTo>
                    <a:lnTo>
                      <a:pt x="0" y="28"/>
                    </a:lnTo>
                    <a:lnTo>
                      <a:pt x="6" y="21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beb0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196680" y="2564640"/>
                <a:ext cx="19440" cy="2160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0" y="0"/>
                    </a:moveTo>
                    <a:lnTo>
                      <a:pt x="18" y="9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da3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311520" y="2562480"/>
                <a:ext cx="19440" cy="74520"/>
              </a:xfrm>
              <a:custGeom>
                <a:avLst/>
                <a:gdLst/>
                <a:ahLst/>
                <a:rect l="l" t="t" r="r" b="b"/>
                <a:pathLst>
                  <a:path w="19" h="68">
                    <a:moveTo>
                      <a:pt x="0" y="1"/>
                    </a:moveTo>
                    <a:lnTo>
                      <a:pt x="18" y="0"/>
                    </a:lnTo>
                    <a:lnTo>
                      <a:pt x="18" y="67"/>
                    </a:lnTo>
                    <a:lnTo>
                      <a:pt x="0" y="63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ada3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191640" y="2646720"/>
                <a:ext cx="118800" cy="30240"/>
              </a:xfrm>
              <a:custGeom>
                <a:avLst/>
                <a:gdLst/>
                <a:ahLst/>
                <a:rect l="l" t="t" r="r" b="b"/>
                <a:pathLst>
                  <a:path w="116" h="28">
                    <a:moveTo>
                      <a:pt x="109" y="0"/>
                    </a:moveTo>
                    <a:lnTo>
                      <a:pt x="115" y="3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109" y="0"/>
                    </a:lnTo>
                  </a:path>
                </a:pathLst>
              </a:custGeom>
              <a:solidFill>
                <a:srgbClr val="fae8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220440" y="2354040"/>
                <a:ext cx="56160" cy="2700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54" y="0"/>
                    </a:moveTo>
                    <a:lnTo>
                      <a:pt x="50" y="8"/>
                    </a:lnTo>
                    <a:lnTo>
                      <a:pt x="54" y="15"/>
                    </a:lnTo>
                    <a:lnTo>
                      <a:pt x="0" y="24"/>
                    </a:lnTo>
                    <a:lnTo>
                      <a:pt x="0" y="7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c6bb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188400" y="2358720"/>
                <a:ext cx="122040" cy="21600"/>
              </a:xfrm>
              <a:custGeom>
                <a:avLst/>
                <a:gdLst/>
                <a:ahLst/>
                <a:rect l="l" t="t" r="r" b="b"/>
                <a:pathLst>
                  <a:path w="119" h="20">
                    <a:moveTo>
                      <a:pt x="118" y="0"/>
                    </a:moveTo>
                    <a:lnTo>
                      <a:pt x="0" y="13"/>
                    </a:lnTo>
                    <a:lnTo>
                      <a:pt x="0" y="19"/>
                    </a:lnTo>
                    <a:lnTo>
                      <a:pt x="118" y="4"/>
                    </a:lnTo>
                    <a:lnTo>
                      <a:pt x="118" y="0"/>
                    </a:lnTo>
                  </a:path>
                </a:pathLst>
              </a:custGeom>
              <a:solidFill>
                <a:srgbClr val="c6bb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278760" y="2354040"/>
                <a:ext cx="19440" cy="2160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18" y="0"/>
                    </a:moveTo>
                    <a:lnTo>
                      <a:pt x="18" y="19"/>
                    </a:lnTo>
                    <a:lnTo>
                      <a:pt x="0" y="9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9d9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195600" y="2361960"/>
                <a:ext cx="108360" cy="21600"/>
              </a:xfrm>
              <a:custGeom>
                <a:avLst/>
                <a:gdLst/>
                <a:ahLst/>
                <a:rect l="l" t="t" r="r" b="b"/>
                <a:pathLst>
                  <a:path w="106" h="20">
                    <a:moveTo>
                      <a:pt x="105" y="0"/>
                    </a:moveTo>
                    <a:lnTo>
                      <a:pt x="0" y="16"/>
                    </a:lnTo>
                    <a:lnTo>
                      <a:pt x="0" y="19"/>
                    </a:lnTo>
                    <a:lnTo>
                      <a:pt x="105" y="2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413e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108480" y="2804760"/>
                <a:ext cx="20160" cy="2484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19" y="17"/>
                    </a:moveTo>
                    <a:lnTo>
                      <a:pt x="0" y="22"/>
                    </a:lnTo>
                    <a:lnTo>
                      <a:pt x="19" y="0"/>
                    </a:lnTo>
                    <a:lnTo>
                      <a:pt x="19" y="17"/>
                    </a:lnTo>
                  </a:path>
                </a:pathLst>
              </a:custGeom>
              <a:solidFill>
                <a:srgbClr val="ada3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084000" y="2791440"/>
                <a:ext cx="28800" cy="3816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27" y="8"/>
                    </a:moveTo>
                    <a:lnTo>
                      <a:pt x="16" y="34"/>
                    </a:lnTo>
                    <a:lnTo>
                      <a:pt x="0" y="23"/>
                    </a:lnTo>
                    <a:lnTo>
                      <a:pt x="10" y="0"/>
                    </a:lnTo>
                    <a:lnTo>
                      <a:pt x="27" y="8"/>
                    </a:lnTo>
                  </a:path>
                </a:pathLst>
              </a:custGeom>
              <a:solidFill>
                <a:srgbClr val="e8da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40080" y="2763000"/>
                <a:ext cx="720" cy="2160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13"/>
                    </a:moveTo>
                    <a:lnTo>
                      <a:pt x="0" y="19"/>
                    </a:lnTo>
                    <a:lnTo>
                      <a:pt x="0" y="0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ada3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18480" y="2752920"/>
                <a:ext cx="22320" cy="3060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21" y="6"/>
                    </a:moveTo>
                    <a:lnTo>
                      <a:pt x="13" y="27"/>
                    </a:lnTo>
                    <a:lnTo>
                      <a:pt x="0" y="19"/>
                    </a:lnTo>
                    <a:lnTo>
                      <a:pt x="8" y="0"/>
                    </a:lnTo>
                    <a:lnTo>
                      <a:pt x="21" y="6"/>
                    </a:lnTo>
                  </a:path>
                </a:pathLst>
              </a:custGeom>
              <a:solidFill>
                <a:srgbClr val="e8da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174000" y="2692800"/>
                <a:ext cx="141480" cy="48960"/>
              </a:xfrm>
              <a:custGeom>
                <a:avLst/>
                <a:gdLst/>
                <a:ahLst/>
                <a:rect l="l" t="t" r="r" b="b"/>
                <a:pathLst>
                  <a:path w="138" h="45">
                    <a:moveTo>
                      <a:pt x="137" y="7"/>
                    </a:moveTo>
                    <a:lnTo>
                      <a:pt x="3" y="44"/>
                    </a:lnTo>
                    <a:lnTo>
                      <a:pt x="0" y="35"/>
                    </a:lnTo>
                    <a:lnTo>
                      <a:pt x="136" y="0"/>
                    </a:lnTo>
                    <a:lnTo>
                      <a:pt x="137" y="7"/>
                    </a:lnTo>
                  </a:path>
                </a:pathLst>
              </a:custGeom>
              <a:solidFill>
                <a:srgbClr val="fae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174000" y="2679480"/>
                <a:ext cx="141480" cy="47880"/>
              </a:xfrm>
              <a:custGeom>
                <a:avLst/>
                <a:gdLst/>
                <a:ahLst/>
                <a:rect l="l" t="t" r="r" b="b"/>
                <a:pathLst>
                  <a:path w="138" h="44">
                    <a:moveTo>
                      <a:pt x="136" y="9"/>
                    </a:moveTo>
                    <a:lnTo>
                      <a:pt x="0" y="43"/>
                    </a:lnTo>
                    <a:lnTo>
                      <a:pt x="3" y="35"/>
                    </a:lnTo>
                    <a:lnTo>
                      <a:pt x="137" y="0"/>
                    </a:lnTo>
                    <a:lnTo>
                      <a:pt x="136" y="9"/>
                    </a:lnTo>
                  </a:path>
                </a:pathLst>
              </a:custGeom>
              <a:solidFill>
                <a:srgbClr val="c8bc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174000" y="2716920"/>
                <a:ext cx="141480" cy="52560"/>
              </a:xfrm>
              <a:custGeom>
                <a:avLst/>
                <a:gdLst/>
                <a:ahLst/>
                <a:rect l="l" t="t" r="r" b="b"/>
                <a:pathLst>
                  <a:path w="138" h="48">
                    <a:moveTo>
                      <a:pt x="137" y="9"/>
                    </a:moveTo>
                    <a:lnTo>
                      <a:pt x="3" y="47"/>
                    </a:lnTo>
                    <a:lnTo>
                      <a:pt x="0" y="37"/>
                    </a:lnTo>
                    <a:lnTo>
                      <a:pt x="136" y="0"/>
                    </a:lnTo>
                    <a:lnTo>
                      <a:pt x="137" y="9"/>
                    </a:lnTo>
                  </a:path>
                </a:pathLst>
              </a:custGeom>
              <a:solidFill>
                <a:srgbClr val="fae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174000" y="2702880"/>
                <a:ext cx="141480" cy="51120"/>
              </a:xfrm>
              <a:custGeom>
                <a:avLst/>
                <a:gdLst/>
                <a:ahLst/>
                <a:rect l="l" t="t" r="r" b="b"/>
                <a:pathLst>
                  <a:path w="138" h="47">
                    <a:moveTo>
                      <a:pt x="136" y="8"/>
                    </a:moveTo>
                    <a:lnTo>
                      <a:pt x="0" y="46"/>
                    </a:lnTo>
                    <a:lnTo>
                      <a:pt x="3" y="38"/>
                    </a:lnTo>
                    <a:lnTo>
                      <a:pt x="137" y="0"/>
                    </a:lnTo>
                    <a:lnTo>
                      <a:pt x="136" y="8"/>
                    </a:lnTo>
                  </a:path>
                </a:pathLst>
              </a:custGeom>
              <a:solidFill>
                <a:srgbClr val="c8bc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174000" y="2742120"/>
                <a:ext cx="141480" cy="52560"/>
              </a:xfrm>
              <a:custGeom>
                <a:avLst/>
                <a:gdLst/>
                <a:ahLst/>
                <a:rect l="l" t="t" r="r" b="b"/>
                <a:pathLst>
                  <a:path w="138" h="48">
                    <a:moveTo>
                      <a:pt x="137" y="8"/>
                    </a:moveTo>
                    <a:lnTo>
                      <a:pt x="3" y="47"/>
                    </a:lnTo>
                    <a:lnTo>
                      <a:pt x="0" y="35"/>
                    </a:lnTo>
                    <a:lnTo>
                      <a:pt x="136" y="0"/>
                    </a:lnTo>
                    <a:lnTo>
                      <a:pt x="137" y="8"/>
                    </a:lnTo>
                  </a:path>
                </a:pathLst>
              </a:custGeom>
              <a:solidFill>
                <a:srgbClr val="fae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174000" y="2728800"/>
                <a:ext cx="141480" cy="50400"/>
              </a:xfrm>
              <a:custGeom>
                <a:avLst/>
                <a:gdLst/>
                <a:ahLst/>
                <a:rect l="l" t="t" r="r" b="b"/>
                <a:pathLst>
                  <a:path w="138" h="46">
                    <a:moveTo>
                      <a:pt x="136" y="8"/>
                    </a:moveTo>
                    <a:lnTo>
                      <a:pt x="0" y="45"/>
                    </a:lnTo>
                    <a:lnTo>
                      <a:pt x="3" y="38"/>
                    </a:lnTo>
                    <a:lnTo>
                      <a:pt x="137" y="0"/>
                    </a:lnTo>
                    <a:lnTo>
                      <a:pt x="136" y="8"/>
                    </a:lnTo>
                  </a:path>
                </a:pathLst>
              </a:custGeom>
              <a:solidFill>
                <a:srgbClr val="c8bc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174000" y="2765160"/>
                <a:ext cx="141480" cy="56880"/>
              </a:xfrm>
              <a:custGeom>
                <a:avLst/>
                <a:gdLst/>
                <a:ahLst/>
                <a:rect l="l" t="t" r="r" b="b"/>
                <a:pathLst>
                  <a:path w="138" h="52">
                    <a:moveTo>
                      <a:pt x="137" y="8"/>
                    </a:moveTo>
                    <a:lnTo>
                      <a:pt x="3" y="51"/>
                    </a:lnTo>
                    <a:lnTo>
                      <a:pt x="0" y="40"/>
                    </a:lnTo>
                    <a:lnTo>
                      <a:pt x="136" y="0"/>
                    </a:lnTo>
                    <a:lnTo>
                      <a:pt x="137" y="8"/>
                    </a:lnTo>
                  </a:path>
                </a:pathLst>
              </a:custGeom>
              <a:solidFill>
                <a:srgbClr val="fae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174000" y="2754000"/>
                <a:ext cx="141480" cy="52200"/>
              </a:xfrm>
              <a:custGeom>
                <a:avLst/>
                <a:gdLst/>
                <a:ahLst/>
                <a:rect l="l" t="t" r="r" b="b"/>
                <a:pathLst>
                  <a:path w="138" h="48">
                    <a:moveTo>
                      <a:pt x="136" y="8"/>
                    </a:moveTo>
                    <a:lnTo>
                      <a:pt x="0" y="47"/>
                    </a:lnTo>
                    <a:lnTo>
                      <a:pt x="3" y="39"/>
                    </a:lnTo>
                    <a:lnTo>
                      <a:pt x="137" y="0"/>
                    </a:lnTo>
                    <a:lnTo>
                      <a:pt x="136" y="8"/>
                    </a:lnTo>
                  </a:path>
                </a:pathLst>
              </a:custGeom>
              <a:solidFill>
                <a:srgbClr val="c8bc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0880" y="2754000"/>
                <a:ext cx="19440" cy="2160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0" y="0"/>
                    </a:moveTo>
                    <a:lnTo>
                      <a:pt x="18" y="7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0880" y="2728800"/>
                <a:ext cx="19440" cy="2196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0" y="0"/>
                    </a:moveTo>
                    <a:lnTo>
                      <a:pt x="18" y="11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320880" y="2702880"/>
                <a:ext cx="19440" cy="2160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0" y="0"/>
                    </a:moveTo>
                    <a:lnTo>
                      <a:pt x="18" y="8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320880" y="2679480"/>
                <a:ext cx="19440" cy="2160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0" y="0"/>
                    </a:moveTo>
                    <a:lnTo>
                      <a:pt x="18" y="11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202800" y="2411280"/>
                <a:ext cx="120600" cy="29520"/>
              </a:xfrm>
              <a:custGeom>
                <a:avLst/>
                <a:gdLst/>
                <a:ahLst/>
                <a:rect l="l" t="t" r="r" b="b"/>
                <a:pathLst>
                  <a:path w="118" h="27">
                    <a:moveTo>
                      <a:pt x="110" y="0"/>
                    </a:moveTo>
                    <a:lnTo>
                      <a:pt x="117" y="9"/>
                    </a:lnTo>
                    <a:lnTo>
                      <a:pt x="6" y="26"/>
                    </a:lnTo>
                    <a:lnTo>
                      <a:pt x="0" y="16"/>
                    </a:lnTo>
                    <a:lnTo>
                      <a:pt x="110" y="0"/>
                    </a:lnTo>
                  </a:path>
                </a:pathLst>
              </a:custGeom>
              <a:solidFill>
                <a:srgbClr val="e8d7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202800" y="2427840"/>
                <a:ext cx="120600" cy="23760"/>
              </a:xfrm>
              <a:custGeom>
                <a:avLst/>
                <a:gdLst/>
                <a:ahLst/>
                <a:rect l="l" t="t" r="r" b="b"/>
                <a:pathLst>
                  <a:path w="118" h="22">
                    <a:moveTo>
                      <a:pt x="117" y="0"/>
                    </a:moveTo>
                    <a:lnTo>
                      <a:pt x="110" y="7"/>
                    </a:lnTo>
                    <a:lnTo>
                      <a:pt x="0" y="21"/>
                    </a:lnTo>
                    <a:lnTo>
                      <a:pt x="6" y="14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beb0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196680" y="2438640"/>
                <a:ext cx="19440" cy="2160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0" y="0"/>
                    </a:moveTo>
                    <a:lnTo>
                      <a:pt x="18" y="9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da3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07320" y="2626920"/>
                <a:ext cx="320760" cy="101520"/>
              </a:xfrm>
              <a:custGeom>
                <a:avLst/>
                <a:gdLst/>
                <a:ahLst/>
                <a:rect l="l" t="t" r="r" b="b"/>
                <a:pathLst>
                  <a:path w="313" h="93">
                    <a:moveTo>
                      <a:pt x="312" y="45"/>
                    </a:moveTo>
                    <a:lnTo>
                      <a:pt x="164" y="9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8e86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007320" y="235872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313" h="77">
                    <a:moveTo>
                      <a:pt x="312" y="47"/>
                    </a:moveTo>
                    <a:lnTo>
                      <a:pt x="164" y="7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8e86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260400" y="2757240"/>
                <a:ext cx="615960" cy="202680"/>
              </a:xfrm>
              <a:custGeom>
                <a:avLst/>
                <a:gdLst/>
                <a:ahLst/>
                <a:rect l="l" t="t" r="r" b="b"/>
                <a:pathLst>
                  <a:path w="601" h="185">
                    <a:moveTo>
                      <a:pt x="531" y="0"/>
                    </a:moveTo>
                    <a:lnTo>
                      <a:pt x="0" y="36"/>
                    </a:lnTo>
                    <a:lnTo>
                      <a:pt x="42" y="184"/>
                    </a:lnTo>
                    <a:lnTo>
                      <a:pt x="600" y="132"/>
                    </a:lnTo>
                    <a:lnTo>
                      <a:pt x="531" y="0"/>
                    </a:lnTo>
                  </a:path>
                </a:pathLst>
              </a:custGeom>
              <a:solidFill>
                <a:srgbClr val="faea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671520" y="2884680"/>
                <a:ext cx="25560" cy="21600"/>
              </a:xfrm>
              <a:custGeom>
                <a:avLst/>
                <a:gdLst/>
                <a:ahLst/>
                <a:rect l="l" t="t" r="r" b="b"/>
                <a:pathLst>
                  <a:path w="25" h="20">
                    <a:moveTo>
                      <a:pt x="24" y="19"/>
                    </a:moveTo>
                    <a:lnTo>
                      <a:pt x="20" y="0"/>
                    </a:lnTo>
                    <a:lnTo>
                      <a:pt x="0" y="0"/>
                    </a:lnTo>
                    <a:lnTo>
                      <a:pt x="2" y="19"/>
                    </a:lnTo>
                    <a:lnTo>
                      <a:pt x="24" y="19"/>
                    </a:lnTo>
                  </a:path>
                </a:pathLst>
              </a:custGeom>
              <a:solidFill>
                <a:srgbClr val="aa99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669360" y="2884680"/>
                <a:ext cx="39960" cy="2160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38" y="0"/>
                    </a:moveTo>
                    <a:lnTo>
                      <a:pt x="33" y="11"/>
                    </a:lnTo>
                    <a:lnTo>
                      <a:pt x="0" y="19"/>
                    </a:lnTo>
                    <a:lnTo>
                      <a:pt x="3" y="7"/>
                    </a:lnTo>
                    <a:lnTo>
                      <a:pt x="38" y="0"/>
                    </a:lnTo>
                  </a:path>
                </a:pathLst>
              </a:custGeom>
              <a:noFill/>
              <a:ln cap="rnd"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333120" y="2835000"/>
                <a:ext cx="363600" cy="90720"/>
              </a:xfrm>
              <a:custGeom>
                <a:avLst/>
                <a:gdLst/>
                <a:ahLst/>
                <a:rect l="l" t="t" r="r" b="b"/>
                <a:pathLst>
                  <a:path w="355" h="83">
                    <a:moveTo>
                      <a:pt x="332" y="0"/>
                    </a:moveTo>
                    <a:lnTo>
                      <a:pt x="0" y="22"/>
                    </a:lnTo>
                    <a:lnTo>
                      <a:pt x="18" y="67"/>
                    </a:lnTo>
                    <a:lnTo>
                      <a:pt x="60" y="65"/>
                    </a:lnTo>
                    <a:lnTo>
                      <a:pt x="66" y="82"/>
                    </a:lnTo>
                    <a:lnTo>
                      <a:pt x="329" y="61"/>
                    </a:lnTo>
                    <a:lnTo>
                      <a:pt x="320" y="43"/>
                    </a:lnTo>
                    <a:lnTo>
                      <a:pt x="354" y="39"/>
                    </a:lnTo>
                    <a:lnTo>
                      <a:pt x="332" y="0"/>
                    </a:lnTo>
                  </a:path>
                </a:pathLst>
              </a:custGeom>
              <a:solidFill>
                <a:srgbClr val="e6d7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330960" y="2834280"/>
                <a:ext cx="378360" cy="104760"/>
              </a:xfrm>
              <a:custGeom>
                <a:avLst/>
                <a:gdLst/>
                <a:ahLst/>
                <a:rect l="l" t="t" r="r" b="b"/>
                <a:pathLst>
                  <a:path w="369" h="96">
                    <a:moveTo>
                      <a:pt x="345" y="0"/>
                    </a:moveTo>
                    <a:lnTo>
                      <a:pt x="0" y="26"/>
                    </a:lnTo>
                    <a:lnTo>
                      <a:pt x="18" y="77"/>
                    </a:lnTo>
                    <a:lnTo>
                      <a:pt x="62" y="75"/>
                    </a:lnTo>
                    <a:lnTo>
                      <a:pt x="70" y="95"/>
                    </a:lnTo>
                    <a:lnTo>
                      <a:pt x="342" y="70"/>
                    </a:lnTo>
                    <a:lnTo>
                      <a:pt x="332" y="50"/>
                    </a:lnTo>
                    <a:lnTo>
                      <a:pt x="368" y="44"/>
                    </a:lnTo>
                    <a:lnTo>
                      <a:pt x="345" y="0"/>
                    </a:lnTo>
                  </a:path>
                </a:pathLst>
              </a:custGeom>
              <a:noFill/>
              <a:ln cap="rnd"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1880" y="2914200"/>
                <a:ext cx="268560" cy="20520"/>
              </a:xfrm>
              <a:custGeom>
                <a:avLst/>
                <a:gdLst/>
                <a:ahLst/>
                <a:rect l="l" t="t" r="r" b="b"/>
                <a:pathLst>
                  <a:path w="262" h="19">
                    <a:moveTo>
                      <a:pt x="261" y="0"/>
                    </a:moveTo>
                    <a:lnTo>
                      <a:pt x="257" y="4"/>
                    </a:lnTo>
                    <a:lnTo>
                      <a:pt x="0" y="18"/>
                    </a:lnTo>
                    <a:lnTo>
                      <a:pt x="3" y="1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aa99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398640" y="2912040"/>
                <a:ext cx="284760" cy="36000"/>
              </a:xfrm>
              <a:custGeom>
                <a:avLst/>
                <a:gdLst/>
                <a:ahLst/>
                <a:rect l="l" t="t" r="r" b="b"/>
                <a:pathLst>
                  <a:path w="278" h="33">
                    <a:moveTo>
                      <a:pt x="277" y="0"/>
                    </a:moveTo>
                    <a:lnTo>
                      <a:pt x="273" y="8"/>
                    </a:lnTo>
                    <a:lnTo>
                      <a:pt x="0" y="32"/>
                    </a:lnTo>
                    <a:lnTo>
                      <a:pt x="3" y="24"/>
                    </a:lnTo>
                    <a:lnTo>
                      <a:pt x="277" y="0"/>
                    </a:lnTo>
                  </a:path>
                </a:pathLst>
              </a:custGeom>
              <a:noFill/>
              <a:ln cap="rnd"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390720" y="2918520"/>
                <a:ext cx="20160" cy="21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9" y="0"/>
                    </a:moveTo>
                    <a:lnTo>
                      <a:pt x="0" y="12"/>
                    </a:lnTo>
                    <a:lnTo>
                      <a:pt x="0" y="19"/>
                    </a:lnTo>
                    <a:lnTo>
                      <a:pt x="19" y="6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d0b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390720" y="2917440"/>
                <a:ext cx="20160" cy="3024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6" y="0"/>
                    </a:moveTo>
                    <a:lnTo>
                      <a:pt x="19" y="19"/>
                    </a:lnTo>
                    <a:lnTo>
                      <a:pt x="12" y="27"/>
                    </a:lnTo>
                    <a:lnTo>
                      <a:pt x="0" y="8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348600" y="2915280"/>
                <a:ext cx="37800" cy="21600"/>
              </a:xfrm>
              <a:custGeom>
                <a:avLst/>
                <a:gdLst/>
                <a:ahLst/>
                <a:rect l="l" t="t" r="r" b="b"/>
                <a:pathLst>
                  <a:path w="37" h="20">
                    <a:moveTo>
                      <a:pt x="36" y="19"/>
                    </a:moveTo>
                    <a:lnTo>
                      <a:pt x="32" y="0"/>
                    </a:lnTo>
                    <a:lnTo>
                      <a:pt x="0" y="0"/>
                    </a:lnTo>
                    <a:lnTo>
                      <a:pt x="2" y="19"/>
                    </a:lnTo>
                    <a:lnTo>
                      <a:pt x="36" y="19"/>
                    </a:lnTo>
                  </a:path>
                </a:pathLst>
              </a:custGeom>
              <a:solidFill>
                <a:srgbClr val="aa99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345360" y="2917440"/>
                <a:ext cx="50040" cy="21600"/>
              </a:xfrm>
              <a:custGeom>
                <a:avLst/>
                <a:gdLst/>
                <a:ahLst/>
                <a:rect l="l" t="t" r="r" b="b"/>
                <a:pathLst>
                  <a:path w="49" h="20">
                    <a:moveTo>
                      <a:pt x="48" y="0"/>
                    </a:moveTo>
                    <a:lnTo>
                      <a:pt x="44" y="16"/>
                    </a:lnTo>
                    <a:lnTo>
                      <a:pt x="0" y="19"/>
                    </a:lnTo>
                    <a:lnTo>
                      <a:pt x="5" y="2"/>
                    </a:lnTo>
                    <a:lnTo>
                      <a:pt x="48" y="0"/>
                    </a:lnTo>
                  </a:path>
                </a:pathLst>
              </a:custGeom>
              <a:noFill/>
              <a:ln cap="rnd"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30960" y="2863800"/>
                <a:ext cx="20160" cy="522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9" y="41"/>
                    </a:moveTo>
                    <a:lnTo>
                      <a:pt x="15" y="47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19" y="41"/>
                    </a:lnTo>
                  </a:path>
                </a:pathLst>
              </a:custGeom>
              <a:solidFill>
                <a:srgbClr val="d0b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329160" y="2862360"/>
                <a:ext cx="23400" cy="66600"/>
              </a:xfrm>
              <a:custGeom>
                <a:avLst/>
                <a:gdLst/>
                <a:ahLst/>
                <a:rect l="l" t="t" r="r" b="b"/>
                <a:pathLst>
                  <a:path w="23" h="61">
                    <a:moveTo>
                      <a:pt x="22" y="52"/>
                    </a:moveTo>
                    <a:lnTo>
                      <a:pt x="17" y="60"/>
                    </a:lnTo>
                    <a:lnTo>
                      <a:pt x="0" y="8"/>
                    </a:lnTo>
                    <a:lnTo>
                      <a:pt x="3" y="0"/>
                    </a:lnTo>
                    <a:lnTo>
                      <a:pt x="22" y="52"/>
                    </a:lnTo>
                  </a:path>
                </a:pathLst>
              </a:custGeom>
              <a:noFill/>
              <a:ln cap="rnd"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724800" y="2818800"/>
                <a:ext cx="133200" cy="74520"/>
              </a:xfrm>
              <a:custGeom>
                <a:avLst/>
                <a:gdLst/>
                <a:ahLst/>
                <a:rect l="l" t="t" r="r" b="b"/>
                <a:pathLst>
                  <a:path w="130" h="68">
                    <a:moveTo>
                      <a:pt x="98" y="0"/>
                    </a:moveTo>
                    <a:lnTo>
                      <a:pt x="129" y="57"/>
                    </a:lnTo>
                    <a:lnTo>
                      <a:pt x="27" y="67"/>
                    </a:lnTo>
                    <a:lnTo>
                      <a:pt x="0" y="9"/>
                    </a:lnTo>
                    <a:lnTo>
                      <a:pt x="98" y="0"/>
                    </a:lnTo>
                  </a:path>
                </a:pathLst>
              </a:custGeom>
              <a:solidFill>
                <a:srgbClr val="e6d7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723000" y="2817720"/>
                <a:ext cx="146160" cy="89640"/>
              </a:xfrm>
              <a:custGeom>
                <a:avLst/>
                <a:gdLst/>
                <a:ahLst/>
                <a:rect l="l" t="t" r="r" b="b"/>
                <a:pathLst>
                  <a:path w="143" h="82">
                    <a:moveTo>
                      <a:pt x="109" y="0"/>
                    </a:moveTo>
                    <a:lnTo>
                      <a:pt x="142" y="70"/>
                    </a:lnTo>
                    <a:lnTo>
                      <a:pt x="31" y="81"/>
                    </a:lnTo>
                    <a:lnTo>
                      <a:pt x="0" y="11"/>
                    </a:lnTo>
                    <a:lnTo>
                      <a:pt x="109" y="0"/>
                    </a:lnTo>
                  </a:path>
                </a:pathLst>
              </a:custGeom>
              <a:noFill/>
              <a:ln cap="rnd"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752520" y="2894400"/>
                <a:ext cx="105480" cy="21600"/>
              </a:xfrm>
              <a:custGeom>
                <a:avLst/>
                <a:gdLst/>
                <a:ahLst/>
                <a:rect l="l" t="t" r="r" b="b"/>
                <a:pathLst>
                  <a:path w="103" h="20">
                    <a:moveTo>
                      <a:pt x="102" y="0"/>
                    </a:moveTo>
                    <a:lnTo>
                      <a:pt x="101" y="9"/>
                    </a:lnTo>
                    <a:lnTo>
                      <a:pt x="0" y="19"/>
                    </a:lnTo>
                    <a:lnTo>
                      <a:pt x="3" y="9"/>
                    </a:lnTo>
                    <a:lnTo>
                      <a:pt x="102" y="0"/>
                    </a:lnTo>
                  </a:path>
                </a:pathLst>
              </a:custGeom>
              <a:solidFill>
                <a:srgbClr val="aa99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751440" y="2891880"/>
                <a:ext cx="117720" cy="21960"/>
              </a:xfrm>
              <a:custGeom>
                <a:avLst/>
                <a:gdLst/>
                <a:ahLst/>
                <a:rect l="l" t="t" r="r" b="b"/>
                <a:pathLst>
                  <a:path w="115" h="20">
                    <a:moveTo>
                      <a:pt x="114" y="0"/>
                    </a:moveTo>
                    <a:lnTo>
                      <a:pt x="110" y="6"/>
                    </a:lnTo>
                    <a:lnTo>
                      <a:pt x="0" y="19"/>
                    </a:lnTo>
                    <a:lnTo>
                      <a:pt x="3" y="13"/>
                    </a:lnTo>
                    <a:lnTo>
                      <a:pt x="114" y="0"/>
                    </a:lnTo>
                  </a:path>
                </a:pathLst>
              </a:custGeom>
              <a:noFill/>
              <a:ln cap="rnd"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720840" y="2830680"/>
                <a:ext cx="22320" cy="68040"/>
              </a:xfrm>
              <a:custGeom>
                <a:avLst/>
                <a:gdLst/>
                <a:ahLst/>
                <a:rect l="l" t="t" r="r" b="b"/>
                <a:pathLst>
                  <a:path w="22" h="62">
                    <a:moveTo>
                      <a:pt x="21" y="57"/>
                    </a:moveTo>
                    <a:lnTo>
                      <a:pt x="19" y="61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21" y="57"/>
                    </a:lnTo>
                  </a:path>
                </a:pathLst>
              </a:custGeom>
              <a:solidFill>
                <a:srgbClr val="d0b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718680" y="2829600"/>
                <a:ext cx="35640" cy="80640"/>
              </a:xfrm>
              <a:custGeom>
                <a:avLst/>
                <a:gdLst/>
                <a:ahLst/>
                <a:rect l="l" t="t" r="r" b="b"/>
                <a:pathLst>
                  <a:path w="35" h="74">
                    <a:moveTo>
                      <a:pt x="34" y="68"/>
                    </a:moveTo>
                    <a:lnTo>
                      <a:pt x="30" y="73"/>
                    </a:lnTo>
                    <a:lnTo>
                      <a:pt x="0" y="6"/>
                    </a:lnTo>
                    <a:lnTo>
                      <a:pt x="3" y="0"/>
                    </a:lnTo>
                    <a:lnTo>
                      <a:pt x="34" y="68"/>
                    </a:lnTo>
                  </a:path>
                </a:pathLst>
              </a:custGeom>
              <a:noFill/>
              <a:ln cap="rnd"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303240" y="2914200"/>
                <a:ext cx="573120" cy="63000"/>
              </a:xfrm>
              <a:custGeom>
                <a:avLst/>
                <a:gdLst/>
                <a:ahLst/>
                <a:rect l="l" t="t" r="r" b="b"/>
                <a:pathLst>
                  <a:path w="559" h="58">
                    <a:moveTo>
                      <a:pt x="558" y="0"/>
                    </a:moveTo>
                    <a:lnTo>
                      <a:pt x="558" y="13"/>
                    </a:lnTo>
                    <a:lnTo>
                      <a:pt x="0" y="57"/>
                    </a:lnTo>
                    <a:lnTo>
                      <a:pt x="0" y="44"/>
                    </a:lnTo>
                    <a:lnTo>
                      <a:pt x="558" y="0"/>
                    </a:lnTo>
                  </a:path>
                </a:pathLst>
              </a:custGeom>
              <a:solidFill>
                <a:srgbClr val="aa99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260400" y="2800080"/>
                <a:ext cx="29520" cy="177120"/>
              </a:xfrm>
              <a:custGeom>
                <a:avLst/>
                <a:gdLst/>
                <a:ahLst/>
                <a:rect l="l" t="t" r="r" b="b"/>
                <a:pathLst>
                  <a:path w="29" h="162">
                    <a:moveTo>
                      <a:pt x="0" y="0"/>
                    </a:moveTo>
                    <a:lnTo>
                      <a:pt x="0" y="44"/>
                    </a:lnTo>
                    <a:lnTo>
                      <a:pt x="28" y="161"/>
                    </a:lnTo>
                    <a:lnTo>
                      <a:pt x="28" y="14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0b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744240" y="2832840"/>
                <a:ext cx="23400" cy="6336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764040" y="2831760"/>
                <a:ext cx="23400" cy="6336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784200" y="2827440"/>
                <a:ext cx="23400" cy="6444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804000" y="2826360"/>
                <a:ext cx="22320" cy="6552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822360" y="2825280"/>
                <a:ext cx="23400" cy="6120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6725520" y="2835000"/>
                <a:ext cx="117720" cy="216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6732000" y="2852640"/>
                <a:ext cx="118800" cy="72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6739200" y="2869200"/>
                <a:ext cx="118800" cy="72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6747480" y="2885400"/>
                <a:ext cx="118080" cy="72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707520" y="2778120"/>
                <a:ext cx="104400" cy="21600"/>
              </a:xfrm>
              <a:custGeom>
                <a:avLst/>
                <a:gdLst/>
                <a:ahLst/>
                <a:rect l="l" t="t" r="r" b="b"/>
                <a:pathLst>
                  <a:path w="102" h="20">
                    <a:moveTo>
                      <a:pt x="95" y="0"/>
                    </a:moveTo>
                    <a:lnTo>
                      <a:pt x="101" y="11"/>
                    </a:lnTo>
                    <a:lnTo>
                      <a:pt x="6" y="19"/>
                    </a:lnTo>
                    <a:lnTo>
                      <a:pt x="0" y="7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e6d7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704280" y="2775960"/>
                <a:ext cx="119880" cy="23760"/>
              </a:xfrm>
              <a:custGeom>
                <a:avLst/>
                <a:gdLst/>
                <a:ahLst/>
                <a:rect l="l" t="t" r="r" b="b"/>
                <a:pathLst>
                  <a:path w="117" h="22">
                    <a:moveTo>
                      <a:pt x="110" y="0"/>
                    </a:moveTo>
                    <a:lnTo>
                      <a:pt x="116" y="13"/>
                    </a:lnTo>
                    <a:lnTo>
                      <a:pt x="6" y="21"/>
                    </a:lnTo>
                    <a:lnTo>
                      <a:pt x="0" y="8"/>
                    </a:lnTo>
                    <a:lnTo>
                      <a:pt x="110" y="0"/>
                    </a:lnTo>
                  </a:path>
                </a:pathLst>
              </a:custGeom>
              <a:noFill/>
              <a:ln cap="rnd"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00320" y="278712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0" y="9"/>
                    </a:moveTo>
                    <a:lnTo>
                      <a:pt x="9" y="0"/>
                    </a:lnTo>
                    <a:lnTo>
                      <a:pt x="18" y="9"/>
                    </a:lnTo>
                    <a:lnTo>
                      <a:pt x="9" y="1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d0b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702120" y="2783880"/>
                <a:ext cx="19440" cy="2268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8" y="15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11" y="20"/>
                    </a:lnTo>
                    <a:lnTo>
                      <a:pt x="18" y="15"/>
                    </a:lnTo>
                  </a:path>
                </a:pathLst>
              </a:custGeom>
              <a:noFill/>
              <a:ln cap="rnd"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710760" y="2789280"/>
                <a:ext cx="101160" cy="21600"/>
              </a:xfrm>
              <a:custGeom>
                <a:avLst/>
                <a:gdLst/>
                <a:ahLst/>
                <a:rect l="l" t="t" r="r" b="b"/>
                <a:pathLst>
                  <a:path w="99" h="20">
                    <a:moveTo>
                      <a:pt x="98" y="19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97" y="19"/>
                    </a:lnTo>
                    <a:lnTo>
                      <a:pt x="98" y="19"/>
                    </a:lnTo>
                  </a:path>
                </a:pathLst>
              </a:custGeom>
              <a:solidFill>
                <a:srgbClr val="aa99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708600" y="2789280"/>
                <a:ext cx="115560" cy="21600"/>
              </a:xfrm>
              <a:custGeom>
                <a:avLst/>
                <a:gdLst/>
                <a:ahLst/>
                <a:rect l="l" t="t" r="r" b="b"/>
                <a:pathLst>
                  <a:path w="113" h="20">
                    <a:moveTo>
                      <a:pt x="112" y="0"/>
                    </a:moveTo>
                    <a:lnTo>
                      <a:pt x="3" y="12"/>
                    </a:lnTo>
                    <a:lnTo>
                      <a:pt x="0" y="19"/>
                    </a:lnTo>
                    <a:lnTo>
                      <a:pt x="111" y="6"/>
                    </a:lnTo>
                    <a:lnTo>
                      <a:pt x="112" y="0"/>
                    </a:lnTo>
                  </a:path>
                </a:pathLst>
              </a:custGeom>
              <a:noFill/>
              <a:ln cap="rnd"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723720" y="2789280"/>
                <a:ext cx="5040" cy="216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743520" y="2787120"/>
                <a:ext cx="3600" cy="216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61880" y="2786040"/>
                <a:ext cx="5040" cy="180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780240" y="2784600"/>
                <a:ext cx="5040" cy="288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799680" y="2781360"/>
                <a:ext cx="3240" cy="432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312600" y="2808720"/>
                <a:ext cx="107640" cy="21600"/>
              </a:xfrm>
              <a:custGeom>
                <a:avLst/>
                <a:gdLst/>
                <a:ahLst/>
                <a:rect l="l" t="t" r="r" b="b"/>
                <a:pathLst>
                  <a:path w="105" h="20">
                    <a:moveTo>
                      <a:pt x="98" y="0"/>
                    </a:moveTo>
                    <a:lnTo>
                      <a:pt x="104" y="11"/>
                    </a:lnTo>
                    <a:lnTo>
                      <a:pt x="6" y="19"/>
                    </a:lnTo>
                    <a:lnTo>
                      <a:pt x="0" y="7"/>
                    </a:lnTo>
                    <a:lnTo>
                      <a:pt x="98" y="0"/>
                    </a:lnTo>
                  </a:path>
                </a:pathLst>
              </a:custGeom>
              <a:solidFill>
                <a:srgbClr val="e6d7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312600" y="2806560"/>
                <a:ext cx="118800" cy="20520"/>
              </a:xfrm>
              <a:custGeom>
                <a:avLst/>
                <a:gdLst/>
                <a:ahLst/>
                <a:rect l="l" t="t" r="r" b="b"/>
                <a:pathLst>
                  <a:path w="116" h="19">
                    <a:moveTo>
                      <a:pt x="109" y="0"/>
                    </a:moveTo>
                    <a:lnTo>
                      <a:pt x="115" y="12"/>
                    </a:lnTo>
                    <a:lnTo>
                      <a:pt x="6" y="18"/>
                    </a:lnTo>
                    <a:lnTo>
                      <a:pt x="0" y="8"/>
                    </a:lnTo>
                    <a:lnTo>
                      <a:pt x="109" y="0"/>
                    </a:lnTo>
                  </a:path>
                </a:pathLst>
              </a:custGeom>
              <a:noFill/>
              <a:ln cap="rnd"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306480" y="2817720"/>
                <a:ext cx="20160" cy="21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9"/>
                    </a:moveTo>
                    <a:lnTo>
                      <a:pt x="6" y="0"/>
                    </a:lnTo>
                    <a:lnTo>
                      <a:pt x="19" y="9"/>
                    </a:lnTo>
                    <a:lnTo>
                      <a:pt x="6" y="1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d0b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307560" y="2815560"/>
                <a:ext cx="20160" cy="21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9" y="12"/>
                    </a:moveTo>
                    <a:lnTo>
                      <a:pt x="7" y="0"/>
                    </a:lnTo>
                    <a:lnTo>
                      <a:pt x="0" y="5"/>
                    </a:lnTo>
                    <a:lnTo>
                      <a:pt x="12" y="19"/>
                    </a:lnTo>
                    <a:lnTo>
                      <a:pt x="19" y="12"/>
                    </a:lnTo>
                  </a:path>
                </a:pathLst>
              </a:custGeom>
              <a:noFill/>
              <a:ln cap="rnd"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316560" y="2819880"/>
                <a:ext cx="103680" cy="21960"/>
              </a:xfrm>
              <a:custGeom>
                <a:avLst/>
                <a:gdLst/>
                <a:ahLst/>
                <a:rect l="l" t="t" r="r" b="b"/>
                <a:pathLst>
                  <a:path w="101" h="20">
                    <a:moveTo>
                      <a:pt x="100" y="19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96" y="19"/>
                    </a:lnTo>
                    <a:lnTo>
                      <a:pt x="100" y="19"/>
                    </a:lnTo>
                  </a:path>
                </a:pathLst>
              </a:custGeom>
              <a:solidFill>
                <a:srgbClr val="aa99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314400" y="2819880"/>
                <a:ext cx="116640" cy="21960"/>
              </a:xfrm>
              <a:custGeom>
                <a:avLst/>
                <a:gdLst/>
                <a:ahLst/>
                <a:rect l="l" t="t" r="r" b="b"/>
                <a:pathLst>
                  <a:path w="114" h="20">
                    <a:moveTo>
                      <a:pt x="113" y="0"/>
                    </a:moveTo>
                    <a:lnTo>
                      <a:pt x="3" y="9"/>
                    </a:lnTo>
                    <a:lnTo>
                      <a:pt x="0" y="19"/>
                    </a:lnTo>
                    <a:lnTo>
                      <a:pt x="109" y="6"/>
                    </a:lnTo>
                    <a:lnTo>
                      <a:pt x="113" y="0"/>
                    </a:lnTo>
                  </a:path>
                </a:pathLst>
              </a:custGeom>
              <a:noFill/>
              <a:ln cap="rnd"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332040" y="2818800"/>
                <a:ext cx="5040" cy="72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349320" y="2817720"/>
                <a:ext cx="5040" cy="180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370200" y="2816640"/>
                <a:ext cx="2880" cy="216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388560" y="2815560"/>
                <a:ext cx="5040" cy="72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06920" y="2811960"/>
                <a:ext cx="5040" cy="324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579360" y="2787120"/>
                <a:ext cx="104400" cy="21600"/>
              </a:xfrm>
              <a:custGeom>
                <a:avLst/>
                <a:gdLst/>
                <a:ahLst/>
                <a:rect l="l" t="t" r="r" b="b"/>
                <a:pathLst>
                  <a:path w="102" h="20">
                    <a:moveTo>
                      <a:pt x="95" y="0"/>
                    </a:moveTo>
                    <a:lnTo>
                      <a:pt x="101" y="11"/>
                    </a:lnTo>
                    <a:lnTo>
                      <a:pt x="3" y="19"/>
                    </a:lnTo>
                    <a:lnTo>
                      <a:pt x="0" y="7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e6d7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575400" y="2783880"/>
                <a:ext cx="120600" cy="26280"/>
              </a:xfrm>
              <a:custGeom>
                <a:avLst/>
                <a:gdLst/>
                <a:ahLst/>
                <a:rect l="l" t="t" r="r" b="b"/>
                <a:pathLst>
                  <a:path w="118" h="24">
                    <a:moveTo>
                      <a:pt x="111" y="0"/>
                    </a:moveTo>
                    <a:lnTo>
                      <a:pt x="117" y="15"/>
                    </a:lnTo>
                    <a:lnTo>
                      <a:pt x="6" y="23"/>
                    </a:lnTo>
                    <a:lnTo>
                      <a:pt x="0" y="10"/>
                    </a:lnTo>
                    <a:lnTo>
                      <a:pt x="111" y="0"/>
                    </a:lnTo>
                  </a:path>
                </a:pathLst>
              </a:custGeom>
              <a:noFill/>
              <a:ln cap="rnd"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570000" y="279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18" y="14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8" y="19"/>
                    </a:lnTo>
                    <a:lnTo>
                      <a:pt x="18" y="14"/>
                    </a:lnTo>
                  </a:path>
                </a:pathLst>
              </a:custGeom>
              <a:solidFill>
                <a:srgbClr val="d0b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573240" y="2794680"/>
                <a:ext cx="20160" cy="21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9" y="13"/>
                    </a:moveTo>
                    <a:lnTo>
                      <a:pt x="2" y="0"/>
                    </a:lnTo>
                    <a:lnTo>
                      <a:pt x="0" y="6"/>
                    </a:lnTo>
                    <a:lnTo>
                      <a:pt x="15" y="19"/>
                    </a:lnTo>
                    <a:lnTo>
                      <a:pt x="19" y="13"/>
                    </a:lnTo>
                  </a:path>
                </a:pathLst>
              </a:custGeom>
              <a:noFill/>
              <a:ln cap="rnd"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581160" y="2800080"/>
                <a:ext cx="102240" cy="21600"/>
              </a:xfrm>
              <a:custGeom>
                <a:avLst/>
                <a:gdLst/>
                <a:ahLst/>
                <a:rect l="l" t="t" r="r" b="b"/>
                <a:pathLst>
                  <a:path w="100" h="20">
                    <a:moveTo>
                      <a:pt x="99" y="0"/>
                    </a:moveTo>
                    <a:lnTo>
                      <a:pt x="1" y="19"/>
                    </a:lnTo>
                    <a:lnTo>
                      <a:pt x="0" y="19"/>
                    </a:ln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solidFill>
                <a:srgbClr val="aa99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579360" y="2799000"/>
                <a:ext cx="116640" cy="20520"/>
              </a:xfrm>
              <a:custGeom>
                <a:avLst/>
                <a:gdLst/>
                <a:ahLst/>
                <a:rect l="l" t="t" r="r" b="b"/>
                <a:pathLst>
                  <a:path w="114" h="19">
                    <a:moveTo>
                      <a:pt x="113" y="0"/>
                    </a:moveTo>
                    <a:lnTo>
                      <a:pt x="1" y="10"/>
                    </a:lnTo>
                    <a:lnTo>
                      <a:pt x="0" y="18"/>
                    </a:lnTo>
                    <a:lnTo>
                      <a:pt x="112" y="8"/>
                    </a:lnTo>
                    <a:lnTo>
                      <a:pt x="113" y="0"/>
                    </a:lnTo>
                  </a:path>
                </a:pathLst>
              </a:custGeom>
              <a:noFill/>
              <a:ln cap="rnd"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594480" y="2800080"/>
                <a:ext cx="5040" cy="72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613200" y="2796840"/>
                <a:ext cx="5760" cy="288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632640" y="2795760"/>
                <a:ext cx="5040" cy="432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651000" y="2794680"/>
                <a:ext cx="5040" cy="216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670800" y="2793600"/>
                <a:ext cx="5760" cy="72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444000" y="2795760"/>
                <a:ext cx="108720" cy="21960"/>
              </a:xfrm>
              <a:custGeom>
                <a:avLst/>
                <a:gdLst/>
                <a:ahLst/>
                <a:rect l="l" t="t" r="r" b="b"/>
                <a:pathLst>
                  <a:path w="106" h="20">
                    <a:moveTo>
                      <a:pt x="99" y="0"/>
                    </a:moveTo>
                    <a:lnTo>
                      <a:pt x="105" y="12"/>
                    </a:lnTo>
                    <a:lnTo>
                      <a:pt x="6" y="19"/>
                    </a:lnTo>
                    <a:lnTo>
                      <a:pt x="0" y="9"/>
                    </a:lnTo>
                    <a:lnTo>
                      <a:pt x="99" y="0"/>
                    </a:lnTo>
                  </a:path>
                </a:pathLst>
              </a:custGeom>
              <a:solidFill>
                <a:srgbClr val="e6d7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444000" y="2794680"/>
                <a:ext cx="118800" cy="2376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109" y="0"/>
                    </a:moveTo>
                    <a:lnTo>
                      <a:pt x="115" y="14"/>
                    </a:lnTo>
                    <a:lnTo>
                      <a:pt x="6" y="21"/>
                    </a:lnTo>
                    <a:lnTo>
                      <a:pt x="0" y="9"/>
                    </a:lnTo>
                    <a:lnTo>
                      <a:pt x="109" y="0"/>
                    </a:lnTo>
                  </a:path>
                </a:pathLst>
              </a:custGeom>
              <a:noFill/>
              <a:ln cap="rnd"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438600" y="2806560"/>
                <a:ext cx="20160" cy="2052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0" y="11"/>
                    </a:moveTo>
                    <a:lnTo>
                      <a:pt x="6" y="0"/>
                    </a:lnTo>
                    <a:lnTo>
                      <a:pt x="19" y="6"/>
                    </a:lnTo>
                    <a:lnTo>
                      <a:pt x="6" y="18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d0b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439680" y="2804760"/>
                <a:ext cx="20520" cy="21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9" y="12"/>
                    </a:moveTo>
                    <a:lnTo>
                      <a:pt x="7" y="0"/>
                    </a:lnTo>
                    <a:lnTo>
                      <a:pt x="0" y="6"/>
                    </a:lnTo>
                    <a:lnTo>
                      <a:pt x="12" y="19"/>
                    </a:lnTo>
                    <a:lnTo>
                      <a:pt x="19" y="12"/>
                    </a:lnTo>
                  </a:path>
                </a:pathLst>
              </a:custGeom>
              <a:noFill/>
              <a:ln cap="rnd"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447960" y="2810160"/>
                <a:ext cx="104400" cy="21600"/>
              </a:xfrm>
              <a:custGeom>
                <a:avLst/>
                <a:gdLst/>
                <a:ahLst/>
                <a:rect l="l" t="t" r="r" b="b"/>
                <a:pathLst>
                  <a:path w="102" h="20">
                    <a:moveTo>
                      <a:pt x="101" y="19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97" y="19"/>
                    </a:lnTo>
                    <a:lnTo>
                      <a:pt x="101" y="19"/>
                    </a:lnTo>
                  </a:path>
                </a:pathLst>
              </a:custGeom>
              <a:solidFill>
                <a:srgbClr val="aa99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446880" y="2810160"/>
                <a:ext cx="115920" cy="21600"/>
              </a:xfrm>
              <a:custGeom>
                <a:avLst/>
                <a:gdLst/>
                <a:ahLst/>
                <a:rect l="l" t="t" r="r" b="b"/>
                <a:pathLst>
                  <a:path w="113" h="20">
                    <a:moveTo>
                      <a:pt x="112" y="0"/>
                    </a:moveTo>
                    <a:lnTo>
                      <a:pt x="3" y="9"/>
                    </a:lnTo>
                    <a:lnTo>
                      <a:pt x="0" y="19"/>
                    </a:lnTo>
                    <a:lnTo>
                      <a:pt x="108" y="6"/>
                    </a:lnTo>
                    <a:lnTo>
                      <a:pt x="112" y="0"/>
                    </a:lnTo>
                  </a:path>
                </a:pathLst>
              </a:custGeom>
              <a:noFill/>
              <a:ln cap="rnd"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63440" y="2808720"/>
                <a:ext cx="5040" cy="288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481800" y="2805480"/>
                <a:ext cx="5040" cy="432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500520" y="2804760"/>
                <a:ext cx="5040" cy="396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519600" y="2804760"/>
                <a:ext cx="6120" cy="180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538320" y="2801160"/>
                <a:ext cx="5760" cy="540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 flipV="1">
                <a:off x="6350400" y="2855880"/>
                <a:ext cx="25560" cy="6552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flipV="1">
                <a:off x="6390360" y="2853720"/>
                <a:ext cx="37800" cy="8856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 flipV="1">
                <a:off x="6411240" y="2851560"/>
                <a:ext cx="34560" cy="8856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 flipV="1">
                <a:off x="6429600" y="2849040"/>
                <a:ext cx="36720" cy="8748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 flipV="1">
                <a:off x="6447600" y="2845800"/>
                <a:ext cx="38520" cy="8964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flipV="1">
                <a:off x="6469560" y="2845800"/>
                <a:ext cx="36000" cy="8532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 flipV="1">
                <a:off x="6486840" y="2842560"/>
                <a:ext cx="38880" cy="8748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 flipV="1">
                <a:off x="6505920" y="2842920"/>
                <a:ext cx="39960" cy="8640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 flipV="1">
                <a:off x="6526800" y="2842920"/>
                <a:ext cx="38880" cy="8424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 flipV="1">
                <a:off x="6546240" y="2841480"/>
                <a:ext cx="39960" cy="8388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 flipV="1">
                <a:off x="6563520" y="2839320"/>
                <a:ext cx="40680" cy="8388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6584400" y="2838240"/>
                <a:ext cx="41040" cy="8424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 flipV="1">
                <a:off x="6602760" y="2834640"/>
                <a:ext cx="40680" cy="8532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 flipV="1">
                <a:off x="6622200" y="2832480"/>
                <a:ext cx="43920" cy="8316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6663240" y="2832840"/>
                <a:ext cx="31680" cy="5688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flipV="1">
                <a:off x="6371640" y="2853720"/>
                <a:ext cx="32760" cy="8856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flipV="1">
                <a:off x="6643080" y="2830320"/>
                <a:ext cx="43920" cy="8316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6333840" y="2854800"/>
                <a:ext cx="361080" cy="2052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6341400" y="2872440"/>
                <a:ext cx="362880" cy="2304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6390720" y="2894400"/>
                <a:ext cx="285840" cy="17280"/>
              </a:xfrm>
              <a:prstGeom prst="line">
                <a:avLst/>
              </a:prstGeom>
              <a:ln w="12600">
                <a:solidFill>
                  <a:srgbClr val="887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8" name=""/>
          <p:cNvSpPr/>
          <p:nvPr/>
        </p:nvSpPr>
        <p:spPr>
          <a:xfrm>
            <a:off x="6829560" y="1755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WAP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56280" y="2770200"/>
            <a:ext cx="774720" cy="0"/>
          </a:xfrm>
          <a:prstGeom prst="line">
            <a:avLst/>
          </a:prstGeom>
          <a:ln w="5724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44960" y="5237280"/>
            <a:ext cx="1046160" cy="9360"/>
          </a:xfrm>
          <a:prstGeom prst="line">
            <a:avLst/>
          </a:prstGeom>
          <a:ln w="5724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84920" y="1854360"/>
            <a:ext cx="152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access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922480" y="1911240"/>
            <a:ext cx="483084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44760" y="229392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105ef"/>
                </a:solidFill>
                <a:latin typeface="Times New Roman"/>
              </a:rPr>
              <a:t>WAP term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57920" y="3532320"/>
            <a:ext cx="1616040" cy="1382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622760" y="2298600"/>
            <a:ext cx="442800" cy="923760"/>
            <a:chOff x="4622760" y="2298600"/>
            <a:chExt cx="442800" cy="923760"/>
          </a:xfrm>
        </p:grpSpPr>
        <p:sp>
          <p:nvSpPr>
            <p:cNvPr id="266" name=""/>
            <p:cNvSpPr/>
            <p:nvPr/>
          </p:nvSpPr>
          <p:spPr>
            <a:xfrm>
              <a:off x="4734360" y="3183480"/>
              <a:ext cx="11880" cy="388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26320" y="3090600"/>
              <a:ext cx="11160" cy="374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22760" y="2319120"/>
              <a:ext cx="72720" cy="866880"/>
            </a:xfrm>
            <a:custGeom>
              <a:avLst/>
              <a:gdLst/>
              <a:ahLst/>
              <a:rect l="l" t="t" r="r" b="b"/>
              <a:pathLst>
                <a:path w="206" h="625">
                  <a:moveTo>
                    <a:pt x="0" y="0"/>
                  </a:moveTo>
                  <a:lnTo>
                    <a:pt x="205" y="1"/>
                  </a:lnTo>
                  <a:lnTo>
                    <a:pt x="205" y="624"/>
                  </a:lnTo>
                  <a:lnTo>
                    <a:pt x="0" y="562"/>
                  </a:lnTo>
                  <a:lnTo>
                    <a:pt x="0" y="0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20320" y="2298600"/>
              <a:ext cx="327960" cy="77400"/>
            </a:xfrm>
            <a:custGeom>
              <a:avLst/>
              <a:gdLst/>
              <a:ahLst/>
              <a:rect l="l" t="t" r="r" b="b"/>
              <a:pathLst>
                <a:path w="925" h="56">
                  <a:moveTo>
                    <a:pt x="0" y="13"/>
                  </a:moveTo>
                  <a:lnTo>
                    <a:pt x="0" y="55"/>
                  </a:lnTo>
                  <a:lnTo>
                    <a:pt x="922" y="38"/>
                  </a:lnTo>
                  <a:lnTo>
                    <a:pt x="924" y="0"/>
                  </a:lnTo>
                  <a:lnTo>
                    <a:pt x="0" y="13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18880" y="2352600"/>
              <a:ext cx="328680" cy="731160"/>
            </a:xfrm>
            <a:custGeom>
              <a:avLst/>
              <a:gdLst/>
              <a:ahLst/>
              <a:rect l="l" t="t" r="r" b="b"/>
              <a:pathLst>
                <a:path w="927" h="527">
                  <a:moveTo>
                    <a:pt x="0" y="526"/>
                  </a:moveTo>
                  <a:lnTo>
                    <a:pt x="926" y="455"/>
                  </a:lnTo>
                  <a:lnTo>
                    <a:pt x="926" y="0"/>
                  </a:lnTo>
                  <a:lnTo>
                    <a:pt x="0" y="16"/>
                  </a:lnTo>
                  <a:lnTo>
                    <a:pt x="0" y="526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23920" y="2414880"/>
              <a:ext cx="12600" cy="599400"/>
            </a:xfrm>
            <a:custGeom>
              <a:avLst/>
              <a:gdLst/>
              <a:ahLst/>
              <a:rect l="l" t="t" r="r" b="b"/>
              <a:pathLst>
                <a:path w="36" h="432">
                  <a:moveTo>
                    <a:pt x="33" y="0"/>
                  </a:moveTo>
                  <a:lnTo>
                    <a:pt x="0" y="1"/>
                  </a:lnTo>
                  <a:lnTo>
                    <a:pt x="0" y="431"/>
                  </a:lnTo>
                  <a:lnTo>
                    <a:pt x="35" y="428"/>
                  </a:lnTo>
                  <a:lnTo>
                    <a:pt x="33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50200" y="2410920"/>
              <a:ext cx="13320" cy="595080"/>
            </a:xfrm>
            <a:custGeom>
              <a:avLst/>
              <a:gdLst/>
              <a:ahLst/>
              <a:rect l="l" t="t" r="r" b="b"/>
              <a:pathLst>
                <a:path w="38" h="429">
                  <a:moveTo>
                    <a:pt x="37" y="0"/>
                  </a:moveTo>
                  <a:lnTo>
                    <a:pt x="0" y="0"/>
                  </a:lnTo>
                  <a:lnTo>
                    <a:pt x="0" y="428"/>
                  </a:lnTo>
                  <a:lnTo>
                    <a:pt x="37" y="425"/>
                  </a:lnTo>
                  <a:lnTo>
                    <a:pt x="37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76480" y="2409120"/>
              <a:ext cx="11880" cy="589680"/>
            </a:xfrm>
            <a:custGeom>
              <a:avLst/>
              <a:gdLst/>
              <a:ahLst/>
              <a:rect l="l" t="t" r="r" b="b"/>
              <a:pathLst>
                <a:path w="34" h="425">
                  <a:moveTo>
                    <a:pt x="33" y="0"/>
                  </a:moveTo>
                  <a:lnTo>
                    <a:pt x="0" y="1"/>
                  </a:lnTo>
                  <a:lnTo>
                    <a:pt x="0" y="424"/>
                  </a:lnTo>
                  <a:lnTo>
                    <a:pt x="33" y="419"/>
                  </a:lnTo>
                  <a:lnTo>
                    <a:pt x="33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00240" y="2408040"/>
              <a:ext cx="13680" cy="584280"/>
            </a:xfrm>
            <a:custGeom>
              <a:avLst/>
              <a:gdLst/>
              <a:ahLst/>
              <a:rect l="l" t="t" r="r" b="b"/>
              <a:pathLst>
                <a:path w="39" h="421">
                  <a:moveTo>
                    <a:pt x="38" y="0"/>
                  </a:moveTo>
                  <a:lnTo>
                    <a:pt x="0" y="1"/>
                  </a:lnTo>
                  <a:lnTo>
                    <a:pt x="0" y="420"/>
                  </a:lnTo>
                  <a:lnTo>
                    <a:pt x="38" y="415"/>
                  </a:lnTo>
                  <a:lnTo>
                    <a:pt x="38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825800" y="2402280"/>
              <a:ext cx="13320" cy="582480"/>
            </a:xfrm>
            <a:custGeom>
              <a:avLst/>
              <a:gdLst/>
              <a:ahLst/>
              <a:rect l="l" t="t" r="r" b="b"/>
              <a:pathLst>
                <a:path w="38" h="420">
                  <a:moveTo>
                    <a:pt x="37" y="0"/>
                  </a:moveTo>
                  <a:lnTo>
                    <a:pt x="0" y="1"/>
                  </a:lnTo>
                  <a:lnTo>
                    <a:pt x="0" y="419"/>
                  </a:lnTo>
                  <a:lnTo>
                    <a:pt x="37" y="414"/>
                  </a:lnTo>
                  <a:lnTo>
                    <a:pt x="37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850640" y="2399760"/>
              <a:ext cx="12600" cy="577080"/>
            </a:xfrm>
            <a:custGeom>
              <a:avLst/>
              <a:gdLst/>
              <a:ahLst/>
              <a:rect l="l" t="t" r="r" b="b"/>
              <a:pathLst>
                <a:path w="36" h="416">
                  <a:moveTo>
                    <a:pt x="35" y="0"/>
                  </a:moveTo>
                  <a:lnTo>
                    <a:pt x="0" y="2"/>
                  </a:lnTo>
                  <a:lnTo>
                    <a:pt x="0" y="415"/>
                  </a:lnTo>
                  <a:lnTo>
                    <a:pt x="35" y="410"/>
                  </a:lnTo>
                  <a:lnTo>
                    <a:pt x="3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874400" y="2396880"/>
              <a:ext cx="13680" cy="572760"/>
            </a:xfrm>
            <a:custGeom>
              <a:avLst/>
              <a:gdLst/>
              <a:ahLst/>
              <a:rect l="l" t="t" r="r" b="b"/>
              <a:pathLst>
                <a:path w="39" h="413">
                  <a:moveTo>
                    <a:pt x="38" y="0"/>
                  </a:moveTo>
                  <a:lnTo>
                    <a:pt x="0" y="2"/>
                  </a:lnTo>
                  <a:lnTo>
                    <a:pt x="0" y="412"/>
                  </a:lnTo>
                  <a:lnTo>
                    <a:pt x="38" y="407"/>
                  </a:lnTo>
                  <a:lnTo>
                    <a:pt x="38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897080" y="2396880"/>
              <a:ext cx="12960" cy="564480"/>
            </a:xfrm>
            <a:custGeom>
              <a:avLst/>
              <a:gdLst/>
              <a:ahLst/>
              <a:rect l="l" t="t" r="r" b="b"/>
              <a:pathLst>
                <a:path w="37" h="407">
                  <a:moveTo>
                    <a:pt x="36" y="0"/>
                  </a:moveTo>
                  <a:lnTo>
                    <a:pt x="0" y="1"/>
                  </a:lnTo>
                  <a:lnTo>
                    <a:pt x="0" y="406"/>
                  </a:lnTo>
                  <a:lnTo>
                    <a:pt x="36" y="403"/>
                  </a:lnTo>
                  <a:lnTo>
                    <a:pt x="36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18320" y="2395440"/>
              <a:ext cx="13680" cy="560520"/>
            </a:xfrm>
            <a:custGeom>
              <a:avLst/>
              <a:gdLst/>
              <a:ahLst/>
              <a:rect l="l" t="t" r="r" b="b"/>
              <a:pathLst>
                <a:path w="39" h="404">
                  <a:moveTo>
                    <a:pt x="38" y="0"/>
                  </a:moveTo>
                  <a:lnTo>
                    <a:pt x="0" y="1"/>
                  </a:lnTo>
                  <a:lnTo>
                    <a:pt x="0" y="403"/>
                  </a:lnTo>
                  <a:lnTo>
                    <a:pt x="38" y="400"/>
                  </a:lnTo>
                  <a:lnTo>
                    <a:pt x="38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956480" y="2392920"/>
              <a:ext cx="12600" cy="549360"/>
            </a:xfrm>
            <a:custGeom>
              <a:avLst/>
              <a:gdLst/>
              <a:ahLst/>
              <a:rect l="l" t="t" r="r" b="b"/>
              <a:pathLst>
                <a:path w="36" h="396">
                  <a:moveTo>
                    <a:pt x="35" y="0"/>
                  </a:moveTo>
                  <a:lnTo>
                    <a:pt x="0" y="1"/>
                  </a:lnTo>
                  <a:lnTo>
                    <a:pt x="0" y="395"/>
                  </a:lnTo>
                  <a:lnTo>
                    <a:pt x="35" y="392"/>
                  </a:lnTo>
                  <a:lnTo>
                    <a:pt x="3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983120" y="2390040"/>
              <a:ext cx="12600" cy="545040"/>
            </a:xfrm>
            <a:custGeom>
              <a:avLst/>
              <a:gdLst/>
              <a:ahLst/>
              <a:rect l="l" t="t" r="r" b="b"/>
              <a:pathLst>
                <a:path w="36" h="393">
                  <a:moveTo>
                    <a:pt x="35" y="0"/>
                  </a:moveTo>
                  <a:lnTo>
                    <a:pt x="0" y="1"/>
                  </a:lnTo>
                  <a:lnTo>
                    <a:pt x="0" y="392"/>
                  </a:lnTo>
                  <a:lnTo>
                    <a:pt x="35" y="389"/>
                  </a:lnTo>
                  <a:lnTo>
                    <a:pt x="3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95480" y="2317680"/>
              <a:ext cx="23400" cy="901800"/>
            </a:xfrm>
            <a:custGeom>
              <a:avLst/>
              <a:gdLst/>
              <a:ahLst/>
              <a:rect l="l" t="t" r="r" b="b"/>
              <a:pathLst>
                <a:path w="67" h="650">
                  <a:moveTo>
                    <a:pt x="66" y="0"/>
                  </a:moveTo>
                  <a:lnTo>
                    <a:pt x="0" y="0"/>
                  </a:lnTo>
                  <a:lnTo>
                    <a:pt x="0" y="649"/>
                  </a:lnTo>
                  <a:lnTo>
                    <a:pt x="66" y="643"/>
                  </a:lnTo>
                  <a:lnTo>
                    <a:pt x="66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718880" y="2985120"/>
              <a:ext cx="329400" cy="226080"/>
            </a:xfrm>
            <a:custGeom>
              <a:avLst/>
              <a:gdLst/>
              <a:ahLst/>
              <a:rect l="l" t="t" r="r" b="b"/>
              <a:pathLst>
                <a:path w="929" h="163">
                  <a:moveTo>
                    <a:pt x="0" y="162"/>
                  </a:moveTo>
                  <a:lnTo>
                    <a:pt x="928" y="89"/>
                  </a:lnTo>
                  <a:lnTo>
                    <a:pt x="928" y="0"/>
                  </a:lnTo>
                  <a:lnTo>
                    <a:pt x="0" y="69"/>
                  </a:lnTo>
                  <a:lnTo>
                    <a:pt x="0" y="162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42280" y="2374560"/>
              <a:ext cx="0" cy="6994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70360" y="2370600"/>
              <a:ext cx="0" cy="6966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94840" y="2371680"/>
              <a:ext cx="0" cy="6883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19320" y="2367720"/>
              <a:ext cx="0" cy="684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44160" y="2367720"/>
              <a:ext cx="0" cy="676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67920" y="2364840"/>
              <a:ext cx="9360" cy="671760"/>
            </a:xfrm>
            <a:custGeom>
              <a:avLst/>
              <a:gdLst/>
              <a:ahLst/>
              <a:rect l="l" t="t" r="r" b="b"/>
              <a:pathLst>
                <a:path w="27" h="484">
                  <a:moveTo>
                    <a:pt x="26" y="0"/>
                  </a:moveTo>
                  <a:lnTo>
                    <a:pt x="26" y="477"/>
                  </a:lnTo>
                  <a:lnTo>
                    <a:pt x="0" y="483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91680" y="2364840"/>
              <a:ext cx="0" cy="668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914360" y="2362320"/>
              <a:ext cx="0" cy="6645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36320" y="2359440"/>
              <a:ext cx="0" cy="6559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939560" y="2395440"/>
              <a:ext cx="13680" cy="601920"/>
            </a:xfrm>
            <a:custGeom>
              <a:avLst/>
              <a:gdLst/>
              <a:ahLst/>
              <a:rect l="l" t="t" r="r" b="b"/>
              <a:pathLst>
                <a:path w="39" h="434">
                  <a:moveTo>
                    <a:pt x="0" y="0"/>
                  </a:moveTo>
                  <a:lnTo>
                    <a:pt x="38" y="0"/>
                  </a:lnTo>
                  <a:lnTo>
                    <a:pt x="38" y="428"/>
                  </a:lnTo>
                  <a:lnTo>
                    <a:pt x="0" y="433"/>
                  </a:lnTo>
                  <a:lnTo>
                    <a:pt x="0" y="0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74120" y="2359440"/>
              <a:ext cx="0" cy="6465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02920" y="2355120"/>
              <a:ext cx="0" cy="642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12640" y="2872800"/>
              <a:ext cx="22320" cy="42840"/>
            </a:xfrm>
            <a:custGeom>
              <a:avLst/>
              <a:gdLst/>
              <a:ahLst/>
              <a:rect l="l" t="t" r="r" b="b"/>
              <a:pathLst>
                <a:path w="63" h="31">
                  <a:moveTo>
                    <a:pt x="62" y="0"/>
                  </a:moveTo>
                  <a:lnTo>
                    <a:pt x="0" y="1"/>
                  </a:lnTo>
                  <a:lnTo>
                    <a:pt x="0" y="30"/>
                  </a:lnTo>
                  <a:lnTo>
                    <a:pt x="62" y="27"/>
                  </a:lnTo>
                  <a:lnTo>
                    <a:pt x="62" y="0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17680" y="2661840"/>
              <a:ext cx="16200" cy="33120"/>
            </a:xfrm>
            <a:prstGeom prst="ellipse">
              <a:avLst/>
            </a:prstGeom>
            <a:solidFill>
              <a:srgbClr val="40404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47920" y="2298600"/>
              <a:ext cx="17640" cy="812880"/>
            </a:xfrm>
            <a:custGeom>
              <a:avLst/>
              <a:gdLst/>
              <a:ahLst/>
              <a:rect l="l" t="t" r="r" b="b"/>
              <a:pathLst>
                <a:path w="50" h="586">
                  <a:moveTo>
                    <a:pt x="49" y="0"/>
                  </a:moveTo>
                  <a:lnTo>
                    <a:pt x="0" y="0"/>
                  </a:lnTo>
                  <a:lnTo>
                    <a:pt x="0" y="585"/>
                  </a:lnTo>
                  <a:lnTo>
                    <a:pt x="49" y="578"/>
                  </a:lnTo>
                  <a:lnTo>
                    <a:pt x="49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12640" y="2940480"/>
              <a:ext cx="32400" cy="32040"/>
            </a:xfrm>
            <a:custGeom>
              <a:avLst/>
              <a:gdLst/>
              <a:ahLst/>
              <a:rect l="l" t="t" r="r" b="b"/>
              <a:pathLst>
                <a:path w="92" h="23">
                  <a:moveTo>
                    <a:pt x="0" y="6"/>
                  </a:moveTo>
                  <a:lnTo>
                    <a:pt x="26" y="22"/>
                  </a:lnTo>
                  <a:lnTo>
                    <a:pt x="91" y="12"/>
                  </a:lnTo>
                  <a:lnTo>
                    <a:pt x="63" y="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010480" y="2621520"/>
              <a:ext cx="28800" cy="30240"/>
            </a:xfrm>
            <a:custGeom>
              <a:avLst/>
              <a:gdLst/>
              <a:ahLst/>
              <a:rect l="l" t="t" r="r" b="b"/>
              <a:pathLst>
                <a:path w="82" h="22">
                  <a:moveTo>
                    <a:pt x="0" y="1"/>
                  </a:moveTo>
                  <a:lnTo>
                    <a:pt x="81" y="0"/>
                  </a:lnTo>
                  <a:lnTo>
                    <a:pt x="81" y="21"/>
                  </a:lnTo>
                  <a:lnTo>
                    <a:pt x="0" y="21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52000" y="2648160"/>
              <a:ext cx="9360" cy="320400"/>
            </a:xfrm>
            <a:custGeom>
              <a:avLst/>
              <a:gdLst/>
              <a:ahLst/>
              <a:rect l="l" t="t" r="r" b="b"/>
              <a:pathLst>
                <a:path w="27" h="231">
                  <a:moveTo>
                    <a:pt x="24" y="0"/>
                  </a:moveTo>
                  <a:lnTo>
                    <a:pt x="0" y="0"/>
                  </a:lnTo>
                  <a:lnTo>
                    <a:pt x="0" y="230"/>
                  </a:lnTo>
                  <a:lnTo>
                    <a:pt x="26" y="228"/>
                  </a:lnTo>
                  <a:lnTo>
                    <a:pt x="24" y="0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777920" y="2643840"/>
              <a:ext cx="9360" cy="316080"/>
            </a:xfrm>
            <a:custGeom>
              <a:avLst/>
              <a:gdLst/>
              <a:ahLst/>
              <a:rect l="l" t="t" r="r" b="b"/>
              <a:pathLst>
                <a:path w="27" h="228">
                  <a:moveTo>
                    <a:pt x="26" y="0"/>
                  </a:moveTo>
                  <a:lnTo>
                    <a:pt x="0" y="0"/>
                  </a:lnTo>
                  <a:lnTo>
                    <a:pt x="0" y="227"/>
                  </a:lnTo>
                  <a:lnTo>
                    <a:pt x="26" y="224"/>
                  </a:lnTo>
                  <a:lnTo>
                    <a:pt x="26" y="0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02040" y="2640960"/>
              <a:ext cx="9360" cy="312120"/>
            </a:xfrm>
            <a:custGeom>
              <a:avLst/>
              <a:gdLst/>
              <a:ahLst/>
              <a:rect l="l" t="t" r="r" b="b"/>
              <a:pathLst>
                <a:path w="27" h="225">
                  <a:moveTo>
                    <a:pt x="26" y="0"/>
                  </a:moveTo>
                  <a:lnTo>
                    <a:pt x="0" y="0"/>
                  </a:lnTo>
                  <a:lnTo>
                    <a:pt x="1" y="224"/>
                  </a:lnTo>
                  <a:lnTo>
                    <a:pt x="26" y="222"/>
                  </a:lnTo>
                  <a:lnTo>
                    <a:pt x="26" y="0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28680" y="2637000"/>
              <a:ext cx="9360" cy="309240"/>
            </a:xfrm>
            <a:custGeom>
              <a:avLst/>
              <a:gdLst/>
              <a:ahLst/>
              <a:rect l="l" t="t" r="r" b="b"/>
              <a:pathLst>
                <a:path w="27" h="223">
                  <a:moveTo>
                    <a:pt x="26" y="0"/>
                  </a:moveTo>
                  <a:lnTo>
                    <a:pt x="0" y="0"/>
                  </a:lnTo>
                  <a:lnTo>
                    <a:pt x="0" y="222"/>
                  </a:lnTo>
                  <a:lnTo>
                    <a:pt x="26" y="220"/>
                  </a:lnTo>
                  <a:lnTo>
                    <a:pt x="26" y="0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852440" y="2632680"/>
              <a:ext cx="9360" cy="307800"/>
            </a:xfrm>
            <a:custGeom>
              <a:avLst/>
              <a:gdLst/>
              <a:ahLst/>
              <a:rect l="l" t="t" r="r" b="b"/>
              <a:pathLst>
                <a:path w="27" h="222">
                  <a:moveTo>
                    <a:pt x="26" y="0"/>
                  </a:moveTo>
                  <a:lnTo>
                    <a:pt x="0" y="0"/>
                  </a:lnTo>
                  <a:lnTo>
                    <a:pt x="0" y="221"/>
                  </a:lnTo>
                  <a:lnTo>
                    <a:pt x="26" y="219"/>
                  </a:lnTo>
                  <a:lnTo>
                    <a:pt x="26" y="0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76560" y="2627280"/>
              <a:ext cx="9360" cy="307800"/>
            </a:xfrm>
            <a:custGeom>
              <a:avLst/>
              <a:gdLst/>
              <a:ahLst/>
              <a:rect l="l" t="t" r="r" b="b"/>
              <a:pathLst>
                <a:path w="27" h="222">
                  <a:moveTo>
                    <a:pt x="26" y="0"/>
                  </a:moveTo>
                  <a:lnTo>
                    <a:pt x="0" y="0"/>
                  </a:lnTo>
                  <a:lnTo>
                    <a:pt x="1" y="221"/>
                  </a:lnTo>
                  <a:lnTo>
                    <a:pt x="26" y="219"/>
                  </a:lnTo>
                  <a:lnTo>
                    <a:pt x="26" y="0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99600" y="2621520"/>
              <a:ext cx="9360" cy="309600"/>
            </a:xfrm>
            <a:custGeom>
              <a:avLst/>
              <a:gdLst/>
              <a:ahLst/>
              <a:rect l="l" t="t" r="r" b="b"/>
              <a:pathLst>
                <a:path w="27" h="223">
                  <a:moveTo>
                    <a:pt x="24" y="0"/>
                  </a:moveTo>
                  <a:lnTo>
                    <a:pt x="0" y="1"/>
                  </a:lnTo>
                  <a:lnTo>
                    <a:pt x="0" y="222"/>
                  </a:lnTo>
                  <a:lnTo>
                    <a:pt x="26" y="220"/>
                  </a:lnTo>
                  <a:lnTo>
                    <a:pt x="24" y="0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20480" y="2620440"/>
              <a:ext cx="9360" cy="302040"/>
            </a:xfrm>
            <a:custGeom>
              <a:avLst/>
              <a:gdLst/>
              <a:ahLst/>
              <a:rect l="l" t="t" r="r" b="b"/>
              <a:pathLst>
                <a:path w="27" h="218">
                  <a:moveTo>
                    <a:pt x="24" y="0"/>
                  </a:moveTo>
                  <a:lnTo>
                    <a:pt x="0" y="0"/>
                  </a:lnTo>
                  <a:lnTo>
                    <a:pt x="0" y="217"/>
                  </a:lnTo>
                  <a:lnTo>
                    <a:pt x="26" y="215"/>
                  </a:lnTo>
                  <a:lnTo>
                    <a:pt x="24" y="0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957560" y="2611800"/>
              <a:ext cx="9360" cy="303840"/>
            </a:xfrm>
            <a:custGeom>
              <a:avLst/>
              <a:gdLst/>
              <a:ahLst/>
              <a:rect l="l" t="t" r="r" b="b"/>
              <a:pathLst>
                <a:path w="27" h="219">
                  <a:moveTo>
                    <a:pt x="26" y="0"/>
                  </a:moveTo>
                  <a:lnTo>
                    <a:pt x="1" y="0"/>
                  </a:lnTo>
                  <a:lnTo>
                    <a:pt x="0" y="218"/>
                  </a:lnTo>
                  <a:lnTo>
                    <a:pt x="26" y="215"/>
                  </a:lnTo>
                  <a:lnTo>
                    <a:pt x="26" y="0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984560" y="2608920"/>
              <a:ext cx="9360" cy="300960"/>
            </a:xfrm>
            <a:custGeom>
              <a:avLst/>
              <a:gdLst/>
              <a:ahLst/>
              <a:rect l="l" t="t" r="r" b="b"/>
              <a:pathLst>
                <a:path w="27" h="217">
                  <a:moveTo>
                    <a:pt x="26" y="0"/>
                  </a:moveTo>
                  <a:lnTo>
                    <a:pt x="0" y="0"/>
                  </a:lnTo>
                  <a:lnTo>
                    <a:pt x="0" y="216"/>
                  </a:lnTo>
                  <a:lnTo>
                    <a:pt x="24" y="213"/>
                  </a:lnTo>
                  <a:lnTo>
                    <a:pt x="26" y="0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032440" y="3018240"/>
              <a:ext cx="12600" cy="5688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1" y="0"/>
                  </a:moveTo>
                  <a:lnTo>
                    <a:pt x="35" y="5"/>
                  </a:lnTo>
                  <a:lnTo>
                    <a:pt x="35" y="40"/>
                  </a:lnTo>
                  <a:lnTo>
                    <a:pt x="0" y="34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4703040" y="2348280"/>
              <a:ext cx="6120" cy="840600"/>
              <a:chOff x="4703040" y="2348280"/>
              <a:chExt cx="6120" cy="840600"/>
            </a:xfrm>
          </p:grpSpPr>
          <p:sp>
            <p:nvSpPr>
              <p:cNvPr id="313" name=""/>
              <p:cNvSpPr/>
              <p:nvPr/>
            </p:nvSpPr>
            <p:spPr>
              <a:xfrm>
                <a:off x="4703040" y="2982240"/>
                <a:ext cx="6120" cy="1368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703040" y="3107160"/>
                <a:ext cx="6120" cy="1224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703040" y="3144600"/>
                <a:ext cx="6120" cy="1224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703040" y="3175200"/>
                <a:ext cx="6120" cy="1368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703040" y="2535480"/>
                <a:ext cx="6120" cy="1224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703040" y="2430360"/>
                <a:ext cx="6120" cy="1224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703040" y="2391120"/>
                <a:ext cx="6120" cy="1224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703040" y="2348280"/>
                <a:ext cx="6120" cy="1404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5055480" y="2319120"/>
              <a:ext cx="5040" cy="766800"/>
              <a:chOff x="5055480" y="2319120"/>
              <a:chExt cx="5040" cy="766800"/>
            </a:xfrm>
          </p:grpSpPr>
          <p:sp>
            <p:nvSpPr>
              <p:cNvPr id="322" name=""/>
              <p:cNvSpPr/>
              <p:nvPr/>
            </p:nvSpPr>
            <p:spPr>
              <a:xfrm>
                <a:off x="5055480" y="2897280"/>
                <a:ext cx="5040" cy="1224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055480" y="3009600"/>
                <a:ext cx="5040" cy="1224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055480" y="3041280"/>
                <a:ext cx="5040" cy="1368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055480" y="3073680"/>
                <a:ext cx="5040" cy="1224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055480" y="2489400"/>
                <a:ext cx="5040" cy="1224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055480" y="2392560"/>
                <a:ext cx="5040" cy="1224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055480" y="2356200"/>
                <a:ext cx="5040" cy="1224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055480" y="2319120"/>
                <a:ext cx="5040" cy="1224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4724280" y="2493720"/>
              <a:ext cx="14400" cy="97200"/>
              <a:chOff x="4724280" y="2493720"/>
              <a:chExt cx="14400" cy="97200"/>
            </a:xfrm>
          </p:grpSpPr>
          <p:sp>
            <p:nvSpPr>
              <p:cNvPr id="331" name=""/>
              <p:cNvSpPr/>
              <p:nvPr/>
            </p:nvSpPr>
            <p:spPr>
              <a:xfrm>
                <a:off x="4724280" y="2518560"/>
                <a:ext cx="11520" cy="72000"/>
              </a:xfrm>
              <a:custGeom>
                <a:avLst/>
                <a:gdLst/>
                <a:ahLst/>
                <a:rect l="l" t="t" r="r" b="b"/>
                <a:pathLst>
                  <a:path w="33" h="52">
                    <a:moveTo>
                      <a:pt x="32" y="0"/>
                    </a:moveTo>
                    <a:lnTo>
                      <a:pt x="0" y="0"/>
                    </a:lnTo>
                    <a:lnTo>
                      <a:pt x="0" y="49"/>
                    </a:lnTo>
                    <a:lnTo>
                      <a:pt x="32" y="51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24640" y="2493720"/>
                <a:ext cx="14040" cy="97200"/>
              </a:xfrm>
              <a:custGeom>
                <a:avLst/>
                <a:gdLst/>
                <a:ahLst/>
                <a:rect l="l" t="t" r="r" b="b"/>
                <a:pathLst>
                  <a:path w="40" h="70">
                    <a:moveTo>
                      <a:pt x="4" y="0"/>
                    </a:moveTo>
                    <a:lnTo>
                      <a:pt x="6" y="13"/>
                    </a:lnTo>
                    <a:lnTo>
                      <a:pt x="0" y="13"/>
                    </a:lnTo>
                    <a:lnTo>
                      <a:pt x="0" y="66"/>
                    </a:lnTo>
                    <a:lnTo>
                      <a:pt x="11" y="69"/>
                    </a:lnTo>
                    <a:lnTo>
                      <a:pt x="11" y="17"/>
                    </a:lnTo>
                    <a:lnTo>
                      <a:pt x="29" y="17"/>
                    </a:lnTo>
                    <a:lnTo>
                      <a:pt x="29" y="67"/>
                    </a:lnTo>
                    <a:lnTo>
                      <a:pt x="39" y="67"/>
                    </a:lnTo>
                    <a:lnTo>
                      <a:pt x="39" y="13"/>
                    </a:lnTo>
                    <a:lnTo>
                      <a:pt x="29" y="10"/>
                    </a:lnTo>
                    <a:lnTo>
                      <a:pt x="30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4752000" y="2418840"/>
              <a:ext cx="9720" cy="229680"/>
              <a:chOff x="4752000" y="2418840"/>
              <a:chExt cx="9720" cy="229680"/>
            </a:xfrm>
          </p:grpSpPr>
          <p:sp>
            <p:nvSpPr>
              <p:cNvPr id="334" name=""/>
              <p:cNvSpPr/>
              <p:nvPr/>
            </p:nvSpPr>
            <p:spPr>
              <a:xfrm>
                <a:off x="4753800" y="2418840"/>
                <a:ext cx="5760" cy="214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752360" y="242568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752000" y="2439360"/>
                <a:ext cx="9360" cy="3204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752360" y="2455920"/>
                <a:ext cx="9360" cy="3204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752360" y="247140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752360" y="248940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52000" y="250596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752360" y="252288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752360" y="253944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752360" y="255312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2360" y="2571120"/>
                <a:ext cx="9360" cy="3204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752000" y="258660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752000" y="260172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752000" y="261828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4777920" y="2417760"/>
              <a:ext cx="10080" cy="229680"/>
              <a:chOff x="4777920" y="2417760"/>
              <a:chExt cx="10080" cy="229680"/>
            </a:xfrm>
          </p:grpSpPr>
          <p:sp>
            <p:nvSpPr>
              <p:cNvPr id="349" name=""/>
              <p:cNvSpPr/>
              <p:nvPr/>
            </p:nvSpPr>
            <p:spPr>
              <a:xfrm>
                <a:off x="4780080" y="2417760"/>
                <a:ext cx="5760" cy="214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778640" y="242460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77920" y="243828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78640" y="245484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78640" y="246996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78640" y="248688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77920" y="250488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78640" y="252180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78640" y="2536560"/>
                <a:ext cx="9360" cy="3204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78640" y="255204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78640" y="2567160"/>
                <a:ext cx="9360" cy="3204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777920" y="258372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777920" y="259920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777920" y="261720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4802760" y="2414880"/>
              <a:ext cx="10080" cy="228600"/>
              <a:chOff x="4802760" y="2414880"/>
              <a:chExt cx="10080" cy="228600"/>
            </a:xfrm>
          </p:grpSpPr>
          <p:sp>
            <p:nvSpPr>
              <p:cNvPr id="364" name=""/>
              <p:cNvSpPr/>
              <p:nvPr/>
            </p:nvSpPr>
            <p:spPr>
              <a:xfrm>
                <a:off x="4804200" y="2414880"/>
                <a:ext cx="5760" cy="2120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803480" y="2418840"/>
                <a:ext cx="9360" cy="3204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802760" y="243432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803480" y="2451960"/>
                <a:ext cx="9360" cy="3204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803480" y="246744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803480" y="248436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802760" y="249804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803480" y="251604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803480" y="253152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803480" y="254916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803480" y="256428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802760" y="258120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802760" y="2594880"/>
                <a:ext cx="9360" cy="3204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802760" y="2611440"/>
                <a:ext cx="9360" cy="3204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4827960" y="2412000"/>
              <a:ext cx="10080" cy="229680"/>
              <a:chOff x="4827960" y="2412000"/>
              <a:chExt cx="10080" cy="229680"/>
            </a:xfrm>
          </p:grpSpPr>
          <p:sp>
            <p:nvSpPr>
              <p:cNvPr id="379" name=""/>
              <p:cNvSpPr/>
              <p:nvPr/>
            </p:nvSpPr>
            <p:spPr>
              <a:xfrm>
                <a:off x="4829400" y="2412000"/>
                <a:ext cx="5760" cy="213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28680" y="2415960"/>
                <a:ext cx="9360" cy="3204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27960" y="2432520"/>
                <a:ext cx="9360" cy="3204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28680" y="244908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28680" y="246456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28680" y="248256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27960" y="2496240"/>
                <a:ext cx="9360" cy="3204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28680" y="251460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28680" y="2529720"/>
                <a:ext cx="9360" cy="3204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828680" y="254628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828680" y="256176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27960" y="257976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27960" y="259344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827960" y="261000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4852440" y="2410920"/>
              <a:ext cx="9360" cy="230040"/>
              <a:chOff x="4852440" y="2410920"/>
              <a:chExt cx="9360" cy="230040"/>
            </a:xfrm>
          </p:grpSpPr>
          <p:sp>
            <p:nvSpPr>
              <p:cNvPr id="394" name=""/>
              <p:cNvSpPr/>
              <p:nvPr/>
            </p:nvSpPr>
            <p:spPr>
              <a:xfrm>
                <a:off x="4854240" y="2410920"/>
                <a:ext cx="5760" cy="214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852440" y="2415960"/>
                <a:ext cx="9360" cy="3204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852440" y="243144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852440" y="244800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852440" y="246312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852440" y="247860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852440" y="2496600"/>
                <a:ext cx="9360" cy="3204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852440" y="2513160"/>
                <a:ext cx="9360" cy="3204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852440" y="2529720"/>
                <a:ext cx="9360" cy="3204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852440" y="254520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852440" y="256176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852440" y="257580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852440" y="2590920"/>
                <a:ext cx="9360" cy="3204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852440" y="2608920"/>
                <a:ext cx="9360" cy="3204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4877280" y="2409120"/>
              <a:ext cx="9720" cy="225720"/>
              <a:chOff x="4877280" y="2409120"/>
              <a:chExt cx="9720" cy="225720"/>
            </a:xfrm>
          </p:grpSpPr>
          <p:sp>
            <p:nvSpPr>
              <p:cNvPr id="409" name=""/>
              <p:cNvSpPr/>
              <p:nvPr/>
            </p:nvSpPr>
            <p:spPr>
              <a:xfrm>
                <a:off x="4878720" y="2409120"/>
                <a:ext cx="5400" cy="2120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877640" y="241164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877280" y="242712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877640" y="244512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877640" y="246060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877640" y="2475720"/>
                <a:ext cx="9360" cy="3204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877280" y="249228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877640" y="250884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877640" y="252684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877640" y="254232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877640" y="255888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877280" y="257292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877280" y="2588040"/>
                <a:ext cx="9360" cy="3204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877280" y="260460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4899600" y="2402280"/>
              <a:ext cx="9360" cy="227160"/>
              <a:chOff x="4899600" y="2402280"/>
              <a:chExt cx="9360" cy="227160"/>
            </a:xfrm>
          </p:grpSpPr>
          <p:sp>
            <p:nvSpPr>
              <p:cNvPr id="424" name=""/>
              <p:cNvSpPr/>
              <p:nvPr/>
            </p:nvSpPr>
            <p:spPr>
              <a:xfrm>
                <a:off x="4901040" y="2402280"/>
                <a:ext cx="5760" cy="2106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899600" y="240912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899600" y="242424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899600" y="244116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899600" y="2456280"/>
                <a:ext cx="9360" cy="3204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899600" y="247140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899600" y="248652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99600" y="250596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899600" y="252144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899600" y="2536560"/>
                <a:ext cx="9360" cy="3204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899600" y="255204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899600" y="2567160"/>
                <a:ext cx="9360" cy="3204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899600" y="258264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899600" y="259920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4921200" y="2402280"/>
              <a:ext cx="9360" cy="224640"/>
              <a:chOff x="4921200" y="2402280"/>
              <a:chExt cx="9360" cy="224640"/>
            </a:xfrm>
          </p:grpSpPr>
          <p:sp>
            <p:nvSpPr>
              <p:cNvPr id="439" name=""/>
              <p:cNvSpPr/>
              <p:nvPr/>
            </p:nvSpPr>
            <p:spPr>
              <a:xfrm>
                <a:off x="4923000" y="2402280"/>
                <a:ext cx="5400" cy="2077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921200" y="240912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921200" y="242424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921200" y="2439360"/>
                <a:ext cx="9360" cy="3204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921200" y="245484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921200" y="246996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921200" y="248652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921200" y="250488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921200" y="251856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921200" y="2533680"/>
                <a:ext cx="9360" cy="3204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921200" y="254916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921200" y="256428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921200" y="257976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921200" y="2594880"/>
                <a:ext cx="9360" cy="3204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4959720" y="2400840"/>
              <a:ext cx="9360" cy="221760"/>
              <a:chOff x="4959720" y="2400840"/>
              <a:chExt cx="9360" cy="221760"/>
            </a:xfrm>
          </p:grpSpPr>
          <p:sp>
            <p:nvSpPr>
              <p:cNvPr id="454" name=""/>
              <p:cNvSpPr/>
              <p:nvPr/>
            </p:nvSpPr>
            <p:spPr>
              <a:xfrm>
                <a:off x="4961160" y="2400840"/>
                <a:ext cx="5400" cy="2077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959720" y="240768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959720" y="2421360"/>
                <a:ext cx="9360" cy="3204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959720" y="243828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959720" y="245340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59720" y="246852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959720" y="248544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959720" y="2499120"/>
                <a:ext cx="9360" cy="3204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59720" y="251568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959720" y="253116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59720" y="254628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959720" y="256176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959720" y="257580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959720" y="2590560"/>
                <a:ext cx="9360" cy="3204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4986000" y="2395440"/>
              <a:ext cx="9360" cy="222840"/>
              <a:chOff x="4986000" y="2395440"/>
              <a:chExt cx="9360" cy="222840"/>
            </a:xfrm>
          </p:grpSpPr>
          <p:sp>
            <p:nvSpPr>
              <p:cNvPr id="469" name=""/>
              <p:cNvSpPr/>
              <p:nvPr/>
            </p:nvSpPr>
            <p:spPr>
              <a:xfrm>
                <a:off x="4987080" y="2395440"/>
                <a:ext cx="5760" cy="206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986000" y="240084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986000" y="2415960"/>
                <a:ext cx="9360" cy="3204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986000" y="2432520"/>
                <a:ext cx="9360" cy="3204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986000" y="244800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986000" y="246312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986000" y="247716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986000" y="2493720"/>
                <a:ext cx="9360" cy="3204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986000" y="250920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986000" y="252684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986000" y="254232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986000" y="255636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986000" y="2571480"/>
                <a:ext cx="9360" cy="3204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986000" y="258660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0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5013720" y="2710440"/>
              <a:ext cx="24840" cy="56880"/>
              <a:chOff x="5013720" y="2710440"/>
              <a:chExt cx="24840" cy="56880"/>
            </a:xfrm>
          </p:grpSpPr>
          <p:sp>
            <p:nvSpPr>
              <p:cNvPr id="484" name=""/>
              <p:cNvSpPr/>
              <p:nvPr/>
            </p:nvSpPr>
            <p:spPr>
              <a:xfrm>
                <a:off x="5013720" y="2710440"/>
                <a:ext cx="24840" cy="56880"/>
              </a:xfrm>
              <a:custGeom>
                <a:avLst/>
                <a:gdLst/>
                <a:ahLst/>
                <a:rect l="l" t="t" r="r" b="b"/>
                <a:pathLst>
                  <a:path w="71" h="41">
                    <a:moveTo>
                      <a:pt x="70" y="0"/>
                    </a:moveTo>
                    <a:lnTo>
                      <a:pt x="0" y="2"/>
                    </a:lnTo>
                    <a:lnTo>
                      <a:pt x="0" y="40"/>
                    </a:lnTo>
                    <a:lnTo>
                      <a:pt x="70" y="37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18760" y="271728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4" y="0"/>
                    </a:moveTo>
                    <a:lnTo>
                      <a:pt x="0" y="1"/>
                    </a:lnTo>
                    <a:lnTo>
                      <a:pt x="0" y="28"/>
                    </a:lnTo>
                    <a:lnTo>
                      <a:pt x="44" y="26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24880" y="2722680"/>
                <a:ext cx="5400" cy="234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025240" y="2740680"/>
                <a:ext cx="5400" cy="234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4727880" y="2947680"/>
              <a:ext cx="268560" cy="124560"/>
              <a:chOff x="4727880" y="2947680"/>
              <a:chExt cx="268560" cy="124560"/>
            </a:xfrm>
          </p:grpSpPr>
          <p:sp>
            <p:nvSpPr>
              <p:cNvPr id="489" name=""/>
              <p:cNvSpPr/>
              <p:nvPr/>
            </p:nvSpPr>
            <p:spPr>
              <a:xfrm>
                <a:off x="4987080" y="2947680"/>
                <a:ext cx="9360" cy="45720"/>
              </a:xfrm>
              <a:custGeom>
                <a:avLst/>
                <a:gdLst/>
                <a:ahLst/>
                <a:rect l="l" t="t" r="r" b="b"/>
                <a:pathLst>
                  <a:path w="27" h="33">
                    <a:moveTo>
                      <a:pt x="26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26" y="3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960440" y="2954520"/>
                <a:ext cx="9360" cy="45720"/>
              </a:xfrm>
              <a:custGeom>
                <a:avLst/>
                <a:gdLst/>
                <a:ahLst/>
                <a:rect l="l" t="t" r="r" b="b"/>
                <a:pathLst>
                  <a:path w="27" h="33">
                    <a:moveTo>
                      <a:pt x="26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26" y="3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922280" y="2967120"/>
                <a:ext cx="9360" cy="4716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26" y="0"/>
                    </a:moveTo>
                    <a:lnTo>
                      <a:pt x="0" y="0"/>
                    </a:lnTo>
                    <a:lnTo>
                      <a:pt x="0" y="33"/>
                    </a:lnTo>
                    <a:lnTo>
                      <a:pt x="26" y="3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900320" y="2971080"/>
                <a:ext cx="9360" cy="45720"/>
              </a:xfrm>
              <a:custGeom>
                <a:avLst/>
                <a:gdLst/>
                <a:ahLst/>
                <a:rect l="l" t="t" r="r" b="b"/>
                <a:pathLst>
                  <a:path w="27" h="33">
                    <a:moveTo>
                      <a:pt x="26" y="0"/>
                    </a:moveTo>
                    <a:lnTo>
                      <a:pt x="0" y="1"/>
                    </a:lnTo>
                    <a:lnTo>
                      <a:pt x="0" y="32"/>
                    </a:lnTo>
                    <a:lnTo>
                      <a:pt x="26" y="3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877280" y="2977920"/>
                <a:ext cx="9360" cy="50040"/>
              </a:xfrm>
              <a:custGeom>
                <a:avLst/>
                <a:gdLst/>
                <a:ahLst/>
                <a:rect l="l" t="t" r="r" b="b"/>
                <a:pathLst>
                  <a:path w="27" h="36">
                    <a:moveTo>
                      <a:pt x="26" y="0"/>
                    </a:moveTo>
                    <a:lnTo>
                      <a:pt x="0" y="1"/>
                    </a:lnTo>
                    <a:lnTo>
                      <a:pt x="0" y="35"/>
                    </a:lnTo>
                    <a:lnTo>
                      <a:pt x="26" y="32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853520" y="2989440"/>
                <a:ext cx="9360" cy="45360"/>
              </a:xfrm>
              <a:custGeom>
                <a:avLst/>
                <a:gdLst/>
                <a:ahLst/>
                <a:rect l="l" t="t" r="r" b="b"/>
                <a:pathLst>
                  <a:path w="27" h="33">
                    <a:moveTo>
                      <a:pt x="26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26" y="29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830120" y="2993400"/>
                <a:ext cx="9360" cy="50040"/>
              </a:xfrm>
              <a:custGeom>
                <a:avLst/>
                <a:gdLst/>
                <a:ahLst/>
                <a:rect l="l" t="t" r="r" b="b"/>
                <a:pathLst>
                  <a:path w="27" h="36">
                    <a:moveTo>
                      <a:pt x="26" y="0"/>
                    </a:moveTo>
                    <a:lnTo>
                      <a:pt x="0" y="1"/>
                    </a:lnTo>
                    <a:lnTo>
                      <a:pt x="0" y="35"/>
                    </a:lnTo>
                    <a:lnTo>
                      <a:pt x="26" y="32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804200" y="3001680"/>
                <a:ext cx="9360" cy="48600"/>
              </a:xfrm>
              <a:custGeom>
                <a:avLst/>
                <a:gdLst/>
                <a:ahLst/>
                <a:rect l="l" t="t" r="r" b="b"/>
                <a:pathLst>
                  <a:path w="27" h="35">
                    <a:moveTo>
                      <a:pt x="26" y="0"/>
                    </a:moveTo>
                    <a:lnTo>
                      <a:pt x="0" y="0"/>
                    </a:lnTo>
                    <a:lnTo>
                      <a:pt x="0" y="34"/>
                    </a:lnTo>
                    <a:lnTo>
                      <a:pt x="26" y="31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778640" y="3011400"/>
                <a:ext cx="9360" cy="45720"/>
              </a:xfrm>
              <a:custGeom>
                <a:avLst/>
                <a:gdLst/>
                <a:ahLst/>
                <a:rect l="l" t="t" r="r" b="b"/>
                <a:pathLst>
                  <a:path w="27" h="33">
                    <a:moveTo>
                      <a:pt x="26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26" y="29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753800" y="3015360"/>
                <a:ext cx="9360" cy="4716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26" y="0"/>
                    </a:moveTo>
                    <a:lnTo>
                      <a:pt x="0" y="0"/>
                    </a:lnTo>
                    <a:lnTo>
                      <a:pt x="0" y="33"/>
                    </a:lnTo>
                    <a:lnTo>
                      <a:pt x="26" y="31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727880" y="3026880"/>
                <a:ext cx="9360" cy="45360"/>
              </a:xfrm>
              <a:custGeom>
                <a:avLst/>
                <a:gdLst/>
                <a:ahLst/>
                <a:rect l="l" t="t" r="r" b="b"/>
                <a:pathLst>
                  <a:path w="27" h="33">
                    <a:moveTo>
                      <a:pt x="26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26" y="3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4732560" y="2999160"/>
              <a:ext cx="298800" cy="190800"/>
              <a:chOff x="4732560" y="2999160"/>
              <a:chExt cx="298800" cy="190800"/>
            </a:xfrm>
          </p:grpSpPr>
          <p:sp>
            <p:nvSpPr>
              <p:cNvPr id="501" name=""/>
              <p:cNvSpPr/>
              <p:nvPr/>
            </p:nvSpPr>
            <p:spPr>
              <a:xfrm>
                <a:off x="4735440" y="3022560"/>
                <a:ext cx="292680" cy="141120"/>
              </a:xfrm>
              <a:custGeom>
                <a:avLst/>
                <a:gdLst/>
                <a:ahLst/>
                <a:rect l="l" t="t" r="r" b="b"/>
                <a:pathLst>
                  <a:path w="825" h="102">
                    <a:moveTo>
                      <a:pt x="0" y="61"/>
                    </a:moveTo>
                    <a:lnTo>
                      <a:pt x="0" y="101"/>
                    </a:lnTo>
                    <a:lnTo>
                      <a:pt x="824" y="33"/>
                    </a:lnTo>
                    <a:lnTo>
                      <a:pt x="824" y="0"/>
                    </a:lnTo>
                    <a:lnTo>
                      <a:pt x="0" y="61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746600" y="3083400"/>
                <a:ext cx="5760" cy="993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755960" y="3083400"/>
                <a:ext cx="5760" cy="993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766400" y="3080880"/>
                <a:ext cx="5400" cy="9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777920" y="3073680"/>
                <a:ext cx="5400" cy="102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787640" y="3079080"/>
                <a:ext cx="5760" cy="9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799880" y="3068280"/>
                <a:ext cx="5760" cy="1011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810320" y="3065400"/>
                <a:ext cx="5760" cy="9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821840" y="3061080"/>
                <a:ext cx="5400" cy="1011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832640" y="3061080"/>
                <a:ext cx="540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843080" y="3050280"/>
                <a:ext cx="5760" cy="993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854600" y="3055680"/>
                <a:ext cx="576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863960" y="3050280"/>
                <a:ext cx="5760" cy="9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874400" y="3048840"/>
                <a:ext cx="5760" cy="9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885560" y="3044520"/>
                <a:ext cx="5400" cy="9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896000" y="3046320"/>
                <a:ext cx="5400" cy="993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906800" y="3036240"/>
                <a:ext cx="5400" cy="102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917960" y="3036240"/>
                <a:ext cx="5760" cy="102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928760" y="3029400"/>
                <a:ext cx="5760" cy="1011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938480" y="3029400"/>
                <a:ext cx="5760" cy="1011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947840" y="3027960"/>
                <a:ext cx="576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58280" y="3022560"/>
                <a:ext cx="5760" cy="9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969800" y="3021120"/>
                <a:ext cx="5400" cy="9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79160" y="3024000"/>
                <a:ext cx="5400" cy="993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988520" y="3015360"/>
                <a:ext cx="540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997880" y="3012840"/>
                <a:ext cx="5400" cy="9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008320" y="3001320"/>
                <a:ext cx="540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016240" y="3006000"/>
                <a:ext cx="5400" cy="9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25960" y="2999160"/>
                <a:ext cx="5400" cy="993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732560" y="3090600"/>
                <a:ext cx="8280" cy="993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>
              <a:off x="4734360" y="3105720"/>
              <a:ext cx="11520" cy="6372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4" y="0"/>
                  </a:moveTo>
                  <a:lnTo>
                    <a:pt x="32" y="6"/>
                  </a:lnTo>
                  <a:lnTo>
                    <a:pt x="32" y="45"/>
                  </a:lnTo>
                  <a:lnTo>
                    <a:pt x="0" y="38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4723920" y="2395440"/>
              <a:ext cx="7560" cy="23400"/>
              <a:chOff x="4723920" y="2395440"/>
              <a:chExt cx="7560" cy="23400"/>
            </a:xfrm>
          </p:grpSpPr>
          <p:sp>
            <p:nvSpPr>
              <p:cNvPr id="533" name=""/>
              <p:cNvSpPr/>
              <p:nvPr/>
            </p:nvSpPr>
            <p:spPr>
              <a:xfrm>
                <a:off x="4724280" y="2397960"/>
                <a:ext cx="2880" cy="12240"/>
              </a:xfrm>
              <a:prstGeom prst="ellipse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726080" y="2397960"/>
                <a:ext cx="2880" cy="12240"/>
              </a:xfrm>
              <a:prstGeom prst="rect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728600" y="2397960"/>
                <a:ext cx="2880" cy="1224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723920" y="2395440"/>
                <a:ext cx="5760" cy="2340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4750560" y="2392920"/>
              <a:ext cx="7560" cy="23040"/>
              <a:chOff x="4750560" y="2392920"/>
              <a:chExt cx="7560" cy="23040"/>
            </a:xfrm>
          </p:grpSpPr>
          <p:sp>
            <p:nvSpPr>
              <p:cNvPr id="538" name=""/>
              <p:cNvSpPr/>
              <p:nvPr/>
            </p:nvSpPr>
            <p:spPr>
              <a:xfrm>
                <a:off x="4750560" y="2395080"/>
                <a:ext cx="2520" cy="12240"/>
              </a:xfrm>
              <a:prstGeom prst="ellipse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752720" y="2395080"/>
                <a:ext cx="2880" cy="12240"/>
              </a:xfrm>
              <a:prstGeom prst="rect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755240" y="2395080"/>
                <a:ext cx="2880" cy="1224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750560" y="2392920"/>
                <a:ext cx="5760" cy="230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4776840" y="2390040"/>
              <a:ext cx="7560" cy="23400"/>
              <a:chOff x="4776840" y="2390040"/>
              <a:chExt cx="7560" cy="23400"/>
            </a:xfrm>
          </p:grpSpPr>
          <p:sp>
            <p:nvSpPr>
              <p:cNvPr id="543" name=""/>
              <p:cNvSpPr/>
              <p:nvPr/>
            </p:nvSpPr>
            <p:spPr>
              <a:xfrm>
                <a:off x="4777200" y="2395080"/>
                <a:ext cx="2520" cy="12240"/>
              </a:xfrm>
              <a:prstGeom prst="ellipse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779000" y="2395080"/>
                <a:ext cx="2520" cy="12240"/>
              </a:xfrm>
              <a:prstGeom prst="rect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781520" y="2395080"/>
                <a:ext cx="2880" cy="1224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776840" y="2390040"/>
                <a:ext cx="5400" cy="2340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4801320" y="2388240"/>
              <a:ext cx="7920" cy="23400"/>
              <a:chOff x="4801320" y="2388240"/>
              <a:chExt cx="7920" cy="23400"/>
            </a:xfrm>
          </p:grpSpPr>
          <p:sp>
            <p:nvSpPr>
              <p:cNvPr id="548" name=""/>
              <p:cNvSpPr/>
              <p:nvPr/>
            </p:nvSpPr>
            <p:spPr>
              <a:xfrm>
                <a:off x="4801320" y="2392560"/>
                <a:ext cx="3240" cy="11880"/>
              </a:xfrm>
              <a:prstGeom prst="ellipse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803840" y="2392560"/>
                <a:ext cx="2520" cy="11880"/>
              </a:xfrm>
              <a:prstGeom prst="rect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806720" y="2392560"/>
                <a:ext cx="2520" cy="1188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801320" y="2388240"/>
                <a:ext cx="5760" cy="2340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4826880" y="2385720"/>
              <a:ext cx="7200" cy="23400"/>
              <a:chOff x="4826880" y="2385720"/>
              <a:chExt cx="7200" cy="23400"/>
            </a:xfrm>
          </p:grpSpPr>
          <p:sp>
            <p:nvSpPr>
              <p:cNvPr id="553" name=""/>
              <p:cNvSpPr/>
              <p:nvPr/>
            </p:nvSpPr>
            <p:spPr>
              <a:xfrm>
                <a:off x="4826880" y="2387160"/>
                <a:ext cx="2880" cy="13680"/>
              </a:xfrm>
              <a:prstGeom prst="ellipse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829040" y="2387160"/>
                <a:ext cx="2880" cy="13680"/>
              </a:xfrm>
              <a:prstGeom prst="rect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831560" y="2387160"/>
                <a:ext cx="2520" cy="1368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826880" y="2385720"/>
                <a:ext cx="5760" cy="2340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4851360" y="2381400"/>
              <a:ext cx="7560" cy="24840"/>
              <a:chOff x="4851360" y="2381400"/>
              <a:chExt cx="7560" cy="24840"/>
            </a:xfrm>
          </p:grpSpPr>
          <p:sp>
            <p:nvSpPr>
              <p:cNvPr id="558" name=""/>
              <p:cNvSpPr/>
              <p:nvPr/>
            </p:nvSpPr>
            <p:spPr>
              <a:xfrm>
                <a:off x="4851360" y="2385360"/>
                <a:ext cx="2880" cy="13680"/>
              </a:xfrm>
              <a:prstGeom prst="ellipse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852800" y="2385360"/>
                <a:ext cx="3240" cy="13680"/>
              </a:xfrm>
              <a:prstGeom prst="rect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856040" y="2385360"/>
                <a:ext cx="2880" cy="1368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851360" y="2381400"/>
                <a:ext cx="5400" cy="24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4875120" y="2380320"/>
              <a:ext cx="8280" cy="24840"/>
              <a:chOff x="4875120" y="2380320"/>
              <a:chExt cx="8280" cy="24840"/>
            </a:xfrm>
          </p:grpSpPr>
          <p:sp>
            <p:nvSpPr>
              <p:cNvPr id="563" name=""/>
              <p:cNvSpPr/>
              <p:nvPr/>
            </p:nvSpPr>
            <p:spPr>
              <a:xfrm>
                <a:off x="4875120" y="2384280"/>
                <a:ext cx="2880" cy="12600"/>
              </a:xfrm>
              <a:prstGeom prst="ellipse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877640" y="2384280"/>
                <a:ext cx="2520" cy="12600"/>
              </a:xfrm>
              <a:prstGeom prst="rect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880520" y="2384280"/>
                <a:ext cx="2880" cy="1260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875120" y="2380320"/>
                <a:ext cx="5760" cy="24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4897080" y="2378520"/>
              <a:ext cx="7920" cy="23400"/>
              <a:chOff x="4897080" y="2378520"/>
              <a:chExt cx="7920" cy="23400"/>
            </a:xfrm>
          </p:grpSpPr>
          <p:sp>
            <p:nvSpPr>
              <p:cNvPr id="568" name=""/>
              <p:cNvSpPr/>
              <p:nvPr/>
            </p:nvSpPr>
            <p:spPr>
              <a:xfrm>
                <a:off x="4897440" y="2382840"/>
                <a:ext cx="2520" cy="11880"/>
              </a:xfrm>
              <a:prstGeom prst="ellipse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899240" y="2382840"/>
                <a:ext cx="2880" cy="11880"/>
              </a:xfrm>
              <a:prstGeom prst="rect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902120" y="2382840"/>
                <a:ext cx="2880" cy="1188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897080" y="2378520"/>
                <a:ext cx="5400" cy="2340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4919400" y="2377440"/>
              <a:ext cx="7560" cy="23400"/>
              <a:chOff x="4919400" y="2377440"/>
              <a:chExt cx="7560" cy="23400"/>
            </a:xfrm>
          </p:grpSpPr>
          <p:sp>
            <p:nvSpPr>
              <p:cNvPr id="573" name=""/>
              <p:cNvSpPr/>
              <p:nvPr/>
            </p:nvSpPr>
            <p:spPr>
              <a:xfrm>
                <a:off x="4919400" y="2379960"/>
                <a:ext cx="3240" cy="12240"/>
              </a:xfrm>
              <a:prstGeom prst="ellipse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921200" y="2379960"/>
                <a:ext cx="3240" cy="12240"/>
              </a:xfrm>
              <a:prstGeom prst="rect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924440" y="2379960"/>
                <a:ext cx="2520" cy="1224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919400" y="2377440"/>
                <a:ext cx="5760" cy="2340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4957560" y="2373480"/>
              <a:ext cx="7560" cy="23400"/>
              <a:chOff x="4957560" y="2373480"/>
              <a:chExt cx="7560" cy="23400"/>
            </a:xfrm>
          </p:grpSpPr>
          <p:sp>
            <p:nvSpPr>
              <p:cNvPr id="578" name=""/>
              <p:cNvSpPr/>
              <p:nvPr/>
            </p:nvSpPr>
            <p:spPr>
              <a:xfrm>
                <a:off x="4957560" y="2377440"/>
                <a:ext cx="3240" cy="12240"/>
              </a:xfrm>
              <a:prstGeom prst="ellipse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959360" y="2377440"/>
                <a:ext cx="3240" cy="12240"/>
              </a:xfrm>
              <a:prstGeom prst="rect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962600" y="2377440"/>
                <a:ext cx="2520" cy="1224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957560" y="2373480"/>
                <a:ext cx="5760" cy="2340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4983480" y="2370600"/>
              <a:ext cx="7560" cy="23400"/>
              <a:chOff x="4983480" y="2370600"/>
              <a:chExt cx="7560" cy="23400"/>
            </a:xfrm>
          </p:grpSpPr>
          <p:sp>
            <p:nvSpPr>
              <p:cNvPr id="583" name=""/>
              <p:cNvSpPr/>
              <p:nvPr/>
            </p:nvSpPr>
            <p:spPr>
              <a:xfrm>
                <a:off x="4983480" y="2373120"/>
                <a:ext cx="3240" cy="11880"/>
              </a:xfrm>
              <a:prstGeom prst="ellipse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986000" y="2373120"/>
                <a:ext cx="3240" cy="11880"/>
              </a:xfrm>
              <a:prstGeom prst="rect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988520" y="2373120"/>
                <a:ext cx="2520" cy="1188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983480" y="2370600"/>
                <a:ext cx="5760" cy="2340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5008680" y="2370600"/>
              <a:ext cx="7560" cy="23400"/>
              <a:chOff x="5008680" y="2370600"/>
              <a:chExt cx="7560" cy="23400"/>
            </a:xfrm>
          </p:grpSpPr>
          <p:sp>
            <p:nvSpPr>
              <p:cNvPr id="588" name=""/>
              <p:cNvSpPr/>
              <p:nvPr/>
            </p:nvSpPr>
            <p:spPr>
              <a:xfrm>
                <a:off x="5008680" y="2373120"/>
                <a:ext cx="2520" cy="11880"/>
              </a:xfrm>
              <a:prstGeom prst="ellipse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010120" y="2373120"/>
                <a:ext cx="3240" cy="11880"/>
              </a:xfrm>
              <a:prstGeom prst="rect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013360" y="2373120"/>
                <a:ext cx="2880" cy="1188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008680" y="2370600"/>
                <a:ext cx="5400" cy="2340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5033880" y="2367720"/>
              <a:ext cx="7920" cy="23400"/>
              <a:chOff x="5033880" y="2367720"/>
              <a:chExt cx="7920" cy="23400"/>
            </a:xfrm>
          </p:grpSpPr>
          <p:sp>
            <p:nvSpPr>
              <p:cNvPr id="593" name=""/>
              <p:cNvSpPr/>
              <p:nvPr/>
            </p:nvSpPr>
            <p:spPr>
              <a:xfrm>
                <a:off x="5033880" y="2370240"/>
                <a:ext cx="2880" cy="13680"/>
              </a:xfrm>
              <a:prstGeom prst="ellipse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036040" y="2370240"/>
                <a:ext cx="2520" cy="13680"/>
              </a:xfrm>
              <a:prstGeom prst="rect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038920" y="2370240"/>
                <a:ext cx="2880" cy="1368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034600" y="2367720"/>
                <a:ext cx="5400" cy="2340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7" name=""/>
            <p:cNvSpPr/>
            <p:nvPr/>
          </p:nvSpPr>
          <p:spPr>
            <a:xfrm>
              <a:off x="4939560" y="2359440"/>
              <a:ext cx="12960" cy="3744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0" y="26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24"/>
                  </a:lnTo>
                  <a:lnTo>
                    <a:pt x="0" y="26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4722120" y="3060360"/>
              <a:ext cx="7920" cy="23400"/>
              <a:chOff x="4722120" y="3060360"/>
              <a:chExt cx="7920" cy="23400"/>
            </a:xfrm>
          </p:grpSpPr>
          <p:sp>
            <p:nvSpPr>
              <p:cNvPr id="599" name=""/>
              <p:cNvSpPr/>
              <p:nvPr/>
            </p:nvSpPr>
            <p:spPr>
              <a:xfrm>
                <a:off x="4722480" y="3062520"/>
                <a:ext cx="2520" cy="14040"/>
              </a:xfrm>
              <a:prstGeom prst="ellipse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724280" y="3062520"/>
                <a:ext cx="3240" cy="14040"/>
              </a:xfrm>
              <a:prstGeom prst="rect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727160" y="3062520"/>
                <a:ext cx="2880" cy="1404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722120" y="3060360"/>
                <a:ext cx="5400" cy="2340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4745880" y="3051720"/>
              <a:ext cx="7560" cy="23400"/>
              <a:chOff x="4745880" y="3051720"/>
              <a:chExt cx="7560" cy="23400"/>
            </a:xfrm>
          </p:grpSpPr>
          <p:sp>
            <p:nvSpPr>
              <p:cNvPr id="604" name=""/>
              <p:cNvSpPr/>
              <p:nvPr/>
            </p:nvSpPr>
            <p:spPr>
              <a:xfrm>
                <a:off x="4745880" y="3055680"/>
                <a:ext cx="2880" cy="12240"/>
              </a:xfrm>
              <a:prstGeom prst="ellipse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47680" y="3055680"/>
                <a:ext cx="3240" cy="12240"/>
              </a:xfrm>
              <a:prstGeom prst="rect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50920" y="3055680"/>
                <a:ext cx="2520" cy="1224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745880" y="3051720"/>
                <a:ext cx="5760" cy="2340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4773240" y="3044880"/>
              <a:ext cx="7920" cy="23400"/>
              <a:chOff x="4773240" y="3044880"/>
              <a:chExt cx="7920" cy="23400"/>
            </a:xfrm>
          </p:grpSpPr>
          <p:sp>
            <p:nvSpPr>
              <p:cNvPr id="609" name=""/>
              <p:cNvSpPr/>
              <p:nvPr/>
            </p:nvSpPr>
            <p:spPr>
              <a:xfrm>
                <a:off x="4773960" y="3050280"/>
                <a:ext cx="2880" cy="11880"/>
              </a:xfrm>
              <a:prstGeom prst="ellipse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775400" y="3050280"/>
                <a:ext cx="2880" cy="11880"/>
              </a:xfrm>
              <a:prstGeom prst="rect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778640" y="3050280"/>
                <a:ext cx="2520" cy="1188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773240" y="3044880"/>
                <a:ext cx="5760" cy="2340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4797360" y="3036600"/>
              <a:ext cx="7560" cy="24840"/>
              <a:chOff x="4797360" y="3036600"/>
              <a:chExt cx="7560" cy="24840"/>
            </a:xfrm>
          </p:grpSpPr>
          <p:sp>
            <p:nvSpPr>
              <p:cNvPr id="614" name=""/>
              <p:cNvSpPr/>
              <p:nvPr/>
            </p:nvSpPr>
            <p:spPr>
              <a:xfrm>
                <a:off x="4797360" y="3040560"/>
                <a:ext cx="2880" cy="13680"/>
              </a:xfrm>
              <a:prstGeom prst="ellipse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799880" y="3040560"/>
                <a:ext cx="3240" cy="13680"/>
              </a:xfrm>
              <a:prstGeom prst="rect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802040" y="3040560"/>
                <a:ext cx="2880" cy="1368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797360" y="3036600"/>
                <a:ext cx="5760" cy="24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4822200" y="3030840"/>
              <a:ext cx="7920" cy="23400"/>
              <a:chOff x="4822200" y="3030840"/>
              <a:chExt cx="7920" cy="23400"/>
            </a:xfrm>
          </p:grpSpPr>
          <p:sp>
            <p:nvSpPr>
              <p:cNvPr id="619" name=""/>
              <p:cNvSpPr/>
              <p:nvPr/>
            </p:nvSpPr>
            <p:spPr>
              <a:xfrm>
                <a:off x="4822200" y="3034800"/>
                <a:ext cx="2520" cy="12240"/>
              </a:xfrm>
              <a:prstGeom prst="ellipse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824720" y="3034800"/>
                <a:ext cx="2880" cy="12240"/>
              </a:xfrm>
              <a:prstGeom prst="rect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827240" y="3034800"/>
                <a:ext cx="2880" cy="1224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822200" y="3030840"/>
                <a:ext cx="5400" cy="2340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4847400" y="3024000"/>
              <a:ext cx="8280" cy="23400"/>
              <a:chOff x="4847400" y="3024000"/>
              <a:chExt cx="8280" cy="23400"/>
            </a:xfrm>
          </p:grpSpPr>
          <p:sp>
            <p:nvSpPr>
              <p:cNvPr id="624" name=""/>
              <p:cNvSpPr/>
              <p:nvPr/>
            </p:nvSpPr>
            <p:spPr>
              <a:xfrm>
                <a:off x="4847400" y="3027960"/>
                <a:ext cx="2880" cy="12240"/>
              </a:xfrm>
              <a:prstGeom prst="ellipse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849920" y="3027960"/>
                <a:ext cx="2520" cy="12240"/>
              </a:xfrm>
              <a:prstGeom prst="rect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852800" y="3027960"/>
                <a:ext cx="2880" cy="1224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847400" y="3024000"/>
                <a:ext cx="5760" cy="2340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872240" y="3015360"/>
              <a:ext cx="7560" cy="24840"/>
              <a:chOff x="4872240" y="3015360"/>
              <a:chExt cx="7560" cy="24840"/>
            </a:xfrm>
          </p:grpSpPr>
          <p:sp>
            <p:nvSpPr>
              <p:cNvPr id="629" name=""/>
              <p:cNvSpPr/>
              <p:nvPr/>
            </p:nvSpPr>
            <p:spPr>
              <a:xfrm>
                <a:off x="4872600" y="3019680"/>
                <a:ext cx="2880" cy="11880"/>
              </a:xfrm>
              <a:prstGeom prst="ellipse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874400" y="3019680"/>
                <a:ext cx="2880" cy="11880"/>
              </a:xfrm>
              <a:prstGeom prst="rect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76920" y="3019680"/>
                <a:ext cx="2880" cy="1188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872240" y="3015360"/>
                <a:ext cx="5760" cy="24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4895640" y="3008520"/>
              <a:ext cx="8280" cy="23400"/>
              <a:chOff x="4895640" y="3008520"/>
              <a:chExt cx="8280" cy="23400"/>
            </a:xfrm>
          </p:grpSpPr>
          <p:sp>
            <p:nvSpPr>
              <p:cNvPr id="634" name=""/>
              <p:cNvSpPr/>
              <p:nvPr/>
            </p:nvSpPr>
            <p:spPr>
              <a:xfrm>
                <a:off x="4895640" y="3013920"/>
                <a:ext cx="2880" cy="12240"/>
              </a:xfrm>
              <a:prstGeom prst="ellipse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897440" y="3013920"/>
                <a:ext cx="2880" cy="12240"/>
              </a:xfrm>
              <a:prstGeom prst="rect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901040" y="3013920"/>
                <a:ext cx="2880" cy="1224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895640" y="3008520"/>
                <a:ext cx="5400" cy="2340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4918320" y="3001680"/>
              <a:ext cx="7200" cy="23400"/>
              <a:chOff x="4918320" y="3001680"/>
              <a:chExt cx="7200" cy="23400"/>
            </a:xfrm>
          </p:grpSpPr>
          <p:sp>
            <p:nvSpPr>
              <p:cNvPr id="639" name=""/>
              <p:cNvSpPr/>
              <p:nvPr/>
            </p:nvSpPr>
            <p:spPr>
              <a:xfrm>
                <a:off x="4918320" y="3004200"/>
                <a:ext cx="2880" cy="13680"/>
              </a:xfrm>
              <a:prstGeom prst="ellipse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920120" y="3004200"/>
                <a:ext cx="3240" cy="13680"/>
              </a:xfrm>
              <a:prstGeom prst="rect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922640" y="3004200"/>
                <a:ext cx="2880" cy="1368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918320" y="3001680"/>
                <a:ext cx="5760" cy="2340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4956480" y="2992320"/>
              <a:ext cx="7920" cy="23040"/>
              <a:chOff x="4956480" y="2992320"/>
              <a:chExt cx="7920" cy="23040"/>
            </a:xfrm>
          </p:grpSpPr>
          <p:sp>
            <p:nvSpPr>
              <p:cNvPr id="644" name=""/>
              <p:cNvSpPr/>
              <p:nvPr/>
            </p:nvSpPr>
            <p:spPr>
              <a:xfrm>
                <a:off x="4956480" y="2996280"/>
                <a:ext cx="3240" cy="11880"/>
              </a:xfrm>
              <a:prstGeom prst="ellipse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958280" y="2996280"/>
                <a:ext cx="3240" cy="11880"/>
              </a:xfrm>
              <a:prstGeom prst="rect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961880" y="2996280"/>
                <a:ext cx="2520" cy="1188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56480" y="2992320"/>
                <a:ext cx="5760" cy="230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4977360" y="2985120"/>
              <a:ext cx="7920" cy="23400"/>
              <a:chOff x="4977360" y="2985120"/>
              <a:chExt cx="7920" cy="23400"/>
            </a:xfrm>
          </p:grpSpPr>
          <p:sp>
            <p:nvSpPr>
              <p:cNvPr id="649" name=""/>
              <p:cNvSpPr/>
              <p:nvPr/>
            </p:nvSpPr>
            <p:spPr>
              <a:xfrm>
                <a:off x="4977360" y="2989440"/>
                <a:ext cx="2880" cy="11880"/>
              </a:xfrm>
              <a:prstGeom prst="ellipse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979520" y="2989440"/>
                <a:ext cx="2520" cy="11880"/>
              </a:xfrm>
              <a:prstGeom prst="rect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982400" y="2989440"/>
                <a:ext cx="2880" cy="1188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978080" y="2985120"/>
                <a:ext cx="5400" cy="2340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5007960" y="2975400"/>
              <a:ext cx="7920" cy="23400"/>
              <a:chOff x="5007960" y="2975400"/>
              <a:chExt cx="7920" cy="23400"/>
            </a:xfrm>
          </p:grpSpPr>
          <p:sp>
            <p:nvSpPr>
              <p:cNvPr id="654" name=""/>
              <p:cNvSpPr/>
              <p:nvPr/>
            </p:nvSpPr>
            <p:spPr>
              <a:xfrm>
                <a:off x="5007960" y="2979360"/>
                <a:ext cx="2880" cy="12240"/>
              </a:xfrm>
              <a:prstGeom prst="ellipse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010120" y="2979360"/>
                <a:ext cx="2880" cy="12240"/>
              </a:xfrm>
              <a:prstGeom prst="rect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013000" y="2979360"/>
                <a:ext cx="2880" cy="1224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007960" y="2975400"/>
                <a:ext cx="5400" cy="2340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5034600" y="2968560"/>
              <a:ext cx="7560" cy="23400"/>
              <a:chOff x="5034600" y="2968560"/>
              <a:chExt cx="7560" cy="23400"/>
            </a:xfrm>
          </p:grpSpPr>
          <p:sp>
            <p:nvSpPr>
              <p:cNvPr id="659" name=""/>
              <p:cNvSpPr/>
              <p:nvPr/>
            </p:nvSpPr>
            <p:spPr>
              <a:xfrm>
                <a:off x="5034600" y="2972520"/>
                <a:ext cx="2520" cy="11880"/>
              </a:xfrm>
              <a:prstGeom prst="ellipse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036040" y="2972520"/>
                <a:ext cx="2880" cy="11880"/>
              </a:xfrm>
              <a:prstGeom prst="rect">
                <a:avLst/>
              </a:prstGeom>
              <a:solidFill>
                <a:srgbClr val="e0e0e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039280" y="2972520"/>
                <a:ext cx="2880" cy="1188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034600" y="2968560"/>
                <a:ext cx="5400" cy="2340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63" name="alcatel" descr=""/>
          <p:cNvPicPr/>
          <p:nvPr/>
        </p:nvPicPr>
        <p:blipFill>
          <a:blip r:embed="rId3"/>
          <a:stretch/>
        </p:blipFill>
        <p:spPr>
          <a:xfrm>
            <a:off x="1030320" y="2000160"/>
            <a:ext cx="1366920" cy="193536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5165640" y="225432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W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994360" y="447984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05ef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865080" y="4119480"/>
          <a:ext cx="1440000" cy="2060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65080" y="4119480"/>
                    <a:ext cx="1440000" cy="20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8" name=""/>
          <p:cNvSpPr/>
          <p:nvPr/>
        </p:nvSpPr>
        <p:spPr>
          <a:xfrm>
            <a:off x="2459160" y="4735440"/>
            <a:ext cx="14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d01"/>
                </a:solidFill>
                <a:latin typeface="Times New Roman"/>
              </a:rPr>
              <a:t>UM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314440" y="5342040"/>
            <a:ext cx="172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105ef"/>
                </a:solidFill>
                <a:latin typeface="Times New Roman"/>
              </a:rPr>
              <a:t>UMTS term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375080" y="466416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05ef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795920" y="5665680"/>
            <a:ext cx="172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105ef"/>
                </a:solidFill>
                <a:latin typeface="Times New Roman"/>
              </a:rPr>
              <a:t>Any mediation for UMT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257800" y="3156120"/>
            <a:ext cx="122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SMS service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435400" y="3429000"/>
            <a:ext cx="2838240" cy="0"/>
          </a:xfrm>
          <a:prstGeom prst="line">
            <a:avLst/>
          </a:prstGeom>
          <a:ln w="5724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47760" y="3449520"/>
            <a:ext cx="212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05ef"/>
                </a:solidFill>
                <a:latin typeface="Times New Roman"/>
              </a:rPr>
              <a:t>SIM </a:t>
            </a:r>
            <a:r>
              <a:rPr b="1" i="1" lang="en-US" sz="1800" spc="-1" strike="noStrike">
                <a:solidFill>
                  <a:srgbClr val="2105ef"/>
                </a:solidFill>
                <a:latin typeface="Times New Roman"/>
              </a:rPr>
              <a:t>toolkit </a:t>
            </a:r>
            <a:r>
              <a:rPr b="1" lang="en-US" sz="1800" spc="-1" strike="noStrike">
                <a:solidFill>
                  <a:srgbClr val="2105ef"/>
                </a:solidFill>
                <a:latin typeface="Times New Roman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6836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MPEG 4 video streaming:</a:t>
            </a: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 key enabler for UMTS video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6" name=""/>
          <p:cNvSpPr/>
          <p:nvPr/>
        </p:nvSpPr>
        <p:spPr>
          <a:xfrm>
            <a:off x="1250280" y="5420880"/>
            <a:ext cx="15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40 kbit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160x120 pix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10 frame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368480" y="3795480"/>
            <a:ext cx="15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300 kbit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320x240 pix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20 frame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938160" y="2035080"/>
            <a:ext cx="2239920" cy="307044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2"/>
          <a:stretch/>
        </p:blipFill>
        <p:spPr>
          <a:xfrm>
            <a:off x="4552920" y="2101680"/>
            <a:ext cx="256068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42880" y="190440"/>
            <a:ext cx="777240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pplications and content</a:t>
            </a:r>
            <a:br>
              <a:rPr sz="3600"/>
            </a:b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he double role of UM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1" name=""/>
          <p:cNvSpPr/>
          <p:nvPr/>
        </p:nvSpPr>
        <p:spPr>
          <a:xfrm>
            <a:off x="1009800" y="5619600"/>
            <a:ext cx="32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information-based application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946800" y="6073920"/>
            <a:ext cx="40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location and mobility-aware application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461960" y="1173240"/>
            <a:ext cx="6437520" cy="4271400"/>
            <a:chOff x="1461960" y="1173240"/>
            <a:chExt cx="6437520" cy="4271400"/>
          </a:xfrm>
        </p:grpSpPr>
        <p:sp>
          <p:nvSpPr>
            <p:cNvPr id="684" name=""/>
            <p:cNvSpPr/>
            <p:nvPr/>
          </p:nvSpPr>
          <p:spPr>
            <a:xfrm>
              <a:off x="3124080" y="1922400"/>
              <a:ext cx="4764240" cy="3522240"/>
            </a:xfrm>
            <a:prstGeom prst="rect">
              <a:avLst/>
            </a:prstGeom>
            <a:gradFill rotWithShape="0">
              <a:gsLst>
                <a:gs pos="0">
                  <a:srgbClr val="f2f1b8"/>
                </a:gs>
                <a:gs pos="100000">
                  <a:srgbClr val="e8e682"/>
                </a:gs>
              </a:gsLst>
              <a:lin ang="5400000"/>
            </a:gradFill>
            <a:ln w="1260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422440" y="25984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N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141720" y="3678120"/>
              <a:ext cx="47577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524560" y="1922400"/>
              <a:ext cx="0" cy="35157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835440" y="2050920"/>
              <a:ext cx="3421080" cy="560160"/>
            </a:xfrm>
            <a:prstGeom prst="roundRect">
              <a:avLst>
                <a:gd name="adj" fmla="val 16667"/>
              </a:avLst>
            </a:prstGeom>
            <a:solidFill>
              <a:srgbClr val="c3e5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tertain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678120" y="2531880"/>
              <a:ext cx="3702240" cy="649080"/>
            </a:xfrm>
            <a:prstGeom prst="roundRect">
              <a:avLst>
                <a:gd name="adj" fmla="val 16667"/>
              </a:avLst>
            </a:prstGeom>
            <a:solidFill>
              <a:srgbClr val="c3e5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ersonal 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754600" y="4041720"/>
              <a:ext cx="1874880" cy="1206000"/>
            </a:xfrm>
            <a:prstGeom prst="roundRect">
              <a:avLst>
                <a:gd name="adj" fmla="val 16667"/>
              </a:avLst>
            </a:prstGeom>
            <a:solidFill>
              <a:srgbClr val="c3e5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ert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848040" y="3090600"/>
              <a:ext cx="1941480" cy="1083960"/>
            </a:xfrm>
            <a:prstGeom prst="roundRect">
              <a:avLst>
                <a:gd name="adj" fmla="val 16667"/>
              </a:avLst>
            </a:prstGeom>
            <a:solidFill>
              <a:srgbClr val="c3e5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73200" y="4041720"/>
              <a:ext cx="1941840" cy="1228320"/>
            </a:xfrm>
            <a:prstGeom prst="roundRect">
              <a:avLst>
                <a:gd name="adj" fmla="val 16667"/>
              </a:avLst>
            </a:prstGeom>
            <a:solidFill>
              <a:srgbClr val="c3e5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and al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710320" y="3001680"/>
              <a:ext cx="1806480" cy="860040"/>
            </a:xfrm>
            <a:prstGeom prst="roundRect">
              <a:avLst>
                <a:gd name="adj" fmla="val 16667"/>
              </a:avLst>
            </a:prstGeom>
            <a:solidFill>
              <a:srgbClr val="c3e5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oc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071440" y="4430520"/>
              <a:ext cx="114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Exis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013280" y="1525320"/>
              <a:ext cx="12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Ac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170400" y="1490400"/>
              <a:ext cx="140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Enh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18606000">
              <a:off x="5087880" y="3964680"/>
              <a:ext cx="1017000" cy="293760"/>
            </a:xfrm>
            <a:prstGeom prst="rightArrow">
              <a:avLst>
                <a:gd name="adj1" fmla="val 50000"/>
                <a:gd name="adj2" fmla="val 86550"/>
              </a:avLst>
            </a:prstGeom>
            <a:solidFill>
              <a:srgbClr val="0099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461960" y="3470040"/>
              <a:ext cx="170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3300"/>
                  </a:solidFill>
                  <a:latin typeface="Arial"/>
                </a:rPr>
                <a:t>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17156400">
              <a:off x="3696120" y="3819960"/>
              <a:ext cx="747360" cy="247680"/>
            </a:xfrm>
            <a:prstGeom prst="rightArrow">
              <a:avLst>
                <a:gd name="adj1" fmla="val 50000"/>
                <a:gd name="adj2" fmla="val 75436"/>
              </a:avLst>
            </a:prstGeom>
            <a:solidFill>
              <a:srgbClr val="ff7453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808880" y="1173240"/>
              <a:ext cx="152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3300"/>
                  </a:solidFill>
                  <a:latin typeface="Arial"/>
                </a:rPr>
                <a:t>Mobile ro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593880" y="3843000"/>
              <a:ext cx="338400" cy="380880"/>
            </a:xfrm>
            <a:prstGeom prst="ellipse">
              <a:avLst/>
            </a:prstGeom>
            <a:solidFill>
              <a:srgbClr val="ff7453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626080" y="4192560"/>
              <a:ext cx="339480" cy="380520"/>
            </a:xfrm>
            <a:prstGeom prst="ellipse">
              <a:avLst/>
            </a:prstGeom>
            <a:solidFill>
              <a:srgbClr val="0099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603360" y="5591160"/>
            <a:ext cx="338040" cy="380880"/>
          </a:xfrm>
          <a:prstGeom prst="ellipse">
            <a:avLst/>
          </a:prstGeom>
          <a:solidFill>
            <a:srgbClr val="ff7453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90400" y="6056280"/>
            <a:ext cx="338400" cy="380880"/>
          </a:xfrm>
          <a:prstGeom prst="ellipse">
            <a:avLst/>
          </a:prstGeom>
          <a:solidFill>
            <a:srgbClr val="0099ff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9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P – Mobile convergence</a:t>
            </a:r>
            <a:br>
              <a:rPr sz="4000"/>
            </a:b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ccess and service extension for mobile operato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6" name=""/>
          <p:cNvSpPr/>
          <p:nvPr/>
        </p:nvSpPr>
        <p:spPr>
          <a:xfrm>
            <a:off x="5008680" y="3602160"/>
            <a:ext cx="0" cy="9874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5086440" y="4094280"/>
            <a:ext cx="1639800" cy="550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160880" y="3089160"/>
            <a:ext cx="1365120" cy="625680"/>
          </a:xfrm>
          <a:prstGeom prst="ellipse">
            <a:avLst/>
          </a:prstGeom>
          <a:solidFill>
            <a:srgbClr val="ff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corpo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024600" y="3664080"/>
            <a:ext cx="1334880" cy="653760"/>
          </a:xfrm>
          <a:prstGeom prst="ellipse">
            <a:avLst/>
          </a:prstGeom>
          <a:solidFill>
            <a:srgbClr val="ff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P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722600" y="5259240"/>
            <a:ext cx="163440" cy="279360"/>
            <a:chOff x="1722600" y="5259240"/>
            <a:chExt cx="163440" cy="279360"/>
          </a:xfrm>
        </p:grpSpPr>
        <p:sp>
          <p:nvSpPr>
            <p:cNvPr id="711" name=""/>
            <p:cNvSpPr/>
            <p:nvPr/>
          </p:nvSpPr>
          <p:spPr>
            <a:xfrm>
              <a:off x="1722600" y="5349240"/>
              <a:ext cx="163440" cy="189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745640" y="5387400"/>
              <a:ext cx="119520" cy="4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852920" y="5259240"/>
              <a:ext cx="32760" cy="90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1838160" y="5638680"/>
            <a:ext cx="163800" cy="280800"/>
            <a:chOff x="1838160" y="5638680"/>
            <a:chExt cx="163800" cy="280800"/>
          </a:xfrm>
        </p:grpSpPr>
        <p:sp>
          <p:nvSpPr>
            <p:cNvPr id="715" name=""/>
            <p:cNvSpPr/>
            <p:nvPr/>
          </p:nvSpPr>
          <p:spPr>
            <a:xfrm>
              <a:off x="1838160" y="5729040"/>
              <a:ext cx="163800" cy="190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861560" y="5767560"/>
              <a:ext cx="119520" cy="4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968840" y="5638680"/>
              <a:ext cx="32760" cy="90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2806200" y="5478120"/>
            <a:ext cx="238320" cy="474480"/>
            <a:chOff x="2806200" y="5478120"/>
            <a:chExt cx="238320" cy="474480"/>
          </a:xfrm>
        </p:grpSpPr>
        <p:sp>
          <p:nvSpPr>
            <p:cNvPr id="719" name=""/>
            <p:cNvSpPr/>
            <p:nvPr/>
          </p:nvSpPr>
          <p:spPr>
            <a:xfrm flipH="1">
              <a:off x="2806200" y="5562360"/>
              <a:ext cx="117720" cy="38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926800" y="5564880"/>
              <a:ext cx="117720" cy="38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2806560" y="5821560"/>
              <a:ext cx="19548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 flipV="1">
              <a:off x="2847240" y="5824080"/>
              <a:ext cx="19548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2806560" y="5711400"/>
              <a:ext cx="157680" cy="23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 flipV="1">
              <a:off x="2881080" y="5711400"/>
              <a:ext cx="158040" cy="23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2922840" y="5478120"/>
              <a:ext cx="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881440" y="5536080"/>
              <a:ext cx="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881440" y="5515200"/>
              <a:ext cx="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881440" y="5494320"/>
              <a:ext cx="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1180800" y="5753160"/>
            <a:ext cx="368280" cy="234360"/>
            <a:chOff x="1180800" y="5753160"/>
            <a:chExt cx="368280" cy="234360"/>
          </a:xfrm>
        </p:grpSpPr>
        <p:sp>
          <p:nvSpPr>
            <p:cNvPr id="730" name=""/>
            <p:cNvSpPr/>
            <p:nvPr/>
          </p:nvSpPr>
          <p:spPr>
            <a:xfrm>
              <a:off x="1181160" y="5753160"/>
              <a:ext cx="294480" cy="156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46080" bIns="4608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P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1180440" y="5909760"/>
              <a:ext cx="368280" cy="77760"/>
            </a:xfrm>
            <a:prstGeom prst="parallelogram">
              <a:avLst>
                <a:gd name="adj" fmla="val 11840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240" bIns="32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2128680" y="5587920"/>
            <a:ext cx="595440" cy="31680"/>
          </a:xfrm>
          <a:custGeom>
            <a:avLst/>
            <a:gdLst/>
            <a:ahLst/>
            <a:rect l="l" t="t" r="r" b="b"/>
            <a:pathLst>
              <a:path w="1296" h="97">
                <a:moveTo>
                  <a:pt x="0" y="97"/>
                </a:moveTo>
                <a:lnTo>
                  <a:pt x="744" y="94"/>
                </a:lnTo>
                <a:lnTo>
                  <a:pt x="557" y="0"/>
                </a:lnTo>
                <a:lnTo>
                  <a:pt x="1296" y="1"/>
                </a:lnTo>
              </a:path>
            </a:pathLst>
          </a:custGeom>
          <a:noFill/>
          <a:ln w="9360">
            <a:solidFill>
              <a:srgbClr val="0000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-14040" bIns="-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4071960" y="5301720"/>
            <a:ext cx="311040" cy="2732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3078000" y="5699160"/>
            <a:ext cx="765360" cy="108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5008680" y="4697280"/>
            <a:ext cx="0" cy="495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871800" y="4998960"/>
            <a:ext cx="1527120" cy="4143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5241960" y="4203360"/>
            <a:ext cx="860400" cy="274680"/>
          </a:xfrm>
          <a:prstGeom prst="line">
            <a:avLst/>
          </a:prstGeom>
          <a:ln w="28440">
            <a:solidFill>
              <a:srgbClr val="f12e07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851360" y="3654360"/>
            <a:ext cx="274680" cy="198360"/>
          </a:xfrm>
          <a:prstGeom prst="rect">
            <a:avLst/>
          </a:prstGeom>
          <a:solidFill>
            <a:srgbClr val="77777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257880" y="4094280"/>
            <a:ext cx="273240" cy="196560"/>
          </a:xfrm>
          <a:prstGeom prst="rect">
            <a:avLst/>
          </a:prstGeom>
          <a:solidFill>
            <a:srgbClr val="77777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164200" y="3875040"/>
            <a:ext cx="0" cy="547560"/>
          </a:xfrm>
          <a:prstGeom prst="line">
            <a:avLst/>
          </a:prstGeom>
          <a:ln w="28440">
            <a:solidFill>
              <a:srgbClr val="f12e07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195880" y="39654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pe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078000" y="4821120"/>
            <a:ext cx="1049400" cy="33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695840" y="4532400"/>
            <a:ext cx="811080" cy="21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3328920" y="4680000"/>
            <a:ext cx="235080" cy="218520"/>
            <a:chOff x="3328920" y="4680000"/>
            <a:chExt cx="235080" cy="218520"/>
          </a:xfrm>
        </p:grpSpPr>
        <p:sp>
          <p:nvSpPr>
            <p:cNvPr id="745" name=""/>
            <p:cNvSpPr/>
            <p:nvPr/>
          </p:nvSpPr>
          <p:spPr>
            <a:xfrm>
              <a:off x="3328920" y="4825800"/>
              <a:ext cx="235080" cy="727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328920" y="4716360"/>
              <a:ext cx="235080" cy="14580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328920" y="4680000"/>
              <a:ext cx="235080" cy="730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328920" y="471636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564000" y="471636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3099600" y="435780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W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643120" y="4521240"/>
            <a:ext cx="6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e-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537280" y="476568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D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708360" y="5537160"/>
            <a:ext cx="674640" cy="320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083240" y="4711680"/>
            <a:ext cx="69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ISP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18960" y="4325760"/>
            <a:ext cx="5195880" cy="2327400"/>
          </a:xfrm>
          <a:prstGeom prst="ellipse">
            <a:avLst/>
          </a:prstGeom>
          <a:noFill/>
          <a:ln w="2844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33360" y="51724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cc"/>
                </a:solidFill>
                <a:latin typeface="Times New Roman"/>
              </a:rPr>
              <a:t>W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042640" y="57758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cc"/>
                </a:solidFill>
                <a:latin typeface="Times New Roman"/>
              </a:rPr>
              <a:t>GP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7699320" y="5432400"/>
            <a:ext cx="417600" cy="173160"/>
          </a:xfrm>
          <a:prstGeom prst="rect">
            <a:avLst/>
          </a:prstGeom>
          <a:ln w="0">
            <a:noFill/>
          </a:ln>
        </p:spPr>
      </p:pic>
      <p:sp>
        <p:nvSpPr>
          <p:cNvPr id="759" name=""/>
          <p:cNvSpPr/>
          <p:nvPr/>
        </p:nvSpPr>
        <p:spPr>
          <a:xfrm>
            <a:off x="5870520" y="5321160"/>
            <a:ext cx="1527120" cy="4143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519200" y="5864400"/>
            <a:ext cx="2714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973760" y="5423040"/>
            <a:ext cx="877680" cy="71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427880" y="5541840"/>
            <a:ext cx="2034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00160" y="1762200"/>
            <a:ext cx="8601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P –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iversal and innovative service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vantage for networking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bile Operator as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Internet Service Provid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 radio access provider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her IS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7600" y="333000"/>
            <a:ext cx="826308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Personalization - the SIM role </a:t>
            </a:r>
            <a:br>
              <a:rPr sz="4000"/>
            </a:b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value added services through the SIM toolki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5" name=""/>
          <p:cNvSpPr/>
          <p:nvPr/>
        </p:nvSpPr>
        <p:spPr>
          <a:xfrm>
            <a:off x="1147680" y="3968640"/>
            <a:ext cx="257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38120" y="2023920"/>
            <a:ext cx="835200" cy="7416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99960" y="2081160"/>
            <a:ext cx="830520" cy="741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25440" y="2154240"/>
            <a:ext cx="1023840" cy="741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ff"/>
                </a:solidFill>
                <a:latin typeface="Times New Roman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563840" y="2666880"/>
            <a:ext cx="833400" cy="7416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00ff"/>
                </a:solidFill>
                <a:latin typeface="Times New Roman"/>
              </a:rPr>
              <a:t>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703600" y="2666880"/>
            <a:ext cx="833400" cy="7416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00ff"/>
                </a:solidFill>
                <a:latin typeface="Times New Roman"/>
              </a:rPr>
              <a:t>G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41920" y="2666880"/>
            <a:ext cx="833400" cy="7416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046840" y="2023920"/>
            <a:ext cx="831600" cy="7416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005440" y="2081160"/>
            <a:ext cx="833400" cy="741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962600" y="2138400"/>
            <a:ext cx="979560" cy="741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ff"/>
                </a:solidFill>
                <a:latin typeface="Times New Roman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336680" y="2438280"/>
            <a:ext cx="35892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392120" y="1727280"/>
            <a:ext cx="0" cy="2452680"/>
          </a:xfrm>
          <a:prstGeom prst="line">
            <a:avLst/>
          </a:prstGeom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792680" y="1612800"/>
            <a:ext cx="0" cy="2732040"/>
          </a:xfrm>
          <a:prstGeom prst="line">
            <a:avLst/>
          </a:prstGeom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670200" y="1663560"/>
            <a:ext cx="0" cy="2592360"/>
          </a:xfrm>
          <a:prstGeom prst="line">
            <a:avLst/>
          </a:prstGeom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532240" y="1727280"/>
            <a:ext cx="0" cy="2516040"/>
          </a:xfrm>
          <a:prstGeom prst="line">
            <a:avLst/>
          </a:prstGeom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949560" y="2819520"/>
            <a:ext cx="497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00ff"/>
                </a:solidFill>
                <a:latin typeface="Times New Roman"/>
              </a:rPr>
              <a:t>R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921200" y="3124080"/>
            <a:ext cx="1041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Times New Roman"/>
              </a:rPr>
              <a:t>User </a:t>
            </a:r>
            <a:r>
              <a:rPr b="1" lang="en-GB" sz="1400" spc="-1" strike="noStrike">
                <a:solidFill>
                  <a:srgbClr val="6600ff"/>
                </a:solidFill>
                <a:latin typeface="Times New Roman"/>
              </a:rPr>
              <a:t>SIM</a:t>
            </a:r>
            <a:r>
              <a:rPr b="1" lang="en-US" sz="14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Times New Roman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223880" y="3657600"/>
            <a:ext cx="899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ff"/>
                </a:solidFill>
                <a:latin typeface="Times New Roman"/>
              </a:rPr>
              <a:t>Term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787400" y="3619440"/>
            <a:ext cx="1150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ff"/>
                </a:solidFill>
                <a:latin typeface="Times New Roman"/>
              </a:rPr>
              <a:t>S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933640" y="3581280"/>
            <a:ext cx="12747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6600ff"/>
                </a:solidFill>
                <a:latin typeface="Times New Roman"/>
              </a:rPr>
              <a:t>Short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6600ff"/>
                </a:solidFill>
                <a:latin typeface="Times New Roman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973440" y="3276720"/>
            <a:ext cx="59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Times New Roman"/>
              </a:rPr>
              <a:t>B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1"/>
          <a:stretch/>
        </p:blipFill>
        <p:spPr>
          <a:xfrm>
            <a:off x="3876840" y="1447920"/>
            <a:ext cx="439560" cy="87624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933480" y="4876920"/>
            <a:ext cx="16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833040" y="5102280"/>
            <a:ext cx="692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reciprocal authentication between SIM and network </a:t>
            </a: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GB" sz="1800" spc="-1" strike="noStrike">
                <a:solidFill>
                  <a:srgbClr val="ff3300"/>
                </a:solidFill>
                <a:latin typeface="Times New Roman"/>
              </a:rPr>
              <a:t>service centre</a:t>
            </a: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direct communication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between the keyboard and the </a:t>
            </a: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S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SIM control over the terminal </a:t>
            </a: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GB" sz="1800" spc="-1" strike="noStrike">
                <a:solidFill>
                  <a:srgbClr val="ff3300"/>
                </a:solidFill>
                <a:latin typeface="Times New Roman"/>
              </a:rPr>
              <a:t>proactive SIM</a:t>
            </a: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radio </a:t>
            </a:r>
            <a:r>
              <a:rPr b="1" i="1" lang="en-US" sz="1800" spc="-1" strike="noStrike">
                <a:solidFill>
                  <a:srgbClr val="ff3300"/>
                </a:solidFill>
                <a:latin typeface="Times New Roman"/>
              </a:rPr>
              <a:t>software download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capability </a:t>
            </a: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(applic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440400" y="2906640"/>
            <a:ext cx="2703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SI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processing and storage cap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person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por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344520" y="5259240"/>
            <a:ext cx="43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ransport cap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ersonalization and local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content re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77360" y="380520"/>
            <a:ext cx="873756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Times New Roman"/>
              </a:rPr>
              <a:t>Mobile data services </a:t>
            </a:r>
            <a:br>
              <a:rPr sz="4000"/>
            </a:b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a convergence path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ffecting</a:t>
            </a: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 both service and personaliza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2" name=""/>
          <p:cNvSpPr/>
          <p:nvPr/>
        </p:nvSpPr>
        <p:spPr>
          <a:xfrm>
            <a:off x="230760" y="4881600"/>
            <a:ext cx="34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UMTS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as a convergence elem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1754280" y="1906560"/>
            <a:ext cx="6597360" cy="3064680"/>
            <a:chOff x="1754280" y="1906560"/>
            <a:chExt cx="6597360" cy="3064680"/>
          </a:xfrm>
        </p:grpSpPr>
        <p:sp>
          <p:nvSpPr>
            <p:cNvPr id="794" name=""/>
            <p:cNvSpPr/>
            <p:nvPr/>
          </p:nvSpPr>
          <p:spPr>
            <a:xfrm>
              <a:off x="4866480" y="1906560"/>
              <a:ext cx="1144440" cy="1527120"/>
            </a:xfrm>
            <a:prstGeom prst="ellipse">
              <a:avLst/>
            </a:prstGeom>
            <a:solidFill>
              <a:srgbClr val="99d3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2621520" y="2814480"/>
              <a:ext cx="2092680" cy="37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959000" y="2297160"/>
              <a:ext cx="98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Times New Roman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Times New Roman"/>
                </a:rPr>
                <a:t>serv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7" name="" descr=""/>
            <p:cNvPicPr/>
            <p:nvPr/>
          </p:nvPicPr>
          <p:blipFill>
            <a:blip r:embed="rId1"/>
            <a:stretch/>
          </p:blipFill>
          <p:spPr>
            <a:xfrm>
              <a:off x="1754280" y="2033640"/>
              <a:ext cx="65988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" descr=""/>
            <p:cNvPicPr/>
            <p:nvPr/>
          </p:nvPicPr>
          <p:blipFill>
            <a:blip r:embed="rId2"/>
            <a:stretch/>
          </p:blipFill>
          <p:spPr>
            <a:xfrm>
              <a:off x="1860120" y="3071880"/>
              <a:ext cx="49644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"/>
            <p:cNvSpPr/>
            <p:nvPr/>
          </p:nvSpPr>
          <p:spPr>
            <a:xfrm>
              <a:off x="3323880" y="2733840"/>
              <a:ext cx="1029600" cy="1106280"/>
            </a:xfrm>
            <a:prstGeom prst="ellipse">
              <a:avLst/>
            </a:prstGeom>
            <a:solidFill>
              <a:srgbClr val="99d3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370320" y="2863800"/>
              <a:ext cx="944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lang="en-GB" sz="1800" spc="-1" strike="noStrike">
                  <a:solidFill>
                    <a:srgbClr val="0000cc"/>
                  </a:solidFill>
                  <a:latin typeface="Times New Roman"/>
                </a:rPr>
                <a:t>ob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Times New Roman"/>
                </a:rPr>
                <a:t>serv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49400" y="2143080"/>
              <a:ext cx="2055600" cy="0"/>
            </a:xfrm>
            <a:prstGeom prst="line">
              <a:avLst/>
            </a:prstGeom>
            <a:ln w="38160">
              <a:solidFill>
                <a:srgbClr val="f12e0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677320" y="3359160"/>
              <a:ext cx="455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257000" y="3695760"/>
              <a:ext cx="1351800" cy="1254240"/>
            </a:xfrm>
            <a:prstGeom prst="ellipse">
              <a:avLst/>
            </a:prstGeom>
            <a:solidFill>
              <a:srgbClr val="99d3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26560" y="3780000"/>
              <a:ext cx="103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Times New Roman"/>
                </a:rPr>
                <a:t>Pers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Times New Roman"/>
                </a:rPr>
                <a:t>featu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Times New Roman"/>
                </a:rPr>
                <a:t>SI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cc"/>
                  </a:solidFill>
                  <a:latin typeface="Times New Roman"/>
                </a:rPr>
                <a:t>toolk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638440" y="3695760"/>
              <a:ext cx="1466640" cy="4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210800" y="3137040"/>
              <a:ext cx="1140840" cy="1528560"/>
            </a:xfrm>
            <a:prstGeom prst="ellipse">
              <a:avLst/>
            </a:prstGeom>
            <a:solidFill>
              <a:srgbClr val="99d3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Times New Roman"/>
                </a:rPr>
                <a:t>UM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Times New Roman"/>
                </a:rPr>
                <a:t>WI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Times New Roman"/>
                </a:rPr>
                <a:t>X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142320" y="3073320"/>
              <a:ext cx="1068120" cy="16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71840" y="3522600"/>
              <a:ext cx="2703600" cy="10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5742360" y="4178520"/>
              <a:ext cx="1370160" cy="22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280560" y="2586240"/>
              <a:ext cx="2057400" cy="0"/>
            </a:xfrm>
            <a:prstGeom prst="line">
              <a:avLst/>
            </a:prstGeom>
            <a:ln w="38160">
              <a:solidFill>
                <a:srgbClr val="f12e0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simphonic" descr=""/>
          <p:cNvPicPr/>
          <p:nvPr/>
        </p:nvPicPr>
        <p:blipFill>
          <a:blip r:embed="rId1"/>
          <a:stretch/>
        </p:blipFill>
        <p:spPr>
          <a:xfrm>
            <a:off x="4906800" y="1606680"/>
            <a:ext cx="1551240" cy="939600"/>
          </a:xfrm>
          <a:prstGeom prst="rect">
            <a:avLst/>
          </a:prstGeom>
          <a:ln w="0">
            <a:noFill/>
          </a:ln>
        </p:spPr>
      </p:pic>
      <p:pic>
        <p:nvPicPr>
          <p:cNvPr id="812" name="3nok8210" descr=""/>
          <p:cNvPicPr/>
          <p:nvPr/>
        </p:nvPicPr>
        <p:blipFill>
          <a:blip r:embed="rId2"/>
          <a:stretch/>
        </p:blipFill>
        <p:spPr>
          <a:xfrm>
            <a:off x="3236760" y="2247840"/>
            <a:ext cx="514440" cy="1405080"/>
          </a:xfrm>
          <a:prstGeom prst="rect">
            <a:avLst/>
          </a:prstGeom>
          <a:ln w="0">
            <a:noFill/>
          </a:ln>
        </p:spPr>
      </p:pic>
      <p:pic>
        <p:nvPicPr>
          <p:cNvPr id="813" name="protectit" descr=""/>
          <p:cNvPicPr/>
          <p:nvPr/>
        </p:nvPicPr>
        <p:blipFill>
          <a:blip r:embed="rId3"/>
          <a:stretch/>
        </p:blipFill>
        <p:spPr>
          <a:xfrm>
            <a:off x="4286160" y="3025800"/>
            <a:ext cx="995400" cy="92556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4"/>
          <a:stretch/>
        </p:blipFill>
        <p:spPr>
          <a:xfrm>
            <a:off x="6146640" y="2979720"/>
            <a:ext cx="847800" cy="1139760"/>
          </a:xfrm>
          <a:prstGeom prst="rect">
            <a:avLst/>
          </a:prstGeom>
          <a:ln w="0">
            <a:noFill/>
          </a:ln>
        </p:spPr>
      </p:pic>
      <p:pic>
        <p:nvPicPr>
          <p:cNvPr id="815" name="bancomat" descr=""/>
          <p:cNvPicPr/>
          <p:nvPr/>
        </p:nvPicPr>
        <p:blipFill>
          <a:blip r:embed="rId5"/>
          <a:stretch/>
        </p:blipFill>
        <p:spPr>
          <a:xfrm>
            <a:off x="7626240" y="2338560"/>
            <a:ext cx="687600" cy="1231560"/>
          </a:xfrm>
          <a:prstGeom prst="rect">
            <a:avLst/>
          </a:prstGeom>
          <a:ln w="0">
            <a:noFill/>
          </a:ln>
        </p:spPr>
      </p:pic>
      <p:sp>
        <p:nvSpPr>
          <p:cNvPr id="816" name=""/>
          <p:cNvSpPr/>
          <p:nvPr/>
        </p:nvSpPr>
        <p:spPr>
          <a:xfrm>
            <a:off x="2901960" y="359100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GSM 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516200" y="40384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909400" y="419724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MTS term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666200" y="367344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3760920" y="2476080"/>
            <a:ext cx="1145880" cy="412920"/>
          </a:xfrm>
          <a:prstGeom prst="line">
            <a:avLst/>
          </a:prstGeom>
          <a:ln w="2844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5049720" y="2522520"/>
            <a:ext cx="285840" cy="503280"/>
          </a:xfrm>
          <a:prstGeom prst="line">
            <a:avLst/>
          </a:prstGeom>
          <a:ln w="2844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813280" y="2568600"/>
            <a:ext cx="716040" cy="411120"/>
          </a:xfrm>
          <a:prstGeom prst="line">
            <a:avLst/>
          </a:prstGeom>
          <a:ln w="2844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434280" y="2430360"/>
            <a:ext cx="1191960" cy="320760"/>
          </a:xfrm>
          <a:prstGeom prst="line">
            <a:avLst/>
          </a:prstGeom>
          <a:ln w="2844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06440" y="380880"/>
            <a:ext cx="873756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USIM</a:t>
            </a:r>
            <a:br>
              <a:rPr sz="4000"/>
            </a:b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he universal subscriber identity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628320" y="17938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S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145880" y="4530600"/>
            <a:ext cx="6500160" cy="19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SMS status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Service Provider Na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files for personalized imag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storage of </a:t>
            </a: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ciphering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keys for circuit and packet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access technique specification for preferred PLM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STK menu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ingoing/outgoing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57920" y="3027240"/>
            <a:ext cx="20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Addi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Features for US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335240" y="3817800"/>
            <a:ext cx="174600" cy="333360"/>
          </a:xfrm>
          <a:prstGeom prst="downArrow">
            <a:avLst>
              <a:gd name="adj1" fmla="val 50000"/>
              <a:gd name="adj2" fmla="val 4773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17:40:13Z</dcterms:created>
  <dc:creator>Laptop</dc:creator>
  <dc:description/>
  <dc:language>en-US</dc:language>
  <cp:lastModifiedBy>**********</cp:lastModifiedBy>
  <cp:lastPrinted>2001-02-26T16:05:52Z</cp:lastPrinted>
  <dcterms:modified xsi:type="dcterms:W3CDTF">2001-04-24T12:17:55Z</dcterms:modified>
  <cp:revision>654</cp:revision>
  <dc:subject/>
  <dc:title>The Management Team</dc:title>
</cp:coreProperties>
</file>