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cienciaa" descr=""/>
          <p:cNvPicPr/>
          <p:nvPr/>
        </p:nvPicPr>
        <p:blipFill>
          <a:blip r:embed="rId2"/>
          <a:stretch/>
        </p:blipFill>
        <p:spPr>
          <a:xfrm>
            <a:off x="0" y="0"/>
            <a:ext cx="1295280" cy="12160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219320"/>
            <a:ext cx="76320" cy="5638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1219320"/>
            <a:ext cx="76320" cy="5638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95280" y="0"/>
            <a:ext cx="7848720" cy="838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236600" y="152280"/>
            <a:ext cx="7145280" cy="19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ecretaría de Estado de Telecomunicaciones y para la Sociedad de la Inform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irección General de Telecomunicaciones y Tecnologías de la Inform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ubdirección General de Infraestructuras y Normativa Técn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1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971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NORMALIZACION DE LAS TELECOMUNICACIONES 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EN ESPAÑA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04560" y="4343040"/>
            <a:ext cx="8839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SEMINARIO SOBRE NORMALIZACIÓN EN EL UIT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adrid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, 12 y 13 de diciembre d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Juan Miguel Moreno Pér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JEFE AREA DE NORMALIZACIÓN TÉCN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PARTICIPACIÓN EN LAS LABORES DEL ETSI</a:t>
            </a:r>
            <a:br>
              <a:rPr sz="2000"/>
            </a:br>
            <a:endParaRPr b="0" lang="en-US" sz="2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1981080"/>
            <a:ext cx="5029200" cy="46483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Cs, E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2209680"/>
            <a:ext cx="3505320" cy="426744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MIEMB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TSI, AENO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ER, Alcatel Españ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mena, ANIEL, DS2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ADS Telecom Españ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uskaltel, Hispasa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icroelectrónica Español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eledesic, Telefónic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eltronik, UN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odafone S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388620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BS00554_" descr=""/>
          <p:cNvPicPr/>
          <p:nvPr/>
        </p:nvPicPr>
        <p:blipFill>
          <a:blip r:embed="rId1"/>
          <a:stretch/>
        </p:blipFill>
        <p:spPr>
          <a:xfrm>
            <a:off x="7162920" y="3200400"/>
            <a:ext cx="1676160" cy="954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85800" y="4343400"/>
            <a:ext cx="8153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H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etc.</a:t>
            </a:r>
            <a:br>
              <a:rPr sz="18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                        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PARTICIPACIÓN EN LAS LABORES DE AENOR</a:t>
            </a:r>
            <a:br>
              <a:rPr sz="2000"/>
            </a:br>
            <a:endParaRPr b="0" lang="en-US" sz="2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1981080"/>
            <a:ext cx="5029200" cy="4648320"/>
          </a:xfrm>
          <a:prstGeom prst="ellipse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TN/AEN 13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TELECOMUNIC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TSI, AENO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FME, Amper, ANIEL, Alcatel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T Telecomunicaciones, CEIS, CETECOM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IT, COITT, COMYTEL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rreos y Telégrafos, CSIC, EAST, ENAC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desa, Ericsson, ETSIM, Hispasa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ASMET, MCyT, Retevisió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elefónica, UNE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388620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BS00554_" descr=""/>
          <p:cNvPicPr/>
          <p:nvPr/>
        </p:nvPicPr>
        <p:blipFill>
          <a:blip r:embed="rId1"/>
          <a:stretch/>
        </p:blipFill>
        <p:spPr>
          <a:xfrm>
            <a:off x="7162920" y="3200400"/>
            <a:ext cx="1676160" cy="954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85800" y="4343400"/>
            <a:ext cx="8153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UNE</a:t>
            </a:r>
            <a:br>
              <a:rPr sz="18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                        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PARTICIPACIÓN EN LAS LABORES DE AENOR</a:t>
            </a:r>
            <a:br>
              <a:rPr sz="2000"/>
            </a:br>
            <a:endParaRPr b="0" lang="en-US" sz="2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3429000"/>
            <a:ext cx="1905120" cy="1440000"/>
          </a:xfrm>
          <a:prstGeom prst="ellipse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TN/AEN 13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5880" y="388620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BS00554_" descr=""/>
          <p:cNvPicPr/>
          <p:nvPr/>
        </p:nvPicPr>
        <p:blipFill>
          <a:blip r:embed="rId1"/>
          <a:stretch/>
        </p:blipFill>
        <p:spPr>
          <a:xfrm>
            <a:off x="7162920" y="3200400"/>
            <a:ext cx="1676160" cy="954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85800" y="4343400"/>
            <a:ext cx="8153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UNE</a:t>
            </a:r>
            <a:br>
              <a:rPr sz="18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                        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3429000"/>
            <a:ext cx="1143000" cy="14400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T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8120" y="388620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5105520"/>
            <a:ext cx="1143000" cy="143964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ENEL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1828800"/>
            <a:ext cx="1143000" cy="1440000"/>
          </a:xfrm>
          <a:prstGeom prst="ellipse">
            <a:avLst/>
          </a:prstGeom>
          <a:solidFill>
            <a:srgbClr val="00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04920" y="3276720"/>
            <a:ext cx="1439640" cy="1922040"/>
            <a:chOff x="304920" y="3276720"/>
            <a:chExt cx="1439640" cy="1922040"/>
          </a:xfrm>
        </p:grpSpPr>
        <p:sp>
          <p:nvSpPr>
            <p:cNvPr id="105" name=""/>
            <p:cNvSpPr/>
            <p:nvPr/>
          </p:nvSpPr>
          <p:spPr>
            <a:xfrm>
              <a:off x="1111680" y="4424760"/>
              <a:ext cx="269640" cy="149760"/>
            </a:xfrm>
            <a:custGeom>
              <a:avLst/>
              <a:gdLst/>
              <a:ahLst/>
              <a:rect l="l" t="t" r="r" b="b"/>
              <a:pathLst>
                <a:path w="1125" h="595">
                  <a:moveTo>
                    <a:pt x="108" y="406"/>
                  </a:moveTo>
                  <a:lnTo>
                    <a:pt x="115" y="405"/>
                  </a:lnTo>
                  <a:lnTo>
                    <a:pt x="122" y="404"/>
                  </a:lnTo>
                  <a:lnTo>
                    <a:pt x="130" y="403"/>
                  </a:lnTo>
                  <a:lnTo>
                    <a:pt x="137" y="403"/>
                  </a:lnTo>
                  <a:lnTo>
                    <a:pt x="145" y="403"/>
                  </a:lnTo>
                  <a:lnTo>
                    <a:pt x="152" y="401"/>
                  </a:lnTo>
                  <a:lnTo>
                    <a:pt x="159" y="400"/>
                  </a:lnTo>
                  <a:lnTo>
                    <a:pt x="166" y="398"/>
                  </a:lnTo>
                  <a:lnTo>
                    <a:pt x="171" y="399"/>
                  </a:lnTo>
                  <a:lnTo>
                    <a:pt x="178" y="400"/>
                  </a:lnTo>
                  <a:lnTo>
                    <a:pt x="187" y="401"/>
                  </a:lnTo>
                  <a:lnTo>
                    <a:pt x="196" y="401"/>
                  </a:lnTo>
                  <a:lnTo>
                    <a:pt x="205" y="401"/>
                  </a:lnTo>
                  <a:lnTo>
                    <a:pt x="214" y="400"/>
                  </a:lnTo>
                  <a:lnTo>
                    <a:pt x="224" y="399"/>
                  </a:lnTo>
                  <a:lnTo>
                    <a:pt x="229" y="398"/>
                  </a:lnTo>
                  <a:lnTo>
                    <a:pt x="240" y="395"/>
                  </a:lnTo>
                  <a:lnTo>
                    <a:pt x="250" y="392"/>
                  </a:lnTo>
                  <a:lnTo>
                    <a:pt x="260" y="389"/>
                  </a:lnTo>
                  <a:lnTo>
                    <a:pt x="271" y="388"/>
                  </a:lnTo>
                  <a:lnTo>
                    <a:pt x="281" y="386"/>
                  </a:lnTo>
                  <a:lnTo>
                    <a:pt x="292" y="386"/>
                  </a:lnTo>
                  <a:lnTo>
                    <a:pt x="302" y="389"/>
                  </a:lnTo>
                  <a:lnTo>
                    <a:pt x="313" y="391"/>
                  </a:lnTo>
                  <a:lnTo>
                    <a:pt x="384" y="409"/>
                  </a:lnTo>
                  <a:lnTo>
                    <a:pt x="395" y="415"/>
                  </a:lnTo>
                  <a:lnTo>
                    <a:pt x="402" y="423"/>
                  </a:lnTo>
                  <a:lnTo>
                    <a:pt x="407" y="433"/>
                  </a:lnTo>
                  <a:lnTo>
                    <a:pt x="409" y="443"/>
                  </a:lnTo>
                  <a:lnTo>
                    <a:pt x="411" y="454"/>
                  </a:lnTo>
                  <a:lnTo>
                    <a:pt x="413" y="465"/>
                  </a:lnTo>
                  <a:lnTo>
                    <a:pt x="415" y="475"/>
                  </a:lnTo>
                  <a:lnTo>
                    <a:pt x="419" y="483"/>
                  </a:lnTo>
                  <a:lnTo>
                    <a:pt x="422" y="487"/>
                  </a:lnTo>
                  <a:lnTo>
                    <a:pt x="426" y="491"/>
                  </a:lnTo>
                  <a:lnTo>
                    <a:pt x="432" y="495"/>
                  </a:lnTo>
                  <a:lnTo>
                    <a:pt x="436" y="497"/>
                  </a:lnTo>
                  <a:lnTo>
                    <a:pt x="600" y="556"/>
                  </a:lnTo>
                  <a:lnTo>
                    <a:pt x="620" y="565"/>
                  </a:lnTo>
                  <a:lnTo>
                    <a:pt x="631" y="570"/>
                  </a:lnTo>
                  <a:lnTo>
                    <a:pt x="646" y="577"/>
                  </a:lnTo>
                  <a:lnTo>
                    <a:pt x="663" y="583"/>
                  </a:lnTo>
                  <a:lnTo>
                    <a:pt x="680" y="589"/>
                  </a:lnTo>
                  <a:lnTo>
                    <a:pt x="697" y="594"/>
                  </a:lnTo>
                  <a:lnTo>
                    <a:pt x="713" y="595"/>
                  </a:lnTo>
                  <a:lnTo>
                    <a:pt x="727" y="592"/>
                  </a:lnTo>
                  <a:lnTo>
                    <a:pt x="739" y="582"/>
                  </a:lnTo>
                  <a:lnTo>
                    <a:pt x="747" y="573"/>
                  </a:lnTo>
                  <a:lnTo>
                    <a:pt x="756" y="566"/>
                  </a:lnTo>
                  <a:lnTo>
                    <a:pt x="767" y="559"/>
                  </a:lnTo>
                  <a:lnTo>
                    <a:pt x="779" y="555"/>
                  </a:lnTo>
                  <a:lnTo>
                    <a:pt x="792" y="550"/>
                  </a:lnTo>
                  <a:lnTo>
                    <a:pt x="804" y="547"/>
                  </a:lnTo>
                  <a:lnTo>
                    <a:pt x="818" y="543"/>
                  </a:lnTo>
                  <a:lnTo>
                    <a:pt x="832" y="541"/>
                  </a:lnTo>
                  <a:lnTo>
                    <a:pt x="846" y="539"/>
                  </a:lnTo>
                  <a:lnTo>
                    <a:pt x="861" y="537"/>
                  </a:lnTo>
                  <a:lnTo>
                    <a:pt x="875" y="535"/>
                  </a:lnTo>
                  <a:lnTo>
                    <a:pt x="888" y="533"/>
                  </a:lnTo>
                  <a:lnTo>
                    <a:pt x="901" y="530"/>
                  </a:lnTo>
                  <a:lnTo>
                    <a:pt x="915" y="528"/>
                  </a:lnTo>
                  <a:lnTo>
                    <a:pt x="926" y="525"/>
                  </a:lnTo>
                  <a:lnTo>
                    <a:pt x="938" y="521"/>
                  </a:lnTo>
                  <a:lnTo>
                    <a:pt x="958" y="511"/>
                  </a:lnTo>
                  <a:lnTo>
                    <a:pt x="976" y="496"/>
                  </a:lnTo>
                  <a:lnTo>
                    <a:pt x="993" y="476"/>
                  </a:lnTo>
                  <a:lnTo>
                    <a:pt x="1008" y="456"/>
                  </a:lnTo>
                  <a:lnTo>
                    <a:pt x="1021" y="433"/>
                  </a:lnTo>
                  <a:lnTo>
                    <a:pt x="1031" y="409"/>
                  </a:lnTo>
                  <a:lnTo>
                    <a:pt x="1038" y="386"/>
                  </a:lnTo>
                  <a:lnTo>
                    <a:pt x="1043" y="365"/>
                  </a:lnTo>
                  <a:lnTo>
                    <a:pt x="1043" y="356"/>
                  </a:lnTo>
                  <a:lnTo>
                    <a:pt x="1043" y="350"/>
                  </a:lnTo>
                  <a:lnTo>
                    <a:pt x="1042" y="343"/>
                  </a:lnTo>
                  <a:lnTo>
                    <a:pt x="1045" y="337"/>
                  </a:lnTo>
                  <a:lnTo>
                    <a:pt x="1046" y="323"/>
                  </a:lnTo>
                  <a:lnTo>
                    <a:pt x="1051" y="315"/>
                  </a:lnTo>
                  <a:lnTo>
                    <a:pt x="1058" y="309"/>
                  </a:lnTo>
                  <a:lnTo>
                    <a:pt x="1066" y="307"/>
                  </a:lnTo>
                  <a:lnTo>
                    <a:pt x="1075" y="307"/>
                  </a:lnTo>
                  <a:lnTo>
                    <a:pt x="1085" y="308"/>
                  </a:lnTo>
                  <a:lnTo>
                    <a:pt x="1096" y="309"/>
                  </a:lnTo>
                  <a:lnTo>
                    <a:pt x="1106" y="309"/>
                  </a:lnTo>
                  <a:lnTo>
                    <a:pt x="1108" y="305"/>
                  </a:lnTo>
                  <a:lnTo>
                    <a:pt x="1113" y="298"/>
                  </a:lnTo>
                  <a:lnTo>
                    <a:pt x="1118" y="292"/>
                  </a:lnTo>
                  <a:lnTo>
                    <a:pt x="1121" y="287"/>
                  </a:lnTo>
                  <a:lnTo>
                    <a:pt x="1125" y="271"/>
                  </a:lnTo>
                  <a:lnTo>
                    <a:pt x="1123" y="257"/>
                  </a:lnTo>
                  <a:lnTo>
                    <a:pt x="1117" y="247"/>
                  </a:lnTo>
                  <a:lnTo>
                    <a:pt x="1107" y="238"/>
                  </a:lnTo>
                  <a:lnTo>
                    <a:pt x="1097" y="229"/>
                  </a:lnTo>
                  <a:lnTo>
                    <a:pt x="1087" y="221"/>
                  </a:lnTo>
                  <a:lnTo>
                    <a:pt x="1076" y="211"/>
                  </a:lnTo>
                  <a:lnTo>
                    <a:pt x="1069" y="200"/>
                  </a:lnTo>
                  <a:lnTo>
                    <a:pt x="1064" y="173"/>
                  </a:lnTo>
                  <a:lnTo>
                    <a:pt x="1066" y="147"/>
                  </a:lnTo>
                  <a:lnTo>
                    <a:pt x="1073" y="120"/>
                  </a:lnTo>
                  <a:lnTo>
                    <a:pt x="1076" y="93"/>
                  </a:lnTo>
                  <a:lnTo>
                    <a:pt x="1065" y="86"/>
                  </a:lnTo>
                  <a:lnTo>
                    <a:pt x="1053" y="83"/>
                  </a:lnTo>
                  <a:lnTo>
                    <a:pt x="1042" y="82"/>
                  </a:lnTo>
                  <a:lnTo>
                    <a:pt x="1031" y="82"/>
                  </a:lnTo>
                  <a:lnTo>
                    <a:pt x="1020" y="82"/>
                  </a:lnTo>
                  <a:lnTo>
                    <a:pt x="1009" y="83"/>
                  </a:lnTo>
                  <a:lnTo>
                    <a:pt x="997" y="82"/>
                  </a:lnTo>
                  <a:lnTo>
                    <a:pt x="984" y="80"/>
                  </a:lnTo>
                  <a:lnTo>
                    <a:pt x="944" y="66"/>
                  </a:lnTo>
                  <a:lnTo>
                    <a:pt x="933" y="63"/>
                  </a:lnTo>
                  <a:lnTo>
                    <a:pt x="923" y="57"/>
                  </a:lnTo>
                  <a:lnTo>
                    <a:pt x="914" y="51"/>
                  </a:lnTo>
                  <a:lnTo>
                    <a:pt x="905" y="45"/>
                  </a:lnTo>
                  <a:lnTo>
                    <a:pt x="895" y="40"/>
                  </a:lnTo>
                  <a:lnTo>
                    <a:pt x="886" y="34"/>
                  </a:lnTo>
                  <a:lnTo>
                    <a:pt x="877" y="28"/>
                  </a:lnTo>
                  <a:lnTo>
                    <a:pt x="866" y="24"/>
                  </a:lnTo>
                  <a:lnTo>
                    <a:pt x="862" y="21"/>
                  </a:lnTo>
                  <a:lnTo>
                    <a:pt x="854" y="17"/>
                  </a:lnTo>
                  <a:lnTo>
                    <a:pt x="843" y="11"/>
                  </a:lnTo>
                  <a:lnTo>
                    <a:pt x="833" y="5"/>
                  </a:lnTo>
                  <a:lnTo>
                    <a:pt x="823" y="2"/>
                  </a:lnTo>
                  <a:lnTo>
                    <a:pt x="815" y="0"/>
                  </a:lnTo>
                  <a:lnTo>
                    <a:pt x="808" y="3"/>
                  </a:lnTo>
                  <a:lnTo>
                    <a:pt x="805" y="11"/>
                  </a:lnTo>
                  <a:lnTo>
                    <a:pt x="801" y="26"/>
                  </a:lnTo>
                  <a:lnTo>
                    <a:pt x="792" y="41"/>
                  </a:lnTo>
                  <a:lnTo>
                    <a:pt x="778" y="56"/>
                  </a:lnTo>
                  <a:lnTo>
                    <a:pt x="762" y="68"/>
                  </a:lnTo>
                  <a:lnTo>
                    <a:pt x="743" y="79"/>
                  </a:lnTo>
                  <a:lnTo>
                    <a:pt x="724" y="86"/>
                  </a:lnTo>
                  <a:lnTo>
                    <a:pt x="705" y="88"/>
                  </a:lnTo>
                  <a:lnTo>
                    <a:pt x="687" y="87"/>
                  </a:lnTo>
                  <a:lnTo>
                    <a:pt x="681" y="85"/>
                  </a:lnTo>
                  <a:lnTo>
                    <a:pt x="675" y="81"/>
                  </a:lnTo>
                  <a:lnTo>
                    <a:pt x="671" y="78"/>
                  </a:lnTo>
                  <a:lnTo>
                    <a:pt x="665" y="73"/>
                  </a:lnTo>
                  <a:lnTo>
                    <a:pt x="660" y="68"/>
                  </a:lnTo>
                  <a:lnTo>
                    <a:pt x="656" y="65"/>
                  </a:lnTo>
                  <a:lnTo>
                    <a:pt x="651" y="62"/>
                  </a:lnTo>
                  <a:lnTo>
                    <a:pt x="646" y="59"/>
                  </a:lnTo>
                  <a:lnTo>
                    <a:pt x="642" y="68"/>
                  </a:lnTo>
                  <a:lnTo>
                    <a:pt x="638" y="77"/>
                  </a:lnTo>
                  <a:lnTo>
                    <a:pt x="635" y="83"/>
                  </a:lnTo>
                  <a:lnTo>
                    <a:pt x="630" y="89"/>
                  </a:lnTo>
                  <a:lnTo>
                    <a:pt x="626" y="95"/>
                  </a:lnTo>
                  <a:lnTo>
                    <a:pt x="620" y="100"/>
                  </a:lnTo>
                  <a:lnTo>
                    <a:pt x="613" y="103"/>
                  </a:lnTo>
                  <a:lnTo>
                    <a:pt x="604" y="108"/>
                  </a:lnTo>
                  <a:lnTo>
                    <a:pt x="592" y="115"/>
                  </a:lnTo>
                  <a:lnTo>
                    <a:pt x="581" y="125"/>
                  </a:lnTo>
                  <a:lnTo>
                    <a:pt x="569" y="138"/>
                  </a:lnTo>
                  <a:lnTo>
                    <a:pt x="557" y="150"/>
                  </a:lnTo>
                  <a:lnTo>
                    <a:pt x="544" y="163"/>
                  </a:lnTo>
                  <a:lnTo>
                    <a:pt x="530" y="172"/>
                  </a:lnTo>
                  <a:lnTo>
                    <a:pt x="515" y="177"/>
                  </a:lnTo>
                  <a:lnTo>
                    <a:pt x="499" y="174"/>
                  </a:lnTo>
                  <a:lnTo>
                    <a:pt x="497" y="173"/>
                  </a:lnTo>
                  <a:lnTo>
                    <a:pt x="492" y="171"/>
                  </a:lnTo>
                  <a:lnTo>
                    <a:pt x="487" y="169"/>
                  </a:lnTo>
                  <a:lnTo>
                    <a:pt x="485" y="166"/>
                  </a:lnTo>
                  <a:lnTo>
                    <a:pt x="477" y="177"/>
                  </a:lnTo>
                  <a:lnTo>
                    <a:pt x="475" y="186"/>
                  </a:lnTo>
                  <a:lnTo>
                    <a:pt x="476" y="194"/>
                  </a:lnTo>
                  <a:lnTo>
                    <a:pt x="479" y="202"/>
                  </a:lnTo>
                  <a:lnTo>
                    <a:pt x="485" y="209"/>
                  </a:lnTo>
                  <a:lnTo>
                    <a:pt x="491" y="216"/>
                  </a:lnTo>
                  <a:lnTo>
                    <a:pt x="497" y="224"/>
                  </a:lnTo>
                  <a:lnTo>
                    <a:pt x="500" y="232"/>
                  </a:lnTo>
                  <a:lnTo>
                    <a:pt x="513" y="269"/>
                  </a:lnTo>
                  <a:lnTo>
                    <a:pt x="517" y="277"/>
                  </a:lnTo>
                  <a:lnTo>
                    <a:pt x="519" y="286"/>
                  </a:lnTo>
                  <a:lnTo>
                    <a:pt x="519" y="295"/>
                  </a:lnTo>
                  <a:lnTo>
                    <a:pt x="516" y="303"/>
                  </a:lnTo>
                  <a:lnTo>
                    <a:pt x="512" y="309"/>
                  </a:lnTo>
                  <a:lnTo>
                    <a:pt x="505" y="314"/>
                  </a:lnTo>
                  <a:lnTo>
                    <a:pt x="496" y="314"/>
                  </a:lnTo>
                  <a:lnTo>
                    <a:pt x="484" y="312"/>
                  </a:lnTo>
                  <a:lnTo>
                    <a:pt x="476" y="307"/>
                  </a:lnTo>
                  <a:lnTo>
                    <a:pt x="467" y="301"/>
                  </a:lnTo>
                  <a:lnTo>
                    <a:pt x="456" y="294"/>
                  </a:lnTo>
                  <a:lnTo>
                    <a:pt x="447" y="287"/>
                  </a:lnTo>
                  <a:lnTo>
                    <a:pt x="437" y="282"/>
                  </a:lnTo>
                  <a:lnTo>
                    <a:pt x="428" y="277"/>
                  </a:lnTo>
                  <a:lnTo>
                    <a:pt x="417" y="275"/>
                  </a:lnTo>
                  <a:lnTo>
                    <a:pt x="408" y="276"/>
                  </a:lnTo>
                  <a:lnTo>
                    <a:pt x="395" y="280"/>
                  </a:lnTo>
                  <a:lnTo>
                    <a:pt x="380" y="285"/>
                  </a:lnTo>
                  <a:lnTo>
                    <a:pt x="365" y="290"/>
                  </a:lnTo>
                  <a:lnTo>
                    <a:pt x="349" y="294"/>
                  </a:lnTo>
                  <a:lnTo>
                    <a:pt x="332" y="299"/>
                  </a:lnTo>
                  <a:lnTo>
                    <a:pt x="315" y="302"/>
                  </a:lnTo>
                  <a:lnTo>
                    <a:pt x="297" y="306"/>
                  </a:lnTo>
                  <a:lnTo>
                    <a:pt x="279" y="309"/>
                  </a:lnTo>
                  <a:lnTo>
                    <a:pt x="262" y="310"/>
                  </a:lnTo>
                  <a:lnTo>
                    <a:pt x="244" y="310"/>
                  </a:lnTo>
                  <a:lnTo>
                    <a:pt x="227" y="309"/>
                  </a:lnTo>
                  <a:lnTo>
                    <a:pt x="211" y="306"/>
                  </a:lnTo>
                  <a:lnTo>
                    <a:pt x="196" y="300"/>
                  </a:lnTo>
                  <a:lnTo>
                    <a:pt x="183" y="293"/>
                  </a:lnTo>
                  <a:lnTo>
                    <a:pt x="171" y="283"/>
                  </a:lnTo>
                  <a:lnTo>
                    <a:pt x="160" y="270"/>
                  </a:lnTo>
                  <a:lnTo>
                    <a:pt x="149" y="271"/>
                  </a:lnTo>
                  <a:lnTo>
                    <a:pt x="143" y="275"/>
                  </a:lnTo>
                  <a:lnTo>
                    <a:pt x="141" y="279"/>
                  </a:lnTo>
                  <a:lnTo>
                    <a:pt x="141" y="285"/>
                  </a:lnTo>
                  <a:lnTo>
                    <a:pt x="142" y="292"/>
                  </a:lnTo>
                  <a:lnTo>
                    <a:pt x="144" y="299"/>
                  </a:lnTo>
                  <a:lnTo>
                    <a:pt x="145" y="306"/>
                  </a:lnTo>
                  <a:lnTo>
                    <a:pt x="144" y="312"/>
                  </a:lnTo>
                  <a:lnTo>
                    <a:pt x="142" y="315"/>
                  </a:lnTo>
                  <a:lnTo>
                    <a:pt x="137" y="317"/>
                  </a:lnTo>
                  <a:lnTo>
                    <a:pt x="133" y="320"/>
                  </a:lnTo>
                  <a:lnTo>
                    <a:pt x="126" y="321"/>
                  </a:lnTo>
                  <a:lnTo>
                    <a:pt x="120" y="322"/>
                  </a:lnTo>
                  <a:lnTo>
                    <a:pt x="113" y="322"/>
                  </a:lnTo>
                  <a:lnTo>
                    <a:pt x="108" y="323"/>
                  </a:lnTo>
                  <a:lnTo>
                    <a:pt x="104" y="324"/>
                  </a:lnTo>
                  <a:lnTo>
                    <a:pt x="98" y="317"/>
                  </a:lnTo>
                  <a:lnTo>
                    <a:pt x="92" y="309"/>
                  </a:lnTo>
                  <a:lnTo>
                    <a:pt x="87" y="299"/>
                  </a:lnTo>
                  <a:lnTo>
                    <a:pt x="81" y="290"/>
                  </a:lnTo>
                  <a:lnTo>
                    <a:pt x="74" y="280"/>
                  </a:lnTo>
                  <a:lnTo>
                    <a:pt x="67" y="272"/>
                  </a:lnTo>
                  <a:lnTo>
                    <a:pt x="59" y="267"/>
                  </a:lnTo>
                  <a:lnTo>
                    <a:pt x="50" y="263"/>
                  </a:lnTo>
                  <a:lnTo>
                    <a:pt x="45" y="263"/>
                  </a:lnTo>
                  <a:lnTo>
                    <a:pt x="40" y="263"/>
                  </a:lnTo>
                  <a:lnTo>
                    <a:pt x="35" y="265"/>
                  </a:lnTo>
                  <a:lnTo>
                    <a:pt x="28" y="268"/>
                  </a:lnTo>
                  <a:lnTo>
                    <a:pt x="21" y="270"/>
                  </a:lnTo>
                  <a:lnTo>
                    <a:pt x="15" y="272"/>
                  </a:lnTo>
                  <a:lnTo>
                    <a:pt x="10" y="275"/>
                  </a:lnTo>
                  <a:lnTo>
                    <a:pt x="6" y="276"/>
                  </a:lnTo>
                  <a:lnTo>
                    <a:pt x="9" y="283"/>
                  </a:lnTo>
                  <a:lnTo>
                    <a:pt x="12" y="287"/>
                  </a:lnTo>
                  <a:lnTo>
                    <a:pt x="13" y="292"/>
                  </a:lnTo>
                  <a:lnTo>
                    <a:pt x="14" y="299"/>
                  </a:lnTo>
                  <a:lnTo>
                    <a:pt x="14" y="317"/>
                  </a:lnTo>
                  <a:lnTo>
                    <a:pt x="10" y="335"/>
                  </a:lnTo>
                  <a:lnTo>
                    <a:pt x="6" y="348"/>
                  </a:lnTo>
                  <a:lnTo>
                    <a:pt x="0" y="358"/>
                  </a:lnTo>
                  <a:lnTo>
                    <a:pt x="14" y="366"/>
                  </a:lnTo>
                  <a:lnTo>
                    <a:pt x="28" y="374"/>
                  </a:lnTo>
                  <a:lnTo>
                    <a:pt x="40" y="382"/>
                  </a:lnTo>
                  <a:lnTo>
                    <a:pt x="52" y="390"/>
                  </a:lnTo>
                  <a:lnTo>
                    <a:pt x="65" y="396"/>
                  </a:lnTo>
                  <a:lnTo>
                    <a:pt x="77" y="401"/>
                  </a:lnTo>
                  <a:lnTo>
                    <a:pt x="92" y="405"/>
                  </a:lnTo>
                  <a:lnTo>
                    <a:pt x="108" y="406"/>
                  </a:lnTo>
                  <a:close/>
                </a:path>
              </a:pathLst>
            </a:custGeom>
            <a:solidFill>
              <a:srgbClr val="0066cc">
                <a:alpha val="50000"/>
              </a:srgbClr>
            </a:solidFill>
            <a:ln w="9360">
              <a:solidFill>
                <a:srgbClr val="007c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14400" y="4243680"/>
              <a:ext cx="109800" cy="111240"/>
            </a:xfrm>
            <a:custGeom>
              <a:avLst/>
              <a:gdLst/>
              <a:ahLst/>
              <a:rect l="l" t="t" r="r" b="b"/>
              <a:pathLst>
                <a:path w="456" h="439">
                  <a:moveTo>
                    <a:pt x="441" y="341"/>
                  </a:moveTo>
                  <a:lnTo>
                    <a:pt x="440" y="329"/>
                  </a:lnTo>
                  <a:lnTo>
                    <a:pt x="442" y="318"/>
                  </a:lnTo>
                  <a:lnTo>
                    <a:pt x="446" y="309"/>
                  </a:lnTo>
                  <a:lnTo>
                    <a:pt x="450" y="298"/>
                  </a:lnTo>
                  <a:lnTo>
                    <a:pt x="455" y="281"/>
                  </a:lnTo>
                  <a:lnTo>
                    <a:pt x="456" y="265"/>
                  </a:lnTo>
                  <a:lnTo>
                    <a:pt x="454" y="249"/>
                  </a:lnTo>
                  <a:lnTo>
                    <a:pt x="450" y="232"/>
                  </a:lnTo>
                  <a:lnTo>
                    <a:pt x="446" y="216"/>
                  </a:lnTo>
                  <a:lnTo>
                    <a:pt x="442" y="200"/>
                  </a:lnTo>
                  <a:lnTo>
                    <a:pt x="441" y="184"/>
                  </a:lnTo>
                  <a:lnTo>
                    <a:pt x="442" y="167"/>
                  </a:lnTo>
                  <a:lnTo>
                    <a:pt x="435" y="163"/>
                  </a:lnTo>
                  <a:lnTo>
                    <a:pt x="426" y="160"/>
                  </a:lnTo>
                  <a:lnTo>
                    <a:pt x="416" y="158"/>
                  </a:lnTo>
                  <a:lnTo>
                    <a:pt x="409" y="154"/>
                  </a:lnTo>
                  <a:lnTo>
                    <a:pt x="413" y="134"/>
                  </a:lnTo>
                  <a:lnTo>
                    <a:pt x="410" y="114"/>
                  </a:lnTo>
                  <a:lnTo>
                    <a:pt x="404" y="95"/>
                  </a:lnTo>
                  <a:lnTo>
                    <a:pt x="397" y="78"/>
                  </a:lnTo>
                  <a:lnTo>
                    <a:pt x="393" y="71"/>
                  </a:lnTo>
                  <a:lnTo>
                    <a:pt x="387" y="65"/>
                  </a:lnTo>
                  <a:lnTo>
                    <a:pt x="379" y="59"/>
                  </a:lnTo>
                  <a:lnTo>
                    <a:pt x="373" y="53"/>
                  </a:lnTo>
                  <a:lnTo>
                    <a:pt x="364" y="44"/>
                  </a:lnTo>
                  <a:lnTo>
                    <a:pt x="356" y="36"/>
                  </a:lnTo>
                  <a:lnTo>
                    <a:pt x="347" y="28"/>
                  </a:lnTo>
                  <a:lnTo>
                    <a:pt x="338" y="20"/>
                  </a:lnTo>
                  <a:lnTo>
                    <a:pt x="329" y="15"/>
                  </a:lnTo>
                  <a:lnTo>
                    <a:pt x="319" y="12"/>
                  </a:lnTo>
                  <a:lnTo>
                    <a:pt x="307" y="11"/>
                  </a:lnTo>
                  <a:lnTo>
                    <a:pt x="294" y="12"/>
                  </a:lnTo>
                  <a:lnTo>
                    <a:pt x="273" y="16"/>
                  </a:lnTo>
                  <a:lnTo>
                    <a:pt x="253" y="23"/>
                  </a:lnTo>
                  <a:lnTo>
                    <a:pt x="235" y="30"/>
                  </a:lnTo>
                  <a:lnTo>
                    <a:pt x="215" y="38"/>
                  </a:lnTo>
                  <a:lnTo>
                    <a:pt x="196" y="44"/>
                  </a:lnTo>
                  <a:lnTo>
                    <a:pt x="176" y="46"/>
                  </a:lnTo>
                  <a:lnTo>
                    <a:pt x="156" y="46"/>
                  </a:lnTo>
                  <a:lnTo>
                    <a:pt x="135" y="41"/>
                  </a:lnTo>
                  <a:lnTo>
                    <a:pt x="125" y="34"/>
                  </a:lnTo>
                  <a:lnTo>
                    <a:pt x="117" y="25"/>
                  </a:lnTo>
                  <a:lnTo>
                    <a:pt x="113" y="14"/>
                  </a:lnTo>
                  <a:lnTo>
                    <a:pt x="110" y="4"/>
                  </a:lnTo>
                  <a:lnTo>
                    <a:pt x="69" y="0"/>
                  </a:lnTo>
                  <a:lnTo>
                    <a:pt x="63" y="1"/>
                  </a:lnTo>
                  <a:lnTo>
                    <a:pt x="59" y="5"/>
                  </a:lnTo>
                  <a:lnTo>
                    <a:pt x="55" y="10"/>
                  </a:lnTo>
                  <a:lnTo>
                    <a:pt x="52" y="14"/>
                  </a:lnTo>
                  <a:lnTo>
                    <a:pt x="46" y="18"/>
                  </a:lnTo>
                  <a:lnTo>
                    <a:pt x="40" y="20"/>
                  </a:lnTo>
                  <a:lnTo>
                    <a:pt x="34" y="22"/>
                  </a:lnTo>
                  <a:lnTo>
                    <a:pt x="27" y="23"/>
                  </a:lnTo>
                  <a:lnTo>
                    <a:pt x="22" y="25"/>
                  </a:lnTo>
                  <a:lnTo>
                    <a:pt x="15" y="26"/>
                  </a:lnTo>
                  <a:lnTo>
                    <a:pt x="7" y="26"/>
                  </a:lnTo>
                  <a:lnTo>
                    <a:pt x="0" y="26"/>
                  </a:lnTo>
                  <a:lnTo>
                    <a:pt x="0" y="53"/>
                  </a:lnTo>
                  <a:lnTo>
                    <a:pt x="3" y="78"/>
                  </a:lnTo>
                  <a:lnTo>
                    <a:pt x="12" y="99"/>
                  </a:lnTo>
                  <a:lnTo>
                    <a:pt x="30" y="114"/>
                  </a:lnTo>
                  <a:lnTo>
                    <a:pt x="38" y="111"/>
                  </a:lnTo>
                  <a:lnTo>
                    <a:pt x="46" y="111"/>
                  </a:lnTo>
                  <a:lnTo>
                    <a:pt x="53" y="113"/>
                  </a:lnTo>
                  <a:lnTo>
                    <a:pt x="61" y="119"/>
                  </a:lnTo>
                  <a:lnTo>
                    <a:pt x="60" y="127"/>
                  </a:lnTo>
                  <a:lnTo>
                    <a:pt x="59" y="136"/>
                  </a:lnTo>
                  <a:lnTo>
                    <a:pt x="57" y="147"/>
                  </a:lnTo>
                  <a:lnTo>
                    <a:pt x="56" y="155"/>
                  </a:lnTo>
                  <a:lnTo>
                    <a:pt x="69" y="160"/>
                  </a:lnTo>
                  <a:lnTo>
                    <a:pt x="79" y="167"/>
                  </a:lnTo>
                  <a:lnTo>
                    <a:pt x="88" y="175"/>
                  </a:lnTo>
                  <a:lnTo>
                    <a:pt x="98" y="184"/>
                  </a:lnTo>
                  <a:lnTo>
                    <a:pt x="106" y="192"/>
                  </a:lnTo>
                  <a:lnTo>
                    <a:pt x="113" y="201"/>
                  </a:lnTo>
                  <a:lnTo>
                    <a:pt x="120" y="211"/>
                  </a:lnTo>
                  <a:lnTo>
                    <a:pt x="128" y="223"/>
                  </a:lnTo>
                  <a:lnTo>
                    <a:pt x="159" y="223"/>
                  </a:lnTo>
                  <a:lnTo>
                    <a:pt x="162" y="250"/>
                  </a:lnTo>
                  <a:lnTo>
                    <a:pt x="169" y="278"/>
                  </a:lnTo>
                  <a:lnTo>
                    <a:pt x="176" y="306"/>
                  </a:lnTo>
                  <a:lnTo>
                    <a:pt x="180" y="331"/>
                  </a:lnTo>
                  <a:lnTo>
                    <a:pt x="190" y="332"/>
                  </a:lnTo>
                  <a:lnTo>
                    <a:pt x="199" y="330"/>
                  </a:lnTo>
                  <a:lnTo>
                    <a:pt x="207" y="328"/>
                  </a:lnTo>
                  <a:lnTo>
                    <a:pt x="215" y="324"/>
                  </a:lnTo>
                  <a:lnTo>
                    <a:pt x="222" y="321"/>
                  </a:lnTo>
                  <a:lnTo>
                    <a:pt x="229" y="318"/>
                  </a:lnTo>
                  <a:lnTo>
                    <a:pt x="237" y="316"/>
                  </a:lnTo>
                  <a:lnTo>
                    <a:pt x="246" y="315"/>
                  </a:lnTo>
                  <a:lnTo>
                    <a:pt x="254" y="344"/>
                  </a:lnTo>
                  <a:lnTo>
                    <a:pt x="264" y="367"/>
                  </a:lnTo>
                  <a:lnTo>
                    <a:pt x="275" y="386"/>
                  </a:lnTo>
                  <a:lnTo>
                    <a:pt x="289" y="402"/>
                  </a:lnTo>
                  <a:lnTo>
                    <a:pt x="304" y="415"/>
                  </a:lnTo>
                  <a:lnTo>
                    <a:pt x="322" y="425"/>
                  </a:lnTo>
                  <a:lnTo>
                    <a:pt x="344" y="434"/>
                  </a:lnTo>
                  <a:lnTo>
                    <a:pt x="370" y="439"/>
                  </a:lnTo>
                  <a:lnTo>
                    <a:pt x="378" y="427"/>
                  </a:lnTo>
                  <a:lnTo>
                    <a:pt x="381" y="409"/>
                  </a:lnTo>
                  <a:lnTo>
                    <a:pt x="382" y="391"/>
                  </a:lnTo>
                  <a:lnTo>
                    <a:pt x="385" y="372"/>
                  </a:lnTo>
                  <a:lnTo>
                    <a:pt x="388" y="356"/>
                  </a:lnTo>
                  <a:lnTo>
                    <a:pt x="397" y="344"/>
                  </a:lnTo>
                  <a:lnTo>
                    <a:pt x="415" y="339"/>
                  </a:lnTo>
                  <a:lnTo>
                    <a:pt x="441" y="341"/>
                  </a:lnTo>
                  <a:close/>
                </a:path>
              </a:pathLst>
            </a:custGeom>
            <a:solidFill>
              <a:srgbClr val="0066cc">
                <a:alpha val="50000"/>
              </a:srgbClr>
            </a:solidFill>
            <a:ln w="9360">
              <a:solidFill>
                <a:srgbClr val="007c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6560" y="3583800"/>
              <a:ext cx="430920" cy="530280"/>
            </a:xfrm>
            <a:custGeom>
              <a:avLst/>
              <a:gdLst/>
              <a:ahLst/>
              <a:rect l="l" t="t" r="r" b="b"/>
              <a:pathLst>
                <a:path w="1795" h="2105">
                  <a:moveTo>
                    <a:pt x="1431" y="2040"/>
                  </a:moveTo>
                  <a:lnTo>
                    <a:pt x="1323" y="1988"/>
                  </a:lnTo>
                  <a:lnTo>
                    <a:pt x="1293" y="1962"/>
                  </a:lnTo>
                  <a:lnTo>
                    <a:pt x="1302" y="1938"/>
                  </a:lnTo>
                  <a:lnTo>
                    <a:pt x="1305" y="1917"/>
                  </a:lnTo>
                  <a:lnTo>
                    <a:pt x="1301" y="1901"/>
                  </a:lnTo>
                  <a:lnTo>
                    <a:pt x="1293" y="1887"/>
                  </a:lnTo>
                  <a:lnTo>
                    <a:pt x="1283" y="1873"/>
                  </a:lnTo>
                  <a:lnTo>
                    <a:pt x="1271" y="1859"/>
                  </a:lnTo>
                  <a:lnTo>
                    <a:pt x="1261" y="1843"/>
                  </a:lnTo>
                  <a:lnTo>
                    <a:pt x="1253" y="1824"/>
                  </a:lnTo>
                  <a:lnTo>
                    <a:pt x="1253" y="1810"/>
                  </a:lnTo>
                  <a:lnTo>
                    <a:pt x="1255" y="1794"/>
                  </a:lnTo>
                  <a:lnTo>
                    <a:pt x="1260" y="1779"/>
                  </a:lnTo>
                  <a:lnTo>
                    <a:pt x="1263" y="1766"/>
                  </a:lnTo>
                  <a:lnTo>
                    <a:pt x="1306" y="1601"/>
                  </a:lnTo>
                  <a:lnTo>
                    <a:pt x="1320" y="1575"/>
                  </a:lnTo>
                  <a:lnTo>
                    <a:pt x="1333" y="1556"/>
                  </a:lnTo>
                  <a:lnTo>
                    <a:pt x="1350" y="1544"/>
                  </a:lnTo>
                  <a:lnTo>
                    <a:pt x="1367" y="1536"/>
                  </a:lnTo>
                  <a:lnTo>
                    <a:pt x="1385" y="1530"/>
                  </a:lnTo>
                  <a:lnTo>
                    <a:pt x="1405" y="1525"/>
                  </a:lnTo>
                  <a:lnTo>
                    <a:pt x="1427" y="1520"/>
                  </a:lnTo>
                  <a:lnTo>
                    <a:pt x="1451" y="1513"/>
                  </a:lnTo>
                  <a:lnTo>
                    <a:pt x="1456" y="1511"/>
                  </a:lnTo>
                  <a:lnTo>
                    <a:pt x="1462" y="1508"/>
                  </a:lnTo>
                  <a:lnTo>
                    <a:pt x="1468" y="1503"/>
                  </a:lnTo>
                  <a:lnTo>
                    <a:pt x="1471" y="1500"/>
                  </a:lnTo>
                  <a:lnTo>
                    <a:pt x="1488" y="1480"/>
                  </a:lnTo>
                  <a:lnTo>
                    <a:pt x="1504" y="1460"/>
                  </a:lnTo>
                  <a:lnTo>
                    <a:pt x="1519" y="1439"/>
                  </a:lnTo>
                  <a:lnTo>
                    <a:pt x="1536" y="1419"/>
                  </a:lnTo>
                  <a:lnTo>
                    <a:pt x="1555" y="1403"/>
                  </a:lnTo>
                  <a:lnTo>
                    <a:pt x="1575" y="1389"/>
                  </a:lnTo>
                  <a:lnTo>
                    <a:pt x="1601" y="1381"/>
                  </a:lnTo>
                  <a:lnTo>
                    <a:pt x="1630" y="1378"/>
                  </a:lnTo>
                  <a:lnTo>
                    <a:pt x="1630" y="1392"/>
                  </a:lnTo>
                  <a:lnTo>
                    <a:pt x="1626" y="1400"/>
                  </a:lnTo>
                  <a:lnTo>
                    <a:pt x="1619" y="1405"/>
                  </a:lnTo>
                  <a:lnTo>
                    <a:pt x="1609" y="1412"/>
                  </a:lnTo>
                  <a:lnTo>
                    <a:pt x="1605" y="1446"/>
                  </a:lnTo>
                  <a:lnTo>
                    <a:pt x="1597" y="1473"/>
                  </a:lnTo>
                  <a:lnTo>
                    <a:pt x="1587" y="1500"/>
                  </a:lnTo>
                  <a:lnTo>
                    <a:pt x="1575" y="1530"/>
                  </a:lnTo>
                  <a:lnTo>
                    <a:pt x="1570" y="1549"/>
                  </a:lnTo>
                  <a:lnTo>
                    <a:pt x="1565" y="1573"/>
                  </a:lnTo>
                  <a:lnTo>
                    <a:pt x="1563" y="1596"/>
                  </a:lnTo>
                  <a:lnTo>
                    <a:pt x="1565" y="1614"/>
                  </a:lnTo>
                  <a:lnTo>
                    <a:pt x="1572" y="1626"/>
                  </a:lnTo>
                  <a:lnTo>
                    <a:pt x="1587" y="1642"/>
                  </a:lnTo>
                  <a:lnTo>
                    <a:pt x="1604" y="1660"/>
                  </a:lnTo>
                  <a:lnTo>
                    <a:pt x="1620" y="1681"/>
                  </a:lnTo>
                  <a:lnTo>
                    <a:pt x="1633" y="1700"/>
                  </a:lnTo>
                  <a:lnTo>
                    <a:pt x="1636" y="1720"/>
                  </a:lnTo>
                  <a:lnTo>
                    <a:pt x="1630" y="1736"/>
                  </a:lnTo>
                  <a:lnTo>
                    <a:pt x="1605" y="1749"/>
                  </a:lnTo>
                  <a:lnTo>
                    <a:pt x="1598" y="1750"/>
                  </a:lnTo>
                  <a:lnTo>
                    <a:pt x="1591" y="1750"/>
                  </a:lnTo>
                  <a:lnTo>
                    <a:pt x="1585" y="1751"/>
                  </a:lnTo>
                  <a:lnTo>
                    <a:pt x="1578" y="1751"/>
                  </a:lnTo>
                  <a:lnTo>
                    <a:pt x="1570" y="1751"/>
                  </a:lnTo>
                  <a:lnTo>
                    <a:pt x="1563" y="1752"/>
                  </a:lnTo>
                  <a:lnTo>
                    <a:pt x="1556" y="1753"/>
                  </a:lnTo>
                  <a:lnTo>
                    <a:pt x="1549" y="1756"/>
                  </a:lnTo>
                  <a:lnTo>
                    <a:pt x="1541" y="1761"/>
                  </a:lnTo>
                  <a:lnTo>
                    <a:pt x="1533" y="1772"/>
                  </a:lnTo>
                  <a:lnTo>
                    <a:pt x="1526" y="1785"/>
                  </a:lnTo>
                  <a:lnTo>
                    <a:pt x="1519" y="1798"/>
                  </a:lnTo>
                  <a:lnTo>
                    <a:pt x="1511" y="1812"/>
                  </a:lnTo>
                  <a:lnTo>
                    <a:pt x="1503" y="1826"/>
                  </a:lnTo>
                  <a:lnTo>
                    <a:pt x="1492" y="1836"/>
                  </a:lnTo>
                  <a:lnTo>
                    <a:pt x="1481" y="1843"/>
                  </a:lnTo>
                  <a:lnTo>
                    <a:pt x="1454" y="1862"/>
                  </a:lnTo>
                  <a:lnTo>
                    <a:pt x="1442" y="1885"/>
                  </a:lnTo>
                  <a:lnTo>
                    <a:pt x="1437" y="1911"/>
                  </a:lnTo>
                  <a:lnTo>
                    <a:pt x="1439" y="1939"/>
                  </a:lnTo>
                  <a:lnTo>
                    <a:pt x="1443" y="1968"/>
                  </a:lnTo>
                  <a:lnTo>
                    <a:pt x="1445" y="1995"/>
                  </a:lnTo>
                  <a:lnTo>
                    <a:pt x="1443" y="2020"/>
                  </a:lnTo>
                  <a:lnTo>
                    <a:pt x="1431" y="2040"/>
                  </a:lnTo>
                  <a:close/>
                  <a:moveTo>
                    <a:pt x="1580" y="1886"/>
                  </a:moveTo>
                  <a:lnTo>
                    <a:pt x="1580" y="1879"/>
                  </a:lnTo>
                  <a:lnTo>
                    <a:pt x="1580" y="1870"/>
                  </a:lnTo>
                  <a:lnTo>
                    <a:pt x="1579" y="1863"/>
                  </a:lnTo>
                  <a:lnTo>
                    <a:pt x="1574" y="1857"/>
                  </a:lnTo>
                  <a:lnTo>
                    <a:pt x="1566" y="1855"/>
                  </a:lnTo>
                  <a:lnTo>
                    <a:pt x="1552" y="1855"/>
                  </a:lnTo>
                  <a:lnTo>
                    <a:pt x="1534" y="1857"/>
                  </a:lnTo>
                  <a:lnTo>
                    <a:pt x="1514" y="1861"/>
                  </a:lnTo>
                  <a:lnTo>
                    <a:pt x="1496" y="1865"/>
                  </a:lnTo>
                  <a:lnTo>
                    <a:pt x="1479" y="1871"/>
                  </a:lnTo>
                  <a:lnTo>
                    <a:pt x="1467" y="1877"/>
                  </a:lnTo>
                  <a:lnTo>
                    <a:pt x="1461" y="1884"/>
                  </a:lnTo>
                  <a:lnTo>
                    <a:pt x="1458" y="1899"/>
                  </a:lnTo>
                  <a:lnTo>
                    <a:pt x="1458" y="1915"/>
                  </a:lnTo>
                  <a:lnTo>
                    <a:pt x="1458" y="1932"/>
                  </a:lnTo>
                  <a:lnTo>
                    <a:pt x="1458" y="1947"/>
                  </a:lnTo>
                  <a:lnTo>
                    <a:pt x="1471" y="1948"/>
                  </a:lnTo>
                  <a:lnTo>
                    <a:pt x="1483" y="1952"/>
                  </a:lnTo>
                  <a:lnTo>
                    <a:pt x="1496" y="1957"/>
                  </a:lnTo>
                  <a:lnTo>
                    <a:pt x="1510" y="1962"/>
                  </a:lnTo>
                  <a:lnTo>
                    <a:pt x="1522" y="1968"/>
                  </a:lnTo>
                  <a:lnTo>
                    <a:pt x="1536" y="1973"/>
                  </a:lnTo>
                  <a:lnTo>
                    <a:pt x="1550" y="1977"/>
                  </a:lnTo>
                  <a:lnTo>
                    <a:pt x="1564" y="1978"/>
                  </a:lnTo>
                  <a:lnTo>
                    <a:pt x="1571" y="1956"/>
                  </a:lnTo>
                  <a:lnTo>
                    <a:pt x="1575" y="1933"/>
                  </a:lnTo>
                  <a:lnTo>
                    <a:pt x="1578" y="1909"/>
                  </a:lnTo>
                  <a:lnTo>
                    <a:pt x="1580" y="1886"/>
                  </a:lnTo>
                  <a:close/>
                  <a:moveTo>
                    <a:pt x="1625" y="1831"/>
                  </a:moveTo>
                  <a:lnTo>
                    <a:pt x="1634" y="1831"/>
                  </a:lnTo>
                  <a:lnTo>
                    <a:pt x="1647" y="1832"/>
                  </a:lnTo>
                  <a:lnTo>
                    <a:pt x="1662" y="1834"/>
                  </a:lnTo>
                  <a:lnTo>
                    <a:pt x="1678" y="1834"/>
                  </a:lnTo>
                  <a:lnTo>
                    <a:pt x="1693" y="1834"/>
                  </a:lnTo>
                  <a:lnTo>
                    <a:pt x="1707" y="1833"/>
                  </a:lnTo>
                  <a:lnTo>
                    <a:pt x="1717" y="1828"/>
                  </a:lnTo>
                  <a:lnTo>
                    <a:pt x="1724" y="1823"/>
                  </a:lnTo>
                  <a:lnTo>
                    <a:pt x="1729" y="1810"/>
                  </a:lnTo>
                  <a:lnTo>
                    <a:pt x="1734" y="1796"/>
                  </a:lnTo>
                  <a:lnTo>
                    <a:pt x="1742" y="1785"/>
                  </a:lnTo>
                  <a:lnTo>
                    <a:pt x="1756" y="1778"/>
                  </a:lnTo>
                  <a:lnTo>
                    <a:pt x="1763" y="1779"/>
                  </a:lnTo>
                  <a:lnTo>
                    <a:pt x="1772" y="1783"/>
                  </a:lnTo>
                  <a:lnTo>
                    <a:pt x="1782" y="1789"/>
                  </a:lnTo>
                  <a:lnTo>
                    <a:pt x="1785" y="1794"/>
                  </a:lnTo>
                  <a:lnTo>
                    <a:pt x="1787" y="1886"/>
                  </a:lnTo>
                  <a:lnTo>
                    <a:pt x="1784" y="1894"/>
                  </a:lnTo>
                  <a:lnTo>
                    <a:pt x="1777" y="1901"/>
                  </a:lnTo>
                  <a:lnTo>
                    <a:pt x="1771" y="1909"/>
                  </a:lnTo>
                  <a:lnTo>
                    <a:pt x="1769" y="1917"/>
                  </a:lnTo>
                  <a:lnTo>
                    <a:pt x="1775" y="1925"/>
                  </a:lnTo>
                  <a:lnTo>
                    <a:pt x="1785" y="1934"/>
                  </a:lnTo>
                  <a:lnTo>
                    <a:pt x="1793" y="1942"/>
                  </a:lnTo>
                  <a:lnTo>
                    <a:pt x="1795" y="1952"/>
                  </a:lnTo>
                  <a:lnTo>
                    <a:pt x="1793" y="1956"/>
                  </a:lnTo>
                  <a:lnTo>
                    <a:pt x="1790" y="1959"/>
                  </a:lnTo>
                  <a:lnTo>
                    <a:pt x="1785" y="1960"/>
                  </a:lnTo>
                  <a:lnTo>
                    <a:pt x="1779" y="1960"/>
                  </a:lnTo>
                  <a:lnTo>
                    <a:pt x="1774" y="1960"/>
                  </a:lnTo>
                  <a:lnTo>
                    <a:pt x="1768" y="1960"/>
                  </a:lnTo>
                  <a:lnTo>
                    <a:pt x="1762" y="1960"/>
                  </a:lnTo>
                  <a:lnTo>
                    <a:pt x="1759" y="1960"/>
                  </a:lnTo>
                  <a:lnTo>
                    <a:pt x="1753" y="1964"/>
                  </a:lnTo>
                  <a:lnTo>
                    <a:pt x="1749" y="1973"/>
                  </a:lnTo>
                  <a:lnTo>
                    <a:pt x="1747" y="1985"/>
                  </a:lnTo>
                  <a:lnTo>
                    <a:pt x="1746" y="1997"/>
                  </a:lnTo>
                  <a:lnTo>
                    <a:pt x="1742" y="2008"/>
                  </a:lnTo>
                  <a:lnTo>
                    <a:pt x="1738" y="2017"/>
                  </a:lnTo>
                  <a:lnTo>
                    <a:pt x="1730" y="2022"/>
                  </a:lnTo>
                  <a:lnTo>
                    <a:pt x="1717" y="2021"/>
                  </a:lnTo>
                  <a:lnTo>
                    <a:pt x="1711" y="2017"/>
                  </a:lnTo>
                  <a:lnTo>
                    <a:pt x="1704" y="2012"/>
                  </a:lnTo>
                  <a:lnTo>
                    <a:pt x="1697" y="2003"/>
                  </a:lnTo>
                  <a:lnTo>
                    <a:pt x="1692" y="1995"/>
                  </a:lnTo>
                  <a:lnTo>
                    <a:pt x="1684" y="1986"/>
                  </a:lnTo>
                  <a:lnTo>
                    <a:pt x="1677" y="1978"/>
                  </a:lnTo>
                  <a:lnTo>
                    <a:pt x="1670" y="1972"/>
                  </a:lnTo>
                  <a:lnTo>
                    <a:pt x="1662" y="1968"/>
                  </a:lnTo>
                  <a:lnTo>
                    <a:pt x="1655" y="1965"/>
                  </a:lnTo>
                  <a:lnTo>
                    <a:pt x="1648" y="1964"/>
                  </a:lnTo>
                  <a:lnTo>
                    <a:pt x="1643" y="1963"/>
                  </a:lnTo>
                  <a:lnTo>
                    <a:pt x="1639" y="1962"/>
                  </a:lnTo>
                  <a:lnTo>
                    <a:pt x="1634" y="1960"/>
                  </a:lnTo>
                  <a:lnTo>
                    <a:pt x="1630" y="1957"/>
                  </a:lnTo>
                  <a:lnTo>
                    <a:pt x="1625" y="1954"/>
                  </a:lnTo>
                  <a:lnTo>
                    <a:pt x="1619" y="1949"/>
                  </a:lnTo>
                  <a:lnTo>
                    <a:pt x="1626" y="1918"/>
                  </a:lnTo>
                  <a:lnTo>
                    <a:pt x="1623" y="1885"/>
                  </a:lnTo>
                  <a:lnTo>
                    <a:pt x="1620" y="1855"/>
                  </a:lnTo>
                  <a:lnTo>
                    <a:pt x="1625" y="1831"/>
                  </a:lnTo>
                  <a:close/>
                  <a:moveTo>
                    <a:pt x="1638" y="2039"/>
                  </a:moveTo>
                  <a:lnTo>
                    <a:pt x="1632" y="2037"/>
                  </a:lnTo>
                  <a:lnTo>
                    <a:pt x="1623" y="2032"/>
                  </a:lnTo>
                  <a:lnTo>
                    <a:pt x="1610" y="2026"/>
                  </a:lnTo>
                  <a:lnTo>
                    <a:pt x="1597" y="2022"/>
                  </a:lnTo>
                  <a:lnTo>
                    <a:pt x="1587" y="2020"/>
                  </a:lnTo>
                  <a:lnTo>
                    <a:pt x="1579" y="2021"/>
                  </a:lnTo>
                  <a:lnTo>
                    <a:pt x="1575" y="2028"/>
                  </a:lnTo>
                  <a:lnTo>
                    <a:pt x="1580" y="2041"/>
                  </a:lnTo>
                  <a:lnTo>
                    <a:pt x="1582" y="2045"/>
                  </a:lnTo>
                  <a:lnTo>
                    <a:pt x="1587" y="2045"/>
                  </a:lnTo>
                  <a:lnTo>
                    <a:pt x="1594" y="2044"/>
                  </a:lnTo>
                  <a:lnTo>
                    <a:pt x="1601" y="2043"/>
                  </a:lnTo>
                  <a:lnTo>
                    <a:pt x="1606" y="2041"/>
                  </a:lnTo>
                  <a:lnTo>
                    <a:pt x="1612" y="2054"/>
                  </a:lnTo>
                  <a:lnTo>
                    <a:pt x="1618" y="2066"/>
                  </a:lnTo>
                  <a:lnTo>
                    <a:pt x="1625" y="2077"/>
                  </a:lnTo>
                  <a:lnTo>
                    <a:pt x="1632" y="2085"/>
                  </a:lnTo>
                  <a:lnTo>
                    <a:pt x="1641" y="2091"/>
                  </a:lnTo>
                  <a:lnTo>
                    <a:pt x="1650" y="2093"/>
                  </a:lnTo>
                  <a:lnTo>
                    <a:pt x="1662" y="2092"/>
                  </a:lnTo>
                  <a:lnTo>
                    <a:pt x="1674" y="2086"/>
                  </a:lnTo>
                  <a:lnTo>
                    <a:pt x="1680" y="2086"/>
                  </a:lnTo>
                  <a:lnTo>
                    <a:pt x="1684" y="2089"/>
                  </a:lnTo>
                  <a:lnTo>
                    <a:pt x="1688" y="2094"/>
                  </a:lnTo>
                  <a:lnTo>
                    <a:pt x="1692" y="2101"/>
                  </a:lnTo>
                  <a:lnTo>
                    <a:pt x="1695" y="2105"/>
                  </a:lnTo>
                  <a:lnTo>
                    <a:pt x="1706" y="2097"/>
                  </a:lnTo>
                  <a:lnTo>
                    <a:pt x="1721" y="2089"/>
                  </a:lnTo>
                  <a:lnTo>
                    <a:pt x="1738" y="2081"/>
                  </a:lnTo>
                  <a:lnTo>
                    <a:pt x="1755" y="2073"/>
                  </a:lnTo>
                  <a:lnTo>
                    <a:pt x="1771" y="2063"/>
                  </a:lnTo>
                  <a:lnTo>
                    <a:pt x="1784" y="2054"/>
                  </a:lnTo>
                  <a:lnTo>
                    <a:pt x="1792" y="2044"/>
                  </a:lnTo>
                  <a:lnTo>
                    <a:pt x="1793" y="2033"/>
                  </a:lnTo>
                  <a:lnTo>
                    <a:pt x="1774" y="2035"/>
                  </a:lnTo>
                  <a:lnTo>
                    <a:pt x="1754" y="2037"/>
                  </a:lnTo>
                  <a:lnTo>
                    <a:pt x="1733" y="2040"/>
                  </a:lnTo>
                  <a:lnTo>
                    <a:pt x="1712" y="2043"/>
                  </a:lnTo>
                  <a:lnTo>
                    <a:pt x="1692" y="2045"/>
                  </a:lnTo>
                  <a:lnTo>
                    <a:pt x="1673" y="2046"/>
                  </a:lnTo>
                  <a:lnTo>
                    <a:pt x="1655" y="2044"/>
                  </a:lnTo>
                  <a:lnTo>
                    <a:pt x="1638" y="2039"/>
                  </a:lnTo>
                  <a:close/>
                  <a:moveTo>
                    <a:pt x="2" y="174"/>
                  </a:moveTo>
                  <a:lnTo>
                    <a:pt x="0" y="152"/>
                  </a:lnTo>
                  <a:lnTo>
                    <a:pt x="3" y="137"/>
                  </a:lnTo>
                  <a:lnTo>
                    <a:pt x="11" y="125"/>
                  </a:lnTo>
                  <a:lnTo>
                    <a:pt x="28" y="114"/>
                  </a:lnTo>
                  <a:lnTo>
                    <a:pt x="26" y="101"/>
                  </a:lnTo>
                  <a:lnTo>
                    <a:pt x="20" y="82"/>
                  </a:lnTo>
                  <a:lnTo>
                    <a:pt x="13" y="57"/>
                  </a:lnTo>
                  <a:lnTo>
                    <a:pt x="8" y="33"/>
                  </a:lnTo>
                  <a:lnTo>
                    <a:pt x="5" y="12"/>
                  </a:lnTo>
                  <a:lnTo>
                    <a:pt x="7" y="0"/>
                  </a:lnTo>
                  <a:lnTo>
                    <a:pt x="18" y="0"/>
                  </a:lnTo>
                  <a:lnTo>
                    <a:pt x="36" y="15"/>
                  </a:lnTo>
                  <a:lnTo>
                    <a:pt x="49" y="6"/>
                  </a:lnTo>
                  <a:lnTo>
                    <a:pt x="63" y="3"/>
                  </a:lnTo>
                  <a:lnTo>
                    <a:pt x="74" y="4"/>
                  </a:lnTo>
                  <a:lnTo>
                    <a:pt x="82" y="10"/>
                  </a:lnTo>
                  <a:lnTo>
                    <a:pt x="87" y="18"/>
                  </a:lnTo>
                  <a:lnTo>
                    <a:pt x="84" y="27"/>
                  </a:lnTo>
                  <a:lnTo>
                    <a:pt x="76" y="37"/>
                  </a:lnTo>
                  <a:lnTo>
                    <a:pt x="58" y="45"/>
                  </a:lnTo>
                  <a:lnTo>
                    <a:pt x="49" y="52"/>
                  </a:lnTo>
                  <a:lnTo>
                    <a:pt x="45" y="62"/>
                  </a:lnTo>
                  <a:lnTo>
                    <a:pt x="48" y="75"/>
                  </a:lnTo>
                  <a:lnTo>
                    <a:pt x="52" y="88"/>
                  </a:lnTo>
                  <a:lnTo>
                    <a:pt x="56" y="102"/>
                  </a:lnTo>
                  <a:lnTo>
                    <a:pt x="56" y="115"/>
                  </a:lnTo>
                  <a:lnTo>
                    <a:pt x="50" y="125"/>
                  </a:lnTo>
                  <a:lnTo>
                    <a:pt x="36" y="132"/>
                  </a:lnTo>
                  <a:lnTo>
                    <a:pt x="35" y="140"/>
                  </a:lnTo>
                  <a:lnTo>
                    <a:pt x="33" y="147"/>
                  </a:lnTo>
                  <a:lnTo>
                    <a:pt x="29" y="153"/>
                  </a:lnTo>
                  <a:lnTo>
                    <a:pt x="25" y="158"/>
                  </a:lnTo>
                  <a:lnTo>
                    <a:pt x="19" y="161"/>
                  </a:lnTo>
                  <a:lnTo>
                    <a:pt x="13" y="166"/>
                  </a:lnTo>
                  <a:lnTo>
                    <a:pt x="7" y="169"/>
                  </a:lnTo>
                  <a:lnTo>
                    <a:pt x="2" y="174"/>
                  </a:lnTo>
                  <a:close/>
                </a:path>
              </a:pathLst>
            </a:custGeom>
            <a:solidFill>
              <a:srgbClr val="0066cc">
                <a:alpha val="50000"/>
              </a:srgbClr>
            </a:solidFill>
            <a:ln w="9360">
              <a:solidFill>
                <a:srgbClr val="007c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490760" y="3276720"/>
              <a:ext cx="253800" cy="559440"/>
            </a:xfrm>
            <a:custGeom>
              <a:avLst/>
              <a:gdLst/>
              <a:ahLst/>
              <a:rect l="l" t="t" r="r" b="b"/>
              <a:pathLst>
                <a:path w="1060" h="2225">
                  <a:moveTo>
                    <a:pt x="602" y="206"/>
                  </a:moveTo>
                  <a:lnTo>
                    <a:pt x="601" y="219"/>
                  </a:lnTo>
                  <a:lnTo>
                    <a:pt x="599" y="232"/>
                  </a:lnTo>
                  <a:lnTo>
                    <a:pt x="597" y="247"/>
                  </a:lnTo>
                  <a:lnTo>
                    <a:pt x="595" y="262"/>
                  </a:lnTo>
                  <a:lnTo>
                    <a:pt x="599" y="282"/>
                  </a:lnTo>
                  <a:lnTo>
                    <a:pt x="607" y="305"/>
                  </a:lnTo>
                  <a:lnTo>
                    <a:pt x="617" y="327"/>
                  </a:lnTo>
                  <a:lnTo>
                    <a:pt x="627" y="343"/>
                  </a:lnTo>
                  <a:lnTo>
                    <a:pt x="640" y="363"/>
                  </a:lnTo>
                  <a:lnTo>
                    <a:pt x="657" y="383"/>
                  </a:lnTo>
                  <a:lnTo>
                    <a:pt x="673" y="401"/>
                  </a:lnTo>
                  <a:lnTo>
                    <a:pt x="690" y="420"/>
                  </a:lnTo>
                  <a:lnTo>
                    <a:pt x="705" y="439"/>
                  </a:lnTo>
                  <a:lnTo>
                    <a:pt x="720" y="459"/>
                  </a:lnTo>
                  <a:lnTo>
                    <a:pt x="731" y="479"/>
                  </a:lnTo>
                  <a:lnTo>
                    <a:pt x="741" y="501"/>
                  </a:lnTo>
                  <a:lnTo>
                    <a:pt x="739" y="520"/>
                  </a:lnTo>
                  <a:lnTo>
                    <a:pt x="734" y="550"/>
                  </a:lnTo>
                  <a:lnTo>
                    <a:pt x="726" y="580"/>
                  </a:lnTo>
                  <a:lnTo>
                    <a:pt x="721" y="600"/>
                  </a:lnTo>
                  <a:lnTo>
                    <a:pt x="718" y="608"/>
                  </a:lnTo>
                  <a:lnTo>
                    <a:pt x="712" y="618"/>
                  </a:lnTo>
                  <a:lnTo>
                    <a:pt x="706" y="626"/>
                  </a:lnTo>
                  <a:lnTo>
                    <a:pt x="701" y="634"/>
                  </a:lnTo>
                  <a:lnTo>
                    <a:pt x="697" y="643"/>
                  </a:lnTo>
                  <a:lnTo>
                    <a:pt x="693" y="653"/>
                  </a:lnTo>
                  <a:lnTo>
                    <a:pt x="692" y="664"/>
                  </a:lnTo>
                  <a:lnTo>
                    <a:pt x="693" y="675"/>
                  </a:lnTo>
                  <a:lnTo>
                    <a:pt x="705" y="700"/>
                  </a:lnTo>
                  <a:lnTo>
                    <a:pt x="725" y="724"/>
                  </a:lnTo>
                  <a:lnTo>
                    <a:pt x="748" y="748"/>
                  </a:lnTo>
                  <a:lnTo>
                    <a:pt x="772" y="773"/>
                  </a:lnTo>
                  <a:lnTo>
                    <a:pt x="794" y="800"/>
                  </a:lnTo>
                  <a:lnTo>
                    <a:pt x="812" y="825"/>
                  </a:lnTo>
                  <a:lnTo>
                    <a:pt x="822" y="850"/>
                  </a:lnTo>
                  <a:lnTo>
                    <a:pt x="822" y="876"/>
                  </a:lnTo>
                  <a:lnTo>
                    <a:pt x="817" y="888"/>
                  </a:lnTo>
                  <a:lnTo>
                    <a:pt x="807" y="903"/>
                  </a:lnTo>
                  <a:lnTo>
                    <a:pt x="797" y="916"/>
                  </a:lnTo>
                  <a:lnTo>
                    <a:pt x="791" y="928"/>
                  </a:lnTo>
                  <a:lnTo>
                    <a:pt x="805" y="951"/>
                  </a:lnTo>
                  <a:lnTo>
                    <a:pt x="806" y="973"/>
                  </a:lnTo>
                  <a:lnTo>
                    <a:pt x="804" y="997"/>
                  </a:lnTo>
                  <a:lnTo>
                    <a:pt x="807" y="1022"/>
                  </a:lnTo>
                  <a:lnTo>
                    <a:pt x="817" y="1042"/>
                  </a:lnTo>
                  <a:lnTo>
                    <a:pt x="828" y="1059"/>
                  </a:lnTo>
                  <a:lnTo>
                    <a:pt x="842" y="1074"/>
                  </a:lnTo>
                  <a:lnTo>
                    <a:pt x="856" y="1088"/>
                  </a:lnTo>
                  <a:lnTo>
                    <a:pt x="869" y="1103"/>
                  </a:lnTo>
                  <a:lnTo>
                    <a:pt x="879" y="1120"/>
                  </a:lnTo>
                  <a:lnTo>
                    <a:pt x="887" y="1140"/>
                  </a:lnTo>
                  <a:lnTo>
                    <a:pt x="889" y="1164"/>
                  </a:lnTo>
                  <a:lnTo>
                    <a:pt x="892" y="1174"/>
                  </a:lnTo>
                  <a:lnTo>
                    <a:pt x="896" y="1185"/>
                  </a:lnTo>
                  <a:lnTo>
                    <a:pt x="902" y="1195"/>
                  </a:lnTo>
                  <a:lnTo>
                    <a:pt x="905" y="1203"/>
                  </a:lnTo>
                  <a:lnTo>
                    <a:pt x="896" y="1215"/>
                  </a:lnTo>
                  <a:lnTo>
                    <a:pt x="890" y="1225"/>
                  </a:lnTo>
                  <a:lnTo>
                    <a:pt x="887" y="1236"/>
                  </a:lnTo>
                  <a:lnTo>
                    <a:pt x="882" y="1250"/>
                  </a:lnTo>
                  <a:lnTo>
                    <a:pt x="892" y="1268"/>
                  </a:lnTo>
                  <a:lnTo>
                    <a:pt x="903" y="1285"/>
                  </a:lnTo>
                  <a:lnTo>
                    <a:pt x="917" y="1301"/>
                  </a:lnTo>
                  <a:lnTo>
                    <a:pt x="932" y="1318"/>
                  </a:lnTo>
                  <a:lnTo>
                    <a:pt x="948" y="1336"/>
                  </a:lnTo>
                  <a:lnTo>
                    <a:pt x="965" y="1353"/>
                  </a:lnTo>
                  <a:lnTo>
                    <a:pt x="981" y="1370"/>
                  </a:lnTo>
                  <a:lnTo>
                    <a:pt x="998" y="1389"/>
                  </a:lnTo>
                  <a:lnTo>
                    <a:pt x="1013" y="1406"/>
                  </a:lnTo>
                  <a:lnTo>
                    <a:pt x="1026" y="1424"/>
                  </a:lnTo>
                  <a:lnTo>
                    <a:pt x="1039" y="1443"/>
                  </a:lnTo>
                  <a:lnTo>
                    <a:pt x="1048" y="1461"/>
                  </a:lnTo>
                  <a:lnTo>
                    <a:pt x="1055" y="1480"/>
                  </a:lnTo>
                  <a:lnTo>
                    <a:pt x="1060" y="1499"/>
                  </a:lnTo>
                  <a:lnTo>
                    <a:pt x="1060" y="1519"/>
                  </a:lnTo>
                  <a:lnTo>
                    <a:pt x="1055" y="1538"/>
                  </a:lnTo>
                  <a:lnTo>
                    <a:pt x="1053" y="1545"/>
                  </a:lnTo>
                  <a:lnTo>
                    <a:pt x="1047" y="1552"/>
                  </a:lnTo>
                  <a:lnTo>
                    <a:pt x="1041" y="1559"/>
                  </a:lnTo>
                  <a:lnTo>
                    <a:pt x="1036" y="1566"/>
                  </a:lnTo>
                  <a:lnTo>
                    <a:pt x="1029" y="1573"/>
                  </a:lnTo>
                  <a:lnTo>
                    <a:pt x="1023" y="1580"/>
                  </a:lnTo>
                  <a:lnTo>
                    <a:pt x="1018" y="1587"/>
                  </a:lnTo>
                  <a:lnTo>
                    <a:pt x="1016" y="1594"/>
                  </a:lnTo>
                  <a:lnTo>
                    <a:pt x="1006" y="1619"/>
                  </a:lnTo>
                  <a:lnTo>
                    <a:pt x="991" y="1644"/>
                  </a:lnTo>
                  <a:lnTo>
                    <a:pt x="976" y="1670"/>
                  </a:lnTo>
                  <a:lnTo>
                    <a:pt x="958" y="1694"/>
                  </a:lnTo>
                  <a:lnTo>
                    <a:pt x="941" y="1718"/>
                  </a:lnTo>
                  <a:lnTo>
                    <a:pt x="924" y="1743"/>
                  </a:lnTo>
                  <a:lnTo>
                    <a:pt x="909" y="1769"/>
                  </a:lnTo>
                  <a:lnTo>
                    <a:pt x="897" y="1794"/>
                  </a:lnTo>
                  <a:lnTo>
                    <a:pt x="819" y="1928"/>
                  </a:lnTo>
                  <a:lnTo>
                    <a:pt x="801" y="1953"/>
                  </a:lnTo>
                  <a:lnTo>
                    <a:pt x="782" y="1977"/>
                  </a:lnTo>
                  <a:lnTo>
                    <a:pt x="763" y="1999"/>
                  </a:lnTo>
                  <a:lnTo>
                    <a:pt x="742" y="2020"/>
                  </a:lnTo>
                  <a:lnTo>
                    <a:pt x="719" y="2038"/>
                  </a:lnTo>
                  <a:lnTo>
                    <a:pt x="696" y="2056"/>
                  </a:lnTo>
                  <a:lnTo>
                    <a:pt x="672" y="2072"/>
                  </a:lnTo>
                  <a:lnTo>
                    <a:pt x="646" y="2086"/>
                  </a:lnTo>
                  <a:lnTo>
                    <a:pt x="635" y="2076"/>
                  </a:lnTo>
                  <a:lnTo>
                    <a:pt x="623" y="2071"/>
                  </a:lnTo>
                  <a:lnTo>
                    <a:pt x="612" y="2067"/>
                  </a:lnTo>
                  <a:lnTo>
                    <a:pt x="601" y="2067"/>
                  </a:lnTo>
                  <a:lnTo>
                    <a:pt x="591" y="2071"/>
                  </a:lnTo>
                  <a:lnTo>
                    <a:pt x="583" y="2079"/>
                  </a:lnTo>
                  <a:lnTo>
                    <a:pt x="578" y="2090"/>
                  </a:lnTo>
                  <a:lnTo>
                    <a:pt x="576" y="2105"/>
                  </a:lnTo>
                  <a:lnTo>
                    <a:pt x="570" y="2107"/>
                  </a:lnTo>
                  <a:lnTo>
                    <a:pt x="564" y="2111"/>
                  </a:lnTo>
                  <a:lnTo>
                    <a:pt x="559" y="2113"/>
                  </a:lnTo>
                  <a:lnTo>
                    <a:pt x="553" y="2116"/>
                  </a:lnTo>
                  <a:lnTo>
                    <a:pt x="546" y="2118"/>
                  </a:lnTo>
                  <a:lnTo>
                    <a:pt x="540" y="2120"/>
                  </a:lnTo>
                  <a:lnTo>
                    <a:pt x="536" y="2122"/>
                  </a:lnTo>
                  <a:lnTo>
                    <a:pt x="532" y="2125"/>
                  </a:lnTo>
                  <a:lnTo>
                    <a:pt x="524" y="2131"/>
                  </a:lnTo>
                  <a:lnTo>
                    <a:pt x="515" y="2135"/>
                  </a:lnTo>
                  <a:lnTo>
                    <a:pt x="507" y="2140"/>
                  </a:lnTo>
                  <a:lnTo>
                    <a:pt x="499" y="2144"/>
                  </a:lnTo>
                  <a:lnTo>
                    <a:pt x="491" y="2148"/>
                  </a:lnTo>
                  <a:lnTo>
                    <a:pt x="483" y="2151"/>
                  </a:lnTo>
                  <a:lnTo>
                    <a:pt x="475" y="2154"/>
                  </a:lnTo>
                  <a:lnTo>
                    <a:pt x="465" y="2157"/>
                  </a:lnTo>
                  <a:lnTo>
                    <a:pt x="441" y="2169"/>
                  </a:lnTo>
                  <a:lnTo>
                    <a:pt x="417" y="2185"/>
                  </a:lnTo>
                  <a:lnTo>
                    <a:pt x="393" y="2202"/>
                  </a:lnTo>
                  <a:lnTo>
                    <a:pt x="370" y="2216"/>
                  </a:lnTo>
                  <a:lnTo>
                    <a:pt x="349" y="2225"/>
                  </a:lnTo>
                  <a:lnTo>
                    <a:pt x="329" y="2225"/>
                  </a:lnTo>
                  <a:lnTo>
                    <a:pt x="313" y="2212"/>
                  </a:lnTo>
                  <a:lnTo>
                    <a:pt x="301" y="2185"/>
                  </a:lnTo>
                  <a:lnTo>
                    <a:pt x="299" y="2181"/>
                  </a:lnTo>
                  <a:lnTo>
                    <a:pt x="297" y="2178"/>
                  </a:lnTo>
                  <a:lnTo>
                    <a:pt x="294" y="2175"/>
                  </a:lnTo>
                  <a:lnTo>
                    <a:pt x="292" y="2172"/>
                  </a:lnTo>
                  <a:lnTo>
                    <a:pt x="283" y="2174"/>
                  </a:lnTo>
                  <a:lnTo>
                    <a:pt x="276" y="2181"/>
                  </a:lnTo>
                  <a:lnTo>
                    <a:pt x="269" y="2190"/>
                  </a:lnTo>
                  <a:lnTo>
                    <a:pt x="263" y="2200"/>
                  </a:lnTo>
                  <a:lnTo>
                    <a:pt x="256" y="2209"/>
                  </a:lnTo>
                  <a:lnTo>
                    <a:pt x="248" y="2216"/>
                  </a:lnTo>
                  <a:lnTo>
                    <a:pt x="236" y="2218"/>
                  </a:lnTo>
                  <a:lnTo>
                    <a:pt x="222" y="2216"/>
                  </a:lnTo>
                  <a:lnTo>
                    <a:pt x="211" y="2203"/>
                  </a:lnTo>
                  <a:lnTo>
                    <a:pt x="205" y="2184"/>
                  </a:lnTo>
                  <a:lnTo>
                    <a:pt x="203" y="2162"/>
                  </a:lnTo>
                  <a:lnTo>
                    <a:pt x="203" y="2144"/>
                  </a:lnTo>
                  <a:lnTo>
                    <a:pt x="196" y="2127"/>
                  </a:lnTo>
                  <a:lnTo>
                    <a:pt x="183" y="2110"/>
                  </a:lnTo>
                  <a:lnTo>
                    <a:pt x="166" y="2090"/>
                  </a:lnTo>
                  <a:lnTo>
                    <a:pt x="146" y="2072"/>
                  </a:lnTo>
                  <a:lnTo>
                    <a:pt x="125" y="2053"/>
                  </a:lnTo>
                  <a:lnTo>
                    <a:pt x="105" y="2036"/>
                  </a:lnTo>
                  <a:lnTo>
                    <a:pt x="86" y="2020"/>
                  </a:lnTo>
                  <a:lnTo>
                    <a:pt x="72" y="2007"/>
                  </a:lnTo>
                  <a:lnTo>
                    <a:pt x="72" y="2004"/>
                  </a:lnTo>
                  <a:lnTo>
                    <a:pt x="75" y="1999"/>
                  </a:lnTo>
                  <a:lnTo>
                    <a:pt x="76" y="1993"/>
                  </a:lnTo>
                  <a:lnTo>
                    <a:pt x="76" y="1988"/>
                  </a:lnTo>
                  <a:lnTo>
                    <a:pt x="76" y="1962"/>
                  </a:lnTo>
                  <a:lnTo>
                    <a:pt x="74" y="1936"/>
                  </a:lnTo>
                  <a:lnTo>
                    <a:pt x="69" y="1909"/>
                  </a:lnTo>
                  <a:lnTo>
                    <a:pt x="63" y="1883"/>
                  </a:lnTo>
                  <a:lnTo>
                    <a:pt x="59" y="1856"/>
                  </a:lnTo>
                  <a:lnTo>
                    <a:pt x="55" y="1830"/>
                  </a:lnTo>
                  <a:lnTo>
                    <a:pt x="54" y="1803"/>
                  </a:lnTo>
                  <a:lnTo>
                    <a:pt x="56" y="1778"/>
                  </a:lnTo>
                  <a:lnTo>
                    <a:pt x="57" y="1762"/>
                  </a:lnTo>
                  <a:lnTo>
                    <a:pt x="56" y="1745"/>
                  </a:lnTo>
                  <a:lnTo>
                    <a:pt x="54" y="1727"/>
                  </a:lnTo>
                  <a:lnTo>
                    <a:pt x="53" y="1711"/>
                  </a:lnTo>
                  <a:lnTo>
                    <a:pt x="54" y="1689"/>
                  </a:lnTo>
                  <a:lnTo>
                    <a:pt x="57" y="1671"/>
                  </a:lnTo>
                  <a:lnTo>
                    <a:pt x="59" y="1654"/>
                  </a:lnTo>
                  <a:lnTo>
                    <a:pt x="56" y="1636"/>
                  </a:lnTo>
                  <a:lnTo>
                    <a:pt x="54" y="1616"/>
                  </a:lnTo>
                  <a:lnTo>
                    <a:pt x="57" y="1591"/>
                  </a:lnTo>
                  <a:lnTo>
                    <a:pt x="62" y="1567"/>
                  </a:lnTo>
                  <a:lnTo>
                    <a:pt x="69" y="1546"/>
                  </a:lnTo>
                  <a:lnTo>
                    <a:pt x="78" y="1526"/>
                  </a:lnTo>
                  <a:lnTo>
                    <a:pt x="90" y="1507"/>
                  </a:lnTo>
                  <a:lnTo>
                    <a:pt x="102" y="1489"/>
                  </a:lnTo>
                  <a:lnTo>
                    <a:pt x="116" y="1471"/>
                  </a:lnTo>
                  <a:lnTo>
                    <a:pt x="131" y="1454"/>
                  </a:lnTo>
                  <a:lnTo>
                    <a:pt x="147" y="1437"/>
                  </a:lnTo>
                  <a:lnTo>
                    <a:pt x="165" y="1421"/>
                  </a:lnTo>
                  <a:lnTo>
                    <a:pt x="182" y="1405"/>
                  </a:lnTo>
                  <a:lnTo>
                    <a:pt x="199" y="1389"/>
                  </a:lnTo>
                  <a:lnTo>
                    <a:pt x="215" y="1371"/>
                  </a:lnTo>
                  <a:lnTo>
                    <a:pt x="231" y="1355"/>
                  </a:lnTo>
                  <a:lnTo>
                    <a:pt x="246" y="1338"/>
                  </a:lnTo>
                  <a:lnTo>
                    <a:pt x="260" y="1321"/>
                  </a:lnTo>
                  <a:lnTo>
                    <a:pt x="273" y="1302"/>
                  </a:lnTo>
                  <a:lnTo>
                    <a:pt x="283" y="1283"/>
                  </a:lnTo>
                  <a:lnTo>
                    <a:pt x="292" y="1262"/>
                  </a:lnTo>
                  <a:lnTo>
                    <a:pt x="303" y="1236"/>
                  </a:lnTo>
                  <a:lnTo>
                    <a:pt x="314" y="1212"/>
                  </a:lnTo>
                  <a:lnTo>
                    <a:pt x="328" y="1189"/>
                  </a:lnTo>
                  <a:lnTo>
                    <a:pt x="342" y="1168"/>
                  </a:lnTo>
                  <a:lnTo>
                    <a:pt x="356" y="1149"/>
                  </a:lnTo>
                  <a:lnTo>
                    <a:pt x="369" y="1130"/>
                  </a:lnTo>
                  <a:lnTo>
                    <a:pt x="382" y="1113"/>
                  </a:lnTo>
                  <a:lnTo>
                    <a:pt x="394" y="1096"/>
                  </a:lnTo>
                  <a:lnTo>
                    <a:pt x="404" y="1081"/>
                  </a:lnTo>
                  <a:lnTo>
                    <a:pt x="412" y="1066"/>
                  </a:lnTo>
                  <a:lnTo>
                    <a:pt x="419" y="1052"/>
                  </a:lnTo>
                  <a:lnTo>
                    <a:pt x="423" y="1038"/>
                  </a:lnTo>
                  <a:lnTo>
                    <a:pt x="423" y="1024"/>
                  </a:lnTo>
                  <a:lnTo>
                    <a:pt x="418" y="1012"/>
                  </a:lnTo>
                  <a:lnTo>
                    <a:pt x="411" y="999"/>
                  </a:lnTo>
                  <a:lnTo>
                    <a:pt x="398" y="986"/>
                  </a:lnTo>
                  <a:lnTo>
                    <a:pt x="386" y="976"/>
                  </a:lnTo>
                  <a:lnTo>
                    <a:pt x="372" y="967"/>
                  </a:lnTo>
                  <a:lnTo>
                    <a:pt x="356" y="959"/>
                  </a:lnTo>
                  <a:lnTo>
                    <a:pt x="341" y="951"/>
                  </a:lnTo>
                  <a:lnTo>
                    <a:pt x="325" y="945"/>
                  </a:lnTo>
                  <a:lnTo>
                    <a:pt x="309" y="939"/>
                  </a:lnTo>
                  <a:lnTo>
                    <a:pt x="294" y="935"/>
                  </a:lnTo>
                  <a:lnTo>
                    <a:pt x="279" y="931"/>
                  </a:lnTo>
                  <a:lnTo>
                    <a:pt x="280" y="898"/>
                  </a:lnTo>
                  <a:lnTo>
                    <a:pt x="282" y="859"/>
                  </a:lnTo>
                  <a:lnTo>
                    <a:pt x="282" y="820"/>
                  </a:lnTo>
                  <a:lnTo>
                    <a:pt x="276" y="788"/>
                  </a:lnTo>
                  <a:lnTo>
                    <a:pt x="269" y="769"/>
                  </a:lnTo>
                  <a:lnTo>
                    <a:pt x="267" y="754"/>
                  </a:lnTo>
                  <a:lnTo>
                    <a:pt x="267" y="739"/>
                  </a:lnTo>
                  <a:lnTo>
                    <a:pt x="271" y="717"/>
                  </a:lnTo>
                  <a:lnTo>
                    <a:pt x="271" y="704"/>
                  </a:lnTo>
                  <a:lnTo>
                    <a:pt x="267" y="693"/>
                  </a:lnTo>
                  <a:lnTo>
                    <a:pt x="261" y="682"/>
                  </a:lnTo>
                  <a:lnTo>
                    <a:pt x="253" y="673"/>
                  </a:lnTo>
                  <a:lnTo>
                    <a:pt x="245" y="664"/>
                  </a:lnTo>
                  <a:lnTo>
                    <a:pt x="238" y="655"/>
                  </a:lnTo>
                  <a:lnTo>
                    <a:pt x="234" y="645"/>
                  </a:lnTo>
                  <a:lnTo>
                    <a:pt x="234" y="634"/>
                  </a:lnTo>
                  <a:lnTo>
                    <a:pt x="235" y="626"/>
                  </a:lnTo>
                  <a:lnTo>
                    <a:pt x="239" y="617"/>
                  </a:lnTo>
                  <a:lnTo>
                    <a:pt x="243" y="606"/>
                  </a:lnTo>
                  <a:lnTo>
                    <a:pt x="244" y="597"/>
                  </a:lnTo>
                  <a:lnTo>
                    <a:pt x="241" y="585"/>
                  </a:lnTo>
                  <a:lnTo>
                    <a:pt x="234" y="576"/>
                  </a:lnTo>
                  <a:lnTo>
                    <a:pt x="226" y="568"/>
                  </a:lnTo>
                  <a:lnTo>
                    <a:pt x="219" y="560"/>
                  </a:lnTo>
                  <a:lnTo>
                    <a:pt x="213" y="539"/>
                  </a:lnTo>
                  <a:lnTo>
                    <a:pt x="213" y="511"/>
                  </a:lnTo>
                  <a:lnTo>
                    <a:pt x="215" y="482"/>
                  </a:lnTo>
                  <a:lnTo>
                    <a:pt x="216" y="460"/>
                  </a:lnTo>
                  <a:lnTo>
                    <a:pt x="212" y="456"/>
                  </a:lnTo>
                  <a:lnTo>
                    <a:pt x="206" y="453"/>
                  </a:lnTo>
                  <a:lnTo>
                    <a:pt x="200" y="449"/>
                  </a:lnTo>
                  <a:lnTo>
                    <a:pt x="196" y="448"/>
                  </a:lnTo>
                  <a:lnTo>
                    <a:pt x="178" y="441"/>
                  </a:lnTo>
                  <a:lnTo>
                    <a:pt x="161" y="433"/>
                  </a:lnTo>
                  <a:lnTo>
                    <a:pt x="146" y="423"/>
                  </a:lnTo>
                  <a:lnTo>
                    <a:pt x="131" y="411"/>
                  </a:lnTo>
                  <a:lnTo>
                    <a:pt x="117" y="399"/>
                  </a:lnTo>
                  <a:lnTo>
                    <a:pt x="104" y="385"/>
                  </a:lnTo>
                  <a:lnTo>
                    <a:pt x="92" y="369"/>
                  </a:lnTo>
                  <a:lnTo>
                    <a:pt x="79" y="353"/>
                  </a:lnTo>
                  <a:lnTo>
                    <a:pt x="68" y="337"/>
                  </a:lnTo>
                  <a:lnTo>
                    <a:pt x="57" y="319"/>
                  </a:lnTo>
                  <a:lnTo>
                    <a:pt x="47" y="302"/>
                  </a:lnTo>
                  <a:lnTo>
                    <a:pt x="37" y="286"/>
                  </a:lnTo>
                  <a:lnTo>
                    <a:pt x="27" y="269"/>
                  </a:lnTo>
                  <a:lnTo>
                    <a:pt x="18" y="251"/>
                  </a:lnTo>
                  <a:lnTo>
                    <a:pt x="9" y="235"/>
                  </a:lnTo>
                  <a:lnTo>
                    <a:pt x="0" y="220"/>
                  </a:lnTo>
                  <a:lnTo>
                    <a:pt x="3" y="218"/>
                  </a:lnTo>
                  <a:lnTo>
                    <a:pt x="10" y="213"/>
                  </a:lnTo>
                  <a:lnTo>
                    <a:pt x="19" y="206"/>
                  </a:lnTo>
                  <a:lnTo>
                    <a:pt x="30" y="199"/>
                  </a:lnTo>
                  <a:lnTo>
                    <a:pt x="39" y="191"/>
                  </a:lnTo>
                  <a:lnTo>
                    <a:pt x="47" y="186"/>
                  </a:lnTo>
                  <a:lnTo>
                    <a:pt x="54" y="182"/>
                  </a:lnTo>
                  <a:lnTo>
                    <a:pt x="56" y="182"/>
                  </a:lnTo>
                  <a:lnTo>
                    <a:pt x="64" y="203"/>
                  </a:lnTo>
                  <a:lnTo>
                    <a:pt x="76" y="224"/>
                  </a:lnTo>
                  <a:lnTo>
                    <a:pt x="89" y="243"/>
                  </a:lnTo>
                  <a:lnTo>
                    <a:pt x="104" y="263"/>
                  </a:lnTo>
                  <a:lnTo>
                    <a:pt x="121" y="279"/>
                  </a:lnTo>
                  <a:lnTo>
                    <a:pt x="139" y="294"/>
                  </a:lnTo>
                  <a:lnTo>
                    <a:pt x="159" y="305"/>
                  </a:lnTo>
                  <a:lnTo>
                    <a:pt x="180" y="314"/>
                  </a:lnTo>
                  <a:lnTo>
                    <a:pt x="191" y="316"/>
                  </a:lnTo>
                  <a:lnTo>
                    <a:pt x="203" y="315"/>
                  </a:lnTo>
                  <a:lnTo>
                    <a:pt x="213" y="312"/>
                  </a:lnTo>
                  <a:lnTo>
                    <a:pt x="222" y="309"/>
                  </a:lnTo>
                  <a:lnTo>
                    <a:pt x="233" y="305"/>
                  </a:lnTo>
                  <a:lnTo>
                    <a:pt x="242" y="301"/>
                  </a:lnTo>
                  <a:lnTo>
                    <a:pt x="251" y="299"/>
                  </a:lnTo>
                  <a:lnTo>
                    <a:pt x="261" y="297"/>
                  </a:lnTo>
                  <a:lnTo>
                    <a:pt x="266" y="303"/>
                  </a:lnTo>
                  <a:lnTo>
                    <a:pt x="272" y="310"/>
                  </a:lnTo>
                  <a:lnTo>
                    <a:pt x="277" y="316"/>
                  </a:lnTo>
                  <a:lnTo>
                    <a:pt x="284" y="323"/>
                  </a:lnTo>
                  <a:lnTo>
                    <a:pt x="290" y="328"/>
                  </a:lnTo>
                  <a:lnTo>
                    <a:pt x="296" y="335"/>
                  </a:lnTo>
                  <a:lnTo>
                    <a:pt x="301" y="341"/>
                  </a:lnTo>
                  <a:lnTo>
                    <a:pt x="304" y="348"/>
                  </a:lnTo>
                  <a:lnTo>
                    <a:pt x="324" y="347"/>
                  </a:lnTo>
                  <a:lnTo>
                    <a:pt x="337" y="342"/>
                  </a:lnTo>
                  <a:lnTo>
                    <a:pt x="348" y="334"/>
                  </a:lnTo>
                  <a:lnTo>
                    <a:pt x="355" y="325"/>
                  </a:lnTo>
                  <a:lnTo>
                    <a:pt x="360" y="314"/>
                  </a:lnTo>
                  <a:lnTo>
                    <a:pt x="367" y="300"/>
                  </a:lnTo>
                  <a:lnTo>
                    <a:pt x="374" y="285"/>
                  </a:lnTo>
                  <a:lnTo>
                    <a:pt x="385" y="269"/>
                  </a:lnTo>
                  <a:lnTo>
                    <a:pt x="386" y="249"/>
                  </a:lnTo>
                  <a:lnTo>
                    <a:pt x="392" y="231"/>
                  </a:lnTo>
                  <a:lnTo>
                    <a:pt x="400" y="211"/>
                  </a:lnTo>
                  <a:lnTo>
                    <a:pt x="402" y="194"/>
                  </a:lnTo>
                  <a:lnTo>
                    <a:pt x="398" y="164"/>
                  </a:lnTo>
                  <a:lnTo>
                    <a:pt x="398" y="128"/>
                  </a:lnTo>
                  <a:lnTo>
                    <a:pt x="400" y="92"/>
                  </a:lnTo>
                  <a:lnTo>
                    <a:pt x="404" y="62"/>
                  </a:lnTo>
                  <a:lnTo>
                    <a:pt x="407" y="58"/>
                  </a:lnTo>
                  <a:lnTo>
                    <a:pt x="412" y="54"/>
                  </a:lnTo>
                  <a:lnTo>
                    <a:pt x="420" y="51"/>
                  </a:lnTo>
                  <a:lnTo>
                    <a:pt x="430" y="47"/>
                  </a:lnTo>
                  <a:lnTo>
                    <a:pt x="439" y="45"/>
                  </a:lnTo>
                  <a:lnTo>
                    <a:pt x="447" y="43"/>
                  </a:lnTo>
                  <a:lnTo>
                    <a:pt x="454" y="42"/>
                  </a:lnTo>
                  <a:lnTo>
                    <a:pt x="458" y="40"/>
                  </a:lnTo>
                  <a:lnTo>
                    <a:pt x="464" y="32"/>
                  </a:lnTo>
                  <a:lnTo>
                    <a:pt x="471" y="17"/>
                  </a:lnTo>
                  <a:lnTo>
                    <a:pt x="478" y="5"/>
                  </a:lnTo>
                  <a:lnTo>
                    <a:pt x="489" y="0"/>
                  </a:lnTo>
                  <a:lnTo>
                    <a:pt x="516" y="12"/>
                  </a:lnTo>
                  <a:lnTo>
                    <a:pt x="539" y="31"/>
                  </a:lnTo>
                  <a:lnTo>
                    <a:pt x="557" y="57"/>
                  </a:lnTo>
                  <a:lnTo>
                    <a:pt x="572" y="87"/>
                  </a:lnTo>
                  <a:lnTo>
                    <a:pt x="584" y="118"/>
                  </a:lnTo>
                  <a:lnTo>
                    <a:pt x="591" y="149"/>
                  </a:lnTo>
                  <a:lnTo>
                    <a:pt x="592" y="178"/>
                  </a:lnTo>
                  <a:lnTo>
                    <a:pt x="590" y="203"/>
                  </a:lnTo>
                  <a:lnTo>
                    <a:pt x="592" y="204"/>
                  </a:lnTo>
                  <a:lnTo>
                    <a:pt x="594" y="204"/>
                  </a:lnTo>
                  <a:lnTo>
                    <a:pt x="598" y="205"/>
                  </a:lnTo>
                  <a:lnTo>
                    <a:pt x="602" y="206"/>
                  </a:lnTo>
                  <a:close/>
                </a:path>
              </a:pathLst>
            </a:custGeom>
            <a:solidFill>
              <a:srgbClr val="0066cc">
                <a:alpha val="50000"/>
              </a:srgbClr>
            </a:solidFill>
            <a:ln w="9360">
              <a:solidFill>
                <a:srgbClr val="007c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35400" y="4250520"/>
              <a:ext cx="445320" cy="564840"/>
            </a:xfrm>
            <a:custGeom>
              <a:avLst/>
              <a:gdLst/>
              <a:ahLst/>
              <a:rect l="l" t="t" r="r" b="b"/>
              <a:pathLst>
                <a:path w="1856" h="2245">
                  <a:moveTo>
                    <a:pt x="1163" y="0"/>
                  </a:moveTo>
                  <a:lnTo>
                    <a:pt x="1163" y="27"/>
                  </a:lnTo>
                  <a:lnTo>
                    <a:pt x="1166" y="52"/>
                  </a:lnTo>
                  <a:lnTo>
                    <a:pt x="1175" y="73"/>
                  </a:lnTo>
                  <a:lnTo>
                    <a:pt x="1193" y="88"/>
                  </a:lnTo>
                  <a:lnTo>
                    <a:pt x="1201" y="85"/>
                  </a:lnTo>
                  <a:lnTo>
                    <a:pt x="1209" y="85"/>
                  </a:lnTo>
                  <a:lnTo>
                    <a:pt x="1216" y="87"/>
                  </a:lnTo>
                  <a:lnTo>
                    <a:pt x="1224" y="93"/>
                  </a:lnTo>
                  <a:lnTo>
                    <a:pt x="1223" y="101"/>
                  </a:lnTo>
                  <a:lnTo>
                    <a:pt x="1222" y="110"/>
                  </a:lnTo>
                  <a:lnTo>
                    <a:pt x="1220" y="121"/>
                  </a:lnTo>
                  <a:lnTo>
                    <a:pt x="1219" y="129"/>
                  </a:lnTo>
                  <a:lnTo>
                    <a:pt x="1232" y="134"/>
                  </a:lnTo>
                  <a:lnTo>
                    <a:pt x="1242" y="141"/>
                  </a:lnTo>
                  <a:lnTo>
                    <a:pt x="1251" y="149"/>
                  </a:lnTo>
                  <a:lnTo>
                    <a:pt x="1261" y="158"/>
                  </a:lnTo>
                  <a:lnTo>
                    <a:pt x="1269" y="166"/>
                  </a:lnTo>
                  <a:lnTo>
                    <a:pt x="1276" y="175"/>
                  </a:lnTo>
                  <a:lnTo>
                    <a:pt x="1283" y="185"/>
                  </a:lnTo>
                  <a:lnTo>
                    <a:pt x="1291" y="197"/>
                  </a:lnTo>
                  <a:lnTo>
                    <a:pt x="1322" y="197"/>
                  </a:lnTo>
                  <a:lnTo>
                    <a:pt x="1325" y="224"/>
                  </a:lnTo>
                  <a:lnTo>
                    <a:pt x="1332" y="252"/>
                  </a:lnTo>
                  <a:lnTo>
                    <a:pt x="1339" y="280"/>
                  </a:lnTo>
                  <a:lnTo>
                    <a:pt x="1343" y="305"/>
                  </a:lnTo>
                  <a:lnTo>
                    <a:pt x="1353" y="306"/>
                  </a:lnTo>
                  <a:lnTo>
                    <a:pt x="1362" y="304"/>
                  </a:lnTo>
                  <a:lnTo>
                    <a:pt x="1370" y="302"/>
                  </a:lnTo>
                  <a:lnTo>
                    <a:pt x="1378" y="298"/>
                  </a:lnTo>
                  <a:lnTo>
                    <a:pt x="1385" y="295"/>
                  </a:lnTo>
                  <a:lnTo>
                    <a:pt x="1392" y="292"/>
                  </a:lnTo>
                  <a:lnTo>
                    <a:pt x="1400" y="290"/>
                  </a:lnTo>
                  <a:lnTo>
                    <a:pt x="1409" y="289"/>
                  </a:lnTo>
                  <a:lnTo>
                    <a:pt x="1419" y="318"/>
                  </a:lnTo>
                  <a:lnTo>
                    <a:pt x="1429" y="342"/>
                  </a:lnTo>
                  <a:lnTo>
                    <a:pt x="1442" y="363"/>
                  </a:lnTo>
                  <a:lnTo>
                    <a:pt x="1457" y="379"/>
                  </a:lnTo>
                  <a:lnTo>
                    <a:pt x="1474" y="393"/>
                  </a:lnTo>
                  <a:lnTo>
                    <a:pt x="1495" y="403"/>
                  </a:lnTo>
                  <a:lnTo>
                    <a:pt x="1518" y="411"/>
                  </a:lnTo>
                  <a:lnTo>
                    <a:pt x="1543" y="418"/>
                  </a:lnTo>
                  <a:lnTo>
                    <a:pt x="1545" y="429"/>
                  </a:lnTo>
                  <a:lnTo>
                    <a:pt x="1551" y="436"/>
                  </a:lnTo>
                  <a:lnTo>
                    <a:pt x="1560" y="441"/>
                  </a:lnTo>
                  <a:lnTo>
                    <a:pt x="1571" y="442"/>
                  </a:lnTo>
                  <a:lnTo>
                    <a:pt x="1582" y="442"/>
                  </a:lnTo>
                  <a:lnTo>
                    <a:pt x="1595" y="441"/>
                  </a:lnTo>
                  <a:lnTo>
                    <a:pt x="1605" y="440"/>
                  </a:lnTo>
                  <a:lnTo>
                    <a:pt x="1614" y="439"/>
                  </a:lnTo>
                  <a:lnTo>
                    <a:pt x="1617" y="456"/>
                  </a:lnTo>
                  <a:lnTo>
                    <a:pt x="1622" y="471"/>
                  </a:lnTo>
                  <a:lnTo>
                    <a:pt x="1631" y="485"/>
                  </a:lnTo>
                  <a:lnTo>
                    <a:pt x="1643" y="497"/>
                  </a:lnTo>
                  <a:lnTo>
                    <a:pt x="1657" y="509"/>
                  </a:lnTo>
                  <a:lnTo>
                    <a:pt x="1673" y="519"/>
                  </a:lnTo>
                  <a:lnTo>
                    <a:pt x="1690" y="529"/>
                  </a:lnTo>
                  <a:lnTo>
                    <a:pt x="1709" y="538"/>
                  </a:lnTo>
                  <a:lnTo>
                    <a:pt x="1728" y="546"/>
                  </a:lnTo>
                  <a:lnTo>
                    <a:pt x="1748" y="553"/>
                  </a:lnTo>
                  <a:lnTo>
                    <a:pt x="1768" y="560"/>
                  </a:lnTo>
                  <a:lnTo>
                    <a:pt x="1786" y="567"/>
                  </a:lnTo>
                  <a:lnTo>
                    <a:pt x="1803" y="573"/>
                  </a:lnTo>
                  <a:lnTo>
                    <a:pt x="1819" y="580"/>
                  </a:lnTo>
                  <a:lnTo>
                    <a:pt x="1834" y="586"/>
                  </a:lnTo>
                  <a:lnTo>
                    <a:pt x="1846" y="593"/>
                  </a:lnTo>
                  <a:lnTo>
                    <a:pt x="1845" y="606"/>
                  </a:lnTo>
                  <a:lnTo>
                    <a:pt x="1840" y="615"/>
                  </a:lnTo>
                  <a:lnTo>
                    <a:pt x="1834" y="623"/>
                  </a:lnTo>
                  <a:lnTo>
                    <a:pt x="1829" y="630"/>
                  </a:lnTo>
                  <a:lnTo>
                    <a:pt x="1822" y="638"/>
                  </a:lnTo>
                  <a:lnTo>
                    <a:pt x="1816" y="647"/>
                  </a:lnTo>
                  <a:lnTo>
                    <a:pt x="1811" y="658"/>
                  </a:lnTo>
                  <a:lnTo>
                    <a:pt x="1810" y="671"/>
                  </a:lnTo>
                  <a:lnTo>
                    <a:pt x="1800" y="676"/>
                  </a:lnTo>
                  <a:lnTo>
                    <a:pt x="1791" y="681"/>
                  </a:lnTo>
                  <a:lnTo>
                    <a:pt x="1784" y="688"/>
                  </a:lnTo>
                  <a:lnTo>
                    <a:pt x="1778" y="694"/>
                  </a:lnTo>
                  <a:lnTo>
                    <a:pt x="1773" y="703"/>
                  </a:lnTo>
                  <a:lnTo>
                    <a:pt x="1771" y="712"/>
                  </a:lnTo>
                  <a:lnTo>
                    <a:pt x="1769" y="722"/>
                  </a:lnTo>
                  <a:lnTo>
                    <a:pt x="1769" y="732"/>
                  </a:lnTo>
                  <a:lnTo>
                    <a:pt x="1755" y="735"/>
                  </a:lnTo>
                  <a:lnTo>
                    <a:pt x="1745" y="741"/>
                  </a:lnTo>
                  <a:lnTo>
                    <a:pt x="1738" y="751"/>
                  </a:lnTo>
                  <a:lnTo>
                    <a:pt x="1733" y="762"/>
                  </a:lnTo>
                  <a:lnTo>
                    <a:pt x="1730" y="775"/>
                  </a:lnTo>
                  <a:lnTo>
                    <a:pt x="1728" y="789"/>
                  </a:lnTo>
                  <a:lnTo>
                    <a:pt x="1727" y="803"/>
                  </a:lnTo>
                  <a:lnTo>
                    <a:pt x="1727" y="815"/>
                  </a:lnTo>
                  <a:lnTo>
                    <a:pt x="1712" y="827"/>
                  </a:lnTo>
                  <a:lnTo>
                    <a:pt x="1703" y="847"/>
                  </a:lnTo>
                  <a:lnTo>
                    <a:pt x="1699" y="868"/>
                  </a:lnTo>
                  <a:lnTo>
                    <a:pt x="1697" y="893"/>
                  </a:lnTo>
                  <a:lnTo>
                    <a:pt x="1682" y="893"/>
                  </a:lnTo>
                  <a:lnTo>
                    <a:pt x="1669" y="895"/>
                  </a:lnTo>
                  <a:lnTo>
                    <a:pt x="1656" y="897"/>
                  </a:lnTo>
                  <a:lnTo>
                    <a:pt x="1644" y="901"/>
                  </a:lnTo>
                  <a:lnTo>
                    <a:pt x="1633" y="906"/>
                  </a:lnTo>
                  <a:lnTo>
                    <a:pt x="1622" y="912"/>
                  </a:lnTo>
                  <a:lnTo>
                    <a:pt x="1611" y="920"/>
                  </a:lnTo>
                  <a:lnTo>
                    <a:pt x="1599" y="930"/>
                  </a:lnTo>
                  <a:lnTo>
                    <a:pt x="1580" y="946"/>
                  </a:lnTo>
                  <a:lnTo>
                    <a:pt x="1561" y="963"/>
                  </a:lnTo>
                  <a:lnTo>
                    <a:pt x="1543" y="981"/>
                  </a:lnTo>
                  <a:lnTo>
                    <a:pt x="1526" y="1001"/>
                  </a:lnTo>
                  <a:lnTo>
                    <a:pt x="1510" y="1022"/>
                  </a:lnTo>
                  <a:lnTo>
                    <a:pt x="1495" y="1044"/>
                  </a:lnTo>
                  <a:lnTo>
                    <a:pt x="1482" y="1065"/>
                  </a:lnTo>
                  <a:lnTo>
                    <a:pt x="1470" y="1089"/>
                  </a:lnTo>
                  <a:lnTo>
                    <a:pt x="1463" y="1098"/>
                  </a:lnTo>
                  <a:lnTo>
                    <a:pt x="1454" y="1107"/>
                  </a:lnTo>
                  <a:lnTo>
                    <a:pt x="1442" y="1115"/>
                  </a:lnTo>
                  <a:lnTo>
                    <a:pt x="1430" y="1124"/>
                  </a:lnTo>
                  <a:lnTo>
                    <a:pt x="1421" y="1132"/>
                  </a:lnTo>
                  <a:lnTo>
                    <a:pt x="1415" y="1143"/>
                  </a:lnTo>
                  <a:lnTo>
                    <a:pt x="1415" y="1154"/>
                  </a:lnTo>
                  <a:lnTo>
                    <a:pt x="1424" y="1167"/>
                  </a:lnTo>
                  <a:lnTo>
                    <a:pt x="1452" y="1151"/>
                  </a:lnTo>
                  <a:lnTo>
                    <a:pt x="1475" y="1146"/>
                  </a:lnTo>
                  <a:lnTo>
                    <a:pt x="1493" y="1150"/>
                  </a:lnTo>
                  <a:lnTo>
                    <a:pt x="1508" y="1160"/>
                  </a:lnTo>
                  <a:lnTo>
                    <a:pt x="1521" y="1177"/>
                  </a:lnTo>
                  <a:lnTo>
                    <a:pt x="1531" y="1198"/>
                  </a:lnTo>
                  <a:lnTo>
                    <a:pt x="1542" y="1221"/>
                  </a:lnTo>
                  <a:lnTo>
                    <a:pt x="1553" y="1244"/>
                  </a:lnTo>
                  <a:lnTo>
                    <a:pt x="1541" y="1253"/>
                  </a:lnTo>
                  <a:lnTo>
                    <a:pt x="1535" y="1266"/>
                  </a:lnTo>
                  <a:lnTo>
                    <a:pt x="1533" y="1280"/>
                  </a:lnTo>
                  <a:lnTo>
                    <a:pt x="1535" y="1295"/>
                  </a:lnTo>
                  <a:lnTo>
                    <a:pt x="1540" y="1311"/>
                  </a:lnTo>
                  <a:lnTo>
                    <a:pt x="1545" y="1327"/>
                  </a:lnTo>
                  <a:lnTo>
                    <a:pt x="1552" y="1343"/>
                  </a:lnTo>
                  <a:lnTo>
                    <a:pt x="1558" y="1357"/>
                  </a:lnTo>
                  <a:lnTo>
                    <a:pt x="1551" y="1363"/>
                  </a:lnTo>
                  <a:lnTo>
                    <a:pt x="1542" y="1370"/>
                  </a:lnTo>
                  <a:lnTo>
                    <a:pt x="1530" y="1378"/>
                  </a:lnTo>
                  <a:lnTo>
                    <a:pt x="1520" y="1386"/>
                  </a:lnTo>
                  <a:lnTo>
                    <a:pt x="1511" y="1394"/>
                  </a:lnTo>
                  <a:lnTo>
                    <a:pt x="1504" y="1403"/>
                  </a:lnTo>
                  <a:lnTo>
                    <a:pt x="1500" y="1413"/>
                  </a:lnTo>
                  <a:lnTo>
                    <a:pt x="1501" y="1425"/>
                  </a:lnTo>
                  <a:lnTo>
                    <a:pt x="1506" y="1436"/>
                  </a:lnTo>
                  <a:lnTo>
                    <a:pt x="1511" y="1446"/>
                  </a:lnTo>
                  <a:lnTo>
                    <a:pt x="1514" y="1454"/>
                  </a:lnTo>
                  <a:lnTo>
                    <a:pt x="1516" y="1461"/>
                  </a:lnTo>
                  <a:lnTo>
                    <a:pt x="1516" y="1468"/>
                  </a:lnTo>
                  <a:lnTo>
                    <a:pt x="1514" y="1476"/>
                  </a:lnTo>
                  <a:lnTo>
                    <a:pt x="1507" y="1485"/>
                  </a:lnTo>
                  <a:lnTo>
                    <a:pt x="1497" y="1496"/>
                  </a:lnTo>
                  <a:lnTo>
                    <a:pt x="1497" y="1504"/>
                  </a:lnTo>
                  <a:lnTo>
                    <a:pt x="1493" y="1515"/>
                  </a:lnTo>
                  <a:lnTo>
                    <a:pt x="1489" y="1528"/>
                  </a:lnTo>
                  <a:lnTo>
                    <a:pt x="1484" y="1540"/>
                  </a:lnTo>
                  <a:lnTo>
                    <a:pt x="1481" y="1554"/>
                  </a:lnTo>
                  <a:lnTo>
                    <a:pt x="1480" y="1567"/>
                  </a:lnTo>
                  <a:lnTo>
                    <a:pt x="1483" y="1577"/>
                  </a:lnTo>
                  <a:lnTo>
                    <a:pt x="1491" y="1584"/>
                  </a:lnTo>
                  <a:lnTo>
                    <a:pt x="1501" y="1591"/>
                  </a:lnTo>
                  <a:lnTo>
                    <a:pt x="1512" y="1600"/>
                  </a:lnTo>
                  <a:lnTo>
                    <a:pt x="1520" y="1609"/>
                  </a:lnTo>
                  <a:lnTo>
                    <a:pt x="1529" y="1619"/>
                  </a:lnTo>
                  <a:lnTo>
                    <a:pt x="1538" y="1628"/>
                  </a:lnTo>
                  <a:lnTo>
                    <a:pt x="1548" y="1635"/>
                  </a:lnTo>
                  <a:lnTo>
                    <a:pt x="1560" y="1639"/>
                  </a:lnTo>
                  <a:lnTo>
                    <a:pt x="1574" y="1642"/>
                  </a:lnTo>
                  <a:lnTo>
                    <a:pt x="1569" y="1659"/>
                  </a:lnTo>
                  <a:lnTo>
                    <a:pt x="1561" y="1675"/>
                  </a:lnTo>
                  <a:lnTo>
                    <a:pt x="1552" y="1692"/>
                  </a:lnTo>
                  <a:lnTo>
                    <a:pt x="1550" y="1712"/>
                  </a:lnTo>
                  <a:lnTo>
                    <a:pt x="1542" y="1713"/>
                  </a:lnTo>
                  <a:lnTo>
                    <a:pt x="1530" y="1716"/>
                  </a:lnTo>
                  <a:lnTo>
                    <a:pt x="1515" y="1722"/>
                  </a:lnTo>
                  <a:lnTo>
                    <a:pt x="1498" y="1730"/>
                  </a:lnTo>
                  <a:lnTo>
                    <a:pt x="1482" y="1738"/>
                  </a:lnTo>
                  <a:lnTo>
                    <a:pt x="1467" y="1745"/>
                  </a:lnTo>
                  <a:lnTo>
                    <a:pt x="1454" y="1752"/>
                  </a:lnTo>
                  <a:lnTo>
                    <a:pt x="1446" y="1756"/>
                  </a:lnTo>
                  <a:lnTo>
                    <a:pt x="1434" y="1765"/>
                  </a:lnTo>
                  <a:lnTo>
                    <a:pt x="1424" y="1780"/>
                  </a:lnTo>
                  <a:lnTo>
                    <a:pt x="1419" y="1796"/>
                  </a:lnTo>
                  <a:lnTo>
                    <a:pt x="1413" y="1810"/>
                  </a:lnTo>
                  <a:lnTo>
                    <a:pt x="1393" y="1810"/>
                  </a:lnTo>
                  <a:lnTo>
                    <a:pt x="1376" y="1809"/>
                  </a:lnTo>
                  <a:lnTo>
                    <a:pt x="1360" y="1806"/>
                  </a:lnTo>
                  <a:lnTo>
                    <a:pt x="1344" y="1804"/>
                  </a:lnTo>
                  <a:lnTo>
                    <a:pt x="1329" y="1801"/>
                  </a:lnTo>
                  <a:lnTo>
                    <a:pt x="1314" y="1797"/>
                  </a:lnTo>
                  <a:lnTo>
                    <a:pt x="1299" y="1793"/>
                  </a:lnTo>
                  <a:lnTo>
                    <a:pt x="1283" y="1787"/>
                  </a:lnTo>
                  <a:lnTo>
                    <a:pt x="1266" y="1778"/>
                  </a:lnTo>
                  <a:lnTo>
                    <a:pt x="1253" y="1768"/>
                  </a:lnTo>
                  <a:lnTo>
                    <a:pt x="1241" y="1758"/>
                  </a:lnTo>
                  <a:lnTo>
                    <a:pt x="1228" y="1749"/>
                  </a:lnTo>
                  <a:lnTo>
                    <a:pt x="1217" y="1741"/>
                  </a:lnTo>
                  <a:lnTo>
                    <a:pt x="1203" y="1735"/>
                  </a:lnTo>
                  <a:lnTo>
                    <a:pt x="1187" y="1734"/>
                  </a:lnTo>
                  <a:lnTo>
                    <a:pt x="1167" y="1736"/>
                  </a:lnTo>
                  <a:lnTo>
                    <a:pt x="1144" y="1736"/>
                  </a:lnTo>
                  <a:lnTo>
                    <a:pt x="1125" y="1726"/>
                  </a:lnTo>
                  <a:lnTo>
                    <a:pt x="1107" y="1708"/>
                  </a:lnTo>
                  <a:lnTo>
                    <a:pt x="1092" y="1689"/>
                  </a:lnTo>
                  <a:lnTo>
                    <a:pt x="1076" y="1669"/>
                  </a:lnTo>
                  <a:lnTo>
                    <a:pt x="1059" y="1655"/>
                  </a:lnTo>
                  <a:lnTo>
                    <a:pt x="1039" y="1648"/>
                  </a:lnTo>
                  <a:lnTo>
                    <a:pt x="1016" y="1654"/>
                  </a:lnTo>
                  <a:lnTo>
                    <a:pt x="999" y="1651"/>
                  </a:lnTo>
                  <a:lnTo>
                    <a:pt x="982" y="1653"/>
                  </a:lnTo>
                  <a:lnTo>
                    <a:pt x="966" y="1658"/>
                  </a:lnTo>
                  <a:lnTo>
                    <a:pt x="950" y="1666"/>
                  </a:lnTo>
                  <a:lnTo>
                    <a:pt x="933" y="1675"/>
                  </a:lnTo>
                  <a:lnTo>
                    <a:pt x="917" y="1685"/>
                  </a:lnTo>
                  <a:lnTo>
                    <a:pt x="901" y="1695"/>
                  </a:lnTo>
                  <a:lnTo>
                    <a:pt x="885" y="1701"/>
                  </a:lnTo>
                  <a:lnTo>
                    <a:pt x="882" y="1703"/>
                  </a:lnTo>
                  <a:lnTo>
                    <a:pt x="876" y="1707"/>
                  </a:lnTo>
                  <a:lnTo>
                    <a:pt x="870" y="1712"/>
                  </a:lnTo>
                  <a:lnTo>
                    <a:pt x="864" y="1719"/>
                  </a:lnTo>
                  <a:lnTo>
                    <a:pt x="859" y="1725"/>
                  </a:lnTo>
                  <a:lnTo>
                    <a:pt x="853" y="1730"/>
                  </a:lnTo>
                  <a:lnTo>
                    <a:pt x="849" y="1734"/>
                  </a:lnTo>
                  <a:lnTo>
                    <a:pt x="848" y="1736"/>
                  </a:lnTo>
                  <a:lnTo>
                    <a:pt x="824" y="1859"/>
                  </a:lnTo>
                  <a:lnTo>
                    <a:pt x="751" y="1848"/>
                  </a:lnTo>
                  <a:lnTo>
                    <a:pt x="742" y="1846"/>
                  </a:lnTo>
                  <a:lnTo>
                    <a:pt x="732" y="1840"/>
                  </a:lnTo>
                  <a:lnTo>
                    <a:pt x="719" y="1832"/>
                  </a:lnTo>
                  <a:lnTo>
                    <a:pt x="705" y="1821"/>
                  </a:lnTo>
                  <a:lnTo>
                    <a:pt x="692" y="1811"/>
                  </a:lnTo>
                  <a:lnTo>
                    <a:pt x="678" y="1801"/>
                  </a:lnTo>
                  <a:lnTo>
                    <a:pt x="665" y="1790"/>
                  </a:lnTo>
                  <a:lnTo>
                    <a:pt x="654" y="1781"/>
                  </a:lnTo>
                  <a:lnTo>
                    <a:pt x="644" y="1774"/>
                  </a:lnTo>
                  <a:lnTo>
                    <a:pt x="636" y="1767"/>
                  </a:lnTo>
                  <a:lnTo>
                    <a:pt x="628" y="1763"/>
                  </a:lnTo>
                  <a:lnTo>
                    <a:pt x="622" y="1759"/>
                  </a:lnTo>
                  <a:lnTo>
                    <a:pt x="616" y="1757"/>
                  </a:lnTo>
                  <a:lnTo>
                    <a:pt x="610" y="1756"/>
                  </a:lnTo>
                  <a:lnTo>
                    <a:pt x="603" y="1754"/>
                  </a:lnTo>
                  <a:lnTo>
                    <a:pt x="597" y="1754"/>
                  </a:lnTo>
                  <a:lnTo>
                    <a:pt x="595" y="1746"/>
                  </a:lnTo>
                  <a:lnTo>
                    <a:pt x="592" y="1738"/>
                  </a:lnTo>
                  <a:lnTo>
                    <a:pt x="591" y="1731"/>
                  </a:lnTo>
                  <a:lnTo>
                    <a:pt x="591" y="1723"/>
                  </a:lnTo>
                  <a:lnTo>
                    <a:pt x="579" y="1721"/>
                  </a:lnTo>
                  <a:lnTo>
                    <a:pt x="566" y="1715"/>
                  </a:lnTo>
                  <a:lnTo>
                    <a:pt x="552" y="1707"/>
                  </a:lnTo>
                  <a:lnTo>
                    <a:pt x="538" y="1697"/>
                  </a:lnTo>
                  <a:lnTo>
                    <a:pt x="524" y="1687"/>
                  </a:lnTo>
                  <a:lnTo>
                    <a:pt x="511" y="1676"/>
                  </a:lnTo>
                  <a:lnTo>
                    <a:pt x="499" y="1668"/>
                  </a:lnTo>
                  <a:lnTo>
                    <a:pt x="489" y="1662"/>
                  </a:lnTo>
                  <a:lnTo>
                    <a:pt x="482" y="1685"/>
                  </a:lnTo>
                  <a:lnTo>
                    <a:pt x="463" y="1697"/>
                  </a:lnTo>
                  <a:lnTo>
                    <a:pt x="438" y="1697"/>
                  </a:lnTo>
                  <a:lnTo>
                    <a:pt x="408" y="1689"/>
                  </a:lnTo>
                  <a:lnTo>
                    <a:pt x="377" y="1674"/>
                  </a:lnTo>
                  <a:lnTo>
                    <a:pt x="351" y="1655"/>
                  </a:lnTo>
                  <a:lnTo>
                    <a:pt x="330" y="1636"/>
                  </a:lnTo>
                  <a:lnTo>
                    <a:pt x="319" y="1615"/>
                  </a:lnTo>
                  <a:lnTo>
                    <a:pt x="293" y="1609"/>
                  </a:lnTo>
                  <a:lnTo>
                    <a:pt x="270" y="1594"/>
                  </a:lnTo>
                  <a:lnTo>
                    <a:pt x="250" y="1572"/>
                  </a:lnTo>
                  <a:lnTo>
                    <a:pt x="232" y="1547"/>
                  </a:lnTo>
                  <a:lnTo>
                    <a:pt x="216" y="1519"/>
                  </a:lnTo>
                  <a:lnTo>
                    <a:pt x="200" y="1493"/>
                  </a:lnTo>
                  <a:lnTo>
                    <a:pt x="183" y="1471"/>
                  </a:lnTo>
                  <a:lnTo>
                    <a:pt x="165" y="1455"/>
                  </a:lnTo>
                  <a:lnTo>
                    <a:pt x="175" y="1443"/>
                  </a:lnTo>
                  <a:lnTo>
                    <a:pt x="187" y="1431"/>
                  </a:lnTo>
                  <a:lnTo>
                    <a:pt x="198" y="1418"/>
                  </a:lnTo>
                  <a:lnTo>
                    <a:pt x="210" y="1403"/>
                  </a:lnTo>
                  <a:lnTo>
                    <a:pt x="219" y="1389"/>
                  </a:lnTo>
                  <a:lnTo>
                    <a:pt x="227" y="1374"/>
                  </a:lnTo>
                  <a:lnTo>
                    <a:pt x="233" y="1360"/>
                  </a:lnTo>
                  <a:lnTo>
                    <a:pt x="236" y="1348"/>
                  </a:lnTo>
                  <a:lnTo>
                    <a:pt x="240" y="1339"/>
                  </a:lnTo>
                  <a:lnTo>
                    <a:pt x="246" y="1330"/>
                  </a:lnTo>
                  <a:lnTo>
                    <a:pt x="254" y="1321"/>
                  </a:lnTo>
                  <a:lnTo>
                    <a:pt x="262" y="1313"/>
                  </a:lnTo>
                  <a:lnTo>
                    <a:pt x="269" y="1304"/>
                  </a:lnTo>
                  <a:lnTo>
                    <a:pt x="273" y="1295"/>
                  </a:lnTo>
                  <a:lnTo>
                    <a:pt x="276" y="1284"/>
                  </a:lnTo>
                  <a:lnTo>
                    <a:pt x="273" y="1274"/>
                  </a:lnTo>
                  <a:lnTo>
                    <a:pt x="276" y="1245"/>
                  </a:lnTo>
                  <a:lnTo>
                    <a:pt x="281" y="1215"/>
                  </a:lnTo>
                  <a:lnTo>
                    <a:pt x="289" y="1185"/>
                  </a:lnTo>
                  <a:lnTo>
                    <a:pt x="300" y="1154"/>
                  </a:lnTo>
                  <a:lnTo>
                    <a:pt x="310" y="1124"/>
                  </a:lnTo>
                  <a:lnTo>
                    <a:pt x="322" y="1094"/>
                  </a:lnTo>
                  <a:lnTo>
                    <a:pt x="332" y="1067"/>
                  </a:lnTo>
                  <a:lnTo>
                    <a:pt x="341" y="1040"/>
                  </a:lnTo>
                  <a:lnTo>
                    <a:pt x="346" y="1033"/>
                  </a:lnTo>
                  <a:lnTo>
                    <a:pt x="355" y="1033"/>
                  </a:lnTo>
                  <a:lnTo>
                    <a:pt x="364" y="1038"/>
                  </a:lnTo>
                  <a:lnTo>
                    <a:pt x="371" y="1044"/>
                  </a:lnTo>
                  <a:lnTo>
                    <a:pt x="376" y="1037"/>
                  </a:lnTo>
                  <a:lnTo>
                    <a:pt x="377" y="1030"/>
                  </a:lnTo>
                  <a:lnTo>
                    <a:pt x="375" y="1023"/>
                  </a:lnTo>
                  <a:lnTo>
                    <a:pt x="370" y="1017"/>
                  </a:lnTo>
                  <a:lnTo>
                    <a:pt x="364" y="1011"/>
                  </a:lnTo>
                  <a:lnTo>
                    <a:pt x="360" y="1004"/>
                  </a:lnTo>
                  <a:lnTo>
                    <a:pt x="355" y="997"/>
                  </a:lnTo>
                  <a:lnTo>
                    <a:pt x="354" y="991"/>
                  </a:lnTo>
                  <a:lnTo>
                    <a:pt x="360" y="955"/>
                  </a:lnTo>
                  <a:lnTo>
                    <a:pt x="371" y="918"/>
                  </a:lnTo>
                  <a:lnTo>
                    <a:pt x="382" y="882"/>
                  </a:lnTo>
                  <a:lnTo>
                    <a:pt x="387" y="849"/>
                  </a:lnTo>
                  <a:lnTo>
                    <a:pt x="377" y="842"/>
                  </a:lnTo>
                  <a:lnTo>
                    <a:pt x="365" y="830"/>
                  </a:lnTo>
                  <a:lnTo>
                    <a:pt x="353" y="815"/>
                  </a:lnTo>
                  <a:lnTo>
                    <a:pt x="340" y="799"/>
                  </a:lnTo>
                  <a:lnTo>
                    <a:pt x="329" y="781"/>
                  </a:lnTo>
                  <a:lnTo>
                    <a:pt x="317" y="765"/>
                  </a:lnTo>
                  <a:lnTo>
                    <a:pt x="309" y="749"/>
                  </a:lnTo>
                  <a:lnTo>
                    <a:pt x="303" y="737"/>
                  </a:lnTo>
                  <a:lnTo>
                    <a:pt x="300" y="724"/>
                  </a:lnTo>
                  <a:lnTo>
                    <a:pt x="302" y="713"/>
                  </a:lnTo>
                  <a:lnTo>
                    <a:pt x="308" y="703"/>
                  </a:lnTo>
                  <a:lnTo>
                    <a:pt x="316" y="693"/>
                  </a:lnTo>
                  <a:lnTo>
                    <a:pt x="323" y="684"/>
                  </a:lnTo>
                  <a:lnTo>
                    <a:pt x="330" y="675"/>
                  </a:lnTo>
                  <a:lnTo>
                    <a:pt x="334" y="666"/>
                  </a:lnTo>
                  <a:lnTo>
                    <a:pt x="334" y="656"/>
                  </a:lnTo>
                  <a:lnTo>
                    <a:pt x="330" y="648"/>
                  </a:lnTo>
                  <a:lnTo>
                    <a:pt x="322" y="643"/>
                  </a:lnTo>
                  <a:lnTo>
                    <a:pt x="312" y="639"/>
                  </a:lnTo>
                  <a:lnTo>
                    <a:pt x="301" y="638"/>
                  </a:lnTo>
                  <a:lnTo>
                    <a:pt x="289" y="638"/>
                  </a:lnTo>
                  <a:lnTo>
                    <a:pt x="278" y="638"/>
                  </a:lnTo>
                  <a:lnTo>
                    <a:pt x="268" y="638"/>
                  </a:lnTo>
                  <a:lnTo>
                    <a:pt x="259" y="636"/>
                  </a:lnTo>
                  <a:lnTo>
                    <a:pt x="264" y="618"/>
                  </a:lnTo>
                  <a:lnTo>
                    <a:pt x="271" y="595"/>
                  </a:lnTo>
                  <a:lnTo>
                    <a:pt x="276" y="572"/>
                  </a:lnTo>
                  <a:lnTo>
                    <a:pt x="270" y="555"/>
                  </a:lnTo>
                  <a:lnTo>
                    <a:pt x="257" y="544"/>
                  </a:lnTo>
                  <a:lnTo>
                    <a:pt x="242" y="534"/>
                  </a:lnTo>
                  <a:lnTo>
                    <a:pt x="227" y="525"/>
                  </a:lnTo>
                  <a:lnTo>
                    <a:pt x="213" y="516"/>
                  </a:lnTo>
                  <a:lnTo>
                    <a:pt x="198" y="507"/>
                  </a:lnTo>
                  <a:lnTo>
                    <a:pt x="186" y="495"/>
                  </a:lnTo>
                  <a:lnTo>
                    <a:pt x="175" y="480"/>
                  </a:lnTo>
                  <a:lnTo>
                    <a:pt x="166" y="461"/>
                  </a:lnTo>
                  <a:lnTo>
                    <a:pt x="163" y="433"/>
                  </a:lnTo>
                  <a:lnTo>
                    <a:pt x="144" y="431"/>
                  </a:lnTo>
                  <a:lnTo>
                    <a:pt x="129" y="424"/>
                  </a:lnTo>
                  <a:lnTo>
                    <a:pt x="118" y="414"/>
                  </a:lnTo>
                  <a:lnTo>
                    <a:pt x="107" y="405"/>
                  </a:lnTo>
                  <a:lnTo>
                    <a:pt x="97" y="397"/>
                  </a:lnTo>
                  <a:lnTo>
                    <a:pt x="86" y="393"/>
                  </a:lnTo>
                  <a:lnTo>
                    <a:pt x="69" y="393"/>
                  </a:lnTo>
                  <a:lnTo>
                    <a:pt x="49" y="399"/>
                  </a:lnTo>
                  <a:lnTo>
                    <a:pt x="45" y="395"/>
                  </a:lnTo>
                  <a:lnTo>
                    <a:pt x="41" y="387"/>
                  </a:lnTo>
                  <a:lnTo>
                    <a:pt x="34" y="376"/>
                  </a:lnTo>
                  <a:lnTo>
                    <a:pt x="28" y="365"/>
                  </a:lnTo>
                  <a:lnTo>
                    <a:pt x="22" y="353"/>
                  </a:lnTo>
                  <a:lnTo>
                    <a:pt x="18" y="343"/>
                  </a:lnTo>
                  <a:lnTo>
                    <a:pt x="14" y="335"/>
                  </a:lnTo>
                  <a:lnTo>
                    <a:pt x="14" y="329"/>
                  </a:lnTo>
                  <a:lnTo>
                    <a:pt x="20" y="321"/>
                  </a:lnTo>
                  <a:lnTo>
                    <a:pt x="31" y="315"/>
                  </a:lnTo>
                  <a:lnTo>
                    <a:pt x="41" y="308"/>
                  </a:lnTo>
                  <a:lnTo>
                    <a:pt x="45" y="298"/>
                  </a:lnTo>
                  <a:lnTo>
                    <a:pt x="39" y="293"/>
                  </a:lnTo>
                  <a:lnTo>
                    <a:pt x="31" y="291"/>
                  </a:lnTo>
                  <a:lnTo>
                    <a:pt x="23" y="288"/>
                  </a:lnTo>
                  <a:lnTo>
                    <a:pt x="15" y="285"/>
                  </a:lnTo>
                  <a:lnTo>
                    <a:pt x="8" y="282"/>
                  </a:lnTo>
                  <a:lnTo>
                    <a:pt x="4" y="277"/>
                  </a:lnTo>
                  <a:lnTo>
                    <a:pt x="0" y="270"/>
                  </a:lnTo>
                  <a:lnTo>
                    <a:pt x="1" y="261"/>
                  </a:lnTo>
                  <a:lnTo>
                    <a:pt x="5" y="257"/>
                  </a:lnTo>
                  <a:lnTo>
                    <a:pt x="12" y="253"/>
                  </a:lnTo>
                  <a:lnTo>
                    <a:pt x="23" y="249"/>
                  </a:lnTo>
                  <a:lnTo>
                    <a:pt x="36" y="244"/>
                  </a:lnTo>
                  <a:lnTo>
                    <a:pt x="50" y="240"/>
                  </a:lnTo>
                  <a:lnTo>
                    <a:pt x="62" y="237"/>
                  </a:lnTo>
                  <a:lnTo>
                    <a:pt x="73" y="236"/>
                  </a:lnTo>
                  <a:lnTo>
                    <a:pt x="79" y="235"/>
                  </a:lnTo>
                  <a:lnTo>
                    <a:pt x="86" y="234"/>
                  </a:lnTo>
                  <a:lnTo>
                    <a:pt x="95" y="231"/>
                  </a:lnTo>
                  <a:lnTo>
                    <a:pt x="106" y="229"/>
                  </a:lnTo>
                  <a:lnTo>
                    <a:pt x="119" y="227"/>
                  </a:lnTo>
                  <a:lnTo>
                    <a:pt x="132" y="226"/>
                  </a:lnTo>
                  <a:lnTo>
                    <a:pt x="143" y="224"/>
                  </a:lnTo>
                  <a:lnTo>
                    <a:pt x="152" y="223"/>
                  </a:lnTo>
                  <a:lnTo>
                    <a:pt x="159" y="224"/>
                  </a:lnTo>
                  <a:lnTo>
                    <a:pt x="164" y="228"/>
                  </a:lnTo>
                  <a:lnTo>
                    <a:pt x="170" y="234"/>
                  </a:lnTo>
                  <a:lnTo>
                    <a:pt x="174" y="240"/>
                  </a:lnTo>
                  <a:lnTo>
                    <a:pt x="179" y="244"/>
                  </a:lnTo>
                  <a:lnTo>
                    <a:pt x="183" y="244"/>
                  </a:lnTo>
                  <a:lnTo>
                    <a:pt x="189" y="243"/>
                  </a:lnTo>
                  <a:lnTo>
                    <a:pt x="194" y="240"/>
                  </a:lnTo>
                  <a:lnTo>
                    <a:pt x="198" y="237"/>
                  </a:lnTo>
                  <a:lnTo>
                    <a:pt x="202" y="235"/>
                  </a:lnTo>
                  <a:lnTo>
                    <a:pt x="206" y="232"/>
                  </a:lnTo>
                  <a:lnTo>
                    <a:pt x="212" y="231"/>
                  </a:lnTo>
                  <a:lnTo>
                    <a:pt x="217" y="231"/>
                  </a:lnTo>
                  <a:lnTo>
                    <a:pt x="239" y="238"/>
                  </a:lnTo>
                  <a:lnTo>
                    <a:pt x="257" y="247"/>
                  </a:lnTo>
                  <a:lnTo>
                    <a:pt x="271" y="258"/>
                  </a:lnTo>
                  <a:lnTo>
                    <a:pt x="283" y="269"/>
                  </a:lnTo>
                  <a:lnTo>
                    <a:pt x="292" y="284"/>
                  </a:lnTo>
                  <a:lnTo>
                    <a:pt x="300" y="300"/>
                  </a:lnTo>
                  <a:lnTo>
                    <a:pt x="308" y="319"/>
                  </a:lnTo>
                  <a:lnTo>
                    <a:pt x="317" y="338"/>
                  </a:lnTo>
                  <a:lnTo>
                    <a:pt x="331" y="338"/>
                  </a:lnTo>
                  <a:lnTo>
                    <a:pt x="331" y="319"/>
                  </a:lnTo>
                  <a:lnTo>
                    <a:pt x="348" y="320"/>
                  </a:lnTo>
                  <a:lnTo>
                    <a:pt x="365" y="323"/>
                  </a:lnTo>
                  <a:lnTo>
                    <a:pt x="382" y="328"/>
                  </a:lnTo>
                  <a:lnTo>
                    <a:pt x="397" y="335"/>
                  </a:lnTo>
                  <a:lnTo>
                    <a:pt x="410" y="343"/>
                  </a:lnTo>
                  <a:lnTo>
                    <a:pt x="422" y="353"/>
                  </a:lnTo>
                  <a:lnTo>
                    <a:pt x="431" y="366"/>
                  </a:lnTo>
                  <a:lnTo>
                    <a:pt x="438" y="379"/>
                  </a:lnTo>
                  <a:lnTo>
                    <a:pt x="443" y="383"/>
                  </a:lnTo>
                  <a:lnTo>
                    <a:pt x="448" y="385"/>
                  </a:lnTo>
                  <a:lnTo>
                    <a:pt x="458" y="381"/>
                  </a:lnTo>
                  <a:lnTo>
                    <a:pt x="466" y="375"/>
                  </a:lnTo>
                  <a:lnTo>
                    <a:pt x="475" y="368"/>
                  </a:lnTo>
                  <a:lnTo>
                    <a:pt x="482" y="360"/>
                  </a:lnTo>
                  <a:lnTo>
                    <a:pt x="486" y="353"/>
                  </a:lnTo>
                  <a:lnTo>
                    <a:pt x="489" y="349"/>
                  </a:lnTo>
                  <a:lnTo>
                    <a:pt x="486" y="343"/>
                  </a:lnTo>
                  <a:lnTo>
                    <a:pt x="483" y="338"/>
                  </a:lnTo>
                  <a:lnTo>
                    <a:pt x="477" y="337"/>
                  </a:lnTo>
                  <a:lnTo>
                    <a:pt x="471" y="336"/>
                  </a:lnTo>
                  <a:lnTo>
                    <a:pt x="466" y="336"/>
                  </a:lnTo>
                  <a:lnTo>
                    <a:pt x="460" y="337"/>
                  </a:lnTo>
                  <a:lnTo>
                    <a:pt x="455" y="338"/>
                  </a:lnTo>
                  <a:lnTo>
                    <a:pt x="452" y="338"/>
                  </a:lnTo>
                  <a:lnTo>
                    <a:pt x="462" y="317"/>
                  </a:lnTo>
                  <a:lnTo>
                    <a:pt x="467" y="295"/>
                  </a:lnTo>
                  <a:lnTo>
                    <a:pt x="468" y="272"/>
                  </a:lnTo>
                  <a:lnTo>
                    <a:pt x="466" y="249"/>
                  </a:lnTo>
                  <a:lnTo>
                    <a:pt x="465" y="226"/>
                  </a:lnTo>
                  <a:lnTo>
                    <a:pt x="463" y="202"/>
                  </a:lnTo>
                  <a:lnTo>
                    <a:pt x="467" y="179"/>
                  </a:lnTo>
                  <a:lnTo>
                    <a:pt x="475" y="156"/>
                  </a:lnTo>
                  <a:lnTo>
                    <a:pt x="466" y="147"/>
                  </a:lnTo>
                  <a:lnTo>
                    <a:pt x="460" y="139"/>
                  </a:lnTo>
                  <a:lnTo>
                    <a:pt x="458" y="131"/>
                  </a:lnTo>
                  <a:lnTo>
                    <a:pt x="462" y="120"/>
                  </a:lnTo>
                  <a:lnTo>
                    <a:pt x="471" y="121"/>
                  </a:lnTo>
                  <a:lnTo>
                    <a:pt x="485" y="123"/>
                  </a:lnTo>
                  <a:lnTo>
                    <a:pt x="504" y="125"/>
                  </a:lnTo>
                  <a:lnTo>
                    <a:pt x="522" y="130"/>
                  </a:lnTo>
                  <a:lnTo>
                    <a:pt x="541" y="136"/>
                  </a:lnTo>
                  <a:lnTo>
                    <a:pt x="557" y="141"/>
                  </a:lnTo>
                  <a:lnTo>
                    <a:pt x="568" y="147"/>
                  </a:lnTo>
                  <a:lnTo>
                    <a:pt x="573" y="153"/>
                  </a:lnTo>
                  <a:lnTo>
                    <a:pt x="575" y="166"/>
                  </a:lnTo>
                  <a:lnTo>
                    <a:pt x="574" y="178"/>
                  </a:lnTo>
                  <a:lnTo>
                    <a:pt x="572" y="189"/>
                  </a:lnTo>
                  <a:lnTo>
                    <a:pt x="569" y="198"/>
                  </a:lnTo>
                  <a:lnTo>
                    <a:pt x="569" y="206"/>
                  </a:lnTo>
                  <a:lnTo>
                    <a:pt x="573" y="214"/>
                  </a:lnTo>
                  <a:lnTo>
                    <a:pt x="581" y="221"/>
                  </a:lnTo>
                  <a:lnTo>
                    <a:pt x="596" y="228"/>
                  </a:lnTo>
                  <a:lnTo>
                    <a:pt x="604" y="231"/>
                  </a:lnTo>
                  <a:lnTo>
                    <a:pt x="612" y="237"/>
                  </a:lnTo>
                  <a:lnTo>
                    <a:pt x="620" y="244"/>
                  </a:lnTo>
                  <a:lnTo>
                    <a:pt x="627" y="251"/>
                  </a:lnTo>
                  <a:lnTo>
                    <a:pt x="634" y="259"/>
                  </a:lnTo>
                  <a:lnTo>
                    <a:pt x="642" y="266"/>
                  </a:lnTo>
                  <a:lnTo>
                    <a:pt x="651" y="272"/>
                  </a:lnTo>
                  <a:lnTo>
                    <a:pt x="660" y="275"/>
                  </a:lnTo>
                  <a:lnTo>
                    <a:pt x="671" y="277"/>
                  </a:lnTo>
                  <a:lnTo>
                    <a:pt x="687" y="280"/>
                  </a:lnTo>
                  <a:lnTo>
                    <a:pt x="708" y="281"/>
                  </a:lnTo>
                  <a:lnTo>
                    <a:pt x="730" y="282"/>
                  </a:lnTo>
                  <a:lnTo>
                    <a:pt x="749" y="280"/>
                  </a:lnTo>
                  <a:lnTo>
                    <a:pt x="766" y="275"/>
                  </a:lnTo>
                  <a:lnTo>
                    <a:pt x="777" y="266"/>
                  </a:lnTo>
                  <a:lnTo>
                    <a:pt x="778" y="251"/>
                  </a:lnTo>
                  <a:lnTo>
                    <a:pt x="776" y="246"/>
                  </a:lnTo>
                  <a:lnTo>
                    <a:pt x="769" y="242"/>
                  </a:lnTo>
                  <a:lnTo>
                    <a:pt x="762" y="238"/>
                  </a:lnTo>
                  <a:lnTo>
                    <a:pt x="757" y="237"/>
                  </a:lnTo>
                  <a:lnTo>
                    <a:pt x="757" y="232"/>
                  </a:lnTo>
                  <a:lnTo>
                    <a:pt x="756" y="228"/>
                  </a:lnTo>
                  <a:lnTo>
                    <a:pt x="754" y="222"/>
                  </a:lnTo>
                  <a:lnTo>
                    <a:pt x="754" y="217"/>
                  </a:lnTo>
                  <a:lnTo>
                    <a:pt x="765" y="217"/>
                  </a:lnTo>
                  <a:lnTo>
                    <a:pt x="780" y="215"/>
                  </a:lnTo>
                  <a:lnTo>
                    <a:pt x="798" y="214"/>
                  </a:lnTo>
                  <a:lnTo>
                    <a:pt x="815" y="211"/>
                  </a:lnTo>
                  <a:lnTo>
                    <a:pt x="832" y="208"/>
                  </a:lnTo>
                  <a:lnTo>
                    <a:pt x="847" y="205"/>
                  </a:lnTo>
                  <a:lnTo>
                    <a:pt x="862" y="200"/>
                  </a:lnTo>
                  <a:lnTo>
                    <a:pt x="872" y="197"/>
                  </a:lnTo>
                  <a:lnTo>
                    <a:pt x="877" y="193"/>
                  </a:lnTo>
                  <a:lnTo>
                    <a:pt x="883" y="190"/>
                  </a:lnTo>
                  <a:lnTo>
                    <a:pt x="889" y="186"/>
                  </a:lnTo>
                  <a:lnTo>
                    <a:pt x="894" y="182"/>
                  </a:lnTo>
                  <a:lnTo>
                    <a:pt x="899" y="178"/>
                  </a:lnTo>
                  <a:lnTo>
                    <a:pt x="905" y="175"/>
                  </a:lnTo>
                  <a:lnTo>
                    <a:pt x="910" y="173"/>
                  </a:lnTo>
                  <a:lnTo>
                    <a:pt x="915" y="170"/>
                  </a:lnTo>
                  <a:lnTo>
                    <a:pt x="943" y="156"/>
                  </a:lnTo>
                  <a:lnTo>
                    <a:pt x="962" y="139"/>
                  </a:lnTo>
                  <a:lnTo>
                    <a:pt x="976" y="120"/>
                  </a:lnTo>
                  <a:lnTo>
                    <a:pt x="988" y="99"/>
                  </a:lnTo>
                  <a:lnTo>
                    <a:pt x="997" y="77"/>
                  </a:lnTo>
                  <a:lnTo>
                    <a:pt x="1007" y="54"/>
                  </a:lnTo>
                  <a:lnTo>
                    <a:pt x="1020" y="32"/>
                  </a:lnTo>
                  <a:lnTo>
                    <a:pt x="1037" y="11"/>
                  </a:lnTo>
                  <a:lnTo>
                    <a:pt x="1048" y="16"/>
                  </a:lnTo>
                  <a:lnTo>
                    <a:pt x="1057" y="17"/>
                  </a:lnTo>
                  <a:lnTo>
                    <a:pt x="1065" y="18"/>
                  </a:lnTo>
                  <a:lnTo>
                    <a:pt x="1073" y="17"/>
                  </a:lnTo>
                  <a:lnTo>
                    <a:pt x="1080" y="16"/>
                  </a:lnTo>
                  <a:lnTo>
                    <a:pt x="1087" y="14"/>
                  </a:lnTo>
                  <a:lnTo>
                    <a:pt x="1095" y="10"/>
                  </a:lnTo>
                  <a:lnTo>
                    <a:pt x="1104" y="8"/>
                  </a:lnTo>
                  <a:lnTo>
                    <a:pt x="1110" y="7"/>
                  </a:lnTo>
                  <a:lnTo>
                    <a:pt x="1117" y="5"/>
                  </a:lnTo>
                  <a:lnTo>
                    <a:pt x="1124" y="4"/>
                  </a:lnTo>
                  <a:lnTo>
                    <a:pt x="1132" y="3"/>
                  </a:lnTo>
                  <a:lnTo>
                    <a:pt x="1139" y="2"/>
                  </a:lnTo>
                  <a:lnTo>
                    <a:pt x="1147" y="1"/>
                  </a:lnTo>
                  <a:lnTo>
                    <a:pt x="1155" y="0"/>
                  </a:lnTo>
                  <a:lnTo>
                    <a:pt x="1163" y="0"/>
                  </a:lnTo>
                  <a:close/>
                  <a:moveTo>
                    <a:pt x="1748" y="1977"/>
                  </a:moveTo>
                  <a:lnTo>
                    <a:pt x="1740" y="1981"/>
                  </a:lnTo>
                  <a:lnTo>
                    <a:pt x="1731" y="1986"/>
                  </a:lnTo>
                  <a:lnTo>
                    <a:pt x="1720" y="1991"/>
                  </a:lnTo>
                  <a:lnTo>
                    <a:pt x="1711" y="1996"/>
                  </a:lnTo>
                  <a:lnTo>
                    <a:pt x="1703" y="2002"/>
                  </a:lnTo>
                  <a:lnTo>
                    <a:pt x="1695" y="2008"/>
                  </a:lnTo>
                  <a:lnTo>
                    <a:pt x="1690" y="2015"/>
                  </a:lnTo>
                  <a:lnTo>
                    <a:pt x="1687" y="2023"/>
                  </a:lnTo>
                  <a:lnTo>
                    <a:pt x="1680" y="2047"/>
                  </a:lnTo>
                  <a:lnTo>
                    <a:pt x="1677" y="2079"/>
                  </a:lnTo>
                  <a:lnTo>
                    <a:pt x="1677" y="2116"/>
                  </a:lnTo>
                  <a:lnTo>
                    <a:pt x="1680" y="2153"/>
                  </a:lnTo>
                  <a:lnTo>
                    <a:pt x="1689" y="2189"/>
                  </a:lnTo>
                  <a:lnTo>
                    <a:pt x="1705" y="2218"/>
                  </a:lnTo>
                  <a:lnTo>
                    <a:pt x="1728" y="2238"/>
                  </a:lnTo>
                  <a:lnTo>
                    <a:pt x="1758" y="2245"/>
                  </a:lnTo>
                  <a:lnTo>
                    <a:pt x="1768" y="2240"/>
                  </a:lnTo>
                  <a:lnTo>
                    <a:pt x="1780" y="2222"/>
                  </a:lnTo>
                  <a:lnTo>
                    <a:pt x="1795" y="2198"/>
                  </a:lnTo>
                  <a:lnTo>
                    <a:pt x="1811" y="2169"/>
                  </a:lnTo>
                  <a:lnTo>
                    <a:pt x="1828" y="2139"/>
                  </a:lnTo>
                  <a:lnTo>
                    <a:pt x="1841" y="2112"/>
                  </a:lnTo>
                  <a:lnTo>
                    <a:pt x="1852" y="2090"/>
                  </a:lnTo>
                  <a:lnTo>
                    <a:pt x="1856" y="2075"/>
                  </a:lnTo>
                  <a:lnTo>
                    <a:pt x="1852" y="1925"/>
                  </a:lnTo>
                  <a:lnTo>
                    <a:pt x="1837" y="1927"/>
                  </a:lnTo>
                  <a:lnTo>
                    <a:pt x="1826" y="1933"/>
                  </a:lnTo>
                  <a:lnTo>
                    <a:pt x="1817" y="1941"/>
                  </a:lnTo>
                  <a:lnTo>
                    <a:pt x="1809" y="1950"/>
                  </a:lnTo>
                  <a:lnTo>
                    <a:pt x="1800" y="1961"/>
                  </a:lnTo>
                  <a:lnTo>
                    <a:pt x="1788" y="1969"/>
                  </a:lnTo>
                  <a:lnTo>
                    <a:pt x="1771" y="1975"/>
                  </a:lnTo>
                  <a:lnTo>
                    <a:pt x="1748" y="1977"/>
                  </a:lnTo>
                  <a:close/>
                </a:path>
              </a:pathLst>
            </a:custGeom>
            <a:solidFill>
              <a:srgbClr val="0066cc">
                <a:alpha val="50000"/>
              </a:srgbClr>
            </a:solidFill>
            <a:ln w="9360">
              <a:solidFill>
                <a:srgbClr val="007c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43320" y="3714120"/>
              <a:ext cx="316440" cy="532080"/>
            </a:xfrm>
            <a:custGeom>
              <a:avLst/>
              <a:gdLst/>
              <a:ahLst/>
              <a:rect l="l" t="t" r="r" b="b"/>
              <a:pathLst>
                <a:path w="1324" h="2114">
                  <a:moveTo>
                    <a:pt x="699" y="325"/>
                  </a:moveTo>
                  <a:lnTo>
                    <a:pt x="701" y="317"/>
                  </a:lnTo>
                  <a:lnTo>
                    <a:pt x="705" y="308"/>
                  </a:lnTo>
                  <a:lnTo>
                    <a:pt x="710" y="300"/>
                  </a:lnTo>
                  <a:lnTo>
                    <a:pt x="714" y="294"/>
                  </a:lnTo>
                  <a:lnTo>
                    <a:pt x="719" y="297"/>
                  </a:lnTo>
                  <a:lnTo>
                    <a:pt x="722" y="303"/>
                  </a:lnTo>
                  <a:lnTo>
                    <a:pt x="728" y="311"/>
                  </a:lnTo>
                  <a:lnTo>
                    <a:pt x="733" y="319"/>
                  </a:lnTo>
                  <a:lnTo>
                    <a:pt x="739" y="328"/>
                  </a:lnTo>
                  <a:lnTo>
                    <a:pt x="743" y="336"/>
                  </a:lnTo>
                  <a:lnTo>
                    <a:pt x="749" y="342"/>
                  </a:lnTo>
                  <a:lnTo>
                    <a:pt x="755" y="346"/>
                  </a:lnTo>
                  <a:lnTo>
                    <a:pt x="775" y="348"/>
                  </a:lnTo>
                  <a:lnTo>
                    <a:pt x="797" y="348"/>
                  </a:lnTo>
                  <a:lnTo>
                    <a:pt x="820" y="347"/>
                  </a:lnTo>
                  <a:lnTo>
                    <a:pt x="845" y="346"/>
                  </a:lnTo>
                  <a:lnTo>
                    <a:pt x="868" y="347"/>
                  </a:lnTo>
                  <a:lnTo>
                    <a:pt x="892" y="349"/>
                  </a:lnTo>
                  <a:lnTo>
                    <a:pt x="914" y="355"/>
                  </a:lnTo>
                  <a:lnTo>
                    <a:pt x="933" y="366"/>
                  </a:lnTo>
                  <a:lnTo>
                    <a:pt x="931" y="379"/>
                  </a:lnTo>
                  <a:lnTo>
                    <a:pt x="926" y="391"/>
                  </a:lnTo>
                  <a:lnTo>
                    <a:pt x="918" y="402"/>
                  </a:lnTo>
                  <a:lnTo>
                    <a:pt x="908" y="412"/>
                  </a:lnTo>
                  <a:lnTo>
                    <a:pt x="895" y="422"/>
                  </a:lnTo>
                  <a:lnTo>
                    <a:pt x="881" y="430"/>
                  </a:lnTo>
                  <a:lnTo>
                    <a:pt x="866" y="439"/>
                  </a:lnTo>
                  <a:lnTo>
                    <a:pt x="850" y="446"/>
                  </a:lnTo>
                  <a:lnTo>
                    <a:pt x="833" y="453"/>
                  </a:lnTo>
                  <a:lnTo>
                    <a:pt x="817" y="460"/>
                  </a:lnTo>
                  <a:lnTo>
                    <a:pt x="801" y="467"/>
                  </a:lnTo>
                  <a:lnTo>
                    <a:pt x="785" y="474"/>
                  </a:lnTo>
                  <a:lnTo>
                    <a:pt x="771" y="479"/>
                  </a:lnTo>
                  <a:lnTo>
                    <a:pt x="758" y="486"/>
                  </a:lnTo>
                  <a:lnTo>
                    <a:pt x="748" y="492"/>
                  </a:lnTo>
                  <a:lnTo>
                    <a:pt x="740" y="499"/>
                  </a:lnTo>
                  <a:lnTo>
                    <a:pt x="744" y="506"/>
                  </a:lnTo>
                  <a:lnTo>
                    <a:pt x="750" y="510"/>
                  </a:lnTo>
                  <a:lnTo>
                    <a:pt x="757" y="513"/>
                  </a:lnTo>
                  <a:lnTo>
                    <a:pt x="765" y="514"/>
                  </a:lnTo>
                  <a:lnTo>
                    <a:pt x="759" y="524"/>
                  </a:lnTo>
                  <a:lnTo>
                    <a:pt x="752" y="531"/>
                  </a:lnTo>
                  <a:lnTo>
                    <a:pt x="743" y="538"/>
                  </a:lnTo>
                  <a:lnTo>
                    <a:pt x="735" y="545"/>
                  </a:lnTo>
                  <a:lnTo>
                    <a:pt x="744" y="551"/>
                  </a:lnTo>
                  <a:lnTo>
                    <a:pt x="758" y="554"/>
                  </a:lnTo>
                  <a:lnTo>
                    <a:pt x="778" y="554"/>
                  </a:lnTo>
                  <a:lnTo>
                    <a:pt x="798" y="554"/>
                  </a:lnTo>
                  <a:lnTo>
                    <a:pt x="819" y="553"/>
                  </a:lnTo>
                  <a:lnTo>
                    <a:pt x="840" y="552"/>
                  </a:lnTo>
                  <a:lnTo>
                    <a:pt x="858" y="553"/>
                  </a:lnTo>
                  <a:lnTo>
                    <a:pt x="872" y="555"/>
                  </a:lnTo>
                  <a:lnTo>
                    <a:pt x="883" y="559"/>
                  </a:lnTo>
                  <a:lnTo>
                    <a:pt x="894" y="566"/>
                  </a:lnTo>
                  <a:lnTo>
                    <a:pt x="907" y="574"/>
                  </a:lnTo>
                  <a:lnTo>
                    <a:pt x="921" y="583"/>
                  </a:lnTo>
                  <a:lnTo>
                    <a:pt x="934" y="592"/>
                  </a:lnTo>
                  <a:lnTo>
                    <a:pt x="947" y="600"/>
                  </a:lnTo>
                  <a:lnTo>
                    <a:pt x="959" y="605"/>
                  </a:lnTo>
                  <a:lnTo>
                    <a:pt x="969" y="607"/>
                  </a:lnTo>
                  <a:lnTo>
                    <a:pt x="966" y="626"/>
                  </a:lnTo>
                  <a:lnTo>
                    <a:pt x="956" y="647"/>
                  </a:lnTo>
                  <a:lnTo>
                    <a:pt x="941" y="673"/>
                  </a:lnTo>
                  <a:lnTo>
                    <a:pt x="925" y="699"/>
                  </a:lnTo>
                  <a:lnTo>
                    <a:pt x="907" y="726"/>
                  </a:lnTo>
                  <a:lnTo>
                    <a:pt x="888" y="750"/>
                  </a:lnTo>
                  <a:lnTo>
                    <a:pt x="871" y="771"/>
                  </a:lnTo>
                  <a:lnTo>
                    <a:pt x="857" y="786"/>
                  </a:lnTo>
                  <a:lnTo>
                    <a:pt x="849" y="785"/>
                  </a:lnTo>
                  <a:lnTo>
                    <a:pt x="840" y="786"/>
                  </a:lnTo>
                  <a:lnTo>
                    <a:pt x="830" y="788"/>
                  </a:lnTo>
                  <a:lnTo>
                    <a:pt x="819" y="792"/>
                  </a:lnTo>
                  <a:lnTo>
                    <a:pt x="810" y="795"/>
                  </a:lnTo>
                  <a:lnTo>
                    <a:pt x="801" y="801"/>
                  </a:lnTo>
                  <a:lnTo>
                    <a:pt x="793" y="805"/>
                  </a:lnTo>
                  <a:lnTo>
                    <a:pt x="786" y="811"/>
                  </a:lnTo>
                  <a:lnTo>
                    <a:pt x="792" y="834"/>
                  </a:lnTo>
                  <a:lnTo>
                    <a:pt x="786" y="851"/>
                  </a:lnTo>
                  <a:lnTo>
                    <a:pt x="771" y="863"/>
                  </a:lnTo>
                  <a:lnTo>
                    <a:pt x="751" y="872"/>
                  </a:lnTo>
                  <a:lnTo>
                    <a:pt x="729" y="879"/>
                  </a:lnTo>
                  <a:lnTo>
                    <a:pt x="709" y="886"/>
                  </a:lnTo>
                  <a:lnTo>
                    <a:pt x="695" y="896"/>
                  </a:lnTo>
                  <a:lnTo>
                    <a:pt x="689" y="909"/>
                  </a:lnTo>
                  <a:lnTo>
                    <a:pt x="695" y="910"/>
                  </a:lnTo>
                  <a:lnTo>
                    <a:pt x="699" y="911"/>
                  </a:lnTo>
                  <a:lnTo>
                    <a:pt x="704" y="911"/>
                  </a:lnTo>
                  <a:lnTo>
                    <a:pt x="710" y="910"/>
                  </a:lnTo>
                  <a:lnTo>
                    <a:pt x="714" y="910"/>
                  </a:lnTo>
                  <a:lnTo>
                    <a:pt x="719" y="910"/>
                  </a:lnTo>
                  <a:lnTo>
                    <a:pt x="724" y="909"/>
                  </a:lnTo>
                  <a:lnTo>
                    <a:pt x="729" y="909"/>
                  </a:lnTo>
                  <a:lnTo>
                    <a:pt x="774" y="919"/>
                  </a:lnTo>
                  <a:lnTo>
                    <a:pt x="803" y="948"/>
                  </a:lnTo>
                  <a:lnTo>
                    <a:pt x="820" y="990"/>
                  </a:lnTo>
                  <a:lnTo>
                    <a:pt x="830" y="1038"/>
                  </a:lnTo>
                  <a:lnTo>
                    <a:pt x="834" y="1091"/>
                  </a:lnTo>
                  <a:lnTo>
                    <a:pt x="839" y="1142"/>
                  </a:lnTo>
                  <a:lnTo>
                    <a:pt x="847" y="1184"/>
                  </a:lnTo>
                  <a:lnTo>
                    <a:pt x="862" y="1217"/>
                  </a:lnTo>
                  <a:lnTo>
                    <a:pt x="886" y="1248"/>
                  </a:lnTo>
                  <a:lnTo>
                    <a:pt x="906" y="1278"/>
                  </a:lnTo>
                  <a:lnTo>
                    <a:pt x="921" y="1309"/>
                  </a:lnTo>
                  <a:lnTo>
                    <a:pt x="932" y="1340"/>
                  </a:lnTo>
                  <a:lnTo>
                    <a:pt x="940" y="1373"/>
                  </a:lnTo>
                  <a:lnTo>
                    <a:pt x="946" y="1409"/>
                  </a:lnTo>
                  <a:lnTo>
                    <a:pt x="948" y="1451"/>
                  </a:lnTo>
                  <a:lnTo>
                    <a:pt x="949" y="1498"/>
                  </a:lnTo>
                  <a:lnTo>
                    <a:pt x="941" y="1494"/>
                  </a:lnTo>
                  <a:lnTo>
                    <a:pt x="931" y="1491"/>
                  </a:lnTo>
                  <a:lnTo>
                    <a:pt x="921" y="1487"/>
                  </a:lnTo>
                  <a:lnTo>
                    <a:pt x="910" y="1485"/>
                  </a:lnTo>
                  <a:lnTo>
                    <a:pt x="899" y="1484"/>
                  </a:lnTo>
                  <a:lnTo>
                    <a:pt x="888" y="1483"/>
                  </a:lnTo>
                  <a:lnTo>
                    <a:pt x="878" y="1484"/>
                  </a:lnTo>
                  <a:lnTo>
                    <a:pt x="868" y="1487"/>
                  </a:lnTo>
                  <a:lnTo>
                    <a:pt x="872" y="1491"/>
                  </a:lnTo>
                  <a:lnTo>
                    <a:pt x="877" y="1493"/>
                  </a:lnTo>
                  <a:lnTo>
                    <a:pt x="883" y="1496"/>
                  </a:lnTo>
                  <a:lnTo>
                    <a:pt x="888" y="1497"/>
                  </a:lnTo>
                  <a:lnTo>
                    <a:pt x="893" y="1499"/>
                  </a:lnTo>
                  <a:lnTo>
                    <a:pt x="899" y="1500"/>
                  </a:lnTo>
                  <a:lnTo>
                    <a:pt x="903" y="1501"/>
                  </a:lnTo>
                  <a:lnTo>
                    <a:pt x="908" y="1502"/>
                  </a:lnTo>
                  <a:lnTo>
                    <a:pt x="928" y="1516"/>
                  </a:lnTo>
                  <a:lnTo>
                    <a:pt x="938" y="1537"/>
                  </a:lnTo>
                  <a:lnTo>
                    <a:pt x="940" y="1562"/>
                  </a:lnTo>
                  <a:lnTo>
                    <a:pt x="938" y="1589"/>
                  </a:lnTo>
                  <a:lnTo>
                    <a:pt x="932" y="1618"/>
                  </a:lnTo>
                  <a:lnTo>
                    <a:pt x="926" y="1644"/>
                  </a:lnTo>
                  <a:lnTo>
                    <a:pt x="921" y="1668"/>
                  </a:lnTo>
                  <a:lnTo>
                    <a:pt x="918" y="1687"/>
                  </a:lnTo>
                  <a:lnTo>
                    <a:pt x="923" y="1689"/>
                  </a:lnTo>
                  <a:lnTo>
                    <a:pt x="930" y="1691"/>
                  </a:lnTo>
                  <a:lnTo>
                    <a:pt x="938" y="1693"/>
                  </a:lnTo>
                  <a:lnTo>
                    <a:pt x="945" y="1694"/>
                  </a:lnTo>
                  <a:lnTo>
                    <a:pt x="953" y="1694"/>
                  </a:lnTo>
                  <a:lnTo>
                    <a:pt x="959" y="1690"/>
                  </a:lnTo>
                  <a:lnTo>
                    <a:pt x="963" y="1686"/>
                  </a:lnTo>
                  <a:lnTo>
                    <a:pt x="964" y="1678"/>
                  </a:lnTo>
                  <a:lnTo>
                    <a:pt x="978" y="1678"/>
                  </a:lnTo>
                  <a:lnTo>
                    <a:pt x="994" y="1682"/>
                  </a:lnTo>
                  <a:lnTo>
                    <a:pt x="1012" y="1689"/>
                  </a:lnTo>
                  <a:lnTo>
                    <a:pt x="1030" y="1698"/>
                  </a:lnTo>
                  <a:lnTo>
                    <a:pt x="1047" y="1709"/>
                  </a:lnTo>
                  <a:lnTo>
                    <a:pt x="1063" y="1719"/>
                  </a:lnTo>
                  <a:lnTo>
                    <a:pt x="1077" y="1729"/>
                  </a:lnTo>
                  <a:lnTo>
                    <a:pt x="1087" y="1739"/>
                  </a:lnTo>
                  <a:lnTo>
                    <a:pt x="1087" y="1759"/>
                  </a:lnTo>
                  <a:lnTo>
                    <a:pt x="1090" y="1782"/>
                  </a:lnTo>
                  <a:lnTo>
                    <a:pt x="1092" y="1805"/>
                  </a:lnTo>
                  <a:lnTo>
                    <a:pt x="1092" y="1826"/>
                  </a:lnTo>
                  <a:lnTo>
                    <a:pt x="1089" y="1833"/>
                  </a:lnTo>
                  <a:lnTo>
                    <a:pt x="1083" y="1841"/>
                  </a:lnTo>
                  <a:lnTo>
                    <a:pt x="1075" y="1848"/>
                  </a:lnTo>
                  <a:lnTo>
                    <a:pt x="1067" y="1856"/>
                  </a:lnTo>
                  <a:lnTo>
                    <a:pt x="1058" y="1864"/>
                  </a:lnTo>
                  <a:lnTo>
                    <a:pt x="1050" y="1872"/>
                  </a:lnTo>
                  <a:lnTo>
                    <a:pt x="1044" y="1879"/>
                  </a:lnTo>
                  <a:lnTo>
                    <a:pt x="1040" y="1887"/>
                  </a:lnTo>
                  <a:lnTo>
                    <a:pt x="1028" y="1908"/>
                  </a:lnTo>
                  <a:lnTo>
                    <a:pt x="1009" y="1924"/>
                  </a:lnTo>
                  <a:lnTo>
                    <a:pt x="986" y="1938"/>
                  </a:lnTo>
                  <a:lnTo>
                    <a:pt x="963" y="1949"/>
                  </a:lnTo>
                  <a:lnTo>
                    <a:pt x="939" y="1960"/>
                  </a:lnTo>
                  <a:lnTo>
                    <a:pt x="918" y="1971"/>
                  </a:lnTo>
                  <a:lnTo>
                    <a:pt x="902" y="1984"/>
                  </a:lnTo>
                  <a:lnTo>
                    <a:pt x="893" y="2000"/>
                  </a:lnTo>
                  <a:lnTo>
                    <a:pt x="902" y="2005"/>
                  </a:lnTo>
                  <a:lnTo>
                    <a:pt x="914" y="2009"/>
                  </a:lnTo>
                  <a:lnTo>
                    <a:pt x="928" y="2014"/>
                  </a:lnTo>
                  <a:lnTo>
                    <a:pt x="941" y="2019"/>
                  </a:lnTo>
                  <a:lnTo>
                    <a:pt x="955" y="2023"/>
                  </a:lnTo>
                  <a:lnTo>
                    <a:pt x="969" y="2027"/>
                  </a:lnTo>
                  <a:lnTo>
                    <a:pt x="981" y="2029"/>
                  </a:lnTo>
                  <a:lnTo>
                    <a:pt x="990" y="2030"/>
                  </a:lnTo>
                  <a:lnTo>
                    <a:pt x="975" y="2051"/>
                  </a:lnTo>
                  <a:lnTo>
                    <a:pt x="956" y="2068"/>
                  </a:lnTo>
                  <a:lnTo>
                    <a:pt x="937" y="2083"/>
                  </a:lnTo>
                  <a:lnTo>
                    <a:pt x="914" y="2095"/>
                  </a:lnTo>
                  <a:lnTo>
                    <a:pt x="890" y="2103"/>
                  </a:lnTo>
                  <a:lnTo>
                    <a:pt x="864" y="2110"/>
                  </a:lnTo>
                  <a:lnTo>
                    <a:pt x="838" y="2113"/>
                  </a:lnTo>
                  <a:lnTo>
                    <a:pt x="811" y="2114"/>
                  </a:lnTo>
                  <a:lnTo>
                    <a:pt x="784" y="2113"/>
                  </a:lnTo>
                  <a:lnTo>
                    <a:pt x="757" y="2110"/>
                  </a:lnTo>
                  <a:lnTo>
                    <a:pt x="732" y="2104"/>
                  </a:lnTo>
                  <a:lnTo>
                    <a:pt x="706" y="2097"/>
                  </a:lnTo>
                  <a:lnTo>
                    <a:pt x="683" y="2088"/>
                  </a:lnTo>
                  <a:lnTo>
                    <a:pt x="663" y="2077"/>
                  </a:lnTo>
                  <a:lnTo>
                    <a:pt x="644" y="2065"/>
                  </a:lnTo>
                  <a:lnTo>
                    <a:pt x="628" y="2051"/>
                  </a:lnTo>
                  <a:lnTo>
                    <a:pt x="623" y="2052"/>
                  </a:lnTo>
                  <a:lnTo>
                    <a:pt x="618" y="2053"/>
                  </a:lnTo>
                  <a:lnTo>
                    <a:pt x="612" y="2055"/>
                  </a:lnTo>
                  <a:lnTo>
                    <a:pt x="607" y="2057"/>
                  </a:lnTo>
                  <a:lnTo>
                    <a:pt x="608" y="2062"/>
                  </a:lnTo>
                  <a:lnTo>
                    <a:pt x="611" y="2068"/>
                  </a:lnTo>
                  <a:lnTo>
                    <a:pt x="613" y="2073"/>
                  </a:lnTo>
                  <a:lnTo>
                    <a:pt x="618" y="2076"/>
                  </a:lnTo>
                  <a:lnTo>
                    <a:pt x="608" y="2087"/>
                  </a:lnTo>
                  <a:lnTo>
                    <a:pt x="599" y="2088"/>
                  </a:lnTo>
                  <a:lnTo>
                    <a:pt x="592" y="2081"/>
                  </a:lnTo>
                  <a:lnTo>
                    <a:pt x="585" y="2070"/>
                  </a:lnTo>
                  <a:lnTo>
                    <a:pt x="580" y="2057"/>
                  </a:lnTo>
                  <a:lnTo>
                    <a:pt x="575" y="2044"/>
                  </a:lnTo>
                  <a:lnTo>
                    <a:pt x="573" y="2032"/>
                  </a:lnTo>
                  <a:lnTo>
                    <a:pt x="572" y="2026"/>
                  </a:lnTo>
                  <a:lnTo>
                    <a:pt x="562" y="2027"/>
                  </a:lnTo>
                  <a:lnTo>
                    <a:pt x="554" y="2028"/>
                  </a:lnTo>
                  <a:lnTo>
                    <a:pt x="547" y="2031"/>
                  </a:lnTo>
                  <a:lnTo>
                    <a:pt x="540" y="2036"/>
                  </a:lnTo>
                  <a:lnTo>
                    <a:pt x="535" y="2041"/>
                  </a:lnTo>
                  <a:lnTo>
                    <a:pt x="529" y="2047"/>
                  </a:lnTo>
                  <a:lnTo>
                    <a:pt x="524" y="2053"/>
                  </a:lnTo>
                  <a:lnTo>
                    <a:pt x="521" y="2061"/>
                  </a:lnTo>
                  <a:lnTo>
                    <a:pt x="498" y="2061"/>
                  </a:lnTo>
                  <a:lnTo>
                    <a:pt x="478" y="2062"/>
                  </a:lnTo>
                  <a:lnTo>
                    <a:pt x="461" y="2064"/>
                  </a:lnTo>
                  <a:lnTo>
                    <a:pt x="445" y="2061"/>
                  </a:lnTo>
                  <a:lnTo>
                    <a:pt x="431" y="2058"/>
                  </a:lnTo>
                  <a:lnTo>
                    <a:pt x="418" y="2050"/>
                  </a:lnTo>
                  <a:lnTo>
                    <a:pt x="406" y="2038"/>
                  </a:lnTo>
                  <a:lnTo>
                    <a:pt x="393" y="2020"/>
                  </a:lnTo>
                  <a:lnTo>
                    <a:pt x="373" y="2002"/>
                  </a:lnTo>
                  <a:lnTo>
                    <a:pt x="353" y="1998"/>
                  </a:lnTo>
                  <a:lnTo>
                    <a:pt x="333" y="2002"/>
                  </a:lnTo>
                  <a:lnTo>
                    <a:pt x="313" y="2015"/>
                  </a:lnTo>
                  <a:lnTo>
                    <a:pt x="296" y="2031"/>
                  </a:lnTo>
                  <a:lnTo>
                    <a:pt x="280" y="2047"/>
                  </a:lnTo>
                  <a:lnTo>
                    <a:pt x="266" y="2062"/>
                  </a:lnTo>
                  <a:lnTo>
                    <a:pt x="255" y="2072"/>
                  </a:lnTo>
                  <a:lnTo>
                    <a:pt x="239" y="2057"/>
                  </a:lnTo>
                  <a:lnTo>
                    <a:pt x="224" y="2043"/>
                  </a:lnTo>
                  <a:lnTo>
                    <a:pt x="209" y="2031"/>
                  </a:lnTo>
                  <a:lnTo>
                    <a:pt x="194" y="2022"/>
                  </a:lnTo>
                  <a:lnTo>
                    <a:pt x="179" y="2014"/>
                  </a:lnTo>
                  <a:lnTo>
                    <a:pt x="165" y="2009"/>
                  </a:lnTo>
                  <a:lnTo>
                    <a:pt x="151" y="2005"/>
                  </a:lnTo>
                  <a:lnTo>
                    <a:pt x="138" y="2004"/>
                  </a:lnTo>
                  <a:lnTo>
                    <a:pt x="124" y="2004"/>
                  </a:lnTo>
                  <a:lnTo>
                    <a:pt x="112" y="2005"/>
                  </a:lnTo>
                  <a:lnTo>
                    <a:pt x="100" y="2008"/>
                  </a:lnTo>
                  <a:lnTo>
                    <a:pt x="88" y="2014"/>
                  </a:lnTo>
                  <a:lnTo>
                    <a:pt x="75" y="2021"/>
                  </a:lnTo>
                  <a:lnTo>
                    <a:pt x="63" y="2029"/>
                  </a:lnTo>
                  <a:lnTo>
                    <a:pt x="52" y="2039"/>
                  </a:lnTo>
                  <a:lnTo>
                    <a:pt x="40" y="2051"/>
                  </a:lnTo>
                  <a:lnTo>
                    <a:pt x="32" y="2043"/>
                  </a:lnTo>
                  <a:lnTo>
                    <a:pt x="25" y="2035"/>
                  </a:lnTo>
                  <a:lnTo>
                    <a:pt x="22" y="2028"/>
                  </a:lnTo>
                  <a:lnTo>
                    <a:pt x="25" y="2020"/>
                  </a:lnTo>
                  <a:lnTo>
                    <a:pt x="16" y="2020"/>
                  </a:lnTo>
                  <a:lnTo>
                    <a:pt x="9" y="2019"/>
                  </a:lnTo>
                  <a:lnTo>
                    <a:pt x="4" y="2016"/>
                  </a:lnTo>
                  <a:lnTo>
                    <a:pt x="0" y="2011"/>
                  </a:lnTo>
                  <a:lnTo>
                    <a:pt x="2" y="2000"/>
                  </a:lnTo>
                  <a:lnTo>
                    <a:pt x="12" y="1990"/>
                  </a:lnTo>
                  <a:lnTo>
                    <a:pt x="25" y="1983"/>
                  </a:lnTo>
                  <a:lnTo>
                    <a:pt x="44" y="1976"/>
                  </a:lnTo>
                  <a:lnTo>
                    <a:pt x="62" y="1973"/>
                  </a:lnTo>
                  <a:lnTo>
                    <a:pt x="81" y="1970"/>
                  </a:lnTo>
                  <a:lnTo>
                    <a:pt x="97" y="1971"/>
                  </a:lnTo>
                  <a:lnTo>
                    <a:pt x="107" y="1974"/>
                  </a:lnTo>
                  <a:lnTo>
                    <a:pt x="121" y="1960"/>
                  </a:lnTo>
                  <a:lnTo>
                    <a:pt x="137" y="1944"/>
                  </a:lnTo>
                  <a:lnTo>
                    <a:pt x="154" y="1928"/>
                  </a:lnTo>
                  <a:lnTo>
                    <a:pt x="173" y="1913"/>
                  </a:lnTo>
                  <a:lnTo>
                    <a:pt x="192" y="1898"/>
                  </a:lnTo>
                  <a:lnTo>
                    <a:pt x="213" y="1885"/>
                  </a:lnTo>
                  <a:lnTo>
                    <a:pt x="234" y="1873"/>
                  </a:lnTo>
                  <a:lnTo>
                    <a:pt x="255" y="1867"/>
                  </a:lnTo>
                  <a:lnTo>
                    <a:pt x="260" y="1868"/>
                  </a:lnTo>
                  <a:lnTo>
                    <a:pt x="266" y="1869"/>
                  </a:lnTo>
                  <a:lnTo>
                    <a:pt x="272" y="1871"/>
                  </a:lnTo>
                  <a:lnTo>
                    <a:pt x="278" y="1873"/>
                  </a:lnTo>
                  <a:lnTo>
                    <a:pt x="282" y="1877"/>
                  </a:lnTo>
                  <a:lnTo>
                    <a:pt x="287" y="1879"/>
                  </a:lnTo>
                  <a:lnTo>
                    <a:pt x="292" y="1880"/>
                  </a:lnTo>
                  <a:lnTo>
                    <a:pt x="296" y="1881"/>
                  </a:lnTo>
                  <a:lnTo>
                    <a:pt x="304" y="1881"/>
                  </a:lnTo>
                  <a:lnTo>
                    <a:pt x="315" y="1881"/>
                  </a:lnTo>
                  <a:lnTo>
                    <a:pt x="328" y="1881"/>
                  </a:lnTo>
                  <a:lnTo>
                    <a:pt x="345" y="1881"/>
                  </a:lnTo>
                  <a:lnTo>
                    <a:pt x="363" y="1880"/>
                  </a:lnTo>
                  <a:lnTo>
                    <a:pt x="383" y="1879"/>
                  </a:lnTo>
                  <a:lnTo>
                    <a:pt x="402" y="1878"/>
                  </a:lnTo>
                  <a:lnTo>
                    <a:pt x="423" y="1876"/>
                  </a:lnTo>
                  <a:lnTo>
                    <a:pt x="442" y="1872"/>
                  </a:lnTo>
                  <a:lnTo>
                    <a:pt x="460" y="1868"/>
                  </a:lnTo>
                  <a:lnTo>
                    <a:pt x="477" y="1863"/>
                  </a:lnTo>
                  <a:lnTo>
                    <a:pt x="491" y="1856"/>
                  </a:lnTo>
                  <a:lnTo>
                    <a:pt x="504" y="1848"/>
                  </a:lnTo>
                  <a:lnTo>
                    <a:pt x="512" y="1839"/>
                  </a:lnTo>
                  <a:lnTo>
                    <a:pt x="515" y="1828"/>
                  </a:lnTo>
                  <a:lnTo>
                    <a:pt x="515" y="1816"/>
                  </a:lnTo>
                  <a:lnTo>
                    <a:pt x="505" y="1805"/>
                  </a:lnTo>
                  <a:lnTo>
                    <a:pt x="497" y="1814"/>
                  </a:lnTo>
                  <a:lnTo>
                    <a:pt x="489" y="1820"/>
                  </a:lnTo>
                  <a:lnTo>
                    <a:pt x="478" y="1827"/>
                  </a:lnTo>
                  <a:lnTo>
                    <a:pt x="469" y="1834"/>
                  </a:lnTo>
                  <a:lnTo>
                    <a:pt x="459" y="1841"/>
                  </a:lnTo>
                  <a:lnTo>
                    <a:pt x="448" y="1847"/>
                  </a:lnTo>
                  <a:lnTo>
                    <a:pt x="438" y="1852"/>
                  </a:lnTo>
                  <a:lnTo>
                    <a:pt x="429" y="1856"/>
                  </a:lnTo>
                  <a:lnTo>
                    <a:pt x="421" y="1855"/>
                  </a:lnTo>
                  <a:lnTo>
                    <a:pt x="409" y="1854"/>
                  </a:lnTo>
                  <a:lnTo>
                    <a:pt x="396" y="1853"/>
                  </a:lnTo>
                  <a:lnTo>
                    <a:pt x="381" y="1852"/>
                  </a:lnTo>
                  <a:lnTo>
                    <a:pt x="368" y="1850"/>
                  </a:lnTo>
                  <a:lnTo>
                    <a:pt x="355" y="1847"/>
                  </a:lnTo>
                  <a:lnTo>
                    <a:pt x="346" y="1842"/>
                  </a:lnTo>
                  <a:lnTo>
                    <a:pt x="341" y="1835"/>
                  </a:lnTo>
                  <a:lnTo>
                    <a:pt x="330" y="1803"/>
                  </a:lnTo>
                  <a:lnTo>
                    <a:pt x="316" y="1780"/>
                  </a:lnTo>
                  <a:lnTo>
                    <a:pt x="301" y="1765"/>
                  </a:lnTo>
                  <a:lnTo>
                    <a:pt x="283" y="1756"/>
                  </a:lnTo>
                  <a:lnTo>
                    <a:pt x="263" y="1750"/>
                  </a:lnTo>
                  <a:lnTo>
                    <a:pt x="240" y="1746"/>
                  </a:lnTo>
                  <a:lnTo>
                    <a:pt x="213" y="1741"/>
                  </a:lnTo>
                  <a:lnTo>
                    <a:pt x="183" y="1733"/>
                  </a:lnTo>
                  <a:lnTo>
                    <a:pt x="167" y="1721"/>
                  </a:lnTo>
                  <a:lnTo>
                    <a:pt x="164" y="1702"/>
                  </a:lnTo>
                  <a:lnTo>
                    <a:pt x="168" y="1682"/>
                  </a:lnTo>
                  <a:lnTo>
                    <a:pt x="179" y="1667"/>
                  </a:lnTo>
                  <a:lnTo>
                    <a:pt x="174" y="1663"/>
                  </a:lnTo>
                  <a:lnTo>
                    <a:pt x="168" y="1656"/>
                  </a:lnTo>
                  <a:lnTo>
                    <a:pt x="164" y="1649"/>
                  </a:lnTo>
                  <a:lnTo>
                    <a:pt x="163" y="1641"/>
                  </a:lnTo>
                  <a:lnTo>
                    <a:pt x="175" y="1638"/>
                  </a:lnTo>
                  <a:lnTo>
                    <a:pt x="189" y="1638"/>
                  </a:lnTo>
                  <a:lnTo>
                    <a:pt x="204" y="1638"/>
                  </a:lnTo>
                  <a:lnTo>
                    <a:pt x="221" y="1640"/>
                  </a:lnTo>
                  <a:lnTo>
                    <a:pt x="237" y="1641"/>
                  </a:lnTo>
                  <a:lnTo>
                    <a:pt x="255" y="1642"/>
                  </a:lnTo>
                  <a:lnTo>
                    <a:pt x="272" y="1642"/>
                  </a:lnTo>
                  <a:lnTo>
                    <a:pt x="289" y="1641"/>
                  </a:lnTo>
                  <a:lnTo>
                    <a:pt x="305" y="1640"/>
                  </a:lnTo>
                  <a:lnTo>
                    <a:pt x="322" y="1635"/>
                  </a:lnTo>
                  <a:lnTo>
                    <a:pt x="335" y="1629"/>
                  </a:lnTo>
                  <a:lnTo>
                    <a:pt x="348" y="1621"/>
                  </a:lnTo>
                  <a:lnTo>
                    <a:pt x="360" y="1610"/>
                  </a:lnTo>
                  <a:lnTo>
                    <a:pt x="368" y="1595"/>
                  </a:lnTo>
                  <a:lnTo>
                    <a:pt x="375" y="1576"/>
                  </a:lnTo>
                  <a:lnTo>
                    <a:pt x="378" y="1554"/>
                  </a:lnTo>
                  <a:lnTo>
                    <a:pt x="383" y="1502"/>
                  </a:lnTo>
                  <a:lnTo>
                    <a:pt x="301" y="1519"/>
                  </a:lnTo>
                  <a:lnTo>
                    <a:pt x="303" y="1510"/>
                  </a:lnTo>
                  <a:lnTo>
                    <a:pt x="308" y="1502"/>
                  </a:lnTo>
                  <a:lnTo>
                    <a:pt x="316" y="1496"/>
                  </a:lnTo>
                  <a:lnTo>
                    <a:pt x="326" y="1487"/>
                  </a:lnTo>
                  <a:lnTo>
                    <a:pt x="339" y="1479"/>
                  </a:lnTo>
                  <a:lnTo>
                    <a:pt x="353" y="1472"/>
                  </a:lnTo>
                  <a:lnTo>
                    <a:pt x="368" y="1466"/>
                  </a:lnTo>
                  <a:lnTo>
                    <a:pt x="384" y="1459"/>
                  </a:lnTo>
                  <a:lnTo>
                    <a:pt x="400" y="1453"/>
                  </a:lnTo>
                  <a:lnTo>
                    <a:pt x="416" y="1447"/>
                  </a:lnTo>
                  <a:lnTo>
                    <a:pt x="432" y="1441"/>
                  </a:lnTo>
                  <a:lnTo>
                    <a:pt x="447" y="1437"/>
                  </a:lnTo>
                  <a:lnTo>
                    <a:pt x="461" y="1433"/>
                  </a:lnTo>
                  <a:lnTo>
                    <a:pt x="472" y="1430"/>
                  </a:lnTo>
                  <a:lnTo>
                    <a:pt x="483" y="1428"/>
                  </a:lnTo>
                  <a:lnTo>
                    <a:pt x="490" y="1426"/>
                  </a:lnTo>
                  <a:lnTo>
                    <a:pt x="495" y="1432"/>
                  </a:lnTo>
                  <a:lnTo>
                    <a:pt x="502" y="1440"/>
                  </a:lnTo>
                  <a:lnTo>
                    <a:pt x="510" y="1447"/>
                  </a:lnTo>
                  <a:lnTo>
                    <a:pt x="519" y="1455"/>
                  </a:lnTo>
                  <a:lnTo>
                    <a:pt x="527" y="1462"/>
                  </a:lnTo>
                  <a:lnTo>
                    <a:pt x="535" y="1468"/>
                  </a:lnTo>
                  <a:lnTo>
                    <a:pt x="543" y="1471"/>
                  </a:lnTo>
                  <a:lnTo>
                    <a:pt x="551" y="1472"/>
                  </a:lnTo>
                  <a:lnTo>
                    <a:pt x="560" y="1457"/>
                  </a:lnTo>
                  <a:lnTo>
                    <a:pt x="559" y="1444"/>
                  </a:lnTo>
                  <a:lnTo>
                    <a:pt x="554" y="1431"/>
                  </a:lnTo>
                  <a:lnTo>
                    <a:pt x="551" y="1416"/>
                  </a:lnTo>
                  <a:lnTo>
                    <a:pt x="544" y="1415"/>
                  </a:lnTo>
                  <a:lnTo>
                    <a:pt x="539" y="1413"/>
                  </a:lnTo>
                  <a:lnTo>
                    <a:pt x="535" y="1409"/>
                  </a:lnTo>
                  <a:lnTo>
                    <a:pt x="530" y="1406"/>
                  </a:lnTo>
                  <a:lnTo>
                    <a:pt x="544" y="1394"/>
                  </a:lnTo>
                  <a:lnTo>
                    <a:pt x="562" y="1381"/>
                  </a:lnTo>
                  <a:lnTo>
                    <a:pt x="582" y="1370"/>
                  </a:lnTo>
                  <a:lnTo>
                    <a:pt x="600" y="1356"/>
                  </a:lnTo>
                  <a:lnTo>
                    <a:pt x="618" y="1340"/>
                  </a:lnTo>
                  <a:lnTo>
                    <a:pt x="629" y="1324"/>
                  </a:lnTo>
                  <a:lnTo>
                    <a:pt x="635" y="1304"/>
                  </a:lnTo>
                  <a:lnTo>
                    <a:pt x="633" y="1282"/>
                  </a:lnTo>
                  <a:lnTo>
                    <a:pt x="629" y="1275"/>
                  </a:lnTo>
                  <a:lnTo>
                    <a:pt x="621" y="1271"/>
                  </a:lnTo>
                  <a:lnTo>
                    <a:pt x="611" y="1266"/>
                  </a:lnTo>
                  <a:lnTo>
                    <a:pt x="599" y="1262"/>
                  </a:lnTo>
                  <a:lnTo>
                    <a:pt x="588" y="1256"/>
                  </a:lnTo>
                  <a:lnTo>
                    <a:pt x="576" y="1250"/>
                  </a:lnTo>
                  <a:lnTo>
                    <a:pt x="567" y="1242"/>
                  </a:lnTo>
                  <a:lnTo>
                    <a:pt x="561" y="1232"/>
                  </a:lnTo>
                  <a:lnTo>
                    <a:pt x="562" y="1220"/>
                  </a:lnTo>
                  <a:lnTo>
                    <a:pt x="569" y="1205"/>
                  </a:lnTo>
                  <a:lnTo>
                    <a:pt x="581" y="1188"/>
                  </a:lnTo>
                  <a:lnTo>
                    <a:pt x="593" y="1171"/>
                  </a:lnTo>
                  <a:lnTo>
                    <a:pt x="606" y="1154"/>
                  </a:lnTo>
                  <a:lnTo>
                    <a:pt x="616" y="1142"/>
                  </a:lnTo>
                  <a:lnTo>
                    <a:pt x="625" y="1133"/>
                  </a:lnTo>
                  <a:lnTo>
                    <a:pt x="628" y="1129"/>
                  </a:lnTo>
                  <a:lnTo>
                    <a:pt x="622" y="1108"/>
                  </a:lnTo>
                  <a:lnTo>
                    <a:pt x="606" y="1110"/>
                  </a:lnTo>
                  <a:lnTo>
                    <a:pt x="590" y="1112"/>
                  </a:lnTo>
                  <a:lnTo>
                    <a:pt x="574" y="1114"/>
                  </a:lnTo>
                  <a:lnTo>
                    <a:pt x="559" y="1115"/>
                  </a:lnTo>
                  <a:lnTo>
                    <a:pt x="544" y="1114"/>
                  </a:lnTo>
                  <a:lnTo>
                    <a:pt x="530" y="1111"/>
                  </a:lnTo>
                  <a:lnTo>
                    <a:pt x="520" y="1101"/>
                  </a:lnTo>
                  <a:lnTo>
                    <a:pt x="510" y="1088"/>
                  </a:lnTo>
                  <a:lnTo>
                    <a:pt x="505" y="1089"/>
                  </a:lnTo>
                  <a:lnTo>
                    <a:pt x="500" y="1092"/>
                  </a:lnTo>
                  <a:lnTo>
                    <a:pt x="494" y="1097"/>
                  </a:lnTo>
                  <a:lnTo>
                    <a:pt x="491" y="1101"/>
                  </a:lnTo>
                  <a:lnTo>
                    <a:pt x="486" y="1108"/>
                  </a:lnTo>
                  <a:lnTo>
                    <a:pt x="483" y="1114"/>
                  </a:lnTo>
                  <a:lnTo>
                    <a:pt x="478" y="1119"/>
                  </a:lnTo>
                  <a:lnTo>
                    <a:pt x="475" y="1123"/>
                  </a:lnTo>
                  <a:lnTo>
                    <a:pt x="467" y="1111"/>
                  </a:lnTo>
                  <a:lnTo>
                    <a:pt x="464" y="1098"/>
                  </a:lnTo>
                  <a:lnTo>
                    <a:pt x="461" y="1085"/>
                  </a:lnTo>
                  <a:lnTo>
                    <a:pt x="454" y="1073"/>
                  </a:lnTo>
                  <a:lnTo>
                    <a:pt x="444" y="1077"/>
                  </a:lnTo>
                  <a:lnTo>
                    <a:pt x="436" y="1084"/>
                  </a:lnTo>
                  <a:lnTo>
                    <a:pt x="429" y="1092"/>
                  </a:lnTo>
                  <a:lnTo>
                    <a:pt x="423" y="1104"/>
                  </a:lnTo>
                  <a:lnTo>
                    <a:pt x="408" y="1084"/>
                  </a:lnTo>
                  <a:lnTo>
                    <a:pt x="402" y="1055"/>
                  </a:lnTo>
                  <a:lnTo>
                    <a:pt x="402" y="1025"/>
                  </a:lnTo>
                  <a:lnTo>
                    <a:pt x="408" y="1001"/>
                  </a:lnTo>
                  <a:lnTo>
                    <a:pt x="417" y="1010"/>
                  </a:lnTo>
                  <a:lnTo>
                    <a:pt x="423" y="1021"/>
                  </a:lnTo>
                  <a:lnTo>
                    <a:pt x="430" y="1032"/>
                  </a:lnTo>
                  <a:lnTo>
                    <a:pt x="439" y="1042"/>
                  </a:lnTo>
                  <a:lnTo>
                    <a:pt x="459" y="1022"/>
                  </a:lnTo>
                  <a:lnTo>
                    <a:pt x="457" y="1007"/>
                  </a:lnTo>
                  <a:lnTo>
                    <a:pt x="462" y="995"/>
                  </a:lnTo>
                  <a:lnTo>
                    <a:pt x="470" y="986"/>
                  </a:lnTo>
                  <a:lnTo>
                    <a:pt x="479" y="979"/>
                  </a:lnTo>
                  <a:lnTo>
                    <a:pt x="490" y="972"/>
                  </a:lnTo>
                  <a:lnTo>
                    <a:pt x="500" y="965"/>
                  </a:lnTo>
                  <a:lnTo>
                    <a:pt x="509" y="956"/>
                  </a:lnTo>
                  <a:lnTo>
                    <a:pt x="515" y="945"/>
                  </a:lnTo>
                  <a:lnTo>
                    <a:pt x="519" y="918"/>
                  </a:lnTo>
                  <a:lnTo>
                    <a:pt x="520" y="893"/>
                  </a:lnTo>
                  <a:lnTo>
                    <a:pt x="521" y="866"/>
                  </a:lnTo>
                  <a:lnTo>
                    <a:pt x="530" y="838"/>
                  </a:lnTo>
                  <a:lnTo>
                    <a:pt x="513" y="823"/>
                  </a:lnTo>
                  <a:lnTo>
                    <a:pt x="493" y="824"/>
                  </a:lnTo>
                  <a:lnTo>
                    <a:pt x="474" y="838"/>
                  </a:lnTo>
                  <a:lnTo>
                    <a:pt x="453" y="858"/>
                  </a:lnTo>
                  <a:lnTo>
                    <a:pt x="433" y="883"/>
                  </a:lnTo>
                  <a:lnTo>
                    <a:pt x="415" y="906"/>
                  </a:lnTo>
                  <a:lnTo>
                    <a:pt x="398" y="923"/>
                  </a:lnTo>
                  <a:lnTo>
                    <a:pt x="383" y="930"/>
                  </a:lnTo>
                  <a:lnTo>
                    <a:pt x="387" y="899"/>
                  </a:lnTo>
                  <a:lnTo>
                    <a:pt x="399" y="869"/>
                  </a:lnTo>
                  <a:lnTo>
                    <a:pt x="416" y="840"/>
                  </a:lnTo>
                  <a:lnTo>
                    <a:pt x="437" y="813"/>
                  </a:lnTo>
                  <a:lnTo>
                    <a:pt x="457" y="787"/>
                  </a:lnTo>
                  <a:lnTo>
                    <a:pt x="477" y="762"/>
                  </a:lnTo>
                  <a:lnTo>
                    <a:pt x="494" y="735"/>
                  </a:lnTo>
                  <a:lnTo>
                    <a:pt x="505" y="709"/>
                  </a:lnTo>
                  <a:lnTo>
                    <a:pt x="505" y="699"/>
                  </a:lnTo>
                  <a:lnTo>
                    <a:pt x="498" y="694"/>
                  </a:lnTo>
                  <a:lnTo>
                    <a:pt x="489" y="692"/>
                  </a:lnTo>
                  <a:lnTo>
                    <a:pt x="479" y="694"/>
                  </a:lnTo>
                  <a:lnTo>
                    <a:pt x="475" y="689"/>
                  </a:lnTo>
                  <a:lnTo>
                    <a:pt x="468" y="683"/>
                  </a:lnTo>
                  <a:lnTo>
                    <a:pt x="461" y="677"/>
                  </a:lnTo>
                  <a:lnTo>
                    <a:pt x="459" y="673"/>
                  </a:lnTo>
                  <a:lnTo>
                    <a:pt x="469" y="658"/>
                  </a:lnTo>
                  <a:lnTo>
                    <a:pt x="482" y="643"/>
                  </a:lnTo>
                  <a:lnTo>
                    <a:pt x="494" y="628"/>
                  </a:lnTo>
                  <a:lnTo>
                    <a:pt x="508" y="613"/>
                  </a:lnTo>
                  <a:lnTo>
                    <a:pt x="521" y="598"/>
                  </a:lnTo>
                  <a:lnTo>
                    <a:pt x="534" y="581"/>
                  </a:lnTo>
                  <a:lnTo>
                    <a:pt x="546" y="563"/>
                  </a:lnTo>
                  <a:lnTo>
                    <a:pt x="557" y="545"/>
                  </a:lnTo>
                  <a:lnTo>
                    <a:pt x="547" y="524"/>
                  </a:lnTo>
                  <a:lnTo>
                    <a:pt x="545" y="507"/>
                  </a:lnTo>
                  <a:lnTo>
                    <a:pt x="547" y="491"/>
                  </a:lnTo>
                  <a:lnTo>
                    <a:pt x="557" y="474"/>
                  </a:lnTo>
                  <a:lnTo>
                    <a:pt x="563" y="461"/>
                  </a:lnTo>
                  <a:lnTo>
                    <a:pt x="570" y="452"/>
                  </a:lnTo>
                  <a:lnTo>
                    <a:pt x="576" y="447"/>
                  </a:lnTo>
                  <a:lnTo>
                    <a:pt x="583" y="445"/>
                  </a:lnTo>
                  <a:lnTo>
                    <a:pt x="591" y="445"/>
                  </a:lnTo>
                  <a:lnTo>
                    <a:pt x="599" y="446"/>
                  </a:lnTo>
                  <a:lnTo>
                    <a:pt x="610" y="447"/>
                  </a:lnTo>
                  <a:lnTo>
                    <a:pt x="622" y="448"/>
                  </a:lnTo>
                  <a:lnTo>
                    <a:pt x="625" y="430"/>
                  </a:lnTo>
                  <a:lnTo>
                    <a:pt x="629" y="412"/>
                  </a:lnTo>
                  <a:lnTo>
                    <a:pt x="637" y="396"/>
                  </a:lnTo>
                  <a:lnTo>
                    <a:pt x="648" y="380"/>
                  </a:lnTo>
                  <a:lnTo>
                    <a:pt x="659" y="366"/>
                  </a:lnTo>
                  <a:lnTo>
                    <a:pt x="672" y="351"/>
                  </a:lnTo>
                  <a:lnTo>
                    <a:pt x="686" y="339"/>
                  </a:lnTo>
                  <a:lnTo>
                    <a:pt x="699" y="325"/>
                  </a:lnTo>
                  <a:close/>
                  <a:moveTo>
                    <a:pt x="286" y="1160"/>
                  </a:moveTo>
                  <a:lnTo>
                    <a:pt x="310" y="1143"/>
                  </a:lnTo>
                  <a:lnTo>
                    <a:pt x="327" y="1113"/>
                  </a:lnTo>
                  <a:lnTo>
                    <a:pt x="336" y="1075"/>
                  </a:lnTo>
                  <a:lnTo>
                    <a:pt x="338" y="1032"/>
                  </a:lnTo>
                  <a:lnTo>
                    <a:pt x="332" y="991"/>
                  </a:lnTo>
                  <a:lnTo>
                    <a:pt x="320" y="953"/>
                  </a:lnTo>
                  <a:lnTo>
                    <a:pt x="301" y="925"/>
                  </a:lnTo>
                  <a:lnTo>
                    <a:pt x="275" y="909"/>
                  </a:lnTo>
                  <a:lnTo>
                    <a:pt x="265" y="908"/>
                  </a:lnTo>
                  <a:lnTo>
                    <a:pt x="254" y="907"/>
                  </a:lnTo>
                  <a:lnTo>
                    <a:pt x="242" y="908"/>
                  </a:lnTo>
                  <a:lnTo>
                    <a:pt x="229" y="909"/>
                  </a:lnTo>
                  <a:lnTo>
                    <a:pt x="217" y="909"/>
                  </a:lnTo>
                  <a:lnTo>
                    <a:pt x="205" y="910"/>
                  </a:lnTo>
                  <a:lnTo>
                    <a:pt x="194" y="910"/>
                  </a:lnTo>
                  <a:lnTo>
                    <a:pt x="183" y="909"/>
                  </a:lnTo>
                  <a:lnTo>
                    <a:pt x="175" y="911"/>
                  </a:lnTo>
                  <a:lnTo>
                    <a:pt x="168" y="914"/>
                  </a:lnTo>
                  <a:lnTo>
                    <a:pt x="160" y="916"/>
                  </a:lnTo>
                  <a:lnTo>
                    <a:pt x="152" y="917"/>
                  </a:lnTo>
                  <a:lnTo>
                    <a:pt x="144" y="919"/>
                  </a:lnTo>
                  <a:lnTo>
                    <a:pt x="136" y="923"/>
                  </a:lnTo>
                  <a:lnTo>
                    <a:pt x="129" y="926"/>
                  </a:lnTo>
                  <a:lnTo>
                    <a:pt x="123" y="931"/>
                  </a:lnTo>
                  <a:lnTo>
                    <a:pt x="115" y="939"/>
                  </a:lnTo>
                  <a:lnTo>
                    <a:pt x="108" y="948"/>
                  </a:lnTo>
                  <a:lnTo>
                    <a:pt x="100" y="959"/>
                  </a:lnTo>
                  <a:lnTo>
                    <a:pt x="95" y="969"/>
                  </a:lnTo>
                  <a:lnTo>
                    <a:pt x="89" y="979"/>
                  </a:lnTo>
                  <a:lnTo>
                    <a:pt x="84" y="991"/>
                  </a:lnTo>
                  <a:lnTo>
                    <a:pt x="82" y="1002"/>
                  </a:lnTo>
                  <a:lnTo>
                    <a:pt x="81" y="1014"/>
                  </a:lnTo>
                  <a:lnTo>
                    <a:pt x="82" y="1027"/>
                  </a:lnTo>
                  <a:lnTo>
                    <a:pt x="84" y="1039"/>
                  </a:lnTo>
                  <a:lnTo>
                    <a:pt x="88" y="1053"/>
                  </a:lnTo>
                  <a:lnTo>
                    <a:pt x="92" y="1065"/>
                  </a:lnTo>
                  <a:lnTo>
                    <a:pt x="99" y="1077"/>
                  </a:lnTo>
                  <a:lnTo>
                    <a:pt x="106" y="1088"/>
                  </a:lnTo>
                  <a:lnTo>
                    <a:pt x="114" y="1098"/>
                  </a:lnTo>
                  <a:lnTo>
                    <a:pt x="123" y="1106"/>
                  </a:lnTo>
                  <a:lnTo>
                    <a:pt x="131" y="1110"/>
                  </a:lnTo>
                  <a:lnTo>
                    <a:pt x="141" y="1111"/>
                  </a:lnTo>
                  <a:lnTo>
                    <a:pt x="151" y="1111"/>
                  </a:lnTo>
                  <a:lnTo>
                    <a:pt x="161" y="1108"/>
                  </a:lnTo>
                  <a:lnTo>
                    <a:pt x="172" y="1106"/>
                  </a:lnTo>
                  <a:lnTo>
                    <a:pt x="182" y="1105"/>
                  </a:lnTo>
                  <a:lnTo>
                    <a:pt x="191" y="1105"/>
                  </a:lnTo>
                  <a:lnTo>
                    <a:pt x="201" y="1106"/>
                  </a:lnTo>
                  <a:lnTo>
                    <a:pt x="212" y="1111"/>
                  </a:lnTo>
                  <a:lnTo>
                    <a:pt x="224" y="1116"/>
                  </a:lnTo>
                  <a:lnTo>
                    <a:pt x="234" y="1123"/>
                  </a:lnTo>
                  <a:lnTo>
                    <a:pt x="245" y="1130"/>
                  </a:lnTo>
                  <a:lnTo>
                    <a:pt x="255" y="1138"/>
                  </a:lnTo>
                  <a:lnTo>
                    <a:pt x="265" y="1146"/>
                  </a:lnTo>
                  <a:lnTo>
                    <a:pt x="275" y="1153"/>
                  </a:lnTo>
                  <a:lnTo>
                    <a:pt x="286" y="1160"/>
                  </a:lnTo>
                  <a:close/>
                  <a:moveTo>
                    <a:pt x="1195" y="169"/>
                  </a:moveTo>
                  <a:lnTo>
                    <a:pt x="1195" y="152"/>
                  </a:lnTo>
                  <a:lnTo>
                    <a:pt x="1197" y="137"/>
                  </a:lnTo>
                  <a:lnTo>
                    <a:pt x="1198" y="123"/>
                  </a:lnTo>
                  <a:lnTo>
                    <a:pt x="1199" y="111"/>
                  </a:lnTo>
                  <a:lnTo>
                    <a:pt x="1198" y="100"/>
                  </a:lnTo>
                  <a:lnTo>
                    <a:pt x="1193" y="90"/>
                  </a:lnTo>
                  <a:lnTo>
                    <a:pt x="1182" y="81"/>
                  </a:lnTo>
                  <a:lnTo>
                    <a:pt x="1165" y="70"/>
                  </a:lnTo>
                  <a:lnTo>
                    <a:pt x="1169" y="64"/>
                  </a:lnTo>
                  <a:lnTo>
                    <a:pt x="1175" y="61"/>
                  </a:lnTo>
                  <a:lnTo>
                    <a:pt x="1182" y="60"/>
                  </a:lnTo>
                  <a:lnTo>
                    <a:pt x="1189" y="59"/>
                  </a:lnTo>
                  <a:lnTo>
                    <a:pt x="1196" y="60"/>
                  </a:lnTo>
                  <a:lnTo>
                    <a:pt x="1203" y="60"/>
                  </a:lnTo>
                  <a:lnTo>
                    <a:pt x="1211" y="60"/>
                  </a:lnTo>
                  <a:lnTo>
                    <a:pt x="1218" y="59"/>
                  </a:lnTo>
                  <a:lnTo>
                    <a:pt x="1222" y="35"/>
                  </a:lnTo>
                  <a:lnTo>
                    <a:pt x="1232" y="17"/>
                  </a:lnTo>
                  <a:lnTo>
                    <a:pt x="1240" y="16"/>
                  </a:lnTo>
                  <a:lnTo>
                    <a:pt x="1244" y="40"/>
                  </a:lnTo>
                  <a:lnTo>
                    <a:pt x="1256" y="35"/>
                  </a:lnTo>
                  <a:lnTo>
                    <a:pt x="1264" y="28"/>
                  </a:lnTo>
                  <a:lnTo>
                    <a:pt x="1272" y="21"/>
                  </a:lnTo>
                  <a:lnTo>
                    <a:pt x="1279" y="13"/>
                  </a:lnTo>
                  <a:lnTo>
                    <a:pt x="1287" y="6"/>
                  </a:lnTo>
                  <a:lnTo>
                    <a:pt x="1296" y="2"/>
                  </a:lnTo>
                  <a:lnTo>
                    <a:pt x="1309" y="0"/>
                  </a:lnTo>
                  <a:lnTo>
                    <a:pt x="1324" y="2"/>
                  </a:lnTo>
                  <a:lnTo>
                    <a:pt x="1320" y="11"/>
                  </a:lnTo>
                  <a:lnTo>
                    <a:pt x="1314" y="18"/>
                  </a:lnTo>
                  <a:lnTo>
                    <a:pt x="1304" y="24"/>
                  </a:lnTo>
                  <a:lnTo>
                    <a:pt x="1295" y="29"/>
                  </a:lnTo>
                  <a:lnTo>
                    <a:pt x="1285" y="33"/>
                  </a:lnTo>
                  <a:lnTo>
                    <a:pt x="1275" y="39"/>
                  </a:lnTo>
                  <a:lnTo>
                    <a:pt x="1267" y="46"/>
                  </a:lnTo>
                  <a:lnTo>
                    <a:pt x="1263" y="55"/>
                  </a:lnTo>
                  <a:lnTo>
                    <a:pt x="1259" y="66"/>
                  </a:lnTo>
                  <a:lnTo>
                    <a:pt x="1254" y="81"/>
                  </a:lnTo>
                  <a:lnTo>
                    <a:pt x="1246" y="99"/>
                  </a:lnTo>
                  <a:lnTo>
                    <a:pt x="1236" y="117"/>
                  </a:lnTo>
                  <a:lnTo>
                    <a:pt x="1226" y="136"/>
                  </a:lnTo>
                  <a:lnTo>
                    <a:pt x="1214" y="152"/>
                  </a:lnTo>
                  <a:lnTo>
                    <a:pt x="1204" y="164"/>
                  </a:lnTo>
                  <a:lnTo>
                    <a:pt x="1195" y="169"/>
                  </a:lnTo>
                  <a:close/>
                  <a:moveTo>
                    <a:pt x="378" y="1391"/>
                  </a:moveTo>
                  <a:lnTo>
                    <a:pt x="368" y="1392"/>
                  </a:lnTo>
                  <a:lnTo>
                    <a:pt x="360" y="1396"/>
                  </a:lnTo>
                  <a:lnTo>
                    <a:pt x="353" y="1406"/>
                  </a:lnTo>
                  <a:lnTo>
                    <a:pt x="347" y="1416"/>
                  </a:lnTo>
                  <a:lnTo>
                    <a:pt x="342" y="1426"/>
                  </a:lnTo>
                  <a:lnTo>
                    <a:pt x="340" y="1437"/>
                  </a:lnTo>
                  <a:lnTo>
                    <a:pt x="340" y="1446"/>
                  </a:lnTo>
                  <a:lnTo>
                    <a:pt x="341" y="1452"/>
                  </a:lnTo>
                  <a:lnTo>
                    <a:pt x="345" y="1454"/>
                  </a:lnTo>
                  <a:lnTo>
                    <a:pt x="350" y="1453"/>
                  </a:lnTo>
                  <a:lnTo>
                    <a:pt x="357" y="1449"/>
                  </a:lnTo>
                  <a:lnTo>
                    <a:pt x="365" y="1445"/>
                  </a:lnTo>
                  <a:lnTo>
                    <a:pt x="375" y="1440"/>
                  </a:lnTo>
                  <a:lnTo>
                    <a:pt x="384" y="1436"/>
                  </a:lnTo>
                  <a:lnTo>
                    <a:pt x="394" y="1432"/>
                  </a:lnTo>
                  <a:lnTo>
                    <a:pt x="403" y="1431"/>
                  </a:lnTo>
                  <a:lnTo>
                    <a:pt x="401" y="1417"/>
                  </a:lnTo>
                  <a:lnTo>
                    <a:pt x="396" y="1407"/>
                  </a:lnTo>
                  <a:lnTo>
                    <a:pt x="388" y="1399"/>
                  </a:lnTo>
                  <a:lnTo>
                    <a:pt x="378" y="1391"/>
                  </a:lnTo>
                  <a:close/>
                  <a:moveTo>
                    <a:pt x="347" y="811"/>
                  </a:moveTo>
                  <a:lnTo>
                    <a:pt x="341" y="812"/>
                  </a:lnTo>
                  <a:lnTo>
                    <a:pt x="334" y="815"/>
                  </a:lnTo>
                  <a:lnTo>
                    <a:pt x="326" y="818"/>
                  </a:lnTo>
                  <a:lnTo>
                    <a:pt x="322" y="821"/>
                  </a:lnTo>
                  <a:lnTo>
                    <a:pt x="323" y="832"/>
                  </a:lnTo>
                  <a:lnTo>
                    <a:pt x="326" y="840"/>
                  </a:lnTo>
                  <a:lnTo>
                    <a:pt x="332" y="846"/>
                  </a:lnTo>
                  <a:lnTo>
                    <a:pt x="339" y="849"/>
                  </a:lnTo>
                  <a:lnTo>
                    <a:pt x="346" y="853"/>
                  </a:lnTo>
                  <a:lnTo>
                    <a:pt x="354" y="854"/>
                  </a:lnTo>
                  <a:lnTo>
                    <a:pt x="361" y="856"/>
                  </a:lnTo>
                  <a:lnTo>
                    <a:pt x="368" y="857"/>
                  </a:lnTo>
                  <a:lnTo>
                    <a:pt x="379" y="843"/>
                  </a:lnTo>
                  <a:lnTo>
                    <a:pt x="385" y="832"/>
                  </a:lnTo>
                  <a:lnTo>
                    <a:pt x="385" y="823"/>
                  </a:lnTo>
                  <a:lnTo>
                    <a:pt x="381" y="815"/>
                  </a:lnTo>
                  <a:lnTo>
                    <a:pt x="376" y="810"/>
                  </a:lnTo>
                  <a:lnTo>
                    <a:pt x="366" y="809"/>
                  </a:lnTo>
                  <a:lnTo>
                    <a:pt x="357" y="809"/>
                  </a:lnTo>
                  <a:lnTo>
                    <a:pt x="347" y="811"/>
                  </a:lnTo>
                  <a:close/>
                  <a:moveTo>
                    <a:pt x="423" y="658"/>
                  </a:moveTo>
                  <a:lnTo>
                    <a:pt x="415" y="667"/>
                  </a:lnTo>
                  <a:lnTo>
                    <a:pt x="414" y="675"/>
                  </a:lnTo>
                  <a:lnTo>
                    <a:pt x="415" y="683"/>
                  </a:lnTo>
                  <a:lnTo>
                    <a:pt x="418" y="694"/>
                  </a:lnTo>
                  <a:lnTo>
                    <a:pt x="410" y="702"/>
                  </a:lnTo>
                  <a:lnTo>
                    <a:pt x="402" y="709"/>
                  </a:lnTo>
                  <a:lnTo>
                    <a:pt x="395" y="717"/>
                  </a:lnTo>
                  <a:lnTo>
                    <a:pt x="393" y="725"/>
                  </a:lnTo>
                  <a:lnTo>
                    <a:pt x="410" y="724"/>
                  </a:lnTo>
                  <a:lnTo>
                    <a:pt x="424" y="721"/>
                  </a:lnTo>
                  <a:lnTo>
                    <a:pt x="434" y="715"/>
                  </a:lnTo>
                  <a:lnTo>
                    <a:pt x="440" y="709"/>
                  </a:lnTo>
                  <a:lnTo>
                    <a:pt x="442" y="699"/>
                  </a:lnTo>
                  <a:lnTo>
                    <a:pt x="440" y="688"/>
                  </a:lnTo>
                  <a:lnTo>
                    <a:pt x="434" y="674"/>
                  </a:lnTo>
                  <a:lnTo>
                    <a:pt x="423" y="658"/>
                  </a:lnTo>
                  <a:close/>
                  <a:moveTo>
                    <a:pt x="494" y="463"/>
                  </a:moveTo>
                  <a:lnTo>
                    <a:pt x="493" y="454"/>
                  </a:lnTo>
                  <a:lnTo>
                    <a:pt x="492" y="446"/>
                  </a:lnTo>
                  <a:lnTo>
                    <a:pt x="491" y="439"/>
                  </a:lnTo>
                  <a:lnTo>
                    <a:pt x="490" y="432"/>
                  </a:lnTo>
                  <a:lnTo>
                    <a:pt x="455" y="440"/>
                  </a:lnTo>
                  <a:lnTo>
                    <a:pt x="439" y="462"/>
                  </a:lnTo>
                  <a:lnTo>
                    <a:pt x="438" y="490"/>
                  </a:lnTo>
                  <a:lnTo>
                    <a:pt x="448" y="520"/>
                  </a:lnTo>
                  <a:lnTo>
                    <a:pt x="466" y="544"/>
                  </a:lnTo>
                  <a:lnTo>
                    <a:pt x="485" y="558"/>
                  </a:lnTo>
                  <a:lnTo>
                    <a:pt x="506" y="555"/>
                  </a:lnTo>
                  <a:lnTo>
                    <a:pt x="521" y="530"/>
                  </a:lnTo>
                  <a:lnTo>
                    <a:pt x="506" y="514"/>
                  </a:lnTo>
                  <a:lnTo>
                    <a:pt x="500" y="500"/>
                  </a:lnTo>
                  <a:lnTo>
                    <a:pt x="497" y="485"/>
                  </a:lnTo>
                  <a:lnTo>
                    <a:pt x="494" y="463"/>
                  </a:lnTo>
                  <a:close/>
                  <a:moveTo>
                    <a:pt x="990" y="212"/>
                  </a:moveTo>
                  <a:lnTo>
                    <a:pt x="975" y="220"/>
                  </a:lnTo>
                  <a:lnTo>
                    <a:pt x="968" y="229"/>
                  </a:lnTo>
                  <a:lnTo>
                    <a:pt x="967" y="242"/>
                  </a:lnTo>
                  <a:lnTo>
                    <a:pt x="969" y="258"/>
                  </a:lnTo>
                  <a:lnTo>
                    <a:pt x="966" y="261"/>
                  </a:lnTo>
                  <a:lnTo>
                    <a:pt x="961" y="264"/>
                  </a:lnTo>
                  <a:lnTo>
                    <a:pt x="956" y="266"/>
                  </a:lnTo>
                  <a:lnTo>
                    <a:pt x="952" y="267"/>
                  </a:lnTo>
                  <a:lnTo>
                    <a:pt x="947" y="270"/>
                  </a:lnTo>
                  <a:lnTo>
                    <a:pt x="943" y="271"/>
                  </a:lnTo>
                  <a:lnTo>
                    <a:pt x="938" y="272"/>
                  </a:lnTo>
                  <a:lnTo>
                    <a:pt x="933" y="274"/>
                  </a:lnTo>
                  <a:lnTo>
                    <a:pt x="934" y="281"/>
                  </a:lnTo>
                  <a:lnTo>
                    <a:pt x="939" y="289"/>
                  </a:lnTo>
                  <a:lnTo>
                    <a:pt x="943" y="296"/>
                  </a:lnTo>
                  <a:lnTo>
                    <a:pt x="944" y="304"/>
                  </a:lnTo>
                  <a:lnTo>
                    <a:pt x="924" y="304"/>
                  </a:lnTo>
                  <a:lnTo>
                    <a:pt x="925" y="314"/>
                  </a:lnTo>
                  <a:lnTo>
                    <a:pt x="930" y="324"/>
                  </a:lnTo>
                  <a:lnTo>
                    <a:pt x="937" y="332"/>
                  </a:lnTo>
                  <a:lnTo>
                    <a:pt x="944" y="340"/>
                  </a:lnTo>
                  <a:lnTo>
                    <a:pt x="1051" y="237"/>
                  </a:lnTo>
                  <a:lnTo>
                    <a:pt x="1050" y="227"/>
                  </a:lnTo>
                  <a:lnTo>
                    <a:pt x="1045" y="221"/>
                  </a:lnTo>
                  <a:lnTo>
                    <a:pt x="1039" y="219"/>
                  </a:lnTo>
                  <a:lnTo>
                    <a:pt x="1031" y="219"/>
                  </a:lnTo>
                  <a:lnTo>
                    <a:pt x="1023" y="221"/>
                  </a:lnTo>
                  <a:lnTo>
                    <a:pt x="1014" y="225"/>
                  </a:lnTo>
                  <a:lnTo>
                    <a:pt x="1007" y="227"/>
                  </a:lnTo>
                  <a:lnTo>
                    <a:pt x="1000" y="228"/>
                  </a:lnTo>
                  <a:lnTo>
                    <a:pt x="999" y="223"/>
                  </a:lnTo>
                  <a:lnTo>
                    <a:pt x="997" y="220"/>
                  </a:lnTo>
                  <a:lnTo>
                    <a:pt x="994" y="217"/>
                  </a:lnTo>
                  <a:lnTo>
                    <a:pt x="990" y="212"/>
                  </a:lnTo>
                  <a:close/>
                  <a:moveTo>
                    <a:pt x="459" y="304"/>
                  </a:moveTo>
                  <a:lnTo>
                    <a:pt x="448" y="309"/>
                  </a:lnTo>
                  <a:lnTo>
                    <a:pt x="439" y="317"/>
                  </a:lnTo>
                  <a:lnTo>
                    <a:pt x="432" y="327"/>
                  </a:lnTo>
                  <a:lnTo>
                    <a:pt x="426" y="341"/>
                  </a:lnTo>
                  <a:lnTo>
                    <a:pt x="421" y="355"/>
                  </a:lnTo>
                  <a:lnTo>
                    <a:pt x="416" y="369"/>
                  </a:lnTo>
                  <a:lnTo>
                    <a:pt x="411" y="381"/>
                  </a:lnTo>
                  <a:lnTo>
                    <a:pt x="408" y="392"/>
                  </a:lnTo>
                  <a:lnTo>
                    <a:pt x="414" y="393"/>
                  </a:lnTo>
                  <a:lnTo>
                    <a:pt x="419" y="394"/>
                  </a:lnTo>
                  <a:lnTo>
                    <a:pt x="425" y="393"/>
                  </a:lnTo>
                  <a:lnTo>
                    <a:pt x="431" y="392"/>
                  </a:lnTo>
                  <a:lnTo>
                    <a:pt x="436" y="391"/>
                  </a:lnTo>
                  <a:lnTo>
                    <a:pt x="440" y="388"/>
                  </a:lnTo>
                  <a:lnTo>
                    <a:pt x="445" y="385"/>
                  </a:lnTo>
                  <a:lnTo>
                    <a:pt x="449" y="381"/>
                  </a:lnTo>
                  <a:lnTo>
                    <a:pt x="453" y="381"/>
                  </a:lnTo>
                  <a:lnTo>
                    <a:pt x="457" y="382"/>
                  </a:lnTo>
                  <a:lnTo>
                    <a:pt x="462" y="384"/>
                  </a:lnTo>
                  <a:lnTo>
                    <a:pt x="467" y="385"/>
                  </a:lnTo>
                  <a:lnTo>
                    <a:pt x="471" y="386"/>
                  </a:lnTo>
                  <a:lnTo>
                    <a:pt x="476" y="387"/>
                  </a:lnTo>
                  <a:lnTo>
                    <a:pt x="481" y="389"/>
                  </a:lnTo>
                  <a:lnTo>
                    <a:pt x="485" y="392"/>
                  </a:lnTo>
                  <a:lnTo>
                    <a:pt x="498" y="378"/>
                  </a:lnTo>
                  <a:lnTo>
                    <a:pt x="510" y="363"/>
                  </a:lnTo>
                  <a:lnTo>
                    <a:pt x="522" y="347"/>
                  </a:lnTo>
                  <a:lnTo>
                    <a:pt x="532" y="331"/>
                  </a:lnTo>
                  <a:lnTo>
                    <a:pt x="544" y="316"/>
                  </a:lnTo>
                  <a:lnTo>
                    <a:pt x="554" y="301"/>
                  </a:lnTo>
                  <a:lnTo>
                    <a:pt x="565" y="287"/>
                  </a:lnTo>
                  <a:lnTo>
                    <a:pt x="576" y="274"/>
                  </a:lnTo>
                  <a:lnTo>
                    <a:pt x="568" y="268"/>
                  </a:lnTo>
                  <a:lnTo>
                    <a:pt x="554" y="268"/>
                  </a:lnTo>
                  <a:lnTo>
                    <a:pt x="538" y="273"/>
                  </a:lnTo>
                  <a:lnTo>
                    <a:pt x="521" y="281"/>
                  </a:lnTo>
                  <a:lnTo>
                    <a:pt x="502" y="291"/>
                  </a:lnTo>
                  <a:lnTo>
                    <a:pt x="486" y="303"/>
                  </a:lnTo>
                  <a:lnTo>
                    <a:pt x="472" y="312"/>
                  </a:lnTo>
                  <a:lnTo>
                    <a:pt x="464" y="320"/>
                  </a:lnTo>
                  <a:lnTo>
                    <a:pt x="463" y="316"/>
                  </a:lnTo>
                  <a:lnTo>
                    <a:pt x="462" y="312"/>
                  </a:lnTo>
                  <a:lnTo>
                    <a:pt x="460" y="309"/>
                  </a:lnTo>
                  <a:lnTo>
                    <a:pt x="459" y="304"/>
                  </a:lnTo>
                  <a:close/>
                </a:path>
              </a:pathLst>
            </a:custGeom>
            <a:solidFill>
              <a:srgbClr val="0066cc">
                <a:alpha val="50000"/>
              </a:srgbClr>
            </a:solidFill>
            <a:ln w="9360">
              <a:solidFill>
                <a:srgbClr val="007c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32800" y="3927600"/>
              <a:ext cx="178200" cy="176040"/>
            </a:xfrm>
            <a:custGeom>
              <a:avLst/>
              <a:gdLst/>
              <a:ahLst/>
              <a:rect l="l" t="t" r="r" b="b"/>
              <a:pathLst>
                <a:path w="746" h="702">
                  <a:moveTo>
                    <a:pt x="746" y="313"/>
                  </a:moveTo>
                  <a:lnTo>
                    <a:pt x="735" y="306"/>
                  </a:lnTo>
                  <a:lnTo>
                    <a:pt x="725" y="299"/>
                  </a:lnTo>
                  <a:lnTo>
                    <a:pt x="715" y="291"/>
                  </a:lnTo>
                  <a:lnTo>
                    <a:pt x="705" y="283"/>
                  </a:lnTo>
                  <a:lnTo>
                    <a:pt x="694" y="276"/>
                  </a:lnTo>
                  <a:lnTo>
                    <a:pt x="684" y="269"/>
                  </a:lnTo>
                  <a:lnTo>
                    <a:pt x="672" y="264"/>
                  </a:lnTo>
                  <a:lnTo>
                    <a:pt x="661" y="259"/>
                  </a:lnTo>
                  <a:lnTo>
                    <a:pt x="651" y="258"/>
                  </a:lnTo>
                  <a:lnTo>
                    <a:pt x="642" y="258"/>
                  </a:lnTo>
                  <a:lnTo>
                    <a:pt x="632" y="259"/>
                  </a:lnTo>
                  <a:lnTo>
                    <a:pt x="621" y="261"/>
                  </a:lnTo>
                  <a:lnTo>
                    <a:pt x="611" y="264"/>
                  </a:lnTo>
                  <a:lnTo>
                    <a:pt x="601" y="264"/>
                  </a:lnTo>
                  <a:lnTo>
                    <a:pt x="591" y="263"/>
                  </a:lnTo>
                  <a:lnTo>
                    <a:pt x="583" y="259"/>
                  </a:lnTo>
                  <a:lnTo>
                    <a:pt x="574" y="251"/>
                  </a:lnTo>
                  <a:lnTo>
                    <a:pt x="566" y="241"/>
                  </a:lnTo>
                  <a:lnTo>
                    <a:pt x="559" y="230"/>
                  </a:lnTo>
                  <a:lnTo>
                    <a:pt x="552" y="218"/>
                  </a:lnTo>
                  <a:lnTo>
                    <a:pt x="548" y="206"/>
                  </a:lnTo>
                  <a:lnTo>
                    <a:pt x="544" y="192"/>
                  </a:lnTo>
                  <a:lnTo>
                    <a:pt x="542" y="180"/>
                  </a:lnTo>
                  <a:lnTo>
                    <a:pt x="541" y="167"/>
                  </a:lnTo>
                  <a:lnTo>
                    <a:pt x="542" y="155"/>
                  </a:lnTo>
                  <a:lnTo>
                    <a:pt x="544" y="144"/>
                  </a:lnTo>
                  <a:lnTo>
                    <a:pt x="549" y="132"/>
                  </a:lnTo>
                  <a:lnTo>
                    <a:pt x="555" y="122"/>
                  </a:lnTo>
                  <a:lnTo>
                    <a:pt x="560" y="112"/>
                  </a:lnTo>
                  <a:lnTo>
                    <a:pt x="568" y="101"/>
                  </a:lnTo>
                  <a:lnTo>
                    <a:pt x="575" y="92"/>
                  </a:lnTo>
                  <a:lnTo>
                    <a:pt x="583" y="84"/>
                  </a:lnTo>
                  <a:lnTo>
                    <a:pt x="589" y="79"/>
                  </a:lnTo>
                  <a:lnTo>
                    <a:pt x="596" y="76"/>
                  </a:lnTo>
                  <a:lnTo>
                    <a:pt x="604" y="72"/>
                  </a:lnTo>
                  <a:lnTo>
                    <a:pt x="612" y="70"/>
                  </a:lnTo>
                  <a:lnTo>
                    <a:pt x="620" y="69"/>
                  </a:lnTo>
                  <a:lnTo>
                    <a:pt x="628" y="67"/>
                  </a:lnTo>
                  <a:lnTo>
                    <a:pt x="635" y="64"/>
                  </a:lnTo>
                  <a:lnTo>
                    <a:pt x="643" y="62"/>
                  </a:lnTo>
                  <a:lnTo>
                    <a:pt x="650" y="51"/>
                  </a:lnTo>
                  <a:lnTo>
                    <a:pt x="658" y="40"/>
                  </a:lnTo>
                  <a:lnTo>
                    <a:pt x="665" y="30"/>
                  </a:lnTo>
                  <a:lnTo>
                    <a:pt x="669" y="16"/>
                  </a:lnTo>
                  <a:lnTo>
                    <a:pt x="658" y="8"/>
                  </a:lnTo>
                  <a:lnTo>
                    <a:pt x="646" y="2"/>
                  </a:lnTo>
                  <a:lnTo>
                    <a:pt x="631" y="0"/>
                  </a:lnTo>
                  <a:lnTo>
                    <a:pt x="614" y="0"/>
                  </a:lnTo>
                  <a:lnTo>
                    <a:pt x="598" y="1"/>
                  </a:lnTo>
                  <a:lnTo>
                    <a:pt x="581" y="4"/>
                  </a:lnTo>
                  <a:lnTo>
                    <a:pt x="563" y="10"/>
                  </a:lnTo>
                  <a:lnTo>
                    <a:pt x="544" y="16"/>
                  </a:lnTo>
                  <a:lnTo>
                    <a:pt x="527" y="24"/>
                  </a:lnTo>
                  <a:lnTo>
                    <a:pt x="510" y="32"/>
                  </a:lnTo>
                  <a:lnTo>
                    <a:pt x="493" y="40"/>
                  </a:lnTo>
                  <a:lnTo>
                    <a:pt x="478" y="49"/>
                  </a:lnTo>
                  <a:lnTo>
                    <a:pt x="466" y="59"/>
                  </a:lnTo>
                  <a:lnTo>
                    <a:pt x="454" y="67"/>
                  </a:lnTo>
                  <a:lnTo>
                    <a:pt x="445" y="76"/>
                  </a:lnTo>
                  <a:lnTo>
                    <a:pt x="439" y="83"/>
                  </a:lnTo>
                  <a:lnTo>
                    <a:pt x="446" y="90"/>
                  </a:lnTo>
                  <a:lnTo>
                    <a:pt x="451" y="97"/>
                  </a:lnTo>
                  <a:lnTo>
                    <a:pt x="453" y="106"/>
                  </a:lnTo>
                  <a:lnTo>
                    <a:pt x="454" y="118"/>
                  </a:lnTo>
                  <a:lnTo>
                    <a:pt x="440" y="128"/>
                  </a:lnTo>
                  <a:lnTo>
                    <a:pt x="426" y="133"/>
                  </a:lnTo>
                  <a:lnTo>
                    <a:pt x="412" y="137"/>
                  </a:lnTo>
                  <a:lnTo>
                    <a:pt x="397" y="138"/>
                  </a:lnTo>
                  <a:lnTo>
                    <a:pt x="383" y="137"/>
                  </a:lnTo>
                  <a:lnTo>
                    <a:pt x="369" y="136"/>
                  </a:lnTo>
                  <a:lnTo>
                    <a:pt x="355" y="133"/>
                  </a:lnTo>
                  <a:lnTo>
                    <a:pt x="341" y="130"/>
                  </a:lnTo>
                  <a:lnTo>
                    <a:pt x="328" y="128"/>
                  </a:lnTo>
                  <a:lnTo>
                    <a:pt x="314" y="125"/>
                  </a:lnTo>
                  <a:lnTo>
                    <a:pt x="300" y="124"/>
                  </a:lnTo>
                  <a:lnTo>
                    <a:pt x="286" y="124"/>
                  </a:lnTo>
                  <a:lnTo>
                    <a:pt x="273" y="127"/>
                  </a:lnTo>
                  <a:lnTo>
                    <a:pt x="261" y="131"/>
                  </a:lnTo>
                  <a:lnTo>
                    <a:pt x="248" y="138"/>
                  </a:lnTo>
                  <a:lnTo>
                    <a:pt x="235" y="148"/>
                  </a:lnTo>
                  <a:lnTo>
                    <a:pt x="250" y="177"/>
                  </a:lnTo>
                  <a:lnTo>
                    <a:pt x="255" y="198"/>
                  </a:lnTo>
                  <a:lnTo>
                    <a:pt x="250" y="212"/>
                  </a:lnTo>
                  <a:lnTo>
                    <a:pt x="240" y="223"/>
                  </a:lnTo>
                  <a:lnTo>
                    <a:pt x="225" y="233"/>
                  </a:lnTo>
                  <a:lnTo>
                    <a:pt x="207" y="242"/>
                  </a:lnTo>
                  <a:lnTo>
                    <a:pt x="187" y="252"/>
                  </a:lnTo>
                  <a:lnTo>
                    <a:pt x="169" y="267"/>
                  </a:lnTo>
                  <a:lnTo>
                    <a:pt x="171" y="282"/>
                  </a:lnTo>
                  <a:lnTo>
                    <a:pt x="179" y="295"/>
                  </a:lnTo>
                  <a:lnTo>
                    <a:pt x="189" y="307"/>
                  </a:lnTo>
                  <a:lnTo>
                    <a:pt x="202" y="320"/>
                  </a:lnTo>
                  <a:lnTo>
                    <a:pt x="215" y="333"/>
                  </a:lnTo>
                  <a:lnTo>
                    <a:pt x="225" y="345"/>
                  </a:lnTo>
                  <a:lnTo>
                    <a:pt x="233" y="359"/>
                  </a:lnTo>
                  <a:lnTo>
                    <a:pt x="235" y="374"/>
                  </a:lnTo>
                  <a:lnTo>
                    <a:pt x="223" y="379"/>
                  </a:lnTo>
                  <a:lnTo>
                    <a:pt x="209" y="386"/>
                  </a:lnTo>
                  <a:lnTo>
                    <a:pt x="195" y="394"/>
                  </a:lnTo>
                  <a:lnTo>
                    <a:pt x="180" y="402"/>
                  </a:lnTo>
                  <a:lnTo>
                    <a:pt x="165" y="411"/>
                  </a:lnTo>
                  <a:lnTo>
                    <a:pt x="151" y="422"/>
                  </a:lnTo>
                  <a:lnTo>
                    <a:pt x="139" y="432"/>
                  </a:lnTo>
                  <a:lnTo>
                    <a:pt x="128" y="441"/>
                  </a:lnTo>
                  <a:lnTo>
                    <a:pt x="139" y="449"/>
                  </a:lnTo>
                  <a:lnTo>
                    <a:pt x="150" y="454"/>
                  </a:lnTo>
                  <a:lnTo>
                    <a:pt x="164" y="457"/>
                  </a:lnTo>
                  <a:lnTo>
                    <a:pt x="178" y="458"/>
                  </a:lnTo>
                  <a:lnTo>
                    <a:pt x="193" y="460"/>
                  </a:lnTo>
                  <a:lnTo>
                    <a:pt x="207" y="460"/>
                  </a:lnTo>
                  <a:lnTo>
                    <a:pt x="222" y="461"/>
                  </a:lnTo>
                  <a:lnTo>
                    <a:pt x="235" y="462"/>
                  </a:lnTo>
                  <a:lnTo>
                    <a:pt x="225" y="465"/>
                  </a:lnTo>
                  <a:lnTo>
                    <a:pt x="214" y="469"/>
                  </a:lnTo>
                  <a:lnTo>
                    <a:pt x="200" y="472"/>
                  </a:lnTo>
                  <a:lnTo>
                    <a:pt x="186" y="475"/>
                  </a:lnTo>
                  <a:lnTo>
                    <a:pt x="172" y="477"/>
                  </a:lnTo>
                  <a:lnTo>
                    <a:pt x="158" y="478"/>
                  </a:lnTo>
                  <a:lnTo>
                    <a:pt x="146" y="478"/>
                  </a:lnTo>
                  <a:lnTo>
                    <a:pt x="133" y="477"/>
                  </a:lnTo>
                  <a:lnTo>
                    <a:pt x="128" y="483"/>
                  </a:lnTo>
                  <a:lnTo>
                    <a:pt x="124" y="491"/>
                  </a:lnTo>
                  <a:lnTo>
                    <a:pt x="119" y="500"/>
                  </a:lnTo>
                  <a:lnTo>
                    <a:pt x="118" y="508"/>
                  </a:lnTo>
                  <a:lnTo>
                    <a:pt x="109" y="507"/>
                  </a:lnTo>
                  <a:lnTo>
                    <a:pt x="98" y="503"/>
                  </a:lnTo>
                  <a:lnTo>
                    <a:pt x="89" y="500"/>
                  </a:lnTo>
                  <a:lnTo>
                    <a:pt x="79" y="494"/>
                  </a:lnTo>
                  <a:lnTo>
                    <a:pt x="69" y="490"/>
                  </a:lnTo>
                  <a:lnTo>
                    <a:pt x="58" y="486"/>
                  </a:lnTo>
                  <a:lnTo>
                    <a:pt x="48" y="483"/>
                  </a:lnTo>
                  <a:lnTo>
                    <a:pt x="36" y="481"/>
                  </a:lnTo>
                  <a:lnTo>
                    <a:pt x="35" y="486"/>
                  </a:lnTo>
                  <a:lnTo>
                    <a:pt x="31" y="492"/>
                  </a:lnTo>
                  <a:lnTo>
                    <a:pt x="27" y="496"/>
                  </a:lnTo>
                  <a:lnTo>
                    <a:pt x="26" y="498"/>
                  </a:lnTo>
                  <a:lnTo>
                    <a:pt x="31" y="502"/>
                  </a:lnTo>
                  <a:lnTo>
                    <a:pt x="37" y="507"/>
                  </a:lnTo>
                  <a:lnTo>
                    <a:pt x="43" y="509"/>
                  </a:lnTo>
                  <a:lnTo>
                    <a:pt x="50" y="510"/>
                  </a:lnTo>
                  <a:lnTo>
                    <a:pt x="56" y="511"/>
                  </a:lnTo>
                  <a:lnTo>
                    <a:pt x="63" y="513"/>
                  </a:lnTo>
                  <a:lnTo>
                    <a:pt x="69" y="513"/>
                  </a:lnTo>
                  <a:lnTo>
                    <a:pt x="76" y="513"/>
                  </a:lnTo>
                  <a:lnTo>
                    <a:pt x="78" y="516"/>
                  </a:lnTo>
                  <a:lnTo>
                    <a:pt x="80" y="519"/>
                  </a:lnTo>
                  <a:lnTo>
                    <a:pt x="81" y="524"/>
                  </a:lnTo>
                  <a:lnTo>
                    <a:pt x="82" y="528"/>
                  </a:lnTo>
                  <a:lnTo>
                    <a:pt x="75" y="528"/>
                  </a:lnTo>
                  <a:lnTo>
                    <a:pt x="68" y="530"/>
                  </a:lnTo>
                  <a:lnTo>
                    <a:pt x="59" y="531"/>
                  </a:lnTo>
                  <a:lnTo>
                    <a:pt x="50" y="534"/>
                  </a:lnTo>
                  <a:lnTo>
                    <a:pt x="41" y="537"/>
                  </a:lnTo>
                  <a:lnTo>
                    <a:pt x="33" y="540"/>
                  </a:lnTo>
                  <a:lnTo>
                    <a:pt x="26" y="545"/>
                  </a:lnTo>
                  <a:lnTo>
                    <a:pt x="21" y="548"/>
                  </a:lnTo>
                  <a:lnTo>
                    <a:pt x="22" y="553"/>
                  </a:lnTo>
                  <a:lnTo>
                    <a:pt x="23" y="556"/>
                  </a:lnTo>
                  <a:lnTo>
                    <a:pt x="25" y="560"/>
                  </a:lnTo>
                  <a:lnTo>
                    <a:pt x="26" y="563"/>
                  </a:lnTo>
                  <a:lnTo>
                    <a:pt x="18" y="568"/>
                  </a:lnTo>
                  <a:lnTo>
                    <a:pt x="10" y="572"/>
                  </a:lnTo>
                  <a:lnTo>
                    <a:pt x="3" y="579"/>
                  </a:lnTo>
                  <a:lnTo>
                    <a:pt x="0" y="590"/>
                  </a:lnTo>
                  <a:lnTo>
                    <a:pt x="76" y="594"/>
                  </a:lnTo>
                  <a:lnTo>
                    <a:pt x="73" y="601"/>
                  </a:lnTo>
                  <a:lnTo>
                    <a:pt x="67" y="607"/>
                  </a:lnTo>
                  <a:lnTo>
                    <a:pt x="59" y="612"/>
                  </a:lnTo>
                  <a:lnTo>
                    <a:pt x="50" y="615"/>
                  </a:lnTo>
                  <a:lnTo>
                    <a:pt x="41" y="619"/>
                  </a:lnTo>
                  <a:lnTo>
                    <a:pt x="31" y="623"/>
                  </a:lnTo>
                  <a:lnTo>
                    <a:pt x="22" y="629"/>
                  </a:lnTo>
                  <a:lnTo>
                    <a:pt x="15" y="636"/>
                  </a:lnTo>
                  <a:lnTo>
                    <a:pt x="26" y="637"/>
                  </a:lnTo>
                  <a:lnTo>
                    <a:pt x="36" y="637"/>
                  </a:lnTo>
                  <a:lnTo>
                    <a:pt x="46" y="637"/>
                  </a:lnTo>
                  <a:lnTo>
                    <a:pt x="58" y="637"/>
                  </a:lnTo>
                  <a:lnTo>
                    <a:pt x="67" y="637"/>
                  </a:lnTo>
                  <a:lnTo>
                    <a:pt x="78" y="638"/>
                  </a:lnTo>
                  <a:lnTo>
                    <a:pt x="86" y="642"/>
                  </a:lnTo>
                  <a:lnTo>
                    <a:pt x="93" y="646"/>
                  </a:lnTo>
                  <a:lnTo>
                    <a:pt x="88" y="650"/>
                  </a:lnTo>
                  <a:lnTo>
                    <a:pt x="82" y="652"/>
                  </a:lnTo>
                  <a:lnTo>
                    <a:pt x="75" y="655"/>
                  </a:lnTo>
                  <a:lnTo>
                    <a:pt x="68" y="658"/>
                  </a:lnTo>
                  <a:lnTo>
                    <a:pt x="61" y="660"/>
                  </a:lnTo>
                  <a:lnTo>
                    <a:pt x="55" y="662"/>
                  </a:lnTo>
                  <a:lnTo>
                    <a:pt x="48" y="663"/>
                  </a:lnTo>
                  <a:lnTo>
                    <a:pt x="41" y="666"/>
                  </a:lnTo>
                  <a:lnTo>
                    <a:pt x="42" y="670"/>
                  </a:lnTo>
                  <a:lnTo>
                    <a:pt x="44" y="674"/>
                  </a:lnTo>
                  <a:lnTo>
                    <a:pt x="45" y="677"/>
                  </a:lnTo>
                  <a:lnTo>
                    <a:pt x="46" y="682"/>
                  </a:lnTo>
                  <a:lnTo>
                    <a:pt x="158" y="682"/>
                  </a:lnTo>
                  <a:lnTo>
                    <a:pt x="182" y="684"/>
                  </a:lnTo>
                  <a:lnTo>
                    <a:pt x="207" y="685"/>
                  </a:lnTo>
                  <a:lnTo>
                    <a:pt x="230" y="685"/>
                  </a:lnTo>
                  <a:lnTo>
                    <a:pt x="252" y="684"/>
                  </a:lnTo>
                  <a:lnTo>
                    <a:pt x="275" y="683"/>
                  </a:lnTo>
                  <a:lnTo>
                    <a:pt x="296" y="681"/>
                  </a:lnTo>
                  <a:lnTo>
                    <a:pt x="317" y="678"/>
                  </a:lnTo>
                  <a:lnTo>
                    <a:pt x="339" y="676"/>
                  </a:lnTo>
                  <a:lnTo>
                    <a:pt x="360" y="675"/>
                  </a:lnTo>
                  <a:lnTo>
                    <a:pt x="382" y="674"/>
                  </a:lnTo>
                  <a:lnTo>
                    <a:pt x="404" y="674"/>
                  </a:lnTo>
                  <a:lnTo>
                    <a:pt x="424" y="675"/>
                  </a:lnTo>
                  <a:lnTo>
                    <a:pt x="446" y="678"/>
                  </a:lnTo>
                  <a:lnTo>
                    <a:pt x="469" y="684"/>
                  </a:lnTo>
                  <a:lnTo>
                    <a:pt x="492" y="691"/>
                  </a:lnTo>
                  <a:lnTo>
                    <a:pt x="515" y="702"/>
                  </a:lnTo>
                  <a:lnTo>
                    <a:pt x="533" y="683"/>
                  </a:lnTo>
                  <a:lnTo>
                    <a:pt x="548" y="665"/>
                  </a:lnTo>
                  <a:lnTo>
                    <a:pt x="564" y="644"/>
                  </a:lnTo>
                  <a:lnTo>
                    <a:pt x="578" y="623"/>
                  </a:lnTo>
                  <a:lnTo>
                    <a:pt x="593" y="602"/>
                  </a:lnTo>
                  <a:lnTo>
                    <a:pt x="606" y="581"/>
                  </a:lnTo>
                  <a:lnTo>
                    <a:pt x="619" y="560"/>
                  </a:lnTo>
                  <a:lnTo>
                    <a:pt x="633" y="538"/>
                  </a:lnTo>
                  <a:lnTo>
                    <a:pt x="627" y="522"/>
                  </a:lnTo>
                  <a:lnTo>
                    <a:pt x="625" y="503"/>
                  </a:lnTo>
                  <a:lnTo>
                    <a:pt x="625" y="483"/>
                  </a:lnTo>
                  <a:lnTo>
                    <a:pt x="629" y="463"/>
                  </a:lnTo>
                  <a:lnTo>
                    <a:pt x="636" y="442"/>
                  </a:lnTo>
                  <a:lnTo>
                    <a:pt x="646" y="424"/>
                  </a:lnTo>
                  <a:lnTo>
                    <a:pt x="658" y="408"/>
                  </a:lnTo>
                  <a:lnTo>
                    <a:pt x="674" y="395"/>
                  </a:lnTo>
                  <a:lnTo>
                    <a:pt x="673" y="384"/>
                  </a:lnTo>
                  <a:lnTo>
                    <a:pt x="670" y="374"/>
                  </a:lnTo>
                  <a:lnTo>
                    <a:pt x="665" y="365"/>
                  </a:lnTo>
                  <a:lnTo>
                    <a:pt x="658" y="354"/>
                  </a:lnTo>
                  <a:lnTo>
                    <a:pt x="666" y="343"/>
                  </a:lnTo>
                  <a:lnTo>
                    <a:pt x="677" y="335"/>
                  </a:lnTo>
                  <a:lnTo>
                    <a:pt x="687" y="329"/>
                  </a:lnTo>
                  <a:lnTo>
                    <a:pt x="699" y="325"/>
                  </a:lnTo>
                  <a:lnTo>
                    <a:pt x="710" y="321"/>
                  </a:lnTo>
                  <a:lnTo>
                    <a:pt x="722" y="319"/>
                  </a:lnTo>
                  <a:lnTo>
                    <a:pt x="734" y="317"/>
                  </a:lnTo>
                  <a:lnTo>
                    <a:pt x="746" y="313"/>
                  </a:lnTo>
                  <a:close/>
                </a:path>
              </a:pathLst>
            </a:custGeom>
            <a:solidFill>
              <a:srgbClr val="0066cc">
                <a:alpha val="50000"/>
              </a:srgbClr>
            </a:solidFill>
            <a:ln w="9360">
              <a:solidFill>
                <a:srgbClr val="007c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19520" y="4084560"/>
              <a:ext cx="298080" cy="421920"/>
            </a:xfrm>
            <a:custGeom>
              <a:avLst/>
              <a:gdLst/>
              <a:ahLst/>
              <a:rect l="l" t="t" r="r" b="b"/>
              <a:pathLst>
                <a:path w="1245" h="1679">
                  <a:moveTo>
                    <a:pt x="390" y="1629"/>
                  </a:moveTo>
                  <a:lnTo>
                    <a:pt x="394" y="1627"/>
                  </a:lnTo>
                  <a:lnTo>
                    <a:pt x="399" y="1626"/>
                  </a:lnTo>
                  <a:lnTo>
                    <a:pt x="405" y="1624"/>
                  </a:lnTo>
                  <a:lnTo>
                    <a:pt x="412" y="1622"/>
                  </a:lnTo>
                  <a:lnTo>
                    <a:pt x="419" y="1620"/>
                  </a:lnTo>
                  <a:lnTo>
                    <a:pt x="424" y="1618"/>
                  </a:lnTo>
                  <a:lnTo>
                    <a:pt x="429" y="1618"/>
                  </a:lnTo>
                  <a:lnTo>
                    <a:pt x="434" y="1618"/>
                  </a:lnTo>
                  <a:lnTo>
                    <a:pt x="443" y="1622"/>
                  </a:lnTo>
                  <a:lnTo>
                    <a:pt x="451" y="1627"/>
                  </a:lnTo>
                  <a:lnTo>
                    <a:pt x="458" y="1635"/>
                  </a:lnTo>
                  <a:lnTo>
                    <a:pt x="465" y="1645"/>
                  </a:lnTo>
                  <a:lnTo>
                    <a:pt x="471" y="1654"/>
                  </a:lnTo>
                  <a:lnTo>
                    <a:pt x="476" y="1664"/>
                  </a:lnTo>
                  <a:lnTo>
                    <a:pt x="482" y="1672"/>
                  </a:lnTo>
                  <a:lnTo>
                    <a:pt x="488" y="1679"/>
                  </a:lnTo>
                  <a:lnTo>
                    <a:pt x="492" y="1678"/>
                  </a:lnTo>
                  <a:lnTo>
                    <a:pt x="497" y="1677"/>
                  </a:lnTo>
                  <a:lnTo>
                    <a:pt x="504" y="1677"/>
                  </a:lnTo>
                  <a:lnTo>
                    <a:pt x="510" y="1676"/>
                  </a:lnTo>
                  <a:lnTo>
                    <a:pt x="517" y="1675"/>
                  </a:lnTo>
                  <a:lnTo>
                    <a:pt x="521" y="1672"/>
                  </a:lnTo>
                  <a:lnTo>
                    <a:pt x="526" y="1670"/>
                  </a:lnTo>
                  <a:lnTo>
                    <a:pt x="528" y="1667"/>
                  </a:lnTo>
                  <a:lnTo>
                    <a:pt x="529" y="1661"/>
                  </a:lnTo>
                  <a:lnTo>
                    <a:pt x="528" y="1654"/>
                  </a:lnTo>
                  <a:lnTo>
                    <a:pt x="526" y="1647"/>
                  </a:lnTo>
                  <a:lnTo>
                    <a:pt x="525" y="1640"/>
                  </a:lnTo>
                  <a:lnTo>
                    <a:pt x="525" y="1634"/>
                  </a:lnTo>
                  <a:lnTo>
                    <a:pt x="527" y="1630"/>
                  </a:lnTo>
                  <a:lnTo>
                    <a:pt x="533" y="1626"/>
                  </a:lnTo>
                  <a:lnTo>
                    <a:pt x="544" y="1625"/>
                  </a:lnTo>
                  <a:lnTo>
                    <a:pt x="555" y="1638"/>
                  </a:lnTo>
                  <a:lnTo>
                    <a:pt x="567" y="1648"/>
                  </a:lnTo>
                  <a:lnTo>
                    <a:pt x="580" y="1655"/>
                  </a:lnTo>
                  <a:lnTo>
                    <a:pt x="595" y="1661"/>
                  </a:lnTo>
                  <a:lnTo>
                    <a:pt x="611" y="1664"/>
                  </a:lnTo>
                  <a:lnTo>
                    <a:pt x="628" y="1665"/>
                  </a:lnTo>
                  <a:lnTo>
                    <a:pt x="646" y="1665"/>
                  </a:lnTo>
                  <a:lnTo>
                    <a:pt x="663" y="1664"/>
                  </a:lnTo>
                  <a:lnTo>
                    <a:pt x="681" y="1661"/>
                  </a:lnTo>
                  <a:lnTo>
                    <a:pt x="699" y="1657"/>
                  </a:lnTo>
                  <a:lnTo>
                    <a:pt x="716" y="1654"/>
                  </a:lnTo>
                  <a:lnTo>
                    <a:pt x="733" y="1649"/>
                  </a:lnTo>
                  <a:lnTo>
                    <a:pt x="749" y="1645"/>
                  </a:lnTo>
                  <a:lnTo>
                    <a:pt x="764" y="1640"/>
                  </a:lnTo>
                  <a:lnTo>
                    <a:pt x="779" y="1635"/>
                  </a:lnTo>
                  <a:lnTo>
                    <a:pt x="792" y="1631"/>
                  </a:lnTo>
                  <a:lnTo>
                    <a:pt x="801" y="1630"/>
                  </a:lnTo>
                  <a:lnTo>
                    <a:pt x="812" y="1632"/>
                  </a:lnTo>
                  <a:lnTo>
                    <a:pt x="821" y="1637"/>
                  </a:lnTo>
                  <a:lnTo>
                    <a:pt x="831" y="1642"/>
                  </a:lnTo>
                  <a:lnTo>
                    <a:pt x="840" y="1649"/>
                  </a:lnTo>
                  <a:lnTo>
                    <a:pt x="851" y="1656"/>
                  </a:lnTo>
                  <a:lnTo>
                    <a:pt x="860" y="1662"/>
                  </a:lnTo>
                  <a:lnTo>
                    <a:pt x="868" y="1667"/>
                  </a:lnTo>
                  <a:lnTo>
                    <a:pt x="880" y="1669"/>
                  </a:lnTo>
                  <a:lnTo>
                    <a:pt x="889" y="1669"/>
                  </a:lnTo>
                  <a:lnTo>
                    <a:pt x="896" y="1664"/>
                  </a:lnTo>
                  <a:lnTo>
                    <a:pt x="900" y="1658"/>
                  </a:lnTo>
                  <a:lnTo>
                    <a:pt x="903" y="1650"/>
                  </a:lnTo>
                  <a:lnTo>
                    <a:pt x="903" y="1641"/>
                  </a:lnTo>
                  <a:lnTo>
                    <a:pt x="901" y="1632"/>
                  </a:lnTo>
                  <a:lnTo>
                    <a:pt x="897" y="1624"/>
                  </a:lnTo>
                  <a:lnTo>
                    <a:pt x="884" y="1587"/>
                  </a:lnTo>
                  <a:lnTo>
                    <a:pt x="881" y="1579"/>
                  </a:lnTo>
                  <a:lnTo>
                    <a:pt x="875" y="1571"/>
                  </a:lnTo>
                  <a:lnTo>
                    <a:pt x="869" y="1564"/>
                  </a:lnTo>
                  <a:lnTo>
                    <a:pt x="863" y="1557"/>
                  </a:lnTo>
                  <a:lnTo>
                    <a:pt x="860" y="1549"/>
                  </a:lnTo>
                  <a:lnTo>
                    <a:pt x="859" y="1541"/>
                  </a:lnTo>
                  <a:lnTo>
                    <a:pt x="861" y="1532"/>
                  </a:lnTo>
                  <a:lnTo>
                    <a:pt x="869" y="1521"/>
                  </a:lnTo>
                  <a:lnTo>
                    <a:pt x="871" y="1524"/>
                  </a:lnTo>
                  <a:lnTo>
                    <a:pt x="876" y="1526"/>
                  </a:lnTo>
                  <a:lnTo>
                    <a:pt x="881" y="1528"/>
                  </a:lnTo>
                  <a:lnTo>
                    <a:pt x="883" y="1529"/>
                  </a:lnTo>
                  <a:lnTo>
                    <a:pt x="899" y="1532"/>
                  </a:lnTo>
                  <a:lnTo>
                    <a:pt x="914" y="1527"/>
                  </a:lnTo>
                  <a:lnTo>
                    <a:pt x="928" y="1518"/>
                  </a:lnTo>
                  <a:lnTo>
                    <a:pt x="941" y="1505"/>
                  </a:lnTo>
                  <a:lnTo>
                    <a:pt x="953" y="1493"/>
                  </a:lnTo>
                  <a:lnTo>
                    <a:pt x="965" y="1480"/>
                  </a:lnTo>
                  <a:lnTo>
                    <a:pt x="976" y="1470"/>
                  </a:lnTo>
                  <a:lnTo>
                    <a:pt x="988" y="1463"/>
                  </a:lnTo>
                  <a:lnTo>
                    <a:pt x="997" y="1458"/>
                  </a:lnTo>
                  <a:lnTo>
                    <a:pt x="1004" y="1455"/>
                  </a:lnTo>
                  <a:lnTo>
                    <a:pt x="1010" y="1450"/>
                  </a:lnTo>
                  <a:lnTo>
                    <a:pt x="1014" y="1444"/>
                  </a:lnTo>
                  <a:lnTo>
                    <a:pt x="1019" y="1438"/>
                  </a:lnTo>
                  <a:lnTo>
                    <a:pt x="1022" y="1432"/>
                  </a:lnTo>
                  <a:lnTo>
                    <a:pt x="1026" y="1423"/>
                  </a:lnTo>
                  <a:lnTo>
                    <a:pt x="1029" y="1413"/>
                  </a:lnTo>
                  <a:lnTo>
                    <a:pt x="1021" y="1364"/>
                  </a:lnTo>
                  <a:lnTo>
                    <a:pt x="1011" y="1358"/>
                  </a:lnTo>
                  <a:lnTo>
                    <a:pt x="1002" y="1350"/>
                  </a:lnTo>
                  <a:lnTo>
                    <a:pt x="994" y="1340"/>
                  </a:lnTo>
                  <a:lnTo>
                    <a:pt x="987" y="1330"/>
                  </a:lnTo>
                  <a:lnTo>
                    <a:pt x="980" y="1320"/>
                  </a:lnTo>
                  <a:lnTo>
                    <a:pt x="973" y="1311"/>
                  </a:lnTo>
                  <a:lnTo>
                    <a:pt x="965" y="1301"/>
                  </a:lnTo>
                  <a:lnTo>
                    <a:pt x="956" y="1294"/>
                  </a:lnTo>
                  <a:lnTo>
                    <a:pt x="953" y="1282"/>
                  </a:lnTo>
                  <a:lnTo>
                    <a:pt x="949" y="1270"/>
                  </a:lnTo>
                  <a:lnTo>
                    <a:pt x="944" y="1258"/>
                  </a:lnTo>
                  <a:lnTo>
                    <a:pt x="942" y="1246"/>
                  </a:lnTo>
                  <a:lnTo>
                    <a:pt x="927" y="1239"/>
                  </a:lnTo>
                  <a:lnTo>
                    <a:pt x="913" y="1226"/>
                  </a:lnTo>
                  <a:lnTo>
                    <a:pt x="899" y="1211"/>
                  </a:lnTo>
                  <a:lnTo>
                    <a:pt x="885" y="1193"/>
                  </a:lnTo>
                  <a:lnTo>
                    <a:pt x="874" y="1173"/>
                  </a:lnTo>
                  <a:lnTo>
                    <a:pt x="863" y="1155"/>
                  </a:lnTo>
                  <a:lnTo>
                    <a:pt x="855" y="1137"/>
                  </a:lnTo>
                  <a:lnTo>
                    <a:pt x="851" y="1120"/>
                  </a:lnTo>
                  <a:lnTo>
                    <a:pt x="848" y="1110"/>
                  </a:lnTo>
                  <a:lnTo>
                    <a:pt x="847" y="1101"/>
                  </a:lnTo>
                  <a:lnTo>
                    <a:pt x="845" y="1093"/>
                  </a:lnTo>
                  <a:lnTo>
                    <a:pt x="838" y="1084"/>
                  </a:lnTo>
                  <a:lnTo>
                    <a:pt x="848" y="1072"/>
                  </a:lnTo>
                  <a:lnTo>
                    <a:pt x="861" y="1063"/>
                  </a:lnTo>
                  <a:lnTo>
                    <a:pt x="875" y="1055"/>
                  </a:lnTo>
                  <a:lnTo>
                    <a:pt x="892" y="1048"/>
                  </a:lnTo>
                  <a:lnTo>
                    <a:pt x="908" y="1042"/>
                  </a:lnTo>
                  <a:lnTo>
                    <a:pt x="926" y="1036"/>
                  </a:lnTo>
                  <a:lnTo>
                    <a:pt x="941" y="1032"/>
                  </a:lnTo>
                  <a:lnTo>
                    <a:pt x="956" y="1025"/>
                  </a:lnTo>
                  <a:lnTo>
                    <a:pt x="958" y="1022"/>
                  </a:lnTo>
                  <a:lnTo>
                    <a:pt x="960" y="1020"/>
                  </a:lnTo>
                  <a:lnTo>
                    <a:pt x="962" y="1017"/>
                  </a:lnTo>
                  <a:lnTo>
                    <a:pt x="965" y="1016"/>
                  </a:lnTo>
                  <a:lnTo>
                    <a:pt x="973" y="1013"/>
                  </a:lnTo>
                  <a:lnTo>
                    <a:pt x="980" y="1010"/>
                  </a:lnTo>
                  <a:lnTo>
                    <a:pt x="988" y="1006"/>
                  </a:lnTo>
                  <a:lnTo>
                    <a:pt x="995" y="1003"/>
                  </a:lnTo>
                  <a:lnTo>
                    <a:pt x="1002" y="999"/>
                  </a:lnTo>
                  <a:lnTo>
                    <a:pt x="1010" y="996"/>
                  </a:lnTo>
                  <a:lnTo>
                    <a:pt x="1017" y="994"/>
                  </a:lnTo>
                  <a:lnTo>
                    <a:pt x="1025" y="991"/>
                  </a:lnTo>
                  <a:lnTo>
                    <a:pt x="1032" y="989"/>
                  </a:lnTo>
                  <a:lnTo>
                    <a:pt x="1040" y="986"/>
                  </a:lnTo>
                  <a:lnTo>
                    <a:pt x="1048" y="981"/>
                  </a:lnTo>
                  <a:lnTo>
                    <a:pt x="1057" y="975"/>
                  </a:lnTo>
                  <a:lnTo>
                    <a:pt x="1065" y="971"/>
                  </a:lnTo>
                  <a:lnTo>
                    <a:pt x="1073" y="965"/>
                  </a:lnTo>
                  <a:lnTo>
                    <a:pt x="1080" y="961"/>
                  </a:lnTo>
                  <a:lnTo>
                    <a:pt x="1087" y="958"/>
                  </a:lnTo>
                  <a:lnTo>
                    <a:pt x="1096" y="953"/>
                  </a:lnTo>
                  <a:lnTo>
                    <a:pt x="1106" y="950"/>
                  </a:lnTo>
                  <a:lnTo>
                    <a:pt x="1117" y="946"/>
                  </a:lnTo>
                  <a:lnTo>
                    <a:pt x="1128" y="944"/>
                  </a:lnTo>
                  <a:lnTo>
                    <a:pt x="1139" y="942"/>
                  </a:lnTo>
                  <a:lnTo>
                    <a:pt x="1150" y="941"/>
                  </a:lnTo>
                  <a:lnTo>
                    <a:pt x="1161" y="940"/>
                  </a:lnTo>
                  <a:lnTo>
                    <a:pt x="1172" y="940"/>
                  </a:lnTo>
                  <a:lnTo>
                    <a:pt x="1174" y="934"/>
                  </a:lnTo>
                  <a:lnTo>
                    <a:pt x="1179" y="929"/>
                  </a:lnTo>
                  <a:lnTo>
                    <a:pt x="1184" y="927"/>
                  </a:lnTo>
                  <a:lnTo>
                    <a:pt x="1189" y="926"/>
                  </a:lnTo>
                  <a:lnTo>
                    <a:pt x="1194" y="927"/>
                  </a:lnTo>
                  <a:lnTo>
                    <a:pt x="1199" y="929"/>
                  </a:lnTo>
                  <a:lnTo>
                    <a:pt x="1204" y="931"/>
                  </a:lnTo>
                  <a:lnTo>
                    <a:pt x="1209" y="934"/>
                  </a:lnTo>
                  <a:lnTo>
                    <a:pt x="1214" y="929"/>
                  </a:lnTo>
                  <a:lnTo>
                    <a:pt x="1218" y="922"/>
                  </a:lnTo>
                  <a:lnTo>
                    <a:pt x="1224" y="915"/>
                  </a:lnTo>
                  <a:lnTo>
                    <a:pt x="1229" y="907"/>
                  </a:lnTo>
                  <a:lnTo>
                    <a:pt x="1234" y="899"/>
                  </a:lnTo>
                  <a:lnTo>
                    <a:pt x="1238" y="890"/>
                  </a:lnTo>
                  <a:lnTo>
                    <a:pt x="1241" y="883"/>
                  </a:lnTo>
                  <a:lnTo>
                    <a:pt x="1244" y="876"/>
                  </a:lnTo>
                  <a:lnTo>
                    <a:pt x="1245" y="863"/>
                  </a:lnTo>
                  <a:lnTo>
                    <a:pt x="1242" y="851"/>
                  </a:lnTo>
                  <a:lnTo>
                    <a:pt x="1238" y="838"/>
                  </a:lnTo>
                  <a:lnTo>
                    <a:pt x="1231" y="827"/>
                  </a:lnTo>
                  <a:lnTo>
                    <a:pt x="1223" y="814"/>
                  </a:lnTo>
                  <a:lnTo>
                    <a:pt x="1217" y="802"/>
                  </a:lnTo>
                  <a:lnTo>
                    <a:pt x="1212" y="791"/>
                  </a:lnTo>
                  <a:lnTo>
                    <a:pt x="1211" y="781"/>
                  </a:lnTo>
                  <a:lnTo>
                    <a:pt x="1207" y="728"/>
                  </a:lnTo>
                  <a:lnTo>
                    <a:pt x="1211" y="719"/>
                  </a:lnTo>
                  <a:lnTo>
                    <a:pt x="1218" y="710"/>
                  </a:lnTo>
                  <a:lnTo>
                    <a:pt x="1226" y="700"/>
                  </a:lnTo>
                  <a:lnTo>
                    <a:pt x="1232" y="691"/>
                  </a:lnTo>
                  <a:lnTo>
                    <a:pt x="1229" y="686"/>
                  </a:lnTo>
                  <a:lnTo>
                    <a:pt x="1225" y="683"/>
                  </a:lnTo>
                  <a:lnTo>
                    <a:pt x="1221" y="679"/>
                  </a:lnTo>
                  <a:lnTo>
                    <a:pt x="1216" y="676"/>
                  </a:lnTo>
                  <a:lnTo>
                    <a:pt x="1211" y="672"/>
                  </a:lnTo>
                  <a:lnTo>
                    <a:pt x="1206" y="670"/>
                  </a:lnTo>
                  <a:lnTo>
                    <a:pt x="1201" y="668"/>
                  </a:lnTo>
                  <a:lnTo>
                    <a:pt x="1195" y="664"/>
                  </a:lnTo>
                  <a:lnTo>
                    <a:pt x="1199" y="650"/>
                  </a:lnTo>
                  <a:lnTo>
                    <a:pt x="1207" y="636"/>
                  </a:lnTo>
                  <a:lnTo>
                    <a:pt x="1214" y="624"/>
                  </a:lnTo>
                  <a:lnTo>
                    <a:pt x="1217" y="611"/>
                  </a:lnTo>
                  <a:lnTo>
                    <a:pt x="1215" y="600"/>
                  </a:lnTo>
                  <a:lnTo>
                    <a:pt x="1208" y="587"/>
                  </a:lnTo>
                  <a:lnTo>
                    <a:pt x="1199" y="574"/>
                  </a:lnTo>
                  <a:lnTo>
                    <a:pt x="1188" y="562"/>
                  </a:lnTo>
                  <a:lnTo>
                    <a:pt x="1177" y="549"/>
                  </a:lnTo>
                  <a:lnTo>
                    <a:pt x="1165" y="537"/>
                  </a:lnTo>
                  <a:lnTo>
                    <a:pt x="1156" y="526"/>
                  </a:lnTo>
                  <a:lnTo>
                    <a:pt x="1150" y="517"/>
                  </a:lnTo>
                  <a:lnTo>
                    <a:pt x="1155" y="506"/>
                  </a:lnTo>
                  <a:lnTo>
                    <a:pt x="1158" y="496"/>
                  </a:lnTo>
                  <a:lnTo>
                    <a:pt x="1162" y="487"/>
                  </a:lnTo>
                  <a:lnTo>
                    <a:pt x="1165" y="477"/>
                  </a:lnTo>
                  <a:lnTo>
                    <a:pt x="1170" y="469"/>
                  </a:lnTo>
                  <a:lnTo>
                    <a:pt x="1176" y="464"/>
                  </a:lnTo>
                  <a:lnTo>
                    <a:pt x="1183" y="459"/>
                  </a:lnTo>
                  <a:lnTo>
                    <a:pt x="1193" y="458"/>
                  </a:lnTo>
                  <a:lnTo>
                    <a:pt x="1198" y="453"/>
                  </a:lnTo>
                  <a:lnTo>
                    <a:pt x="1201" y="448"/>
                  </a:lnTo>
                  <a:lnTo>
                    <a:pt x="1203" y="442"/>
                  </a:lnTo>
                  <a:lnTo>
                    <a:pt x="1206" y="437"/>
                  </a:lnTo>
                  <a:lnTo>
                    <a:pt x="1200" y="435"/>
                  </a:lnTo>
                  <a:lnTo>
                    <a:pt x="1194" y="426"/>
                  </a:lnTo>
                  <a:lnTo>
                    <a:pt x="1188" y="413"/>
                  </a:lnTo>
                  <a:lnTo>
                    <a:pt x="1181" y="398"/>
                  </a:lnTo>
                  <a:lnTo>
                    <a:pt x="1176" y="382"/>
                  </a:lnTo>
                  <a:lnTo>
                    <a:pt x="1169" y="367"/>
                  </a:lnTo>
                  <a:lnTo>
                    <a:pt x="1161" y="355"/>
                  </a:lnTo>
                  <a:lnTo>
                    <a:pt x="1153" y="348"/>
                  </a:lnTo>
                  <a:lnTo>
                    <a:pt x="1136" y="338"/>
                  </a:lnTo>
                  <a:lnTo>
                    <a:pt x="1126" y="324"/>
                  </a:lnTo>
                  <a:lnTo>
                    <a:pt x="1120" y="307"/>
                  </a:lnTo>
                  <a:lnTo>
                    <a:pt x="1117" y="287"/>
                  </a:lnTo>
                  <a:lnTo>
                    <a:pt x="1116" y="269"/>
                  </a:lnTo>
                  <a:lnTo>
                    <a:pt x="1116" y="250"/>
                  </a:lnTo>
                  <a:lnTo>
                    <a:pt x="1115" y="233"/>
                  </a:lnTo>
                  <a:lnTo>
                    <a:pt x="1112" y="221"/>
                  </a:lnTo>
                  <a:lnTo>
                    <a:pt x="1111" y="212"/>
                  </a:lnTo>
                  <a:lnTo>
                    <a:pt x="1109" y="202"/>
                  </a:lnTo>
                  <a:lnTo>
                    <a:pt x="1105" y="191"/>
                  </a:lnTo>
                  <a:lnTo>
                    <a:pt x="1102" y="178"/>
                  </a:lnTo>
                  <a:lnTo>
                    <a:pt x="1097" y="168"/>
                  </a:lnTo>
                  <a:lnTo>
                    <a:pt x="1092" y="158"/>
                  </a:lnTo>
                  <a:lnTo>
                    <a:pt x="1085" y="151"/>
                  </a:lnTo>
                  <a:lnTo>
                    <a:pt x="1078" y="149"/>
                  </a:lnTo>
                  <a:lnTo>
                    <a:pt x="1073" y="159"/>
                  </a:lnTo>
                  <a:lnTo>
                    <a:pt x="1070" y="173"/>
                  </a:lnTo>
                  <a:lnTo>
                    <a:pt x="1066" y="186"/>
                  </a:lnTo>
                  <a:lnTo>
                    <a:pt x="1058" y="193"/>
                  </a:lnTo>
                  <a:lnTo>
                    <a:pt x="1045" y="195"/>
                  </a:lnTo>
                  <a:lnTo>
                    <a:pt x="1033" y="194"/>
                  </a:lnTo>
                  <a:lnTo>
                    <a:pt x="1021" y="192"/>
                  </a:lnTo>
                  <a:lnTo>
                    <a:pt x="1009" y="187"/>
                  </a:lnTo>
                  <a:lnTo>
                    <a:pt x="997" y="183"/>
                  </a:lnTo>
                  <a:lnTo>
                    <a:pt x="986" y="178"/>
                  </a:lnTo>
                  <a:lnTo>
                    <a:pt x="974" y="174"/>
                  </a:lnTo>
                  <a:lnTo>
                    <a:pt x="964" y="173"/>
                  </a:lnTo>
                  <a:lnTo>
                    <a:pt x="959" y="180"/>
                  </a:lnTo>
                  <a:lnTo>
                    <a:pt x="954" y="188"/>
                  </a:lnTo>
                  <a:lnTo>
                    <a:pt x="949" y="195"/>
                  </a:lnTo>
                  <a:lnTo>
                    <a:pt x="944" y="200"/>
                  </a:lnTo>
                  <a:lnTo>
                    <a:pt x="922" y="208"/>
                  </a:lnTo>
                  <a:lnTo>
                    <a:pt x="901" y="214"/>
                  </a:lnTo>
                  <a:lnTo>
                    <a:pt x="881" y="218"/>
                  </a:lnTo>
                  <a:lnTo>
                    <a:pt x="860" y="221"/>
                  </a:lnTo>
                  <a:lnTo>
                    <a:pt x="839" y="224"/>
                  </a:lnTo>
                  <a:lnTo>
                    <a:pt x="817" y="226"/>
                  </a:lnTo>
                  <a:lnTo>
                    <a:pt x="797" y="229"/>
                  </a:lnTo>
                  <a:lnTo>
                    <a:pt x="776" y="233"/>
                  </a:lnTo>
                  <a:lnTo>
                    <a:pt x="776" y="238"/>
                  </a:lnTo>
                  <a:lnTo>
                    <a:pt x="775" y="241"/>
                  </a:lnTo>
                  <a:lnTo>
                    <a:pt x="772" y="246"/>
                  </a:lnTo>
                  <a:lnTo>
                    <a:pt x="772" y="250"/>
                  </a:lnTo>
                  <a:lnTo>
                    <a:pt x="757" y="253"/>
                  </a:lnTo>
                  <a:lnTo>
                    <a:pt x="749" y="248"/>
                  </a:lnTo>
                  <a:lnTo>
                    <a:pt x="749" y="240"/>
                  </a:lnTo>
                  <a:lnTo>
                    <a:pt x="754" y="230"/>
                  </a:lnTo>
                  <a:lnTo>
                    <a:pt x="762" y="218"/>
                  </a:lnTo>
                  <a:lnTo>
                    <a:pt x="771" y="207"/>
                  </a:lnTo>
                  <a:lnTo>
                    <a:pt x="780" y="197"/>
                  </a:lnTo>
                  <a:lnTo>
                    <a:pt x="788" y="193"/>
                  </a:lnTo>
                  <a:lnTo>
                    <a:pt x="785" y="185"/>
                  </a:lnTo>
                  <a:lnTo>
                    <a:pt x="778" y="177"/>
                  </a:lnTo>
                  <a:lnTo>
                    <a:pt x="767" y="170"/>
                  </a:lnTo>
                  <a:lnTo>
                    <a:pt x="753" y="162"/>
                  </a:lnTo>
                  <a:lnTo>
                    <a:pt x="739" y="155"/>
                  </a:lnTo>
                  <a:lnTo>
                    <a:pt x="725" y="150"/>
                  </a:lnTo>
                  <a:lnTo>
                    <a:pt x="714" y="147"/>
                  </a:lnTo>
                  <a:lnTo>
                    <a:pt x="706" y="146"/>
                  </a:lnTo>
                  <a:lnTo>
                    <a:pt x="700" y="146"/>
                  </a:lnTo>
                  <a:lnTo>
                    <a:pt x="693" y="147"/>
                  </a:lnTo>
                  <a:lnTo>
                    <a:pt x="687" y="149"/>
                  </a:lnTo>
                  <a:lnTo>
                    <a:pt x="681" y="153"/>
                  </a:lnTo>
                  <a:lnTo>
                    <a:pt x="674" y="156"/>
                  </a:lnTo>
                  <a:lnTo>
                    <a:pt x="669" y="158"/>
                  </a:lnTo>
                  <a:lnTo>
                    <a:pt x="662" y="159"/>
                  </a:lnTo>
                  <a:lnTo>
                    <a:pt x="655" y="159"/>
                  </a:lnTo>
                  <a:lnTo>
                    <a:pt x="653" y="138"/>
                  </a:lnTo>
                  <a:lnTo>
                    <a:pt x="647" y="104"/>
                  </a:lnTo>
                  <a:lnTo>
                    <a:pt x="638" y="72"/>
                  </a:lnTo>
                  <a:lnTo>
                    <a:pt x="627" y="51"/>
                  </a:lnTo>
                  <a:lnTo>
                    <a:pt x="520" y="0"/>
                  </a:lnTo>
                  <a:lnTo>
                    <a:pt x="518" y="7"/>
                  </a:lnTo>
                  <a:lnTo>
                    <a:pt x="513" y="14"/>
                  </a:lnTo>
                  <a:lnTo>
                    <a:pt x="507" y="21"/>
                  </a:lnTo>
                  <a:lnTo>
                    <a:pt x="503" y="28"/>
                  </a:lnTo>
                  <a:lnTo>
                    <a:pt x="504" y="47"/>
                  </a:lnTo>
                  <a:lnTo>
                    <a:pt x="512" y="65"/>
                  </a:lnTo>
                  <a:lnTo>
                    <a:pt x="519" y="83"/>
                  </a:lnTo>
                  <a:lnTo>
                    <a:pt x="520" y="102"/>
                  </a:lnTo>
                  <a:lnTo>
                    <a:pt x="518" y="108"/>
                  </a:lnTo>
                  <a:lnTo>
                    <a:pt x="512" y="112"/>
                  </a:lnTo>
                  <a:lnTo>
                    <a:pt x="505" y="117"/>
                  </a:lnTo>
                  <a:lnTo>
                    <a:pt x="498" y="120"/>
                  </a:lnTo>
                  <a:lnTo>
                    <a:pt x="490" y="125"/>
                  </a:lnTo>
                  <a:lnTo>
                    <a:pt x="483" y="128"/>
                  </a:lnTo>
                  <a:lnTo>
                    <a:pt x="476" y="133"/>
                  </a:lnTo>
                  <a:lnTo>
                    <a:pt x="473" y="139"/>
                  </a:lnTo>
                  <a:lnTo>
                    <a:pt x="481" y="146"/>
                  </a:lnTo>
                  <a:lnTo>
                    <a:pt x="488" y="151"/>
                  </a:lnTo>
                  <a:lnTo>
                    <a:pt x="495" y="156"/>
                  </a:lnTo>
                  <a:lnTo>
                    <a:pt x="500" y="162"/>
                  </a:lnTo>
                  <a:lnTo>
                    <a:pt x="504" y="168"/>
                  </a:lnTo>
                  <a:lnTo>
                    <a:pt x="506" y="174"/>
                  </a:lnTo>
                  <a:lnTo>
                    <a:pt x="505" y="184"/>
                  </a:lnTo>
                  <a:lnTo>
                    <a:pt x="500" y="196"/>
                  </a:lnTo>
                  <a:lnTo>
                    <a:pt x="511" y="207"/>
                  </a:lnTo>
                  <a:lnTo>
                    <a:pt x="522" y="216"/>
                  </a:lnTo>
                  <a:lnTo>
                    <a:pt x="532" y="225"/>
                  </a:lnTo>
                  <a:lnTo>
                    <a:pt x="542" y="233"/>
                  </a:lnTo>
                  <a:lnTo>
                    <a:pt x="551" y="241"/>
                  </a:lnTo>
                  <a:lnTo>
                    <a:pt x="562" y="250"/>
                  </a:lnTo>
                  <a:lnTo>
                    <a:pt x="571" y="262"/>
                  </a:lnTo>
                  <a:lnTo>
                    <a:pt x="581" y="275"/>
                  </a:lnTo>
                  <a:lnTo>
                    <a:pt x="570" y="268"/>
                  </a:lnTo>
                  <a:lnTo>
                    <a:pt x="557" y="259"/>
                  </a:lnTo>
                  <a:lnTo>
                    <a:pt x="543" y="249"/>
                  </a:lnTo>
                  <a:lnTo>
                    <a:pt x="528" y="241"/>
                  </a:lnTo>
                  <a:lnTo>
                    <a:pt x="513" y="234"/>
                  </a:lnTo>
                  <a:lnTo>
                    <a:pt x="497" y="230"/>
                  </a:lnTo>
                  <a:lnTo>
                    <a:pt x="481" y="229"/>
                  </a:lnTo>
                  <a:lnTo>
                    <a:pt x="466" y="231"/>
                  </a:lnTo>
                  <a:lnTo>
                    <a:pt x="460" y="232"/>
                  </a:lnTo>
                  <a:lnTo>
                    <a:pt x="456" y="234"/>
                  </a:lnTo>
                  <a:lnTo>
                    <a:pt x="450" y="237"/>
                  </a:lnTo>
                  <a:lnTo>
                    <a:pt x="444" y="239"/>
                  </a:lnTo>
                  <a:lnTo>
                    <a:pt x="438" y="241"/>
                  </a:lnTo>
                  <a:lnTo>
                    <a:pt x="431" y="244"/>
                  </a:lnTo>
                  <a:lnTo>
                    <a:pt x="426" y="246"/>
                  </a:lnTo>
                  <a:lnTo>
                    <a:pt x="420" y="247"/>
                  </a:lnTo>
                  <a:lnTo>
                    <a:pt x="401" y="249"/>
                  </a:lnTo>
                  <a:lnTo>
                    <a:pt x="381" y="248"/>
                  </a:lnTo>
                  <a:lnTo>
                    <a:pt x="359" y="246"/>
                  </a:lnTo>
                  <a:lnTo>
                    <a:pt x="336" y="244"/>
                  </a:lnTo>
                  <a:lnTo>
                    <a:pt x="314" y="244"/>
                  </a:lnTo>
                  <a:lnTo>
                    <a:pt x="294" y="248"/>
                  </a:lnTo>
                  <a:lnTo>
                    <a:pt x="277" y="259"/>
                  </a:lnTo>
                  <a:lnTo>
                    <a:pt x="264" y="278"/>
                  </a:lnTo>
                  <a:lnTo>
                    <a:pt x="260" y="284"/>
                  </a:lnTo>
                  <a:lnTo>
                    <a:pt x="249" y="294"/>
                  </a:lnTo>
                  <a:lnTo>
                    <a:pt x="238" y="303"/>
                  </a:lnTo>
                  <a:lnTo>
                    <a:pt x="231" y="308"/>
                  </a:lnTo>
                  <a:lnTo>
                    <a:pt x="235" y="312"/>
                  </a:lnTo>
                  <a:lnTo>
                    <a:pt x="244" y="316"/>
                  </a:lnTo>
                  <a:lnTo>
                    <a:pt x="252" y="322"/>
                  </a:lnTo>
                  <a:lnTo>
                    <a:pt x="256" y="327"/>
                  </a:lnTo>
                  <a:lnTo>
                    <a:pt x="256" y="344"/>
                  </a:lnTo>
                  <a:lnTo>
                    <a:pt x="252" y="362"/>
                  </a:lnTo>
                  <a:lnTo>
                    <a:pt x="245" y="380"/>
                  </a:lnTo>
                  <a:lnTo>
                    <a:pt x="239" y="395"/>
                  </a:lnTo>
                  <a:lnTo>
                    <a:pt x="237" y="404"/>
                  </a:lnTo>
                  <a:lnTo>
                    <a:pt x="235" y="413"/>
                  </a:lnTo>
                  <a:lnTo>
                    <a:pt x="234" y="423"/>
                  </a:lnTo>
                  <a:lnTo>
                    <a:pt x="233" y="433"/>
                  </a:lnTo>
                  <a:lnTo>
                    <a:pt x="230" y="439"/>
                  </a:lnTo>
                  <a:lnTo>
                    <a:pt x="224" y="448"/>
                  </a:lnTo>
                  <a:lnTo>
                    <a:pt x="216" y="454"/>
                  </a:lnTo>
                  <a:lnTo>
                    <a:pt x="208" y="464"/>
                  </a:lnTo>
                  <a:lnTo>
                    <a:pt x="201" y="472"/>
                  </a:lnTo>
                  <a:lnTo>
                    <a:pt x="195" y="480"/>
                  </a:lnTo>
                  <a:lnTo>
                    <a:pt x="192" y="488"/>
                  </a:lnTo>
                  <a:lnTo>
                    <a:pt x="192" y="495"/>
                  </a:lnTo>
                  <a:lnTo>
                    <a:pt x="195" y="509"/>
                  </a:lnTo>
                  <a:lnTo>
                    <a:pt x="197" y="521"/>
                  </a:lnTo>
                  <a:lnTo>
                    <a:pt x="196" y="535"/>
                  </a:lnTo>
                  <a:lnTo>
                    <a:pt x="188" y="552"/>
                  </a:lnTo>
                  <a:lnTo>
                    <a:pt x="185" y="560"/>
                  </a:lnTo>
                  <a:lnTo>
                    <a:pt x="180" y="570"/>
                  </a:lnTo>
                  <a:lnTo>
                    <a:pt x="177" y="580"/>
                  </a:lnTo>
                  <a:lnTo>
                    <a:pt x="173" y="589"/>
                  </a:lnTo>
                  <a:lnTo>
                    <a:pt x="167" y="600"/>
                  </a:lnTo>
                  <a:lnTo>
                    <a:pt x="162" y="608"/>
                  </a:lnTo>
                  <a:lnTo>
                    <a:pt x="153" y="613"/>
                  </a:lnTo>
                  <a:lnTo>
                    <a:pt x="142" y="617"/>
                  </a:lnTo>
                  <a:lnTo>
                    <a:pt x="134" y="617"/>
                  </a:lnTo>
                  <a:lnTo>
                    <a:pt x="125" y="617"/>
                  </a:lnTo>
                  <a:lnTo>
                    <a:pt x="116" y="616"/>
                  </a:lnTo>
                  <a:lnTo>
                    <a:pt x="106" y="615"/>
                  </a:lnTo>
                  <a:lnTo>
                    <a:pt x="97" y="613"/>
                  </a:lnTo>
                  <a:lnTo>
                    <a:pt x="89" y="612"/>
                  </a:lnTo>
                  <a:lnTo>
                    <a:pt x="80" y="612"/>
                  </a:lnTo>
                  <a:lnTo>
                    <a:pt x="73" y="612"/>
                  </a:lnTo>
                  <a:lnTo>
                    <a:pt x="53" y="619"/>
                  </a:lnTo>
                  <a:lnTo>
                    <a:pt x="41" y="630"/>
                  </a:lnTo>
                  <a:lnTo>
                    <a:pt x="36" y="646"/>
                  </a:lnTo>
                  <a:lnTo>
                    <a:pt x="35" y="664"/>
                  </a:lnTo>
                  <a:lnTo>
                    <a:pt x="36" y="684"/>
                  </a:lnTo>
                  <a:lnTo>
                    <a:pt x="37" y="704"/>
                  </a:lnTo>
                  <a:lnTo>
                    <a:pt x="36" y="725"/>
                  </a:lnTo>
                  <a:lnTo>
                    <a:pt x="32" y="745"/>
                  </a:lnTo>
                  <a:lnTo>
                    <a:pt x="30" y="747"/>
                  </a:lnTo>
                  <a:lnTo>
                    <a:pt x="29" y="751"/>
                  </a:lnTo>
                  <a:lnTo>
                    <a:pt x="27" y="754"/>
                  </a:lnTo>
                  <a:lnTo>
                    <a:pt x="26" y="756"/>
                  </a:lnTo>
                  <a:lnTo>
                    <a:pt x="25" y="762"/>
                  </a:lnTo>
                  <a:lnTo>
                    <a:pt x="23" y="768"/>
                  </a:lnTo>
                  <a:lnTo>
                    <a:pt x="22" y="774"/>
                  </a:lnTo>
                  <a:lnTo>
                    <a:pt x="21" y="779"/>
                  </a:lnTo>
                  <a:lnTo>
                    <a:pt x="20" y="785"/>
                  </a:lnTo>
                  <a:lnTo>
                    <a:pt x="17" y="791"/>
                  </a:lnTo>
                  <a:lnTo>
                    <a:pt x="12" y="797"/>
                  </a:lnTo>
                  <a:lnTo>
                    <a:pt x="6" y="801"/>
                  </a:lnTo>
                  <a:lnTo>
                    <a:pt x="5" y="817"/>
                  </a:lnTo>
                  <a:lnTo>
                    <a:pt x="6" y="834"/>
                  </a:lnTo>
                  <a:lnTo>
                    <a:pt x="10" y="851"/>
                  </a:lnTo>
                  <a:lnTo>
                    <a:pt x="14" y="867"/>
                  </a:lnTo>
                  <a:lnTo>
                    <a:pt x="18" y="884"/>
                  </a:lnTo>
                  <a:lnTo>
                    <a:pt x="20" y="900"/>
                  </a:lnTo>
                  <a:lnTo>
                    <a:pt x="19" y="916"/>
                  </a:lnTo>
                  <a:lnTo>
                    <a:pt x="14" y="933"/>
                  </a:lnTo>
                  <a:lnTo>
                    <a:pt x="10" y="944"/>
                  </a:lnTo>
                  <a:lnTo>
                    <a:pt x="6" y="953"/>
                  </a:lnTo>
                  <a:lnTo>
                    <a:pt x="4" y="964"/>
                  </a:lnTo>
                  <a:lnTo>
                    <a:pt x="5" y="976"/>
                  </a:lnTo>
                  <a:lnTo>
                    <a:pt x="4" y="984"/>
                  </a:lnTo>
                  <a:lnTo>
                    <a:pt x="3" y="991"/>
                  </a:lnTo>
                  <a:lnTo>
                    <a:pt x="2" y="997"/>
                  </a:lnTo>
                  <a:lnTo>
                    <a:pt x="0" y="1002"/>
                  </a:lnTo>
                  <a:lnTo>
                    <a:pt x="6" y="1007"/>
                  </a:lnTo>
                  <a:lnTo>
                    <a:pt x="12" y="1014"/>
                  </a:lnTo>
                  <a:lnTo>
                    <a:pt x="19" y="1022"/>
                  </a:lnTo>
                  <a:lnTo>
                    <a:pt x="25" y="1029"/>
                  </a:lnTo>
                  <a:lnTo>
                    <a:pt x="30" y="1037"/>
                  </a:lnTo>
                  <a:lnTo>
                    <a:pt x="35" y="1046"/>
                  </a:lnTo>
                  <a:lnTo>
                    <a:pt x="40" y="1052"/>
                  </a:lnTo>
                  <a:lnTo>
                    <a:pt x="42" y="1058"/>
                  </a:lnTo>
                  <a:lnTo>
                    <a:pt x="37" y="1062"/>
                  </a:lnTo>
                  <a:lnTo>
                    <a:pt x="32" y="1065"/>
                  </a:lnTo>
                  <a:lnTo>
                    <a:pt x="26" y="1070"/>
                  </a:lnTo>
                  <a:lnTo>
                    <a:pt x="21" y="1073"/>
                  </a:lnTo>
                  <a:lnTo>
                    <a:pt x="17" y="1078"/>
                  </a:lnTo>
                  <a:lnTo>
                    <a:pt x="14" y="1084"/>
                  </a:lnTo>
                  <a:lnTo>
                    <a:pt x="13" y="1092"/>
                  </a:lnTo>
                  <a:lnTo>
                    <a:pt x="15" y="1100"/>
                  </a:lnTo>
                  <a:lnTo>
                    <a:pt x="18" y="1117"/>
                  </a:lnTo>
                  <a:lnTo>
                    <a:pt x="23" y="1132"/>
                  </a:lnTo>
                  <a:lnTo>
                    <a:pt x="32" y="1146"/>
                  </a:lnTo>
                  <a:lnTo>
                    <a:pt x="44" y="1158"/>
                  </a:lnTo>
                  <a:lnTo>
                    <a:pt x="58" y="1170"/>
                  </a:lnTo>
                  <a:lnTo>
                    <a:pt x="74" y="1180"/>
                  </a:lnTo>
                  <a:lnTo>
                    <a:pt x="91" y="1190"/>
                  </a:lnTo>
                  <a:lnTo>
                    <a:pt x="110" y="1199"/>
                  </a:lnTo>
                  <a:lnTo>
                    <a:pt x="129" y="1207"/>
                  </a:lnTo>
                  <a:lnTo>
                    <a:pt x="149" y="1214"/>
                  </a:lnTo>
                  <a:lnTo>
                    <a:pt x="169" y="1221"/>
                  </a:lnTo>
                  <a:lnTo>
                    <a:pt x="187" y="1228"/>
                  </a:lnTo>
                  <a:lnTo>
                    <a:pt x="204" y="1234"/>
                  </a:lnTo>
                  <a:lnTo>
                    <a:pt x="220" y="1241"/>
                  </a:lnTo>
                  <a:lnTo>
                    <a:pt x="235" y="1247"/>
                  </a:lnTo>
                  <a:lnTo>
                    <a:pt x="247" y="1254"/>
                  </a:lnTo>
                  <a:lnTo>
                    <a:pt x="246" y="1267"/>
                  </a:lnTo>
                  <a:lnTo>
                    <a:pt x="241" y="1276"/>
                  </a:lnTo>
                  <a:lnTo>
                    <a:pt x="235" y="1284"/>
                  </a:lnTo>
                  <a:lnTo>
                    <a:pt x="230" y="1291"/>
                  </a:lnTo>
                  <a:lnTo>
                    <a:pt x="223" y="1299"/>
                  </a:lnTo>
                  <a:lnTo>
                    <a:pt x="217" y="1308"/>
                  </a:lnTo>
                  <a:lnTo>
                    <a:pt x="212" y="1319"/>
                  </a:lnTo>
                  <a:lnTo>
                    <a:pt x="211" y="1332"/>
                  </a:lnTo>
                  <a:lnTo>
                    <a:pt x="201" y="1337"/>
                  </a:lnTo>
                  <a:lnTo>
                    <a:pt x="192" y="1342"/>
                  </a:lnTo>
                  <a:lnTo>
                    <a:pt x="185" y="1349"/>
                  </a:lnTo>
                  <a:lnTo>
                    <a:pt x="179" y="1355"/>
                  </a:lnTo>
                  <a:lnTo>
                    <a:pt x="174" y="1364"/>
                  </a:lnTo>
                  <a:lnTo>
                    <a:pt x="172" y="1373"/>
                  </a:lnTo>
                  <a:lnTo>
                    <a:pt x="170" y="1383"/>
                  </a:lnTo>
                  <a:lnTo>
                    <a:pt x="170" y="1393"/>
                  </a:lnTo>
                  <a:lnTo>
                    <a:pt x="156" y="1396"/>
                  </a:lnTo>
                  <a:lnTo>
                    <a:pt x="146" y="1402"/>
                  </a:lnTo>
                  <a:lnTo>
                    <a:pt x="139" y="1412"/>
                  </a:lnTo>
                  <a:lnTo>
                    <a:pt x="134" y="1423"/>
                  </a:lnTo>
                  <a:lnTo>
                    <a:pt x="131" y="1436"/>
                  </a:lnTo>
                  <a:lnTo>
                    <a:pt x="129" y="1450"/>
                  </a:lnTo>
                  <a:lnTo>
                    <a:pt x="128" y="1464"/>
                  </a:lnTo>
                  <a:lnTo>
                    <a:pt x="128" y="1476"/>
                  </a:lnTo>
                  <a:lnTo>
                    <a:pt x="113" y="1488"/>
                  </a:lnTo>
                  <a:lnTo>
                    <a:pt x="104" y="1508"/>
                  </a:lnTo>
                  <a:lnTo>
                    <a:pt x="100" y="1529"/>
                  </a:lnTo>
                  <a:lnTo>
                    <a:pt x="98" y="1554"/>
                  </a:lnTo>
                  <a:lnTo>
                    <a:pt x="109" y="1557"/>
                  </a:lnTo>
                  <a:lnTo>
                    <a:pt x="120" y="1557"/>
                  </a:lnTo>
                  <a:lnTo>
                    <a:pt x="132" y="1556"/>
                  </a:lnTo>
                  <a:lnTo>
                    <a:pt x="144" y="1555"/>
                  </a:lnTo>
                  <a:lnTo>
                    <a:pt x="157" y="1554"/>
                  </a:lnTo>
                  <a:lnTo>
                    <a:pt x="171" y="1552"/>
                  </a:lnTo>
                  <a:lnTo>
                    <a:pt x="185" y="1555"/>
                  </a:lnTo>
                  <a:lnTo>
                    <a:pt x="200" y="1559"/>
                  </a:lnTo>
                  <a:lnTo>
                    <a:pt x="210" y="1562"/>
                  </a:lnTo>
                  <a:lnTo>
                    <a:pt x="222" y="1561"/>
                  </a:lnTo>
                  <a:lnTo>
                    <a:pt x="232" y="1558"/>
                  </a:lnTo>
                  <a:lnTo>
                    <a:pt x="245" y="1555"/>
                  </a:lnTo>
                  <a:lnTo>
                    <a:pt x="256" y="1550"/>
                  </a:lnTo>
                  <a:lnTo>
                    <a:pt x="268" y="1547"/>
                  </a:lnTo>
                  <a:lnTo>
                    <a:pt x="278" y="1546"/>
                  </a:lnTo>
                  <a:lnTo>
                    <a:pt x="288" y="1547"/>
                  </a:lnTo>
                  <a:lnTo>
                    <a:pt x="302" y="1551"/>
                  </a:lnTo>
                  <a:lnTo>
                    <a:pt x="317" y="1558"/>
                  </a:lnTo>
                  <a:lnTo>
                    <a:pt x="332" y="1567"/>
                  </a:lnTo>
                  <a:lnTo>
                    <a:pt x="346" y="1578"/>
                  </a:lnTo>
                  <a:lnTo>
                    <a:pt x="360" y="1589"/>
                  </a:lnTo>
                  <a:lnTo>
                    <a:pt x="373" y="1602"/>
                  </a:lnTo>
                  <a:lnTo>
                    <a:pt x="383" y="1615"/>
                  </a:lnTo>
                  <a:lnTo>
                    <a:pt x="390" y="1629"/>
                  </a:lnTo>
                  <a:close/>
                </a:path>
              </a:pathLst>
            </a:custGeom>
            <a:solidFill>
              <a:srgbClr val="0066cc">
                <a:alpha val="50000"/>
              </a:srgbClr>
            </a:solidFill>
            <a:ln w="9360">
              <a:solidFill>
                <a:srgbClr val="007c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483200" y="4811760"/>
              <a:ext cx="258840" cy="387000"/>
            </a:xfrm>
            <a:custGeom>
              <a:avLst/>
              <a:gdLst/>
              <a:ahLst/>
              <a:rect l="l" t="t" r="r" b="b"/>
              <a:pathLst>
                <a:path w="1079" h="1540">
                  <a:moveTo>
                    <a:pt x="967" y="230"/>
                  </a:moveTo>
                  <a:lnTo>
                    <a:pt x="954" y="230"/>
                  </a:lnTo>
                  <a:lnTo>
                    <a:pt x="942" y="230"/>
                  </a:lnTo>
                  <a:lnTo>
                    <a:pt x="933" y="231"/>
                  </a:lnTo>
                  <a:lnTo>
                    <a:pt x="924" y="231"/>
                  </a:lnTo>
                  <a:lnTo>
                    <a:pt x="916" y="231"/>
                  </a:lnTo>
                  <a:lnTo>
                    <a:pt x="907" y="230"/>
                  </a:lnTo>
                  <a:lnTo>
                    <a:pt x="896" y="229"/>
                  </a:lnTo>
                  <a:lnTo>
                    <a:pt x="885" y="225"/>
                  </a:lnTo>
                  <a:lnTo>
                    <a:pt x="863" y="220"/>
                  </a:lnTo>
                  <a:lnTo>
                    <a:pt x="844" y="216"/>
                  </a:lnTo>
                  <a:lnTo>
                    <a:pt x="829" y="215"/>
                  </a:lnTo>
                  <a:lnTo>
                    <a:pt x="817" y="217"/>
                  </a:lnTo>
                  <a:lnTo>
                    <a:pt x="804" y="222"/>
                  </a:lnTo>
                  <a:lnTo>
                    <a:pt x="793" y="230"/>
                  </a:lnTo>
                  <a:lnTo>
                    <a:pt x="779" y="241"/>
                  </a:lnTo>
                  <a:lnTo>
                    <a:pt x="764" y="256"/>
                  </a:lnTo>
                  <a:lnTo>
                    <a:pt x="756" y="251"/>
                  </a:lnTo>
                  <a:lnTo>
                    <a:pt x="749" y="246"/>
                  </a:lnTo>
                  <a:lnTo>
                    <a:pt x="743" y="239"/>
                  </a:lnTo>
                  <a:lnTo>
                    <a:pt x="740" y="232"/>
                  </a:lnTo>
                  <a:lnTo>
                    <a:pt x="725" y="235"/>
                  </a:lnTo>
                  <a:lnTo>
                    <a:pt x="706" y="239"/>
                  </a:lnTo>
                  <a:lnTo>
                    <a:pt x="685" y="246"/>
                  </a:lnTo>
                  <a:lnTo>
                    <a:pt x="665" y="254"/>
                  </a:lnTo>
                  <a:lnTo>
                    <a:pt x="644" y="265"/>
                  </a:lnTo>
                  <a:lnTo>
                    <a:pt x="624" y="274"/>
                  </a:lnTo>
                  <a:lnTo>
                    <a:pt x="607" y="283"/>
                  </a:lnTo>
                  <a:lnTo>
                    <a:pt x="592" y="290"/>
                  </a:lnTo>
                  <a:lnTo>
                    <a:pt x="597" y="296"/>
                  </a:lnTo>
                  <a:lnTo>
                    <a:pt x="601" y="301"/>
                  </a:lnTo>
                  <a:lnTo>
                    <a:pt x="606" y="308"/>
                  </a:lnTo>
                  <a:lnTo>
                    <a:pt x="611" y="315"/>
                  </a:lnTo>
                  <a:lnTo>
                    <a:pt x="615" y="321"/>
                  </a:lnTo>
                  <a:lnTo>
                    <a:pt x="620" y="327"/>
                  </a:lnTo>
                  <a:lnTo>
                    <a:pt x="624" y="332"/>
                  </a:lnTo>
                  <a:lnTo>
                    <a:pt x="629" y="337"/>
                  </a:lnTo>
                  <a:lnTo>
                    <a:pt x="629" y="351"/>
                  </a:lnTo>
                  <a:lnTo>
                    <a:pt x="632" y="354"/>
                  </a:lnTo>
                  <a:lnTo>
                    <a:pt x="642" y="358"/>
                  </a:lnTo>
                  <a:lnTo>
                    <a:pt x="651" y="362"/>
                  </a:lnTo>
                  <a:lnTo>
                    <a:pt x="660" y="367"/>
                  </a:lnTo>
                  <a:lnTo>
                    <a:pt x="669" y="372"/>
                  </a:lnTo>
                  <a:lnTo>
                    <a:pt x="678" y="377"/>
                  </a:lnTo>
                  <a:lnTo>
                    <a:pt x="687" y="384"/>
                  </a:lnTo>
                  <a:lnTo>
                    <a:pt x="693" y="392"/>
                  </a:lnTo>
                  <a:lnTo>
                    <a:pt x="699" y="402"/>
                  </a:lnTo>
                  <a:lnTo>
                    <a:pt x="691" y="406"/>
                  </a:lnTo>
                  <a:lnTo>
                    <a:pt x="682" y="407"/>
                  </a:lnTo>
                  <a:lnTo>
                    <a:pt x="673" y="405"/>
                  </a:lnTo>
                  <a:lnTo>
                    <a:pt x="662" y="402"/>
                  </a:lnTo>
                  <a:lnTo>
                    <a:pt x="653" y="398"/>
                  </a:lnTo>
                  <a:lnTo>
                    <a:pt x="643" y="396"/>
                  </a:lnTo>
                  <a:lnTo>
                    <a:pt x="634" y="397"/>
                  </a:lnTo>
                  <a:lnTo>
                    <a:pt x="625" y="402"/>
                  </a:lnTo>
                  <a:lnTo>
                    <a:pt x="634" y="411"/>
                  </a:lnTo>
                  <a:lnTo>
                    <a:pt x="639" y="419"/>
                  </a:lnTo>
                  <a:lnTo>
                    <a:pt x="640" y="427"/>
                  </a:lnTo>
                  <a:lnTo>
                    <a:pt x="640" y="434"/>
                  </a:lnTo>
                  <a:lnTo>
                    <a:pt x="637" y="441"/>
                  </a:lnTo>
                  <a:lnTo>
                    <a:pt x="631" y="449"/>
                  </a:lnTo>
                  <a:lnTo>
                    <a:pt x="622" y="458"/>
                  </a:lnTo>
                  <a:lnTo>
                    <a:pt x="612" y="468"/>
                  </a:lnTo>
                  <a:lnTo>
                    <a:pt x="589" y="442"/>
                  </a:lnTo>
                  <a:lnTo>
                    <a:pt x="584" y="449"/>
                  </a:lnTo>
                  <a:lnTo>
                    <a:pt x="582" y="457"/>
                  </a:lnTo>
                  <a:lnTo>
                    <a:pt x="579" y="467"/>
                  </a:lnTo>
                  <a:lnTo>
                    <a:pt x="575" y="475"/>
                  </a:lnTo>
                  <a:lnTo>
                    <a:pt x="559" y="473"/>
                  </a:lnTo>
                  <a:lnTo>
                    <a:pt x="541" y="467"/>
                  </a:lnTo>
                  <a:lnTo>
                    <a:pt x="524" y="457"/>
                  </a:lnTo>
                  <a:lnTo>
                    <a:pt x="508" y="444"/>
                  </a:lnTo>
                  <a:lnTo>
                    <a:pt x="493" y="430"/>
                  </a:lnTo>
                  <a:lnTo>
                    <a:pt x="481" y="414"/>
                  </a:lnTo>
                  <a:lnTo>
                    <a:pt x="473" y="397"/>
                  </a:lnTo>
                  <a:lnTo>
                    <a:pt x="471" y="381"/>
                  </a:lnTo>
                  <a:lnTo>
                    <a:pt x="460" y="376"/>
                  </a:lnTo>
                  <a:lnTo>
                    <a:pt x="449" y="367"/>
                  </a:lnTo>
                  <a:lnTo>
                    <a:pt x="443" y="356"/>
                  </a:lnTo>
                  <a:lnTo>
                    <a:pt x="441" y="341"/>
                  </a:lnTo>
                  <a:lnTo>
                    <a:pt x="434" y="341"/>
                  </a:lnTo>
                  <a:lnTo>
                    <a:pt x="428" y="343"/>
                  </a:lnTo>
                  <a:lnTo>
                    <a:pt x="423" y="344"/>
                  </a:lnTo>
                  <a:lnTo>
                    <a:pt x="417" y="347"/>
                  </a:lnTo>
                  <a:lnTo>
                    <a:pt x="411" y="351"/>
                  </a:lnTo>
                  <a:lnTo>
                    <a:pt x="407" y="356"/>
                  </a:lnTo>
                  <a:lnTo>
                    <a:pt x="403" y="360"/>
                  </a:lnTo>
                  <a:lnTo>
                    <a:pt x="401" y="365"/>
                  </a:lnTo>
                  <a:lnTo>
                    <a:pt x="404" y="366"/>
                  </a:lnTo>
                  <a:lnTo>
                    <a:pt x="408" y="367"/>
                  </a:lnTo>
                  <a:lnTo>
                    <a:pt x="410" y="369"/>
                  </a:lnTo>
                  <a:lnTo>
                    <a:pt x="413" y="371"/>
                  </a:lnTo>
                  <a:lnTo>
                    <a:pt x="413" y="383"/>
                  </a:lnTo>
                  <a:lnTo>
                    <a:pt x="416" y="399"/>
                  </a:lnTo>
                  <a:lnTo>
                    <a:pt x="418" y="415"/>
                  </a:lnTo>
                  <a:lnTo>
                    <a:pt x="422" y="433"/>
                  </a:lnTo>
                  <a:lnTo>
                    <a:pt x="426" y="449"/>
                  </a:lnTo>
                  <a:lnTo>
                    <a:pt x="432" y="465"/>
                  </a:lnTo>
                  <a:lnTo>
                    <a:pt x="440" y="479"/>
                  </a:lnTo>
                  <a:lnTo>
                    <a:pt x="448" y="489"/>
                  </a:lnTo>
                  <a:lnTo>
                    <a:pt x="448" y="497"/>
                  </a:lnTo>
                  <a:lnTo>
                    <a:pt x="449" y="505"/>
                  </a:lnTo>
                  <a:lnTo>
                    <a:pt x="453" y="512"/>
                  </a:lnTo>
                  <a:lnTo>
                    <a:pt x="458" y="520"/>
                  </a:lnTo>
                  <a:lnTo>
                    <a:pt x="464" y="527"/>
                  </a:lnTo>
                  <a:lnTo>
                    <a:pt x="471" y="532"/>
                  </a:lnTo>
                  <a:lnTo>
                    <a:pt x="479" y="535"/>
                  </a:lnTo>
                  <a:lnTo>
                    <a:pt x="488" y="536"/>
                  </a:lnTo>
                  <a:lnTo>
                    <a:pt x="492" y="551"/>
                  </a:lnTo>
                  <a:lnTo>
                    <a:pt x="499" y="562"/>
                  </a:lnTo>
                  <a:lnTo>
                    <a:pt x="505" y="571"/>
                  </a:lnTo>
                  <a:lnTo>
                    <a:pt x="508" y="580"/>
                  </a:lnTo>
                  <a:lnTo>
                    <a:pt x="516" y="581"/>
                  </a:lnTo>
                  <a:lnTo>
                    <a:pt x="524" y="586"/>
                  </a:lnTo>
                  <a:lnTo>
                    <a:pt x="532" y="591"/>
                  </a:lnTo>
                  <a:lnTo>
                    <a:pt x="538" y="594"/>
                  </a:lnTo>
                  <a:lnTo>
                    <a:pt x="537" y="603"/>
                  </a:lnTo>
                  <a:lnTo>
                    <a:pt x="536" y="612"/>
                  </a:lnTo>
                  <a:lnTo>
                    <a:pt x="533" y="621"/>
                  </a:lnTo>
                  <a:lnTo>
                    <a:pt x="531" y="631"/>
                  </a:lnTo>
                  <a:lnTo>
                    <a:pt x="522" y="634"/>
                  </a:lnTo>
                  <a:lnTo>
                    <a:pt x="514" y="636"/>
                  </a:lnTo>
                  <a:lnTo>
                    <a:pt x="505" y="636"/>
                  </a:lnTo>
                  <a:lnTo>
                    <a:pt x="495" y="636"/>
                  </a:lnTo>
                  <a:lnTo>
                    <a:pt x="486" y="634"/>
                  </a:lnTo>
                  <a:lnTo>
                    <a:pt x="477" y="636"/>
                  </a:lnTo>
                  <a:lnTo>
                    <a:pt x="469" y="639"/>
                  </a:lnTo>
                  <a:lnTo>
                    <a:pt x="461" y="645"/>
                  </a:lnTo>
                  <a:lnTo>
                    <a:pt x="460" y="661"/>
                  </a:lnTo>
                  <a:lnTo>
                    <a:pt x="455" y="671"/>
                  </a:lnTo>
                  <a:lnTo>
                    <a:pt x="446" y="680"/>
                  </a:lnTo>
                  <a:lnTo>
                    <a:pt x="431" y="695"/>
                  </a:lnTo>
                  <a:lnTo>
                    <a:pt x="435" y="699"/>
                  </a:lnTo>
                  <a:lnTo>
                    <a:pt x="440" y="700"/>
                  </a:lnTo>
                  <a:lnTo>
                    <a:pt x="445" y="701"/>
                  </a:lnTo>
                  <a:lnTo>
                    <a:pt x="450" y="701"/>
                  </a:lnTo>
                  <a:lnTo>
                    <a:pt x="464" y="729"/>
                  </a:lnTo>
                  <a:lnTo>
                    <a:pt x="472" y="730"/>
                  </a:lnTo>
                  <a:lnTo>
                    <a:pt x="478" y="732"/>
                  </a:lnTo>
                  <a:lnTo>
                    <a:pt x="483" y="736"/>
                  </a:lnTo>
                  <a:lnTo>
                    <a:pt x="488" y="739"/>
                  </a:lnTo>
                  <a:lnTo>
                    <a:pt x="508" y="747"/>
                  </a:lnTo>
                  <a:lnTo>
                    <a:pt x="532" y="758"/>
                  </a:lnTo>
                  <a:lnTo>
                    <a:pt x="560" y="770"/>
                  </a:lnTo>
                  <a:lnTo>
                    <a:pt x="586" y="784"/>
                  </a:lnTo>
                  <a:lnTo>
                    <a:pt x="612" y="800"/>
                  </a:lnTo>
                  <a:lnTo>
                    <a:pt x="634" y="816"/>
                  </a:lnTo>
                  <a:lnTo>
                    <a:pt x="650" y="835"/>
                  </a:lnTo>
                  <a:lnTo>
                    <a:pt x="659" y="853"/>
                  </a:lnTo>
                  <a:lnTo>
                    <a:pt x="662" y="874"/>
                  </a:lnTo>
                  <a:lnTo>
                    <a:pt x="665" y="897"/>
                  </a:lnTo>
                  <a:lnTo>
                    <a:pt x="668" y="919"/>
                  </a:lnTo>
                  <a:lnTo>
                    <a:pt x="680" y="937"/>
                  </a:lnTo>
                  <a:lnTo>
                    <a:pt x="674" y="943"/>
                  </a:lnTo>
                  <a:lnTo>
                    <a:pt x="666" y="949"/>
                  </a:lnTo>
                  <a:lnTo>
                    <a:pt x="658" y="955"/>
                  </a:lnTo>
                  <a:lnTo>
                    <a:pt x="650" y="958"/>
                  </a:lnTo>
                  <a:lnTo>
                    <a:pt x="644" y="951"/>
                  </a:lnTo>
                  <a:lnTo>
                    <a:pt x="637" y="941"/>
                  </a:lnTo>
                  <a:lnTo>
                    <a:pt x="630" y="928"/>
                  </a:lnTo>
                  <a:lnTo>
                    <a:pt x="621" y="916"/>
                  </a:lnTo>
                  <a:lnTo>
                    <a:pt x="612" y="903"/>
                  </a:lnTo>
                  <a:lnTo>
                    <a:pt x="601" y="894"/>
                  </a:lnTo>
                  <a:lnTo>
                    <a:pt x="590" y="888"/>
                  </a:lnTo>
                  <a:lnTo>
                    <a:pt x="578" y="887"/>
                  </a:lnTo>
                  <a:lnTo>
                    <a:pt x="567" y="890"/>
                  </a:lnTo>
                  <a:lnTo>
                    <a:pt x="556" y="895"/>
                  </a:lnTo>
                  <a:lnTo>
                    <a:pt x="545" y="902"/>
                  </a:lnTo>
                  <a:lnTo>
                    <a:pt x="533" y="909"/>
                  </a:lnTo>
                  <a:lnTo>
                    <a:pt x="523" y="916"/>
                  </a:lnTo>
                  <a:lnTo>
                    <a:pt x="511" y="922"/>
                  </a:lnTo>
                  <a:lnTo>
                    <a:pt x="501" y="928"/>
                  </a:lnTo>
                  <a:lnTo>
                    <a:pt x="491" y="934"/>
                  </a:lnTo>
                  <a:lnTo>
                    <a:pt x="494" y="943"/>
                  </a:lnTo>
                  <a:lnTo>
                    <a:pt x="502" y="952"/>
                  </a:lnTo>
                  <a:lnTo>
                    <a:pt x="515" y="963"/>
                  </a:lnTo>
                  <a:lnTo>
                    <a:pt x="529" y="973"/>
                  </a:lnTo>
                  <a:lnTo>
                    <a:pt x="541" y="985"/>
                  </a:lnTo>
                  <a:lnTo>
                    <a:pt x="554" y="997"/>
                  </a:lnTo>
                  <a:lnTo>
                    <a:pt x="562" y="1011"/>
                  </a:lnTo>
                  <a:lnTo>
                    <a:pt x="566" y="1026"/>
                  </a:lnTo>
                  <a:lnTo>
                    <a:pt x="551" y="1034"/>
                  </a:lnTo>
                  <a:lnTo>
                    <a:pt x="536" y="1036"/>
                  </a:lnTo>
                  <a:lnTo>
                    <a:pt x="522" y="1036"/>
                  </a:lnTo>
                  <a:lnTo>
                    <a:pt x="507" y="1033"/>
                  </a:lnTo>
                  <a:lnTo>
                    <a:pt x="493" y="1027"/>
                  </a:lnTo>
                  <a:lnTo>
                    <a:pt x="479" y="1019"/>
                  </a:lnTo>
                  <a:lnTo>
                    <a:pt x="464" y="1011"/>
                  </a:lnTo>
                  <a:lnTo>
                    <a:pt x="450" y="1002"/>
                  </a:lnTo>
                  <a:lnTo>
                    <a:pt x="448" y="1003"/>
                  </a:lnTo>
                  <a:lnTo>
                    <a:pt x="445" y="1005"/>
                  </a:lnTo>
                  <a:lnTo>
                    <a:pt x="441" y="1008"/>
                  </a:lnTo>
                  <a:lnTo>
                    <a:pt x="438" y="1009"/>
                  </a:lnTo>
                  <a:lnTo>
                    <a:pt x="445" y="1030"/>
                  </a:lnTo>
                  <a:lnTo>
                    <a:pt x="453" y="1051"/>
                  </a:lnTo>
                  <a:lnTo>
                    <a:pt x="463" y="1076"/>
                  </a:lnTo>
                  <a:lnTo>
                    <a:pt x="475" y="1100"/>
                  </a:lnTo>
                  <a:lnTo>
                    <a:pt x="486" y="1124"/>
                  </a:lnTo>
                  <a:lnTo>
                    <a:pt x="500" y="1147"/>
                  </a:lnTo>
                  <a:lnTo>
                    <a:pt x="514" y="1167"/>
                  </a:lnTo>
                  <a:lnTo>
                    <a:pt x="529" y="1184"/>
                  </a:lnTo>
                  <a:lnTo>
                    <a:pt x="529" y="1192"/>
                  </a:lnTo>
                  <a:lnTo>
                    <a:pt x="528" y="1204"/>
                  </a:lnTo>
                  <a:lnTo>
                    <a:pt x="524" y="1213"/>
                  </a:lnTo>
                  <a:lnTo>
                    <a:pt x="518" y="1217"/>
                  </a:lnTo>
                  <a:lnTo>
                    <a:pt x="510" y="1216"/>
                  </a:lnTo>
                  <a:lnTo>
                    <a:pt x="501" y="1212"/>
                  </a:lnTo>
                  <a:lnTo>
                    <a:pt x="491" y="1206"/>
                  </a:lnTo>
                  <a:lnTo>
                    <a:pt x="480" y="1198"/>
                  </a:lnTo>
                  <a:lnTo>
                    <a:pt x="469" y="1191"/>
                  </a:lnTo>
                  <a:lnTo>
                    <a:pt x="457" y="1185"/>
                  </a:lnTo>
                  <a:lnTo>
                    <a:pt x="446" y="1183"/>
                  </a:lnTo>
                  <a:lnTo>
                    <a:pt x="434" y="1184"/>
                  </a:lnTo>
                  <a:lnTo>
                    <a:pt x="426" y="1189"/>
                  </a:lnTo>
                  <a:lnTo>
                    <a:pt x="420" y="1195"/>
                  </a:lnTo>
                  <a:lnTo>
                    <a:pt x="417" y="1205"/>
                  </a:lnTo>
                  <a:lnTo>
                    <a:pt x="415" y="1215"/>
                  </a:lnTo>
                  <a:lnTo>
                    <a:pt x="410" y="1225"/>
                  </a:lnTo>
                  <a:lnTo>
                    <a:pt x="403" y="1234"/>
                  </a:lnTo>
                  <a:lnTo>
                    <a:pt x="393" y="1239"/>
                  </a:lnTo>
                  <a:lnTo>
                    <a:pt x="377" y="1242"/>
                  </a:lnTo>
                  <a:lnTo>
                    <a:pt x="372" y="1229"/>
                  </a:lnTo>
                  <a:lnTo>
                    <a:pt x="369" y="1210"/>
                  </a:lnTo>
                  <a:lnTo>
                    <a:pt x="365" y="1191"/>
                  </a:lnTo>
                  <a:lnTo>
                    <a:pt x="360" y="1171"/>
                  </a:lnTo>
                  <a:lnTo>
                    <a:pt x="355" y="1154"/>
                  </a:lnTo>
                  <a:lnTo>
                    <a:pt x="344" y="1141"/>
                  </a:lnTo>
                  <a:lnTo>
                    <a:pt x="331" y="1136"/>
                  </a:lnTo>
                  <a:lnTo>
                    <a:pt x="310" y="1140"/>
                  </a:lnTo>
                  <a:lnTo>
                    <a:pt x="306" y="1144"/>
                  </a:lnTo>
                  <a:lnTo>
                    <a:pt x="304" y="1153"/>
                  </a:lnTo>
                  <a:lnTo>
                    <a:pt x="302" y="1163"/>
                  </a:lnTo>
                  <a:lnTo>
                    <a:pt x="301" y="1175"/>
                  </a:lnTo>
                  <a:lnTo>
                    <a:pt x="299" y="1184"/>
                  </a:lnTo>
                  <a:lnTo>
                    <a:pt x="245" y="1137"/>
                  </a:lnTo>
                  <a:lnTo>
                    <a:pt x="240" y="1119"/>
                  </a:lnTo>
                  <a:lnTo>
                    <a:pt x="241" y="1092"/>
                  </a:lnTo>
                  <a:lnTo>
                    <a:pt x="243" y="1062"/>
                  </a:lnTo>
                  <a:lnTo>
                    <a:pt x="243" y="1039"/>
                  </a:lnTo>
                  <a:lnTo>
                    <a:pt x="240" y="1022"/>
                  </a:lnTo>
                  <a:lnTo>
                    <a:pt x="233" y="1005"/>
                  </a:lnTo>
                  <a:lnTo>
                    <a:pt x="221" y="989"/>
                  </a:lnTo>
                  <a:lnTo>
                    <a:pt x="210" y="974"/>
                  </a:lnTo>
                  <a:lnTo>
                    <a:pt x="198" y="959"/>
                  </a:lnTo>
                  <a:lnTo>
                    <a:pt x="189" y="944"/>
                  </a:lnTo>
                  <a:lnTo>
                    <a:pt x="184" y="929"/>
                  </a:lnTo>
                  <a:lnTo>
                    <a:pt x="185" y="914"/>
                  </a:lnTo>
                  <a:lnTo>
                    <a:pt x="188" y="905"/>
                  </a:lnTo>
                  <a:lnTo>
                    <a:pt x="188" y="892"/>
                  </a:lnTo>
                  <a:lnTo>
                    <a:pt x="188" y="882"/>
                  </a:lnTo>
                  <a:lnTo>
                    <a:pt x="185" y="874"/>
                  </a:lnTo>
                  <a:lnTo>
                    <a:pt x="190" y="868"/>
                  </a:lnTo>
                  <a:lnTo>
                    <a:pt x="195" y="865"/>
                  </a:lnTo>
                  <a:lnTo>
                    <a:pt x="199" y="864"/>
                  </a:lnTo>
                  <a:lnTo>
                    <a:pt x="205" y="864"/>
                  </a:lnTo>
                  <a:lnTo>
                    <a:pt x="206" y="867"/>
                  </a:lnTo>
                  <a:lnTo>
                    <a:pt x="208" y="871"/>
                  </a:lnTo>
                  <a:lnTo>
                    <a:pt x="211" y="873"/>
                  </a:lnTo>
                  <a:lnTo>
                    <a:pt x="212" y="874"/>
                  </a:lnTo>
                  <a:lnTo>
                    <a:pt x="218" y="873"/>
                  </a:lnTo>
                  <a:lnTo>
                    <a:pt x="222" y="871"/>
                  </a:lnTo>
                  <a:lnTo>
                    <a:pt x="225" y="867"/>
                  </a:lnTo>
                  <a:lnTo>
                    <a:pt x="229" y="864"/>
                  </a:lnTo>
                  <a:lnTo>
                    <a:pt x="243" y="859"/>
                  </a:lnTo>
                  <a:lnTo>
                    <a:pt x="258" y="857"/>
                  </a:lnTo>
                  <a:lnTo>
                    <a:pt x="273" y="856"/>
                  </a:lnTo>
                  <a:lnTo>
                    <a:pt x="288" y="856"/>
                  </a:lnTo>
                  <a:lnTo>
                    <a:pt x="303" y="858"/>
                  </a:lnTo>
                  <a:lnTo>
                    <a:pt x="318" y="861"/>
                  </a:lnTo>
                  <a:lnTo>
                    <a:pt x="334" y="865"/>
                  </a:lnTo>
                  <a:lnTo>
                    <a:pt x="349" y="869"/>
                  </a:lnTo>
                  <a:lnTo>
                    <a:pt x="364" y="875"/>
                  </a:lnTo>
                  <a:lnTo>
                    <a:pt x="379" y="881"/>
                  </a:lnTo>
                  <a:lnTo>
                    <a:pt x="394" y="888"/>
                  </a:lnTo>
                  <a:lnTo>
                    <a:pt x="408" y="894"/>
                  </a:lnTo>
                  <a:lnTo>
                    <a:pt x="423" y="899"/>
                  </a:lnTo>
                  <a:lnTo>
                    <a:pt x="435" y="905"/>
                  </a:lnTo>
                  <a:lnTo>
                    <a:pt x="448" y="910"/>
                  </a:lnTo>
                  <a:lnTo>
                    <a:pt x="461" y="914"/>
                  </a:lnTo>
                  <a:lnTo>
                    <a:pt x="465" y="914"/>
                  </a:lnTo>
                  <a:lnTo>
                    <a:pt x="471" y="912"/>
                  </a:lnTo>
                  <a:lnTo>
                    <a:pt x="475" y="911"/>
                  </a:lnTo>
                  <a:lnTo>
                    <a:pt x="478" y="911"/>
                  </a:lnTo>
                  <a:lnTo>
                    <a:pt x="478" y="909"/>
                  </a:lnTo>
                  <a:lnTo>
                    <a:pt x="477" y="905"/>
                  </a:lnTo>
                  <a:lnTo>
                    <a:pt x="475" y="903"/>
                  </a:lnTo>
                  <a:lnTo>
                    <a:pt x="475" y="901"/>
                  </a:lnTo>
                  <a:lnTo>
                    <a:pt x="478" y="896"/>
                  </a:lnTo>
                  <a:lnTo>
                    <a:pt x="484" y="887"/>
                  </a:lnTo>
                  <a:lnTo>
                    <a:pt x="488" y="877"/>
                  </a:lnTo>
                  <a:lnTo>
                    <a:pt x="491" y="871"/>
                  </a:lnTo>
                  <a:lnTo>
                    <a:pt x="487" y="861"/>
                  </a:lnTo>
                  <a:lnTo>
                    <a:pt x="479" y="853"/>
                  </a:lnTo>
                  <a:lnTo>
                    <a:pt x="468" y="846"/>
                  </a:lnTo>
                  <a:lnTo>
                    <a:pt x="454" y="839"/>
                  </a:lnTo>
                  <a:lnTo>
                    <a:pt x="440" y="835"/>
                  </a:lnTo>
                  <a:lnTo>
                    <a:pt x="426" y="831"/>
                  </a:lnTo>
                  <a:lnTo>
                    <a:pt x="415" y="830"/>
                  </a:lnTo>
                  <a:lnTo>
                    <a:pt x="407" y="830"/>
                  </a:lnTo>
                  <a:lnTo>
                    <a:pt x="395" y="834"/>
                  </a:lnTo>
                  <a:lnTo>
                    <a:pt x="382" y="835"/>
                  </a:lnTo>
                  <a:lnTo>
                    <a:pt x="370" y="836"/>
                  </a:lnTo>
                  <a:lnTo>
                    <a:pt x="357" y="836"/>
                  </a:lnTo>
                  <a:lnTo>
                    <a:pt x="344" y="836"/>
                  </a:lnTo>
                  <a:lnTo>
                    <a:pt x="331" y="835"/>
                  </a:lnTo>
                  <a:lnTo>
                    <a:pt x="318" y="833"/>
                  </a:lnTo>
                  <a:lnTo>
                    <a:pt x="305" y="831"/>
                  </a:lnTo>
                  <a:lnTo>
                    <a:pt x="291" y="830"/>
                  </a:lnTo>
                  <a:lnTo>
                    <a:pt x="279" y="829"/>
                  </a:lnTo>
                  <a:lnTo>
                    <a:pt x="266" y="828"/>
                  </a:lnTo>
                  <a:lnTo>
                    <a:pt x="253" y="827"/>
                  </a:lnTo>
                  <a:lnTo>
                    <a:pt x="241" y="827"/>
                  </a:lnTo>
                  <a:lnTo>
                    <a:pt x="228" y="828"/>
                  </a:lnTo>
                  <a:lnTo>
                    <a:pt x="216" y="830"/>
                  </a:lnTo>
                  <a:lnTo>
                    <a:pt x="205" y="834"/>
                  </a:lnTo>
                  <a:lnTo>
                    <a:pt x="181" y="837"/>
                  </a:lnTo>
                  <a:lnTo>
                    <a:pt x="161" y="830"/>
                  </a:lnTo>
                  <a:lnTo>
                    <a:pt x="146" y="818"/>
                  </a:lnTo>
                  <a:lnTo>
                    <a:pt x="134" y="798"/>
                  </a:lnTo>
                  <a:lnTo>
                    <a:pt x="123" y="777"/>
                  </a:lnTo>
                  <a:lnTo>
                    <a:pt x="115" y="755"/>
                  </a:lnTo>
                  <a:lnTo>
                    <a:pt x="108" y="735"/>
                  </a:lnTo>
                  <a:lnTo>
                    <a:pt x="101" y="718"/>
                  </a:lnTo>
                  <a:lnTo>
                    <a:pt x="109" y="708"/>
                  </a:lnTo>
                  <a:lnTo>
                    <a:pt x="119" y="699"/>
                  </a:lnTo>
                  <a:lnTo>
                    <a:pt x="128" y="689"/>
                  </a:lnTo>
                  <a:lnTo>
                    <a:pt x="131" y="675"/>
                  </a:lnTo>
                  <a:lnTo>
                    <a:pt x="112" y="664"/>
                  </a:lnTo>
                  <a:lnTo>
                    <a:pt x="102" y="662"/>
                  </a:lnTo>
                  <a:lnTo>
                    <a:pt x="94" y="659"/>
                  </a:lnTo>
                  <a:lnTo>
                    <a:pt x="85" y="655"/>
                  </a:lnTo>
                  <a:lnTo>
                    <a:pt x="77" y="653"/>
                  </a:lnTo>
                  <a:lnTo>
                    <a:pt x="70" y="649"/>
                  </a:lnTo>
                  <a:lnTo>
                    <a:pt x="62" y="646"/>
                  </a:lnTo>
                  <a:lnTo>
                    <a:pt x="56" y="641"/>
                  </a:lnTo>
                  <a:lnTo>
                    <a:pt x="51" y="638"/>
                  </a:lnTo>
                  <a:lnTo>
                    <a:pt x="44" y="631"/>
                  </a:lnTo>
                  <a:lnTo>
                    <a:pt x="34" y="618"/>
                  </a:lnTo>
                  <a:lnTo>
                    <a:pt x="25" y="602"/>
                  </a:lnTo>
                  <a:lnTo>
                    <a:pt x="16" y="585"/>
                  </a:lnTo>
                  <a:lnTo>
                    <a:pt x="8" y="566"/>
                  </a:lnTo>
                  <a:lnTo>
                    <a:pt x="2" y="549"/>
                  </a:lnTo>
                  <a:lnTo>
                    <a:pt x="0" y="534"/>
                  </a:lnTo>
                  <a:lnTo>
                    <a:pt x="2" y="525"/>
                  </a:lnTo>
                  <a:lnTo>
                    <a:pt x="7" y="524"/>
                  </a:lnTo>
                  <a:lnTo>
                    <a:pt x="13" y="524"/>
                  </a:lnTo>
                  <a:lnTo>
                    <a:pt x="18" y="523"/>
                  </a:lnTo>
                  <a:lnTo>
                    <a:pt x="24" y="520"/>
                  </a:lnTo>
                  <a:lnTo>
                    <a:pt x="30" y="518"/>
                  </a:lnTo>
                  <a:lnTo>
                    <a:pt x="36" y="516"/>
                  </a:lnTo>
                  <a:lnTo>
                    <a:pt x="40" y="512"/>
                  </a:lnTo>
                  <a:lnTo>
                    <a:pt x="45" y="509"/>
                  </a:lnTo>
                  <a:lnTo>
                    <a:pt x="30" y="493"/>
                  </a:lnTo>
                  <a:lnTo>
                    <a:pt x="24" y="481"/>
                  </a:lnTo>
                  <a:lnTo>
                    <a:pt x="24" y="474"/>
                  </a:lnTo>
                  <a:lnTo>
                    <a:pt x="30" y="471"/>
                  </a:lnTo>
                  <a:lnTo>
                    <a:pt x="40" y="470"/>
                  </a:lnTo>
                  <a:lnTo>
                    <a:pt x="53" y="471"/>
                  </a:lnTo>
                  <a:lnTo>
                    <a:pt x="67" y="472"/>
                  </a:lnTo>
                  <a:lnTo>
                    <a:pt x="81" y="472"/>
                  </a:lnTo>
                  <a:lnTo>
                    <a:pt x="82" y="460"/>
                  </a:lnTo>
                  <a:lnTo>
                    <a:pt x="84" y="450"/>
                  </a:lnTo>
                  <a:lnTo>
                    <a:pt x="87" y="440"/>
                  </a:lnTo>
                  <a:lnTo>
                    <a:pt x="91" y="432"/>
                  </a:lnTo>
                  <a:lnTo>
                    <a:pt x="101" y="430"/>
                  </a:lnTo>
                  <a:lnTo>
                    <a:pt x="112" y="426"/>
                  </a:lnTo>
                  <a:lnTo>
                    <a:pt x="122" y="418"/>
                  </a:lnTo>
                  <a:lnTo>
                    <a:pt x="131" y="407"/>
                  </a:lnTo>
                  <a:lnTo>
                    <a:pt x="142" y="396"/>
                  </a:lnTo>
                  <a:lnTo>
                    <a:pt x="151" y="383"/>
                  </a:lnTo>
                  <a:lnTo>
                    <a:pt x="160" y="373"/>
                  </a:lnTo>
                  <a:lnTo>
                    <a:pt x="168" y="364"/>
                  </a:lnTo>
                  <a:lnTo>
                    <a:pt x="159" y="347"/>
                  </a:lnTo>
                  <a:lnTo>
                    <a:pt x="155" y="326"/>
                  </a:lnTo>
                  <a:lnTo>
                    <a:pt x="153" y="307"/>
                  </a:lnTo>
                  <a:lnTo>
                    <a:pt x="152" y="303"/>
                  </a:lnTo>
                  <a:lnTo>
                    <a:pt x="157" y="303"/>
                  </a:lnTo>
                  <a:lnTo>
                    <a:pt x="162" y="299"/>
                  </a:lnTo>
                  <a:lnTo>
                    <a:pt x="169" y="296"/>
                  </a:lnTo>
                  <a:lnTo>
                    <a:pt x="177" y="290"/>
                  </a:lnTo>
                  <a:lnTo>
                    <a:pt x="184" y="285"/>
                  </a:lnTo>
                  <a:lnTo>
                    <a:pt x="193" y="281"/>
                  </a:lnTo>
                  <a:lnTo>
                    <a:pt x="201" y="278"/>
                  </a:lnTo>
                  <a:lnTo>
                    <a:pt x="210" y="278"/>
                  </a:lnTo>
                  <a:lnTo>
                    <a:pt x="213" y="276"/>
                  </a:lnTo>
                  <a:lnTo>
                    <a:pt x="220" y="271"/>
                  </a:lnTo>
                  <a:lnTo>
                    <a:pt x="229" y="266"/>
                  </a:lnTo>
                  <a:lnTo>
                    <a:pt x="240" y="260"/>
                  </a:lnTo>
                  <a:lnTo>
                    <a:pt x="250" y="254"/>
                  </a:lnTo>
                  <a:lnTo>
                    <a:pt x="260" y="250"/>
                  </a:lnTo>
                  <a:lnTo>
                    <a:pt x="268" y="246"/>
                  </a:lnTo>
                  <a:lnTo>
                    <a:pt x="274" y="244"/>
                  </a:lnTo>
                  <a:lnTo>
                    <a:pt x="279" y="241"/>
                  </a:lnTo>
                  <a:lnTo>
                    <a:pt x="284" y="238"/>
                  </a:lnTo>
                  <a:lnTo>
                    <a:pt x="289" y="235"/>
                  </a:lnTo>
                  <a:lnTo>
                    <a:pt x="294" y="231"/>
                  </a:lnTo>
                  <a:lnTo>
                    <a:pt x="298" y="228"/>
                  </a:lnTo>
                  <a:lnTo>
                    <a:pt x="303" y="224"/>
                  </a:lnTo>
                  <a:lnTo>
                    <a:pt x="307" y="221"/>
                  </a:lnTo>
                  <a:lnTo>
                    <a:pt x="312" y="218"/>
                  </a:lnTo>
                  <a:lnTo>
                    <a:pt x="322" y="216"/>
                  </a:lnTo>
                  <a:lnTo>
                    <a:pt x="333" y="215"/>
                  </a:lnTo>
                  <a:lnTo>
                    <a:pt x="344" y="215"/>
                  </a:lnTo>
                  <a:lnTo>
                    <a:pt x="357" y="216"/>
                  </a:lnTo>
                  <a:lnTo>
                    <a:pt x="369" y="217"/>
                  </a:lnTo>
                  <a:lnTo>
                    <a:pt x="380" y="218"/>
                  </a:lnTo>
                  <a:lnTo>
                    <a:pt x="392" y="218"/>
                  </a:lnTo>
                  <a:lnTo>
                    <a:pt x="402" y="216"/>
                  </a:lnTo>
                  <a:lnTo>
                    <a:pt x="411" y="213"/>
                  </a:lnTo>
                  <a:lnTo>
                    <a:pt x="419" y="209"/>
                  </a:lnTo>
                  <a:lnTo>
                    <a:pt x="426" y="205"/>
                  </a:lnTo>
                  <a:lnTo>
                    <a:pt x="433" y="200"/>
                  </a:lnTo>
                  <a:lnTo>
                    <a:pt x="439" y="194"/>
                  </a:lnTo>
                  <a:lnTo>
                    <a:pt x="443" y="187"/>
                  </a:lnTo>
                  <a:lnTo>
                    <a:pt x="447" y="179"/>
                  </a:lnTo>
                  <a:lnTo>
                    <a:pt x="449" y="170"/>
                  </a:lnTo>
                  <a:lnTo>
                    <a:pt x="452" y="169"/>
                  </a:lnTo>
                  <a:lnTo>
                    <a:pt x="457" y="164"/>
                  </a:lnTo>
                  <a:lnTo>
                    <a:pt x="465" y="159"/>
                  </a:lnTo>
                  <a:lnTo>
                    <a:pt x="477" y="152"/>
                  </a:lnTo>
                  <a:lnTo>
                    <a:pt x="488" y="145"/>
                  </a:lnTo>
                  <a:lnTo>
                    <a:pt x="500" y="139"/>
                  </a:lnTo>
                  <a:lnTo>
                    <a:pt x="511" y="134"/>
                  </a:lnTo>
                  <a:lnTo>
                    <a:pt x="522" y="132"/>
                  </a:lnTo>
                  <a:lnTo>
                    <a:pt x="530" y="132"/>
                  </a:lnTo>
                  <a:lnTo>
                    <a:pt x="539" y="130"/>
                  </a:lnTo>
                  <a:lnTo>
                    <a:pt x="548" y="127"/>
                  </a:lnTo>
                  <a:lnTo>
                    <a:pt x="559" y="125"/>
                  </a:lnTo>
                  <a:lnTo>
                    <a:pt x="569" y="122"/>
                  </a:lnTo>
                  <a:lnTo>
                    <a:pt x="578" y="119"/>
                  </a:lnTo>
                  <a:lnTo>
                    <a:pt x="586" y="116"/>
                  </a:lnTo>
                  <a:lnTo>
                    <a:pt x="593" y="112"/>
                  </a:lnTo>
                  <a:lnTo>
                    <a:pt x="592" y="108"/>
                  </a:lnTo>
                  <a:lnTo>
                    <a:pt x="591" y="102"/>
                  </a:lnTo>
                  <a:lnTo>
                    <a:pt x="590" y="97"/>
                  </a:lnTo>
                  <a:lnTo>
                    <a:pt x="590" y="93"/>
                  </a:lnTo>
                  <a:lnTo>
                    <a:pt x="593" y="91"/>
                  </a:lnTo>
                  <a:lnTo>
                    <a:pt x="602" y="88"/>
                  </a:lnTo>
                  <a:lnTo>
                    <a:pt x="613" y="85"/>
                  </a:lnTo>
                  <a:lnTo>
                    <a:pt x="624" y="84"/>
                  </a:lnTo>
                  <a:lnTo>
                    <a:pt x="636" y="82"/>
                  </a:lnTo>
                  <a:lnTo>
                    <a:pt x="647" y="84"/>
                  </a:lnTo>
                  <a:lnTo>
                    <a:pt x="659" y="86"/>
                  </a:lnTo>
                  <a:lnTo>
                    <a:pt x="669" y="91"/>
                  </a:lnTo>
                  <a:lnTo>
                    <a:pt x="677" y="96"/>
                  </a:lnTo>
                  <a:lnTo>
                    <a:pt x="677" y="100"/>
                  </a:lnTo>
                  <a:lnTo>
                    <a:pt x="676" y="102"/>
                  </a:lnTo>
                  <a:lnTo>
                    <a:pt x="674" y="104"/>
                  </a:lnTo>
                  <a:lnTo>
                    <a:pt x="672" y="107"/>
                  </a:lnTo>
                  <a:lnTo>
                    <a:pt x="674" y="109"/>
                  </a:lnTo>
                  <a:lnTo>
                    <a:pt x="677" y="111"/>
                  </a:lnTo>
                  <a:lnTo>
                    <a:pt x="681" y="112"/>
                  </a:lnTo>
                  <a:lnTo>
                    <a:pt x="683" y="115"/>
                  </a:lnTo>
                  <a:lnTo>
                    <a:pt x="692" y="111"/>
                  </a:lnTo>
                  <a:lnTo>
                    <a:pt x="704" y="107"/>
                  </a:lnTo>
                  <a:lnTo>
                    <a:pt x="716" y="103"/>
                  </a:lnTo>
                  <a:lnTo>
                    <a:pt x="729" y="100"/>
                  </a:lnTo>
                  <a:lnTo>
                    <a:pt x="743" y="97"/>
                  </a:lnTo>
                  <a:lnTo>
                    <a:pt x="756" y="97"/>
                  </a:lnTo>
                  <a:lnTo>
                    <a:pt x="767" y="99"/>
                  </a:lnTo>
                  <a:lnTo>
                    <a:pt x="778" y="101"/>
                  </a:lnTo>
                  <a:lnTo>
                    <a:pt x="782" y="103"/>
                  </a:lnTo>
                  <a:lnTo>
                    <a:pt x="787" y="108"/>
                  </a:lnTo>
                  <a:lnTo>
                    <a:pt x="793" y="114"/>
                  </a:lnTo>
                  <a:lnTo>
                    <a:pt x="798" y="119"/>
                  </a:lnTo>
                  <a:lnTo>
                    <a:pt x="804" y="125"/>
                  </a:lnTo>
                  <a:lnTo>
                    <a:pt x="810" y="131"/>
                  </a:lnTo>
                  <a:lnTo>
                    <a:pt x="816" y="133"/>
                  </a:lnTo>
                  <a:lnTo>
                    <a:pt x="821" y="134"/>
                  </a:lnTo>
                  <a:lnTo>
                    <a:pt x="827" y="131"/>
                  </a:lnTo>
                  <a:lnTo>
                    <a:pt x="833" y="124"/>
                  </a:lnTo>
                  <a:lnTo>
                    <a:pt x="839" y="116"/>
                  </a:lnTo>
                  <a:lnTo>
                    <a:pt x="843" y="110"/>
                  </a:lnTo>
                  <a:lnTo>
                    <a:pt x="850" y="106"/>
                  </a:lnTo>
                  <a:lnTo>
                    <a:pt x="859" y="103"/>
                  </a:lnTo>
                  <a:lnTo>
                    <a:pt x="869" y="103"/>
                  </a:lnTo>
                  <a:lnTo>
                    <a:pt x="879" y="103"/>
                  </a:lnTo>
                  <a:lnTo>
                    <a:pt x="889" y="104"/>
                  </a:lnTo>
                  <a:lnTo>
                    <a:pt x="900" y="104"/>
                  </a:lnTo>
                  <a:lnTo>
                    <a:pt x="909" y="104"/>
                  </a:lnTo>
                  <a:lnTo>
                    <a:pt x="917" y="101"/>
                  </a:lnTo>
                  <a:lnTo>
                    <a:pt x="928" y="81"/>
                  </a:lnTo>
                  <a:lnTo>
                    <a:pt x="927" y="49"/>
                  </a:lnTo>
                  <a:lnTo>
                    <a:pt x="926" y="19"/>
                  </a:lnTo>
                  <a:lnTo>
                    <a:pt x="933" y="3"/>
                  </a:lnTo>
                  <a:lnTo>
                    <a:pt x="949" y="0"/>
                  </a:lnTo>
                  <a:lnTo>
                    <a:pt x="963" y="1"/>
                  </a:lnTo>
                  <a:lnTo>
                    <a:pt x="975" y="6"/>
                  </a:lnTo>
                  <a:lnTo>
                    <a:pt x="985" y="13"/>
                  </a:lnTo>
                  <a:lnTo>
                    <a:pt x="994" y="23"/>
                  </a:lnTo>
                  <a:lnTo>
                    <a:pt x="1005" y="32"/>
                  </a:lnTo>
                  <a:lnTo>
                    <a:pt x="1014" y="40"/>
                  </a:lnTo>
                  <a:lnTo>
                    <a:pt x="1025" y="47"/>
                  </a:lnTo>
                  <a:lnTo>
                    <a:pt x="1040" y="56"/>
                  </a:lnTo>
                  <a:lnTo>
                    <a:pt x="1046" y="66"/>
                  </a:lnTo>
                  <a:lnTo>
                    <a:pt x="1045" y="78"/>
                  </a:lnTo>
                  <a:lnTo>
                    <a:pt x="1039" y="89"/>
                  </a:lnTo>
                  <a:lnTo>
                    <a:pt x="1029" y="101"/>
                  </a:lnTo>
                  <a:lnTo>
                    <a:pt x="1017" y="112"/>
                  </a:lnTo>
                  <a:lnTo>
                    <a:pt x="1006" y="123"/>
                  </a:lnTo>
                  <a:lnTo>
                    <a:pt x="995" y="132"/>
                  </a:lnTo>
                  <a:lnTo>
                    <a:pt x="995" y="137"/>
                  </a:lnTo>
                  <a:lnTo>
                    <a:pt x="999" y="152"/>
                  </a:lnTo>
                  <a:lnTo>
                    <a:pt x="1000" y="164"/>
                  </a:lnTo>
                  <a:lnTo>
                    <a:pt x="999" y="176"/>
                  </a:lnTo>
                  <a:lnTo>
                    <a:pt x="996" y="186"/>
                  </a:lnTo>
                  <a:lnTo>
                    <a:pt x="992" y="197"/>
                  </a:lnTo>
                  <a:lnTo>
                    <a:pt x="985" y="207"/>
                  </a:lnTo>
                  <a:lnTo>
                    <a:pt x="977" y="217"/>
                  </a:lnTo>
                  <a:lnTo>
                    <a:pt x="967" y="230"/>
                  </a:lnTo>
                  <a:close/>
                  <a:moveTo>
                    <a:pt x="616" y="1380"/>
                  </a:moveTo>
                  <a:lnTo>
                    <a:pt x="622" y="1373"/>
                  </a:lnTo>
                  <a:lnTo>
                    <a:pt x="630" y="1372"/>
                  </a:lnTo>
                  <a:lnTo>
                    <a:pt x="636" y="1375"/>
                  </a:lnTo>
                  <a:lnTo>
                    <a:pt x="639" y="1384"/>
                  </a:lnTo>
                  <a:lnTo>
                    <a:pt x="639" y="1389"/>
                  </a:lnTo>
                  <a:lnTo>
                    <a:pt x="638" y="1393"/>
                  </a:lnTo>
                  <a:lnTo>
                    <a:pt x="636" y="1397"/>
                  </a:lnTo>
                  <a:lnTo>
                    <a:pt x="636" y="1402"/>
                  </a:lnTo>
                  <a:lnTo>
                    <a:pt x="639" y="1402"/>
                  </a:lnTo>
                  <a:lnTo>
                    <a:pt x="643" y="1402"/>
                  </a:lnTo>
                  <a:lnTo>
                    <a:pt x="646" y="1402"/>
                  </a:lnTo>
                  <a:lnTo>
                    <a:pt x="650" y="1401"/>
                  </a:lnTo>
                  <a:lnTo>
                    <a:pt x="655" y="1398"/>
                  </a:lnTo>
                  <a:lnTo>
                    <a:pt x="664" y="1397"/>
                  </a:lnTo>
                  <a:lnTo>
                    <a:pt x="673" y="1397"/>
                  </a:lnTo>
                  <a:lnTo>
                    <a:pt x="681" y="1397"/>
                  </a:lnTo>
                  <a:lnTo>
                    <a:pt x="689" y="1399"/>
                  </a:lnTo>
                  <a:lnTo>
                    <a:pt x="697" y="1403"/>
                  </a:lnTo>
                  <a:lnTo>
                    <a:pt x="702" y="1407"/>
                  </a:lnTo>
                  <a:lnTo>
                    <a:pt x="704" y="1414"/>
                  </a:lnTo>
                  <a:lnTo>
                    <a:pt x="706" y="1427"/>
                  </a:lnTo>
                  <a:lnTo>
                    <a:pt x="711" y="1440"/>
                  </a:lnTo>
                  <a:lnTo>
                    <a:pt x="720" y="1448"/>
                  </a:lnTo>
                  <a:lnTo>
                    <a:pt x="736" y="1447"/>
                  </a:lnTo>
                  <a:lnTo>
                    <a:pt x="738" y="1444"/>
                  </a:lnTo>
                  <a:lnTo>
                    <a:pt x="738" y="1442"/>
                  </a:lnTo>
                  <a:lnTo>
                    <a:pt x="737" y="1439"/>
                  </a:lnTo>
                  <a:lnTo>
                    <a:pt x="737" y="1436"/>
                  </a:lnTo>
                  <a:lnTo>
                    <a:pt x="741" y="1432"/>
                  </a:lnTo>
                  <a:lnTo>
                    <a:pt x="746" y="1427"/>
                  </a:lnTo>
                  <a:lnTo>
                    <a:pt x="753" y="1425"/>
                  </a:lnTo>
                  <a:lnTo>
                    <a:pt x="763" y="1424"/>
                  </a:lnTo>
                  <a:lnTo>
                    <a:pt x="772" y="1422"/>
                  </a:lnTo>
                  <a:lnTo>
                    <a:pt x="781" y="1422"/>
                  </a:lnTo>
                  <a:lnTo>
                    <a:pt x="788" y="1421"/>
                  </a:lnTo>
                  <a:lnTo>
                    <a:pt x="794" y="1420"/>
                  </a:lnTo>
                  <a:lnTo>
                    <a:pt x="799" y="1424"/>
                  </a:lnTo>
                  <a:lnTo>
                    <a:pt x="808" y="1426"/>
                  </a:lnTo>
                  <a:lnTo>
                    <a:pt x="817" y="1429"/>
                  </a:lnTo>
                  <a:lnTo>
                    <a:pt x="826" y="1433"/>
                  </a:lnTo>
                  <a:lnTo>
                    <a:pt x="836" y="1435"/>
                  </a:lnTo>
                  <a:lnTo>
                    <a:pt x="846" y="1437"/>
                  </a:lnTo>
                  <a:lnTo>
                    <a:pt x="854" y="1437"/>
                  </a:lnTo>
                  <a:lnTo>
                    <a:pt x="861" y="1436"/>
                  </a:lnTo>
                  <a:lnTo>
                    <a:pt x="863" y="1435"/>
                  </a:lnTo>
                  <a:lnTo>
                    <a:pt x="865" y="1433"/>
                  </a:lnTo>
                  <a:lnTo>
                    <a:pt x="867" y="1429"/>
                  </a:lnTo>
                  <a:lnTo>
                    <a:pt x="870" y="1427"/>
                  </a:lnTo>
                  <a:lnTo>
                    <a:pt x="873" y="1426"/>
                  </a:lnTo>
                  <a:lnTo>
                    <a:pt x="877" y="1426"/>
                  </a:lnTo>
                  <a:lnTo>
                    <a:pt x="882" y="1426"/>
                  </a:lnTo>
                  <a:lnTo>
                    <a:pt x="887" y="1425"/>
                  </a:lnTo>
                  <a:lnTo>
                    <a:pt x="892" y="1425"/>
                  </a:lnTo>
                  <a:lnTo>
                    <a:pt x="897" y="1425"/>
                  </a:lnTo>
                  <a:lnTo>
                    <a:pt x="901" y="1426"/>
                  </a:lnTo>
                  <a:lnTo>
                    <a:pt x="904" y="1426"/>
                  </a:lnTo>
                  <a:lnTo>
                    <a:pt x="987" y="1443"/>
                  </a:lnTo>
                  <a:lnTo>
                    <a:pt x="995" y="1446"/>
                  </a:lnTo>
                  <a:lnTo>
                    <a:pt x="1002" y="1448"/>
                  </a:lnTo>
                  <a:lnTo>
                    <a:pt x="1010" y="1450"/>
                  </a:lnTo>
                  <a:lnTo>
                    <a:pt x="1018" y="1449"/>
                  </a:lnTo>
                  <a:lnTo>
                    <a:pt x="1024" y="1448"/>
                  </a:lnTo>
                  <a:lnTo>
                    <a:pt x="1032" y="1446"/>
                  </a:lnTo>
                  <a:lnTo>
                    <a:pt x="1040" y="1443"/>
                  </a:lnTo>
                  <a:lnTo>
                    <a:pt x="1051" y="1441"/>
                  </a:lnTo>
                  <a:lnTo>
                    <a:pt x="1060" y="1441"/>
                  </a:lnTo>
                  <a:lnTo>
                    <a:pt x="1068" y="1441"/>
                  </a:lnTo>
                  <a:lnTo>
                    <a:pt x="1074" y="1443"/>
                  </a:lnTo>
                  <a:lnTo>
                    <a:pt x="1078" y="1447"/>
                  </a:lnTo>
                  <a:lnTo>
                    <a:pt x="1079" y="1454"/>
                  </a:lnTo>
                  <a:lnTo>
                    <a:pt x="1077" y="1459"/>
                  </a:lnTo>
                  <a:lnTo>
                    <a:pt x="1073" y="1466"/>
                  </a:lnTo>
                  <a:lnTo>
                    <a:pt x="1067" y="1472"/>
                  </a:lnTo>
                  <a:lnTo>
                    <a:pt x="1059" y="1477"/>
                  </a:lnTo>
                  <a:lnTo>
                    <a:pt x="1052" y="1481"/>
                  </a:lnTo>
                  <a:lnTo>
                    <a:pt x="1045" y="1486"/>
                  </a:lnTo>
                  <a:lnTo>
                    <a:pt x="1040" y="1488"/>
                  </a:lnTo>
                  <a:lnTo>
                    <a:pt x="1034" y="1492"/>
                  </a:lnTo>
                  <a:lnTo>
                    <a:pt x="1028" y="1495"/>
                  </a:lnTo>
                  <a:lnTo>
                    <a:pt x="1020" y="1497"/>
                  </a:lnTo>
                  <a:lnTo>
                    <a:pt x="1014" y="1500"/>
                  </a:lnTo>
                  <a:lnTo>
                    <a:pt x="1003" y="1502"/>
                  </a:lnTo>
                  <a:lnTo>
                    <a:pt x="993" y="1505"/>
                  </a:lnTo>
                  <a:lnTo>
                    <a:pt x="984" y="1508"/>
                  </a:lnTo>
                  <a:lnTo>
                    <a:pt x="973" y="1510"/>
                  </a:lnTo>
                  <a:lnTo>
                    <a:pt x="964" y="1511"/>
                  </a:lnTo>
                  <a:lnTo>
                    <a:pt x="954" y="1512"/>
                  </a:lnTo>
                  <a:lnTo>
                    <a:pt x="943" y="1511"/>
                  </a:lnTo>
                  <a:lnTo>
                    <a:pt x="932" y="1510"/>
                  </a:lnTo>
                  <a:lnTo>
                    <a:pt x="923" y="1510"/>
                  </a:lnTo>
                  <a:lnTo>
                    <a:pt x="915" y="1515"/>
                  </a:lnTo>
                  <a:lnTo>
                    <a:pt x="907" y="1520"/>
                  </a:lnTo>
                  <a:lnTo>
                    <a:pt x="901" y="1527"/>
                  </a:lnTo>
                  <a:lnTo>
                    <a:pt x="897" y="1530"/>
                  </a:lnTo>
                  <a:lnTo>
                    <a:pt x="893" y="1533"/>
                  </a:lnTo>
                  <a:lnTo>
                    <a:pt x="887" y="1535"/>
                  </a:lnTo>
                  <a:lnTo>
                    <a:pt x="881" y="1537"/>
                  </a:lnTo>
                  <a:lnTo>
                    <a:pt x="874" y="1538"/>
                  </a:lnTo>
                  <a:lnTo>
                    <a:pt x="869" y="1539"/>
                  </a:lnTo>
                  <a:lnTo>
                    <a:pt x="864" y="1540"/>
                  </a:lnTo>
                  <a:lnTo>
                    <a:pt x="859" y="1540"/>
                  </a:lnTo>
                  <a:lnTo>
                    <a:pt x="852" y="1540"/>
                  </a:lnTo>
                  <a:lnTo>
                    <a:pt x="844" y="1538"/>
                  </a:lnTo>
                  <a:lnTo>
                    <a:pt x="837" y="1537"/>
                  </a:lnTo>
                  <a:lnTo>
                    <a:pt x="831" y="1534"/>
                  </a:lnTo>
                  <a:lnTo>
                    <a:pt x="822" y="1533"/>
                  </a:lnTo>
                  <a:lnTo>
                    <a:pt x="816" y="1531"/>
                  </a:lnTo>
                  <a:lnTo>
                    <a:pt x="808" y="1531"/>
                  </a:lnTo>
                  <a:lnTo>
                    <a:pt x="801" y="1531"/>
                  </a:lnTo>
                  <a:lnTo>
                    <a:pt x="787" y="1530"/>
                  </a:lnTo>
                  <a:lnTo>
                    <a:pt x="784" y="1522"/>
                  </a:lnTo>
                  <a:lnTo>
                    <a:pt x="788" y="1511"/>
                  </a:lnTo>
                  <a:lnTo>
                    <a:pt x="789" y="1502"/>
                  </a:lnTo>
                  <a:lnTo>
                    <a:pt x="786" y="1499"/>
                  </a:lnTo>
                  <a:lnTo>
                    <a:pt x="780" y="1495"/>
                  </a:lnTo>
                  <a:lnTo>
                    <a:pt x="773" y="1494"/>
                  </a:lnTo>
                  <a:lnTo>
                    <a:pt x="764" y="1492"/>
                  </a:lnTo>
                  <a:lnTo>
                    <a:pt x="756" y="1490"/>
                  </a:lnTo>
                  <a:lnTo>
                    <a:pt x="748" y="1490"/>
                  </a:lnTo>
                  <a:lnTo>
                    <a:pt x="740" y="1489"/>
                  </a:lnTo>
                  <a:lnTo>
                    <a:pt x="735" y="1488"/>
                  </a:lnTo>
                  <a:lnTo>
                    <a:pt x="731" y="1487"/>
                  </a:lnTo>
                  <a:lnTo>
                    <a:pt x="729" y="1485"/>
                  </a:lnTo>
                  <a:lnTo>
                    <a:pt x="726" y="1482"/>
                  </a:lnTo>
                  <a:lnTo>
                    <a:pt x="723" y="1480"/>
                  </a:lnTo>
                  <a:lnTo>
                    <a:pt x="713" y="1478"/>
                  </a:lnTo>
                  <a:lnTo>
                    <a:pt x="703" y="1475"/>
                  </a:lnTo>
                  <a:lnTo>
                    <a:pt x="692" y="1475"/>
                  </a:lnTo>
                  <a:lnTo>
                    <a:pt x="682" y="1474"/>
                  </a:lnTo>
                  <a:lnTo>
                    <a:pt x="672" y="1475"/>
                  </a:lnTo>
                  <a:lnTo>
                    <a:pt x="662" y="1477"/>
                  </a:lnTo>
                  <a:lnTo>
                    <a:pt x="652" y="1478"/>
                  </a:lnTo>
                  <a:lnTo>
                    <a:pt x="642" y="1480"/>
                  </a:lnTo>
                  <a:lnTo>
                    <a:pt x="636" y="1481"/>
                  </a:lnTo>
                  <a:lnTo>
                    <a:pt x="628" y="1480"/>
                  </a:lnTo>
                  <a:lnTo>
                    <a:pt x="620" y="1479"/>
                  </a:lnTo>
                  <a:lnTo>
                    <a:pt x="612" y="1475"/>
                  </a:lnTo>
                  <a:lnTo>
                    <a:pt x="602" y="1472"/>
                  </a:lnTo>
                  <a:lnTo>
                    <a:pt x="596" y="1467"/>
                  </a:lnTo>
                  <a:lnTo>
                    <a:pt x="591" y="1463"/>
                  </a:lnTo>
                  <a:lnTo>
                    <a:pt x="587" y="1457"/>
                  </a:lnTo>
                  <a:lnTo>
                    <a:pt x="587" y="1450"/>
                  </a:lnTo>
                  <a:lnTo>
                    <a:pt x="590" y="1441"/>
                  </a:lnTo>
                  <a:lnTo>
                    <a:pt x="592" y="1432"/>
                  </a:lnTo>
                  <a:lnTo>
                    <a:pt x="594" y="1425"/>
                  </a:lnTo>
                  <a:lnTo>
                    <a:pt x="598" y="1421"/>
                  </a:lnTo>
                  <a:lnTo>
                    <a:pt x="602" y="1417"/>
                  </a:lnTo>
                  <a:lnTo>
                    <a:pt x="608" y="1413"/>
                  </a:lnTo>
                  <a:lnTo>
                    <a:pt x="612" y="1410"/>
                  </a:lnTo>
                  <a:lnTo>
                    <a:pt x="613" y="1403"/>
                  </a:lnTo>
                  <a:lnTo>
                    <a:pt x="614" y="1394"/>
                  </a:lnTo>
                  <a:lnTo>
                    <a:pt x="615" y="1386"/>
                  </a:lnTo>
                  <a:lnTo>
                    <a:pt x="616" y="1380"/>
                  </a:lnTo>
                  <a:close/>
                </a:path>
              </a:pathLst>
            </a:custGeom>
            <a:solidFill>
              <a:srgbClr val="0066cc">
                <a:alpha val="50000"/>
              </a:srgbClr>
            </a:solidFill>
            <a:ln w="9360">
              <a:solidFill>
                <a:srgbClr val="007c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91080" y="4521960"/>
              <a:ext cx="424080" cy="578880"/>
            </a:xfrm>
            <a:custGeom>
              <a:avLst/>
              <a:gdLst/>
              <a:ahLst/>
              <a:rect l="l" t="t" r="r" b="b"/>
              <a:pathLst>
                <a:path w="1769" h="2301">
                  <a:moveTo>
                    <a:pt x="776" y="1951"/>
                  </a:moveTo>
                  <a:lnTo>
                    <a:pt x="781" y="1945"/>
                  </a:lnTo>
                  <a:lnTo>
                    <a:pt x="784" y="1941"/>
                  </a:lnTo>
                  <a:lnTo>
                    <a:pt x="789" y="1936"/>
                  </a:lnTo>
                  <a:lnTo>
                    <a:pt x="793" y="1933"/>
                  </a:lnTo>
                  <a:lnTo>
                    <a:pt x="798" y="1929"/>
                  </a:lnTo>
                  <a:lnTo>
                    <a:pt x="804" y="1928"/>
                  </a:lnTo>
                  <a:lnTo>
                    <a:pt x="811" y="1929"/>
                  </a:lnTo>
                  <a:lnTo>
                    <a:pt x="819" y="1932"/>
                  </a:lnTo>
                  <a:lnTo>
                    <a:pt x="826" y="1938"/>
                  </a:lnTo>
                  <a:lnTo>
                    <a:pt x="831" y="1949"/>
                  </a:lnTo>
                  <a:lnTo>
                    <a:pt x="836" y="1959"/>
                  </a:lnTo>
                  <a:lnTo>
                    <a:pt x="841" y="1967"/>
                  </a:lnTo>
                  <a:lnTo>
                    <a:pt x="846" y="1964"/>
                  </a:lnTo>
                  <a:lnTo>
                    <a:pt x="854" y="1958"/>
                  </a:lnTo>
                  <a:lnTo>
                    <a:pt x="863" y="1951"/>
                  </a:lnTo>
                  <a:lnTo>
                    <a:pt x="871" y="1945"/>
                  </a:lnTo>
                  <a:lnTo>
                    <a:pt x="880" y="1942"/>
                  </a:lnTo>
                  <a:lnTo>
                    <a:pt x="888" y="1940"/>
                  </a:lnTo>
                  <a:lnTo>
                    <a:pt x="894" y="1943"/>
                  </a:lnTo>
                  <a:lnTo>
                    <a:pt x="899" y="1950"/>
                  </a:lnTo>
                  <a:lnTo>
                    <a:pt x="906" y="1958"/>
                  </a:lnTo>
                  <a:lnTo>
                    <a:pt x="920" y="1971"/>
                  </a:lnTo>
                  <a:lnTo>
                    <a:pt x="935" y="1983"/>
                  </a:lnTo>
                  <a:lnTo>
                    <a:pt x="951" y="1996"/>
                  </a:lnTo>
                  <a:lnTo>
                    <a:pt x="969" y="2006"/>
                  </a:lnTo>
                  <a:lnTo>
                    <a:pt x="987" y="2015"/>
                  </a:lnTo>
                  <a:lnTo>
                    <a:pt x="1005" y="2020"/>
                  </a:lnTo>
                  <a:lnTo>
                    <a:pt x="1025" y="2023"/>
                  </a:lnTo>
                  <a:lnTo>
                    <a:pt x="1045" y="2021"/>
                  </a:lnTo>
                  <a:lnTo>
                    <a:pt x="1058" y="2018"/>
                  </a:lnTo>
                  <a:lnTo>
                    <a:pt x="1073" y="2013"/>
                  </a:lnTo>
                  <a:lnTo>
                    <a:pt x="1087" y="2009"/>
                  </a:lnTo>
                  <a:lnTo>
                    <a:pt x="1102" y="2004"/>
                  </a:lnTo>
                  <a:lnTo>
                    <a:pt x="1116" y="1998"/>
                  </a:lnTo>
                  <a:lnTo>
                    <a:pt x="1130" y="1993"/>
                  </a:lnTo>
                  <a:lnTo>
                    <a:pt x="1144" y="1987"/>
                  </a:lnTo>
                  <a:lnTo>
                    <a:pt x="1156" y="1981"/>
                  </a:lnTo>
                  <a:lnTo>
                    <a:pt x="1169" y="1979"/>
                  </a:lnTo>
                  <a:lnTo>
                    <a:pt x="1182" y="1982"/>
                  </a:lnTo>
                  <a:lnTo>
                    <a:pt x="1194" y="1981"/>
                  </a:lnTo>
                  <a:lnTo>
                    <a:pt x="1207" y="1979"/>
                  </a:lnTo>
                  <a:lnTo>
                    <a:pt x="1219" y="1975"/>
                  </a:lnTo>
                  <a:lnTo>
                    <a:pt x="1231" y="1971"/>
                  </a:lnTo>
                  <a:lnTo>
                    <a:pt x="1244" y="1966"/>
                  </a:lnTo>
                  <a:lnTo>
                    <a:pt x="1258" y="1963"/>
                  </a:lnTo>
                  <a:lnTo>
                    <a:pt x="1273" y="1962"/>
                  </a:lnTo>
                  <a:lnTo>
                    <a:pt x="1274" y="1965"/>
                  </a:lnTo>
                  <a:lnTo>
                    <a:pt x="1275" y="1970"/>
                  </a:lnTo>
                  <a:lnTo>
                    <a:pt x="1277" y="1975"/>
                  </a:lnTo>
                  <a:lnTo>
                    <a:pt x="1277" y="1979"/>
                  </a:lnTo>
                  <a:lnTo>
                    <a:pt x="1275" y="1987"/>
                  </a:lnTo>
                  <a:lnTo>
                    <a:pt x="1270" y="1995"/>
                  </a:lnTo>
                  <a:lnTo>
                    <a:pt x="1266" y="2003"/>
                  </a:lnTo>
                  <a:lnTo>
                    <a:pt x="1259" y="2012"/>
                  </a:lnTo>
                  <a:lnTo>
                    <a:pt x="1253" y="2020"/>
                  </a:lnTo>
                  <a:lnTo>
                    <a:pt x="1246" y="2028"/>
                  </a:lnTo>
                  <a:lnTo>
                    <a:pt x="1242" y="2038"/>
                  </a:lnTo>
                  <a:lnTo>
                    <a:pt x="1238" y="2046"/>
                  </a:lnTo>
                  <a:lnTo>
                    <a:pt x="1234" y="2058"/>
                  </a:lnTo>
                  <a:lnTo>
                    <a:pt x="1227" y="2072"/>
                  </a:lnTo>
                  <a:lnTo>
                    <a:pt x="1220" y="2085"/>
                  </a:lnTo>
                  <a:lnTo>
                    <a:pt x="1213" y="2099"/>
                  </a:lnTo>
                  <a:lnTo>
                    <a:pt x="1205" y="2111"/>
                  </a:lnTo>
                  <a:lnTo>
                    <a:pt x="1199" y="2124"/>
                  </a:lnTo>
                  <a:lnTo>
                    <a:pt x="1194" y="2137"/>
                  </a:lnTo>
                  <a:lnTo>
                    <a:pt x="1191" y="2149"/>
                  </a:lnTo>
                  <a:lnTo>
                    <a:pt x="1191" y="2159"/>
                  </a:lnTo>
                  <a:lnTo>
                    <a:pt x="1194" y="2169"/>
                  </a:lnTo>
                  <a:lnTo>
                    <a:pt x="1200" y="2180"/>
                  </a:lnTo>
                  <a:lnTo>
                    <a:pt x="1206" y="2192"/>
                  </a:lnTo>
                  <a:lnTo>
                    <a:pt x="1212" y="2203"/>
                  </a:lnTo>
                  <a:lnTo>
                    <a:pt x="1216" y="2215"/>
                  </a:lnTo>
                  <a:lnTo>
                    <a:pt x="1220" y="2227"/>
                  </a:lnTo>
                  <a:lnTo>
                    <a:pt x="1219" y="2237"/>
                  </a:lnTo>
                  <a:lnTo>
                    <a:pt x="1215" y="2245"/>
                  </a:lnTo>
                  <a:lnTo>
                    <a:pt x="1208" y="2254"/>
                  </a:lnTo>
                  <a:lnTo>
                    <a:pt x="1200" y="2266"/>
                  </a:lnTo>
                  <a:lnTo>
                    <a:pt x="1191" y="2277"/>
                  </a:lnTo>
                  <a:lnTo>
                    <a:pt x="1181" y="2288"/>
                  </a:lnTo>
                  <a:lnTo>
                    <a:pt x="1170" y="2296"/>
                  </a:lnTo>
                  <a:lnTo>
                    <a:pt x="1160" y="2300"/>
                  </a:lnTo>
                  <a:lnTo>
                    <a:pt x="1151" y="2301"/>
                  </a:lnTo>
                  <a:lnTo>
                    <a:pt x="1140" y="2300"/>
                  </a:lnTo>
                  <a:lnTo>
                    <a:pt x="1128" y="2298"/>
                  </a:lnTo>
                  <a:lnTo>
                    <a:pt x="1111" y="2294"/>
                  </a:lnTo>
                  <a:lnTo>
                    <a:pt x="1096" y="2290"/>
                  </a:lnTo>
                  <a:lnTo>
                    <a:pt x="1083" y="2283"/>
                  </a:lnTo>
                  <a:lnTo>
                    <a:pt x="1071" y="2275"/>
                  </a:lnTo>
                  <a:lnTo>
                    <a:pt x="1065" y="2263"/>
                  </a:lnTo>
                  <a:lnTo>
                    <a:pt x="1065" y="2251"/>
                  </a:lnTo>
                  <a:lnTo>
                    <a:pt x="1069" y="2246"/>
                  </a:lnTo>
                  <a:lnTo>
                    <a:pt x="1073" y="2243"/>
                  </a:lnTo>
                  <a:lnTo>
                    <a:pt x="1078" y="2238"/>
                  </a:lnTo>
                  <a:lnTo>
                    <a:pt x="1079" y="2230"/>
                  </a:lnTo>
                  <a:lnTo>
                    <a:pt x="1076" y="2227"/>
                  </a:lnTo>
                  <a:lnTo>
                    <a:pt x="1070" y="2224"/>
                  </a:lnTo>
                  <a:lnTo>
                    <a:pt x="1064" y="2223"/>
                  </a:lnTo>
                  <a:lnTo>
                    <a:pt x="1060" y="2222"/>
                  </a:lnTo>
                  <a:lnTo>
                    <a:pt x="1043" y="2216"/>
                  </a:lnTo>
                  <a:lnTo>
                    <a:pt x="1028" y="2209"/>
                  </a:lnTo>
                  <a:lnTo>
                    <a:pt x="1013" y="2200"/>
                  </a:lnTo>
                  <a:lnTo>
                    <a:pt x="999" y="2190"/>
                  </a:lnTo>
                  <a:lnTo>
                    <a:pt x="984" y="2179"/>
                  </a:lnTo>
                  <a:lnTo>
                    <a:pt x="969" y="2169"/>
                  </a:lnTo>
                  <a:lnTo>
                    <a:pt x="954" y="2160"/>
                  </a:lnTo>
                  <a:lnTo>
                    <a:pt x="939" y="2153"/>
                  </a:lnTo>
                  <a:lnTo>
                    <a:pt x="913" y="2144"/>
                  </a:lnTo>
                  <a:lnTo>
                    <a:pt x="905" y="2138"/>
                  </a:lnTo>
                  <a:lnTo>
                    <a:pt x="897" y="2131"/>
                  </a:lnTo>
                  <a:lnTo>
                    <a:pt x="888" y="2125"/>
                  </a:lnTo>
                  <a:lnTo>
                    <a:pt x="880" y="2121"/>
                  </a:lnTo>
                  <a:lnTo>
                    <a:pt x="865" y="2116"/>
                  </a:lnTo>
                  <a:lnTo>
                    <a:pt x="849" y="2110"/>
                  </a:lnTo>
                  <a:lnTo>
                    <a:pt x="831" y="2106"/>
                  </a:lnTo>
                  <a:lnTo>
                    <a:pt x="815" y="2100"/>
                  </a:lnTo>
                  <a:lnTo>
                    <a:pt x="798" y="2093"/>
                  </a:lnTo>
                  <a:lnTo>
                    <a:pt x="784" y="2084"/>
                  </a:lnTo>
                  <a:lnTo>
                    <a:pt x="772" y="2073"/>
                  </a:lnTo>
                  <a:lnTo>
                    <a:pt x="763" y="2059"/>
                  </a:lnTo>
                  <a:lnTo>
                    <a:pt x="760" y="2053"/>
                  </a:lnTo>
                  <a:lnTo>
                    <a:pt x="754" y="2047"/>
                  </a:lnTo>
                  <a:lnTo>
                    <a:pt x="750" y="2040"/>
                  </a:lnTo>
                  <a:lnTo>
                    <a:pt x="747" y="2032"/>
                  </a:lnTo>
                  <a:lnTo>
                    <a:pt x="747" y="2020"/>
                  </a:lnTo>
                  <a:lnTo>
                    <a:pt x="751" y="2010"/>
                  </a:lnTo>
                  <a:lnTo>
                    <a:pt x="757" y="2001"/>
                  </a:lnTo>
                  <a:lnTo>
                    <a:pt x="763" y="1991"/>
                  </a:lnTo>
                  <a:lnTo>
                    <a:pt x="770" y="1982"/>
                  </a:lnTo>
                  <a:lnTo>
                    <a:pt x="775" y="1973"/>
                  </a:lnTo>
                  <a:lnTo>
                    <a:pt x="778" y="1963"/>
                  </a:lnTo>
                  <a:lnTo>
                    <a:pt x="776" y="1951"/>
                  </a:lnTo>
                  <a:close/>
                  <a:moveTo>
                    <a:pt x="180" y="1268"/>
                  </a:moveTo>
                  <a:lnTo>
                    <a:pt x="119" y="1232"/>
                  </a:lnTo>
                  <a:lnTo>
                    <a:pt x="116" y="1237"/>
                  </a:lnTo>
                  <a:lnTo>
                    <a:pt x="111" y="1246"/>
                  </a:lnTo>
                  <a:lnTo>
                    <a:pt x="106" y="1259"/>
                  </a:lnTo>
                  <a:lnTo>
                    <a:pt x="100" y="1274"/>
                  </a:lnTo>
                  <a:lnTo>
                    <a:pt x="93" y="1289"/>
                  </a:lnTo>
                  <a:lnTo>
                    <a:pt x="88" y="1302"/>
                  </a:lnTo>
                  <a:lnTo>
                    <a:pt x="85" y="1313"/>
                  </a:lnTo>
                  <a:lnTo>
                    <a:pt x="84" y="1320"/>
                  </a:lnTo>
                  <a:lnTo>
                    <a:pt x="91" y="1325"/>
                  </a:lnTo>
                  <a:lnTo>
                    <a:pt x="98" y="1330"/>
                  </a:lnTo>
                  <a:lnTo>
                    <a:pt x="106" y="1335"/>
                  </a:lnTo>
                  <a:lnTo>
                    <a:pt x="113" y="1340"/>
                  </a:lnTo>
                  <a:lnTo>
                    <a:pt x="118" y="1346"/>
                  </a:lnTo>
                  <a:lnTo>
                    <a:pt x="122" y="1353"/>
                  </a:lnTo>
                  <a:lnTo>
                    <a:pt x="123" y="1361"/>
                  </a:lnTo>
                  <a:lnTo>
                    <a:pt x="119" y="1372"/>
                  </a:lnTo>
                  <a:lnTo>
                    <a:pt x="145" y="1392"/>
                  </a:lnTo>
                  <a:lnTo>
                    <a:pt x="140" y="1400"/>
                  </a:lnTo>
                  <a:lnTo>
                    <a:pt x="137" y="1407"/>
                  </a:lnTo>
                  <a:lnTo>
                    <a:pt x="131" y="1413"/>
                  </a:lnTo>
                  <a:lnTo>
                    <a:pt x="126" y="1420"/>
                  </a:lnTo>
                  <a:lnTo>
                    <a:pt x="121" y="1426"/>
                  </a:lnTo>
                  <a:lnTo>
                    <a:pt x="116" y="1433"/>
                  </a:lnTo>
                  <a:lnTo>
                    <a:pt x="110" y="1438"/>
                  </a:lnTo>
                  <a:lnTo>
                    <a:pt x="104" y="1444"/>
                  </a:lnTo>
                  <a:lnTo>
                    <a:pt x="115" y="1458"/>
                  </a:lnTo>
                  <a:lnTo>
                    <a:pt x="114" y="1466"/>
                  </a:lnTo>
                  <a:lnTo>
                    <a:pt x="106" y="1473"/>
                  </a:lnTo>
                  <a:lnTo>
                    <a:pt x="99" y="1484"/>
                  </a:lnTo>
                  <a:lnTo>
                    <a:pt x="99" y="1495"/>
                  </a:lnTo>
                  <a:lnTo>
                    <a:pt x="103" y="1499"/>
                  </a:lnTo>
                  <a:lnTo>
                    <a:pt x="113" y="1505"/>
                  </a:lnTo>
                  <a:lnTo>
                    <a:pt x="123" y="1510"/>
                  </a:lnTo>
                  <a:lnTo>
                    <a:pt x="130" y="1511"/>
                  </a:lnTo>
                  <a:lnTo>
                    <a:pt x="127" y="1526"/>
                  </a:lnTo>
                  <a:lnTo>
                    <a:pt x="122" y="1542"/>
                  </a:lnTo>
                  <a:lnTo>
                    <a:pt x="116" y="1557"/>
                  </a:lnTo>
                  <a:lnTo>
                    <a:pt x="114" y="1573"/>
                  </a:lnTo>
                  <a:lnTo>
                    <a:pt x="108" y="1580"/>
                  </a:lnTo>
                  <a:lnTo>
                    <a:pt x="100" y="1590"/>
                  </a:lnTo>
                  <a:lnTo>
                    <a:pt x="93" y="1602"/>
                  </a:lnTo>
                  <a:lnTo>
                    <a:pt x="85" y="1616"/>
                  </a:lnTo>
                  <a:lnTo>
                    <a:pt x="78" y="1629"/>
                  </a:lnTo>
                  <a:lnTo>
                    <a:pt x="72" y="1642"/>
                  </a:lnTo>
                  <a:lnTo>
                    <a:pt x="69" y="1655"/>
                  </a:lnTo>
                  <a:lnTo>
                    <a:pt x="68" y="1665"/>
                  </a:lnTo>
                  <a:lnTo>
                    <a:pt x="73" y="1667"/>
                  </a:lnTo>
                  <a:lnTo>
                    <a:pt x="81" y="1668"/>
                  </a:lnTo>
                  <a:lnTo>
                    <a:pt x="91" y="1670"/>
                  </a:lnTo>
                  <a:lnTo>
                    <a:pt x="99" y="1671"/>
                  </a:lnTo>
                  <a:lnTo>
                    <a:pt x="113" y="1699"/>
                  </a:lnTo>
                  <a:lnTo>
                    <a:pt x="133" y="1703"/>
                  </a:lnTo>
                  <a:lnTo>
                    <a:pt x="159" y="1694"/>
                  </a:lnTo>
                  <a:lnTo>
                    <a:pt x="185" y="1677"/>
                  </a:lnTo>
                  <a:lnTo>
                    <a:pt x="210" y="1660"/>
                  </a:lnTo>
                  <a:lnTo>
                    <a:pt x="232" y="1649"/>
                  </a:lnTo>
                  <a:lnTo>
                    <a:pt x="247" y="1652"/>
                  </a:lnTo>
                  <a:lnTo>
                    <a:pt x="253" y="1676"/>
                  </a:lnTo>
                  <a:lnTo>
                    <a:pt x="257" y="1677"/>
                  </a:lnTo>
                  <a:lnTo>
                    <a:pt x="261" y="1678"/>
                  </a:lnTo>
                  <a:lnTo>
                    <a:pt x="265" y="1680"/>
                  </a:lnTo>
                  <a:lnTo>
                    <a:pt x="268" y="1682"/>
                  </a:lnTo>
                  <a:lnTo>
                    <a:pt x="282" y="1665"/>
                  </a:lnTo>
                  <a:lnTo>
                    <a:pt x="283" y="1649"/>
                  </a:lnTo>
                  <a:lnTo>
                    <a:pt x="280" y="1632"/>
                  </a:lnTo>
                  <a:lnTo>
                    <a:pt x="278" y="1614"/>
                  </a:lnTo>
                  <a:lnTo>
                    <a:pt x="361" y="1336"/>
                  </a:lnTo>
                  <a:lnTo>
                    <a:pt x="361" y="1322"/>
                  </a:lnTo>
                  <a:lnTo>
                    <a:pt x="357" y="1304"/>
                  </a:lnTo>
                  <a:lnTo>
                    <a:pt x="348" y="1282"/>
                  </a:lnTo>
                  <a:lnTo>
                    <a:pt x="337" y="1260"/>
                  </a:lnTo>
                  <a:lnTo>
                    <a:pt x="325" y="1239"/>
                  </a:lnTo>
                  <a:lnTo>
                    <a:pt x="310" y="1223"/>
                  </a:lnTo>
                  <a:lnTo>
                    <a:pt x="295" y="1213"/>
                  </a:lnTo>
                  <a:lnTo>
                    <a:pt x="278" y="1211"/>
                  </a:lnTo>
                  <a:lnTo>
                    <a:pt x="266" y="1217"/>
                  </a:lnTo>
                  <a:lnTo>
                    <a:pt x="255" y="1224"/>
                  </a:lnTo>
                  <a:lnTo>
                    <a:pt x="245" y="1232"/>
                  </a:lnTo>
                  <a:lnTo>
                    <a:pt x="236" y="1241"/>
                  </a:lnTo>
                  <a:lnTo>
                    <a:pt x="224" y="1251"/>
                  </a:lnTo>
                  <a:lnTo>
                    <a:pt x="213" y="1259"/>
                  </a:lnTo>
                  <a:lnTo>
                    <a:pt x="198" y="1264"/>
                  </a:lnTo>
                  <a:lnTo>
                    <a:pt x="180" y="1268"/>
                  </a:lnTo>
                  <a:close/>
                  <a:moveTo>
                    <a:pt x="1123" y="179"/>
                  </a:moveTo>
                  <a:lnTo>
                    <a:pt x="1117" y="184"/>
                  </a:lnTo>
                  <a:lnTo>
                    <a:pt x="1110" y="188"/>
                  </a:lnTo>
                  <a:lnTo>
                    <a:pt x="1101" y="193"/>
                  </a:lnTo>
                  <a:lnTo>
                    <a:pt x="1092" y="197"/>
                  </a:lnTo>
                  <a:lnTo>
                    <a:pt x="1083" y="202"/>
                  </a:lnTo>
                  <a:lnTo>
                    <a:pt x="1073" y="207"/>
                  </a:lnTo>
                  <a:lnTo>
                    <a:pt x="1066" y="211"/>
                  </a:lnTo>
                  <a:lnTo>
                    <a:pt x="1061" y="216"/>
                  </a:lnTo>
                  <a:lnTo>
                    <a:pt x="1069" y="230"/>
                  </a:lnTo>
                  <a:lnTo>
                    <a:pt x="1076" y="248"/>
                  </a:lnTo>
                  <a:lnTo>
                    <a:pt x="1083" y="269"/>
                  </a:lnTo>
                  <a:lnTo>
                    <a:pt x="1088" y="292"/>
                  </a:lnTo>
                  <a:lnTo>
                    <a:pt x="1092" y="314"/>
                  </a:lnTo>
                  <a:lnTo>
                    <a:pt x="1093" y="335"/>
                  </a:lnTo>
                  <a:lnTo>
                    <a:pt x="1091" y="352"/>
                  </a:lnTo>
                  <a:lnTo>
                    <a:pt x="1085" y="363"/>
                  </a:lnTo>
                  <a:lnTo>
                    <a:pt x="1077" y="356"/>
                  </a:lnTo>
                  <a:lnTo>
                    <a:pt x="1069" y="351"/>
                  </a:lnTo>
                  <a:lnTo>
                    <a:pt x="1061" y="344"/>
                  </a:lnTo>
                  <a:lnTo>
                    <a:pt x="1053" y="338"/>
                  </a:lnTo>
                  <a:lnTo>
                    <a:pt x="1046" y="332"/>
                  </a:lnTo>
                  <a:lnTo>
                    <a:pt x="1038" y="325"/>
                  </a:lnTo>
                  <a:lnTo>
                    <a:pt x="1030" y="318"/>
                  </a:lnTo>
                  <a:lnTo>
                    <a:pt x="1023" y="312"/>
                  </a:lnTo>
                  <a:lnTo>
                    <a:pt x="854" y="392"/>
                  </a:lnTo>
                  <a:lnTo>
                    <a:pt x="849" y="397"/>
                  </a:lnTo>
                  <a:lnTo>
                    <a:pt x="848" y="405"/>
                  </a:lnTo>
                  <a:lnTo>
                    <a:pt x="848" y="413"/>
                  </a:lnTo>
                  <a:lnTo>
                    <a:pt x="848" y="420"/>
                  </a:lnTo>
                  <a:lnTo>
                    <a:pt x="856" y="426"/>
                  </a:lnTo>
                  <a:lnTo>
                    <a:pt x="863" y="435"/>
                  </a:lnTo>
                  <a:lnTo>
                    <a:pt x="871" y="448"/>
                  </a:lnTo>
                  <a:lnTo>
                    <a:pt x="878" y="460"/>
                  </a:lnTo>
                  <a:lnTo>
                    <a:pt x="883" y="475"/>
                  </a:lnTo>
                  <a:lnTo>
                    <a:pt x="887" y="489"/>
                  </a:lnTo>
                  <a:lnTo>
                    <a:pt x="889" y="503"/>
                  </a:lnTo>
                  <a:lnTo>
                    <a:pt x="888" y="514"/>
                  </a:lnTo>
                  <a:lnTo>
                    <a:pt x="882" y="524"/>
                  </a:lnTo>
                  <a:lnTo>
                    <a:pt x="872" y="534"/>
                  </a:lnTo>
                  <a:lnTo>
                    <a:pt x="860" y="544"/>
                  </a:lnTo>
                  <a:lnTo>
                    <a:pt x="854" y="555"/>
                  </a:lnTo>
                  <a:lnTo>
                    <a:pt x="834" y="660"/>
                  </a:lnTo>
                  <a:lnTo>
                    <a:pt x="1012" y="794"/>
                  </a:lnTo>
                  <a:lnTo>
                    <a:pt x="1020" y="801"/>
                  </a:lnTo>
                  <a:lnTo>
                    <a:pt x="1032" y="813"/>
                  </a:lnTo>
                  <a:lnTo>
                    <a:pt x="1041" y="825"/>
                  </a:lnTo>
                  <a:lnTo>
                    <a:pt x="1046" y="835"/>
                  </a:lnTo>
                  <a:lnTo>
                    <a:pt x="1052" y="857"/>
                  </a:lnTo>
                  <a:lnTo>
                    <a:pt x="1056" y="880"/>
                  </a:lnTo>
                  <a:lnTo>
                    <a:pt x="1060" y="904"/>
                  </a:lnTo>
                  <a:lnTo>
                    <a:pt x="1064" y="927"/>
                  </a:lnTo>
                  <a:lnTo>
                    <a:pt x="1068" y="951"/>
                  </a:lnTo>
                  <a:lnTo>
                    <a:pt x="1072" y="975"/>
                  </a:lnTo>
                  <a:lnTo>
                    <a:pt x="1078" y="998"/>
                  </a:lnTo>
                  <a:lnTo>
                    <a:pt x="1086" y="1020"/>
                  </a:lnTo>
                  <a:lnTo>
                    <a:pt x="1092" y="1032"/>
                  </a:lnTo>
                  <a:lnTo>
                    <a:pt x="1100" y="1045"/>
                  </a:lnTo>
                  <a:lnTo>
                    <a:pt x="1111" y="1062"/>
                  </a:lnTo>
                  <a:lnTo>
                    <a:pt x="1124" y="1077"/>
                  </a:lnTo>
                  <a:lnTo>
                    <a:pt x="1137" y="1092"/>
                  </a:lnTo>
                  <a:lnTo>
                    <a:pt x="1151" y="1105"/>
                  </a:lnTo>
                  <a:lnTo>
                    <a:pt x="1163" y="1116"/>
                  </a:lnTo>
                  <a:lnTo>
                    <a:pt x="1174" y="1122"/>
                  </a:lnTo>
                  <a:lnTo>
                    <a:pt x="1184" y="1126"/>
                  </a:lnTo>
                  <a:lnTo>
                    <a:pt x="1196" y="1132"/>
                  </a:lnTo>
                  <a:lnTo>
                    <a:pt x="1206" y="1138"/>
                  </a:lnTo>
                  <a:lnTo>
                    <a:pt x="1217" y="1145"/>
                  </a:lnTo>
                  <a:lnTo>
                    <a:pt x="1228" y="1152"/>
                  </a:lnTo>
                  <a:lnTo>
                    <a:pt x="1239" y="1158"/>
                  </a:lnTo>
                  <a:lnTo>
                    <a:pt x="1250" y="1165"/>
                  </a:lnTo>
                  <a:lnTo>
                    <a:pt x="1261" y="1172"/>
                  </a:lnTo>
                  <a:lnTo>
                    <a:pt x="1273" y="1178"/>
                  </a:lnTo>
                  <a:lnTo>
                    <a:pt x="1284" y="1184"/>
                  </a:lnTo>
                  <a:lnTo>
                    <a:pt x="1296" y="1188"/>
                  </a:lnTo>
                  <a:lnTo>
                    <a:pt x="1307" y="1192"/>
                  </a:lnTo>
                  <a:lnTo>
                    <a:pt x="1320" y="1194"/>
                  </a:lnTo>
                  <a:lnTo>
                    <a:pt x="1333" y="1195"/>
                  </a:lnTo>
                  <a:lnTo>
                    <a:pt x="1345" y="1194"/>
                  </a:lnTo>
                  <a:lnTo>
                    <a:pt x="1358" y="1192"/>
                  </a:lnTo>
                  <a:lnTo>
                    <a:pt x="1364" y="1192"/>
                  </a:lnTo>
                  <a:lnTo>
                    <a:pt x="1372" y="1191"/>
                  </a:lnTo>
                  <a:lnTo>
                    <a:pt x="1381" y="1191"/>
                  </a:lnTo>
                  <a:lnTo>
                    <a:pt x="1390" y="1190"/>
                  </a:lnTo>
                  <a:lnTo>
                    <a:pt x="1398" y="1188"/>
                  </a:lnTo>
                  <a:lnTo>
                    <a:pt x="1408" y="1188"/>
                  </a:lnTo>
                  <a:lnTo>
                    <a:pt x="1414" y="1188"/>
                  </a:lnTo>
                  <a:lnTo>
                    <a:pt x="1419" y="1188"/>
                  </a:lnTo>
                  <a:lnTo>
                    <a:pt x="1422" y="1192"/>
                  </a:lnTo>
                  <a:lnTo>
                    <a:pt x="1419" y="1196"/>
                  </a:lnTo>
                  <a:lnTo>
                    <a:pt x="1412" y="1206"/>
                  </a:lnTo>
                  <a:lnTo>
                    <a:pt x="1403" y="1218"/>
                  </a:lnTo>
                  <a:lnTo>
                    <a:pt x="1394" y="1233"/>
                  </a:lnTo>
                  <a:lnTo>
                    <a:pt x="1386" y="1249"/>
                  </a:lnTo>
                  <a:lnTo>
                    <a:pt x="1382" y="1263"/>
                  </a:lnTo>
                  <a:lnTo>
                    <a:pt x="1386" y="1276"/>
                  </a:lnTo>
                  <a:lnTo>
                    <a:pt x="1398" y="1283"/>
                  </a:lnTo>
                  <a:lnTo>
                    <a:pt x="1417" y="1291"/>
                  </a:lnTo>
                  <a:lnTo>
                    <a:pt x="1434" y="1301"/>
                  </a:lnTo>
                  <a:lnTo>
                    <a:pt x="1450" y="1314"/>
                  </a:lnTo>
                  <a:lnTo>
                    <a:pt x="1466" y="1327"/>
                  </a:lnTo>
                  <a:lnTo>
                    <a:pt x="1481" y="1340"/>
                  </a:lnTo>
                  <a:lnTo>
                    <a:pt x="1497" y="1353"/>
                  </a:lnTo>
                  <a:lnTo>
                    <a:pt x="1515" y="1364"/>
                  </a:lnTo>
                  <a:lnTo>
                    <a:pt x="1533" y="1372"/>
                  </a:lnTo>
                  <a:lnTo>
                    <a:pt x="1554" y="1380"/>
                  </a:lnTo>
                  <a:lnTo>
                    <a:pt x="1575" y="1390"/>
                  </a:lnTo>
                  <a:lnTo>
                    <a:pt x="1594" y="1404"/>
                  </a:lnTo>
                  <a:lnTo>
                    <a:pt x="1614" y="1418"/>
                  </a:lnTo>
                  <a:lnTo>
                    <a:pt x="1633" y="1433"/>
                  </a:lnTo>
                  <a:lnTo>
                    <a:pt x="1652" y="1446"/>
                  </a:lnTo>
                  <a:lnTo>
                    <a:pt x="1671" y="1459"/>
                  </a:lnTo>
                  <a:lnTo>
                    <a:pt x="1691" y="1470"/>
                  </a:lnTo>
                  <a:lnTo>
                    <a:pt x="1713" y="1482"/>
                  </a:lnTo>
                  <a:lnTo>
                    <a:pt x="1730" y="1498"/>
                  </a:lnTo>
                  <a:lnTo>
                    <a:pt x="1746" y="1517"/>
                  </a:lnTo>
                  <a:lnTo>
                    <a:pt x="1758" y="1539"/>
                  </a:lnTo>
                  <a:lnTo>
                    <a:pt x="1766" y="1562"/>
                  </a:lnTo>
                  <a:lnTo>
                    <a:pt x="1769" y="1585"/>
                  </a:lnTo>
                  <a:lnTo>
                    <a:pt x="1769" y="1609"/>
                  </a:lnTo>
                  <a:lnTo>
                    <a:pt x="1766" y="1631"/>
                  </a:lnTo>
                  <a:lnTo>
                    <a:pt x="1761" y="1638"/>
                  </a:lnTo>
                  <a:lnTo>
                    <a:pt x="1754" y="1639"/>
                  </a:lnTo>
                  <a:lnTo>
                    <a:pt x="1745" y="1637"/>
                  </a:lnTo>
                  <a:lnTo>
                    <a:pt x="1735" y="1631"/>
                  </a:lnTo>
                  <a:lnTo>
                    <a:pt x="1723" y="1625"/>
                  </a:lnTo>
                  <a:lnTo>
                    <a:pt x="1713" y="1618"/>
                  </a:lnTo>
                  <a:lnTo>
                    <a:pt x="1705" y="1614"/>
                  </a:lnTo>
                  <a:lnTo>
                    <a:pt x="1698" y="1611"/>
                  </a:lnTo>
                  <a:lnTo>
                    <a:pt x="1698" y="1607"/>
                  </a:lnTo>
                  <a:lnTo>
                    <a:pt x="1697" y="1602"/>
                  </a:lnTo>
                  <a:lnTo>
                    <a:pt x="1697" y="1599"/>
                  </a:lnTo>
                  <a:lnTo>
                    <a:pt x="1698" y="1594"/>
                  </a:lnTo>
                  <a:lnTo>
                    <a:pt x="1690" y="1577"/>
                  </a:lnTo>
                  <a:lnTo>
                    <a:pt x="1683" y="1564"/>
                  </a:lnTo>
                  <a:lnTo>
                    <a:pt x="1676" y="1554"/>
                  </a:lnTo>
                  <a:lnTo>
                    <a:pt x="1669" y="1546"/>
                  </a:lnTo>
                  <a:lnTo>
                    <a:pt x="1661" y="1541"/>
                  </a:lnTo>
                  <a:lnTo>
                    <a:pt x="1649" y="1539"/>
                  </a:lnTo>
                  <a:lnTo>
                    <a:pt x="1636" y="1536"/>
                  </a:lnTo>
                  <a:lnTo>
                    <a:pt x="1617" y="1536"/>
                  </a:lnTo>
                  <a:lnTo>
                    <a:pt x="1606" y="1535"/>
                  </a:lnTo>
                  <a:lnTo>
                    <a:pt x="1595" y="1533"/>
                  </a:lnTo>
                  <a:lnTo>
                    <a:pt x="1585" y="1528"/>
                  </a:lnTo>
                  <a:lnTo>
                    <a:pt x="1577" y="1523"/>
                  </a:lnTo>
                  <a:lnTo>
                    <a:pt x="1568" y="1517"/>
                  </a:lnTo>
                  <a:lnTo>
                    <a:pt x="1560" y="1510"/>
                  </a:lnTo>
                  <a:lnTo>
                    <a:pt x="1552" y="1503"/>
                  </a:lnTo>
                  <a:lnTo>
                    <a:pt x="1543" y="1496"/>
                  </a:lnTo>
                  <a:lnTo>
                    <a:pt x="1537" y="1503"/>
                  </a:lnTo>
                  <a:lnTo>
                    <a:pt x="1530" y="1511"/>
                  </a:lnTo>
                  <a:lnTo>
                    <a:pt x="1523" y="1519"/>
                  </a:lnTo>
                  <a:lnTo>
                    <a:pt x="1520" y="1526"/>
                  </a:lnTo>
                  <a:lnTo>
                    <a:pt x="1508" y="1532"/>
                  </a:lnTo>
                  <a:lnTo>
                    <a:pt x="1500" y="1543"/>
                  </a:lnTo>
                  <a:lnTo>
                    <a:pt x="1493" y="1558"/>
                  </a:lnTo>
                  <a:lnTo>
                    <a:pt x="1487" y="1574"/>
                  </a:lnTo>
                  <a:lnTo>
                    <a:pt x="1481" y="1590"/>
                  </a:lnTo>
                  <a:lnTo>
                    <a:pt x="1474" y="1603"/>
                  </a:lnTo>
                  <a:lnTo>
                    <a:pt x="1465" y="1614"/>
                  </a:lnTo>
                  <a:lnTo>
                    <a:pt x="1452" y="1617"/>
                  </a:lnTo>
                  <a:lnTo>
                    <a:pt x="1456" y="1641"/>
                  </a:lnTo>
                  <a:lnTo>
                    <a:pt x="1465" y="1661"/>
                  </a:lnTo>
                  <a:lnTo>
                    <a:pt x="1479" y="1679"/>
                  </a:lnTo>
                  <a:lnTo>
                    <a:pt x="1496" y="1695"/>
                  </a:lnTo>
                  <a:lnTo>
                    <a:pt x="1515" y="1709"/>
                  </a:lnTo>
                  <a:lnTo>
                    <a:pt x="1534" y="1724"/>
                  </a:lnTo>
                  <a:lnTo>
                    <a:pt x="1554" y="1738"/>
                  </a:lnTo>
                  <a:lnTo>
                    <a:pt x="1570" y="1753"/>
                  </a:lnTo>
                  <a:lnTo>
                    <a:pt x="1565" y="1759"/>
                  </a:lnTo>
                  <a:lnTo>
                    <a:pt x="1562" y="1766"/>
                  </a:lnTo>
                  <a:lnTo>
                    <a:pt x="1558" y="1774"/>
                  </a:lnTo>
                  <a:lnTo>
                    <a:pt x="1554" y="1779"/>
                  </a:lnTo>
                  <a:lnTo>
                    <a:pt x="1550" y="1794"/>
                  </a:lnTo>
                  <a:lnTo>
                    <a:pt x="1547" y="1808"/>
                  </a:lnTo>
                  <a:lnTo>
                    <a:pt x="1541" y="1821"/>
                  </a:lnTo>
                  <a:lnTo>
                    <a:pt x="1534" y="1831"/>
                  </a:lnTo>
                  <a:lnTo>
                    <a:pt x="1525" y="1838"/>
                  </a:lnTo>
                  <a:lnTo>
                    <a:pt x="1512" y="1842"/>
                  </a:lnTo>
                  <a:lnTo>
                    <a:pt x="1497" y="1841"/>
                  </a:lnTo>
                  <a:lnTo>
                    <a:pt x="1479" y="1834"/>
                  </a:lnTo>
                  <a:lnTo>
                    <a:pt x="1474" y="1836"/>
                  </a:lnTo>
                  <a:lnTo>
                    <a:pt x="1469" y="1838"/>
                  </a:lnTo>
                  <a:lnTo>
                    <a:pt x="1463" y="1842"/>
                  </a:lnTo>
                  <a:lnTo>
                    <a:pt x="1459" y="1844"/>
                  </a:lnTo>
                  <a:lnTo>
                    <a:pt x="1456" y="1866"/>
                  </a:lnTo>
                  <a:lnTo>
                    <a:pt x="1449" y="1894"/>
                  </a:lnTo>
                  <a:lnTo>
                    <a:pt x="1446" y="1921"/>
                  </a:lnTo>
                  <a:lnTo>
                    <a:pt x="1452" y="1942"/>
                  </a:lnTo>
                  <a:lnTo>
                    <a:pt x="1452" y="1944"/>
                  </a:lnTo>
                  <a:lnTo>
                    <a:pt x="1451" y="1948"/>
                  </a:lnTo>
                  <a:lnTo>
                    <a:pt x="1449" y="1953"/>
                  </a:lnTo>
                  <a:lnTo>
                    <a:pt x="1449" y="1958"/>
                  </a:lnTo>
                  <a:lnTo>
                    <a:pt x="1444" y="1958"/>
                  </a:lnTo>
                  <a:lnTo>
                    <a:pt x="1440" y="1959"/>
                  </a:lnTo>
                  <a:lnTo>
                    <a:pt x="1433" y="1962"/>
                  </a:lnTo>
                  <a:lnTo>
                    <a:pt x="1427" y="1964"/>
                  </a:lnTo>
                  <a:lnTo>
                    <a:pt x="1421" y="1966"/>
                  </a:lnTo>
                  <a:lnTo>
                    <a:pt x="1414" y="1968"/>
                  </a:lnTo>
                  <a:lnTo>
                    <a:pt x="1410" y="1971"/>
                  </a:lnTo>
                  <a:lnTo>
                    <a:pt x="1405" y="1972"/>
                  </a:lnTo>
                  <a:lnTo>
                    <a:pt x="1404" y="1980"/>
                  </a:lnTo>
                  <a:lnTo>
                    <a:pt x="1399" y="1990"/>
                  </a:lnTo>
                  <a:lnTo>
                    <a:pt x="1393" y="2001"/>
                  </a:lnTo>
                  <a:lnTo>
                    <a:pt x="1386" y="2011"/>
                  </a:lnTo>
                  <a:lnTo>
                    <a:pt x="1376" y="2021"/>
                  </a:lnTo>
                  <a:lnTo>
                    <a:pt x="1368" y="2032"/>
                  </a:lnTo>
                  <a:lnTo>
                    <a:pt x="1361" y="2040"/>
                  </a:lnTo>
                  <a:lnTo>
                    <a:pt x="1356" y="2046"/>
                  </a:lnTo>
                  <a:lnTo>
                    <a:pt x="1350" y="2041"/>
                  </a:lnTo>
                  <a:lnTo>
                    <a:pt x="1343" y="2039"/>
                  </a:lnTo>
                  <a:lnTo>
                    <a:pt x="1337" y="2038"/>
                  </a:lnTo>
                  <a:lnTo>
                    <a:pt x="1331" y="2038"/>
                  </a:lnTo>
                  <a:lnTo>
                    <a:pt x="1325" y="2039"/>
                  </a:lnTo>
                  <a:lnTo>
                    <a:pt x="1319" y="2040"/>
                  </a:lnTo>
                  <a:lnTo>
                    <a:pt x="1312" y="2042"/>
                  </a:lnTo>
                  <a:lnTo>
                    <a:pt x="1305" y="2042"/>
                  </a:lnTo>
                  <a:lnTo>
                    <a:pt x="1296" y="2023"/>
                  </a:lnTo>
                  <a:lnTo>
                    <a:pt x="1293" y="2008"/>
                  </a:lnTo>
                  <a:lnTo>
                    <a:pt x="1297" y="1994"/>
                  </a:lnTo>
                  <a:lnTo>
                    <a:pt x="1303" y="1981"/>
                  </a:lnTo>
                  <a:lnTo>
                    <a:pt x="1311" y="1970"/>
                  </a:lnTo>
                  <a:lnTo>
                    <a:pt x="1318" y="1958"/>
                  </a:lnTo>
                  <a:lnTo>
                    <a:pt x="1322" y="1944"/>
                  </a:lnTo>
                  <a:lnTo>
                    <a:pt x="1321" y="1928"/>
                  </a:lnTo>
                  <a:lnTo>
                    <a:pt x="1322" y="1910"/>
                  </a:lnTo>
                  <a:lnTo>
                    <a:pt x="1333" y="1891"/>
                  </a:lnTo>
                  <a:lnTo>
                    <a:pt x="1349" y="1874"/>
                  </a:lnTo>
                  <a:lnTo>
                    <a:pt x="1366" y="1858"/>
                  </a:lnTo>
                  <a:lnTo>
                    <a:pt x="1382" y="1843"/>
                  </a:lnTo>
                  <a:lnTo>
                    <a:pt x="1390" y="1828"/>
                  </a:lnTo>
                  <a:lnTo>
                    <a:pt x="1390" y="1815"/>
                  </a:lnTo>
                  <a:lnTo>
                    <a:pt x="1375" y="1802"/>
                  </a:lnTo>
                  <a:lnTo>
                    <a:pt x="1378" y="1794"/>
                  </a:lnTo>
                  <a:lnTo>
                    <a:pt x="1382" y="1786"/>
                  </a:lnTo>
                  <a:lnTo>
                    <a:pt x="1387" y="1778"/>
                  </a:lnTo>
                  <a:lnTo>
                    <a:pt x="1389" y="1769"/>
                  </a:lnTo>
                  <a:lnTo>
                    <a:pt x="1381" y="1768"/>
                  </a:lnTo>
                  <a:lnTo>
                    <a:pt x="1372" y="1764"/>
                  </a:lnTo>
                  <a:lnTo>
                    <a:pt x="1364" y="1760"/>
                  </a:lnTo>
                  <a:lnTo>
                    <a:pt x="1358" y="1755"/>
                  </a:lnTo>
                  <a:lnTo>
                    <a:pt x="1359" y="1747"/>
                  </a:lnTo>
                  <a:lnTo>
                    <a:pt x="1361" y="1739"/>
                  </a:lnTo>
                  <a:lnTo>
                    <a:pt x="1363" y="1730"/>
                  </a:lnTo>
                  <a:lnTo>
                    <a:pt x="1361" y="1722"/>
                  </a:lnTo>
                  <a:lnTo>
                    <a:pt x="1358" y="1715"/>
                  </a:lnTo>
                  <a:lnTo>
                    <a:pt x="1352" y="1707"/>
                  </a:lnTo>
                  <a:lnTo>
                    <a:pt x="1344" y="1699"/>
                  </a:lnTo>
                  <a:lnTo>
                    <a:pt x="1336" y="1692"/>
                  </a:lnTo>
                  <a:lnTo>
                    <a:pt x="1328" y="1684"/>
                  </a:lnTo>
                  <a:lnTo>
                    <a:pt x="1322" y="1676"/>
                  </a:lnTo>
                  <a:lnTo>
                    <a:pt x="1318" y="1667"/>
                  </a:lnTo>
                  <a:lnTo>
                    <a:pt x="1315" y="1658"/>
                  </a:lnTo>
                  <a:lnTo>
                    <a:pt x="1317" y="1648"/>
                  </a:lnTo>
                  <a:lnTo>
                    <a:pt x="1320" y="1635"/>
                  </a:lnTo>
                  <a:lnTo>
                    <a:pt x="1323" y="1624"/>
                  </a:lnTo>
                  <a:lnTo>
                    <a:pt x="1325" y="1614"/>
                  </a:lnTo>
                  <a:lnTo>
                    <a:pt x="1313" y="1610"/>
                  </a:lnTo>
                  <a:lnTo>
                    <a:pt x="1304" y="1605"/>
                  </a:lnTo>
                  <a:lnTo>
                    <a:pt x="1297" y="1596"/>
                  </a:lnTo>
                  <a:lnTo>
                    <a:pt x="1295" y="1580"/>
                  </a:lnTo>
                  <a:lnTo>
                    <a:pt x="1275" y="1579"/>
                  </a:lnTo>
                  <a:lnTo>
                    <a:pt x="1259" y="1578"/>
                  </a:lnTo>
                  <a:lnTo>
                    <a:pt x="1246" y="1576"/>
                  </a:lnTo>
                  <a:lnTo>
                    <a:pt x="1234" y="1572"/>
                  </a:lnTo>
                  <a:lnTo>
                    <a:pt x="1222" y="1567"/>
                  </a:lnTo>
                  <a:lnTo>
                    <a:pt x="1211" y="1563"/>
                  </a:lnTo>
                  <a:lnTo>
                    <a:pt x="1197" y="1558"/>
                  </a:lnTo>
                  <a:lnTo>
                    <a:pt x="1181" y="1554"/>
                  </a:lnTo>
                  <a:lnTo>
                    <a:pt x="1181" y="1543"/>
                  </a:lnTo>
                  <a:lnTo>
                    <a:pt x="1179" y="1533"/>
                  </a:lnTo>
                  <a:lnTo>
                    <a:pt x="1176" y="1525"/>
                  </a:lnTo>
                  <a:lnTo>
                    <a:pt x="1170" y="1517"/>
                  </a:lnTo>
                  <a:lnTo>
                    <a:pt x="1174" y="1502"/>
                  </a:lnTo>
                  <a:lnTo>
                    <a:pt x="1178" y="1486"/>
                  </a:lnTo>
                  <a:lnTo>
                    <a:pt x="1178" y="1472"/>
                  </a:lnTo>
                  <a:lnTo>
                    <a:pt x="1170" y="1459"/>
                  </a:lnTo>
                  <a:lnTo>
                    <a:pt x="1164" y="1460"/>
                  </a:lnTo>
                  <a:lnTo>
                    <a:pt x="1156" y="1461"/>
                  </a:lnTo>
                  <a:lnTo>
                    <a:pt x="1146" y="1464"/>
                  </a:lnTo>
                  <a:lnTo>
                    <a:pt x="1136" y="1467"/>
                  </a:lnTo>
                  <a:lnTo>
                    <a:pt x="1125" y="1470"/>
                  </a:lnTo>
                  <a:lnTo>
                    <a:pt x="1117" y="1472"/>
                  </a:lnTo>
                  <a:lnTo>
                    <a:pt x="1111" y="1472"/>
                  </a:lnTo>
                  <a:lnTo>
                    <a:pt x="1110" y="1472"/>
                  </a:lnTo>
                  <a:lnTo>
                    <a:pt x="1108" y="1460"/>
                  </a:lnTo>
                  <a:lnTo>
                    <a:pt x="1108" y="1449"/>
                  </a:lnTo>
                  <a:lnTo>
                    <a:pt x="1107" y="1440"/>
                  </a:lnTo>
                  <a:lnTo>
                    <a:pt x="1106" y="1430"/>
                  </a:lnTo>
                  <a:lnTo>
                    <a:pt x="1102" y="1422"/>
                  </a:lnTo>
                  <a:lnTo>
                    <a:pt x="1095" y="1415"/>
                  </a:lnTo>
                  <a:lnTo>
                    <a:pt x="1086" y="1408"/>
                  </a:lnTo>
                  <a:lnTo>
                    <a:pt x="1072" y="1402"/>
                  </a:lnTo>
                  <a:lnTo>
                    <a:pt x="1061" y="1396"/>
                  </a:lnTo>
                  <a:lnTo>
                    <a:pt x="1053" y="1391"/>
                  </a:lnTo>
                  <a:lnTo>
                    <a:pt x="1047" y="1384"/>
                  </a:lnTo>
                  <a:lnTo>
                    <a:pt x="1042" y="1378"/>
                  </a:lnTo>
                  <a:lnTo>
                    <a:pt x="1039" y="1372"/>
                  </a:lnTo>
                  <a:lnTo>
                    <a:pt x="1035" y="1365"/>
                  </a:lnTo>
                  <a:lnTo>
                    <a:pt x="1030" y="1357"/>
                  </a:lnTo>
                  <a:lnTo>
                    <a:pt x="1023" y="1347"/>
                  </a:lnTo>
                  <a:lnTo>
                    <a:pt x="1018" y="1338"/>
                  </a:lnTo>
                  <a:lnTo>
                    <a:pt x="1011" y="1329"/>
                  </a:lnTo>
                  <a:lnTo>
                    <a:pt x="1002" y="1320"/>
                  </a:lnTo>
                  <a:lnTo>
                    <a:pt x="992" y="1311"/>
                  </a:lnTo>
                  <a:lnTo>
                    <a:pt x="980" y="1304"/>
                  </a:lnTo>
                  <a:lnTo>
                    <a:pt x="969" y="1299"/>
                  </a:lnTo>
                  <a:lnTo>
                    <a:pt x="958" y="1296"/>
                  </a:lnTo>
                  <a:lnTo>
                    <a:pt x="948" y="1297"/>
                  </a:lnTo>
                  <a:lnTo>
                    <a:pt x="933" y="1300"/>
                  </a:lnTo>
                  <a:lnTo>
                    <a:pt x="919" y="1301"/>
                  </a:lnTo>
                  <a:lnTo>
                    <a:pt x="907" y="1298"/>
                  </a:lnTo>
                  <a:lnTo>
                    <a:pt x="896" y="1293"/>
                  </a:lnTo>
                  <a:lnTo>
                    <a:pt x="886" y="1285"/>
                  </a:lnTo>
                  <a:lnTo>
                    <a:pt x="875" y="1275"/>
                  </a:lnTo>
                  <a:lnTo>
                    <a:pt x="865" y="1261"/>
                  </a:lnTo>
                  <a:lnTo>
                    <a:pt x="854" y="1246"/>
                  </a:lnTo>
                  <a:lnTo>
                    <a:pt x="844" y="1239"/>
                  </a:lnTo>
                  <a:lnTo>
                    <a:pt x="835" y="1230"/>
                  </a:lnTo>
                  <a:lnTo>
                    <a:pt x="827" y="1221"/>
                  </a:lnTo>
                  <a:lnTo>
                    <a:pt x="820" y="1209"/>
                  </a:lnTo>
                  <a:lnTo>
                    <a:pt x="814" y="1199"/>
                  </a:lnTo>
                  <a:lnTo>
                    <a:pt x="808" y="1187"/>
                  </a:lnTo>
                  <a:lnTo>
                    <a:pt x="805" y="1176"/>
                  </a:lnTo>
                  <a:lnTo>
                    <a:pt x="800" y="1165"/>
                  </a:lnTo>
                  <a:lnTo>
                    <a:pt x="793" y="1155"/>
                  </a:lnTo>
                  <a:lnTo>
                    <a:pt x="782" y="1146"/>
                  </a:lnTo>
                  <a:lnTo>
                    <a:pt x="769" y="1138"/>
                  </a:lnTo>
                  <a:lnTo>
                    <a:pt x="755" y="1130"/>
                  </a:lnTo>
                  <a:lnTo>
                    <a:pt x="743" y="1124"/>
                  </a:lnTo>
                  <a:lnTo>
                    <a:pt x="730" y="1117"/>
                  </a:lnTo>
                  <a:lnTo>
                    <a:pt x="721" y="1111"/>
                  </a:lnTo>
                  <a:lnTo>
                    <a:pt x="716" y="1104"/>
                  </a:lnTo>
                  <a:lnTo>
                    <a:pt x="710" y="1090"/>
                  </a:lnTo>
                  <a:lnTo>
                    <a:pt x="706" y="1075"/>
                  </a:lnTo>
                  <a:lnTo>
                    <a:pt x="699" y="1062"/>
                  </a:lnTo>
                  <a:lnTo>
                    <a:pt x="691" y="1048"/>
                  </a:lnTo>
                  <a:lnTo>
                    <a:pt x="682" y="1037"/>
                  </a:lnTo>
                  <a:lnTo>
                    <a:pt x="669" y="1028"/>
                  </a:lnTo>
                  <a:lnTo>
                    <a:pt x="654" y="1022"/>
                  </a:lnTo>
                  <a:lnTo>
                    <a:pt x="636" y="1020"/>
                  </a:lnTo>
                  <a:lnTo>
                    <a:pt x="626" y="1002"/>
                  </a:lnTo>
                  <a:lnTo>
                    <a:pt x="617" y="984"/>
                  </a:lnTo>
                  <a:lnTo>
                    <a:pt x="608" y="966"/>
                  </a:lnTo>
                  <a:lnTo>
                    <a:pt x="598" y="949"/>
                  </a:lnTo>
                  <a:lnTo>
                    <a:pt x="585" y="934"/>
                  </a:lnTo>
                  <a:lnTo>
                    <a:pt x="571" y="920"/>
                  </a:lnTo>
                  <a:lnTo>
                    <a:pt x="556" y="908"/>
                  </a:lnTo>
                  <a:lnTo>
                    <a:pt x="539" y="899"/>
                  </a:lnTo>
                  <a:lnTo>
                    <a:pt x="532" y="893"/>
                  </a:lnTo>
                  <a:lnTo>
                    <a:pt x="526" y="883"/>
                  </a:lnTo>
                  <a:lnTo>
                    <a:pt x="522" y="873"/>
                  </a:lnTo>
                  <a:lnTo>
                    <a:pt x="518" y="865"/>
                  </a:lnTo>
                  <a:lnTo>
                    <a:pt x="520" y="860"/>
                  </a:lnTo>
                  <a:lnTo>
                    <a:pt x="522" y="854"/>
                  </a:lnTo>
                  <a:lnTo>
                    <a:pt x="523" y="850"/>
                  </a:lnTo>
                  <a:lnTo>
                    <a:pt x="525" y="845"/>
                  </a:lnTo>
                  <a:lnTo>
                    <a:pt x="518" y="836"/>
                  </a:lnTo>
                  <a:lnTo>
                    <a:pt x="511" y="823"/>
                  </a:lnTo>
                  <a:lnTo>
                    <a:pt x="504" y="807"/>
                  </a:lnTo>
                  <a:lnTo>
                    <a:pt x="498" y="790"/>
                  </a:lnTo>
                  <a:lnTo>
                    <a:pt x="493" y="772"/>
                  </a:lnTo>
                  <a:lnTo>
                    <a:pt x="490" y="755"/>
                  </a:lnTo>
                  <a:lnTo>
                    <a:pt x="489" y="741"/>
                  </a:lnTo>
                  <a:lnTo>
                    <a:pt x="492" y="730"/>
                  </a:lnTo>
                  <a:lnTo>
                    <a:pt x="488" y="696"/>
                  </a:lnTo>
                  <a:lnTo>
                    <a:pt x="490" y="678"/>
                  </a:lnTo>
                  <a:lnTo>
                    <a:pt x="489" y="657"/>
                  </a:lnTo>
                  <a:lnTo>
                    <a:pt x="481" y="638"/>
                  </a:lnTo>
                  <a:lnTo>
                    <a:pt x="464" y="625"/>
                  </a:lnTo>
                  <a:lnTo>
                    <a:pt x="454" y="620"/>
                  </a:lnTo>
                  <a:lnTo>
                    <a:pt x="443" y="615"/>
                  </a:lnTo>
                  <a:lnTo>
                    <a:pt x="433" y="608"/>
                  </a:lnTo>
                  <a:lnTo>
                    <a:pt x="421" y="601"/>
                  </a:lnTo>
                  <a:lnTo>
                    <a:pt x="410" y="593"/>
                  </a:lnTo>
                  <a:lnTo>
                    <a:pt x="398" y="585"/>
                  </a:lnTo>
                  <a:lnTo>
                    <a:pt x="386" y="575"/>
                  </a:lnTo>
                  <a:lnTo>
                    <a:pt x="374" y="567"/>
                  </a:lnTo>
                  <a:lnTo>
                    <a:pt x="361" y="559"/>
                  </a:lnTo>
                  <a:lnTo>
                    <a:pt x="350" y="552"/>
                  </a:lnTo>
                  <a:lnTo>
                    <a:pt x="337" y="545"/>
                  </a:lnTo>
                  <a:lnTo>
                    <a:pt x="325" y="540"/>
                  </a:lnTo>
                  <a:lnTo>
                    <a:pt x="313" y="536"/>
                  </a:lnTo>
                  <a:lnTo>
                    <a:pt x="300" y="534"/>
                  </a:lnTo>
                  <a:lnTo>
                    <a:pt x="288" y="533"/>
                  </a:lnTo>
                  <a:lnTo>
                    <a:pt x="276" y="534"/>
                  </a:lnTo>
                  <a:lnTo>
                    <a:pt x="270" y="536"/>
                  </a:lnTo>
                  <a:lnTo>
                    <a:pt x="265" y="541"/>
                  </a:lnTo>
                  <a:lnTo>
                    <a:pt x="260" y="548"/>
                  </a:lnTo>
                  <a:lnTo>
                    <a:pt x="254" y="555"/>
                  </a:lnTo>
                  <a:lnTo>
                    <a:pt x="248" y="563"/>
                  </a:lnTo>
                  <a:lnTo>
                    <a:pt x="242" y="568"/>
                  </a:lnTo>
                  <a:lnTo>
                    <a:pt x="235" y="574"/>
                  </a:lnTo>
                  <a:lnTo>
                    <a:pt x="225" y="578"/>
                  </a:lnTo>
                  <a:lnTo>
                    <a:pt x="204" y="585"/>
                  </a:lnTo>
                  <a:lnTo>
                    <a:pt x="184" y="594"/>
                  </a:lnTo>
                  <a:lnTo>
                    <a:pt x="166" y="604"/>
                  </a:lnTo>
                  <a:lnTo>
                    <a:pt x="148" y="615"/>
                  </a:lnTo>
                  <a:lnTo>
                    <a:pt x="131" y="623"/>
                  </a:lnTo>
                  <a:lnTo>
                    <a:pt x="111" y="628"/>
                  </a:lnTo>
                  <a:lnTo>
                    <a:pt x="91" y="631"/>
                  </a:lnTo>
                  <a:lnTo>
                    <a:pt x="65" y="627"/>
                  </a:lnTo>
                  <a:lnTo>
                    <a:pt x="69" y="609"/>
                  </a:lnTo>
                  <a:lnTo>
                    <a:pt x="79" y="593"/>
                  </a:lnTo>
                  <a:lnTo>
                    <a:pt x="89" y="579"/>
                  </a:lnTo>
                  <a:lnTo>
                    <a:pt x="94" y="562"/>
                  </a:lnTo>
                  <a:lnTo>
                    <a:pt x="80" y="559"/>
                  </a:lnTo>
                  <a:lnTo>
                    <a:pt x="68" y="555"/>
                  </a:lnTo>
                  <a:lnTo>
                    <a:pt x="58" y="548"/>
                  </a:lnTo>
                  <a:lnTo>
                    <a:pt x="49" y="539"/>
                  </a:lnTo>
                  <a:lnTo>
                    <a:pt x="40" y="529"/>
                  </a:lnTo>
                  <a:lnTo>
                    <a:pt x="32" y="520"/>
                  </a:lnTo>
                  <a:lnTo>
                    <a:pt x="21" y="511"/>
                  </a:lnTo>
                  <a:lnTo>
                    <a:pt x="11" y="504"/>
                  </a:lnTo>
                  <a:lnTo>
                    <a:pt x="3" y="497"/>
                  </a:lnTo>
                  <a:lnTo>
                    <a:pt x="0" y="487"/>
                  </a:lnTo>
                  <a:lnTo>
                    <a:pt x="1" y="474"/>
                  </a:lnTo>
                  <a:lnTo>
                    <a:pt x="4" y="460"/>
                  </a:lnTo>
                  <a:lnTo>
                    <a:pt x="9" y="448"/>
                  </a:lnTo>
                  <a:lnTo>
                    <a:pt x="13" y="435"/>
                  </a:lnTo>
                  <a:lnTo>
                    <a:pt x="17" y="424"/>
                  </a:lnTo>
                  <a:lnTo>
                    <a:pt x="17" y="416"/>
                  </a:lnTo>
                  <a:lnTo>
                    <a:pt x="27" y="405"/>
                  </a:lnTo>
                  <a:lnTo>
                    <a:pt x="34" y="396"/>
                  </a:lnTo>
                  <a:lnTo>
                    <a:pt x="36" y="388"/>
                  </a:lnTo>
                  <a:lnTo>
                    <a:pt x="36" y="381"/>
                  </a:lnTo>
                  <a:lnTo>
                    <a:pt x="34" y="374"/>
                  </a:lnTo>
                  <a:lnTo>
                    <a:pt x="31" y="366"/>
                  </a:lnTo>
                  <a:lnTo>
                    <a:pt x="26" y="356"/>
                  </a:lnTo>
                  <a:lnTo>
                    <a:pt x="21" y="345"/>
                  </a:lnTo>
                  <a:lnTo>
                    <a:pt x="20" y="333"/>
                  </a:lnTo>
                  <a:lnTo>
                    <a:pt x="24" y="323"/>
                  </a:lnTo>
                  <a:lnTo>
                    <a:pt x="31" y="314"/>
                  </a:lnTo>
                  <a:lnTo>
                    <a:pt x="40" y="306"/>
                  </a:lnTo>
                  <a:lnTo>
                    <a:pt x="50" y="298"/>
                  </a:lnTo>
                  <a:lnTo>
                    <a:pt x="62" y="290"/>
                  </a:lnTo>
                  <a:lnTo>
                    <a:pt x="71" y="283"/>
                  </a:lnTo>
                  <a:lnTo>
                    <a:pt x="78" y="277"/>
                  </a:lnTo>
                  <a:lnTo>
                    <a:pt x="72" y="263"/>
                  </a:lnTo>
                  <a:lnTo>
                    <a:pt x="65" y="247"/>
                  </a:lnTo>
                  <a:lnTo>
                    <a:pt x="58" y="231"/>
                  </a:lnTo>
                  <a:lnTo>
                    <a:pt x="54" y="215"/>
                  </a:lnTo>
                  <a:lnTo>
                    <a:pt x="51" y="200"/>
                  </a:lnTo>
                  <a:lnTo>
                    <a:pt x="53" y="186"/>
                  </a:lnTo>
                  <a:lnTo>
                    <a:pt x="58" y="173"/>
                  </a:lnTo>
                  <a:lnTo>
                    <a:pt x="69" y="164"/>
                  </a:lnTo>
                  <a:lnTo>
                    <a:pt x="89" y="162"/>
                  </a:lnTo>
                  <a:lnTo>
                    <a:pt x="109" y="163"/>
                  </a:lnTo>
                  <a:lnTo>
                    <a:pt x="129" y="165"/>
                  </a:lnTo>
                  <a:lnTo>
                    <a:pt x="148" y="168"/>
                  </a:lnTo>
                  <a:lnTo>
                    <a:pt x="168" y="171"/>
                  </a:lnTo>
                  <a:lnTo>
                    <a:pt x="189" y="171"/>
                  </a:lnTo>
                  <a:lnTo>
                    <a:pt x="210" y="170"/>
                  </a:lnTo>
                  <a:lnTo>
                    <a:pt x="232" y="164"/>
                  </a:lnTo>
                  <a:lnTo>
                    <a:pt x="238" y="159"/>
                  </a:lnTo>
                  <a:lnTo>
                    <a:pt x="243" y="153"/>
                  </a:lnTo>
                  <a:lnTo>
                    <a:pt x="248" y="143"/>
                  </a:lnTo>
                  <a:lnTo>
                    <a:pt x="255" y="133"/>
                  </a:lnTo>
                  <a:lnTo>
                    <a:pt x="265" y="125"/>
                  </a:lnTo>
                  <a:lnTo>
                    <a:pt x="276" y="119"/>
                  </a:lnTo>
                  <a:lnTo>
                    <a:pt x="291" y="118"/>
                  </a:lnTo>
                  <a:lnTo>
                    <a:pt x="310" y="123"/>
                  </a:lnTo>
                  <a:lnTo>
                    <a:pt x="314" y="133"/>
                  </a:lnTo>
                  <a:lnTo>
                    <a:pt x="321" y="144"/>
                  </a:lnTo>
                  <a:lnTo>
                    <a:pt x="328" y="156"/>
                  </a:lnTo>
                  <a:lnTo>
                    <a:pt x="337" y="168"/>
                  </a:lnTo>
                  <a:lnTo>
                    <a:pt x="345" y="180"/>
                  </a:lnTo>
                  <a:lnTo>
                    <a:pt x="354" y="192"/>
                  </a:lnTo>
                  <a:lnTo>
                    <a:pt x="364" y="201"/>
                  </a:lnTo>
                  <a:lnTo>
                    <a:pt x="372" y="210"/>
                  </a:lnTo>
                  <a:lnTo>
                    <a:pt x="387" y="196"/>
                  </a:lnTo>
                  <a:lnTo>
                    <a:pt x="399" y="179"/>
                  </a:lnTo>
                  <a:lnTo>
                    <a:pt x="410" y="161"/>
                  </a:lnTo>
                  <a:lnTo>
                    <a:pt x="420" y="144"/>
                  </a:lnTo>
                  <a:lnTo>
                    <a:pt x="431" y="133"/>
                  </a:lnTo>
                  <a:lnTo>
                    <a:pt x="443" y="127"/>
                  </a:lnTo>
                  <a:lnTo>
                    <a:pt x="458" y="132"/>
                  </a:lnTo>
                  <a:lnTo>
                    <a:pt x="479" y="148"/>
                  </a:lnTo>
                  <a:lnTo>
                    <a:pt x="487" y="147"/>
                  </a:lnTo>
                  <a:lnTo>
                    <a:pt x="496" y="142"/>
                  </a:lnTo>
                  <a:lnTo>
                    <a:pt x="504" y="138"/>
                  </a:lnTo>
                  <a:lnTo>
                    <a:pt x="510" y="133"/>
                  </a:lnTo>
                  <a:lnTo>
                    <a:pt x="523" y="135"/>
                  </a:lnTo>
                  <a:lnTo>
                    <a:pt x="535" y="133"/>
                  </a:lnTo>
                  <a:lnTo>
                    <a:pt x="548" y="127"/>
                  </a:lnTo>
                  <a:lnTo>
                    <a:pt x="562" y="119"/>
                  </a:lnTo>
                  <a:lnTo>
                    <a:pt x="576" y="109"/>
                  </a:lnTo>
                  <a:lnTo>
                    <a:pt x="588" y="98"/>
                  </a:lnTo>
                  <a:lnTo>
                    <a:pt x="601" y="88"/>
                  </a:lnTo>
                  <a:lnTo>
                    <a:pt x="613" y="81"/>
                  </a:lnTo>
                  <a:lnTo>
                    <a:pt x="613" y="64"/>
                  </a:lnTo>
                  <a:lnTo>
                    <a:pt x="613" y="49"/>
                  </a:lnTo>
                  <a:lnTo>
                    <a:pt x="611" y="35"/>
                  </a:lnTo>
                  <a:lnTo>
                    <a:pt x="611" y="20"/>
                  </a:lnTo>
                  <a:lnTo>
                    <a:pt x="618" y="19"/>
                  </a:lnTo>
                  <a:lnTo>
                    <a:pt x="625" y="18"/>
                  </a:lnTo>
                  <a:lnTo>
                    <a:pt x="633" y="17"/>
                  </a:lnTo>
                  <a:lnTo>
                    <a:pt x="640" y="17"/>
                  </a:lnTo>
                  <a:lnTo>
                    <a:pt x="648" y="17"/>
                  </a:lnTo>
                  <a:lnTo>
                    <a:pt x="655" y="15"/>
                  </a:lnTo>
                  <a:lnTo>
                    <a:pt x="662" y="14"/>
                  </a:lnTo>
                  <a:lnTo>
                    <a:pt x="669" y="12"/>
                  </a:lnTo>
                  <a:lnTo>
                    <a:pt x="674" y="13"/>
                  </a:lnTo>
                  <a:lnTo>
                    <a:pt x="681" y="14"/>
                  </a:lnTo>
                  <a:lnTo>
                    <a:pt x="690" y="15"/>
                  </a:lnTo>
                  <a:lnTo>
                    <a:pt x="699" y="15"/>
                  </a:lnTo>
                  <a:lnTo>
                    <a:pt x="708" y="15"/>
                  </a:lnTo>
                  <a:lnTo>
                    <a:pt x="717" y="14"/>
                  </a:lnTo>
                  <a:lnTo>
                    <a:pt x="727" y="13"/>
                  </a:lnTo>
                  <a:lnTo>
                    <a:pt x="732" y="12"/>
                  </a:lnTo>
                  <a:lnTo>
                    <a:pt x="743" y="9"/>
                  </a:lnTo>
                  <a:lnTo>
                    <a:pt x="753" y="6"/>
                  </a:lnTo>
                  <a:lnTo>
                    <a:pt x="763" y="3"/>
                  </a:lnTo>
                  <a:lnTo>
                    <a:pt x="774" y="2"/>
                  </a:lnTo>
                  <a:lnTo>
                    <a:pt x="784" y="0"/>
                  </a:lnTo>
                  <a:lnTo>
                    <a:pt x="795" y="0"/>
                  </a:lnTo>
                  <a:lnTo>
                    <a:pt x="805" y="3"/>
                  </a:lnTo>
                  <a:lnTo>
                    <a:pt x="816" y="5"/>
                  </a:lnTo>
                  <a:lnTo>
                    <a:pt x="887" y="23"/>
                  </a:lnTo>
                  <a:lnTo>
                    <a:pt x="898" y="29"/>
                  </a:lnTo>
                  <a:lnTo>
                    <a:pt x="905" y="37"/>
                  </a:lnTo>
                  <a:lnTo>
                    <a:pt x="910" y="47"/>
                  </a:lnTo>
                  <a:lnTo>
                    <a:pt x="912" y="57"/>
                  </a:lnTo>
                  <a:lnTo>
                    <a:pt x="914" y="68"/>
                  </a:lnTo>
                  <a:lnTo>
                    <a:pt x="916" y="79"/>
                  </a:lnTo>
                  <a:lnTo>
                    <a:pt x="918" y="89"/>
                  </a:lnTo>
                  <a:lnTo>
                    <a:pt x="922" y="97"/>
                  </a:lnTo>
                  <a:lnTo>
                    <a:pt x="925" y="101"/>
                  </a:lnTo>
                  <a:lnTo>
                    <a:pt x="929" y="105"/>
                  </a:lnTo>
                  <a:lnTo>
                    <a:pt x="935" y="109"/>
                  </a:lnTo>
                  <a:lnTo>
                    <a:pt x="939" y="111"/>
                  </a:lnTo>
                  <a:lnTo>
                    <a:pt x="1103" y="170"/>
                  </a:lnTo>
                  <a:lnTo>
                    <a:pt x="1123" y="179"/>
                  </a:lnTo>
                  <a:close/>
                </a:path>
              </a:pathLst>
            </a:custGeom>
            <a:solidFill>
              <a:srgbClr val="0066cc">
                <a:alpha val="50000"/>
              </a:srgbClr>
            </a:solidFill>
            <a:ln w="9360">
              <a:solidFill>
                <a:srgbClr val="007c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002960" y="4330080"/>
              <a:ext cx="25920" cy="30960"/>
            </a:xfrm>
            <a:custGeom>
              <a:avLst/>
              <a:gdLst/>
              <a:ahLst/>
              <a:rect l="l" t="t" r="r" b="b"/>
              <a:pathLst>
                <a:path w="108" h="127">
                  <a:moveTo>
                    <a:pt x="81" y="126"/>
                  </a:moveTo>
                  <a:lnTo>
                    <a:pt x="79" y="118"/>
                  </a:lnTo>
                  <a:lnTo>
                    <a:pt x="80" y="110"/>
                  </a:lnTo>
                  <a:lnTo>
                    <a:pt x="83" y="104"/>
                  </a:lnTo>
                  <a:lnTo>
                    <a:pt x="87" y="99"/>
                  </a:lnTo>
                  <a:lnTo>
                    <a:pt x="92" y="96"/>
                  </a:lnTo>
                  <a:lnTo>
                    <a:pt x="98" y="91"/>
                  </a:lnTo>
                  <a:lnTo>
                    <a:pt x="103" y="88"/>
                  </a:lnTo>
                  <a:lnTo>
                    <a:pt x="108" y="84"/>
                  </a:lnTo>
                  <a:lnTo>
                    <a:pt x="106" y="78"/>
                  </a:lnTo>
                  <a:lnTo>
                    <a:pt x="101" y="72"/>
                  </a:lnTo>
                  <a:lnTo>
                    <a:pt x="96" y="63"/>
                  </a:lnTo>
                  <a:lnTo>
                    <a:pt x="91" y="55"/>
                  </a:lnTo>
                  <a:lnTo>
                    <a:pt x="85" y="48"/>
                  </a:lnTo>
                  <a:lnTo>
                    <a:pt x="78" y="40"/>
                  </a:lnTo>
                  <a:lnTo>
                    <a:pt x="72" y="33"/>
                  </a:lnTo>
                  <a:lnTo>
                    <a:pt x="66" y="28"/>
                  </a:lnTo>
                  <a:lnTo>
                    <a:pt x="68" y="23"/>
                  </a:lnTo>
                  <a:lnTo>
                    <a:pt x="69" y="17"/>
                  </a:lnTo>
                  <a:lnTo>
                    <a:pt x="70" y="10"/>
                  </a:lnTo>
                  <a:lnTo>
                    <a:pt x="71" y="2"/>
                  </a:lnTo>
                  <a:lnTo>
                    <a:pt x="45" y="0"/>
                  </a:lnTo>
                  <a:lnTo>
                    <a:pt x="27" y="5"/>
                  </a:lnTo>
                  <a:lnTo>
                    <a:pt x="18" y="17"/>
                  </a:lnTo>
                  <a:lnTo>
                    <a:pt x="15" y="33"/>
                  </a:lnTo>
                  <a:lnTo>
                    <a:pt x="12" y="52"/>
                  </a:lnTo>
                  <a:lnTo>
                    <a:pt x="11" y="70"/>
                  </a:lnTo>
                  <a:lnTo>
                    <a:pt x="8" y="88"/>
                  </a:lnTo>
                  <a:lnTo>
                    <a:pt x="0" y="100"/>
                  </a:lnTo>
                  <a:lnTo>
                    <a:pt x="2" y="112"/>
                  </a:lnTo>
                  <a:lnTo>
                    <a:pt x="9" y="119"/>
                  </a:lnTo>
                  <a:lnTo>
                    <a:pt x="17" y="123"/>
                  </a:lnTo>
                  <a:lnTo>
                    <a:pt x="28" y="127"/>
                  </a:lnTo>
                  <a:lnTo>
                    <a:pt x="41" y="127"/>
                  </a:lnTo>
                  <a:lnTo>
                    <a:pt x="55" y="127"/>
                  </a:lnTo>
                  <a:lnTo>
                    <a:pt x="68" y="127"/>
                  </a:lnTo>
                  <a:lnTo>
                    <a:pt x="81" y="126"/>
                  </a:lnTo>
                  <a:close/>
                </a:path>
              </a:pathLst>
            </a:custGeom>
            <a:solidFill>
              <a:srgbClr val="0066cc">
                <a:alpha val="50000"/>
              </a:srgbClr>
            </a:solidFill>
            <a:ln w="9360">
              <a:solidFill>
                <a:srgbClr val="007c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41400" y="4155120"/>
              <a:ext cx="139320" cy="131040"/>
            </a:xfrm>
            <a:custGeom>
              <a:avLst/>
              <a:gdLst/>
              <a:ahLst/>
              <a:rect l="l" t="t" r="r" b="b"/>
              <a:pathLst>
                <a:path w="582" h="521">
                  <a:moveTo>
                    <a:pt x="332" y="521"/>
                  </a:moveTo>
                  <a:lnTo>
                    <a:pt x="338" y="517"/>
                  </a:lnTo>
                  <a:lnTo>
                    <a:pt x="343" y="511"/>
                  </a:lnTo>
                  <a:lnTo>
                    <a:pt x="346" y="505"/>
                  </a:lnTo>
                  <a:lnTo>
                    <a:pt x="347" y="499"/>
                  </a:lnTo>
                  <a:lnTo>
                    <a:pt x="348" y="494"/>
                  </a:lnTo>
                  <a:lnTo>
                    <a:pt x="349" y="488"/>
                  </a:lnTo>
                  <a:lnTo>
                    <a:pt x="351" y="482"/>
                  </a:lnTo>
                  <a:lnTo>
                    <a:pt x="352" y="476"/>
                  </a:lnTo>
                  <a:lnTo>
                    <a:pt x="353" y="474"/>
                  </a:lnTo>
                  <a:lnTo>
                    <a:pt x="355" y="471"/>
                  </a:lnTo>
                  <a:lnTo>
                    <a:pt x="356" y="467"/>
                  </a:lnTo>
                  <a:lnTo>
                    <a:pt x="358" y="465"/>
                  </a:lnTo>
                  <a:lnTo>
                    <a:pt x="362" y="445"/>
                  </a:lnTo>
                  <a:lnTo>
                    <a:pt x="363" y="424"/>
                  </a:lnTo>
                  <a:lnTo>
                    <a:pt x="362" y="404"/>
                  </a:lnTo>
                  <a:lnTo>
                    <a:pt x="361" y="384"/>
                  </a:lnTo>
                  <a:lnTo>
                    <a:pt x="362" y="366"/>
                  </a:lnTo>
                  <a:lnTo>
                    <a:pt x="367" y="350"/>
                  </a:lnTo>
                  <a:lnTo>
                    <a:pt x="379" y="339"/>
                  </a:lnTo>
                  <a:lnTo>
                    <a:pt x="399" y="332"/>
                  </a:lnTo>
                  <a:lnTo>
                    <a:pt x="406" y="332"/>
                  </a:lnTo>
                  <a:lnTo>
                    <a:pt x="415" y="332"/>
                  </a:lnTo>
                  <a:lnTo>
                    <a:pt x="423" y="333"/>
                  </a:lnTo>
                  <a:lnTo>
                    <a:pt x="432" y="335"/>
                  </a:lnTo>
                  <a:lnTo>
                    <a:pt x="442" y="336"/>
                  </a:lnTo>
                  <a:lnTo>
                    <a:pt x="451" y="337"/>
                  </a:lnTo>
                  <a:lnTo>
                    <a:pt x="460" y="337"/>
                  </a:lnTo>
                  <a:lnTo>
                    <a:pt x="468" y="337"/>
                  </a:lnTo>
                  <a:lnTo>
                    <a:pt x="479" y="333"/>
                  </a:lnTo>
                  <a:lnTo>
                    <a:pt x="488" y="328"/>
                  </a:lnTo>
                  <a:lnTo>
                    <a:pt x="493" y="320"/>
                  </a:lnTo>
                  <a:lnTo>
                    <a:pt x="499" y="309"/>
                  </a:lnTo>
                  <a:lnTo>
                    <a:pt x="503" y="300"/>
                  </a:lnTo>
                  <a:lnTo>
                    <a:pt x="506" y="290"/>
                  </a:lnTo>
                  <a:lnTo>
                    <a:pt x="511" y="280"/>
                  </a:lnTo>
                  <a:lnTo>
                    <a:pt x="514" y="272"/>
                  </a:lnTo>
                  <a:lnTo>
                    <a:pt x="522" y="255"/>
                  </a:lnTo>
                  <a:lnTo>
                    <a:pt x="523" y="241"/>
                  </a:lnTo>
                  <a:lnTo>
                    <a:pt x="521" y="229"/>
                  </a:lnTo>
                  <a:lnTo>
                    <a:pt x="518" y="215"/>
                  </a:lnTo>
                  <a:lnTo>
                    <a:pt x="518" y="208"/>
                  </a:lnTo>
                  <a:lnTo>
                    <a:pt x="521" y="200"/>
                  </a:lnTo>
                  <a:lnTo>
                    <a:pt x="527" y="192"/>
                  </a:lnTo>
                  <a:lnTo>
                    <a:pt x="534" y="184"/>
                  </a:lnTo>
                  <a:lnTo>
                    <a:pt x="542" y="174"/>
                  </a:lnTo>
                  <a:lnTo>
                    <a:pt x="550" y="168"/>
                  </a:lnTo>
                  <a:lnTo>
                    <a:pt x="556" y="159"/>
                  </a:lnTo>
                  <a:lnTo>
                    <a:pt x="559" y="153"/>
                  </a:lnTo>
                  <a:lnTo>
                    <a:pt x="560" y="143"/>
                  </a:lnTo>
                  <a:lnTo>
                    <a:pt x="561" y="133"/>
                  </a:lnTo>
                  <a:lnTo>
                    <a:pt x="563" y="124"/>
                  </a:lnTo>
                  <a:lnTo>
                    <a:pt x="565" y="115"/>
                  </a:lnTo>
                  <a:lnTo>
                    <a:pt x="571" y="100"/>
                  </a:lnTo>
                  <a:lnTo>
                    <a:pt x="578" y="82"/>
                  </a:lnTo>
                  <a:lnTo>
                    <a:pt x="582" y="64"/>
                  </a:lnTo>
                  <a:lnTo>
                    <a:pt x="582" y="47"/>
                  </a:lnTo>
                  <a:lnTo>
                    <a:pt x="578" y="42"/>
                  </a:lnTo>
                  <a:lnTo>
                    <a:pt x="570" y="36"/>
                  </a:lnTo>
                  <a:lnTo>
                    <a:pt x="561" y="32"/>
                  </a:lnTo>
                  <a:lnTo>
                    <a:pt x="557" y="28"/>
                  </a:lnTo>
                  <a:lnTo>
                    <a:pt x="538" y="29"/>
                  </a:lnTo>
                  <a:lnTo>
                    <a:pt x="518" y="27"/>
                  </a:lnTo>
                  <a:lnTo>
                    <a:pt x="496" y="21"/>
                  </a:lnTo>
                  <a:lnTo>
                    <a:pt x="473" y="14"/>
                  </a:lnTo>
                  <a:lnTo>
                    <a:pt x="450" y="7"/>
                  </a:lnTo>
                  <a:lnTo>
                    <a:pt x="427" y="3"/>
                  </a:lnTo>
                  <a:lnTo>
                    <a:pt x="404" y="0"/>
                  </a:lnTo>
                  <a:lnTo>
                    <a:pt x="382" y="4"/>
                  </a:lnTo>
                  <a:lnTo>
                    <a:pt x="371" y="7"/>
                  </a:lnTo>
                  <a:lnTo>
                    <a:pt x="361" y="13"/>
                  </a:lnTo>
                  <a:lnTo>
                    <a:pt x="351" y="19"/>
                  </a:lnTo>
                  <a:lnTo>
                    <a:pt x="341" y="27"/>
                  </a:lnTo>
                  <a:lnTo>
                    <a:pt x="333" y="36"/>
                  </a:lnTo>
                  <a:lnTo>
                    <a:pt x="328" y="45"/>
                  </a:lnTo>
                  <a:lnTo>
                    <a:pt x="323" y="55"/>
                  </a:lnTo>
                  <a:lnTo>
                    <a:pt x="322" y="65"/>
                  </a:lnTo>
                  <a:lnTo>
                    <a:pt x="316" y="67"/>
                  </a:lnTo>
                  <a:lnTo>
                    <a:pt x="309" y="70"/>
                  </a:lnTo>
                  <a:lnTo>
                    <a:pt x="302" y="71"/>
                  </a:lnTo>
                  <a:lnTo>
                    <a:pt x="295" y="72"/>
                  </a:lnTo>
                  <a:lnTo>
                    <a:pt x="291" y="73"/>
                  </a:lnTo>
                  <a:lnTo>
                    <a:pt x="285" y="76"/>
                  </a:lnTo>
                  <a:lnTo>
                    <a:pt x="279" y="81"/>
                  </a:lnTo>
                  <a:lnTo>
                    <a:pt x="275" y="82"/>
                  </a:lnTo>
                  <a:lnTo>
                    <a:pt x="258" y="93"/>
                  </a:lnTo>
                  <a:lnTo>
                    <a:pt x="242" y="109"/>
                  </a:lnTo>
                  <a:lnTo>
                    <a:pt x="226" y="129"/>
                  </a:lnTo>
                  <a:lnTo>
                    <a:pt x="211" y="151"/>
                  </a:lnTo>
                  <a:lnTo>
                    <a:pt x="196" y="174"/>
                  </a:lnTo>
                  <a:lnTo>
                    <a:pt x="182" y="197"/>
                  </a:lnTo>
                  <a:lnTo>
                    <a:pt x="169" y="218"/>
                  </a:lnTo>
                  <a:lnTo>
                    <a:pt x="157" y="234"/>
                  </a:lnTo>
                  <a:lnTo>
                    <a:pt x="149" y="242"/>
                  </a:lnTo>
                  <a:lnTo>
                    <a:pt x="137" y="253"/>
                  </a:lnTo>
                  <a:lnTo>
                    <a:pt x="128" y="264"/>
                  </a:lnTo>
                  <a:lnTo>
                    <a:pt x="124" y="275"/>
                  </a:lnTo>
                  <a:lnTo>
                    <a:pt x="128" y="275"/>
                  </a:lnTo>
                  <a:lnTo>
                    <a:pt x="133" y="276"/>
                  </a:lnTo>
                  <a:lnTo>
                    <a:pt x="139" y="278"/>
                  </a:lnTo>
                  <a:lnTo>
                    <a:pt x="143" y="279"/>
                  </a:lnTo>
                  <a:lnTo>
                    <a:pt x="148" y="282"/>
                  </a:lnTo>
                  <a:lnTo>
                    <a:pt x="152" y="284"/>
                  </a:lnTo>
                  <a:lnTo>
                    <a:pt x="156" y="286"/>
                  </a:lnTo>
                  <a:lnTo>
                    <a:pt x="161" y="287"/>
                  </a:lnTo>
                  <a:lnTo>
                    <a:pt x="152" y="299"/>
                  </a:lnTo>
                  <a:lnTo>
                    <a:pt x="142" y="306"/>
                  </a:lnTo>
                  <a:lnTo>
                    <a:pt x="131" y="307"/>
                  </a:lnTo>
                  <a:lnTo>
                    <a:pt x="118" y="307"/>
                  </a:lnTo>
                  <a:lnTo>
                    <a:pt x="104" y="307"/>
                  </a:lnTo>
                  <a:lnTo>
                    <a:pt x="89" y="308"/>
                  </a:lnTo>
                  <a:lnTo>
                    <a:pt x="75" y="313"/>
                  </a:lnTo>
                  <a:lnTo>
                    <a:pt x="63" y="322"/>
                  </a:lnTo>
                  <a:lnTo>
                    <a:pt x="57" y="321"/>
                  </a:lnTo>
                  <a:lnTo>
                    <a:pt x="50" y="320"/>
                  </a:lnTo>
                  <a:lnTo>
                    <a:pt x="42" y="320"/>
                  </a:lnTo>
                  <a:lnTo>
                    <a:pt x="33" y="320"/>
                  </a:lnTo>
                  <a:lnTo>
                    <a:pt x="25" y="321"/>
                  </a:lnTo>
                  <a:lnTo>
                    <a:pt x="17" y="323"/>
                  </a:lnTo>
                  <a:lnTo>
                    <a:pt x="11" y="325"/>
                  </a:lnTo>
                  <a:lnTo>
                    <a:pt x="6" y="329"/>
                  </a:lnTo>
                  <a:lnTo>
                    <a:pt x="12" y="332"/>
                  </a:lnTo>
                  <a:lnTo>
                    <a:pt x="20" y="335"/>
                  </a:lnTo>
                  <a:lnTo>
                    <a:pt x="31" y="336"/>
                  </a:lnTo>
                  <a:lnTo>
                    <a:pt x="43" y="338"/>
                  </a:lnTo>
                  <a:lnTo>
                    <a:pt x="55" y="342"/>
                  </a:lnTo>
                  <a:lnTo>
                    <a:pt x="64" y="346"/>
                  </a:lnTo>
                  <a:lnTo>
                    <a:pt x="71" y="353"/>
                  </a:lnTo>
                  <a:lnTo>
                    <a:pt x="73" y="362"/>
                  </a:lnTo>
                  <a:lnTo>
                    <a:pt x="0" y="359"/>
                  </a:lnTo>
                  <a:lnTo>
                    <a:pt x="3" y="369"/>
                  </a:lnTo>
                  <a:lnTo>
                    <a:pt x="7" y="380"/>
                  </a:lnTo>
                  <a:lnTo>
                    <a:pt x="15" y="389"/>
                  </a:lnTo>
                  <a:lnTo>
                    <a:pt x="25" y="396"/>
                  </a:lnTo>
                  <a:lnTo>
                    <a:pt x="46" y="401"/>
                  </a:lnTo>
                  <a:lnTo>
                    <a:pt x="66" y="401"/>
                  </a:lnTo>
                  <a:lnTo>
                    <a:pt x="86" y="399"/>
                  </a:lnTo>
                  <a:lnTo>
                    <a:pt x="105" y="393"/>
                  </a:lnTo>
                  <a:lnTo>
                    <a:pt x="125" y="385"/>
                  </a:lnTo>
                  <a:lnTo>
                    <a:pt x="143" y="378"/>
                  </a:lnTo>
                  <a:lnTo>
                    <a:pt x="163" y="371"/>
                  </a:lnTo>
                  <a:lnTo>
                    <a:pt x="184" y="367"/>
                  </a:lnTo>
                  <a:lnTo>
                    <a:pt x="197" y="366"/>
                  </a:lnTo>
                  <a:lnTo>
                    <a:pt x="209" y="367"/>
                  </a:lnTo>
                  <a:lnTo>
                    <a:pt x="219" y="370"/>
                  </a:lnTo>
                  <a:lnTo>
                    <a:pt x="228" y="375"/>
                  </a:lnTo>
                  <a:lnTo>
                    <a:pt x="237" y="383"/>
                  </a:lnTo>
                  <a:lnTo>
                    <a:pt x="246" y="391"/>
                  </a:lnTo>
                  <a:lnTo>
                    <a:pt x="254" y="399"/>
                  </a:lnTo>
                  <a:lnTo>
                    <a:pt x="263" y="408"/>
                  </a:lnTo>
                  <a:lnTo>
                    <a:pt x="269" y="414"/>
                  </a:lnTo>
                  <a:lnTo>
                    <a:pt x="277" y="420"/>
                  </a:lnTo>
                  <a:lnTo>
                    <a:pt x="283" y="426"/>
                  </a:lnTo>
                  <a:lnTo>
                    <a:pt x="287" y="433"/>
                  </a:lnTo>
                  <a:lnTo>
                    <a:pt x="294" y="450"/>
                  </a:lnTo>
                  <a:lnTo>
                    <a:pt x="300" y="469"/>
                  </a:lnTo>
                  <a:lnTo>
                    <a:pt x="303" y="489"/>
                  </a:lnTo>
                  <a:lnTo>
                    <a:pt x="299" y="509"/>
                  </a:lnTo>
                  <a:lnTo>
                    <a:pt x="306" y="513"/>
                  </a:lnTo>
                  <a:lnTo>
                    <a:pt x="316" y="515"/>
                  </a:lnTo>
                  <a:lnTo>
                    <a:pt x="325" y="518"/>
                  </a:lnTo>
                  <a:lnTo>
                    <a:pt x="332" y="521"/>
                  </a:lnTo>
                  <a:close/>
                </a:path>
              </a:pathLst>
            </a:custGeom>
            <a:solidFill>
              <a:srgbClr val="0066cc">
                <a:alpha val="50000"/>
              </a:srgbClr>
            </a:solidFill>
            <a:ln w="9360">
              <a:solidFill>
                <a:srgbClr val="007c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4920" y="4595760"/>
              <a:ext cx="174960" cy="270000"/>
            </a:xfrm>
            <a:custGeom>
              <a:avLst/>
              <a:gdLst/>
              <a:ahLst/>
              <a:rect l="l" t="t" r="r" b="b"/>
              <a:pathLst>
                <a:path w="729" h="1076">
                  <a:moveTo>
                    <a:pt x="286" y="1048"/>
                  </a:moveTo>
                  <a:lnTo>
                    <a:pt x="286" y="1046"/>
                  </a:lnTo>
                  <a:lnTo>
                    <a:pt x="286" y="1036"/>
                  </a:lnTo>
                  <a:lnTo>
                    <a:pt x="287" y="1022"/>
                  </a:lnTo>
                  <a:lnTo>
                    <a:pt x="290" y="1005"/>
                  </a:lnTo>
                  <a:lnTo>
                    <a:pt x="294" y="987"/>
                  </a:lnTo>
                  <a:lnTo>
                    <a:pt x="301" y="970"/>
                  </a:lnTo>
                  <a:lnTo>
                    <a:pt x="309" y="957"/>
                  </a:lnTo>
                  <a:lnTo>
                    <a:pt x="321" y="951"/>
                  </a:lnTo>
                  <a:lnTo>
                    <a:pt x="333" y="947"/>
                  </a:lnTo>
                  <a:lnTo>
                    <a:pt x="347" y="939"/>
                  </a:lnTo>
                  <a:lnTo>
                    <a:pt x="362" y="930"/>
                  </a:lnTo>
                  <a:lnTo>
                    <a:pt x="377" y="918"/>
                  </a:lnTo>
                  <a:lnTo>
                    <a:pt x="391" y="904"/>
                  </a:lnTo>
                  <a:lnTo>
                    <a:pt x="403" y="891"/>
                  </a:lnTo>
                  <a:lnTo>
                    <a:pt x="410" y="877"/>
                  </a:lnTo>
                  <a:lnTo>
                    <a:pt x="414" y="863"/>
                  </a:lnTo>
                  <a:lnTo>
                    <a:pt x="403" y="858"/>
                  </a:lnTo>
                  <a:lnTo>
                    <a:pt x="394" y="851"/>
                  </a:lnTo>
                  <a:lnTo>
                    <a:pt x="387" y="845"/>
                  </a:lnTo>
                  <a:lnTo>
                    <a:pt x="383" y="836"/>
                  </a:lnTo>
                  <a:lnTo>
                    <a:pt x="389" y="821"/>
                  </a:lnTo>
                  <a:lnTo>
                    <a:pt x="396" y="805"/>
                  </a:lnTo>
                  <a:lnTo>
                    <a:pt x="403" y="789"/>
                  </a:lnTo>
                  <a:lnTo>
                    <a:pt x="411" y="772"/>
                  </a:lnTo>
                  <a:lnTo>
                    <a:pt x="419" y="756"/>
                  </a:lnTo>
                  <a:lnTo>
                    <a:pt x="430" y="740"/>
                  </a:lnTo>
                  <a:lnTo>
                    <a:pt x="441" y="724"/>
                  </a:lnTo>
                  <a:lnTo>
                    <a:pt x="455" y="707"/>
                  </a:lnTo>
                  <a:lnTo>
                    <a:pt x="444" y="679"/>
                  </a:lnTo>
                  <a:lnTo>
                    <a:pt x="434" y="637"/>
                  </a:lnTo>
                  <a:lnTo>
                    <a:pt x="429" y="596"/>
                  </a:lnTo>
                  <a:lnTo>
                    <a:pt x="429" y="563"/>
                  </a:lnTo>
                  <a:lnTo>
                    <a:pt x="432" y="560"/>
                  </a:lnTo>
                  <a:lnTo>
                    <a:pt x="441" y="555"/>
                  </a:lnTo>
                  <a:lnTo>
                    <a:pt x="454" y="552"/>
                  </a:lnTo>
                  <a:lnTo>
                    <a:pt x="469" y="548"/>
                  </a:lnTo>
                  <a:lnTo>
                    <a:pt x="484" y="545"/>
                  </a:lnTo>
                  <a:lnTo>
                    <a:pt x="498" y="543"/>
                  </a:lnTo>
                  <a:lnTo>
                    <a:pt x="509" y="540"/>
                  </a:lnTo>
                  <a:lnTo>
                    <a:pt x="516" y="538"/>
                  </a:lnTo>
                  <a:lnTo>
                    <a:pt x="518" y="523"/>
                  </a:lnTo>
                  <a:lnTo>
                    <a:pt x="524" y="510"/>
                  </a:lnTo>
                  <a:lnTo>
                    <a:pt x="532" y="498"/>
                  </a:lnTo>
                  <a:lnTo>
                    <a:pt x="542" y="486"/>
                  </a:lnTo>
                  <a:lnTo>
                    <a:pt x="551" y="475"/>
                  </a:lnTo>
                  <a:lnTo>
                    <a:pt x="558" y="462"/>
                  </a:lnTo>
                  <a:lnTo>
                    <a:pt x="562" y="449"/>
                  </a:lnTo>
                  <a:lnTo>
                    <a:pt x="562" y="434"/>
                  </a:lnTo>
                  <a:lnTo>
                    <a:pt x="565" y="424"/>
                  </a:lnTo>
                  <a:lnTo>
                    <a:pt x="570" y="408"/>
                  </a:lnTo>
                  <a:lnTo>
                    <a:pt x="578" y="388"/>
                  </a:lnTo>
                  <a:lnTo>
                    <a:pt x="589" y="368"/>
                  </a:lnTo>
                  <a:lnTo>
                    <a:pt x="599" y="347"/>
                  </a:lnTo>
                  <a:lnTo>
                    <a:pt x="608" y="327"/>
                  </a:lnTo>
                  <a:lnTo>
                    <a:pt x="615" y="311"/>
                  </a:lnTo>
                  <a:lnTo>
                    <a:pt x="619" y="301"/>
                  </a:lnTo>
                  <a:lnTo>
                    <a:pt x="624" y="295"/>
                  </a:lnTo>
                  <a:lnTo>
                    <a:pt x="660" y="301"/>
                  </a:lnTo>
                  <a:lnTo>
                    <a:pt x="671" y="295"/>
                  </a:lnTo>
                  <a:lnTo>
                    <a:pt x="683" y="287"/>
                  </a:lnTo>
                  <a:lnTo>
                    <a:pt x="697" y="276"/>
                  </a:lnTo>
                  <a:lnTo>
                    <a:pt x="711" y="264"/>
                  </a:lnTo>
                  <a:lnTo>
                    <a:pt x="721" y="251"/>
                  </a:lnTo>
                  <a:lnTo>
                    <a:pt x="728" y="237"/>
                  </a:lnTo>
                  <a:lnTo>
                    <a:pt x="729" y="225"/>
                  </a:lnTo>
                  <a:lnTo>
                    <a:pt x="722" y="212"/>
                  </a:lnTo>
                  <a:lnTo>
                    <a:pt x="718" y="217"/>
                  </a:lnTo>
                  <a:lnTo>
                    <a:pt x="714" y="219"/>
                  </a:lnTo>
                  <a:lnTo>
                    <a:pt x="709" y="221"/>
                  </a:lnTo>
                  <a:lnTo>
                    <a:pt x="702" y="222"/>
                  </a:lnTo>
                  <a:lnTo>
                    <a:pt x="697" y="203"/>
                  </a:lnTo>
                  <a:lnTo>
                    <a:pt x="699" y="183"/>
                  </a:lnTo>
                  <a:lnTo>
                    <a:pt x="706" y="165"/>
                  </a:lnTo>
                  <a:lnTo>
                    <a:pt x="717" y="151"/>
                  </a:lnTo>
                  <a:lnTo>
                    <a:pt x="711" y="141"/>
                  </a:lnTo>
                  <a:lnTo>
                    <a:pt x="702" y="131"/>
                  </a:lnTo>
                  <a:lnTo>
                    <a:pt x="690" y="122"/>
                  </a:lnTo>
                  <a:lnTo>
                    <a:pt x="677" y="114"/>
                  </a:lnTo>
                  <a:lnTo>
                    <a:pt x="661" y="107"/>
                  </a:lnTo>
                  <a:lnTo>
                    <a:pt x="645" y="100"/>
                  </a:lnTo>
                  <a:lnTo>
                    <a:pt x="628" y="94"/>
                  </a:lnTo>
                  <a:lnTo>
                    <a:pt x="609" y="89"/>
                  </a:lnTo>
                  <a:lnTo>
                    <a:pt x="591" y="84"/>
                  </a:lnTo>
                  <a:lnTo>
                    <a:pt x="571" y="79"/>
                  </a:lnTo>
                  <a:lnTo>
                    <a:pt x="553" y="75"/>
                  </a:lnTo>
                  <a:lnTo>
                    <a:pt x="536" y="71"/>
                  </a:lnTo>
                  <a:lnTo>
                    <a:pt x="518" y="67"/>
                  </a:lnTo>
                  <a:lnTo>
                    <a:pt x="502" y="63"/>
                  </a:lnTo>
                  <a:lnTo>
                    <a:pt x="487" y="61"/>
                  </a:lnTo>
                  <a:lnTo>
                    <a:pt x="475" y="58"/>
                  </a:lnTo>
                  <a:lnTo>
                    <a:pt x="465" y="53"/>
                  </a:lnTo>
                  <a:lnTo>
                    <a:pt x="463" y="47"/>
                  </a:lnTo>
                  <a:lnTo>
                    <a:pt x="465" y="40"/>
                  </a:lnTo>
                  <a:lnTo>
                    <a:pt x="471" y="33"/>
                  </a:lnTo>
                  <a:lnTo>
                    <a:pt x="479" y="26"/>
                  </a:lnTo>
                  <a:lnTo>
                    <a:pt x="487" y="21"/>
                  </a:lnTo>
                  <a:lnTo>
                    <a:pt x="493" y="17"/>
                  </a:lnTo>
                  <a:lnTo>
                    <a:pt x="495" y="16"/>
                  </a:lnTo>
                  <a:lnTo>
                    <a:pt x="495" y="6"/>
                  </a:lnTo>
                  <a:lnTo>
                    <a:pt x="489" y="1"/>
                  </a:lnTo>
                  <a:lnTo>
                    <a:pt x="475" y="0"/>
                  </a:lnTo>
                  <a:lnTo>
                    <a:pt x="455" y="1"/>
                  </a:lnTo>
                  <a:lnTo>
                    <a:pt x="433" y="3"/>
                  </a:lnTo>
                  <a:lnTo>
                    <a:pt x="410" y="6"/>
                  </a:lnTo>
                  <a:lnTo>
                    <a:pt x="388" y="8"/>
                  </a:lnTo>
                  <a:lnTo>
                    <a:pt x="372" y="10"/>
                  </a:lnTo>
                  <a:lnTo>
                    <a:pt x="362" y="11"/>
                  </a:lnTo>
                  <a:lnTo>
                    <a:pt x="323" y="219"/>
                  </a:lnTo>
                  <a:lnTo>
                    <a:pt x="318" y="234"/>
                  </a:lnTo>
                  <a:lnTo>
                    <a:pt x="310" y="248"/>
                  </a:lnTo>
                  <a:lnTo>
                    <a:pt x="298" y="262"/>
                  </a:lnTo>
                  <a:lnTo>
                    <a:pt x="287" y="273"/>
                  </a:lnTo>
                  <a:lnTo>
                    <a:pt x="275" y="286"/>
                  </a:lnTo>
                  <a:lnTo>
                    <a:pt x="263" y="298"/>
                  </a:lnTo>
                  <a:lnTo>
                    <a:pt x="253" y="312"/>
                  </a:lnTo>
                  <a:lnTo>
                    <a:pt x="245" y="327"/>
                  </a:lnTo>
                  <a:lnTo>
                    <a:pt x="238" y="339"/>
                  </a:lnTo>
                  <a:lnTo>
                    <a:pt x="228" y="353"/>
                  </a:lnTo>
                  <a:lnTo>
                    <a:pt x="214" y="369"/>
                  </a:lnTo>
                  <a:lnTo>
                    <a:pt x="199" y="385"/>
                  </a:lnTo>
                  <a:lnTo>
                    <a:pt x="185" y="401"/>
                  </a:lnTo>
                  <a:lnTo>
                    <a:pt x="175" y="417"/>
                  </a:lnTo>
                  <a:lnTo>
                    <a:pt x="169" y="432"/>
                  </a:lnTo>
                  <a:lnTo>
                    <a:pt x="171" y="445"/>
                  </a:lnTo>
                  <a:lnTo>
                    <a:pt x="154" y="472"/>
                  </a:lnTo>
                  <a:lnTo>
                    <a:pt x="132" y="502"/>
                  </a:lnTo>
                  <a:lnTo>
                    <a:pt x="109" y="535"/>
                  </a:lnTo>
                  <a:lnTo>
                    <a:pt x="88" y="566"/>
                  </a:lnTo>
                  <a:lnTo>
                    <a:pt x="71" y="598"/>
                  </a:lnTo>
                  <a:lnTo>
                    <a:pt x="62" y="630"/>
                  </a:lnTo>
                  <a:lnTo>
                    <a:pt x="66" y="660"/>
                  </a:lnTo>
                  <a:lnTo>
                    <a:pt x="84" y="688"/>
                  </a:lnTo>
                  <a:lnTo>
                    <a:pt x="78" y="694"/>
                  </a:lnTo>
                  <a:lnTo>
                    <a:pt x="73" y="698"/>
                  </a:lnTo>
                  <a:lnTo>
                    <a:pt x="69" y="704"/>
                  </a:lnTo>
                  <a:lnTo>
                    <a:pt x="67" y="711"/>
                  </a:lnTo>
                  <a:lnTo>
                    <a:pt x="76" y="714"/>
                  </a:lnTo>
                  <a:lnTo>
                    <a:pt x="85" y="718"/>
                  </a:lnTo>
                  <a:lnTo>
                    <a:pt x="94" y="721"/>
                  </a:lnTo>
                  <a:lnTo>
                    <a:pt x="104" y="725"/>
                  </a:lnTo>
                  <a:lnTo>
                    <a:pt x="112" y="730"/>
                  </a:lnTo>
                  <a:lnTo>
                    <a:pt x="118" y="739"/>
                  </a:lnTo>
                  <a:lnTo>
                    <a:pt x="121" y="748"/>
                  </a:lnTo>
                  <a:lnTo>
                    <a:pt x="121" y="762"/>
                  </a:lnTo>
                  <a:lnTo>
                    <a:pt x="120" y="773"/>
                  </a:lnTo>
                  <a:lnTo>
                    <a:pt x="116" y="787"/>
                  </a:lnTo>
                  <a:lnTo>
                    <a:pt x="111" y="804"/>
                  </a:lnTo>
                  <a:lnTo>
                    <a:pt x="105" y="820"/>
                  </a:lnTo>
                  <a:lnTo>
                    <a:pt x="97" y="838"/>
                  </a:lnTo>
                  <a:lnTo>
                    <a:pt x="88" y="851"/>
                  </a:lnTo>
                  <a:lnTo>
                    <a:pt x="79" y="863"/>
                  </a:lnTo>
                  <a:lnTo>
                    <a:pt x="70" y="870"/>
                  </a:lnTo>
                  <a:lnTo>
                    <a:pt x="69" y="886"/>
                  </a:lnTo>
                  <a:lnTo>
                    <a:pt x="66" y="906"/>
                  </a:lnTo>
                  <a:lnTo>
                    <a:pt x="60" y="927"/>
                  </a:lnTo>
                  <a:lnTo>
                    <a:pt x="52" y="949"/>
                  </a:lnTo>
                  <a:lnTo>
                    <a:pt x="43" y="969"/>
                  </a:lnTo>
                  <a:lnTo>
                    <a:pt x="31" y="986"/>
                  </a:lnTo>
                  <a:lnTo>
                    <a:pt x="18" y="997"/>
                  </a:lnTo>
                  <a:lnTo>
                    <a:pt x="3" y="1001"/>
                  </a:lnTo>
                  <a:lnTo>
                    <a:pt x="3" y="1006"/>
                  </a:lnTo>
                  <a:lnTo>
                    <a:pt x="2" y="1012"/>
                  </a:lnTo>
                  <a:lnTo>
                    <a:pt x="0" y="1016"/>
                  </a:lnTo>
                  <a:lnTo>
                    <a:pt x="0" y="1022"/>
                  </a:lnTo>
                  <a:lnTo>
                    <a:pt x="10" y="1022"/>
                  </a:lnTo>
                  <a:lnTo>
                    <a:pt x="21" y="1022"/>
                  </a:lnTo>
                  <a:lnTo>
                    <a:pt x="32" y="1021"/>
                  </a:lnTo>
                  <a:lnTo>
                    <a:pt x="44" y="1021"/>
                  </a:lnTo>
                  <a:lnTo>
                    <a:pt x="54" y="1021"/>
                  </a:lnTo>
                  <a:lnTo>
                    <a:pt x="66" y="1022"/>
                  </a:lnTo>
                  <a:lnTo>
                    <a:pt x="76" y="1023"/>
                  </a:lnTo>
                  <a:lnTo>
                    <a:pt x="86" y="1025"/>
                  </a:lnTo>
                  <a:lnTo>
                    <a:pt x="98" y="1030"/>
                  </a:lnTo>
                  <a:lnTo>
                    <a:pt x="109" y="1035"/>
                  </a:lnTo>
                  <a:lnTo>
                    <a:pt x="122" y="1040"/>
                  </a:lnTo>
                  <a:lnTo>
                    <a:pt x="134" y="1046"/>
                  </a:lnTo>
                  <a:lnTo>
                    <a:pt x="146" y="1053"/>
                  </a:lnTo>
                  <a:lnTo>
                    <a:pt x="159" y="1059"/>
                  </a:lnTo>
                  <a:lnTo>
                    <a:pt x="172" y="1065"/>
                  </a:lnTo>
                  <a:lnTo>
                    <a:pt x="184" y="1069"/>
                  </a:lnTo>
                  <a:lnTo>
                    <a:pt x="197" y="1073"/>
                  </a:lnTo>
                  <a:lnTo>
                    <a:pt x="210" y="1075"/>
                  </a:lnTo>
                  <a:lnTo>
                    <a:pt x="222" y="1076"/>
                  </a:lnTo>
                  <a:lnTo>
                    <a:pt x="235" y="1075"/>
                  </a:lnTo>
                  <a:lnTo>
                    <a:pt x="248" y="1073"/>
                  </a:lnTo>
                  <a:lnTo>
                    <a:pt x="260" y="1067"/>
                  </a:lnTo>
                  <a:lnTo>
                    <a:pt x="273" y="1059"/>
                  </a:lnTo>
                  <a:lnTo>
                    <a:pt x="286" y="1048"/>
                  </a:lnTo>
                  <a:close/>
                </a:path>
              </a:pathLst>
            </a:custGeom>
            <a:solidFill>
              <a:srgbClr val="0066cc">
                <a:alpha val="50000"/>
              </a:srgbClr>
            </a:solidFill>
            <a:ln w="9360">
              <a:solidFill>
                <a:srgbClr val="007c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1520" y="4515840"/>
              <a:ext cx="493560" cy="445320"/>
            </a:xfrm>
            <a:custGeom>
              <a:avLst/>
              <a:gdLst/>
              <a:ahLst/>
              <a:rect l="l" t="t" r="r" b="b"/>
              <a:pathLst>
                <a:path w="2060" h="1772">
                  <a:moveTo>
                    <a:pt x="1548" y="1418"/>
                  </a:moveTo>
                  <a:lnTo>
                    <a:pt x="1537" y="1425"/>
                  </a:lnTo>
                  <a:lnTo>
                    <a:pt x="1526" y="1431"/>
                  </a:lnTo>
                  <a:lnTo>
                    <a:pt x="1518" y="1437"/>
                  </a:lnTo>
                  <a:lnTo>
                    <a:pt x="1513" y="1443"/>
                  </a:lnTo>
                  <a:lnTo>
                    <a:pt x="1507" y="1448"/>
                  </a:lnTo>
                  <a:lnTo>
                    <a:pt x="1502" y="1455"/>
                  </a:lnTo>
                  <a:lnTo>
                    <a:pt x="1498" y="1464"/>
                  </a:lnTo>
                  <a:lnTo>
                    <a:pt x="1492" y="1475"/>
                  </a:lnTo>
                  <a:lnTo>
                    <a:pt x="1496" y="1478"/>
                  </a:lnTo>
                  <a:lnTo>
                    <a:pt x="1501" y="1483"/>
                  </a:lnTo>
                  <a:lnTo>
                    <a:pt x="1507" y="1486"/>
                  </a:lnTo>
                  <a:lnTo>
                    <a:pt x="1514" y="1489"/>
                  </a:lnTo>
                  <a:lnTo>
                    <a:pt x="1519" y="1492"/>
                  </a:lnTo>
                  <a:lnTo>
                    <a:pt x="1526" y="1493"/>
                  </a:lnTo>
                  <a:lnTo>
                    <a:pt x="1532" y="1496"/>
                  </a:lnTo>
                  <a:lnTo>
                    <a:pt x="1538" y="1496"/>
                  </a:lnTo>
                  <a:lnTo>
                    <a:pt x="1545" y="1487"/>
                  </a:lnTo>
                  <a:lnTo>
                    <a:pt x="1552" y="1481"/>
                  </a:lnTo>
                  <a:lnTo>
                    <a:pt x="1558" y="1472"/>
                  </a:lnTo>
                  <a:lnTo>
                    <a:pt x="1564" y="1466"/>
                  </a:lnTo>
                  <a:lnTo>
                    <a:pt x="1570" y="1459"/>
                  </a:lnTo>
                  <a:lnTo>
                    <a:pt x="1576" y="1453"/>
                  </a:lnTo>
                  <a:lnTo>
                    <a:pt x="1583" y="1448"/>
                  </a:lnTo>
                  <a:lnTo>
                    <a:pt x="1590" y="1444"/>
                  </a:lnTo>
                  <a:lnTo>
                    <a:pt x="1585" y="1437"/>
                  </a:lnTo>
                  <a:lnTo>
                    <a:pt x="1582" y="1432"/>
                  </a:lnTo>
                  <a:lnTo>
                    <a:pt x="1576" y="1428"/>
                  </a:lnTo>
                  <a:lnTo>
                    <a:pt x="1571" y="1425"/>
                  </a:lnTo>
                  <a:lnTo>
                    <a:pt x="1566" y="1423"/>
                  </a:lnTo>
                  <a:lnTo>
                    <a:pt x="1560" y="1422"/>
                  </a:lnTo>
                  <a:lnTo>
                    <a:pt x="1554" y="1419"/>
                  </a:lnTo>
                  <a:lnTo>
                    <a:pt x="1548" y="1418"/>
                  </a:lnTo>
                  <a:close/>
                  <a:moveTo>
                    <a:pt x="1759" y="1341"/>
                  </a:moveTo>
                  <a:lnTo>
                    <a:pt x="1740" y="1340"/>
                  </a:lnTo>
                  <a:lnTo>
                    <a:pt x="1727" y="1342"/>
                  </a:lnTo>
                  <a:lnTo>
                    <a:pt x="1720" y="1348"/>
                  </a:lnTo>
                  <a:lnTo>
                    <a:pt x="1719" y="1356"/>
                  </a:lnTo>
                  <a:lnTo>
                    <a:pt x="1722" y="1365"/>
                  </a:lnTo>
                  <a:lnTo>
                    <a:pt x="1731" y="1375"/>
                  </a:lnTo>
                  <a:lnTo>
                    <a:pt x="1743" y="1381"/>
                  </a:lnTo>
                  <a:lnTo>
                    <a:pt x="1759" y="1387"/>
                  </a:lnTo>
                  <a:lnTo>
                    <a:pt x="1760" y="1402"/>
                  </a:lnTo>
                  <a:lnTo>
                    <a:pt x="1763" y="1415"/>
                  </a:lnTo>
                  <a:lnTo>
                    <a:pt x="1766" y="1428"/>
                  </a:lnTo>
                  <a:lnTo>
                    <a:pt x="1770" y="1439"/>
                  </a:lnTo>
                  <a:lnTo>
                    <a:pt x="1789" y="1437"/>
                  </a:lnTo>
                  <a:lnTo>
                    <a:pt x="1806" y="1432"/>
                  </a:lnTo>
                  <a:lnTo>
                    <a:pt x="1821" y="1424"/>
                  </a:lnTo>
                  <a:lnTo>
                    <a:pt x="1836" y="1415"/>
                  </a:lnTo>
                  <a:lnTo>
                    <a:pt x="1851" y="1407"/>
                  </a:lnTo>
                  <a:lnTo>
                    <a:pt x="1866" y="1399"/>
                  </a:lnTo>
                  <a:lnTo>
                    <a:pt x="1884" y="1394"/>
                  </a:lnTo>
                  <a:lnTo>
                    <a:pt x="1903" y="1392"/>
                  </a:lnTo>
                  <a:lnTo>
                    <a:pt x="1902" y="1383"/>
                  </a:lnTo>
                  <a:lnTo>
                    <a:pt x="1899" y="1376"/>
                  </a:lnTo>
                  <a:lnTo>
                    <a:pt x="1894" y="1371"/>
                  </a:lnTo>
                  <a:lnTo>
                    <a:pt x="1888" y="1368"/>
                  </a:lnTo>
                  <a:lnTo>
                    <a:pt x="1881" y="1366"/>
                  </a:lnTo>
                  <a:lnTo>
                    <a:pt x="1873" y="1366"/>
                  </a:lnTo>
                  <a:lnTo>
                    <a:pt x="1865" y="1366"/>
                  </a:lnTo>
                  <a:lnTo>
                    <a:pt x="1857" y="1366"/>
                  </a:lnTo>
                  <a:lnTo>
                    <a:pt x="1849" y="1354"/>
                  </a:lnTo>
                  <a:lnTo>
                    <a:pt x="1842" y="1346"/>
                  </a:lnTo>
                  <a:lnTo>
                    <a:pt x="1833" y="1341"/>
                  </a:lnTo>
                  <a:lnTo>
                    <a:pt x="1824" y="1340"/>
                  </a:lnTo>
                  <a:lnTo>
                    <a:pt x="1812" y="1340"/>
                  </a:lnTo>
                  <a:lnTo>
                    <a:pt x="1798" y="1341"/>
                  </a:lnTo>
                  <a:lnTo>
                    <a:pt x="1780" y="1342"/>
                  </a:lnTo>
                  <a:lnTo>
                    <a:pt x="1759" y="1341"/>
                  </a:lnTo>
                  <a:close/>
                  <a:moveTo>
                    <a:pt x="1986" y="1331"/>
                  </a:moveTo>
                  <a:lnTo>
                    <a:pt x="1978" y="1332"/>
                  </a:lnTo>
                  <a:lnTo>
                    <a:pt x="1969" y="1337"/>
                  </a:lnTo>
                  <a:lnTo>
                    <a:pt x="1961" y="1341"/>
                  </a:lnTo>
                  <a:lnTo>
                    <a:pt x="1955" y="1346"/>
                  </a:lnTo>
                  <a:lnTo>
                    <a:pt x="1958" y="1354"/>
                  </a:lnTo>
                  <a:lnTo>
                    <a:pt x="1967" y="1362"/>
                  </a:lnTo>
                  <a:lnTo>
                    <a:pt x="1978" y="1370"/>
                  </a:lnTo>
                  <a:lnTo>
                    <a:pt x="1993" y="1377"/>
                  </a:lnTo>
                  <a:lnTo>
                    <a:pt x="2008" y="1384"/>
                  </a:lnTo>
                  <a:lnTo>
                    <a:pt x="2022" y="1390"/>
                  </a:lnTo>
                  <a:lnTo>
                    <a:pt x="2034" y="1394"/>
                  </a:lnTo>
                  <a:lnTo>
                    <a:pt x="2043" y="1398"/>
                  </a:lnTo>
                  <a:lnTo>
                    <a:pt x="2055" y="1381"/>
                  </a:lnTo>
                  <a:lnTo>
                    <a:pt x="2060" y="1369"/>
                  </a:lnTo>
                  <a:lnTo>
                    <a:pt x="2059" y="1357"/>
                  </a:lnTo>
                  <a:lnTo>
                    <a:pt x="2051" y="1348"/>
                  </a:lnTo>
                  <a:lnTo>
                    <a:pt x="2038" y="1342"/>
                  </a:lnTo>
                  <a:lnTo>
                    <a:pt x="2023" y="1337"/>
                  </a:lnTo>
                  <a:lnTo>
                    <a:pt x="2005" y="1333"/>
                  </a:lnTo>
                  <a:lnTo>
                    <a:pt x="1986" y="1331"/>
                  </a:lnTo>
                  <a:close/>
                  <a:moveTo>
                    <a:pt x="1698" y="700"/>
                  </a:moveTo>
                  <a:lnTo>
                    <a:pt x="1692" y="700"/>
                  </a:lnTo>
                  <a:lnTo>
                    <a:pt x="1687" y="700"/>
                  </a:lnTo>
                  <a:lnTo>
                    <a:pt x="1681" y="700"/>
                  </a:lnTo>
                  <a:lnTo>
                    <a:pt x="1675" y="702"/>
                  </a:lnTo>
                  <a:lnTo>
                    <a:pt x="1670" y="703"/>
                  </a:lnTo>
                  <a:lnTo>
                    <a:pt x="1665" y="705"/>
                  </a:lnTo>
                  <a:lnTo>
                    <a:pt x="1661" y="707"/>
                  </a:lnTo>
                  <a:lnTo>
                    <a:pt x="1657" y="711"/>
                  </a:lnTo>
                  <a:lnTo>
                    <a:pt x="1659" y="724"/>
                  </a:lnTo>
                  <a:lnTo>
                    <a:pt x="1664" y="737"/>
                  </a:lnTo>
                  <a:lnTo>
                    <a:pt x="1669" y="750"/>
                  </a:lnTo>
                  <a:lnTo>
                    <a:pt x="1677" y="763"/>
                  </a:lnTo>
                  <a:lnTo>
                    <a:pt x="1692" y="763"/>
                  </a:lnTo>
                  <a:lnTo>
                    <a:pt x="1705" y="762"/>
                  </a:lnTo>
                  <a:lnTo>
                    <a:pt x="1714" y="759"/>
                  </a:lnTo>
                  <a:lnTo>
                    <a:pt x="1721" y="757"/>
                  </a:lnTo>
                  <a:lnTo>
                    <a:pt x="1728" y="752"/>
                  </a:lnTo>
                  <a:lnTo>
                    <a:pt x="1736" y="745"/>
                  </a:lnTo>
                  <a:lnTo>
                    <a:pt x="1744" y="737"/>
                  </a:lnTo>
                  <a:lnTo>
                    <a:pt x="1755" y="727"/>
                  </a:lnTo>
                  <a:lnTo>
                    <a:pt x="1766" y="736"/>
                  </a:lnTo>
                  <a:lnTo>
                    <a:pt x="1779" y="747"/>
                  </a:lnTo>
                  <a:lnTo>
                    <a:pt x="1793" y="757"/>
                  </a:lnTo>
                  <a:lnTo>
                    <a:pt x="1806" y="768"/>
                  </a:lnTo>
                  <a:lnTo>
                    <a:pt x="1820" y="778"/>
                  </a:lnTo>
                  <a:lnTo>
                    <a:pt x="1833" y="786"/>
                  </a:lnTo>
                  <a:lnTo>
                    <a:pt x="1843" y="792"/>
                  </a:lnTo>
                  <a:lnTo>
                    <a:pt x="1852" y="794"/>
                  </a:lnTo>
                  <a:lnTo>
                    <a:pt x="1934" y="798"/>
                  </a:lnTo>
                  <a:lnTo>
                    <a:pt x="1938" y="804"/>
                  </a:lnTo>
                  <a:lnTo>
                    <a:pt x="1943" y="812"/>
                  </a:lnTo>
                  <a:lnTo>
                    <a:pt x="1950" y="819"/>
                  </a:lnTo>
                  <a:lnTo>
                    <a:pt x="1953" y="824"/>
                  </a:lnTo>
                  <a:lnTo>
                    <a:pt x="1953" y="831"/>
                  </a:lnTo>
                  <a:lnTo>
                    <a:pt x="1950" y="843"/>
                  </a:lnTo>
                  <a:lnTo>
                    <a:pt x="1946" y="858"/>
                  </a:lnTo>
                  <a:lnTo>
                    <a:pt x="1941" y="876"/>
                  </a:lnTo>
                  <a:lnTo>
                    <a:pt x="1934" y="892"/>
                  </a:lnTo>
                  <a:lnTo>
                    <a:pt x="1927" y="907"/>
                  </a:lnTo>
                  <a:lnTo>
                    <a:pt x="1922" y="917"/>
                  </a:lnTo>
                  <a:lnTo>
                    <a:pt x="1916" y="922"/>
                  </a:lnTo>
                  <a:lnTo>
                    <a:pt x="1791" y="976"/>
                  </a:lnTo>
                  <a:lnTo>
                    <a:pt x="1779" y="982"/>
                  </a:lnTo>
                  <a:lnTo>
                    <a:pt x="1766" y="986"/>
                  </a:lnTo>
                  <a:lnTo>
                    <a:pt x="1753" y="991"/>
                  </a:lnTo>
                  <a:lnTo>
                    <a:pt x="1740" y="995"/>
                  </a:lnTo>
                  <a:lnTo>
                    <a:pt x="1727" y="999"/>
                  </a:lnTo>
                  <a:lnTo>
                    <a:pt x="1713" y="1001"/>
                  </a:lnTo>
                  <a:lnTo>
                    <a:pt x="1700" y="1005"/>
                  </a:lnTo>
                  <a:lnTo>
                    <a:pt x="1687" y="1006"/>
                  </a:lnTo>
                  <a:lnTo>
                    <a:pt x="1673" y="1008"/>
                  </a:lnTo>
                  <a:lnTo>
                    <a:pt x="1660" y="1008"/>
                  </a:lnTo>
                  <a:lnTo>
                    <a:pt x="1646" y="1009"/>
                  </a:lnTo>
                  <a:lnTo>
                    <a:pt x="1632" y="1008"/>
                  </a:lnTo>
                  <a:lnTo>
                    <a:pt x="1620" y="1007"/>
                  </a:lnTo>
                  <a:lnTo>
                    <a:pt x="1606" y="1005"/>
                  </a:lnTo>
                  <a:lnTo>
                    <a:pt x="1592" y="1002"/>
                  </a:lnTo>
                  <a:lnTo>
                    <a:pt x="1579" y="999"/>
                  </a:lnTo>
                  <a:lnTo>
                    <a:pt x="1572" y="999"/>
                  </a:lnTo>
                  <a:lnTo>
                    <a:pt x="1563" y="1002"/>
                  </a:lnTo>
                  <a:lnTo>
                    <a:pt x="1552" y="1007"/>
                  </a:lnTo>
                  <a:lnTo>
                    <a:pt x="1540" y="1013"/>
                  </a:lnTo>
                  <a:lnTo>
                    <a:pt x="1529" y="1020"/>
                  </a:lnTo>
                  <a:lnTo>
                    <a:pt x="1518" y="1027"/>
                  </a:lnTo>
                  <a:lnTo>
                    <a:pt x="1510" y="1033"/>
                  </a:lnTo>
                  <a:lnTo>
                    <a:pt x="1506" y="1039"/>
                  </a:lnTo>
                  <a:lnTo>
                    <a:pt x="1501" y="1050"/>
                  </a:lnTo>
                  <a:lnTo>
                    <a:pt x="1495" y="1059"/>
                  </a:lnTo>
                  <a:lnTo>
                    <a:pt x="1490" y="1065"/>
                  </a:lnTo>
                  <a:lnTo>
                    <a:pt x="1481" y="1070"/>
                  </a:lnTo>
                  <a:lnTo>
                    <a:pt x="1473" y="1075"/>
                  </a:lnTo>
                  <a:lnTo>
                    <a:pt x="1464" y="1080"/>
                  </a:lnTo>
                  <a:lnTo>
                    <a:pt x="1455" y="1083"/>
                  </a:lnTo>
                  <a:lnTo>
                    <a:pt x="1445" y="1086"/>
                  </a:lnTo>
                  <a:lnTo>
                    <a:pt x="1437" y="1095"/>
                  </a:lnTo>
                  <a:lnTo>
                    <a:pt x="1430" y="1106"/>
                  </a:lnTo>
                  <a:lnTo>
                    <a:pt x="1424" y="1119"/>
                  </a:lnTo>
                  <a:lnTo>
                    <a:pt x="1415" y="1127"/>
                  </a:lnTo>
                  <a:lnTo>
                    <a:pt x="1399" y="1135"/>
                  </a:lnTo>
                  <a:lnTo>
                    <a:pt x="1381" y="1145"/>
                  </a:lnTo>
                  <a:lnTo>
                    <a:pt x="1362" y="1157"/>
                  </a:lnTo>
                  <a:lnTo>
                    <a:pt x="1342" y="1171"/>
                  </a:lnTo>
                  <a:lnTo>
                    <a:pt x="1325" y="1184"/>
                  </a:lnTo>
                  <a:lnTo>
                    <a:pt x="1310" y="1198"/>
                  </a:lnTo>
                  <a:lnTo>
                    <a:pt x="1301" y="1210"/>
                  </a:lnTo>
                  <a:lnTo>
                    <a:pt x="1297" y="1221"/>
                  </a:lnTo>
                  <a:lnTo>
                    <a:pt x="1293" y="1235"/>
                  </a:lnTo>
                  <a:lnTo>
                    <a:pt x="1283" y="1251"/>
                  </a:lnTo>
                  <a:lnTo>
                    <a:pt x="1274" y="1270"/>
                  </a:lnTo>
                  <a:lnTo>
                    <a:pt x="1265" y="1288"/>
                  </a:lnTo>
                  <a:lnTo>
                    <a:pt x="1257" y="1308"/>
                  </a:lnTo>
                  <a:lnTo>
                    <a:pt x="1253" y="1326"/>
                  </a:lnTo>
                  <a:lnTo>
                    <a:pt x="1257" y="1343"/>
                  </a:lnTo>
                  <a:lnTo>
                    <a:pt x="1267" y="1360"/>
                  </a:lnTo>
                  <a:lnTo>
                    <a:pt x="1261" y="1378"/>
                  </a:lnTo>
                  <a:lnTo>
                    <a:pt x="1263" y="1392"/>
                  </a:lnTo>
                  <a:lnTo>
                    <a:pt x="1269" y="1403"/>
                  </a:lnTo>
                  <a:lnTo>
                    <a:pt x="1279" y="1414"/>
                  </a:lnTo>
                  <a:lnTo>
                    <a:pt x="1290" y="1423"/>
                  </a:lnTo>
                  <a:lnTo>
                    <a:pt x="1298" y="1433"/>
                  </a:lnTo>
                  <a:lnTo>
                    <a:pt x="1304" y="1444"/>
                  </a:lnTo>
                  <a:lnTo>
                    <a:pt x="1304" y="1457"/>
                  </a:lnTo>
                  <a:lnTo>
                    <a:pt x="1299" y="1459"/>
                  </a:lnTo>
                  <a:lnTo>
                    <a:pt x="1294" y="1460"/>
                  </a:lnTo>
                  <a:lnTo>
                    <a:pt x="1290" y="1462"/>
                  </a:lnTo>
                  <a:lnTo>
                    <a:pt x="1287" y="1464"/>
                  </a:lnTo>
                  <a:lnTo>
                    <a:pt x="1275" y="1461"/>
                  </a:lnTo>
                  <a:lnTo>
                    <a:pt x="1266" y="1461"/>
                  </a:lnTo>
                  <a:lnTo>
                    <a:pt x="1259" y="1464"/>
                  </a:lnTo>
                  <a:lnTo>
                    <a:pt x="1252" y="1471"/>
                  </a:lnTo>
                  <a:lnTo>
                    <a:pt x="1248" y="1479"/>
                  </a:lnTo>
                  <a:lnTo>
                    <a:pt x="1243" y="1487"/>
                  </a:lnTo>
                  <a:lnTo>
                    <a:pt x="1238" y="1497"/>
                  </a:lnTo>
                  <a:lnTo>
                    <a:pt x="1234" y="1505"/>
                  </a:lnTo>
                  <a:lnTo>
                    <a:pt x="1229" y="1505"/>
                  </a:lnTo>
                  <a:lnTo>
                    <a:pt x="1223" y="1502"/>
                  </a:lnTo>
                  <a:lnTo>
                    <a:pt x="1220" y="1501"/>
                  </a:lnTo>
                  <a:lnTo>
                    <a:pt x="1216" y="1501"/>
                  </a:lnTo>
                  <a:lnTo>
                    <a:pt x="1196" y="1510"/>
                  </a:lnTo>
                  <a:lnTo>
                    <a:pt x="1174" y="1522"/>
                  </a:lnTo>
                  <a:lnTo>
                    <a:pt x="1152" y="1534"/>
                  </a:lnTo>
                  <a:lnTo>
                    <a:pt x="1134" y="1549"/>
                  </a:lnTo>
                  <a:lnTo>
                    <a:pt x="1117" y="1566"/>
                  </a:lnTo>
                  <a:lnTo>
                    <a:pt x="1108" y="1585"/>
                  </a:lnTo>
                  <a:lnTo>
                    <a:pt x="1107" y="1607"/>
                  </a:lnTo>
                  <a:lnTo>
                    <a:pt x="1115" y="1634"/>
                  </a:lnTo>
                  <a:lnTo>
                    <a:pt x="1113" y="1637"/>
                  </a:lnTo>
                  <a:lnTo>
                    <a:pt x="1110" y="1640"/>
                  </a:lnTo>
                  <a:lnTo>
                    <a:pt x="1108" y="1643"/>
                  </a:lnTo>
                  <a:lnTo>
                    <a:pt x="1106" y="1646"/>
                  </a:lnTo>
                  <a:lnTo>
                    <a:pt x="1087" y="1643"/>
                  </a:lnTo>
                  <a:lnTo>
                    <a:pt x="1069" y="1642"/>
                  </a:lnTo>
                  <a:lnTo>
                    <a:pt x="1051" y="1641"/>
                  </a:lnTo>
                  <a:lnTo>
                    <a:pt x="1032" y="1641"/>
                  </a:lnTo>
                  <a:lnTo>
                    <a:pt x="1015" y="1643"/>
                  </a:lnTo>
                  <a:lnTo>
                    <a:pt x="998" y="1645"/>
                  </a:lnTo>
                  <a:lnTo>
                    <a:pt x="980" y="1649"/>
                  </a:lnTo>
                  <a:lnTo>
                    <a:pt x="964" y="1653"/>
                  </a:lnTo>
                  <a:lnTo>
                    <a:pt x="911" y="1674"/>
                  </a:lnTo>
                  <a:lnTo>
                    <a:pt x="898" y="1683"/>
                  </a:lnTo>
                  <a:lnTo>
                    <a:pt x="888" y="1696"/>
                  </a:lnTo>
                  <a:lnTo>
                    <a:pt x="880" y="1711"/>
                  </a:lnTo>
                  <a:lnTo>
                    <a:pt x="872" y="1726"/>
                  </a:lnTo>
                  <a:lnTo>
                    <a:pt x="863" y="1741"/>
                  </a:lnTo>
                  <a:lnTo>
                    <a:pt x="852" y="1754"/>
                  </a:lnTo>
                  <a:lnTo>
                    <a:pt x="840" y="1763"/>
                  </a:lnTo>
                  <a:lnTo>
                    <a:pt x="824" y="1769"/>
                  </a:lnTo>
                  <a:lnTo>
                    <a:pt x="817" y="1769"/>
                  </a:lnTo>
                  <a:lnTo>
                    <a:pt x="809" y="1766"/>
                  </a:lnTo>
                  <a:lnTo>
                    <a:pt x="803" y="1762"/>
                  </a:lnTo>
                  <a:lnTo>
                    <a:pt x="796" y="1757"/>
                  </a:lnTo>
                  <a:lnTo>
                    <a:pt x="789" y="1752"/>
                  </a:lnTo>
                  <a:lnTo>
                    <a:pt x="782" y="1749"/>
                  </a:lnTo>
                  <a:lnTo>
                    <a:pt x="774" y="1747"/>
                  </a:lnTo>
                  <a:lnTo>
                    <a:pt x="766" y="1748"/>
                  </a:lnTo>
                  <a:lnTo>
                    <a:pt x="760" y="1751"/>
                  </a:lnTo>
                  <a:lnTo>
                    <a:pt x="754" y="1758"/>
                  </a:lnTo>
                  <a:lnTo>
                    <a:pt x="748" y="1766"/>
                  </a:lnTo>
                  <a:lnTo>
                    <a:pt x="743" y="1772"/>
                  </a:lnTo>
                  <a:lnTo>
                    <a:pt x="737" y="1766"/>
                  </a:lnTo>
                  <a:lnTo>
                    <a:pt x="727" y="1759"/>
                  </a:lnTo>
                  <a:lnTo>
                    <a:pt x="713" y="1750"/>
                  </a:lnTo>
                  <a:lnTo>
                    <a:pt x="699" y="1741"/>
                  </a:lnTo>
                  <a:lnTo>
                    <a:pt x="684" y="1732"/>
                  </a:lnTo>
                  <a:lnTo>
                    <a:pt x="670" y="1724"/>
                  </a:lnTo>
                  <a:lnTo>
                    <a:pt x="659" y="1718"/>
                  </a:lnTo>
                  <a:lnTo>
                    <a:pt x="652" y="1714"/>
                  </a:lnTo>
                  <a:lnTo>
                    <a:pt x="507" y="1664"/>
                  </a:lnTo>
                  <a:lnTo>
                    <a:pt x="489" y="1658"/>
                  </a:lnTo>
                  <a:lnTo>
                    <a:pt x="471" y="1657"/>
                  </a:lnTo>
                  <a:lnTo>
                    <a:pt x="453" y="1658"/>
                  </a:lnTo>
                  <a:lnTo>
                    <a:pt x="433" y="1661"/>
                  </a:lnTo>
                  <a:lnTo>
                    <a:pt x="415" y="1665"/>
                  </a:lnTo>
                  <a:lnTo>
                    <a:pt x="396" y="1667"/>
                  </a:lnTo>
                  <a:lnTo>
                    <a:pt x="378" y="1667"/>
                  </a:lnTo>
                  <a:lnTo>
                    <a:pt x="359" y="1664"/>
                  </a:lnTo>
                  <a:lnTo>
                    <a:pt x="348" y="1664"/>
                  </a:lnTo>
                  <a:lnTo>
                    <a:pt x="335" y="1669"/>
                  </a:lnTo>
                  <a:lnTo>
                    <a:pt x="320" y="1680"/>
                  </a:lnTo>
                  <a:lnTo>
                    <a:pt x="305" y="1691"/>
                  </a:lnTo>
                  <a:lnTo>
                    <a:pt x="290" y="1704"/>
                  </a:lnTo>
                  <a:lnTo>
                    <a:pt x="276" y="1717"/>
                  </a:lnTo>
                  <a:lnTo>
                    <a:pt x="265" y="1727"/>
                  </a:lnTo>
                  <a:lnTo>
                    <a:pt x="256" y="1734"/>
                  </a:lnTo>
                  <a:lnTo>
                    <a:pt x="248" y="1728"/>
                  </a:lnTo>
                  <a:lnTo>
                    <a:pt x="237" y="1722"/>
                  </a:lnTo>
                  <a:lnTo>
                    <a:pt x="227" y="1716"/>
                  </a:lnTo>
                  <a:lnTo>
                    <a:pt x="218" y="1708"/>
                  </a:lnTo>
                  <a:lnTo>
                    <a:pt x="208" y="1699"/>
                  </a:lnTo>
                  <a:lnTo>
                    <a:pt x="201" y="1690"/>
                  </a:lnTo>
                  <a:lnTo>
                    <a:pt x="197" y="1681"/>
                  </a:lnTo>
                  <a:lnTo>
                    <a:pt x="195" y="1671"/>
                  </a:lnTo>
                  <a:lnTo>
                    <a:pt x="174" y="1656"/>
                  </a:lnTo>
                  <a:lnTo>
                    <a:pt x="160" y="1637"/>
                  </a:lnTo>
                  <a:lnTo>
                    <a:pt x="153" y="1615"/>
                  </a:lnTo>
                  <a:lnTo>
                    <a:pt x="148" y="1592"/>
                  </a:lnTo>
                  <a:lnTo>
                    <a:pt x="147" y="1568"/>
                  </a:lnTo>
                  <a:lnTo>
                    <a:pt x="147" y="1544"/>
                  </a:lnTo>
                  <a:lnTo>
                    <a:pt x="145" y="1522"/>
                  </a:lnTo>
                  <a:lnTo>
                    <a:pt x="140" y="1501"/>
                  </a:lnTo>
                  <a:lnTo>
                    <a:pt x="131" y="1482"/>
                  </a:lnTo>
                  <a:lnTo>
                    <a:pt x="118" y="1462"/>
                  </a:lnTo>
                  <a:lnTo>
                    <a:pt x="101" y="1443"/>
                  </a:lnTo>
                  <a:lnTo>
                    <a:pt x="82" y="1424"/>
                  </a:lnTo>
                  <a:lnTo>
                    <a:pt x="60" y="1407"/>
                  </a:lnTo>
                  <a:lnTo>
                    <a:pt x="39" y="1391"/>
                  </a:lnTo>
                  <a:lnTo>
                    <a:pt x="18" y="1377"/>
                  </a:lnTo>
                  <a:lnTo>
                    <a:pt x="0" y="1366"/>
                  </a:lnTo>
                  <a:lnTo>
                    <a:pt x="0" y="1364"/>
                  </a:lnTo>
                  <a:lnTo>
                    <a:pt x="1" y="1354"/>
                  </a:lnTo>
                  <a:lnTo>
                    <a:pt x="3" y="1340"/>
                  </a:lnTo>
                  <a:lnTo>
                    <a:pt x="8" y="1323"/>
                  </a:lnTo>
                  <a:lnTo>
                    <a:pt x="12" y="1305"/>
                  </a:lnTo>
                  <a:lnTo>
                    <a:pt x="21" y="1288"/>
                  </a:lnTo>
                  <a:lnTo>
                    <a:pt x="30" y="1275"/>
                  </a:lnTo>
                  <a:lnTo>
                    <a:pt x="42" y="1269"/>
                  </a:lnTo>
                  <a:lnTo>
                    <a:pt x="54" y="1265"/>
                  </a:lnTo>
                  <a:lnTo>
                    <a:pt x="68" y="1257"/>
                  </a:lnTo>
                  <a:lnTo>
                    <a:pt x="83" y="1248"/>
                  </a:lnTo>
                  <a:lnTo>
                    <a:pt x="98" y="1236"/>
                  </a:lnTo>
                  <a:lnTo>
                    <a:pt x="112" y="1222"/>
                  </a:lnTo>
                  <a:lnTo>
                    <a:pt x="124" y="1209"/>
                  </a:lnTo>
                  <a:lnTo>
                    <a:pt x="131" y="1195"/>
                  </a:lnTo>
                  <a:lnTo>
                    <a:pt x="135" y="1181"/>
                  </a:lnTo>
                  <a:lnTo>
                    <a:pt x="124" y="1176"/>
                  </a:lnTo>
                  <a:lnTo>
                    <a:pt x="115" y="1169"/>
                  </a:lnTo>
                  <a:lnTo>
                    <a:pt x="108" y="1163"/>
                  </a:lnTo>
                  <a:lnTo>
                    <a:pt x="104" y="1154"/>
                  </a:lnTo>
                  <a:lnTo>
                    <a:pt x="110" y="1139"/>
                  </a:lnTo>
                  <a:lnTo>
                    <a:pt x="117" y="1123"/>
                  </a:lnTo>
                  <a:lnTo>
                    <a:pt x="124" y="1107"/>
                  </a:lnTo>
                  <a:lnTo>
                    <a:pt x="132" y="1090"/>
                  </a:lnTo>
                  <a:lnTo>
                    <a:pt x="140" y="1074"/>
                  </a:lnTo>
                  <a:lnTo>
                    <a:pt x="151" y="1058"/>
                  </a:lnTo>
                  <a:lnTo>
                    <a:pt x="162" y="1042"/>
                  </a:lnTo>
                  <a:lnTo>
                    <a:pt x="176" y="1025"/>
                  </a:lnTo>
                  <a:lnTo>
                    <a:pt x="165" y="997"/>
                  </a:lnTo>
                  <a:lnTo>
                    <a:pt x="155" y="955"/>
                  </a:lnTo>
                  <a:lnTo>
                    <a:pt x="150" y="914"/>
                  </a:lnTo>
                  <a:lnTo>
                    <a:pt x="150" y="881"/>
                  </a:lnTo>
                  <a:lnTo>
                    <a:pt x="153" y="878"/>
                  </a:lnTo>
                  <a:lnTo>
                    <a:pt x="162" y="873"/>
                  </a:lnTo>
                  <a:lnTo>
                    <a:pt x="175" y="870"/>
                  </a:lnTo>
                  <a:lnTo>
                    <a:pt x="190" y="866"/>
                  </a:lnTo>
                  <a:lnTo>
                    <a:pt x="205" y="863"/>
                  </a:lnTo>
                  <a:lnTo>
                    <a:pt x="219" y="861"/>
                  </a:lnTo>
                  <a:lnTo>
                    <a:pt x="230" y="858"/>
                  </a:lnTo>
                  <a:lnTo>
                    <a:pt x="237" y="856"/>
                  </a:lnTo>
                  <a:lnTo>
                    <a:pt x="239" y="841"/>
                  </a:lnTo>
                  <a:lnTo>
                    <a:pt x="245" y="828"/>
                  </a:lnTo>
                  <a:lnTo>
                    <a:pt x="253" y="816"/>
                  </a:lnTo>
                  <a:lnTo>
                    <a:pt x="263" y="804"/>
                  </a:lnTo>
                  <a:lnTo>
                    <a:pt x="272" y="793"/>
                  </a:lnTo>
                  <a:lnTo>
                    <a:pt x="279" y="780"/>
                  </a:lnTo>
                  <a:lnTo>
                    <a:pt x="283" y="767"/>
                  </a:lnTo>
                  <a:lnTo>
                    <a:pt x="283" y="752"/>
                  </a:lnTo>
                  <a:lnTo>
                    <a:pt x="286" y="742"/>
                  </a:lnTo>
                  <a:lnTo>
                    <a:pt x="291" y="726"/>
                  </a:lnTo>
                  <a:lnTo>
                    <a:pt x="299" y="706"/>
                  </a:lnTo>
                  <a:lnTo>
                    <a:pt x="310" y="686"/>
                  </a:lnTo>
                  <a:lnTo>
                    <a:pt x="320" y="665"/>
                  </a:lnTo>
                  <a:lnTo>
                    <a:pt x="329" y="645"/>
                  </a:lnTo>
                  <a:lnTo>
                    <a:pt x="336" y="629"/>
                  </a:lnTo>
                  <a:lnTo>
                    <a:pt x="340" y="619"/>
                  </a:lnTo>
                  <a:lnTo>
                    <a:pt x="345" y="613"/>
                  </a:lnTo>
                  <a:lnTo>
                    <a:pt x="381" y="619"/>
                  </a:lnTo>
                  <a:lnTo>
                    <a:pt x="392" y="613"/>
                  </a:lnTo>
                  <a:lnTo>
                    <a:pt x="404" y="605"/>
                  </a:lnTo>
                  <a:lnTo>
                    <a:pt x="418" y="594"/>
                  </a:lnTo>
                  <a:lnTo>
                    <a:pt x="432" y="582"/>
                  </a:lnTo>
                  <a:lnTo>
                    <a:pt x="442" y="569"/>
                  </a:lnTo>
                  <a:lnTo>
                    <a:pt x="449" y="555"/>
                  </a:lnTo>
                  <a:lnTo>
                    <a:pt x="450" y="543"/>
                  </a:lnTo>
                  <a:lnTo>
                    <a:pt x="443" y="530"/>
                  </a:lnTo>
                  <a:lnTo>
                    <a:pt x="439" y="535"/>
                  </a:lnTo>
                  <a:lnTo>
                    <a:pt x="435" y="537"/>
                  </a:lnTo>
                  <a:lnTo>
                    <a:pt x="430" y="539"/>
                  </a:lnTo>
                  <a:lnTo>
                    <a:pt x="423" y="540"/>
                  </a:lnTo>
                  <a:lnTo>
                    <a:pt x="418" y="521"/>
                  </a:lnTo>
                  <a:lnTo>
                    <a:pt x="420" y="501"/>
                  </a:lnTo>
                  <a:lnTo>
                    <a:pt x="427" y="483"/>
                  </a:lnTo>
                  <a:lnTo>
                    <a:pt x="438" y="469"/>
                  </a:lnTo>
                  <a:lnTo>
                    <a:pt x="432" y="459"/>
                  </a:lnTo>
                  <a:lnTo>
                    <a:pt x="423" y="449"/>
                  </a:lnTo>
                  <a:lnTo>
                    <a:pt x="411" y="440"/>
                  </a:lnTo>
                  <a:lnTo>
                    <a:pt x="398" y="432"/>
                  </a:lnTo>
                  <a:lnTo>
                    <a:pt x="382" y="425"/>
                  </a:lnTo>
                  <a:lnTo>
                    <a:pt x="366" y="418"/>
                  </a:lnTo>
                  <a:lnTo>
                    <a:pt x="349" y="412"/>
                  </a:lnTo>
                  <a:lnTo>
                    <a:pt x="330" y="407"/>
                  </a:lnTo>
                  <a:lnTo>
                    <a:pt x="312" y="402"/>
                  </a:lnTo>
                  <a:lnTo>
                    <a:pt x="292" y="397"/>
                  </a:lnTo>
                  <a:lnTo>
                    <a:pt x="274" y="393"/>
                  </a:lnTo>
                  <a:lnTo>
                    <a:pt x="257" y="389"/>
                  </a:lnTo>
                  <a:lnTo>
                    <a:pt x="239" y="385"/>
                  </a:lnTo>
                  <a:lnTo>
                    <a:pt x="223" y="381"/>
                  </a:lnTo>
                  <a:lnTo>
                    <a:pt x="208" y="379"/>
                  </a:lnTo>
                  <a:lnTo>
                    <a:pt x="196" y="376"/>
                  </a:lnTo>
                  <a:lnTo>
                    <a:pt x="186" y="371"/>
                  </a:lnTo>
                  <a:lnTo>
                    <a:pt x="184" y="365"/>
                  </a:lnTo>
                  <a:lnTo>
                    <a:pt x="186" y="358"/>
                  </a:lnTo>
                  <a:lnTo>
                    <a:pt x="192" y="351"/>
                  </a:lnTo>
                  <a:lnTo>
                    <a:pt x="200" y="344"/>
                  </a:lnTo>
                  <a:lnTo>
                    <a:pt x="208" y="339"/>
                  </a:lnTo>
                  <a:lnTo>
                    <a:pt x="214" y="335"/>
                  </a:lnTo>
                  <a:lnTo>
                    <a:pt x="216" y="334"/>
                  </a:lnTo>
                  <a:lnTo>
                    <a:pt x="216" y="324"/>
                  </a:lnTo>
                  <a:lnTo>
                    <a:pt x="210" y="319"/>
                  </a:lnTo>
                  <a:lnTo>
                    <a:pt x="196" y="318"/>
                  </a:lnTo>
                  <a:lnTo>
                    <a:pt x="176" y="319"/>
                  </a:lnTo>
                  <a:lnTo>
                    <a:pt x="154" y="321"/>
                  </a:lnTo>
                  <a:lnTo>
                    <a:pt x="131" y="324"/>
                  </a:lnTo>
                  <a:lnTo>
                    <a:pt x="109" y="326"/>
                  </a:lnTo>
                  <a:lnTo>
                    <a:pt x="93" y="328"/>
                  </a:lnTo>
                  <a:lnTo>
                    <a:pt x="83" y="329"/>
                  </a:lnTo>
                  <a:lnTo>
                    <a:pt x="86" y="319"/>
                  </a:lnTo>
                  <a:lnTo>
                    <a:pt x="93" y="305"/>
                  </a:lnTo>
                  <a:lnTo>
                    <a:pt x="102" y="289"/>
                  </a:lnTo>
                  <a:lnTo>
                    <a:pt x="113" y="271"/>
                  </a:lnTo>
                  <a:lnTo>
                    <a:pt x="123" y="253"/>
                  </a:lnTo>
                  <a:lnTo>
                    <a:pt x="133" y="237"/>
                  </a:lnTo>
                  <a:lnTo>
                    <a:pt x="142" y="223"/>
                  </a:lnTo>
                  <a:lnTo>
                    <a:pt x="147" y="213"/>
                  </a:lnTo>
                  <a:lnTo>
                    <a:pt x="143" y="208"/>
                  </a:lnTo>
                  <a:lnTo>
                    <a:pt x="137" y="204"/>
                  </a:lnTo>
                  <a:lnTo>
                    <a:pt x="131" y="198"/>
                  </a:lnTo>
                  <a:lnTo>
                    <a:pt x="125" y="191"/>
                  </a:lnTo>
                  <a:lnTo>
                    <a:pt x="120" y="185"/>
                  </a:lnTo>
                  <a:lnTo>
                    <a:pt x="115" y="179"/>
                  </a:lnTo>
                  <a:lnTo>
                    <a:pt x="112" y="172"/>
                  </a:lnTo>
                  <a:lnTo>
                    <a:pt x="110" y="166"/>
                  </a:lnTo>
                  <a:lnTo>
                    <a:pt x="112" y="158"/>
                  </a:lnTo>
                  <a:lnTo>
                    <a:pt x="116" y="151"/>
                  </a:lnTo>
                  <a:lnTo>
                    <a:pt x="121" y="144"/>
                  </a:lnTo>
                  <a:lnTo>
                    <a:pt x="127" y="138"/>
                  </a:lnTo>
                  <a:lnTo>
                    <a:pt x="129" y="132"/>
                  </a:lnTo>
                  <a:lnTo>
                    <a:pt x="129" y="127"/>
                  </a:lnTo>
                  <a:lnTo>
                    <a:pt x="124" y="120"/>
                  </a:lnTo>
                  <a:lnTo>
                    <a:pt x="114" y="112"/>
                  </a:lnTo>
                  <a:lnTo>
                    <a:pt x="117" y="106"/>
                  </a:lnTo>
                  <a:lnTo>
                    <a:pt x="122" y="96"/>
                  </a:lnTo>
                  <a:lnTo>
                    <a:pt x="127" y="84"/>
                  </a:lnTo>
                  <a:lnTo>
                    <a:pt x="132" y="71"/>
                  </a:lnTo>
                  <a:lnTo>
                    <a:pt x="138" y="60"/>
                  </a:lnTo>
                  <a:lnTo>
                    <a:pt x="143" y="48"/>
                  </a:lnTo>
                  <a:lnTo>
                    <a:pt x="147" y="40"/>
                  </a:lnTo>
                  <a:lnTo>
                    <a:pt x="151" y="37"/>
                  </a:lnTo>
                  <a:lnTo>
                    <a:pt x="163" y="38"/>
                  </a:lnTo>
                  <a:lnTo>
                    <a:pt x="183" y="43"/>
                  </a:lnTo>
                  <a:lnTo>
                    <a:pt x="207" y="49"/>
                  </a:lnTo>
                  <a:lnTo>
                    <a:pt x="233" y="56"/>
                  </a:lnTo>
                  <a:lnTo>
                    <a:pt x="257" y="62"/>
                  </a:lnTo>
                  <a:lnTo>
                    <a:pt x="277" y="63"/>
                  </a:lnTo>
                  <a:lnTo>
                    <a:pt x="290" y="59"/>
                  </a:lnTo>
                  <a:lnTo>
                    <a:pt x="292" y="47"/>
                  </a:lnTo>
                  <a:lnTo>
                    <a:pt x="294" y="29"/>
                  </a:lnTo>
                  <a:lnTo>
                    <a:pt x="304" y="15"/>
                  </a:lnTo>
                  <a:lnTo>
                    <a:pt x="321" y="6"/>
                  </a:lnTo>
                  <a:lnTo>
                    <a:pt x="343" y="1"/>
                  </a:lnTo>
                  <a:lnTo>
                    <a:pt x="367" y="0"/>
                  </a:lnTo>
                  <a:lnTo>
                    <a:pt x="389" y="5"/>
                  </a:lnTo>
                  <a:lnTo>
                    <a:pt x="409" y="14"/>
                  </a:lnTo>
                  <a:lnTo>
                    <a:pt x="420" y="28"/>
                  </a:lnTo>
                  <a:lnTo>
                    <a:pt x="423" y="38"/>
                  </a:lnTo>
                  <a:lnTo>
                    <a:pt x="427" y="53"/>
                  </a:lnTo>
                  <a:lnTo>
                    <a:pt x="434" y="67"/>
                  </a:lnTo>
                  <a:lnTo>
                    <a:pt x="443" y="75"/>
                  </a:lnTo>
                  <a:lnTo>
                    <a:pt x="648" y="142"/>
                  </a:lnTo>
                  <a:lnTo>
                    <a:pt x="660" y="146"/>
                  </a:lnTo>
                  <a:lnTo>
                    <a:pt x="672" y="152"/>
                  </a:lnTo>
                  <a:lnTo>
                    <a:pt x="684" y="160"/>
                  </a:lnTo>
                  <a:lnTo>
                    <a:pt x="697" y="169"/>
                  </a:lnTo>
                  <a:lnTo>
                    <a:pt x="710" y="179"/>
                  </a:lnTo>
                  <a:lnTo>
                    <a:pt x="722" y="187"/>
                  </a:lnTo>
                  <a:lnTo>
                    <a:pt x="735" y="195"/>
                  </a:lnTo>
                  <a:lnTo>
                    <a:pt x="746" y="199"/>
                  </a:lnTo>
                  <a:lnTo>
                    <a:pt x="758" y="204"/>
                  </a:lnTo>
                  <a:lnTo>
                    <a:pt x="769" y="208"/>
                  </a:lnTo>
                  <a:lnTo>
                    <a:pt x="781" y="214"/>
                  </a:lnTo>
                  <a:lnTo>
                    <a:pt x="792" y="219"/>
                  </a:lnTo>
                  <a:lnTo>
                    <a:pt x="804" y="225"/>
                  </a:lnTo>
                  <a:lnTo>
                    <a:pt x="817" y="230"/>
                  </a:lnTo>
                  <a:lnTo>
                    <a:pt x="829" y="235"/>
                  </a:lnTo>
                  <a:lnTo>
                    <a:pt x="843" y="240"/>
                  </a:lnTo>
                  <a:lnTo>
                    <a:pt x="857" y="242"/>
                  </a:lnTo>
                  <a:lnTo>
                    <a:pt x="871" y="243"/>
                  </a:lnTo>
                  <a:lnTo>
                    <a:pt x="886" y="244"/>
                  </a:lnTo>
                  <a:lnTo>
                    <a:pt x="902" y="245"/>
                  </a:lnTo>
                  <a:lnTo>
                    <a:pt x="917" y="248"/>
                  </a:lnTo>
                  <a:lnTo>
                    <a:pt x="932" y="251"/>
                  </a:lnTo>
                  <a:lnTo>
                    <a:pt x="945" y="256"/>
                  </a:lnTo>
                  <a:lnTo>
                    <a:pt x="957" y="264"/>
                  </a:lnTo>
                  <a:lnTo>
                    <a:pt x="963" y="272"/>
                  </a:lnTo>
                  <a:lnTo>
                    <a:pt x="965" y="283"/>
                  </a:lnTo>
                  <a:lnTo>
                    <a:pt x="969" y="294"/>
                  </a:lnTo>
                  <a:lnTo>
                    <a:pt x="978" y="301"/>
                  </a:lnTo>
                  <a:lnTo>
                    <a:pt x="1052" y="324"/>
                  </a:lnTo>
                  <a:lnTo>
                    <a:pt x="1064" y="323"/>
                  </a:lnTo>
                  <a:lnTo>
                    <a:pt x="1079" y="326"/>
                  </a:lnTo>
                  <a:lnTo>
                    <a:pt x="1097" y="335"/>
                  </a:lnTo>
                  <a:lnTo>
                    <a:pt x="1114" y="346"/>
                  </a:lnTo>
                  <a:lnTo>
                    <a:pt x="1132" y="357"/>
                  </a:lnTo>
                  <a:lnTo>
                    <a:pt x="1150" y="369"/>
                  </a:lnTo>
                  <a:lnTo>
                    <a:pt x="1166" y="379"/>
                  </a:lnTo>
                  <a:lnTo>
                    <a:pt x="1180" y="385"/>
                  </a:lnTo>
                  <a:lnTo>
                    <a:pt x="1191" y="387"/>
                  </a:lnTo>
                  <a:lnTo>
                    <a:pt x="1203" y="388"/>
                  </a:lnTo>
                  <a:lnTo>
                    <a:pt x="1214" y="388"/>
                  </a:lnTo>
                  <a:lnTo>
                    <a:pt x="1226" y="387"/>
                  </a:lnTo>
                  <a:lnTo>
                    <a:pt x="1236" y="388"/>
                  </a:lnTo>
                  <a:lnTo>
                    <a:pt x="1248" y="389"/>
                  </a:lnTo>
                  <a:lnTo>
                    <a:pt x="1257" y="394"/>
                  </a:lnTo>
                  <a:lnTo>
                    <a:pt x="1266" y="401"/>
                  </a:lnTo>
                  <a:lnTo>
                    <a:pt x="1284" y="417"/>
                  </a:lnTo>
                  <a:lnTo>
                    <a:pt x="1301" y="439"/>
                  </a:lnTo>
                  <a:lnTo>
                    <a:pt x="1317" y="465"/>
                  </a:lnTo>
                  <a:lnTo>
                    <a:pt x="1333" y="493"/>
                  </a:lnTo>
                  <a:lnTo>
                    <a:pt x="1351" y="518"/>
                  </a:lnTo>
                  <a:lnTo>
                    <a:pt x="1371" y="540"/>
                  </a:lnTo>
                  <a:lnTo>
                    <a:pt x="1394" y="555"/>
                  </a:lnTo>
                  <a:lnTo>
                    <a:pt x="1420" y="561"/>
                  </a:lnTo>
                  <a:lnTo>
                    <a:pt x="1431" y="582"/>
                  </a:lnTo>
                  <a:lnTo>
                    <a:pt x="1452" y="601"/>
                  </a:lnTo>
                  <a:lnTo>
                    <a:pt x="1478" y="620"/>
                  </a:lnTo>
                  <a:lnTo>
                    <a:pt x="1509" y="635"/>
                  </a:lnTo>
                  <a:lnTo>
                    <a:pt x="1539" y="643"/>
                  </a:lnTo>
                  <a:lnTo>
                    <a:pt x="1564" y="643"/>
                  </a:lnTo>
                  <a:lnTo>
                    <a:pt x="1583" y="631"/>
                  </a:lnTo>
                  <a:lnTo>
                    <a:pt x="1590" y="608"/>
                  </a:lnTo>
                  <a:lnTo>
                    <a:pt x="1600" y="614"/>
                  </a:lnTo>
                  <a:lnTo>
                    <a:pt x="1612" y="622"/>
                  </a:lnTo>
                  <a:lnTo>
                    <a:pt x="1625" y="633"/>
                  </a:lnTo>
                  <a:lnTo>
                    <a:pt x="1639" y="643"/>
                  </a:lnTo>
                  <a:lnTo>
                    <a:pt x="1653" y="653"/>
                  </a:lnTo>
                  <a:lnTo>
                    <a:pt x="1667" y="661"/>
                  </a:lnTo>
                  <a:lnTo>
                    <a:pt x="1680" y="667"/>
                  </a:lnTo>
                  <a:lnTo>
                    <a:pt x="1692" y="669"/>
                  </a:lnTo>
                  <a:lnTo>
                    <a:pt x="1692" y="677"/>
                  </a:lnTo>
                  <a:lnTo>
                    <a:pt x="1693" y="684"/>
                  </a:lnTo>
                  <a:lnTo>
                    <a:pt x="1696" y="692"/>
                  </a:lnTo>
                  <a:lnTo>
                    <a:pt x="1698" y="700"/>
                  </a:lnTo>
                  <a:close/>
                </a:path>
              </a:pathLst>
            </a:custGeom>
            <a:solidFill>
              <a:srgbClr val="0066cc">
                <a:alpha val="50000"/>
              </a:srgbClr>
            </a:solidFill>
            <a:ln w="9360">
              <a:solidFill>
                <a:srgbClr val="007c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239120" y="3331800"/>
              <a:ext cx="318600" cy="746640"/>
            </a:xfrm>
            <a:custGeom>
              <a:avLst/>
              <a:gdLst/>
              <a:ahLst/>
              <a:rect l="l" t="t" r="r" b="b"/>
              <a:pathLst>
                <a:path w="1329" h="2969">
                  <a:moveTo>
                    <a:pt x="872" y="2432"/>
                  </a:moveTo>
                  <a:lnTo>
                    <a:pt x="862" y="2434"/>
                  </a:lnTo>
                  <a:lnTo>
                    <a:pt x="852" y="2436"/>
                  </a:lnTo>
                  <a:lnTo>
                    <a:pt x="842" y="2438"/>
                  </a:lnTo>
                  <a:lnTo>
                    <a:pt x="833" y="2443"/>
                  </a:lnTo>
                  <a:lnTo>
                    <a:pt x="822" y="2447"/>
                  </a:lnTo>
                  <a:lnTo>
                    <a:pt x="813" y="2451"/>
                  </a:lnTo>
                  <a:lnTo>
                    <a:pt x="804" y="2456"/>
                  </a:lnTo>
                  <a:lnTo>
                    <a:pt x="795" y="2459"/>
                  </a:lnTo>
                  <a:lnTo>
                    <a:pt x="789" y="2461"/>
                  </a:lnTo>
                  <a:lnTo>
                    <a:pt x="782" y="2466"/>
                  </a:lnTo>
                  <a:lnTo>
                    <a:pt x="775" y="2472"/>
                  </a:lnTo>
                  <a:lnTo>
                    <a:pt x="771" y="2476"/>
                  </a:lnTo>
                  <a:lnTo>
                    <a:pt x="768" y="2491"/>
                  </a:lnTo>
                  <a:lnTo>
                    <a:pt x="767" y="2509"/>
                  </a:lnTo>
                  <a:lnTo>
                    <a:pt x="766" y="2526"/>
                  </a:lnTo>
                  <a:lnTo>
                    <a:pt x="763" y="2542"/>
                  </a:lnTo>
                  <a:lnTo>
                    <a:pt x="760" y="2551"/>
                  </a:lnTo>
                  <a:lnTo>
                    <a:pt x="754" y="2563"/>
                  </a:lnTo>
                  <a:lnTo>
                    <a:pt x="751" y="2573"/>
                  </a:lnTo>
                  <a:lnTo>
                    <a:pt x="753" y="2583"/>
                  </a:lnTo>
                  <a:lnTo>
                    <a:pt x="760" y="2600"/>
                  </a:lnTo>
                  <a:lnTo>
                    <a:pt x="761" y="2618"/>
                  </a:lnTo>
                  <a:lnTo>
                    <a:pt x="761" y="2638"/>
                  </a:lnTo>
                  <a:lnTo>
                    <a:pt x="765" y="2655"/>
                  </a:lnTo>
                  <a:lnTo>
                    <a:pt x="775" y="2651"/>
                  </a:lnTo>
                  <a:lnTo>
                    <a:pt x="782" y="2641"/>
                  </a:lnTo>
                  <a:lnTo>
                    <a:pt x="786" y="2630"/>
                  </a:lnTo>
                  <a:lnTo>
                    <a:pt x="790" y="2620"/>
                  </a:lnTo>
                  <a:lnTo>
                    <a:pt x="795" y="2617"/>
                  </a:lnTo>
                  <a:lnTo>
                    <a:pt x="803" y="2615"/>
                  </a:lnTo>
                  <a:lnTo>
                    <a:pt x="811" y="2612"/>
                  </a:lnTo>
                  <a:lnTo>
                    <a:pt x="816" y="2610"/>
                  </a:lnTo>
                  <a:lnTo>
                    <a:pt x="826" y="2603"/>
                  </a:lnTo>
                  <a:lnTo>
                    <a:pt x="833" y="2593"/>
                  </a:lnTo>
                  <a:lnTo>
                    <a:pt x="838" y="2581"/>
                  </a:lnTo>
                  <a:lnTo>
                    <a:pt x="843" y="2567"/>
                  </a:lnTo>
                  <a:lnTo>
                    <a:pt x="846" y="2552"/>
                  </a:lnTo>
                  <a:lnTo>
                    <a:pt x="849" y="2538"/>
                  </a:lnTo>
                  <a:lnTo>
                    <a:pt x="851" y="2526"/>
                  </a:lnTo>
                  <a:lnTo>
                    <a:pt x="853" y="2514"/>
                  </a:lnTo>
                  <a:lnTo>
                    <a:pt x="854" y="2498"/>
                  </a:lnTo>
                  <a:lnTo>
                    <a:pt x="857" y="2477"/>
                  </a:lnTo>
                  <a:lnTo>
                    <a:pt x="861" y="2458"/>
                  </a:lnTo>
                  <a:lnTo>
                    <a:pt x="872" y="2446"/>
                  </a:lnTo>
                  <a:lnTo>
                    <a:pt x="875" y="2445"/>
                  </a:lnTo>
                  <a:lnTo>
                    <a:pt x="880" y="2444"/>
                  </a:lnTo>
                  <a:lnTo>
                    <a:pt x="883" y="2442"/>
                  </a:lnTo>
                  <a:lnTo>
                    <a:pt x="884" y="2437"/>
                  </a:lnTo>
                  <a:lnTo>
                    <a:pt x="882" y="2437"/>
                  </a:lnTo>
                  <a:lnTo>
                    <a:pt x="879" y="2436"/>
                  </a:lnTo>
                  <a:lnTo>
                    <a:pt x="875" y="2434"/>
                  </a:lnTo>
                  <a:lnTo>
                    <a:pt x="872" y="2432"/>
                  </a:lnTo>
                  <a:close/>
                  <a:moveTo>
                    <a:pt x="1326" y="711"/>
                  </a:moveTo>
                  <a:lnTo>
                    <a:pt x="1327" y="678"/>
                  </a:lnTo>
                  <a:lnTo>
                    <a:pt x="1329" y="639"/>
                  </a:lnTo>
                  <a:lnTo>
                    <a:pt x="1329" y="600"/>
                  </a:lnTo>
                  <a:lnTo>
                    <a:pt x="1323" y="568"/>
                  </a:lnTo>
                  <a:lnTo>
                    <a:pt x="1316" y="549"/>
                  </a:lnTo>
                  <a:lnTo>
                    <a:pt x="1314" y="534"/>
                  </a:lnTo>
                  <a:lnTo>
                    <a:pt x="1314" y="519"/>
                  </a:lnTo>
                  <a:lnTo>
                    <a:pt x="1318" y="497"/>
                  </a:lnTo>
                  <a:lnTo>
                    <a:pt x="1318" y="484"/>
                  </a:lnTo>
                  <a:lnTo>
                    <a:pt x="1314" y="473"/>
                  </a:lnTo>
                  <a:lnTo>
                    <a:pt x="1308" y="462"/>
                  </a:lnTo>
                  <a:lnTo>
                    <a:pt x="1300" y="453"/>
                  </a:lnTo>
                  <a:lnTo>
                    <a:pt x="1292" y="444"/>
                  </a:lnTo>
                  <a:lnTo>
                    <a:pt x="1285" y="435"/>
                  </a:lnTo>
                  <a:lnTo>
                    <a:pt x="1281" y="425"/>
                  </a:lnTo>
                  <a:lnTo>
                    <a:pt x="1281" y="414"/>
                  </a:lnTo>
                  <a:lnTo>
                    <a:pt x="1282" y="406"/>
                  </a:lnTo>
                  <a:lnTo>
                    <a:pt x="1286" y="397"/>
                  </a:lnTo>
                  <a:lnTo>
                    <a:pt x="1290" y="386"/>
                  </a:lnTo>
                  <a:lnTo>
                    <a:pt x="1291" y="377"/>
                  </a:lnTo>
                  <a:lnTo>
                    <a:pt x="1288" y="365"/>
                  </a:lnTo>
                  <a:lnTo>
                    <a:pt x="1281" y="356"/>
                  </a:lnTo>
                  <a:lnTo>
                    <a:pt x="1273" y="348"/>
                  </a:lnTo>
                  <a:lnTo>
                    <a:pt x="1266" y="340"/>
                  </a:lnTo>
                  <a:lnTo>
                    <a:pt x="1260" y="319"/>
                  </a:lnTo>
                  <a:lnTo>
                    <a:pt x="1260" y="291"/>
                  </a:lnTo>
                  <a:lnTo>
                    <a:pt x="1262" y="262"/>
                  </a:lnTo>
                  <a:lnTo>
                    <a:pt x="1263" y="240"/>
                  </a:lnTo>
                  <a:lnTo>
                    <a:pt x="1259" y="236"/>
                  </a:lnTo>
                  <a:lnTo>
                    <a:pt x="1253" y="233"/>
                  </a:lnTo>
                  <a:lnTo>
                    <a:pt x="1247" y="229"/>
                  </a:lnTo>
                  <a:lnTo>
                    <a:pt x="1243" y="228"/>
                  </a:lnTo>
                  <a:lnTo>
                    <a:pt x="1225" y="221"/>
                  </a:lnTo>
                  <a:lnTo>
                    <a:pt x="1208" y="213"/>
                  </a:lnTo>
                  <a:lnTo>
                    <a:pt x="1193" y="203"/>
                  </a:lnTo>
                  <a:lnTo>
                    <a:pt x="1178" y="191"/>
                  </a:lnTo>
                  <a:lnTo>
                    <a:pt x="1164" y="179"/>
                  </a:lnTo>
                  <a:lnTo>
                    <a:pt x="1151" y="165"/>
                  </a:lnTo>
                  <a:lnTo>
                    <a:pt x="1139" y="149"/>
                  </a:lnTo>
                  <a:lnTo>
                    <a:pt x="1126" y="133"/>
                  </a:lnTo>
                  <a:lnTo>
                    <a:pt x="1115" y="117"/>
                  </a:lnTo>
                  <a:lnTo>
                    <a:pt x="1104" y="99"/>
                  </a:lnTo>
                  <a:lnTo>
                    <a:pt x="1094" y="82"/>
                  </a:lnTo>
                  <a:lnTo>
                    <a:pt x="1084" y="66"/>
                  </a:lnTo>
                  <a:lnTo>
                    <a:pt x="1074" y="49"/>
                  </a:lnTo>
                  <a:lnTo>
                    <a:pt x="1065" y="31"/>
                  </a:lnTo>
                  <a:lnTo>
                    <a:pt x="1056" y="15"/>
                  </a:lnTo>
                  <a:lnTo>
                    <a:pt x="1047" y="0"/>
                  </a:lnTo>
                  <a:lnTo>
                    <a:pt x="1041" y="8"/>
                  </a:lnTo>
                  <a:lnTo>
                    <a:pt x="1038" y="12"/>
                  </a:lnTo>
                  <a:lnTo>
                    <a:pt x="1035" y="13"/>
                  </a:lnTo>
                  <a:lnTo>
                    <a:pt x="1033" y="12"/>
                  </a:lnTo>
                  <a:lnTo>
                    <a:pt x="1031" y="9"/>
                  </a:lnTo>
                  <a:lnTo>
                    <a:pt x="1027" y="8"/>
                  </a:lnTo>
                  <a:lnTo>
                    <a:pt x="1021" y="9"/>
                  </a:lnTo>
                  <a:lnTo>
                    <a:pt x="1012" y="14"/>
                  </a:lnTo>
                  <a:lnTo>
                    <a:pt x="1016" y="28"/>
                  </a:lnTo>
                  <a:lnTo>
                    <a:pt x="1024" y="41"/>
                  </a:lnTo>
                  <a:lnTo>
                    <a:pt x="1031" y="54"/>
                  </a:lnTo>
                  <a:lnTo>
                    <a:pt x="1032" y="68"/>
                  </a:lnTo>
                  <a:lnTo>
                    <a:pt x="1030" y="81"/>
                  </a:lnTo>
                  <a:lnTo>
                    <a:pt x="1026" y="98"/>
                  </a:lnTo>
                  <a:lnTo>
                    <a:pt x="1021" y="119"/>
                  </a:lnTo>
                  <a:lnTo>
                    <a:pt x="1015" y="140"/>
                  </a:lnTo>
                  <a:lnTo>
                    <a:pt x="1008" y="160"/>
                  </a:lnTo>
                  <a:lnTo>
                    <a:pt x="997" y="176"/>
                  </a:lnTo>
                  <a:lnTo>
                    <a:pt x="986" y="187"/>
                  </a:lnTo>
                  <a:lnTo>
                    <a:pt x="972" y="188"/>
                  </a:lnTo>
                  <a:lnTo>
                    <a:pt x="972" y="168"/>
                  </a:lnTo>
                  <a:lnTo>
                    <a:pt x="970" y="164"/>
                  </a:lnTo>
                  <a:lnTo>
                    <a:pt x="965" y="156"/>
                  </a:lnTo>
                  <a:lnTo>
                    <a:pt x="960" y="149"/>
                  </a:lnTo>
                  <a:lnTo>
                    <a:pt x="956" y="145"/>
                  </a:lnTo>
                  <a:lnTo>
                    <a:pt x="948" y="144"/>
                  </a:lnTo>
                  <a:lnTo>
                    <a:pt x="941" y="147"/>
                  </a:lnTo>
                  <a:lnTo>
                    <a:pt x="933" y="150"/>
                  </a:lnTo>
                  <a:lnTo>
                    <a:pt x="925" y="155"/>
                  </a:lnTo>
                  <a:lnTo>
                    <a:pt x="917" y="159"/>
                  </a:lnTo>
                  <a:lnTo>
                    <a:pt x="910" y="163"/>
                  </a:lnTo>
                  <a:lnTo>
                    <a:pt x="901" y="164"/>
                  </a:lnTo>
                  <a:lnTo>
                    <a:pt x="892" y="163"/>
                  </a:lnTo>
                  <a:lnTo>
                    <a:pt x="876" y="157"/>
                  </a:lnTo>
                  <a:lnTo>
                    <a:pt x="864" y="156"/>
                  </a:lnTo>
                  <a:lnTo>
                    <a:pt x="853" y="157"/>
                  </a:lnTo>
                  <a:lnTo>
                    <a:pt x="845" y="161"/>
                  </a:lnTo>
                  <a:lnTo>
                    <a:pt x="838" y="170"/>
                  </a:lnTo>
                  <a:lnTo>
                    <a:pt x="830" y="180"/>
                  </a:lnTo>
                  <a:lnTo>
                    <a:pt x="822" y="194"/>
                  </a:lnTo>
                  <a:lnTo>
                    <a:pt x="813" y="209"/>
                  </a:lnTo>
                  <a:lnTo>
                    <a:pt x="815" y="211"/>
                  </a:lnTo>
                  <a:lnTo>
                    <a:pt x="819" y="212"/>
                  </a:lnTo>
                  <a:lnTo>
                    <a:pt x="821" y="214"/>
                  </a:lnTo>
                  <a:lnTo>
                    <a:pt x="824" y="217"/>
                  </a:lnTo>
                  <a:lnTo>
                    <a:pt x="823" y="224"/>
                  </a:lnTo>
                  <a:lnTo>
                    <a:pt x="820" y="231"/>
                  </a:lnTo>
                  <a:lnTo>
                    <a:pt x="815" y="235"/>
                  </a:lnTo>
                  <a:lnTo>
                    <a:pt x="809" y="241"/>
                  </a:lnTo>
                  <a:lnTo>
                    <a:pt x="803" y="246"/>
                  </a:lnTo>
                  <a:lnTo>
                    <a:pt x="797" y="250"/>
                  </a:lnTo>
                  <a:lnTo>
                    <a:pt x="790" y="254"/>
                  </a:lnTo>
                  <a:lnTo>
                    <a:pt x="784" y="257"/>
                  </a:lnTo>
                  <a:lnTo>
                    <a:pt x="768" y="242"/>
                  </a:lnTo>
                  <a:lnTo>
                    <a:pt x="755" y="235"/>
                  </a:lnTo>
                  <a:lnTo>
                    <a:pt x="745" y="234"/>
                  </a:lnTo>
                  <a:lnTo>
                    <a:pt x="737" y="240"/>
                  </a:lnTo>
                  <a:lnTo>
                    <a:pt x="730" y="249"/>
                  </a:lnTo>
                  <a:lnTo>
                    <a:pt x="722" y="262"/>
                  </a:lnTo>
                  <a:lnTo>
                    <a:pt x="712" y="277"/>
                  </a:lnTo>
                  <a:lnTo>
                    <a:pt x="699" y="292"/>
                  </a:lnTo>
                  <a:lnTo>
                    <a:pt x="701" y="294"/>
                  </a:lnTo>
                  <a:lnTo>
                    <a:pt x="706" y="299"/>
                  </a:lnTo>
                  <a:lnTo>
                    <a:pt x="710" y="303"/>
                  </a:lnTo>
                  <a:lnTo>
                    <a:pt x="713" y="308"/>
                  </a:lnTo>
                  <a:lnTo>
                    <a:pt x="707" y="314"/>
                  </a:lnTo>
                  <a:lnTo>
                    <a:pt x="698" y="320"/>
                  </a:lnTo>
                  <a:lnTo>
                    <a:pt x="687" y="327"/>
                  </a:lnTo>
                  <a:lnTo>
                    <a:pt x="677" y="334"/>
                  </a:lnTo>
                  <a:lnTo>
                    <a:pt x="668" y="342"/>
                  </a:lnTo>
                  <a:lnTo>
                    <a:pt x="662" y="352"/>
                  </a:lnTo>
                  <a:lnTo>
                    <a:pt x="661" y="361"/>
                  </a:lnTo>
                  <a:lnTo>
                    <a:pt x="668" y="371"/>
                  </a:lnTo>
                  <a:lnTo>
                    <a:pt x="664" y="387"/>
                  </a:lnTo>
                  <a:lnTo>
                    <a:pt x="665" y="406"/>
                  </a:lnTo>
                  <a:lnTo>
                    <a:pt x="667" y="423"/>
                  </a:lnTo>
                  <a:lnTo>
                    <a:pt x="662" y="437"/>
                  </a:lnTo>
                  <a:lnTo>
                    <a:pt x="655" y="447"/>
                  </a:lnTo>
                  <a:lnTo>
                    <a:pt x="648" y="456"/>
                  </a:lnTo>
                  <a:lnTo>
                    <a:pt x="641" y="468"/>
                  </a:lnTo>
                  <a:lnTo>
                    <a:pt x="636" y="478"/>
                  </a:lnTo>
                  <a:lnTo>
                    <a:pt x="629" y="489"/>
                  </a:lnTo>
                  <a:lnTo>
                    <a:pt x="622" y="500"/>
                  </a:lnTo>
                  <a:lnTo>
                    <a:pt x="614" y="509"/>
                  </a:lnTo>
                  <a:lnTo>
                    <a:pt x="604" y="520"/>
                  </a:lnTo>
                  <a:lnTo>
                    <a:pt x="595" y="519"/>
                  </a:lnTo>
                  <a:lnTo>
                    <a:pt x="588" y="524"/>
                  </a:lnTo>
                  <a:lnTo>
                    <a:pt x="583" y="535"/>
                  </a:lnTo>
                  <a:lnTo>
                    <a:pt x="577" y="550"/>
                  </a:lnTo>
                  <a:lnTo>
                    <a:pt x="572" y="565"/>
                  </a:lnTo>
                  <a:lnTo>
                    <a:pt x="566" y="579"/>
                  </a:lnTo>
                  <a:lnTo>
                    <a:pt x="558" y="590"/>
                  </a:lnTo>
                  <a:lnTo>
                    <a:pt x="548" y="597"/>
                  </a:lnTo>
                  <a:lnTo>
                    <a:pt x="525" y="597"/>
                  </a:lnTo>
                  <a:lnTo>
                    <a:pt x="517" y="610"/>
                  </a:lnTo>
                  <a:lnTo>
                    <a:pt x="510" y="627"/>
                  </a:lnTo>
                  <a:lnTo>
                    <a:pt x="506" y="644"/>
                  </a:lnTo>
                  <a:lnTo>
                    <a:pt x="502" y="659"/>
                  </a:lnTo>
                  <a:lnTo>
                    <a:pt x="494" y="680"/>
                  </a:lnTo>
                  <a:lnTo>
                    <a:pt x="488" y="702"/>
                  </a:lnTo>
                  <a:lnTo>
                    <a:pt x="482" y="724"/>
                  </a:lnTo>
                  <a:lnTo>
                    <a:pt x="478" y="747"/>
                  </a:lnTo>
                  <a:lnTo>
                    <a:pt x="474" y="769"/>
                  </a:lnTo>
                  <a:lnTo>
                    <a:pt x="468" y="792"/>
                  </a:lnTo>
                  <a:lnTo>
                    <a:pt x="464" y="814"/>
                  </a:lnTo>
                  <a:lnTo>
                    <a:pt x="457" y="834"/>
                  </a:lnTo>
                  <a:lnTo>
                    <a:pt x="397" y="976"/>
                  </a:lnTo>
                  <a:lnTo>
                    <a:pt x="397" y="985"/>
                  </a:lnTo>
                  <a:lnTo>
                    <a:pt x="400" y="996"/>
                  </a:lnTo>
                  <a:lnTo>
                    <a:pt x="407" y="1007"/>
                  </a:lnTo>
                  <a:lnTo>
                    <a:pt x="414" y="1018"/>
                  </a:lnTo>
                  <a:lnTo>
                    <a:pt x="421" y="1029"/>
                  </a:lnTo>
                  <a:lnTo>
                    <a:pt x="426" y="1038"/>
                  </a:lnTo>
                  <a:lnTo>
                    <a:pt x="427" y="1046"/>
                  </a:lnTo>
                  <a:lnTo>
                    <a:pt x="425" y="1053"/>
                  </a:lnTo>
                  <a:lnTo>
                    <a:pt x="430" y="1056"/>
                  </a:lnTo>
                  <a:lnTo>
                    <a:pt x="429" y="1059"/>
                  </a:lnTo>
                  <a:lnTo>
                    <a:pt x="424" y="1064"/>
                  </a:lnTo>
                  <a:lnTo>
                    <a:pt x="414" y="1067"/>
                  </a:lnTo>
                  <a:lnTo>
                    <a:pt x="404" y="1071"/>
                  </a:lnTo>
                  <a:lnTo>
                    <a:pt x="392" y="1074"/>
                  </a:lnTo>
                  <a:lnTo>
                    <a:pt x="384" y="1075"/>
                  </a:lnTo>
                  <a:lnTo>
                    <a:pt x="380" y="1076"/>
                  </a:lnTo>
                  <a:lnTo>
                    <a:pt x="353" y="1077"/>
                  </a:lnTo>
                  <a:lnTo>
                    <a:pt x="329" y="1082"/>
                  </a:lnTo>
                  <a:lnTo>
                    <a:pt x="306" y="1089"/>
                  </a:lnTo>
                  <a:lnTo>
                    <a:pt x="286" y="1101"/>
                  </a:lnTo>
                  <a:lnTo>
                    <a:pt x="269" y="1114"/>
                  </a:lnTo>
                  <a:lnTo>
                    <a:pt x="254" y="1133"/>
                  </a:lnTo>
                  <a:lnTo>
                    <a:pt x="241" y="1154"/>
                  </a:lnTo>
                  <a:lnTo>
                    <a:pt x="231" y="1180"/>
                  </a:lnTo>
                  <a:lnTo>
                    <a:pt x="220" y="1215"/>
                  </a:lnTo>
                  <a:lnTo>
                    <a:pt x="214" y="1245"/>
                  </a:lnTo>
                  <a:lnTo>
                    <a:pt x="213" y="1275"/>
                  </a:lnTo>
                  <a:lnTo>
                    <a:pt x="217" y="1308"/>
                  </a:lnTo>
                  <a:lnTo>
                    <a:pt x="216" y="1313"/>
                  </a:lnTo>
                  <a:lnTo>
                    <a:pt x="213" y="1316"/>
                  </a:lnTo>
                  <a:lnTo>
                    <a:pt x="209" y="1321"/>
                  </a:lnTo>
                  <a:lnTo>
                    <a:pt x="208" y="1325"/>
                  </a:lnTo>
                  <a:lnTo>
                    <a:pt x="194" y="1387"/>
                  </a:lnTo>
                  <a:lnTo>
                    <a:pt x="193" y="1417"/>
                  </a:lnTo>
                  <a:lnTo>
                    <a:pt x="197" y="1450"/>
                  </a:lnTo>
                  <a:lnTo>
                    <a:pt x="199" y="1483"/>
                  </a:lnTo>
                  <a:lnTo>
                    <a:pt x="197" y="1514"/>
                  </a:lnTo>
                  <a:lnTo>
                    <a:pt x="193" y="1529"/>
                  </a:lnTo>
                  <a:lnTo>
                    <a:pt x="187" y="1549"/>
                  </a:lnTo>
                  <a:lnTo>
                    <a:pt x="184" y="1568"/>
                  </a:lnTo>
                  <a:lnTo>
                    <a:pt x="186" y="1582"/>
                  </a:lnTo>
                  <a:lnTo>
                    <a:pt x="190" y="1586"/>
                  </a:lnTo>
                  <a:lnTo>
                    <a:pt x="195" y="1588"/>
                  </a:lnTo>
                  <a:lnTo>
                    <a:pt x="201" y="1590"/>
                  </a:lnTo>
                  <a:lnTo>
                    <a:pt x="208" y="1591"/>
                  </a:lnTo>
                  <a:lnTo>
                    <a:pt x="215" y="1593"/>
                  </a:lnTo>
                  <a:lnTo>
                    <a:pt x="221" y="1595"/>
                  </a:lnTo>
                  <a:lnTo>
                    <a:pt x="225" y="1596"/>
                  </a:lnTo>
                  <a:lnTo>
                    <a:pt x="229" y="1599"/>
                  </a:lnTo>
                  <a:lnTo>
                    <a:pt x="238" y="1617"/>
                  </a:lnTo>
                  <a:lnTo>
                    <a:pt x="239" y="1632"/>
                  </a:lnTo>
                  <a:lnTo>
                    <a:pt x="233" y="1644"/>
                  </a:lnTo>
                  <a:lnTo>
                    <a:pt x="223" y="1656"/>
                  </a:lnTo>
                  <a:lnTo>
                    <a:pt x="210" y="1667"/>
                  </a:lnTo>
                  <a:lnTo>
                    <a:pt x="198" y="1677"/>
                  </a:lnTo>
                  <a:lnTo>
                    <a:pt x="186" y="1687"/>
                  </a:lnTo>
                  <a:lnTo>
                    <a:pt x="177" y="1696"/>
                  </a:lnTo>
                  <a:lnTo>
                    <a:pt x="171" y="1711"/>
                  </a:lnTo>
                  <a:lnTo>
                    <a:pt x="171" y="1726"/>
                  </a:lnTo>
                  <a:lnTo>
                    <a:pt x="175" y="1742"/>
                  </a:lnTo>
                  <a:lnTo>
                    <a:pt x="182" y="1758"/>
                  </a:lnTo>
                  <a:lnTo>
                    <a:pt x="188" y="1775"/>
                  </a:lnTo>
                  <a:lnTo>
                    <a:pt x="195" y="1791"/>
                  </a:lnTo>
                  <a:lnTo>
                    <a:pt x="200" y="1806"/>
                  </a:lnTo>
                  <a:lnTo>
                    <a:pt x="200" y="1820"/>
                  </a:lnTo>
                  <a:lnTo>
                    <a:pt x="193" y="1844"/>
                  </a:lnTo>
                  <a:lnTo>
                    <a:pt x="182" y="1867"/>
                  </a:lnTo>
                  <a:lnTo>
                    <a:pt x="168" y="1887"/>
                  </a:lnTo>
                  <a:lnTo>
                    <a:pt x="152" y="1908"/>
                  </a:lnTo>
                  <a:lnTo>
                    <a:pt x="135" y="1929"/>
                  </a:lnTo>
                  <a:lnTo>
                    <a:pt x="121" y="1950"/>
                  </a:lnTo>
                  <a:lnTo>
                    <a:pt x="107" y="1972"/>
                  </a:lnTo>
                  <a:lnTo>
                    <a:pt x="97" y="1996"/>
                  </a:lnTo>
                  <a:lnTo>
                    <a:pt x="96" y="2012"/>
                  </a:lnTo>
                  <a:lnTo>
                    <a:pt x="99" y="2022"/>
                  </a:lnTo>
                  <a:lnTo>
                    <a:pt x="96" y="2033"/>
                  </a:lnTo>
                  <a:lnTo>
                    <a:pt x="86" y="2048"/>
                  </a:lnTo>
                  <a:lnTo>
                    <a:pt x="71" y="2075"/>
                  </a:lnTo>
                  <a:lnTo>
                    <a:pt x="66" y="2106"/>
                  </a:lnTo>
                  <a:lnTo>
                    <a:pt x="63" y="2136"/>
                  </a:lnTo>
                  <a:lnTo>
                    <a:pt x="55" y="2156"/>
                  </a:lnTo>
                  <a:lnTo>
                    <a:pt x="51" y="2154"/>
                  </a:lnTo>
                  <a:lnTo>
                    <a:pt x="49" y="2151"/>
                  </a:lnTo>
                  <a:lnTo>
                    <a:pt x="46" y="2150"/>
                  </a:lnTo>
                  <a:lnTo>
                    <a:pt x="43" y="2148"/>
                  </a:lnTo>
                  <a:lnTo>
                    <a:pt x="42" y="2142"/>
                  </a:lnTo>
                  <a:lnTo>
                    <a:pt x="39" y="2135"/>
                  </a:lnTo>
                  <a:lnTo>
                    <a:pt x="35" y="2128"/>
                  </a:lnTo>
                  <a:lnTo>
                    <a:pt x="29" y="2120"/>
                  </a:lnTo>
                  <a:lnTo>
                    <a:pt x="24" y="2113"/>
                  </a:lnTo>
                  <a:lnTo>
                    <a:pt x="18" y="2108"/>
                  </a:lnTo>
                  <a:lnTo>
                    <a:pt x="12" y="2102"/>
                  </a:lnTo>
                  <a:lnTo>
                    <a:pt x="8" y="2097"/>
                  </a:lnTo>
                  <a:lnTo>
                    <a:pt x="10" y="2136"/>
                  </a:lnTo>
                  <a:lnTo>
                    <a:pt x="4" y="2181"/>
                  </a:lnTo>
                  <a:lnTo>
                    <a:pt x="0" y="2227"/>
                  </a:lnTo>
                  <a:lnTo>
                    <a:pt x="3" y="2268"/>
                  </a:lnTo>
                  <a:lnTo>
                    <a:pt x="8" y="2279"/>
                  </a:lnTo>
                  <a:lnTo>
                    <a:pt x="13" y="2293"/>
                  </a:lnTo>
                  <a:lnTo>
                    <a:pt x="20" y="2306"/>
                  </a:lnTo>
                  <a:lnTo>
                    <a:pt x="27" y="2315"/>
                  </a:lnTo>
                  <a:lnTo>
                    <a:pt x="39" y="2337"/>
                  </a:lnTo>
                  <a:lnTo>
                    <a:pt x="44" y="2361"/>
                  </a:lnTo>
                  <a:lnTo>
                    <a:pt x="46" y="2389"/>
                  </a:lnTo>
                  <a:lnTo>
                    <a:pt x="44" y="2418"/>
                  </a:lnTo>
                  <a:lnTo>
                    <a:pt x="42" y="2446"/>
                  </a:lnTo>
                  <a:lnTo>
                    <a:pt x="41" y="2475"/>
                  </a:lnTo>
                  <a:lnTo>
                    <a:pt x="42" y="2503"/>
                  </a:lnTo>
                  <a:lnTo>
                    <a:pt x="47" y="2528"/>
                  </a:lnTo>
                  <a:lnTo>
                    <a:pt x="53" y="2535"/>
                  </a:lnTo>
                  <a:lnTo>
                    <a:pt x="63" y="2541"/>
                  </a:lnTo>
                  <a:lnTo>
                    <a:pt x="72" y="2545"/>
                  </a:lnTo>
                  <a:lnTo>
                    <a:pt x="78" y="2551"/>
                  </a:lnTo>
                  <a:lnTo>
                    <a:pt x="86" y="2571"/>
                  </a:lnTo>
                  <a:lnTo>
                    <a:pt x="93" y="2595"/>
                  </a:lnTo>
                  <a:lnTo>
                    <a:pt x="100" y="2621"/>
                  </a:lnTo>
                  <a:lnTo>
                    <a:pt x="106" y="2649"/>
                  </a:lnTo>
                  <a:lnTo>
                    <a:pt x="108" y="2677"/>
                  </a:lnTo>
                  <a:lnTo>
                    <a:pt x="106" y="2702"/>
                  </a:lnTo>
                  <a:lnTo>
                    <a:pt x="99" y="2726"/>
                  </a:lnTo>
                  <a:lnTo>
                    <a:pt x="86" y="2745"/>
                  </a:lnTo>
                  <a:lnTo>
                    <a:pt x="89" y="2768"/>
                  </a:lnTo>
                  <a:lnTo>
                    <a:pt x="93" y="2784"/>
                  </a:lnTo>
                  <a:lnTo>
                    <a:pt x="95" y="2807"/>
                  </a:lnTo>
                  <a:lnTo>
                    <a:pt x="99" y="2835"/>
                  </a:lnTo>
                  <a:lnTo>
                    <a:pt x="103" y="2865"/>
                  </a:lnTo>
                  <a:lnTo>
                    <a:pt x="109" y="2892"/>
                  </a:lnTo>
                  <a:lnTo>
                    <a:pt x="116" y="2918"/>
                  </a:lnTo>
                  <a:lnTo>
                    <a:pt x="125" y="2936"/>
                  </a:lnTo>
                  <a:lnTo>
                    <a:pt x="137" y="2945"/>
                  </a:lnTo>
                  <a:lnTo>
                    <a:pt x="150" y="2951"/>
                  </a:lnTo>
                  <a:lnTo>
                    <a:pt x="165" y="2954"/>
                  </a:lnTo>
                  <a:lnTo>
                    <a:pt x="180" y="2958"/>
                  </a:lnTo>
                  <a:lnTo>
                    <a:pt x="197" y="2960"/>
                  </a:lnTo>
                  <a:lnTo>
                    <a:pt x="213" y="2963"/>
                  </a:lnTo>
                  <a:lnTo>
                    <a:pt x="228" y="2965"/>
                  </a:lnTo>
                  <a:lnTo>
                    <a:pt x="244" y="2967"/>
                  </a:lnTo>
                  <a:lnTo>
                    <a:pt x="259" y="2969"/>
                  </a:lnTo>
                  <a:lnTo>
                    <a:pt x="263" y="2966"/>
                  </a:lnTo>
                  <a:lnTo>
                    <a:pt x="269" y="2963"/>
                  </a:lnTo>
                  <a:lnTo>
                    <a:pt x="275" y="2959"/>
                  </a:lnTo>
                  <a:lnTo>
                    <a:pt x="281" y="2957"/>
                  </a:lnTo>
                  <a:lnTo>
                    <a:pt x="288" y="2956"/>
                  </a:lnTo>
                  <a:lnTo>
                    <a:pt x="293" y="2954"/>
                  </a:lnTo>
                  <a:lnTo>
                    <a:pt x="300" y="2953"/>
                  </a:lnTo>
                  <a:lnTo>
                    <a:pt x="306" y="2953"/>
                  </a:lnTo>
                  <a:lnTo>
                    <a:pt x="306" y="2937"/>
                  </a:lnTo>
                  <a:lnTo>
                    <a:pt x="306" y="2918"/>
                  </a:lnTo>
                  <a:lnTo>
                    <a:pt x="308" y="2897"/>
                  </a:lnTo>
                  <a:lnTo>
                    <a:pt x="311" y="2875"/>
                  </a:lnTo>
                  <a:lnTo>
                    <a:pt x="316" y="2855"/>
                  </a:lnTo>
                  <a:lnTo>
                    <a:pt x="326" y="2838"/>
                  </a:lnTo>
                  <a:lnTo>
                    <a:pt x="339" y="2828"/>
                  </a:lnTo>
                  <a:lnTo>
                    <a:pt x="357" y="2823"/>
                  </a:lnTo>
                  <a:lnTo>
                    <a:pt x="371" y="2808"/>
                  </a:lnTo>
                  <a:lnTo>
                    <a:pt x="390" y="2805"/>
                  </a:lnTo>
                  <a:lnTo>
                    <a:pt x="414" y="2806"/>
                  </a:lnTo>
                  <a:lnTo>
                    <a:pt x="440" y="2810"/>
                  </a:lnTo>
                  <a:lnTo>
                    <a:pt x="466" y="2814"/>
                  </a:lnTo>
                  <a:lnTo>
                    <a:pt x="490" y="2813"/>
                  </a:lnTo>
                  <a:lnTo>
                    <a:pt x="511" y="2802"/>
                  </a:lnTo>
                  <a:lnTo>
                    <a:pt x="526" y="2780"/>
                  </a:lnTo>
                  <a:lnTo>
                    <a:pt x="609" y="2468"/>
                  </a:lnTo>
                  <a:lnTo>
                    <a:pt x="614" y="2429"/>
                  </a:lnTo>
                  <a:lnTo>
                    <a:pt x="615" y="2385"/>
                  </a:lnTo>
                  <a:lnTo>
                    <a:pt x="617" y="2340"/>
                  </a:lnTo>
                  <a:lnTo>
                    <a:pt x="624" y="2299"/>
                  </a:lnTo>
                  <a:lnTo>
                    <a:pt x="629" y="2290"/>
                  </a:lnTo>
                  <a:lnTo>
                    <a:pt x="634" y="2280"/>
                  </a:lnTo>
                  <a:lnTo>
                    <a:pt x="638" y="2272"/>
                  </a:lnTo>
                  <a:lnTo>
                    <a:pt x="640" y="2260"/>
                  </a:lnTo>
                  <a:lnTo>
                    <a:pt x="652" y="2254"/>
                  </a:lnTo>
                  <a:lnTo>
                    <a:pt x="662" y="2249"/>
                  </a:lnTo>
                  <a:lnTo>
                    <a:pt x="672" y="2245"/>
                  </a:lnTo>
                  <a:lnTo>
                    <a:pt x="683" y="2239"/>
                  </a:lnTo>
                  <a:lnTo>
                    <a:pt x="693" y="2233"/>
                  </a:lnTo>
                  <a:lnTo>
                    <a:pt x="702" y="2226"/>
                  </a:lnTo>
                  <a:lnTo>
                    <a:pt x="712" y="2218"/>
                  </a:lnTo>
                  <a:lnTo>
                    <a:pt x="722" y="2209"/>
                  </a:lnTo>
                  <a:lnTo>
                    <a:pt x="729" y="2212"/>
                  </a:lnTo>
                  <a:lnTo>
                    <a:pt x="736" y="2216"/>
                  </a:lnTo>
                  <a:lnTo>
                    <a:pt x="742" y="2220"/>
                  </a:lnTo>
                  <a:lnTo>
                    <a:pt x="746" y="2224"/>
                  </a:lnTo>
                  <a:lnTo>
                    <a:pt x="763" y="2217"/>
                  </a:lnTo>
                  <a:lnTo>
                    <a:pt x="780" y="2206"/>
                  </a:lnTo>
                  <a:lnTo>
                    <a:pt x="795" y="2192"/>
                  </a:lnTo>
                  <a:lnTo>
                    <a:pt x="808" y="2174"/>
                  </a:lnTo>
                  <a:lnTo>
                    <a:pt x="821" y="2156"/>
                  </a:lnTo>
                  <a:lnTo>
                    <a:pt x="833" y="2139"/>
                  </a:lnTo>
                  <a:lnTo>
                    <a:pt x="843" y="2121"/>
                  </a:lnTo>
                  <a:lnTo>
                    <a:pt x="852" y="2106"/>
                  </a:lnTo>
                  <a:lnTo>
                    <a:pt x="850" y="2101"/>
                  </a:lnTo>
                  <a:lnTo>
                    <a:pt x="846" y="2095"/>
                  </a:lnTo>
                  <a:lnTo>
                    <a:pt x="844" y="2090"/>
                  </a:lnTo>
                  <a:lnTo>
                    <a:pt x="844" y="2087"/>
                  </a:lnTo>
                  <a:lnTo>
                    <a:pt x="845" y="2074"/>
                  </a:lnTo>
                  <a:lnTo>
                    <a:pt x="850" y="2064"/>
                  </a:lnTo>
                  <a:lnTo>
                    <a:pt x="856" y="2056"/>
                  </a:lnTo>
                  <a:lnTo>
                    <a:pt x="862" y="2049"/>
                  </a:lnTo>
                  <a:lnTo>
                    <a:pt x="871" y="2043"/>
                  </a:lnTo>
                  <a:lnTo>
                    <a:pt x="877" y="2036"/>
                  </a:lnTo>
                  <a:lnTo>
                    <a:pt x="883" y="2029"/>
                  </a:lnTo>
                  <a:lnTo>
                    <a:pt x="888" y="2020"/>
                  </a:lnTo>
                  <a:lnTo>
                    <a:pt x="888" y="2011"/>
                  </a:lnTo>
                  <a:lnTo>
                    <a:pt x="884" y="2000"/>
                  </a:lnTo>
                  <a:lnTo>
                    <a:pt x="877" y="1989"/>
                  </a:lnTo>
                  <a:lnTo>
                    <a:pt x="871" y="1979"/>
                  </a:lnTo>
                  <a:lnTo>
                    <a:pt x="861" y="1968"/>
                  </a:lnTo>
                  <a:lnTo>
                    <a:pt x="851" y="1960"/>
                  </a:lnTo>
                  <a:lnTo>
                    <a:pt x="842" y="1954"/>
                  </a:lnTo>
                  <a:lnTo>
                    <a:pt x="833" y="1952"/>
                  </a:lnTo>
                  <a:lnTo>
                    <a:pt x="833" y="1946"/>
                  </a:lnTo>
                  <a:lnTo>
                    <a:pt x="831" y="1938"/>
                  </a:lnTo>
                  <a:lnTo>
                    <a:pt x="831" y="1931"/>
                  </a:lnTo>
                  <a:lnTo>
                    <a:pt x="833" y="1924"/>
                  </a:lnTo>
                  <a:lnTo>
                    <a:pt x="801" y="1866"/>
                  </a:lnTo>
                  <a:lnTo>
                    <a:pt x="786" y="1867"/>
                  </a:lnTo>
                  <a:lnTo>
                    <a:pt x="775" y="1868"/>
                  </a:lnTo>
                  <a:lnTo>
                    <a:pt x="765" y="1869"/>
                  </a:lnTo>
                  <a:lnTo>
                    <a:pt x="755" y="1870"/>
                  </a:lnTo>
                  <a:lnTo>
                    <a:pt x="747" y="1869"/>
                  </a:lnTo>
                  <a:lnTo>
                    <a:pt x="740" y="1864"/>
                  </a:lnTo>
                  <a:lnTo>
                    <a:pt x="731" y="1855"/>
                  </a:lnTo>
                  <a:lnTo>
                    <a:pt x="722" y="1843"/>
                  </a:lnTo>
                  <a:lnTo>
                    <a:pt x="691" y="1843"/>
                  </a:lnTo>
                  <a:lnTo>
                    <a:pt x="691" y="1807"/>
                  </a:lnTo>
                  <a:lnTo>
                    <a:pt x="692" y="1773"/>
                  </a:lnTo>
                  <a:lnTo>
                    <a:pt x="690" y="1743"/>
                  </a:lnTo>
                  <a:lnTo>
                    <a:pt x="683" y="1712"/>
                  </a:lnTo>
                  <a:lnTo>
                    <a:pt x="680" y="1692"/>
                  </a:lnTo>
                  <a:lnTo>
                    <a:pt x="684" y="1667"/>
                  </a:lnTo>
                  <a:lnTo>
                    <a:pt x="690" y="1642"/>
                  </a:lnTo>
                  <a:lnTo>
                    <a:pt x="699" y="1616"/>
                  </a:lnTo>
                  <a:lnTo>
                    <a:pt x="708" y="1590"/>
                  </a:lnTo>
                  <a:lnTo>
                    <a:pt x="718" y="1566"/>
                  </a:lnTo>
                  <a:lnTo>
                    <a:pt x="728" y="1543"/>
                  </a:lnTo>
                  <a:lnTo>
                    <a:pt x="735" y="1523"/>
                  </a:lnTo>
                  <a:lnTo>
                    <a:pt x="733" y="1507"/>
                  </a:lnTo>
                  <a:lnTo>
                    <a:pt x="730" y="1488"/>
                  </a:lnTo>
                  <a:lnTo>
                    <a:pt x="729" y="1470"/>
                  </a:lnTo>
                  <a:lnTo>
                    <a:pt x="735" y="1455"/>
                  </a:lnTo>
                  <a:lnTo>
                    <a:pt x="744" y="1444"/>
                  </a:lnTo>
                  <a:lnTo>
                    <a:pt x="755" y="1432"/>
                  </a:lnTo>
                  <a:lnTo>
                    <a:pt x="767" y="1421"/>
                  </a:lnTo>
                  <a:lnTo>
                    <a:pt x="778" y="1409"/>
                  </a:lnTo>
                  <a:lnTo>
                    <a:pt x="790" y="1398"/>
                  </a:lnTo>
                  <a:lnTo>
                    <a:pt x="800" y="1385"/>
                  </a:lnTo>
                  <a:lnTo>
                    <a:pt x="809" y="1371"/>
                  </a:lnTo>
                  <a:lnTo>
                    <a:pt x="816" y="1357"/>
                  </a:lnTo>
                  <a:lnTo>
                    <a:pt x="818" y="1353"/>
                  </a:lnTo>
                  <a:lnTo>
                    <a:pt x="820" y="1346"/>
                  </a:lnTo>
                  <a:lnTo>
                    <a:pt x="823" y="1340"/>
                  </a:lnTo>
                  <a:lnTo>
                    <a:pt x="829" y="1338"/>
                  </a:lnTo>
                  <a:lnTo>
                    <a:pt x="848" y="1330"/>
                  </a:lnTo>
                  <a:lnTo>
                    <a:pt x="864" y="1319"/>
                  </a:lnTo>
                  <a:lnTo>
                    <a:pt x="880" y="1308"/>
                  </a:lnTo>
                  <a:lnTo>
                    <a:pt x="896" y="1295"/>
                  </a:lnTo>
                  <a:lnTo>
                    <a:pt x="911" y="1281"/>
                  </a:lnTo>
                  <a:lnTo>
                    <a:pt x="926" y="1266"/>
                  </a:lnTo>
                  <a:lnTo>
                    <a:pt x="940" y="1250"/>
                  </a:lnTo>
                  <a:lnTo>
                    <a:pt x="955" y="1234"/>
                  </a:lnTo>
                  <a:lnTo>
                    <a:pt x="968" y="1218"/>
                  </a:lnTo>
                  <a:lnTo>
                    <a:pt x="982" y="1202"/>
                  </a:lnTo>
                  <a:lnTo>
                    <a:pt x="997" y="1186"/>
                  </a:lnTo>
                  <a:lnTo>
                    <a:pt x="1011" y="1170"/>
                  </a:lnTo>
                  <a:lnTo>
                    <a:pt x="1026" y="1155"/>
                  </a:lnTo>
                  <a:lnTo>
                    <a:pt x="1042" y="1140"/>
                  </a:lnTo>
                  <a:lnTo>
                    <a:pt x="1058" y="1126"/>
                  </a:lnTo>
                  <a:lnTo>
                    <a:pt x="1076" y="1113"/>
                  </a:lnTo>
                  <a:lnTo>
                    <a:pt x="1077" y="1094"/>
                  </a:lnTo>
                  <a:lnTo>
                    <a:pt x="1080" y="1077"/>
                  </a:lnTo>
                  <a:lnTo>
                    <a:pt x="1085" y="1064"/>
                  </a:lnTo>
                  <a:lnTo>
                    <a:pt x="1092" y="1051"/>
                  </a:lnTo>
                  <a:lnTo>
                    <a:pt x="1099" y="1041"/>
                  </a:lnTo>
                  <a:lnTo>
                    <a:pt x="1108" y="1030"/>
                  </a:lnTo>
                  <a:lnTo>
                    <a:pt x="1117" y="1021"/>
                  </a:lnTo>
                  <a:lnTo>
                    <a:pt x="1127" y="1011"/>
                  </a:lnTo>
                  <a:lnTo>
                    <a:pt x="1115" y="993"/>
                  </a:lnTo>
                  <a:lnTo>
                    <a:pt x="1104" y="974"/>
                  </a:lnTo>
                  <a:lnTo>
                    <a:pt x="1098" y="950"/>
                  </a:lnTo>
                  <a:lnTo>
                    <a:pt x="1094" y="924"/>
                  </a:lnTo>
                  <a:lnTo>
                    <a:pt x="1093" y="898"/>
                  </a:lnTo>
                  <a:lnTo>
                    <a:pt x="1095" y="870"/>
                  </a:lnTo>
                  <a:lnTo>
                    <a:pt x="1100" y="842"/>
                  </a:lnTo>
                  <a:lnTo>
                    <a:pt x="1108" y="817"/>
                  </a:lnTo>
                  <a:lnTo>
                    <a:pt x="1114" y="807"/>
                  </a:lnTo>
                  <a:lnTo>
                    <a:pt x="1126" y="793"/>
                  </a:lnTo>
                  <a:lnTo>
                    <a:pt x="1142" y="777"/>
                  </a:lnTo>
                  <a:lnTo>
                    <a:pt x="1161" y="761"/>
                  </a:lnTo>
                  <a:lnTo>
                    <a:pt x="1180" y="743"/>
                  </a:lnTo>
                  <a:lnTo>
                    <a:pt x="1199" y="730"/>
                  </a:lnTo>
                  <a:lnTo>
                    <a:pt x="1214" y="719"/>
                  </a:lnTo>
                  <a:lnTo>
                    <a:pt x="1225" y="715"/>
                  </a:lnTo>
                  <a:lnTo>
                    <a:pt x="1238" y="712"/>
                  </a:lnTo>
                  <a:lnTo>
                    <a:pt x="1250" y="710"/>
                  </a:lnTo>
                  <a:lnTo>
                    <a:pt x="1262" y="709"/>
                  </a:lnTo>
                  <a:lnTo>
                    <a:pt x="1274" y="708"/>
                  </a:lnTo>
                  <a:lnTo>
                    <a:pt x="1286" y="708"/>
                  </a:lnTo>
                  <a:lnTo>
                    <a:pt x="1299" y="708"/>
                  </a:lnTo>
                  <a:lnTo>
                    <a:pt x="1312" y="709"/>
                  </a:lnTo>
                  <a:lnTo>
                    <a:pt x="1326" y="711"/>
                  </a:lnTo>
                  <a:close/>
                </a:path>
              </a:pathLst>
            </a:custGeom>
            <a:solidFill>
              <a:srgbClr val="0066cc">
                <a:alpha val="50000"/>
              </a:srgbClr>
            </a:solidFill>
            <a:ln w="9360">
              <a:solidFill>
                <a:srgbClr val="007c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80880" y="5105520"/>
            <a:ext cx="815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MANDA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ACTIVIDAD NORMALIZADORA DEL CTN/AEN 133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2438280"/>
          <a:ext cx="8305920" cy="40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438280"/>
                    <a:ext cx="8305920" cy="40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ACTIVIDAD NORMALIZADORA DEL CTN/AEN 133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05120"/>
          <a:ext cx="830592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05120"/>
                    <a:ext cx="830592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ACTIVIDAD NORMALIZADORA DEL CTN/AEN 133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2438280"/>
          <a:ext cx="8305920" cy="40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438280"/>
                    <a:ext cx="8305920" cy="40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800000"/>
                </a:solidFill>
                <a:latin typeface="Arial"/>
              </a:rPr>
              <a:t>ACTIVIDAD NORMALIZADORA DEL CTN/AEN 133. </a:t>
            </a:r>
            <a:br>
              <a:rPr sz="2000"/>
            </a:br>
            <a:r>
              <a:rPr b="1" lang="es-ES_tradnl" sz="2000" spc="-1" strike="noStrike">
                <a:solidFill>
                  <a:srgbClr val="800000"/>
                </a:solidFill>
                <a:latin typeface="Arial"/>
              </a:rPr>
              <a:t>                                          BENEFICIOS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800000"/>
                </a:solidFill>
                <a:latin typeface="Arial"/>
              </a:rPr>
              <a:t>La participación en este foro permite:</a:t>
            </a:r>
            <a:br>
              <a:rPr sz="2000"/>
            </a:br>
            <a:r>
              <a:rPr b="1" lang="es-ES_tradnl" sz="2000" spc="-1" strike="noStrike">
                <a:solidFill>
                  <a:srgbClr val="800000"/>
                </a:solidFill>
                <a:latin typeface="Arial"/>
              </a:rPr>
              <a:t>         - el seguimiento </a:t>
            </a:r>
            <a:br>
              <a:rPr sz="2000"/>
            </a:br>
            <a:r>
              <a:rPr b="1" lang="es-ES_tradnl" sz="2000" spc="-1" strike="noStrike">
                <a:solidFill>
                  <a:srgbClr val="800000"/>
                </a:solidFill>
                <a:latin typeface="Arial"/>
              </a:rPr>
              <a:t>         - la capacidad de discutir desde una perspectiva nacional</a:t>
            </a:r>
            <a:br>
              <a:rPr sz="2000"/>
            </a:br>
            <a:r>
              <a:rPr b="1" lang="es-ES_tradnl" sz="2000" spc="-1" strike="noStrike">
                <a:solidFill>
                  <a:srgbClr val="800000"/>
                </a:solidFill>
                <a:latin typeface="Arial"/>
              </a:rPr>
              <a:t>         - la posibilidad de emitir comentarios e influir </a:t>
            </a:r>
            <a:br>
              <a:rPr sz="2000"/>
            </a:br>
            <a:r>
              <a:rPr b="1" lang="es-ES_tradnl" sz="2000" spc="-1" strike="noStrike">
                <a:solidFill>
                  <a:srgbClr val="800000"/>
                </a:solidFill>
                <a:latin typeface="Arial"/>
              </a:rPr>
              <a:t>         - la elaboración </a:t>
            </a: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800000"/>
                </a:solidFill>
                <a:latin typeface="Arial"/>
              </a:rPr>
              <a:t>de las especificaciones técnicas que van a servir de referencia en </a:t>
            </a:r>
            <a:br>
              <a:rPr sz="2000"/>
            </a:br>
            <a:r>
              <a:rPr b="1" lang="es-ES_tradnl" sz="2000" spc="-1" strike="noStrike">
                <a:solidFill>
                  <a:srgbClr val="800000"/>
                </a:solidFill>
                <a:latin typeface="Arial"/>
              </a:rPr>
              <a:t>la regulación del Sector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800000"/>
                </a:solidFill>
                <a:latin typeface="Arial"/>
              </a:rPr>
              <a:t>“Las normas de hoy, son las tecnologías del mañana”</a:t>
            </a:r>
            <a:br>
              <a:rPr sz="2000"/>
            </a:br>
            <a:endParaRPr b="0" lang="en-US" sz="20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uzzle3"/>
          <p:cNvSpPr/>
          <p:nvPr/>
        </p:nvSpPr>
        <p:spPr>
          <a:xfrm>
            <a:off x="4010040" y="2209680"/>
            <a:ext cx="1949400" cy="2347920"/>
          </a:xfrm>
          <a:prstGeom prst="pie">
            <a:avLst/>
          </a:prstGeom>
          <a:solidFill>
            <a:srgbClr val="ffbe7d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uzzle2"/>
          <p:cNvSpPr/>
          <p:nvPr/>
        </p:nvSpPr>
        <p:spPr>
          <a:xfrm>
            <a:off x="3446640" y="3921120"/>
            <a:ext cx="3106440" cy="2138400"/>
          </a:xfrm>
          <a:prstGeom prst="pie">
            <a:avLst/>
          </a:prstGeom>
          <a:solidFill>
            <a:srgbClr val="ffffcc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uzzle4"/>
          <p:cNvSpPr/>
          <p:nvPr/>
        </p:nvSpPr>
        <p:spPr>
          <a:xfrm>
            <a:off x="2241720" y="3895560"/>
            <a:ext cx="1874520" cy="2733840"/>
          </a:xfrm>
          <a:prstGeom prst="pie">
            <a:avLst/>
          </a:prstGeom>
          <a:solidFill>
            <a:srgbClr val="d8ebb3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uzzle1"/>
          <p:cNvSpPr/>
          <p:nvPr/>
        </p:nvSpPr>
        <p:spPr>
          <a:xfrm>
            <a:off x="1600200" y="2921040"/>
            <a:ext cx="3147840" cy="1630440"/>
          </a:xfrm>
          <a:prstGeom prst="pie">
            <a:avLst/>
          </a:prstGeom>
          <a:solidFill>
            <a:srgbClr val="ccccff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ACTIVIDAD NORMALIZADORA DEL CTN/AEN 133. 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                                       BENEFICIOS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UMIDORES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GOCIO</a:t>
            </a:r>
            <a:br>
              <a:rPr sz="1600"/>
            </a:b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MAS        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(nuevos)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SERVICIOS          OPERADOR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EQUIPOS            FABRICANT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SISTEMAS         INTEGRADORE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DISTRIBUIDORES</a:t>
            </a:r>
            <a:endParaRPr b="0" lang="en-US" sz="16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¿ QUE ES LA NORMALIZACION?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onjunto de actividades de coordinación de criterios, opiniones, 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   conocimientos, métodos de medida, límites de ensayo, etc. 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   con el objetivo de elaborar documentos (normas, 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   especificaciones técnicas, recomendaciones, etc. )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¿ QUE ES UNA NORMA?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Documento de aplicación voluntaria que contiene especificaciones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   técnicas sobre ..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¿ PARA QUE LAS NORMAS / LA NORMALIZACIÓN?</a:t>
            </a:r>
            <a:br>
              <a:rPr sz="2400"/>
            </a:b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     * diseño y fabricación de equipos y sistemas, 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     * eliminación de barreras técnicas y comerciales,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     * interoperabilidad y prestación de servicios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     * disminución dependencia tecnológica respecto a un fabricante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     * ampliación de mercados, economías de escala, etc. </a:t>
            </a:r>
            <a:endParaRPr b="0" lang="en-US" sz="20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00"/>
                </a:solidFill>
                <a:latin typeface="Arial"/>
              </a:rPr>
              <a:t>ÉXITO DE UNA NORMA                       UTILIDAD</a:t>
            </a:r>
            <a:br>
              <a:rPr sz="2400"/>
            </a:br>
            <a:r>
              <a:rPr b="1" lang="es-ES_tradnl" sz="2400" spc="-1" strike="noStrike">
                <a:solidFill>
                  <a:srgbClr val="800000"/>
                </a:solidFill>
                <a:latin typeface="Arial"/>
              </a:rPr>
              <a:t> </a:t>
            </a:r>
            <a:br>
              <a:rPr sz="2400"/>
            </a:br>
            <a:r>
              <a:rPr b="1" lang="es-ES_tradnl" sz="2400" spc="-1" strike="noStrike">
                <a:solidFill>
                  <a:srgbClr val="800000"/>
                </a:solidFill>
                <a:latin typeface="Arial"/>
              </a:rPr>
              <a:t>                    AMPLIA APLICACIÓN VOLUNTARIA 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800000"/>
                </a:solidFill>
                <a:latin typeface="Arial"/>
              </a:rPr>
              <a:t>* Respeto de los puntos de vista de todas las partes implicadas</a:t>
            </a:r>
            <a:br>
              <a:rPr sz="2000"/>
            </a:br>
            <a:r>
              <a:rPr b="1" lang="es-ES_tradnl" sz="2000" spc="-1" strike="noStrike">
                <a:solidFill>
                  <a:srgbClr val="800000"/>
                </a:solidFill>
                <a:latin typeface="Arial"/>
              </a:rPr>
              <a:t>                               PARTICIPACIÓN DE TODOS</a:t>
            </a: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800000"/>
                </a:solidFill>
                <a:latin typeface="Arial"/>
              </a:rPr>
              <a:t>  * Satisfacción de todos los interesados</a:t>
            </a:r>
            <a:br>
              <a:rPr sz="2000"/>
            </a:br>
            <a:r>
              <a:rPr b="1" lang="es-ES_tradnl" sz="2000" spc="-1" strike="noStrike">
                <a:solidFill>
                  <a:srgbClr val="800000"/>
                </a:solidFill>
                <a:latin typeface="Arial"/>
              </a:rPr>
              <a:t>                                CONSENSO</a:t>
            </a: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800000"/>
                </a:solidFill>
                <a:latin typeface="Arial"/>
              </a:rPr>
              <a:t>  * Amplia difusión, facilidad de acceso a la norma</a:t>
            </a:r>
            <a:br>
              <a:rPr sz="2000"/>
            </a:br>
            <a:r>
              <a:rPr b="1" lang="es-ES_tradnl" sz="2000" spc="-1" strike="noStrike">
                <a:solidFill>
                  <a:srgbClr val="800000"/>
                </a:solidFill>
                <a:latin typeface="Arial"/>
              </a:rPr>
              <a:t>                                PUBLICACIÓN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91120" y="1523880"/>
            <a:ext cx="1447560" cy="304920"/>
          </a:xfrm>
          <a:prstGeom prst="leftRightArrow">
            <a:avLst>
              <a:gd name="adj1" fmla="val 50000"/>
              <a:gd name="adj2" fmla="val 94507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33526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51814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0000"/>
                </a:solidFill>
                <a:latin typeface="Arial"/>
              </a:rPr>
              <a:t>                                                   </a:t>
            </a:r>
            <a:r>
              <a:rPr b="1" lang="es-ES_tradnl" sz="2000" spc="-1" strike="noStrike">
                <a:solidFill>
                  <a:srgbClr val="800000"/>
                </a:solidFill>
                <a:latin typeface="Arial"/>
              </a:rPr>
              <a:t>NORMA</a:t>
            </a: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800000"/>
                </a:solidFill>
                <a:latin typeface="Arial"/>
              </a:rPr>
              <a:t>                                                                                    OPERADORES </a:t>
            </a:r>
            <a:br>
              <a:rPr sz="2000"/>
            </a:br>
            <a:r>
              <a:rPr b="1" lang="es-ES_tradnl" sz="2000" spc="-1" strike="noStrike">
                <a:solidFill>
                  <a:srgbClr val="800000"/>
                </a:solidFill>
                <a:latin typeface="Arial"/>
              </a:rPr>
              <a:t> ADMINISTRACION                                                       INDUSTRIA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800000"/>
                </a:solidFill>
                <a:latin typeface="Arial"/>
              </a:rPr>
              <a:t>                                              conocimientos</a:t>
            </a: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800000"/>
                </a:solidFill>
                <a:latin typeface="Arial"/>
              </a:rPr>
              <a:t>                                                   criterios</a:t>
            </a:r>
            <a:br>
              <a:rPr sz="2000"/>
            </a:br>
            <a:r>
              <a:rPr b="1" lang="es-ES_tradnl" sz="2000" spc="-1" strike="noStrike">
                <a:solidFill>
                  <a:srgbClr val="800000"/>
                </a:solidFill>
                <a:latin typeface="Arial"/>
              </a:rPr>
              <a:t>                                                       ...... </a:t>
            </a:r>
            <a:br>
              <a:rPr sz="2000"/>
            </a:br>
            <a:r>
              <a:rPr b="1" lang="es-ES_tradnl" sz="2000" spc="-1" strike="noStrike">
                <a:solidFill>
                  <a:srgbClr val="800000"/>
                </a:solidFill>
                <a:latin typeface="Arial"/>
              </a:rPr>
              <a:t>                                          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800000"/>
                </a:solidFill>
                <a:latin typeface="Arial"/>
              </a:rPr>
              <a:t>CONSUMIDORES                                                     I+D, UNIVERSIDADES,</a:t>
            </a:r>
            <a:br>
              <a:rPr sz="2000"/>
            </a:br>
            <a:r>
              <a:rPr b="1" lang="es-ES_tradnl" sz="2000" spc="-1" strike="noStrike">
                <a:solidFill>
                  <a:srgbClr val="800000"/>
                </a:solidFill>
                <a:latin typeface="Arial"/>
              </a:rPr>
              <a:t>                                                                                               OTROS</a:t>
            </a:r>
            <a:endParaRPr b="0" lang="en-US" sz="2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2590920"/>
            <a:ext cx="3352680" cy="3124080"/>
          </a:xfrm>
          <a:prstGeom prst="ellipse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2809800">
            <a:off x="2863440" y="4721040"/>
            <a:ext cx="304560" cy="1219320"/>
          </a:xfrm>
          <a:prstGeom prst="upArrow">
            <a:avLst>
              <a:gd name="adj1" fmla="val 50000"/>
              <a:gd name="adj2" fmla="val 100089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7141200">
            <a:off x="2942640" y="2438280"/>
            <a:ext cx="304560" cy="1143000"/>
          </a:xfrm>
          <a:prstGeom prst="upArrow">
            <a:avLst>
              <a:gd name="adj1" fmla="val 50000"/>
              <a:gd name="adj2" fmla="val 9382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8018000">
            <a:off x="6095880" y="4876560"/>
            <a:ext cx="228600" cy="1143000"/>
          </a:xfrm>
          <a:prstGeom prst="upArrow">
            <a:avLst>
              <a:gd name="adj1" fmla="val 50000"/>
              <a:gd name="adj2" fmla="val 1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3537200">
            <a:off x="6095520" y="2437920"/>
            <a:ext cx="304920" cy="1219320"/>
          </a:xfrm>
          <a:prstGeom prst="upArrow">
            <a:avLst>
              <a:gd name="adj1" fmla="val 50000"/>
              <a:gd name="adj2" fmla="val 9997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6222200">
            <a:off x="4174200" y="207396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0000"/>
                </a:solidFill>
                <a:latin typeface="Arial"/>
              </a:rPr>
              <a:t>                                                   </a:t>
            </a:r>
            <a:r>
              <a:rPr b="1" lang="es-ES_tradnl" sz="2000" spc="-1" strike="noStrike">
                <a:solidFill>
                  <a:srgbClr val="800000"/>
                </a:solidFill>
                <a:latin typeface="Arial"/>
              </a:rPr>
              <a:t>NORMA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800000"/>
                </a:solidFill>
                <a:latin typeface="Arial"/>
              </a:rPr>
              <a:t>                            </a:t>
            </a:r>
            <a:br>
              <a:rPr sz="2000"/>
            </a:br>
            <a:r>
              <a:rPr b="1" lang="es-ES_tradnl" sz="2000" spc="-1" strike="noStrike">
                <a:solidFill>
                  <a:srgbClr val="800000"/>
                </a:solidFill>
                <a:latin typeface="Arial"/>
              </a:rPr>
              <a:t>                                             ORGANISMO </a:t>
            </a:r>
            <a:br>
              <a:rPr sz="2000"/>
            </a:br>
            <a:r>
              <a:rPr b="1" lang="es-ES_tradnl" sz="2000" spc="-1" strike="noStrike">
                <a:solidFill>
                  <a:srgbClr val="800000"/>
                </a:solidFill>
                <a:latin typeface="Arial"/>
              </a:rPr>
              <a:t>                                       DE NORMALIZACIÓN</a:t>
            </a: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800000"/>
                </a:solidFill>
                <a:latin typeface="Arial"/>
              </a:rPr>
              <a:t>         APOYO PARA EL DESARROLLO DE TRABAJOS DE MANERA</a:t>
            </a:r>
            <a:br>
              <a:rPr sz="2000"/>
            </a:br>
            <a:r>
              <a:rPr b="1" lang="es-ES_tradnl" sz="2000" spc="-1" strike="noStrike">
                <a:solidFill>
                  <a:srgbClr val="800000"/>
                </a:solidFill>
                <a:latin typeface="Arial"/>
              </a:rPr>
              <a:t>                                                 imparcial</a:t>
            </a:r>
            <a:br>
              <a:rPr sz="2000"/>
            </a:br>
            <a:r>
              <a:rPr b="1" lang="es-ES_tradnl" sz="2000" spc="-1" strike="noStrike">
                <a:solidFill>
                  <a:srgbClr val="800000"/>
                </a:solidFill>
                <a:latin typeface="Arial"/>
              </a:rPr>
              <a:t>                                              transparente</a:t>
            </a:r>
            <a:br>
              <a:rPr sz="2000"/>
            </a:br>
            <a:r>
              <a:rPr b="1" lang="es-ES_tradnl" sz="2000" spc="-1" strike="noStrike">
                <a:solidFill>
                  <a:srgbClr val="800000"/>
                </a:solidFill>
                <a:latin typeface="Arial"/>
              </a:rPr>
              <a:t>                                                equilibrada</a:t>
            </a:r>
            <a:br>
              <a:rPr sz="2000"/>
            </a:br>
            <a:r>
              <a:rPr b="1" lang="es-ES_tradnl" sz="2000" spc="-1" strike="noStrike">
                <a:solidFill>
                  <a:srgbClr val="800000"/>
                </a:solidFill>
                <a:latin typeface="Arial"/>
              </a:rPr>
              <a:t>                                              consensuada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800000"/>
                </a:solidFill>
                <a:latin typeface="Arial"/>
              </a:rPr>
              <a:t>                             PUBLICA Y DIFUNDE LAS NORMAS</a:t>
            </a:r>
            <a:endParaRPr b="0" lang="en-US" sz="2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71800" y="2590920"/>
            <a:ext cx="3352680" cy="3124080"/>
          </a:xfrm>
          <a:prstGeom prst="ellipse">
            <a:avLst/>
          </a:prstGeom>
          <a:noFill/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6222200">
            <a:off x="4174200" y="207396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7141200">
            <a:off x="2942640" y="2438280"/>
            <a:ext cx="304560" cy="1143000"/>
          </a:xfrm>
          <a:prstGeom prst="upArrow">
            <a:avLst>
              <a:gd name="adj1" fmla="val 50000"/>
              <a:gd name="adj2" fmla="val 93824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3537200">
            <a:off x="6095520" y="2437920"/>
            <a:ext cx="304920" cy="1219320"/>
          </a:xfrm>
          <a:prstGeom prst="upArrow">
            <a:avLst>
              <a:gd name="adj1" fmla="val 50000"/>
              <a:gd name="adj2" fmla="val 99970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2809800">
            <a:off x="2863440" y="4721040"/>
            <a:ext cx="304560" cy="1219320"/>
          </a:xfrm>
          <a:prstGeom prst="upArrow">
            <a:avLst>
              <a:gd name="adj1" fmla="val 50000"/>
              <a:gd name="adj2" fmla="val 100089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8018000">
            <a:off x="6095880" y="4876560"/>
            <a:ext cx="228600" cy="1143000"/>
          </a:xfrm>
          <a:prstGeom prst="upArrow">
            <a:avLst>
              <a:gd name="adj1" fmla="val 50000"/>
              <a:gd name="adj2" fmla="val 125000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0000"/>
                </a:solidFill>
                <a:latin typeface="Arial"/>
              </a:rPr>
              <a:t>                              </a:t>
            </a:r>
            <a:r>
              <a:rPr b="1" lang="es-ES_tradnl" sz="2000" spc="-1" strike="noStrike">
                <a:solidFill>
                  <a:srgbClr val="800000"/>
                </a:solidFill>
                <a:latin typeface="Arial"/>
              </a:rPr>
              <a:t>AMBITOS DE NORMALIZACIÓN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800000"/>
                </a:solidFill>
                <a:latin typeface="Arial"/>
              </a:rPr>
              <a:t>                             </a:t>
            </a:r>
            <a:br>
              <a:rPr sz="2000"/>
            </a:br>
            <a:endParaRPr b="0" lang="en-US" sz="20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2057400"/>
          <a:ext cx="8305920" cy="4368960"/>
        </p:xfrm>
        <a:graphic>
          <a:graphicData uri="http://schemas.openxmlformats.org/drawingml/2006/table">
            <a:tbl>
              <a:tblPr/>
              <a:tblGrid>
                <a:gridCol w="2362320"/>
                <a:gridCol w="1790640"/>
                <a:gridCol w="2076480"/>
                <a:gridCol w="2076480"/>
              </a:tblGrid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922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800000"/>
                          </a:solidFill>
                          <a:latin typeface="Arial Unicode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800000"/>
                          </a:solidFill>
                          <a:latin typeface="Arial Unicode MS"/>
                        </a:rPr>
                        <a:t>INTERNA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a9a00"/>
                        </a:gs>
                        <a:gs pos="100000">
                          <a:srgbClr val="cccc00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22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800000"/>
                          </a:solidFill>
                          <a:latin typeface="Arial Unicode MS"/>
                        </a:rPr>
                        <a:t>REG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5e4675"/>
                        </a:gs>
                        <a:gs pos="100000">
                          <a:srgbClr val="cc99ff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22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800000"/>
                          </a:solidFill>
                          <a:latin typeface="Arial Unicode MS"/>
                        </a:rPr>
                        <a:t>NA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755e46"/>
                        </a:gs>
                        <a:gs pos="100000">
                          <a:srgbClr val="ffcc99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191120" y="3200400"/>
            <a:ext cx="1652400" cy="934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419720" y="4343400"/>
            <a:ext cx="649080" cy="878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495680" y="5715000"/>
            <a:ext cx="493920" cy="444600"/>
          </a:xfrm>
          <a:custGeom>
            <a:avLst/>
            <a:gdLst/>
            <a:ahLst/>
            <a:rect l="l" t="t" r="r" b="b"/>
            <a:pathLst>
              <a:path w="2060" h="1772">
                <a:moveTo>
                  <a:pt x="1548" y="1418"/>
                </a:moveTo>
                <a:lnTo>
                  <a:pt x="1537" y="1425"/>
                </a:lnTo>
                <a:lnTo>
                  <a:pt x="1526" y="1431"/>
                </a:lnTo>
                <a:lnTo>
                  <a:pt x="1518" y="1437"/>
                </a:lnTo>
                <a:lnTo>
                  <a:pt x="1513" y="1443"/>
                </a:lnTo>
                <a:lnTo>
                  <a:pt x="1507" y="1448"/>
                </a:lnTo>
                <a:lnTo>
                  <a:pt x="1502" y="1455"/>
                </a:lnTo>
                <a:lnTo>
                  <a:pt x="1498" y="1464"/>
                </a:lnTo>
                <a:lnTo>
                  <a:pt x="1492" y="1475"/>
                </a:lnTo>
                <a:lnTo>
                  <a:pt x="1496" y="1478"/>
                </a:lnTo>
                <a:lnTo>
                  <a:pt x="1501" y="1483"/>
                </a:lnTo>
                <a:lnTo>
                  <a:pt x="1507" y="1486"/>
                </a:lnTo>
                <a:lnTo>
                  <a:pt x="1514" y="1489"/>
                </a:lnTo>
                <a:lnTo>
                  <a:pt x="1519" y="1492"/>
                </a:lnTo>
                <a:lnTo>
                  <a:pt x="1526" y="1493"/>
                </a:lnTo>
                <a:lnTo>
                  <a:pt x="1532" y="1496"/>
                </a:lnTo>
                <a:lnTo>
                  <a:pt x="1538" y="1496"/>
                </a:lnTo>
                <a:lnTo>
                  <a:pt x="1545" y="1487"/>
                </a:lnTo>
                <a:lnTo>
                  <a:pt x="1552" y="1481"/>
                </a:lnTo>
                <a:lnTo>
                  <a:pt x="1558" y="1472"/>
                </a:lnTo>
                <a:lnTo>
                  <a:pt x="1564" y="1466"/>
                </a:lnTo>
                <a:lnTo>
                  <a:pt x="1570" y="1459"/>
                </a:lnTo>
                <a:lnTo>
                  <a:pt x="1576" y="1453"/>
                </a:lnTo>
                <a:lnTo>
                  <a:pt x="1583" y="1448"/>
                </a:lnTo>
                <a:lnTo>
                  <a:pt x="1590" y="1444"/>
                </a:lnTo>
                <a:lnTo>
                  <a:pt x="1585" y="1437"/>
                </a:lnTo>
                <a:lnTo>
                  <a:pt x="1582" y="1432"/>
                </a:lnTo>
                <a:lnTo>
                  <a:pt x="1576" y="1428"/>
                </a:lnTo>
                <a:lnTo>
                  <a:pt x="1571" y="1425"/>
                </a:lnTo>
                <a:lnTo>
                  <a:pt x="1566" y="1423"/>
                </a:lnTo>
                <a:lnTo>
                  <a:pt x="1560" y="1422"/>
                </a:lnTo>
                <a:lnTo>
                  <a:pt x="1554" y="1419"/>
                </a:lnTo>
                <a:lnTo>
                  <a:pt x="1548" y="1418"/>
                </a:lnTo>
                <a:close/>
                <a:moveTo>
                  <a:pt x="1759" y="1341"/>
                </a:moveTo>
                <a:lnTo>
                  <a:pt x="1740" y="1340"/>
                </a:lnTo>
                <a:lnTo>
                  <a:pt x="1727" y="1342"/>
                </a:lnTo>
                <a:lnTo>
                  <a:pt x="1720" y="1348"/>
                </a:lnTo>
                <a:lnTo>
                  <a:pt x="1719" y="1356"/>
                </a:lnTo>
                <a:lnTo>
                  <a:pt x="1722" y="1365"/>
                </a:lnTo>
                <a:lnTo>
                  <a:pt x="1731" y="1375"/>
                </a:lnTo>
                <a:lnTo>
                  <a:pt x="1743" y="1381"/>
                </a:lnTo>
                <a:lnTo>
                  <a:pt x="1759" y="1387"/>
                </a:lnTo>
                <a:lnTo>
                  <a:pt x="1760" y="1402"/>
                </a:lnTo>
                <a:lnTo>
                  <a:pt x="1763" y="1415"/>
                </a:lnTo>
                <a:lnTo>
                  <a:pt x="1766" y="1428"/>
                </a:lnTo>
                <a:lnTo>
                  <a:pt x="1770" y="1439"/>
                </a:lnTo>
                <a:lnTo>
                  <a:pt x="1789" y="1437"/>
                </a:lnTo>
                <a:lnTo>
                  <a:pt x="1806" y="1432"/>
                </a:lnTo>
                <a:lnTo>
                  <a:pt x="1821" y="1424"/>
                </a:lnTo>
                <a:lnTo>
                  <a:pt x="1836" y="1415"/>
                </a:lnTo>
                <a:lnTo>
                  <a:pt x="1851" y="1407"/>
                </a:lnTo>
                <a:lnTo>
                  <a:pt x="1866" y="1399"/>
                </a:lnTo>
                <a:lnTo>
                  <a:pt x="1884" y="1394"/>
                </a:lnTo>
                <a:lnTo>
                  <a:pt x="1903" y="1392"/>
                </a:lnTo>
                <a:lnTo>
                  <a:pt x="1902" y="1383"/>
                </a:lnTo>
                <a:lnTo>
                  <a:pt x="1899" y="1376"/>
                </a:lnTo>
                <a:lnTo>
                  <a:pt x="1894" y="1371"/>
                </a:lnTo>
                <a:lnTo>
                  <a:pt x="1888" y="1368"/>
                </a:lnTo>
                <a:lnTo>
                  <a:pt x="1881" y="1366"/>
                </a:lnTo>
                <a:lnTo>
                  <a:pt x="1873" y="1366"/>
                </a:lnTo>
                <a:lnTo>
                  <a:pt x="1865" y="1366"/>
                </a:lnTo>
                <a:lnTo>
                  <a:pt x="1857" y="1366"/>
                </a:lnTo>
                <a:lnTo>
                  <a:pt x="1849" y="1354"/>
                </a:lnTo>
                <a:lnTo>
                  <a:pt x="1842" y="1346"/>
                </a:lnTo>
                <a:lnTo>
                  <a:pt x="1833" y="1341"/>
                </a:lnTo>
                <a:lnTo>
                  <a:pt x="1824" y="1340"/>
                </a:lnTo>
                <a:lnTo>
                  <a:pt x="1812" y="1340"/>
                </a:lnTo>
                <a:lnTo>
                  <a:pt x="1798" y="1341"/>
                </a:lnTo>
                <a:lnTo>
                  <a:pt x="1780" y="1342"/>
                </a:lnTo>
                <a:lnTo>
                  <a:pt x="1759" y="1341"/>
                </a:lnTo>
                <a:close/>
                <a:moveTo>
                  <a:pt x="1986" y="1331"/>
                </a:moveTo>
                <a:lnTo>
                  <a:pt x="1978" y="1332"/>
                </a:lnTo>
                <a:lnTo>
                  <a:pt x="1969" y="1337"/>
                </a:lnTo>
                <a:lnTo>
                  <a:pt x="1961" y="1341"/>
                </a:lnTo>
                <a:lnTo>
                  <a:pt x="1955" y="1346"/>
                </a:lnTo>
                <a:lnTo>
                  <a:pt x="1958" y="1354"/>
                </a:lnTo>
                <a:lnTo>
                  <a:pt x="1967" y="1362"/>
                </a:lnTo>
                <a:lnTo>
                  <a:pt x="1978" y="1370"/>
                </a:lnTo>
                <a:lnTo>
                  <a:pt x="1993" y="1377"/>
                </a:lnTo>
                <a:lnTo>
                  <a:pt x="2008" y="1384"/>
                </a:lnTo>
                <a:lnTo>
                  <a:pt x="2022" y="1390"/>
                </a:lnTo>
                <a:lnTo>
                  <a:pt x="2034" y="1394"/>
                </a:lnTo>
                <a:lnTo>
                  <a:pt x="2043" y="1398"/>
                </a:lnTo>
                <a:lnTo>
                  <a:pt x="2055" y="1381"/>
                </a:lnTo>
                <a:lnTo>
                  <a:pt x="2060" y="1369"/>
                </a:lnTo>
                <a:lnTo>
                  <a:pt x="2059" y="1357"/>
                </a:lnTo>
                <a:lnTo>
                  <a:pt x="2051" y="1348"/>
                </a:lnTo>
                <a:lnTo>
                  <a:pt x="2038" y="1342"/>
                </a:lnTo>
                <a:lnTo>
                  <a:pt x="2023" y="1337"/>
                </a:lnTo>
                <a:lnTo>
                  <a:pt x="2005" y="1333"/>
                </a:lnTo>
                <a:lnTo>
                  <a:pt x="1986" y="1331"/>
                </a:lnTo>
                <a:close/>
                <a:moveTo>
                  <a:pt x="1698" y="700"/>
                </a:moveTo>
                <a:lnTo>
                  <a:pt x="1692" y="700"/>
                </a:lnTo>
                <a:lnTo>
                  <a:pt x="1687" y="700"/>
                </a:lnTo>
                <a:lnTo>
                  <a:pt x="1681" y="700"/>
                </a:lnTo>
                <a:lnTo>
                  <a:pt x="1675" y="702"/>
                </a:lnTo>
                <a:lnTo>
                  <a:pt x="1670" y="703"/>
                </a:lnTo>
                <a:lnTo>
                  <a:pt x="1665" y="705"/>
                </a:lnTo>
                <a:lnTo>
                  <a:pt x="1661" y="707"/>
                </a:lnTo>
                <a:lnTo>
                  <a:pt x="1657" y="711"/>
                </a:lnTo>
                <a:lnTo>
                  <a:pt x="1659" y="724"/>
                </a:lnTo>
                <a:lnTo>
                  <a:pt x="1664" y="737"/>
                </a:lnTo>
                <a:lnTo>
                  <a:pt x="1669" y="750"/>
                </a:lnTo>
                <a:lnTo>
                  <a:pt x="1677" y="763"/>
                </a:lnTo>
                <a:lnTo>
                  <a:pt x="1692" y="763"/>
                </a:lnTo>
                <a:lnTo>
                  <a:pt x="1705" y="762"/>
                </a:lnTo>
                <a:lnTo>
                  <a:pt x="1714" y="759"/>
                </a:lnTo>
                <a:lnTo>
                  <a:pt x="1721" y="757"/>
                </a:lnTo>
                <a:lnTo>
                  <a:pt x="1728" y="752"/>
                </a:lnTo>
                <a:lnTo>
                  <a:pt x="1736" y="745"/>
                </a:lnTo>
                <a:lnTo>
                  <a:pt x="1744" y="737"/>
                </a:lnTo>
                <a:lnTo>
                  <a:pt x="1755" y="727"/>
                </a:lnTo>
                <a:lnTo>
                  <a:pt x="1766" y="736"/>
                </a:lnTo>
                <a:lnTo>
                  <a:pt x="1779" y="747"/>
                </a:lnTo>
                <a:lnTo>
                  <a:pt x="1793" y="757"/>
                </a:lnTo>
                <a:lnTo>
                  <a:pt x="1806" y="768"/>
                </a:lnTo>
                <a:lnTo>
                  <a:pt x="1820" y="778"/>
                </a:lnTo>
                <a:lnTo>
                  <a:pt x="1833" y="786"/>
                </a:lnTo>
                <a:lnTo>
                  <a:pt x="1843" y="792"/>
                </a:lnTo>
                <a:lnTo>
                  <a:pt x="1852" y="794"/>
                </a:lnTo>
                <a:lnTo>
                  <a:pt x="1934" y="798"/>
                </a:lnTo>
                <a:lnTo>
                  <a:pt x="1938" y="804"/>
                </a:lnTo>
                <a:lnTo>
                  <a:pt x="1943" y="812"/>
                </a:lnTo>
                <a:lnTo>
                  <a:pt x="1950" y="819"/>
                </a:lnTo>
                <a:lnTo>
                  <a:pt x="1953" y="824"/>
                </a:lnTo>
                <a:lnTo>
                  <a:pt x="1953" y="831"/>
                </a:lnTo>
                <a:lnTo>
                  <a:pt x="1950" y="843"/>
                </a:lnTo>
                <a:lnTo>
                  <a:pt x="1946" y="858"/>
                </a:lnTo>
                <a:lnTo>
                  <a:pt x="1941" y="876"/>
                </a:lnTo>
                <a:lnTo>
                  <a:pt x="1934" y="892"/>
                </a:lnTo>
                <a:lnTo>
                  <a:pt x="1927" y="907"/>
                </a:lnTo>
                <a:lnTo>
                  <a:pt x="1922" y="917"/>
                </a:lnTo>
                <a:lnTo>
                  <a:pt x="1916" y="922"/>
                </a:lnTo>
                <a:lnTo>
                  <a:pt x="1791" y="976"/>
                </a:lnTo>
                <a:lnTo>
                  <a:pt x="1779" y="982"/>
                </a:lnTo>
                <a:lnTo>
                  <a:pt x="1766" y="986"/>
                </a:lnTo>
                <a:lnTo>
                  <a:pt x="1753" y="991"/>
                </a:lnTo>
                <a:lnTo>
                  <a:pt x="1740" y="995"/>
                </a:lnTo>
                <a:lnTo>
                  <a:pt x="1727" y="999"/>
                </a:lnTo>
                <a:lnTo>
                  <a:pt x="1713" y="1001"/>
                </a:lnTo>
                <a:lnTo>
                  <a:pt x="1700" y="1005"/>
                </a:lnTo>
                <a:lnTo>
                  <a:pt x="1687" y="1006"/>
                </a:lnTo>
                <a:lnTo>
                  <a:pt x="1673" y="1008"/>
                </a:lnTo>
                <a:lnTo>
                  <a:pt x="1660" y="1008"/>
                </a:lnTo>
                <a:lnTo>
                  <a:pt x="1646" y="1009"/>
                </a:lnTo>
                <a:lnTo>
                  <a:pt x="1632" y="1008"/>
                </a:lnTo>
                <a:lnTo>
                  <a:pt x="1620" y="1007"/>
                </a:lnTo>
                <a:lnTo>
                  <a:pt x="1606" y="1005"/>
                </a:lnTo>
                <a:lnTo>
                  <a:pt x="1592" y="1002"/>
                </a:lnTo>
                <a:lnTo>
                  <a:pt x="1579" y="999"/>
                </a:lnTo>
                <a:lnTo>
                  <a:pt x="1572" y="999"/>
                </a:lnTo>
                <a:lnTo>
                  <a:pt x="1563" y="1002"/>
                </a:lnTo>
                <a:lnTo>
                  <a:pt x="1552" y="1007"/>
                </a:lnTo>
                <a:lnTo>
                  <a:pt x="1540" y="1013"/>
                </a:lnTo>
                <a:lnTo>
                  <a:pt x="1529" y="1020"/>
                </a:lnTo>
                <a:lnTo>
                  <a:pt x="1518" y="1027"/>
                </a:lnTo>
                <a:lnTo>
                  <a:pt x="1510" y="1033"/>
                </a:lnTo>
                <a:lnTo>
                  <a:pt x="1506" y="1039"/>
                </a:lnTo>
                <a:lnTo>
                  <a:pt x="1501" y="1050"/>
                </a:lnTo>
                <a:lnTo>
                  <a:pt x="1495" y="1059"/>
                </a:lnTo>
                <a:lnTo>
                  <a:pt x="1490" y="1065"/>
                </a:lnTo>
                <a:lnTo>
                  <a:pt x="1481" y="1070"/>
                </a:lnTo>
                <a:lnTo>
                  <a:pt x="1473" y="1075"/>
                </a:lnTo>
                <a:lnTo>
                  <a:pt x="1464" y="1080"/>
                </a:lnTo>
                <a:lnTo>
                  <a:pt x="1455" y="1083"/>
                </a:lnTo>
                <a:lnTo>
                  <a:pt x="1445" y="1086"/>
                </a:lnTo>
                <a:lnTo>
                  <a:pt x="1437" y="1095"/>
                </a:lnTo>
                <a:lnTo>
                  <a:pt x="1430" y="1106"/>
                </a:lnTo>
                <a:lnTo>
                  <a:pt x="1424" y="1119"/>
                </a:lnTo>
                <a:lnTo>
                  <a:pt x="1415" y="1127"/>
                </a:lnTo>
                <a:lnTo>
                  <a:pt x="1399" y="1135"/>
                </a:lnTo>
                <a:lnTo>
                  <a:pt x="1381" y="1145"/>
                </a:lnTo>
                <a:lnTo>
                  <a:pt x="1362" y="1157"/>
                </a:lnTo>
                <a:lnTo>
                  <a:pt x="1342" y="1171"/>
                </a:lnTo>
                <a:lnTo>
                  <a:pt x="1325" y="1184"/>
                </a:lnTo>
                <a:lnTo>
                  <a:pt x="1310" y="1198"/>
                </a:lnTo>
                <a:lnTo>
                  <a:pt x="1301" y="1210"/>
                </a:lnTo>
                <a:lnTo>
                  <a:pt x="1297" y="1221"/>
                </a:lnTo>
                <a:lnTo>
                  <a:pt x="1293" y="1235"/>
                </a:lnTo>
                <a:lnTo>
                  <a:pt x="1283" y="1251"/>
                </a:lnTo>
                <a:lnTo>
                  <a:pt x="1274" y="1270"/>
                </a:lnTo>
                <a:lnTo>
                  <a:pt x="1265" y="1288"/>
                </a:lnTo>
                <a:lnTo>
                  <a:pt x="1257" y="1308"/>
                </a:lnTo>
                <a:lnTo>
                  <a:pt x="1253" y="1326"/>
                </a:lnTo>
                <a:lnTo>
                  <a:pt x="1257" y="1343"/>
                </a:lnTo>
                <a:lnTo>
                  <a:pt x="1267" y="1360"/>
                </a:lnTo>
                <a:lnTo>
                  <a:pt x="1261" y="1378"/>
                </a:lnTo>
                <a:lnTo>
                  <a:pt x="1263" y="1392"/>
                </a:lnTo>
                <a:lnTo>
                  <a:pt x="1269" y="1403"/>
                </a:lnTo>
                <a:lnTo>
                  <a:pt x="1279" y="1414"/>
                </a:lnTo>
                <a:lnTo>
                  <a:pt x="1290" y="1423"/>
                </a:lnTo>
                <a:lnTo>
                  <a:pt x="1298" y="1433"/>
                </a:lnTo>
                <a:lnTo>
                  <a:pt x="1304" y="1444"/>
                </a:lnTo>
                <a:lnTo>
                  <a:pt x="1304" y="1457"/>
                </a:lnTo>
                <a:lnTo>
                  <a:pt x="1299" y="1459"/>
                </a:lnTo>
                <a:lnTo>
                  <a:pt x="1294" y="1460"/>
                </a:lnTo>
                <a:lnTo>
                  <a:pt x="1290" y="1462"/>
                </a:lnTo>
                <a:lnTo>
                  <a:pt x="1287" y="1464"/>
                </a:lnTo>
                <a:lnTo>
                  <a:pt x="1275" y="1461"/>
                </a:lnTo>
                <a:lnTo>
                  <a:pt x="1266" y="1461"/>
                </a:lnTo>
                <a:lnTo>
                  <a:pt x="1259" y="1464"/>
                </a:lnTo>
                <a:lnTo>
                  <a:pt x="1252" y="1471"/>
                </a:lnTo>
                <a:lnTo>
                  <a:pt x="1248" y="1479"/>
                </a:lnTo>
                <a:lnTo>
                  <a:pt x="1243" y="1487"/>
                </a:lnTo>
                <a:lnTo>
                  <a:pt x="1238" y="1497"/>
                </a:lnTo>
                <a:lnTo>
                  <a:pt x="1234" y="1505"/>
                </a:lnTo>
                <a:lnTo>
                  <a:pt x="1229" y="1505"/>
                </a:lnTo>
                <a:lnTo>
                  <a:pt x="1223" y="1502"/>
                </a:lnTo>
                <a:lnTo>
                  <a:pt x="1220" y="1501"/>
                </a:lnTo>
                <a:lnTo>
                  <a:pt x="1216" y="1501"/>
                </a:lnTo>
                <a:lnTo>
                  <a:pt x="1196" y="1510"/>
                </a:lnTo>
                <a:lnTo>
                  <a:pt x="1174" y="1522"/>
                </a:lnTo>
                <a:lnTo>
                  <a:pt x="1152" y="1534"/>
                </a:lnTo>
                <a:lnTo>
                  <a:pt x="1134" y="1549"/>
                </a:lnTo>
                <a:lnTo>
                  <a:pt x="1117" y="1566"/>
                </a:lnTo>
                <a:lnTo>
                  <a:pt x="1108" y="1585"/>
                </a:lnTo>
                <a:lnTo>
                  <a:pt x="1107" y="1607"/>
                </a:lnTo>
                <a:lnTo>
                  <a:pt x="1115" y="1634"/>
                </a:lnTo>
                <a:lnTo>
                  <a:pt x="1113" y="1637"/>
                </a:lnTo>
                <a:lnTo>
                  <a:pt x="1110" y="1640"/>
                </a:lnTo>
                <a:lnTo>
                  <a:pt x="1108" y="1643"/>
                </a:lnTo>
                <a:lnTo>
                  <a:pt x="1106" y="1646"/>
                </a:lnTo>
                <a:lnTo>
                  <a:pt x="1087" y="1643"/>
                </a:lnTo>
                <a:lnTo>
                  <a:pt x="1069" y="1642"/>
                </a:lnTo>
                <a:lnTo>
                  <a:pt x="1051" y="1641"/>
                </a:lnTo>
                <a:lnTo>
                  <a:pt x="1032" y="1641"/>
                </a:lnTo>
                <a:lnTo>
                  <a:pt x="1015" y="1643"/>
                </a:lnTo>
                <a:lnTo>
                  <a:pt x="998" y="1645"/>
                </a:lnTo>
                <a:lnTo>
                  <a:pt x="980" y="1649"/>
                </a:lnTo>
                <a:lnTo>
                  <a:pt x="964" y="1653"/>
                </a:lnTo>
                <a:lnTo>
                  <a:pt x="911" y="1674"/>
                </a:lnTo>
                <a:lnTo>
                  <a:pt x="898" y="1683"/>
                </a:lnTo>
                <a:lnTo>
                  <a:pt x="888" y="1696"/>
                </a:lnTo>
                <a:lnTo>
                  <a:pt x="880" y="1711"/>
                </a:lnTo>
                <a:lnTo>
                  <a:pt x="872" y="1726"/>
                </a:lnTo>
                <a:lnTo>
                  <a:pt x="863" y="1741"/>
                </a:lnTo>
                <a:lnTo>
                  <a:pt x="852" y="1754"/>
                </a:lnTo>
                <a:lnTo>
                  <a:pt x="840" y="1763"/>
                </a:lnTo>
                <a:lnTo>
                  <a:pt x="824" y="1769"/>
                </a:lnTo>
                <a:lnTo>
                  <a:pt x="817" y="1769"/>
                </a:lnTo>
                <a:lnTo>
                  <a:pt x="809" y="1766"/>
                </a:lnTo>
                <a:lnTo>
                  <a:pt x="803" y="1762"/>
                </a:lnTo>
                <a:lnTo>
                  <a:pt x="796" y="1757"/>
                </a:lnTo>
                <a:lnTo>
                  <a:pt x="789" y="1752"/>
                </a:lnTo>
                <a:lnTo>
                  <a:pt x="782" y="1749"/>
                </a:lnTo>
                <a:lnTo>
                  <a:pt x="774" y="1747"/>
                </a:lnTo>
                <a:lnTo>
                  <a:pt x="766" y="1748"/>
                </a:lnTo>
                <a:lnTo>
                  <a:pt x="760" y="1751"/>
                </a:lnTo>
                <a:lnTo>
                  <a:pt x="754" y="1758"/>
                </a:lnTo>
                <a:lnTo>
                  <a:pt x="748" y="1766"/>
                </a:lnTo>
                <a:lnTo>
                  <a:pt x="743" y="1772"/>
                </a:lnTo>
                <a:lnTo>
                  <a:pt x="737" y="1766"/>
                </a:lnTo>
                <a:lnTo>
                  <a:pt x="727" y="1759"/>
                </a:lnTo>
                <a:lnTo>
                  <a:pt x="713" y="1750"/>
                </a:lnTo>
                <a:lnTo>
                  <a:pt x="699" y="1741"/>
                </a:lnTo>
                <a:lnTo>
                  <a:pt x="684" y="1732"/>
                </a:lnTo>
                <a:lnTo>
                  <a:pt x="670" y="1724"/>
                </a:lnTo>
                <a:lnTo>
                  <a:pt x="659" y="1718"/>
                </a:lnTo>
                <a:lnTo>
                  <a:pt x="652" y="1714"/>
                </a:lnTo>
                <a:lnTo>
                  <a:pt x="507" y="1664"/>
                </a:lnTo>
                <a:lnTo>
                  <a:pt x="489" y="1658"/>
                </a:lnTo>
                <a:lnTo>
                  <a:pt x="471" y="1657"/>
                </a:lnTo>
                <a:lnTo>
                  <a:pt x="453" y="1658"/>
                </a:lnTo>
                <a:lnTo>
                  <a:pt x="433" y="1661"/>
                </a:lnTo>
                <a:lnTo>
                  <a:pt x="415" y="1665"/>
                </a:lnTo>
                <a:lnTo>
                  <a:pt x="396" y="1667"/>
                </a:lnTo>
                <a:lnTo>
                  <a:pt x="378" y="1667"/>
                </a:lnTo>
                <a:lnTo>
                  <a:pt x="359" y="1664"/>
                </a:lnTo>
                <a:lnTo>
                  <a:pt x="348" y="1664"/>
                </a:lnTo>
                <a:lnTo>
                  <a:pt x="335" y="1669"/>
                </a:lnTo>
                <a:lnTo>
                  <a:pt x="320" y="1680"/>
                </a:lnTo>
                <a:lnTo>
                  <a:pt x="305" y="1691"/>
                </a:lnTo>
                <a:lnTo>
                  <a:pt x="290" y="1704"/>
                </a:lnTo>
                <a:lnTo>
                  <a:pt x="276" y="1717"/>
                </a:lnTo>
                <a:lnTo>
                  <a:pt x="265" y="1727"/>
                </a:lnTo>
                <a:lnTo>
                  <a:pt x="256" y="1734"/>
                </a:lnTo>
                <a:lnTo>
                  <a:pt x="248" y="1728"/>
                </a:lnTo>
                <a:lnTo>
                  <a:pt x="237" y="1722"/>
                </a:lnTo>
                <a:lnTo>
                  <a:pt x="227" y="1716"/>
                </a:lnTo>
                <a:lnTo>
                  <a:pt x="218" y="1708"/>
                </a:lnTo>
                <a:lnTo>
                  <a:pt x="208" y="1699"/>
                </a:lnTo>
                <a:lnTo>
                  <a:pt x="201" y="1690"/>
                </a:lnTo>
                <a:lnTo>
                  <a:pt x="197" y="1681"/>
                </a:lnTo>
                <a:lnTo>
                  <a:pt x="195" y="1671"/>
                </a:lnTo>
                <a:lnTo>
                  <a:pt x="174" y="1656"/>
                </a:lnTo>
                <a:lnTo>
                  <a:pt x="160" y="1637"/>
                </a:lnTo>
                <a:lnTo>
                  <a:pt x="153" y="1615"/>
                </a:lnTo>
                <a:lnTo>
                  <a:pt x="148" y="1592"/>
                </a:lnTo>
                <a:lnTo>
                  <a:pt x="147" y="1568"/>
                </a:lnTo>
                <a:lnTo>
                  <a:pt x="147" y="1544"/>
                </a:lnTo>
                <a:lnTo>
                  <a:pt x="145" y="1522"/>
                </a:lnTo>
                <a:lnTo>
                  <a:pt x="140" y="1501"/>
                </a:lnTo>
                <a:lnTo>
                  <a:pt x="131" y="1482"/>
                </a:lnTo>
                <a:lnTo>
                  <a:pt x="118" y="1462"/>
                </a:lnTo>
                <a:lnTo>
                  <a:pt x="101" y="1443"/>
                </a:lnTo>
                <a:lnTo>
                  <a:pt x="82" y="1424"/>
                </a:lnTo>
                <a:lnTo>
                  <a:pt x="60" y="1407"/>
                </a:lnTo>
                <a:lnTo>
                  <a:pt x="39" y="1391"/>
                </a:lnTo>
                <a:lnTo>
                  <a:pt x="18" y="1377"/>
                </a:lnTo>
                <a:lnTo>
                  <a:pt x="0" y="1366"/>
                </a:lnTo>
                <a:lnTo>
                  <a:pt x="0" y="1364"/>
                </a:lnTo>
                <a:lnTo>
                  <a:pt x="1" y="1354"/>
                </a:lnTo>
                <a:lnTo>
                  <a:pt x="3" y="1340"/>
                </a:lnTo>
                <a:lnTo>
                  <a:pt x="8" y="1323"/>
                </a:lnTo>
                <a:lnTo>
                  <a:pt x="12" y="1305"/>
                </a:lnTo>
                <a:lnTo>
                  <a:pt x="21" y="1288"/>
                </a:lnTo>
                <a:lnTo>
                  <a:pt x="30" y="1275"/>
                </a:lnTo>
                <a:lnTo>
                  <a:pt x="42" y="1269"/>
                </a:lnTo>
                <a:lnTo>
                  <a:pt x="54" y="1265"/>
                </a:lnTo>
                <a:lnTo>
                  <a:pt x="68" y="1257"/>
                </a:lnTo>
                <a:lnTo>
                  <a:pt x="83" y="1248"/>
                </a:lnTo>
                <a:lnTo>
                  <a:pt x="98" y="1236"/>
                </a:lnTo>
                <a:lnTo>
                  <a:pt x="112" y="1222"/>
                </a:lnTo>
                <a:lnTo>
                  <a:pt x="124" y="1209"/>
                </a:lnTo>
                <a:lnTo>
                  <a:pt x="131" y="1195"/>
                </a:lnTo>
                <a:lnTo>
                  <a:pt x="135" y="1181"/>
                </a:lnTo>
                <a:lnTo>
                  <a:pt x="124" y="1176"/>
                </a:lnTo>
                <a:lnTo>
                  <a:pt x="115" y="1169"/>
                </a:lnTo>
                <a:lnTo>
                  <a:pt x="108" y="1163"/>
                </a:lnTo>
                <a:lnTo>
                  <a:pt x="104" y="1154"/>
                </a:lnTo>
                <a:lnTo>
                  <a:pt x="110" y="1139"/>
                </a:lnTo>
                <a:lnTo>
                  <a:pt x="117" y="1123"/>
                </a:lnTo>
                <a:lnTo>
                  <a:pt x="124" y="1107"/>
                </a:lnTo>
                <a:lnTo>
                  <a:pt x="132" y="1090"/>
                </a:lnTo>
                <a:lnTo>
                  <a:pt x="140" y="1074"/>
                </a:lnTo>
                <a:lnTo>
                  <a:pt x="151" y="1058"/>
                </a:lnTo>
                <a:lnTo>
                  <a:pt x="162" y="1042"/>
                </a:lnTo>
                <a:lnTo>
                  <a:pt x="176" y="1025"/>
                </a:lnTo>
                <a:lnTo>
                  <a:pt x="165" y="997"/>
                </a:lnTo>
                <a:lnTo>
                  <a:pt x="155" y="955"/>
                </a:lnTo>
                <a:lnTo>
                  <a:pt x="150" y="914"/>
                </a:lnTo>
                <a:lnTo>
                  <a:pt x="150" y="881"/>
                </a:lnTo>
                <a:lnTo>
                  <a:pt x="153" y="878"/>
                </a:lnTo>
                <a:lnTo>
                  <a:pt x="162" y="873"/>
                </a:lnTo>
                <a:lnTo>
                  <a:pt x="175" y="870"/>
                </a:lnTo>
                <a:lnTo>
                  <a:pt x="190" y="866"/>
                </a:lnTo>
                <a:lnTo>
                  <a:pt x="205" y="863"/>
                </a:lnTo>
                <a:lnTo>
                  <a:pt x="219" y="861"/>
                </a:lnTo>
                <a:lnTo>
                  <a:pt x="230" y="858"/>
                </a:lnTo>
                <a:lnTo>
                  <a:pt x="237" y="856"/>
                </a:lnTo>
                <a:lnTo>
                  <a:pt x="239" y="841"/>
                </a:lnTo>
                <a:lnTo>
                  <a:pt x="245" y="828"/>
                </a:lnTo>
                <a:lnTo>
                  <a:pt x="253" y="816"/>
                </a:lnTo>
                <a:lnTo>
                  <a:pt x="263" y="804"/>
                </a:lnTo>
                <a:lnTo>
                  <a:pt x="272" y="793"/>
                </a:lnTo>
                <a:lnTo>
                  <a:pt x="279" y="780"/>
                </a:lnTo>
                <a:lnTo>
                  <a:pt x="283" y="767"/>
                </a:lnTo>
                <a:lnTo>
                  <a:pt x="283" y="752"/>
                </a:lnTo>
                <a:lnTo>
                  <a:pt x="286" y="742"/>
                </a:lnTo>
                <a:lnTo>
                  <a:pt x="291" y="726"/>
                </a:lnTo>
                <a:lnTo>
                  <a:pt x="299" y="706"/>
                </a:lnTo>
                <a:lnTo>
                  <a:pt x="310" y="686"/>
                </a:lnTo>
                <a:lnTo>
                  <a:pt x="320" y="665"/>
                </a:lnTo>
                <a:lnTo>
                  <a:pt x="329" y="645"/>
                </a:lnTo>
                <a:lnTo>
                  <a:pt x="336" y="629"/>
                </a:lnTo>
                <a:lnTo>
                  <a:pt x="340" y="619"/>
                </a:lnTo>
                <a:lnTo>
                  <a:pt x="345" y="613"/>
                </a:lnTo>
                <a:lnTo>
                  <a:pt x="381" y="619"/>
                </a:lnTo>
                <a:lnTo>
                  <a:pt x="392" y="613"/>
                </a:lnTo>
                <a:lnTo>
                  <a:pt x="404" y="605"/>
                </a:lnTo>
                <a:lnTo>
                  <a:pt x="418" y="594"/>
                </a:lnTo>
                <a:lnTo>
                  <a:pt x="432" y="582"/>
                </a:lnTo>
                <a:lnTo>
                  <a:pt x="442" y="569"/>
                </a:lnTo>
                <a:lnTo>
                  <a:pt x="449" y="555"/>
                </a:lnTo>
                <a:lnTo>
                  <a:pt x="450" y="543"/>
                </a:lnTo>
                <a:lnTo>
                  <a:pt x="443" y="530"/>
                </a:lnTo>
                <a:lnTo>
                  <a:pt x="439" y="535"/>
                </a:lnTo>
                <a:lnTo>
                  <a:pt x="435" y="537"/>
                </a:lnTo>
                <a:lnTo>
                  <a:pt x="430" y="539"/>
                </a:lnTo>
                <a:lnTo>
                  <a:pt x="423" y="540"/>
                </a:lnTo>
                <a:lnTo>
                  <a:pt x="418" y="521"/>
                </a:lnTo>
                <a:lnTo>
                  <a:pt x="420" y="501"/>
                </a:lnTo>
                <a:lnTo>
                  <a:pt x="427" y="483"/>
                </a:lnTo>
                <a:lnTo>
                  <a:pt x="438" y="469"/>
                </a:lnTo>
                <a:lnTo>
                  <a:pt x="432" y="459"/>
                </a:lnTo>
                <a:lnTo>
                  <a:pt x="423" y="449"/>
                </a:lnTo>
                <a:lnTo>
                  <a:pt x="411" y="440"/>
                </a:lnTo>
                <a:lnTo>
                  <a:pt x="398" y="432"/>
                </a:lnTo>
                <a:lnTo>
                  <a:pt x="382" y="425"/>
                </a:lnTo>
                <a:lnTo>
                  <a:pt x="366" y="418"/>
                </a:lnTo>
                <a:lnTo>
                  <a:pt x="349" y="412"/>
                </a:lnTo>
                <a:lnTo>
                  <a:pt x="330" y="407"/>
                </a:lnTo>
                <a:lnTo>
                  <a:pt x="312" y="402"/>
                </a:lnTo>
                <a:lnTo>
                  <a:pt x="292" y="397"/>
                </a:lnTo>
                <a:lnTo>
                  <a:pt x="274" y="393"/>
                </a:lnTo>
                <a:lnTo>
                  <a:pt x="257" y="389"/>
                </a:lnTo>
                <a:lnTo>
                  <a:pt x="239" y="385"/>
                </a:lnTo>
                <a:lnTo>
                  <a:pt x="223" y="381"/>
                </a:lnTo>
                <a:lnTo>
                  <a:pt x="208" y="379"/>
                </a:lnTo>
                <a:lnTo>
                  <a:pt x="196" y="376"/>
                </a:lnTo>
                <a:lnTo>
                  <a:pt x="186" y="371"/>
                </a:lnTo>
                <a:lnTo>
                  <a:pt x="184" y="365"/>
                </a:lnTo>
                <a:lnTo>
                  <a:pt x="186" y="358"/>
                </a:lnTo>
                <a:lnTo>
                  <a:pt x="192" y="351"/>
                </a:lnTo>
                <a:lnTo>
                  <a:pt x="200" y="344"/>
                </a:lnTo>
                <a:lnTo>
                  <a:pt x="208" y="339"/>
                </a:lnTo>
                <a:lnTo>
                  <a:pt x="214" y="335"/>
                </a:lnTo>
                <a:lnTo>
                  <a:pt x="216" y="334"/>
                </a:lnTo>
                <a:lnTo>
                  <a:pt x="216" y="324"/>
                </a:lnTo>
                <a:lnTo>
                  <a:pt x="210" y="319"/>
                </a:lnTo>
                <a:lnTo>
                  <a:pt x="196" y="318"/>
                </a:lnTo>
                <a:lnTo>
                  <a:pt x="176" y="319"/>
                </a:lnTo>
                <a:lnTo>
                  <a:pt x="154" y="321"/>
                </a:lnTo>
                <a:lnTo>
                  <a:pt x="131" y="324"/>
                </a:lnTo>
                <a:lnTo>
                  <a:pt x="109" y="326"/>
                </a:lnTo>
                <a:lnTo>
                  <a:pt x="93" y="328"/>
                </a:lnTo>
                <a:lnTo>
                  <a:pt x="83" y="329"/>
                </a:lnTo>
                <a:lnTo>
                  <a:pt x="86" y="319"/>
                </a:lnTo>
                <a:lnTo>
                  <a:pt x="93" y="305"/>
                </a:lnTo>
                <a:lnTo>
                  <a:pt x="102" y="289"/>
                </a:lnTo>
                <a:lnTo>
                  <a:pt x="113" y="271"/>
                </a:lnTo>
                <a:lnTo>
                  <a:pt x="123" y="253"/>
                </a:lnTo>
                <a:lnTo>
                  <a:pt x="133" y="237"/>
                </a:lnTo>
                <a:lnTo>
                  <a:pt x="142" y="223"/>
                </a:lnTo>
                <a:lnTo>
                  <a:pt x="147" y="213"/>
                </a:lnTo>
                <a:lnTo>
                  <a:pt x="143" y="208"/>
                </a:lnTo>
                <a:lnTo>
                  <a:pt x="137" y="204"/>
                </a:lnTo>
                <a:lnTo>
                  <a:pt x="131" y="198"/>
                </a:lnTo>
                <a:lnTo>
                  <a:pt x="125" y="191"/>
                </a:lnTo>
                <a:lnTo>
                  <a:pt x="120" y="185"/>
                </a:lnTo>
                <a:lnTo>
                  <a:pt x="115" y="179"/>
                </a:lnTo>
                <a:lnTo>
                  <a:pt x="112" y="172"/>
                </a:lnTo>
                <a:lnTo>
                  <a:pt x="110" y="166"/>
                </a:lnTo>
                <a:lnTo>
                  <a:pt x="112" y="158"/>
                </a:lnTo>
                <a:lnTo>
                  <a:pt x="116" y="151"/>
                </a:lnTo>
                <a:lnTo>
                  <a:pt x="121" y="144"/>
                </a:lnTo>
                <a:lnTo>
                  <a:pt x="127" y="138"/>
                </a:lnTo>
                <a:lnTo>
                  <a:pt x="129" y="132"/>
                </a:lnTo>
                <a:lnTo>
                  <a:pt x="129" y="127"/>
                </a:lnTo>
                <a:lnTo>
                  <a:pt x="124" y="120"/>
                </a:lnTo>
                <a:lnTo>
                  <a:pt x="114" y="112"/>
                </a:lnTo>
                <a:lnTo>
                  <a:pt x="117" y="106"/>
                </a:lnTo>
                <a:lnTo>
                  <a:pt x="122" y="96"/>
                </a:lnTo>
                <a:lnTo>
                  <a:pt x="127" y="84"/>
                </a:lnTo>
                <a:lnTo>
                  <a:pt x="132" y="71"/>
                </a:lnTo>
                <a:lnTo>
                  <a:pt x="138" y="60"/>
                </a:lnTo>
                <a:lnTo>
                  <a:pt x="143" y="48"/>
                </a:lnTo>
                <a:lnTo>
                  <a:pt x="147" y="40"/>
                </a:lnTo>
                <a:lnTo>
                  <a:pt x="151" y="37"/>
                </a:lnTo>
                <a:lnTo>
                  <a:pt x="163" y="38"/>
                </a:lnTo>
                <a:lnTo>
                  <a:pt x="183" y="43"/>
                </a:lnTo>
                <a:lnTo>
                  <a:pt x="207" y="49"/>
                </a:lnTo>
                <a:lnTo>
                  <a:pt x="233" y="56"/>
                </a:lnTo>
                <a:lnTo>
                  <a:pt x="257" y="62"/>
                </a:lnTo>
                <a:lnTo>
                  <a:pt x="277" y="63"/>
                </a:lnTo>
                <a:lnTo>
                  <a:pt x="290" y="59"/>
                </a:lnTo>
                <a:lnTo>
                  <a:pt x="292" y="47"/>
                </a:lnTo>
                <a:lnTo>
                  <a:pt x="294" y="29"/>
                </a:lnTo>
                <a:lnTo>
                  <a:pt x="304" y="15"/>
                </a:lnTo>
                <a:lnTo>
                  <a:pt x="321" y="6"/>
                </a:lnTo>
                <a:lnTo>
                  <a:pt x="343" y="1"/>
                </a:lnTo>
                <a:lnTo>
                  <a:pt x="367" y="0"/>
                </a:lnTo>
                <a:lnTo>
                  <a:pt x="389" y="5"/>
                </a:lnTo>
                <a:lnTo>
                  <a:pt x="409" y="14"/>
                </a:lnTo>
                <a:lnTo>
                  <a:pt x="420" y="28"/>
                </a:lnTo>
                <a:lnTo>
                  <a:pt x="423" y="38"/>
                </a:lnTo>
                <a:lnTo>
                  <a:pt x="427" y="53"/>
                </a:lnTo>
                <a:lnTo>
                  <a:pt x="434" y="67"/>
                </a:lnTo>
                <a:lnTo>
                  <a:pt x="443" y="75"/>
                </a:lnTo>
                <a:lnTo>
                  <a:pt x="648" y="142"/>
                </a:lnTo>
                <a:lnTo>
                  <a:pt x="660" y="146"/>
                </a:lnTo>
                <a:lnTo>
                  <a:pt x="672" y="152"/>
                </a:lnTo>
                <a:lnTo>
                  <a:pt x="684" y="160"/>
                </a:lnTo>
                <a:lnTo>
                  <a:pt x="697" y="169"/>
                </a:lnTo>
                <a:lnTo>
                  <a:pt x="710" y="179"/>
                </a:lnTo>
                <a:lnTo>
                  <a:pt x="722" y="187"/>
                </a:lnTo>
                <a:lnTo>
                  <a:pt x="735" y="195"/>
                </a:lnTo>
                <a:lnTo>
                  <a:pt x="746" y="199"/>
                </a:lnTo>
                <a:lnTo>
                  <a:pt x="758" y="204"/>
                </a:lnTo>
                <a:lnTo>
                  <a:pt x="769" y="208"/>
                </a:lnTo>
                <a:lnTo>
                  <a:pt x="781" y="214"/>
                </a:lnTo>
                <a:lnTo>
                  <a:pt x="792" y="219"/>
                </a:lnTo>
                <a:lnTo>
                  <a:pt x="804" y="225"/>
                </a:lnTo>
                <a:lnTo>
                  <a:pt x="817" y="230"/>
                </a:lnTo>
                <a:lnTo>
                  <a:pt x="829" y="235"/>
                </a:lnTo>
                <a:lnTo>
                  <a:pt x="843" y="240"/>
                </a:lnTo>
                <a:lnTo>
                  <a:pt x="857" y="242"/>
                </a:lnTo>
                <a:lnTo>
                  <a:pt x="871" y="243"/>
                </a:lnTo>
                <a:lnTo>
                  <a:pt x="886" y="244"/>
                </a:lnTo>
                <a:lnTo>
                  <a:pt x="902" y="245"/>
                </a:lnTo>
                <a:lnTo>
                  <a:pt x="917" y="248"/>
                </a:lnTo>
                <a:lnTo>
                  <a:pt x="932" y="251"/>
                </a:lnTo>
                <a:lnTo>
                  <a:pt x="945" y="256"/>
                </a:lnTo>
                <a:lnTo>
                  <a:pt x="957" y="264"/>
                </a:lnTo>
                <a:lnTo>
                  <a:pt x="963" y="272"/>
                </a:lnTo>
                <a:lnTo>
                  <a:pt x="965" y="283"/>
                </a:lnTo>
                <a:lnTo>
                  <a:pt x="969" y="294"/>
                </a:lnTo>
                <a:lnTo>
                  <a:pt x="978" y="301"/>
                </a:lnTo>
                <a:lnTo>
                  <a:pt x="1052" y="324"/>
                </a:lnTo>
                <a:lnTo>
                  <a:pt x="1064" y="323"/>
                </a:lnTo>
                <a:lnTo>
                  <a:pt x="1079" y="326"/>
                </a:lnTo>
                <a:lnTo>
                  <a:pt x="1097" y="335"/>
                </a:lnTo>
                <a:lnTo>
                  <a:pt x="1114" y="346"/>
                </a:lnTo>
                <a:lnTo>
                  <a:pt x="1132" y="357"/>
                </a:lnTo>
                <a:lnTo>
                  <a:pt x="1150" y="369"/>
                </a:lnTo>
                <a:lnTo>
                  <a:pt x="1166" y="379"/>
                </a:lnTo>
                <a:lnTo>
                  <a:pt x="1180" y="385"/>
                </a:lnTo>
                <a:lnTo>
                  <a:pt x="1191" y="387"/>
                </a:lnTo>
                <a:lnTo>
                  <a:pt x="1203" y="388"/>
                </a:lnTo>
                <a:lnTo>
                  <a:pt x="1214" y="388"/>
                </a:lnTo>
                <a:lnTo>
                  <a:pt x="1226" y="387"/>
                </a:lnTo>
                <a:lnTo>
                  <a:pt x="1236" y="388"/>
                </a:lnTo>
                <a:lnTo>
                  <a:pt x="1248" y="389"/>
                </a:lnTo>
                <a:lnTo>
                  <a:pt x="1257" y="394"/>
                </a:lnTo>
                <a:lnTo>
                  <a:pt x="1266" y="401"/>
                </a:lnTo>
                <a:lnTo>
                  <a:pt x="1284" y="417"/>
                </a:lnTo>
                <a:lnTo>
                  <a:pt x="1301" y="439"/>
                </a:lnTo>
                <a:lnTo>
                  <a:pt x="1317" y="465"/>
                </a:lnTo>
                <a:lnTo>
                  <a:pt x="1333" y="493"/>
                </a:lnTo>
                <a:lnTo>
                  <a:pt x="1351" y="518"/>
                </a:lnTo>
                <a:lnTo>
                  <a:pt x="1371" y="540"/>
                </a:lnTo>
                <a:lnTo>
                  <a:pt x="1394" y="555"/>
                </a:lnTo>
                <a:lnTo>
                  <a:pt x="1420" y="561"/>
                </a:lnTo>
                <a:lnTo>
                  <a:pt x="1431" y="582"/>
                </a:lnTo>
                <a:lnTo>
                  <a:pt x="1452" y="601"/>
                </a:lnTo>
                <a:lnTo>
                  <a:pt x="1478" y="620"/>
                </a:lnTo>
                <a:lnTo>
                  <a:pt x="1509" y="635"/>
                </a:lnTo>
                <a:lnTo>
                  <a:pt x="1539" y="643"/>
                </a:lnTo>
                <a:lnTo>
                  <a:pt x="1564" y="643"/>
                </a:lnTo>
                <a:lnTo>
                  <a:pt x="1583" y="631"/>
                </a:lnTo>
                <a:lnTo>
                  <a:pt x="1590" y="608"/>
                </a:lnTo>
                <a:lnTo>
                  <a:pt x="1600" y="614"/>
                </a:lnTo>
                <a:lnTo>
                  <a:pt x="1612" y="622"/>
                </a:lnTo>
                <a:lnTo>
                  <a:pt x="1625" y="633"/>
                </a:lnTo>
                <a:lnTo>
                  <a:pt x="1639" y="643"/>
                </a:lnTo>
                <a:lnTo>
                  <a:pt x="1653" y="653"/>
                </a:lnTo>
                <a:lnTo>
                  <a:pt x="1667" y="661"/>
                </a:lnTo>
                <a:lnTo>
                  <a:pt x="1680" y="667"/>
                </a:lnTo>
                <a:lnTo>
                  <a:pt x="1692" y="669"/>
                </a:lnTo>
                <a:lnTo>
                  <a:pt x="1692" y="677"/>
                </a:lnTo>
                <a:lnTo>
                  <a:pt x="1693" y="684"/>
                </a:lnTo>
                <a:lnTo>
                  <a:pt x="1696" y="692"/>
                </a:lnTo>
                <a:lnTo>
                  <a:pt x="1698" y="700"/>
                </a:lnTo>
                <a:close/>
              </a:path>
            </a:pathLst>
          </a:custGeom>
          <a:solidFill>
            <a:srgbClr val="0066cc"/>
          </a:solidFill>
          <a:ln w="9360">
            <a:solidFill>
              <a:srgbClr val="007c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57200" y="2057400"/>
          <a:ext cx="8305920" cy="4402080"/>
        </p:xfrm>
        <a:graphic>
          <a:graphicData uri="http://schemas.openxmlformats.org/drawingml/2006/table">
            <a:tbl>
              <a:tblPr/>
              <a:tblGrid>
                <a:gridCol w="2362320"/>
                <a:gridCol w="2133360"/>
                <a:gridCol w="838440"/>
                <a:gridCol w="685800"/>
                <a:gridCol w="685800"/>
                <a:gridCol w="609480"/>
                <a:gridCol w="99072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ff">
                        <a:alpha val="50000"/>
                      </a:srgbClr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>
                        <a:alpha val="50000"/>
                      </a:srgbClr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</a:tr>
              <a:tr h="108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0000"/>
                </a:solidFill>
                <a:latin typeface="Arial"/>
              </a:rPr>
              <a:t>                              </a:t>
            </a:r>
            <a:r>
              <a:rPr b="1" lang="es-ES_tradnl" sz="2000" spc="-1" strike="noStrike">
                <a:solidFill>
                  <a:srgbClr val="800000"/>
                </a:solidFill>
                <a:latin typeface="Arial"/>
              </a:rPr>
              <a:t>AMBITOS DE NORMALIZACIÓN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800000"/>
                </a:solidFill>
                <a:latin typeface="Arial"/>
              </a:rPr>
              <a:t>                                </a:t>
            </a:r>
            <a:r>
              <a:rPr b="1" lang="es-ES_tradnl" sz="1600" spc="-1" strike="noStrike">
                <a:solidFill>
                  <a:srgbClr val="800000"/>
                </a:solidFill>
                <a:latin typeface="Arial"/>
              </a:rPr>
              <a:t>CONSTRUCCIÓN              ALIMENTACIÓN           TELECO </a:t>
            </a:r>
            <a:br>
              <a:rPr sz="1600"/>
            </a:br>
            <a:br>
              <a:rPr sz="1600"/>
            </a:br>
            <a:r>
              <a:rPr b="1" lang="es-ES_tradnl" sz="1600" spc="-1" strike="noStrike">
                <a:solidFill>
                  <a:srgbClr val="800000"/>
                </a:solidFill>
                <a:latin typeface="Arial"/>
              </a:rPr>
              <a:t>                                                               SIDERURGIA        ODONTOLOGÍA              TIC</a:t>
            </a:r>
            <a:endParaRPr b="0" lang="en-US" sz="16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0000"/>
                </a:solidFill>
                <a:latin typeface="Arial"/>
              </a:rPr>
              <a:t>                              </a:t>
            </a:r>
            <a:r>
              <a:rPr b="1" lang="es-ES_tradnl" sz="2000" spc="-1" strike="noStrike">
                <a:solidFill>
                  <a:srgbClr val="800000"/>
                </a:solidFill>
                <a:latin typeface="Arial"/>
              </a:rPr>
              <a:t>AMBITOS DE NORMALIZACIÓN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800000"/>
                </a:solidFill>
                <a:latin typeface="Arial"/>
              </a:rPr>
              <a:t>                             </a:t>
            </a:r>
            <a:br>
              <a:rPr sz="2000"/>
            </a:br>
            <a:r>
              <a:rPr b="1" lang="es-ES_tradnl" sz="2000" spc="-1" strike="noStrike">
                <a:solidFill>
                  <a:srgbClr val="800000"/>
                </a:solidFill>
                <a:latin typeface="Arial"/>
              </a:rPr>
              <a:t>                                                                     </a:t>
            </a:r>
            <a:r>
              <a:rPr b="1" lang="es-ES_tradnl" sz="1400" spc="-1" strike="noStrike">
                <a:solidFill>
                  <a:srgbClr val="800000"/>
                </a:solidFill>
                <a:latin typeface="Arial"/>
              </a:rPr>
              <a:t>H.262 MPEG-2</a:t>
            </a:r>
            <a:br>
              <a:rPr sz="1400"/>
            </a:br>
            <a:r>
              <a:rPr b="1" lang="es-ES_tradnl" sz="1400" spc="-1" strike="noStrike">
                <a:solidFill>
                  <a:srgbClr val="800000"/>
                </a:solidFill>
                <a:latin typeface="Arial"/>
              </a:rPr>
              <a:t>                                                                                                  X.200 OSI</a:t>
            </a:r>
            <a:br>
              <a:rPr sz="1400"/>
            </a:br>
            <a:r>
              <a:rPr b="1" lang="es-ES_tradnl" sz="1400" spc="-1" strike="noStrike">
                <a:solidFill>
                  <a:srgbClr val="800000"/>
                </a:solidFill>
                <a:latin typeface="Arial"/>
              </a:rPr>
              <a:t>                                                                                             X.500 Directorios</a:t>
            </a:r>
            <a:br>
              <a:rPr sz="1400"/>
            </a:br>
            <a:r>
              <a:rPr b="1" lang="es-ES_tradnl" sz="2000" spc="-1" strike="noStrike">
                <a:solidFill>
                  <a:srgbClr val="800000"/>
                </a:solidFill>
                <a:latin typeface="Arial"/>
              </a:rPr>
              <a:t>                                                                     </a:t>
            </a:r>
            <a:endParaRPr b="0" lang="en-US" sz="20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7200" y="2057400"/>
          <a:ext cx="8458200" cy="4435560"/>
        </p:xfrm>
        <a:graphic>
          <a:graphicData uri="http://schemas.openxmlformats.org/drawingml/2006/table">
            <a:tbl>
              <a:tblPr/>
              <a:tblGrid>
                <a:gridCol w="2286000"/>
                <a:gridCol w="3124080"/>
                <a:gridCol w="3048120"/>
              </a:tblGrid>
              <a:tr h="92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800000"/>
                          </a:solidFill>
                          <a:latin typeface="Arial Unicode MS"/>
                        </a:rPr>
                        <a:t>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800000"/>
                          </a:solidFill>
                          <a:latin typeface="Arial Unicode MS"/>
                        </a:rPr>
                        <a:t>TELE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800000"/>
                          </a:solidFill>
                          <a:latin typeface="Arial Unicode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800000"/>
                          </a:solidFill>
                          <a:latin typeface="Arial Unicode MS"/>
                        </a:rPr>
                        <a:t>INTERNA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800000"/>
                          </a:solidFill>
                          <a:latin typeface="Arial Unicode MS"/>
                        </a:rPr>
                        <a:t>ISO        CE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800000"/>
                          </a:solidFill>
                          <a:latin typeface="Arial Unicode MS"/>
                        </a:rPr>
                        <a:t>JTC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800000"/>
                          </a:solidFill>
                          <a:latin typeface="Arial Unicode MS"/>
                        </a:rPr>
                        <a:t>UIT-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800000"/>
                          </a:solidFill>
                          <a:latin typeface="Arial Unicode MS"/>
                        </a:rPr>
                        <a:t>EUROPE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800000"/>
                          </a:solidFill>
                          <a:latin typeface="Arial Unicode MS"/>
                        </a:rPr>
                        <a:t>CEN-IS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800000"/>
                          </a:solidFill>
                          <a:latin typeface="Arial Unicode MS"/>
                        </a:rPr>
                        <a:t>CENEL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800000"/>
                          </a:solidFill>
                          <a:latin typeface="Arial Unicode MS"/>
                        </a:rPr>
                        <a:t>ET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800000"/>
                          </a:solidFill>
                          <a:latin typeface="Arial Unicode MS"/>
                        </a:rPr>
                        <a:t>NA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800000"/>
                          </a:solidFill>
                          <a:latin typeface="Arial Unicode MS"/>
                        </a:rPr>
                        <a:t>AEN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 flipH="1" rot="16168200">
            <a:off x="4190760" y="3276360"/>
            <a:ext cx="304920" cy="914400"/>
          </a:xfrm>
          <a:custGeom>
            <a:avLst/>
            <a:gdLst>
              <a:gd name="textAreaLeft" fmla="*/ -360 w 304920"/>
              <a:gd name="textAreaRight" fmla="*/ 109800 w 304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3200400"/>
            <a:ext cx="1600200" cy="914400"/>
          </a:xfrm>
          <a:prstGeom prst="leftRightArrow">
            <a:avLst>
              <a:gd name="adj1" fmla="val 50000"/>
              <a:gd name="adj2" fmla="val 34838"/>
            </a:avLst>
          </a:prstGeom>
          <a:noFill/>
          <a:ln w="9360">
            <a:solidFill>
              <a:srgbClr val="99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05520" y="4343400"/>
            <a:ext cx="1600200" cy="914400"/>
          </a:xfrm>
          <a:prstGeom prst="leftRightArrow">
            <a:avLst>
              <a:gd name="adj1" fmla="val 50000"/>
              <a:gd name="adj2" fmla="val 34838"/>
            </a:avLst>
          </a:prstGeom>
          <a:noFill/>
          <a:ln w="9360">
            <a:solidFill>
              <a:srgbClr val="99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PARTICIPACIÓN EN LAS LABORES DE LA UIT-T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                          </a:t>
            </a:r>
            <a:br>
              <a:rPr sz="2000"/>
            </a:br>
            <a:endParaRPr b="0" lang="en-US" sz="2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1981080"/>
            <a:ext cx="5029200" cy="4648320"/>
          </a:xfrm>
          <a:prstGeom prst="ellipse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M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76520" y="2209680"/>
            <a:ext cx="2158920" cy="190512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ST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MIEMB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T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4114800"/>
            <a:ext cx="3352680" cy="2286000"/>
          </a:xfrm>
          <a:prstGeom prst="ellipse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M.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lcatel Españ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U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.E. Correos y Telégraf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elefó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odafone S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5880" y="388620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BS00554_" descr=""/>
          <p:cNvPicPr/>
          <p:nvPr/>
        </p:nvPicPr>
        <p:blipFill>
          <a:blip r:embed="rId1"/>
          <a:stretch/>
        </p:blipFill>
        <p:spPr>
          <a:xfrm>
            <a:off x="7162920" y="3200400"/>
            <a:ext cx="1676160" cy="954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5800" y="4343400"/>
            <a:ext cx="8153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RECOMEND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UIT-T</a:t>
            </a:r>
            <a:br>
              <a:rPr sz="18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                        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6T08:27:46Z</dcterms:created>
  <dc:creator>S.G.C.</dc:creator>
  <dc:description/>
  <dc:language>en-US</dc:language>
  <cp:lastModifiedBy>S.E.T.S.I.</cp:lastModifiedBy>
  <cp:lastPrinted>2002-05-29T16:52:37Z</cp:lastPrinted>
  <dcterms:modified xsi:type="dcterms:W3CDTF">2002-12-05T15:46:05Z</dcterms:modified>
  <cp:revision>181</cp:revision>
  <dc:subject/>
  <dc:title>Sin título de diapositiva</dc:title>
</cp:coreProperties>
</file>