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F596A-9634-4469-ADD6-6478D410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32080" y="413244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B871A-4FB0-4693-89CD-E9A7FC79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7652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69A18-8544-4304-8ED6-1F961EFF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6900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0556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3208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6900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0556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9CF2D-0FC9-4887-92CD-48983516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57962-5BA3-46A1-B86D-75B9201C18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76163-F9D2-43BE-A9EA-DFF175FA8C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465F3-1209-458B-A75D-6EEEB74327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53EE9-6B38-4563-A4A7-468040C0EF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8E8C2-FE8C-42D2-9D93-DBBFE86312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06160" y="380520"/>
            <a:ext cx="755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2B0D6-505F-49E0-8E42-9E12EF960F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A2FD0-D577-4A08-8E69-F6A2D049B3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FDC99-1714-4345-BD1C-B601C2E8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652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3570F-21D5-46C2-9131-3A797322AC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E0A65-62AD-4CD2-B2C7-3F2728C4D0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2080" y="413244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352B4-FA2F-4516-A6A1-D34DC1C71A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652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64C12-7335-4CDB-BE47-FB60242A65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6900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556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208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6900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556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55D89-49D4-42A0-B998-6F258B5B87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8CB44-44E1-4376-90FB-C317B9D7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D3F5-FF5B-42A3-B316-1CB9D2DB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5EE12-B383-470F-8303-9A8B2644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06160" y="380520"/>
            <a:ext cx="755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FC0E0-B1C8-47B6-BE03-3720AF4E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CF639-2FC6-41BD-9597-3097AD5A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7652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EE796-2E42-4413-9242-9FF328A3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F347D-30B9-485C-890C-30180B0D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78DA-B918-4AF3-92D0-40197687AEE7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1222200" cy="6882840"/>
            <a:chOff x="0" y="0"/>
            <a:chExt cx="1222200" cy="6882840"/>
          </a:xfrm>
        </p:grpSpPr>
        <p:sp>
          <p:nvSpPr>
            <p:cNvPr id="4" name=""/>
            <p:cNvSpPr/>
            <p:nvPr/>
          </p:nvSpPr>
          <p:spPr>
            <a:xfrm>
              <a:off x="0" y="1257480"/>
              <a:ext cx="1222200" cy="56253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" name="itulogo-en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22200" cy="13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Trebuchet MS"/>
              </a:rPr>
              <a:t>9-10 July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1829880" y="6565680"/>
            <a:ext cx="67057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Workshop on Next Generation Networks: What, When &amp; 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itulogo-en" descr=""/>
          <p:cNvPicPr/>
          <p:nvPr/>
        </p:nvPicPr>
        <p:blipFill>
          <a:blip r:embed="rId3"/>
          <a:srcRect l="12710" t="0" r="17799" b="0"/>
          <a:stretch/>
        </p:blipFill>
        <p:spPr>
          <a:xfrm>
            <a:off x="0" y="0"/>
            <a:ext cx="1219320" cy="1293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-141120" y="1074600"/>
            <a:ext cx="15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TU-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17680"/>
            <a:ext cx="9144000" cy="63374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edit the title text format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4"/>
          </p:nvPr>
        </p:nvSpPr>
        <p:spPr>
          <a:xfrm>
            <a:off x="6989760" y="6203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- </a:t>
            </a:r>
            <a:fld id="{50160537-254D-4053-B32D-6509937F92F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66880" cy="1306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47800" y="0"/>
            <a:ext cx="7396200" cy="106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International Telecommunication Un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35080" y="6219720"/>
            <a:ext cx="582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Workshop on Next Generation Networks: What, When &amp; 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Geneva, 9-10 July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1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00280" y="1969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5f1ff"/>
                </a:solidFill>
                <a:latin typeface="Trebuchet MS"/>
              </a:rPr>
              <a:t>NGN standardization in ITU-T: how and when ?</a:t>
            </a:r>
            <a:endParaRPr b="1" lang="en-US" sz="48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90080" y="4833720"/>
            <a:ext cx="7696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Jean-Yves Cochennec</a:t>
            </a:r>
            <a:endParaRPr b="0" lang="en-US" sz="36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TU-T Study Group 13 Vice Chair</a:t>
            </a:r>
            <a:endParaRPr b="0" lang="en-US" sz="28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6160" y="52668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Role of ITU-T in NGN standardizatio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32080" y="1909800"/>
            <a:ext cx="753264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TU has a leading role to play in NGN standardization because it is an expectation from the </a:t>
            </a: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world marke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NGN is a vast area, its coverage requires </a:t>
            </a: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collaboration</a:t>
            </a: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 with other SD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Current situation in ITU : NGN 2004 Project has been launched in Nov.02, ITU SGs have already shown their </a:t>
            </a: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strong motivation</a:t>
            </a: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 for the Projec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but</a:t>
            </a: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 increased activity</a:t>
            </a: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 is deemed necessary to meet target date for the first set of Recs on NGN (mid-2004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77BB7-784B-4672-B770-5F9C81A5BAE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6DF6641-D915-47F6-BBB9-DED2638EDA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66"/>
                </a:solidFill>
                <a:latin typeface="Verdana"/>
              </a:rPr>
              <a:t>Next step on NGN standard activities in ITU 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17680" y="1545840"/>
            <a:ext cx="752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e role of SG13 in ITU is to get a </a:t>
            </a: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detailed cartography</a:t>
            </a: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 of standard activities related to NGN and to organize/manage them among SG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Next step for SGs is to list NGN standard activities of their field and </a:t>
            </a: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to map them</a:t>
            </a: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 on their existing Questions and/or create new Ques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Creation of new Questions is encouraged </a:t>
            </a: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to cover well</a:t>
            </a: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 (no gaps/ no overlaps) study areas identified in the Projec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NGN standardization should become </a:t>
            </a: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a major activity</a:t>
            </a: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 of ITU-T in the next study period (2004–2008)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847D-B3E9-48EC-9009-66B416DB2B8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BB42F27-FF06-4F1B-B1DE-B60D717C2A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9560" y="1928880"/>
            <a:ext cx="1467000" cy="28591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66"/>
                </a:solidFill>
                <a:latin typeface="Verdana"/>
              </a:rPr>
              <a:t>Work on NGN in ITU-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552760" y="731880"/>
          <a:ext cx="6151680" cy="5587920"/>
        </p:xfrm>
        <a:graphic>
          <a:graphicData uri="http://schemas.openxmlformats.org/drawingml/2006/table">
            <a:tbl>
              <a:tblPr/>
              <a:tblGrid>
                <a:gridCol w="1636920"/>
                <a:gridCol w="4514760"/>
              </a:tblGrid>
              <a:tr h="724680"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udy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</a:tr>
              <a:tr h="663120">
                <a:tc>
                  <a:txBody>
                    <a:bodyPr lIns="57240" rIns="1908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G13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Lead S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rchitecture, interworking iss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</a:tr>
              <a:tr h="434520"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G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gnalling, control protoc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</a:tr>
              <a:tr h="434520"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G1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ultimedia services and 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</a:tr>
              <a:tr h="434520"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G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ata networks, security asp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</a:tr>
              <a:tr h="724680"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G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rvice provision, numbering, routing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</a:tr>
              <a:tr h="434880"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G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nd to end QoS/perform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</a:tr>
              <a:tr h="434520"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G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nagement asp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</a:tr>
              <a:tr h="434520"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bility, fixed/mobile converg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</a:tr>
              <a:tr h="434520"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G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ble networks, tele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</a:tr>
              <a:tr h="433440"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G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ransport, optical networ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65D7-CB01-4672-9F2D-B0D974B6303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8185210-C11F-49B2-B287-6C5FFD92DF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1:23:27Z</dcterms:created>
  <dc:creator>B Moore</dc:creator>
  <dc:description/>
  <dc:language>en-US</dc:language>
  <cp:lastModifiedBy>androucv</cp:lastModifiedBy>
  <cp:lastPrinted>2001-03-15T13:10:50Z</cp:lastPrinted>
  <dcterms:modified xsi:type="dcterms:W3CDTF">2003-07-07T17:48:30Z</dcterms:modified>
  <cp:revision>138</cp:revision>
  <dc:subject/>
  <dc:title>Presentation - B Moore</dc:title>
</cp:coreProperties>
</file>