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2EFE2-859A-435D-B92A-EB5A5BF66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C83527-236E-48A9-9E70-7017FBE03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5D4D05-8B1A-4E60-8E8B-786F2415B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AF8BEF-CFAE-426E-89E6-77EA8FAA3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0D083D-5AE8-41C9-81D6-1A406A4E6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BCD384-AC27-44DB-9419-47621EE32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E008FC-5BFA-4588-AA00-E846F86AF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3A1C8D-9C64-4829-920E-117FDB735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8800" y="74124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0" y="4694400"/>
            <a:ext cx="6797520" cy="44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B9970B-54EA-471D-9E20-A0808416A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42080" cy="37069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065240" y="4695840"/>
            <a:ext cx="4602240" cy="44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2F1FB-012E-4F34-96EE-36A7EFDBC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7000" y="7398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95320" y="4697280"/>
            <a:ext cx="500688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184B7F-3D4E-44B4-9A5A-C85345483C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42080" cy="37069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6760" y="4695840"/>
            <a:ext cx="5004000" cy="44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492CAD-A831-45BC-9CC5-3CB94CCAA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284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796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284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11200" y="428400"/>
            <a:ext cx="822960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284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796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284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1200" y="428400"/>
            <a:ext cx="822960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19040"/>
            <a:ext cx="9144000" cy="79236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000"/>
            <a:ext cx="9144000" cy="8712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247680"/>
            <a:ext cx="9144000" cy="0"/>
          </a:xfrm>
          <a:prstGeom prst="line">
            <a:avLst/>
          </a:prstGeom>
          <a:ln w="3816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48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31000" y="6340320"/>
            <a:ext cx="1070280" cy="282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FuturaA Bk B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1" marL="692280" indent="-235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Futura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2" marL="10317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FuturaA Bk BT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3" marL="137160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4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5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6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254160" y="6392520"/>
            <a:ext cx="3006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1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100" spc="-1" strike="noStrike">
                <a:solidFill>
                  <a:srgbClr val="000000"/>
                </a:solidFill>
                <a:latin typeface="FuturaA Bk BT"/>
              </a:rPr>
              <a:t>ITU workshop, 07/09/03 </a:t>
            </a:r>
            <a:r>
              <a:rPr b="0" lang="en-GB" sz="1100" spc="-1" strike="noStrike">
                <a:solidFill>
                  <a:srgbClr val="000000"/>
                </a:solidFill>
                <a:latin typeface="FuturaA Bk BT"/>
              </a:rPr>
              <a:t>— </a:t>
            </a:r>
            <a:fld id="{FE697326-5A2B-467D-8EE2-527F86CC5F68}" type="slidenum">
              <a:rPr b="0" lang="en-GB" sz="11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34880" y="6433920"/>
            <a:ext cx="28796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All rights reserved © 2003, Alca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074" t="6011" r="1462" b="0"/>
          <a:stretch/>
        </p:blipFill>
        <p:spPr>
          <a:xfrm>
            <a:off x="-3240" y="-3240"/>
            <a:ext cx="9145800" cy="529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114640"/>
            <a:ext cx="9144000" cy="104292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78240"/>
            <a:ext cx="9144000" cy="185904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240" y="1938240"/>
            <a:ext cx="9147240" cy="47880"/>
          </a:xfrm>
          <a:custGeom>
            <a:avLst/>
            <a:gdLst/>
            <a:ahLst/>
            <a:rect l="l" t="t" r="r" b="b"/>
            <a:pathLst>
              <a:path w="5762" h="30">
                <a:moveTo>
                  <a:pt x="0" y="0"/>
                </a:moveTo>
                <a:lnTo>
                  <a:pt x="5762" y="2"/>
                </a:lnTo>
                <a:lnTo>
                  <a:pt x="5762" y="30"/>
                </a:lnTo>
                <a:lnTo>
                  <a:pt x="0" y="29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240" y="3832200"/>
            <a:ext cx="9147240" cy="58680"/>
          </a:xfrm>
          <a:custGeom>
            <a:avLst/>
            <a:gdLst/>
            <a:ahLst/>
            <a:rect l="l" t="t" r="r" b="b"/>
            <a:pathLst>
              <a:path w="5762" h="37">
                <a:moveTo>
                  <a:pt x="0" y="0"/>
                </a:moveTo>
                <a:lnTo>
                  <a:pt x="5762" y="0"/>
                </a:lnTo>
                <a:lnTo>
                  <a:pt x="5762" y="36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7680"/>
            <a:ext cx="9144000" cy="0"/>
          </a:xfrm>
          <a:prstGeom prst="line">
            <a:avLst/>
          </a:prstGeom>
          <a:ln w="5724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7120"/>
            <a:ext cx="9144000" cy="110880"/>
          </a:xfrm>
          <a:prstGeom prst="rect">
            <a:avLst/>
          </a:prstGeom>
          <a:solidFill>
            <a:srgbClr val="fb6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2211120"/>
            <a:ext cx="8255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FuturaA Bk BT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81560"/>
            <a:ext cx="9144000" cy="671760"/>
          </a:xfrm>
          <a:prstGeom prst="rect">
            <a:avLst/>
          </a:prstGeom>
          <a:solidFill>
            <a:srgbClr val="c1c0c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59520" y="6473880"/>
            <a:ext cx="2365200" cy="150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718400" y="6340320"/>
            <a:ext cx="1069920" cy="28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159520" y="6478560"/>
            <a:ext cx="2365200" cy="15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149880"/>
            <a:ext cx="9144000" cy="0"/>
          </a:xfrm>
          <a:prstGeom prst="line">
            <a:avLst/>
          </a:prstGeom>
          <a:ln w="5076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101" t="6063" r="1439" b="0"/>
          <a:stretch/>
        </p:blipFill>
        <p:spPr>
          <a:xfrm>
            <a:off x="0" y="0"/>
            <a:ext cx="9144000" cy="5288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114640"/>
            <a:ext cx="9144000" cy="104292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78240"/>
            <a:ext cx="9144000" cy="185904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240" y="1938240"/>
            <a:ext cx="9147240" cy="47880"/>
          </a:xfrm>
          <a:custGeom>
            <a:avLst/>
            <a:gdLst/>
            <a:ahLst/>
            <a:rect l="l" t="t" r="r" b="b"/>
            <a:pathLst>
              <a:path w="5762" h="30">
                <a:moveTo>
                  <a:pt x="0" y="0"/>
                </a:moveTo>
                <a:lnTo>
                  <a:pt x="5762" y="2"/>
                </a:lnTo>
                <a:lnTo>
                  <a:pt x="5762" y="30"/>
                </a:lnTo>
                <a:lnTo>
                  <a:pt x="0" y="29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3832200"/>
            <a:ext cx="9147240" cy="58680"/>
          </a:xfrm>
          <a:custGeom>
            <a:avLst/>
            <a:gdLst/>
            <a:ahLst/>
            <a:rect l="l" t="t" r="r" b="b"/>
            <a:pathLst>
              <a:path w="5762" h="37">
                <a:moveTo>
                  <a:pt x="0" y="0"/>
                </a:moveTo>
                <a:lnTo>
                  <a:pt x="5762" y="0"/>
                </a:lnTo>
                <a:lnTo>
                  <a:pt x="5762" y="36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7680"/>
            <a:ext cx="9144000" cy="0"/>
          </a:xfrm>
          <a:prstGeom prst="line">
            <a:avLst/>
          </a:prstGeom>
          <a:ln w="5724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797120"/>
            <a:ext cx="9144000" cy="110880"/>
          </a:xfrm>
          <a:prstGeom prst="rect">
            <a:avLst/>
          </a:prstGeom>
          <a:solidFill>
            <a:srgbClr val="fb6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15640" y="2211120"/>
            <a:ext cx="85597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FuturaA Bk BT"/>
              </a:rPr>
              <a:t>An Industry View of NGN Wireline </a:t>
            </a:r>
            <a:endParaRPr b="0" lang="en-US" sz="27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ubTitle"/>
          </p:nvPr>
        </p:nvSpPr>
        <p:spPr>
          <a:xfrm>
            <a:off x="3601800" y="4505040"/>
            <a:ext cx="5365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uturaA Bk BT"/>
              </a:rPr>
              <a:t>Geneva July 9, 2003</a:t>
            </a: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uturaA Bk BT"/>
              </a:rPr>
              <a:t>Jean-Pierre Lartigue</a:t>
            </a: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uturaA Bk BT"/>
              </a:rPr>
              <a:t>VP Business Strategy, Fixed Networks</a:t>
            </a: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181560"/>
            <a:ext cx="9144000" cy="671760"/>
          </a:xfrm>
          <a:prstGeom prst="rect">
            <a:avLst/>
          </a:prstGeom>
          <a:solidFill>
            <a:srgbClr val="c1c0c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59520" y="6473880"/>
            <a:ext cx="2365200" cy="1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718400" y="6340320"/>
            <a:ext cx="1069920" cy="282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59520" y="6478560"/>
            <a:ext cx="2365200" cy="15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6149880"/>
            <a:ext cx="9144000" cy="0"/>
          </a:xfrm>
          <a:prstGeom prst="line">
            <a:avLst/>
          </a:prstGeom>
          <a:ln w="5076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Telephony, embedded in BB residential servic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728880" y="2354400"/>
            <a:ext cx="5178600" cy="1565280"/>
            <a:chOff x="3728880" y="2354400"/>
            <a:chExt cx="5178600" cy="1565280"/>
          </a:xfrm>
        </p:grpSpPr>
        <p:sp>
          <p:nvSpPr>
            <p:cNvPr id="371" name=""/>
            <p:cNvSpPr/>
            <p:nvPr/>
          </p:nvSpPr>
          <p:spPr>
            <a:xfrm>
              <a:off x="3728880" y="2354400"/>
              <a:ext cx="517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8880" y="2354400"/>
              <a:ext cx="517860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  </a:t>
              </a:r>
              <a:r>
                <a:rPr b="0" lang="en-US" sz="10800" spc="-1" strike="noStrike">
                  <a:solidFill>
                    <a:srgbClr val="464646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703520" y="1316160"/>
            <a:ext cx="7164000" cy="1369800"/>
            <a:chOff x="1703520" y="1316160"/>
            <a:chExt cx="7164000" cy="1369800"/>
          </a:xfrm>
        </p:grpSpPr>
        <p:sp>
          <p:nvSpPr>
            <p:cNvPr id="374" name=""/>
            <p:cNvSpPr/>
            <p:nvPr/>
          </p:nvSpPr>
          <p:spPr>
            <a:xfrm>
              <a:off x="3411360" y="1400040"/>
              <a:ext cx="13003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Music down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561440" y="1316160"/>
              <a:ext cx="1306080" cy="1298160"/>
              <a:chOff x="7561440" y="1316160"/>
              <a:chExt cx="1306080" cy="1298160"/>
            </a:xfrm>
          </p:grpSpPr>
          <p:graphicFrame>
            <p:nvGraphicFramePr>
              <p:cNvPr id="376" name=""/>
              <p:cNvGraphicFramePr/>
              <p:nvPr/>
            </p:nvGraphicFramePr>
            <p:xfrm>
              <a:off x="7561440" y="1735560"/>
              <a:ext cx="1306080" cy="878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61440" y="1735560"/>
                        <a:ext cx="1306080" cy="87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8" name=""/>
              <p:cNvSpPr/>
              <p:nvPr/>
            </p:nvSpPr>
            <p:spPr>
              <a:xfrm>
                <a:off x="7561440" y="1316160"/>
                <a:ext cx="13028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O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819680" y="1324080"/>
              <a:ext cx="1304640" cy="1299600"/>
              <a:chOff x="4819680" y="1324080"/>
              <a:chExt cx="1304640" cy="1299600"/>
            </a:xfrm>
          </p:grpSpPr>
          <p:sp>
            <p:nvSpPr>
              <p:cNvPr id="380" name=""/>
              <p:cNvSpPr/>
              <p:nvPr/>
            </p:nvSpPr>
            <p:spPr>
              <a:xfrm>
                <a:off x="4819680" y="1324080"/>
                <a:ext cx="130464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/audio stre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9680" y="1743840"/>
                <a:ext cx="1304640" cy="87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"/>
            <p:cNvGrpSpPr/>
            <p:nvPr/>
          </p:nvGrpSpPr>
          <p:grpSpPr>
            <a:xfrm>
              <a:off x="6167520" y="1363680"/>
              <a:ext cx="1307520" cy="1260000"/>
              <a:chOff x="6167520" y="1363680"/>
              <a:chExt cx="1307520" cy="1260000"/>
            </a:xfrm>
          </p:grpSpPr>
          <p:sp>
            <p:nvSpPr>
              <p:cNvPr id="383" name=""/>
              <p:cNvSpPr/>
              <p:nvPr/>
            </p:nvSpPr>
            <p:spPr>
              <a:xfrm>
                <a:off x="6167520" y="1363680"/>
                <a:ext cx="13075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g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ultima_online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7520" y="1746360"/>
                <a:ext cx="1305720" cy="87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5" name=""/>
            <p:cNvSpPr/>
            <p:nvPr/>
          </p:nvSpPr>
          <p:spPr>
            <a:xfrm flipV="1">
              <a:off x="3006720" y="1525320"/>
              <a:ext cx="264960" cy="51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03520" y="2023920"/>
              <a:ext cx="1441440" cy="6620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ertain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5"/>
            <a:stretch/>
          </p:blipFill>
          <p:spPr>
            <a:xfrm>
              <a:off x="3381480" y="1774800"/>
              <a:ext cx="13032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168960" y="1751040"/>
              <a:ext cx="1319400" cy="8762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703520" y="2754360"/>
            <a:ext cx="7206840" cy="1307880"/>
            <a:chOff x="1703520" y="2754360"/>
            <a:chExt cx="7206840" cy="1307880"/>
          </a:xfrm>
        </p:grpSpPr>
        <p:grpSp>
          <p:nvGrpSpPr>
            <p:cNvPr id="390" name=""/>
            <p:cNvGrpSpPr/>
            <p:nvPr/>
          </p:nvGrpSpPr>
          <p:grpSpPr>
            <a:xfrm>
              <a:off x="3362400" y="2754360"/>
              <a:ext cx="1312560" cy="1301400"/>
              <a:chOff x="3362400" y="2754360"/>
              <a:chExt cx="1312560" cy="1301400"/>
            </a:xfrm>
          </p:grpSpPr>
          <p:pic>
            <p:nvPicPr>
              <p:cNvPr id="391" name="aol_chat" descr=""/>
              <p:cNvPicPr/>
              <p:nvPr/>
            </p:nvPicPr>
            <p:blipFill>
              <a:blip r:embed="rId6"/>
              <a:stretch/>
            </p:blipFill>
            <p:spPr>
              <a:xfrm>
                <a:off x="3362400" y="3173760"/>
                <a:ext cx="1312560" cy="88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3362400" y="2754360"/>
                <a:ext cx="1312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E-mail, chat, and instant mess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589880" y="2757600"/>
              <a:ext cx="1320480" cy="1298160"/>
              <a:chOff x="7589880" y="2757600"/>
              <a:chExt cx="1320480" cy="1298160"/>
            </a:xfrm>
          </p:grpSpPr>
          <p:sp>
            <p:nvSpPr>
              <p:cNvPr id="394" name=""/>
              <p:cNvSpPr/>
              <p:nvPr/>
            </p:nvSpPr>
            <p:spPr>
              <a:xfrm>
                <a:off x="7589880" y="2757600"/>
                <a:ext cx="1303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Unified messa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5" name="onebox_UM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8600" y="3177000"/>
                <a:ext cx="1301760" cy="87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6" name=""/>
            <p:cNvGrpSpPr/>
            <p:nvPr/>
          </p:nvGrpSpPr>
          <p:grpSpPr>
            <a:xfrm>
              <a:off x="6167520" y="2797200"/>
              <a:ext cx="1310760" cy="1258560"/>
              <a:chOff x="6167520" y="2797200"/>
              <a:chExt cx="1310760" cy="1258560"/>
            </a:xfrm>
          </p:grpSpPr>
          <p:sp>
            <p:nvSpPr>
              <p:cNvPr id="397" name=""/>
              <p:cNvSpPr/>
              <p:nvPr/>
            </p:nvSpPr>
            <p:spPr>
              <a:xfrm>
                <a:off x="6167520" y="2797200"/>
                <a:ext cx="130932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PC- and cable-based telephon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98" name=""/>
              <p:cNvGraphicFramePr/>
              <p:nvPr/>
            </p:nvGraphicFramePr>
            <p:xfrm>
              <a:off x="6167520" y="3180600"/>
              <a:ext cx="1310760" cy="8751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9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167520" y="3180600"/>
                        <a:ext cx="1310760" cy="8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00" name=""/>
            <p:cNvGrpSpPr/>
            <p:nvPr/>
          </p:nvGrpSpPr>
          <p:grpSpPr>
            <a:xfrm>
              <a:off x="4819680" y="2797200"/>
              <a:ext cx="1307880" cy="1258560"/>
              <a:chOff x="4819680" y="2797200"/>
              <a:chExt cx="1307880" cy="1258560"/>
            </a:xfrm>
          </p:grpSpPr>
          <p:sp>
            <p:nvSpPr>
              <p:cNvPr id="401" name=""/>
              <p:cNvSpPr/>
              <p:nvPr/>
            </p:nvSpPr>
            <p:spPr>
              <a:xfrm>
                <a:off x="4819680" y="2797200"/>
                <a:ext cx="13078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 conferenc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2" name="PC_video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19680" y="3180600"/>
                <a:ext cx="1306440" cy="87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3" name=""/>
            <p:cNvSpPr/>
            <p:nvPr/>
          </p:nvSpPr>
          <p:spPr>
            <a:xfrm>
              <a:off x="1703520" y="3182760"/>
              <a:ext cx="1441440" cy="6638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-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92680" y="317016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83360" y="3184560"/>
              <a:ext cx="1319040" cy="8776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0160" y="317340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1280" y="4221000"/>
            <a:ext cx="8885520" cy="1912320"/>
            <a:chOff x="71280" y="4221000"/>
            <a:chExt cx="8885520" cy="1912320"/>
          </a:xfrm>
        </p:grpSpPr>
        <p:grpSp>
          <p:nvGrpSpPr>
            <p:cNvPr id="408" name=""/>
            <p:cNvGrpSpPr/>
            <p:nvPr/>
          </p:nvGrpSpPr>
          <p:grpSpPr>
            <a:xfrm>
              <a:off x="1703520" y="4221000"/>
              <a:ext cx="7253280" cy="1301760"/>
              <a:chOff x="1703520" y="4221000"/>
              <a:chExt cx="7253280" cy="13017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3362400" y="4221000"/>
                <a:ext cx="1314000" cy="1301400"/>
                <a:chOff x="3362400" y="4221000"/>
                <a:chExt cx="1314000" cy="1301400"/>
              </a:xfrm>
            </p:grpSpPr>
            <p:pic>
              <p:nvPicPr>
                <p:cNvPr id="410" name="Image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62400" y="4640400"/>
                  <a:ext cx="131400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1" name=""/>
                <p:cNvSpPr/>
                <p:nvPr/>
              </p:nvSpPr>
              <p:spPr>
                <a:xfrm>
                  <a:off x="3362400" y="422100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Walled Gardens, secur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819680" y="4251240"/>
                <a:ext cx="1312560" cy="1271160"/>
                <a:chOff x="4819680" y="4251240"/>
                <a:chExt cx="1312560" cy="1271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819680" y="4251240"/>
                  <a:ext cx="130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Virtual models and to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12"/>
                <a:srcRect l="676" t="1286" r="0" b="0"/>
                <a:stretch/>
              </p:blipFill>
              <p:spPr>
                <a:xfrm>
                  <a:off x="4819680" y="4645080"/>
                  <a:ext cx="1312560" cy="87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5" name=""/>
              <p:cNvSpPr/>
              <p:nvPr/>
            </p:nvSpPr>
            <p:spPr>
              <a:xfrm>
                <a:off x="3035160" y="5067360"/>
                <a:ext cx="18432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03520" y="4368960"/>
                <a:ext cx="1441440" cy="66348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74" y="0"/>
                    </a:lnTo>
                    <a:lnTo>
                      <a:pt x="21600" y="10800"/>
                    </a:lnTo>
                    <a:lnTo>
                      <a:pt x="195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0017"/>
                  </a:gs>
                  <a:gs pos="50000">
                    <a:srgbClr val="cc0033"/>
                  </a:gs>
                  <a:gs pos="100000">
                    <a:srgbClr val="5e00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abling 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roductivity too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6167520" y="4260960"/>
                <a:ext cx="1312560" cy="1261440"/>
                <a:chOff x="6167520" y="4260960"/>
                <a:chExt cx="1312560" cy="1261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167520" y="426096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 fontScale="84000"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Click and talk“ audio/video supp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174360" y="4646880"/>
                  <a:ext cx="1305720" cy="87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20" name="" descr=""/>
              <p:cNvPicPr/>
              <p:nvPr/>
            </p:nvPicPr>
            <p:blipFill>
              <a:blip r:embed="rId14"/>
              <a:srcRect l="23312" t="20754" r="20144" b="20654"/>
              <a:stretch/>
            </p:blipFill>
            <p:spPr>
              <a:xfrm>
                <a:off x="7626240" y="4657680"/>
                <a:ext cx="128448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7637400" y="4392720"/>
                <a:ext cx="1319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c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560" y="4645080"/>
                <a:ext cx="1320840" cy="8776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1280" y="5853240"/>
              <a:ext cx="268560" cy="207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3440" y="5826240"/>
              <a:ext cx="357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Embedded BB NGN telephony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3760" y="1571760"/>
            <a:ext cx="1579680" cy="3814560"/>
            <a:chOff x="23760" y="1571760"/>
            <a:chExt cx="1579680" cy="3814560"/>
          </a:xfrm>
        </p:grpSpPr>
        <p:sp>
          <p:nvSpPr>
            <p:cNvPr id="426" name=""/>
            <p:cNvSpPr/>
            <p:nvPr/>
          </p:nvSpPr>
          <p:spPr>
            <a:xfrm>
              <a:off x="1303200" y="1571760"/>
              <a:ext cx="300240" cy="3814560"/>
            </a:xfrm>
            <a:custGeom>
              <a:avLst/>
              <a:gdLst>
                <a:gd name="textAreaLeft" fmla="*/ 191880 w 300240"/>
                <a:gd name="textAreaRight" fmla="*/ 300240 w 300240"/>
                <a:gd name="textAreaTop" fmla="*/ 99360 h 3814560"/>
                <a:gd name="textAreaBottom" fmla="*/ 3715200 h 38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760" y="2971800"/>
              <a:ext cx="12175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Wired &amp; unwired 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Telephony, embedded in BB residential servic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728880" y="2354400"/>
            <a:ext cx="5178600" cy="1565280"/>
            <a:chOff x="3728880" y="2354400"/>
            <a:chExt cx="5178600" cy="1565280"/>
          </a:xfrm>
        </p:grpSpPr>
        <p:sp>
          <p:nvSpPr>
            <p:cNvPr id="430" name=""/>
            <p:cNvSpPr/>
            <p:nvPr/>
          </p:nvSpPr>
          <p:spPr>
            <a:xfrm>
              <a:off x="3728880" y="2354400"/>
              <a:ext cx="517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28880" y="2354400"/>
              <a:ext cx="517860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  </a:t>
              </a:r>
              <a:r>
                <a:rPr b="0" lang="en-US" sz="10800" spc="-1" strike="noStrike">
                  <a:solidFill>
                    <a:srgbClr val="464646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703520" y="1316160"/>
            <a:ext cx="7164000" cy="1369800"/>
            <a:chOff x="1703520" y="1316160"/>
            <a:chExt cx="7164000" cy="1369800"/>
          </a:xfrm>
        </p:grpSpPr>
        <p:sp>
          <p:nvSpPr>
            <p:cNvPr id="433" name=""/>
            <p:cNvSpPr/>
            <p:nvPr/>
          </p:nvSpPr>
          <p:spPr>
            <a:xfrm>
              <a:off x="3411360" y="1400040"/>
              <a:ext cx="13003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Music down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561440" y="1316160"/>
              <a:ext cx="1306080" cy="1298160"/>
              <a:chOff x="7561440" y="1316160"/>
              <a:chExt cx="1306080" cy="1298160"/>
            </a:xfrm>
          </p:grpSpPr>
          <p:graphicFrame>
            <p:nvGraphicFramePr>
              <p:cNvPr id="435" name=""/>
              <p:cNvGraphicFramePr/>
              <p:nvPr/>
            </p:nvGraphicFramePr>
            <p:xfrm>
              <a:off x="7561440" y="1735560"/>
              <a:ext cx="1306080" cy="878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61440" y="1735560"/>
                        <a:ext cx="1306080" cy="87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37" name=""/>
              <p:cNvSpPr/>
              <p:nvPr/>
            </p:nvSpPr>
            <p:spPr>
              <a:xfrm>
                <a:off x="7561440" y="1316160"/>
                <a:ext cx="13028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O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819680" y="1324080"/>
              <a:ext cx="1304640" cy="1299600"/>
              <a:chOff x="4819680" y="1324080"/>
              <a:chExt cx="1304640" cy="1299600"/>
            </a:xfrm>
          </p:grpSpPr>
          <p:sp>
            <p:nvSpPr>
              <p:cNvPr id="439" name=""/>
              <p:cNvSpPr/>
              <p:nvPr/>
            </p:nvSpPr>
            <p:spPr>
              <a:xfrm>
                <a:off x="4819680" y="1324080"/>
                <a:ext cx="130464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/audio stre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9680" y="1743840"/>
                <a:ext cx="1304640" cy="87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1" name=""/>
            <p:cNvGrpSpPr/>
            <p:nvPr/>
          </p:nvGrpSpPr>
          <p:grpSpPr>
            <a:xfrm>
              <a:off x="6167520" y="1363680"/>
              <a:ext cx="1307520" cy="1260000"/>
              <a:chOff x="6167520" y="1363680"/>
              <a:chExt cx="1307520" cy="1260000"/>
            </a:xfrm>
          </p:grpSpPr>
          <p:sp>
            <p:nvSpPr>
              <p:cNvPr id="442" name=""/>
              <p:cNvSpPr/>
              <p:nvPr/>
            </p:nvSpPr>
            <p:spPr>
              <a:xfrm>
                <a:off x="6167520" y="1363680"/>
                <a:ext cx="13075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g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3" name="ultima_online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7520" y="1746360"/>
                <a:ext cx="1305720" cy="87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4" name=""/>
            <p:cNvSpPr/>
            <p:nvPr/>
          </p:nvSpPr>
          <p:spPr>
            <a:xfrm flipV="1">
              <a:off x="3006720" y="1525320"/>
              <a:ext cx="264960" cy="51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03520" y="2023920"/>
              <a:ext cx="1441440" cy="6620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ertain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3381480" y="1774800"/>
              <a:ext cx="13032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168960" y="1751040"/>
              <a:ext cx="1319400" cy="8762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703520" y="2754360"/>
            <a:ext cx="7206840" cy="1307880"/>
            <a:chOff x="1703520" y="2754360"/>
            <a:chExt cx="7206840" cy="1307880"/>
          </a:xfrm>
        </p:grpSpPr>
        <p:grpSp>
          <p:nvGrpSpPr>
            <p:cNvPr id="449" name=""/>
            <p:cNvGrpSpPr/>
            <p:nvPr/>
          </p:nvGrpSpPr>
          <p:grpSpPr>
            <a:xfrm>
              <a:off x="3362400" y="2754360"/>
              <a:ext cx="1312560" cy="1301400"/>
              <a:chOff x="3362400" y="2754360"/>
              <a:chExt cx="1312560" cy="1301400"/>
            </a:xfrm>
          </p:grpSpPr>
          <p:pic>
            <p:nvPicPr>
              <p:cNvPr id="450" name="aol_chat" descr=""/>
              <p:cNvPicPr/>
              <p:nvPr/>
            </p:nvPicPr>
            <p:blipFill>
              <a:blip r:embed="rId6"/>
              <a:stretch/>
            </p:blipFill>
            <p:spPr>
              <a:xfrm>
                <a:off x="3362400" y="3173760"/>
                <a:ext cx="1312560" cy="88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362400" y="2754360"/>
                <a:ext cx="1312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E-mail, chat, and instant mess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7589880" y="2757600"/>
              <a:ext cx="1320480" cy="1298160"/>
              <a:chOff x="7589880" y="2757600"/>
              <a:chExt cx="1320480" cy="1298160"/>
            </a:xfrm>
          </p:grpSpPr>
          <p:sp>
            <p:nvSpPr>
              <p:cNvPr id="453" name=""/>
              <p:cNvSpPr/>
              <p:nvPr/>
            </p:nvSpPr>
            <p:spPr>
              <a:xfrm>
                <a:off x="7589880" y="2757600"/>
                <a:ext cx="1303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Unified messa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4" name="onebox_UM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8600" y="3177000"/>
                <a:ext cx="1301760" cy="87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5" name=""/>
            <p:cNvGrpSpPr/>
            <p:nvPr/>
          </p:nvGrpSpPr>
          <p:grpSpPr>
            <a:xfrm>
              <a:off x="6167520" y="2797200"/>
              <a:ext cx="1310760" cy="1258560"/>
              <a:chOff x="6167520" y="2797200"/>
              <a:chExt cx="1310760" cy="1258560"/>
            </a:xfrm>
          </p:grpSpPr>
          <p:sp>
            <p:nvSpPr>
              <p:cNvPr id="456" name=""/>
              <p:cNvSpPr/>
              <p:nvPr/>
            </p:nvSpPr>
            <p:spPr>
              <a:xfrm>
                <a:off x="6167520" y="2797200"/>
                <a:ext cx="130932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PC- and cable-based telephon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57" name=""/>
              <p:cNvGraphicFramePr/>
              <p:nvPr/>
            </p:nvGraphicFramePr>
            <p:xfrm>
              <a:off x="6167520" y="3180600"/>
              <a:ext cx="1310760" cy="8751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58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167520" y="3180600"/>
                        <a:ext cx="1310760" cy="8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59" name=""/>
            <p:cNvGrpSpPr/>
            <p:nvPr/>
          </p:nvGrpSpPr>
          <p:grpSpPr>
            <a:xfrm>
              <a:off x="4819680" y="2797200"/>
              <a:ext cx="1307880" cy="1258560"/>
              <a:chOff x="4819680" y="2797200"/>
              <a:chExt cx="1307880" cy="1258560"/>
            </a:xfrm>
          </p:grpSpPr>
          <p:sp>
            <p:nvSpPr>
              <p:cNvPr id="460" name=""/>
              <p:cNvSpPr/>
              <p:nvPr/>
            </p:nvSpPr>
            <p:spPr>
              <a:xfrm>
                <a:off x="4819680" y="2797200"/>
                <a:ext cx="13078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 conferenc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" name="PC_video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19680" y="3180600"/>
                <a:ext cx="1306440" cy="87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"/>
            <p:cNvSpPr/>
            <p:nvPr/>
          </p:nvSpPr>
          <p:spPr>
            <a:xfrm>
              <a:off x="1703520" y="3182760"/>
              <a:ext cx="1441440" cy="6638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-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17016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83360" y="3184560"/>
              <a:ext cx="1319040" cy="8776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80160" y="317340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1280" y="4221000"/>
            <a:ext cx="8885520" cy="1912320"/>
            <a:chOff x="71280" y="4221000"/>
            <a:chExt cx="8885520" cy="1912320"/>
          </a:xfrm>
        </p:grpSpPr>
        <p:grpSp>
          <p:nvGrpSpPr>
            <p:cNvPr id="467" name=""/>
            <p:cNvGrpSpPr/>
            <p:nvPr/>
          </p:nvGrpSpPr>
          <p:grpSpPr>
            <a:xfrm>
              <a:off x="1703520" y="4221000"/>
              <a:ext cx="7253280" cy="1301760"/>
              <a:chOff x="1703520" y="4221000"/>
              <a:chExt cx="7253280" cy="13017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3362400" y="4221000"/>
                <a:ext cx="1314000" cy="1301400"/>
                <a:chOff x="3362400" y="4221000"/>
                <a:chExt cx="1314000" cy="1301400"/>
              </a:xfrm>
            </p:grpSpPr>
            <p:pic>
              <p:nvPicPr>
                <p:cNvPr id="469" name="Image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62400" y="4640400"/>
                  <a:ext cx="131400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3362400" y="422100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Walled Gardens, secur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819680" y="4251240"/>
                <a:ext cx="1312560" cy="1271160"/>
                <a:chOff x="4819680" y="4251240"/>
                <a:chExt cx="1312560" cy="12711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819680" y="4251240"/>
                  <a:ext cx="130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Virtual models and to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3" name="" descr=""/>
                <p:cNvPicPr/>
                <p:nvPr/>
              </p:nvPicPr>
              <p:blipFill>
                <a:blip r:embed="rId12"/>
                <a:srcRect l="676" t="1286" r="0" b="0"/>
                <a:stretch/>
              </p:blipFill>
              <p:spPr>
                <a:xfrm>
                  <a:off x="4819680" y="4645080"/>
                  <a:ext cx="1312560" cy="87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4" name=""/>
              <p:cNvSpPr/>
              <p:nvPr/>
            </p:nvSpPr>
            <p:spPr>
              <a:xfrm>
                <a:off x="3035160" y="5067360"/>
                <a:ext cx="18432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03520" y="4368960"/>
                <a:ext cx="1441440" cy="66348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74" y="0"/>
                    </a:lnTo>
                    <a:lnTo>
                      <a:pt x="21600" y="10800"/>
                    </a:lnTo>
                    <a:lnTo>
                      <a:pt x="195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0017"/>
                  </a:gs>
                  <a:gs pos="50000">
                    <a:srgbClr val="cc0033"/>
                  </a:gs>
                  <a:gs pos="100000">
                    <a:srgbClr val="5e00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abling 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roductivity too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6167520" y="4260960"/>
                <a:ext cx="1312560" cy="1261440"/>
                <a:chOff x="6167520" y="4260960"/>
                <a:chExt cx="1312560" cy="12614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167520" y="426096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 fontScale="84000"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Click and talk“ audio/video supp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174360" y="4646880"/>
                  <a:ext cx="1305720" cy="87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79" name="" descr=""/>
              <p:cNvPicPr/>
              <p:nvPr/>
            </p:nvPicPr>
            <p:blipFill>
              <a:blip r:embed="rId14"/>
              <a:srcRect l="23312" t="20754" r="20144" b="20654"/>
              <a:stretch/>
            </p:blipFill>
            <p:spPr>
              <a:xfrm>
                <a:off x="7626240" y="4657680"/>
                <a:ext cx="128448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7637400" y="4392720"/>
                <a:ext cx="1319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c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54560" y="4645080"/>
                <a:ext cx="1320840" cy="8776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71280" y="5853240"/>
              <a:ext cx="268560" cy="207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3440" y="5826240"/>
              <a:ext cx="357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Embedded BB NGN telephony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3760" y="1571760"/>
            <a:ext cx="1579680" cy="3814560"/>
            <a:chOff x="23760" y="1571760"/>
            <a:chExt cx="1579680" cy="3814560"/>
          </a:xfrm>
        </p:grpSpPr>
        <p:sp>
          <p:nvSpPr>
            <p:cNvPr id="485" name=""/>
            <p:cNvSpPr/>
            <p:nvPr/>
          </p:nvSpPr>
          <p:spPr>
            <a:xfrm>
              <a:off x="1303200" y="1571760"/>
              <a:ext cx="300240" cy="3814560"/>
            </a:xfrm>
            <a:custGeom>
              <a:avLst/>
              <a:gdLst>
                <a:gd name="textAreaLeft" fmla="*/ 191880 w 300240"/>
                <a:gd name="textAreaRight" fmla="*/ 300240 w 300240"/>
                <a:gd name="textAreaTop" fmla="*/ 99360 h 3814560"/>
                <a:gd name="textAreaBottom" fmla="*/ 3715200 h 38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0" y="2971800"/>
              <a:ext cx="12175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Wired &amp; unwired 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13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Home networking: a key dimension for future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68280" y="1673280"/>
          <a:ext cx="275112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673280"/>
                    <a:ext cx="275112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"/>
          <p:cNvGrpSpPr/>
          <p:nvPr/>
        </p:nvGrpSpPr>
        <p:grpSpPr>
          <a:xfrm>
            <a:off x="387360" y="4395960"/>
            <a:ext cx="2714760" cy="1555560"/>
            <a:chOff x="387360" y="4395960"/>
            <a:chExt cx="2714760" cy="155556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tretch/>
          </p:blipFill>
          <p:spPr>
            <a:xfrm>
              <a:off x="387360" y="4395960"/>
              <a:ext cx="271476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297440" y="5259960"/>
              <a:ext cx="640080" cy="6267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82240" y="5353200"/>
              <a:ext cx="991080" cy="449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4"/>
            <a:stretch/>
          </p:blipFill>
          <p:spPr>
            <a:xfrm>
              <a:off x="524880" y="5027400"/>
              <a:ext cx="24480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5"/>
            <a:stretch/>
          </p:blipFill>
          <p:spPr>
            <a:xfrm>
              <a:off x="527040" y="5409000"/>
              <a:ext cx="251640" cy="202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8" name=""/>
            <p:cNvGraphicFramePr/>
            <p:nvPr/>
          </p:nvGraphicFramePr>
          <p:xfrm>
            <a:off x="801720" y="5108400"/>
            <a:ext cx="340560" cy="216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1720" y="5108400"/>
                      <a:ext cx="340560" cy="21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805320" y="5531040"/>
            <a:ext cx="340560" cy="21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05320" y="5531040"/>
                      <a:ext cx="340560" cy="21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2" name=""/>
          <p:cNvSpPr/>
          <p:nvPr/>
        </p:nvSpPr>
        <p:spPr>
          <a:xfrm>
            <a:off x="325440" y="1271520"/>
            <a:ext cx="28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Alice’s Video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7000" y="38685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Alice’s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544560" y="1376280"/>
            <a:ext cx="5540760" cy="4543560"/>
            <a:chOff x="3544560" y="1376280"/>
            <a:chExt cx="5540760" cy="4543560"/>
          </a:xfrm>
        </p:grpSpPr>
        <p:pic>
          <p:nvPicPr>
            <p:cNvPr id="505" name="" descr=""/>
            <p:cNvPicPr/>
            <p:nvPr/>
          </p:nvPicPr>
          <p:blipFill>
            <a:blip r:embed="rId10"/>
            <a:stretch/>
          </p:blipFill>
          <p:spPr>
            <a:xfrm>
              <a:off x="4173480" y="2117880"/>
              <a:ext cx="4911840" cy="34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837400" y="149220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Arial"/>
                </a:rPr>
                <a:t>Alice’s H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1455840" y="3464640"/>
              <a:ext cx="4543560" cy="366840"/>
            </a:xfrm>
            <a:prstGeom prst="triangle">
              <a:avLst>
                <a:gd name="adj" fmla="val 50000"/>
              </a:avLst>
            </a:prstGeom>
            <a:solidFill>
              <a:srgbClr val="ff9d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7827840" y="79200"/>
            <a:ext cx="126684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2240" y="398520"/>
            <a:ext cx="89517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br>
              <a:rPr sz="22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BB NGN net contribution to an Operator’s wireline busines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10" name=""/>
          <p:cNvSpPr/>
          <p:nvPr/>
        </p:nvSpPr>
        <p:spPr>
          <a:xfrm>
            <a:off x="-191880" y="6162480"/>
            <a:ext cx="88088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b">
            <a:spAutoFit/>
          </a:bodyPr>
          <a:p>
            <a:pPr marL="235080" indent="-235080" algn="r">
              <a:lnSpc>
                <a:spcPct val="90000"/>
              </a:lnSpc>
              <a:tabLst>
                <a:tab algn="l" pos="0"/>
                <a:tab algn="l" pos="37800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Source: Alcatel  analysis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) includes full cost impacts (billing, network management, network impact); HIS: High Speed Internet, BBE: 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8520" y="1333440"/>
            <a:ext cx="1789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hare of operators’ Wireline value    (% NPV DCF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747800" y="1509840"/>
          <a:ext cx="683424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509840"/>
                    <a:ext cx="683424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2125800" y="2219400"/>
            <a:ext cx="256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70440" y="2219400"/>
            <a:ext cx="16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59160" y="1522440"/>
            <a:ext cx="1676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ff3300"/>
                </a:solidFill>
                <a:latin typeface="Arial"/>
              </a:rPr>
              <a:t>BB NGN Busin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80080" y="1535040"/>
            <a:ext cx="1646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ff3300"/>
                </a:solidFill>
                <a:latin typeface="Arial"/>
              </a:rPr>
              <a:t>BB NGN Resident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76320" y="4935600"/>
            <a:ext cx="951120" cy="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Hos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P PBX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24200" y="4935600"/>
            <a:ext cx="95076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Messa-ging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13120" y="4935600"/>
            <a:ext cx="95112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Video-con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29320" y="4935600"/>
            <a:ext cx="9507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575320" y="4935600"/>
            <a:ext cx="95076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Messa-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56240" y="4935600"/>
            <a:ext cx="108756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HSI, BBE,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8200" y="4935600"/>
            <a:ext cx="950760" cy="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65160" y="2570040"/>
            <a:ext cx="9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3976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FuturaA Bk BT"/>
              </a:rPr>
              <a:t>3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5748480"/>
            <a:ext cx="190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Arial"/>
              </a:rPr>
              <a:t>Payback: ~12 month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13400" y="5748480"/>
            <a:ext cx="190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Arial"/>
              </a:rPr>
              <a:t>Payback: ~30 month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3216960" y="4271040"/>
            <a:ext cx="106200" cy="2603520"/>
          </a:xfrm>
          <a:custGeom>
            <a:avLst/>
            <a:gdLst>
              <a:gd name="textAreaLeft" fmla="*/ 0 w 106200"/>
              <a:gd name="textAreaRight" fmla="*/ 38160 w 106200"/>
              <a:gd name="textAreaTop" fmla="*/ 67680 h 2603520"/>
              <a:gd name="textAreaBottom" fmla="*/ 2535840 h 26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5535360" y="4556160"/>
            <a:ext cx="88920" cy="2016000"/>
          </a:xfrm>
          <a:custGeom>
            <a:avLst/>
            <a:gdLst>
              <a:gd name="textAreaLeft" fmla="*/ 0 w 88920"/>
              <a:gd name="textAreaRight" fmla="*/ 32040 w 889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Not yet a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shift from PSTN to full NGN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58720" y="1372680"/>
            <a:ext cx="80107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ditional switching telephony 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ill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referred choice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ally competitive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sed (voice services regulation &amp; feature)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bu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ng investment protection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tors anticipating evolution towards NGN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consolidation opportuniti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ment of end-of-life TDM technology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Evolution scenario and timing specific to local situation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t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legacy architectur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atu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ity requirement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oadband penetration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85298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br>
              <a:rPr sz="22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~25% estimated OPEX savings for large deployment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6320" y="1328760"/>
            <a:ext cx="4136760" cy="4386240"/>
            <a:chOff x="76320" y="1328760"/>
            <a:chExt cx="4136760" cy="4386240"/>
          </a:xfrm>
        </p:grpSpPr>
        <p:sp>
          <p:nvSpPr>
            <p:cNvPr id="535" name=""/>
            <p:cNvSpPr/>
            <p:nvPr/>
          </p:nvSpPr>
          <p:spPr>
            <a:xfrm>
              <a:off x="146160" y="1328760"/>
              <a:ext cx="39686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TDM drawb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6160" y="1836720"/>
              <a:ext cx="396864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Layered &amp;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eshed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62040" indent="-18108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62040" indent="-18108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network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arge footprint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per no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Dedicat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etworks for individual servi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320" y="1785960"/>
              <a:ext cx="413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508640" y="1328760"/>
            <a:ext cx="4559040" cy="4572000"/>
            <a:chOff x="4508640" y="1328760"/>
            <a:chExt cx="4559040" cy="4572000"/>
          </a:xfrm>
        </p:grpSpPr>
        <p:sp>
          <p:nvSpPr>
            <p:cNvPr id="539" name=""/>
            <p:cNvSpPr/>
            <p:nvPr/>
          </p:nvSpPr>
          <p:spPr>
            <a:xfrm>
              <a:off x="5019840" y="1328760"/>
              <a:ext cx="3962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NGN voice improv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19840" y="1836720"/>
              <a:ext cx="396216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lf mana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More fla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 service-related no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Reduced # switching port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Lower site costs per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har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oice &amp; data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re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Centralis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Reduced transmission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heaper new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W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22720" y="1785960"/>
              <a:ext cx="404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2634840" y="3722760"/>
              <a:ext cx="4051440" cy="304560"/>
            </a:xfrm>
            <a:prstGeom prst="triangle">
              <a:avLst>
                <a:gd name="adj" fmla="val 50000"/>
              </a:avLst>
            </a:prstGeom>
            <a:solidFill>
              <a:srgbClr val="ff9d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Upfront CAPEX remains the key barrier: C4 network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44" name=""/>
          <p:cNvSpPr/>
          <p:nvPr/>
        </p:nvSpPr>
        <p:spPr>
          <a:xfrm>
            <a:off x="7426440" y="3392640"/>
            <a:ext cx="9360" cy="8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6170760"/>
            <a:ext cx="59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FuturaA Bk BT"/>
              </a:rPr>
              <a:t>Note: </a:t>
            </a:r>
            <a:r>
              <a:rPr b="0" lang="en-GB" sz="1000" spc="-1" strike="noStrike">
                <a:solidFill>
                  <a:srgbClr val="000000"/>
                </a:solidFill>
                <a:latin typeface="FuturaA Bk BT"/>
              </a:rPr>
              <a:t>CDE included.  Important impact on 200K project.</a:t>
            </a:r>
            <a:r>
              <a:rPr b="0" lang="nl-BE" sz="1000" spc="-1" strike="noStrike">
                <a:solidFill>
                  <a:srgbClr val="000000"/>
                </a:solidFill>
                <a:latin typeface="FuturaA Bk BT"/>
              </a:rPr>
              <a:t> Network description in note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2851200"/>
            <a:ext cx="7107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05080" y="2179800"/>
            <a:ext cx="709272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754280" y="3416400"/>
            <a:ext cx="898560" cy="11221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32320" y="2847960"/>
            <a:ext cx="900000" cy="169056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08560" y="2308320"/>
            <a:ext cx="882720" cy="223020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70760" y="3184560"/>
            <a:ext cx="901800" cy="135396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05080" y="2179800"/>
            <a:ext cx="0" cy="235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9920" y="45385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39920" y="420372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39920" y="386064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39920" y="35258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39920" y="31924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39920" y="28576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39920" y="25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9920" y="2179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05080" y="4538520"/>
            <a:ext cx="709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405080" y="4538520"/>
            <a:ext cx="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318132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95612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72300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849780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6120" y="1380960"/>
            <a:ext cx="1043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Relative C4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equipe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Cost</a:t>
            </a: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 (%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40960" y="44704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25400" y="41353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5400" y="3792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5400" y="34574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5400" y="31226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0560" y="27874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0560" y="244620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0560" y="211140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72080" y="4653000"/>
            <a:ext cx="494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T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1  </a:t>
            </a: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33400" y="4653000"/>
            <a:ext cx="9561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T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50% </a:t>
            </a: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 1 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50%  2 h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06560" y="4653000"/>
            <a:ext cx="534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T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2 h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4653000"/>
            <a:ext cx="11404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NGN</a:t>
            </a: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with </a:t>
            </a: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trun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71680" y="2847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71760" y="5529240"/>
            <a:ext cx="5973480" cy="48888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Complex C4 networks replaced with N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Upfront CAPEX remains the key barrier : C5 network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83" name=""/>
          <p:cNvSpPr/>
          <p:nvPr/>
        </p:nvSpPr>
        <p:spPr>
          <a:xfrm>
            <a:off x="3776760" y="2362320"/>
            <a:ext cx="9360" cy="11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04720" y="1563840"/>
            <a:ext cx="8301240" cy="1671480"/>
            <a:chOff x="504720" y="1563840"/>
            <a:chExt cx="8301240" cy="1671480"/>
          </a:xfrm>
        </p:grpSpPr>
        <p:sp>
          <p:nvSpPr>
            <p:cNvPr id="585" name=""/>
            <p:cNvSpPr/>
            <p:nvPr/>
          </p:nvSpPr>
          <p:spPr>
            <a:xfrm>
              <a:off x="504720" y="1563840"/>
              <a:ext cx="3083040" cy="1671480"/>
            </a:xfrm>
            <a:prstGeom prst="rect">
              <a:avLst/>
            </a:pr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Large obsolescence 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extension in  BB mark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76760" y="1563840"/>
              <a:ext cx="5029200" cy="167148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GN Voice comparable with TDM 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5/NGN replacement under consi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sk hedging (maintenance, failure, BB Voi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st PSTN/BB access synerg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04720" y="4762440"/>
            <a:ext cx="8301240" cy="1073160"/>
            <a:chOff x="504720" y="4762440"/>
            <a:chExt cx="8301240" cy="1073160"/>
          </a:xfrm>
        </p:grpSpPr>
        <p:sp>
          <p:nvSpPr>
            <p:cNvPr id="588" name=""/>
            <p:cNvSpPr/>
            <p:nvPr/>
          </p:nvSpPr>
          <p:spPr>
            <a:xfrm>
              <a:off x="504720" y="4762440"/>
              <a:ext cx="3083040" cy="1073160"/>
            </a:xfrm>
            <a:prstGeom prst="rect">
              <a:avLst/>
            </a:pr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Other situ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76760" y="4762440"/>
              <a:ext cx="5029200" cy="107316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mary TDM inve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GN-readiness of the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B, the main next investment w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04720" y="3495600"/>
            <a:ext cx="8301240" cy="1005120"/>
            <a:chOff x="504720" y="3495600"/>
            <a:chExt cx="8301240" cy="1005120"/>
          </a:xfrm>
        </p:grpSpPr>
        <p:sp>
          <p:nvSpPr>
            <p:cNvPr id="591" name=""/>
            <p:cNvSpPr/>
            <p:nvPr/>
          </p:nvSpPr>
          <p:spPr>
            <a:xfrm>
              <a:off x="504720" y="3495600"/>
              <a:ext cx="3076560" cy="1005120"/>
            </a:xfrm>
            <a:prstGeom prst="rect">
              <a:avLst/>
            </a:pr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Limited obsolesc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or extens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76760" y="3495600"/>
              <a:ext cx="5029200" cy="100512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DM still advantage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 major C5/NGN replace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dual access (&amp; mobile) synerg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In summary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5520" y="1466640"/>
            <a:ext cx="8404200" cy="430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GN build out will occur from three different market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ce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roadband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GN &amp;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STN Evolution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376920" indent="-376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adband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key catalyst to opening the opportunities for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GN service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voice over BB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d Communications for SME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bedded telephony in new residential BB service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376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376920" indent="-376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TN will progressively be improved with NGN component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ging PSTN &amp; BB infrastructure over time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25560" y="5114880"/>
            <a:ext cx="4469040" cy="838080"/>
          </a:xfrm>
          <a:prstGeom prst="ellipse">
            <a:avLst/>
          </a:prstGeom>
          <a:solidFill>
            <a:srgbClr val="e0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Optic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53080" y="4089240"/>
            <a:ext cx="3117600" cy="1260720"/>
          </a:xfrm>
          <a:prstGeom prst="ellipse">
            <a:avLst/>
          </a:prstGeom>
          <a:solidFill>
            <a:srgbClr val="ffc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63880" y="4083120"/>
            <a:ext cx="3197160" cy="1227240"/>
          </a:xfrm>
          <a:prstGeom prst="ellipse">
            <a:avLst/>
          </a:prstGeom>
          <a:solidFill>
            <a:srgbClr val="ff8467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4680" y="4370400"/>
            <a:ext cx="150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Multi-protoco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IP/MPLS/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2720" y="3497400"/>
            <a:ext cx="5837040" cy="865080"/>
          </a:xfrm>
          <a:prstGeom prst="ellipse">
            <a:avLst/>
          </a:prstGeom>
          <a:solidFill>
            <a:srgbClr val="fff7f7"/>
          </a:solidFill>
          <a:ln w="28440">
            <a:solidFill>
              <a:srgbClr val="ff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0" y="1617840"/>
            <a:ext cx="1797120" cy="4281480"/>
          </a:xfrm>
          <a:custGeom>
            <a:avLst/>
            <a:gdLst>
              <a:gd name="textAreaLeft" fmla="*/ 440640 w 1797120"/>
              <a:gd name="textAreaRight" fmla="*/ 1356480 w 1797120"/>
              <a:gd name="textAreaTop" fmla="*/ 1049400 h 4281480"/>
              <a:gd name="textAreaBottom" fmla="*/ 32320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441360"/>
            <a:ext cx="83167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Towards a Smarter Consolidated Network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25" name=""/>
          <p:cNvSpPr/>
          <p:nvPr/>
        </p:nvSpPr>
        <p:spPr>
          <a:xfrm>
            <a:off x="176040" y="3595680"/>
            <a:ext cx="149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Consolid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Services 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7280" y="2795760"/>
            <a:ext cx="76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A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080" y="182736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A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560" y="449100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FuturaA Bk BT"/>
              </a:rPr>
              <a:t>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FuturaA Bk BT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28960" y="1832040"/>
            <a:ext cx="595944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99cc"/>
              </a:gs>
              <a:gs pos="100000">
                <a:srgbClr val="cfdf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1000" y="2806560"/>
            <a:ext cx="1701720" cy="943200"/>
          </a:xfrm>
          <a:custGeom>
            <a:avLst/>
            <a:gdLst>
              <a:gd name="textAreaLeft" fmla="*/ 417240 w 1701720"/>
              <a:gd name="textAreaRight" fmla="*/ 1284480 w 170172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Metr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Ethernet Agg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2806560"/>
            <a:ext cx="1633680" cy="943200"/>
          </a:xfrm>
          <a:custGeom>
            <a:avLst/>
            <a:gdLst>
              <a:gd name="textAreaLeft" fmla="*/ 400320 w 1633680"/>
              <a:gd name="textAreaRight" fmla="*/ 1233360 w 163368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Multi-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ATM Agg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2720" y="2806560"/>
            <a:ext cx="1533600" cy="943200"/>
          </a:xfrm>
          <a:custGeom>
            <a:avLst/>
            <a:gdLst>
              <a:gd name="textAreaLeft" fmla="*/ 375840 w 1533600"/>
              <a:gd name="textAreaRight" fmla="*/ 1157760 w 153360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Multi-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Optical Agg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57880" y="2806560"/>
            <a:ext cx="1701720" cy="943200"/>
          </a:xfrm>
          <a:custGeom>
            <a:avLst/>
            <a:gdLst>
              <a:gd name="textAreaLeft" fmla="*/ 417240 w 1701720"/>
              <a:gd name="textAreaRight" fmla="*/ 1284480 w 170172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Broadb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55840" y="449136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85840" y="3530520"/>
            <a:ext cx="5761080" cy="798480"/>
          </a:xfrm>
          <a:prstGeom prst="ellipse">
            <a:avLst/>
          </a:prstGeom>
          <a:solidFill>
            <a:srgbClr val="ffff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929000" y="3516120"/>
            <a:ext cx="1209240" cy="1100160"/>
            <a:chOff x="7929000" y="3516120"/>
            <a:chExt cx="1209240" cy="1100160"/>
          </a:xfrm>
        </p:grpSpPr>
        <p:sp>
          <p:nvSpPr>
            <p:cNvPr id="137" name=""/>
            <p:cNvSpPr/>
            <p:nvPr/>
          </p:nvSpPr>
          <p:spPr>
            <a:xfrm>
              <a:off x="7929000" y="4158720"/>
              <a:ext cx="1209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093160" y="3843360"/>
              <a:ext cx="398520" cy="316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8091000" y="3516120"/>
              <a:ext cx="310320" cy="236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986600" y="3725640"/>
              <a:ext cx="462240" cy="97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010000" y="3864240"/>
              <a:ext cx="345960" cy="10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92880" y="3525480"/>
              <a:ext cx="654480" cy="627120"/>
            </a:xfrm>
            <a:prstGeom prst="ellipse">
              <a:avLst/>
            </a:prstGeom>
            <a:gradFill rotWithShape="0">
              <a:gsLst>
                <a:gs pos="0">
                  <a:srgbClr val="c6cbdc"/>
                </a:gs>
                <a:gs pos="50000">
                  <a:srgbClr val="fcfcfc"/>
                </a:gs>
                <a:gs pos="100000">
                  <a:srgbClr val="c6cbd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5400" y="3613680"/>
              <a:ext cx="4831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294000" y="2055960"/>
            <a:ext cx="1019160" cy="645840"/>
          </a:xfrm>
          <a:prstGeom prst="rightArrow">
            <a:avLst>
              <a:gd name="adj1" fmla="val 55083"/>
              <a:gd name="adj2" fmla="val 67811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34320" y="2206800"/>
            <a:ext cx="8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Swi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7800" y="220032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Traditional VP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Leased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50000" y="2220840"/>
            <a:ext cx="116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Internet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IP-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7960" y="2184480"/>
            <a:ext cx="132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IP-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Ethernet 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Hoste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43000" y="1805040"/>
            <a:ext cx="59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FuturaA Bk BT"/>
              </a:rPr>
              <a:t>Services for Mission Critical Business A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682600" y="2055960"/>
            <a:ext cx="1019160" cy="645840"/>
          </a:xfrm>
          <a:prstGeom prst="rightArrow">
            <a:avLst>
              <a:gd name="adj1" fmla="val 55083"/>
              <a:gd name="adj2" fmla="val 67811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10840" y="219240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82800" y="1368000"/>
            <a:ext cx="6186600" cy="28548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Applic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7960" y="3697200"/>
            <a:ext cx="132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Edg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462600">
            <a:off x="5011200" y="5051520"/>
            <a:ext cx="1825920" cy="372960"/>
          </a:xfrm>
          <a:custGeom>
            <a:avLst/>
            <a:gdLst/>
            <a:ahLst/>
            <a:rect l="l" t="t" r="r" b="b"/>
            <a:pathLst>
              <a:path w="1680" h="291">
                <a:moveTo>
                  <a:pt x="106" y="0"/>
                </a:moveTo>
                <a:cubicBezTo>
                  <a:pt x="189" y="4"/>
                  <a:pt x="465" y="14"/>
                  <a:pt x="607" y="23"/>
                </a:cubicBezTo>
                <a:cubicBezTo>
                  <a:pt x="749" y="32"/>
                  <a:pt x="838" y="40"/>
                  <a:pt x="958" y="56"/>
                </a:cubicBezTo>
                <a:cubicBezTo>
                  <a:pt x="1078" y="72"/>
                  <a:pt x="1218" y="97"/>
                  <a:pt x="1329" y="120"/>
                </a:cubicBezTo>
                <a:cubicBezTo>
                  <a:pt x="1440" y="143"/>
                  <a:pt x="1574" y="180"/>
                  <a:pt x="1627" y="194"/>
                </a:cubicBezTo>
                <a:cubicBezTo>
                  <a:pt x="1680" y="208"/>
                  <a:pt x="1656" y="199"/>
                  <a:pt x="1650" y="204"/>
                </a:cubicBezTo>
                <a:cubicBezTo>
                  <a:pt x="1644" y="209"/>
                  <a:pt x="1609" y="216"/>
                  <a:pt x="1588" y="222"/>
                </a:cubicBezTo>
                <a:cubicBezTo>
                  <a:pt x="1567" y="228"/>
                  <a:pt x="1567" y="231"/>
                  <a:pt x="1521" y="240"/>
                </a:cubicBezTo>
                <a:cubicBezTo>
                  <a:pt x="1475" y="249"/>
                  <a:pt x="1384" y="267"/>
                  <a:pt x="1311" y="275"/>
                </a:cubicBezTo>
                <a:cubicBezTo>
                  <a:pt x="1238" y="283"/>
                  <a:pt x="1173" y="291"/>
                  <a:pt x="1083" y="291"/>
                </a:cubicBezTo>
                <a:cubicBezTo>
                  <a:pt x="993" y="291"/>
                  <a:pt x="867" y="288"/>
                  <a:pt x="771" y="278"/>
                </a:cubicBezTo>
                <a:cubicBezTo>
                  <a:pt x="675" y="268"/>
                  <a:pt x="584" y="249"/>
                  <a:pt x="505" y="231"/>
                </a:cubicBezTo>
                <a:cubicBezTo>
                  <a:pt x="426" y="213"/>
                  <a:pt x="359" y="192"/>
                  <a:pt x="298" y="170"/>
                </a:cubicBezTo>
                <a:cubicBezTo>
                  <a:pt x="237" y="148"/>
                  <a:pt x="191" y="123"/>
                  <a:pt x="141" y="96"/>
                </a:cubicBezTo>
                <a:cubicBezTo>
                  <a:pt x="91" y="69"/>
                  <a:pt x="30" y="24"/>
                  <a:pt x="0" y="5"/>
                </a:cubicBezTo>
              </a:path>
            </a:pathLst>
          </a:custGeom>
          <a:solidFill>
            <a:srgbClr val="ff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784760" y="4359240"/>
            <a:ext cx="499680" cy="749160"/>
            <a:chOff x="4784760" y="4359240"/>
            <a:chExt cx="499680" cy="749160"/>
          </a:xfrm>
        </p:grpSpPr>
        <p:sp>
          <p:nvSpPr>
            <p:cNvPr id="156" name=""/>
            <p:cNvSpPr/>
            <p:nvPr/>
          </p:nvSpPr>
          <p:spPr>
            <a:xfrm>
              <a:off x="5032440" y="4360320"/>
              <a:ext cx="252000" cy="747720"/>
            </a:xfrm>
            <a:custGeom>
              <a:avLst/>
              <a:gdLst/>
              <a:ahLst/>
              <a:rect l="l" t="t" r="r" b="b"/>
              <a:pathLst>
                <a:path w="232" h="654">
                  <a:moveTo>
                    <a:pt x="3" y="0"/>
                  </a:moveTo>
                  <a:cubicBezTo>
                    <a:pt x="21" y="14"/>
                    <a:pt x="80" y="50"/>
                    <a:pt x="113" y="83"/>
                  </a:cubicBezTo>
                  <a:cubicBezTo>
                    <a:pt x="146" y="116"/>
                    <a:pt x="181" y="160"/>
                    <a:pt x="201" y="201"/>
                  </a:cubicBezTo>
                  <a:cubicBezTo>
                    <a:pt x="221" y="242"/>
                    <a:pt x="232" y="284"/>
                    <a:pt x="231" y="328"/>
                  </a:cubicBezTo>
                  <a:cubicBezTo>
                    <a:pt x="230" y="372"/>
                    <a:pt x="213" y="427"/>
                    <a:pt x="193" y="468"/>
                  </a:cubicBezTo>
                  <a:cubicBezTo>
                    <a:pt x="173" y="509"/>
                    <a:pt x="140" y="542"/>
                    <a:pt x="108" y="573"/>
                  </a:cubicBezTo>
                  <a:cubicBezTo>
                    <a:pt x="76" y="604"/>
                    <a:pt x="23" y="637"/>
                    <a:pt x="0" y="654"/>
                  </a:cubicBezTo>
                </a:path>
              </a:pathLst>
            </a:custGeom>
            <a:solidFill>
              <a:srgbClr val="ffe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84760" y="4359240"/>
              <a:ext cx="253080" cy="749160"/>
            </a:xfrm>
            <a:custGeom>
              <a:avLst/>
              <a:gdLst/>
              <a:ahLst/>
              <a:rect l="l" t="t" r="r" b="b"/>
              <a:pathLst>
                <a:path w="233" h="655">
                  <a:moveTo>
                    <a:pt x="233" y="0"/>
                  </a:moveTo>
                  <a:cubicBezTo>
                    <a:pt x="214" y="14"/>
                    <a:pt x="153" y="51"/>
                    <a:pt x="119" y="85"/>
                  </a:cubicBezTo>
                  <a:cubicBezTo>
                    <a:pt x="85" y="119"/>
                    <a:pt x="51" y="162"/>
                    <a:pt x="31" y="204"/>
                  </a:cubicBezTo>
                  <a:cubicBezTo>
                    <a:pt x="11" y="245"/>
                    <a:pt x="0" y="288"/>
                    <a:pt x="1" y="332"/>
                  </a:cubicBezTo>
                  <a:cubicBezTo>
                    <a:pt x="2" y="376"/>
                    <a:pt x="19" y="432"/>
                    <a:pt x="39" y="473"/>
                  </a:cubicBezTo>
                  <a:cubicBezTo>
                    <a:pt x="59" y="515"/>
                    <a:pt x="92" y="549"/>
                    <a:pt x="124" y="579"/>
                  </a:cubicBezTo>
                  <a:cubicBezTo>
                    <a:pt x="156" y="609"/>
                    <a:pt x="209" y="639"/>
                    <a:pt x="231" y="655"/>
                  </a:cubicBezTo>
                </a:path>
              </a:pathLst>
            </a:custGeom>
            <a:solidFill>
              <a:srgbClr val="ffe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747320" y="46562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02160" y="50720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G-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37400">
            <a:off x="3166200" y="5037120"/>
            <a:ext cx="1898640" cy="384120"/>
          </a:xfrm>
          <a:custGeom>
            <a:avLst/>
            <a:gdLst/>
            <a:ahLst/>
            <a:rect l="l" t="t" r="r" b="b"/>
            <a:pathLst>
              <a:path w="1680" h="291">
                <a:moveTo>
                  <a:pt x="106" y="0"/>
                </a:moveTo>
                <a:cubicBezTo>
                  <a:pt x="189" y="4"/>
                  <a:pt x="465" y="14"/>
                  <a:pt x="607" y="23"/>
                </a:cubicBezTo>
                <a:cubicBezTo>
                  <a:pt x="749" y="32"/>
                  <a:pt x="838" y="40"/>
                  <a:pt x="958" y="56"/>
                </a:cubicBezTo>
                <a:cubicBezTo>
                  <a:pt x="1078" y="72"/>
                  <a:pt x="1218" y="97"/>
                  <a:pt x="1329" y="120"/>
                </a:cubicBezTo>
                <a:cubicBezTo>
                  <a:pt x="1440" y="143"/>
                  <a:pt x="1574" y="180"/>
                  <a:pt x="1627" y="194"/>
                </a:cubicBezTo>
                <a:cubicBezTo>
                  <a:pt x="1680" y="208"/>
                  <a:pt x="1656" y="199"/>
                  <a:pt x="1650" y="204"/>
                </a:cubicBezTo>
                <a:cubicBezTo>
                  <a:pt x="1644" y="209"/>
                  <a:pt x="1609" y="216"/>
                  <a:pt x="1588" y="222"/>
                </a:cubicBezTo>
                <a:cubicBezTo>
                  <a:pt x="1567" y="228"/>
                  <a:pt x="1567" y="231"/>
                  <a:pt x="1521" y="240"/>
                </a:cubicBezTo>
                <a:cubicBezTo>
                  <a:pt x="1475" y="249"/>
                  <a:pt x="1384" y="267"/>
                  <a:pt x="1311" y="275"/>
                </a:cubicBezTo>
                <a:cubicBezTo>
                  <a:pt x="1238" y="283"/>
                  <a:pt x="1173" y="291"/>
                  <a:pt x="1083" y="291"/>
                </a:cubicBezTo>
                <a:cubicBezTo>
                  <a:pt x="993" y="291"/>
                  <a:pt x="867" y="288"/>
                  <a:pt x="771" y="278"/>
                </a:cubicBezTo>
                <a:cubicBezTo>
                  <a:pt x="675" y="268"/>
                  <a:pt x="584" y="249"/>
                  <a:pt x="505" y="231"/>
                </a:cubicBezTo>
                <a:cubicBezTo>
                  <a:pt x="426" y="213"/>
                  <a:pt x="359" y="192"/>
                  <a:pt x="298" y="170"/>
                </a:cubicBezTo>
                <a:cubicBezTo>
                  <a:pt x="237" y="148"/>
                  <a:pt x="191" y="123"/>
                  <a:pt x="141" y="96"/>
                </a:cubicBezTo>
                <a:cubicBezTo>
                  <a:pt x="91" y="69"/>
                  <a:pt x="30" y="24"/>
                  <a:pt x="0" y="5"/>
                </a:cubicBezTo>
              </a:path>
            </a:pathLst>
          </a:custGeom>
          <a:solidFill>
            <a:srgbClr val="ff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79720" y="50878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G-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rchOfAnInter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2193840"/>
            <a:ext cx="9144000" cy="110664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905120"/>
            <a:ext cx="9144000" cy="106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0" y="186840"/>
            <a:ext cx="9144000" cy="1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0" y="5603400"/>
            <a:ext cx="9144000" cy="1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0" y="4307040"/>
            <a:ext cx="9144000" cy="1440"/>
          </a:xfrm>
          <a:prstGeom prst="line">
            <a:avLst/>
          </a:prstGeom>
          <a:ln w="38160">
            <a:solidFill>
              <a:srgbClr val="90a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0" y="2066400"/>
            <a:ext cx="9144000" cy="1800"/>
          </a:xfrm>
          <a:prstGeom prst="line">
            <a:avLst/>
          </a:prstGeom>
          <a:ln w="38160">
            <a:solidFill>
              <a:srgbClr val="90a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7640" y="4871880"/>
            <a:ext cx="9144000" cy="71928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5056200"/>
            <a:ext cx="91058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ARCHITECTS OF AN INTERNET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5600" y="2209680"/>
            <a:ext cx="82548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Questions and com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NGN</a:t>
            </a: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 Wireline/Voice, an evasive market?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63" name=""/>
          <p:cNvSpPr/>
          <p:nvPr/>
        </p:nvSpPr>
        <p:spPr>
          <a:xfrm>
            <a:off x="2593800" y="1397160"/>
            <a:ext cx="4070520" cy="37908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oftswitching 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investment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 by 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63880" y="2163600"/>
            <a:ext cx="608148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63880" y="2163600"/>
            <a:ext cx="6081480" cy="2948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09880" y="4616280"/>
            <a:ext cx="54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09880" y="41324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9880" y="3637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31449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09880" y="26589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9880" y="2163600"/>
            <a:ext cx="54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63880" y="5111640"/>
            <a:ext cx="28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8124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08924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6960" y="5111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2288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128000" y="5111640"/>
            <a:ext cx="28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14536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70040" y="4448160"/>
            <a:ext cx="1016280" cy="241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86320" y="3931920"/>
            <a:ext cx="1014120" cy="515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00440" y="3247560"/>
            <a:ext cx="1008360" cy="684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608800" y="2290320"/>
            <a:ext cx="1017360" cy="9572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586320" y="4711320"/>
            <a:ext cx="1014120" cy="1047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00440" y="4436640"/>
            <a:ext cx="1008360" cy="274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08800" y="3848040"/>
            <a:ext cx="101736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626160" y="2933640"/>
            <a:ext cx="1017720" cy="914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600440" y="4863960"/>
            <a:ext cx="1008360" cy="5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608800" y="4678200"/>
            <a:ext cx="1017360" cy="20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26160" y="4280040"/>
            <a:ext cx="1017720" cy="398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1360" y="4637160"/>
            <a:ext cx="11268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29080" y="4394160"/>
            <a:ext cx="11268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46440" y="3878280"/>
            <a:ext cx="113040" cy="1080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8" y="0"/>
                </a:moveTo>
                <a:lnTo>
                  <a:pt x="37" y="55"/>
                </a:lnTo>
                <a:lnTo>
                  <a:pt x="0" y="55"/>
                </a:lnTo>
                <a:lnTo>
                  <a:pt x="18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1560" y="3195720"/>
            <a:ext cx="112680" cy="1062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67480" y="2236680"/>
            <a:ext cx="112680" cy="1080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6440" y="4657680"/>
            <a:ext cx="11304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8" y="0"/>
                </a:moveTo>
                <a:lnTo>
                  <a:pt x="37" y="28"/>
                </a:lnTo>
                <a:lnTo>
                  <a:pt x="18" y="55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51560" y="4384800"/>
            <a:ext cx="112680" cy="1062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7"/>
                </a:lnTo>
                <a:lnTo>
                  <a:pt x="19" y="55"/>
                </a:lnTo>
                <a:lnTo>
                  <a:pt x="0" y="27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67480" y="3794040"/>
            <a:ext cx="112680" cy="1065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8"/>
                </a:lnTo>
                <a:lnTo>
                  <a:pt x="19" y="55"/>
                </a:lnTo>
                <a:lnTo>
                  <a:pt x="0" y="28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85200" y="2879640"/>
            <a:ext cx="11268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8"/>
                </a:lnTo>
                <a:lnTo>
                  <a:pt x="19" y="55"/>
                </a:lnTo>
                <a:lnTo>
                  <a:pt x="0" y="28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51560" y="4815000"/>
            <a:ext cx="112680" cy="10620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67480" y="4627440"/>
            <a:ext cx="112680" cy="10476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85200" y="4226040"/>
            <a:ext cx="112680" cy="10476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16320" y="50166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6960" y="452124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6960" y="403848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6960" y="354168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3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6960" y="304812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4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6960" y="256536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6960" y="207000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6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440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140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8876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352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1052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2824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6720" y="17524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Million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55680" y="5850000"/>
            <a:ext cx="331920" cy="32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59000" y="5796000"/>
            <a:ext cx="115920" cy="106200"/>
          </a:xfrm>
          <a:custGeom>
            <a:avLst/>
            <a:gdLst/>
            <a:ahLst/>
            <a:rect l="l" t="t" r="r" b="b"/>
            <a:pathLst>
              <a:path w="38" h="55">
                <a:moveTo>
                  <a:pt x="19" y="0"/>
                </a:moveTo>
                <a:lnTo>
                  <a:pt x="38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34400" y="5754600"/>
            <a:ext cx="85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June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76640" y="5850000"/>
            <a:ext cx="331920" cy="3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79960" y="5796000"/>
            <a:ext cx="112680" cy="1062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8" y="0"/>
                </a:moveTo>
                <a:lnTo>
                  <a:pt x="37" y="28"/>
                </a:lnTo>
                <a:lnTo>
                  <a:pt x="18" y="55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35920" y="5754600"/>
            <a:ext cx="109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August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97480" y="5850000"/>
            <a:ext cx="331920" cy="3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5796000"/>
            <a:ext cx="112680" cy="10620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79440" y="5754600"/>
            <a:ext cx="78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Jul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18000" y="4935600"/>
            <a:ext cx="102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09880" y="51116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570040" y="4816080"/>
            <a:ext cx="1016280" cy="71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1360" y="4836960"/>
            <a:ext cx="112680" cy="1065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7"/>
                </a:lnTo>
                <a:lnTo>
                  <a:pt x="19" y="55"/>
                </a:lnTo>
                <a:lnTo>
                  <a:pt x="0" y="27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29080" y="4762440"/>
            <a:ext cx="112680" cy="1065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8"/>
                </a:lnTo>
                <a:lnTo>
                  <a:pt x="19" y="55"/>
                </a:lnTo>
                <a:lnTo>
                  <a:pt x="0" y="28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29080" y="4898880"/>
            <a:ext cx="112680" cy="10656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46440" y="4870440"/>
            <a:ext cx="113040" cy="10332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3946680"/>
            <a:ext cx="1827000" cy="552240"/>
          </a:xfrm>
          <a:custGeom>
            <a:avLst/>
            <a:gdLst>
              <a:gd name="textAreaLeft" fmla="*/ 228240 w 1827000"/>
              <a:gd name="textAreaRight" fmla="*/ 1598760 w 1827000"/>
              <a:gd name="textAreaTop" fmla="*/ 137880 h 552240"/>
              <a:gd name="textAreaBottom" fmla="*/ 414360 h 552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rot="16200000">
            <a:off x="7018200" y="3132000"/>
            <a:ext cx="1090440" cy="877680"/>
          </a:xfrm>
          <a:custGeom>
            <a:avLst/>
            <a:gdLst>
              <a:gd name="textAreaLeft" fmla="*/ 136080 w 1090440"/>
              <a:gd name="textAreaRight" fmla="*/ 954360 w 1090440"/>
              <a:gd name="textAreaTop" fmla="*/ 219240 h 877680"/>
              <a:gd name="textAreaBottom" fmla="*/ 658440 h 877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Dec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NGN </a:t>
            </a:r>
            <a:r>
              <a:rPr b="0" lang="nl-BE" sz="2600" spc="-1" strike="noStrike">
                <a:solidFill>
                  <a:srgbClr val="ffffff"/>
                </a:solidFill>
                <a:latin typeface="Arial"/>
                <a:ea typeface="Arial"/>
              </a:rPr>
              <a:t>Wireline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cover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hree market segment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35" name=""/>
          <p:cNvSpPr/>
          <p:nvPr/>
        </p:nvSpPr>
        <p:spPr>
          <a:xfrm>
            <a:off x="843120" y="1654200"/>
            <a:ext cx="7692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mpetitive Voic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Distance Bypass &amp; local competitive basic IP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Broadband NG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ew business and high end residential Broadband services, including Voice +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STN evolu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cumbents’ traditional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oice Local &amp; Long Distance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/trans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ser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5105520"/>
            <a:ext cx="6934320" cy="761760"/>
          </a:xfrm>
          <a:prstGeom prst="roundRect">
            <a:avLst>
              <a:gd name="adj" fmla="val 50000"/>
            </a:avLst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FuturaA Bk BT"/>
              </a:rPr>
              <a:t>Different dynamics - different solution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FuturaA Bk BT"/>
              </a:rPr>
              <a:t>Common NGN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7200" y="438120"/>
            <a:ext cx="82774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Broadband seen as a key catalyst across segment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33640" y="1789200"/>
          <a:ext cx="735804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789200"/>
                    <a:ext cx="735804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85760" y="1874880"/>
            <a:ext cx="1049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WW N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CAP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(Mio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63360" y="6157800"/>
            <a:ext cx="460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FuturaA Bk BT"/>
              </a:rPr>
              <a:t>Source: Conservative analysts perspectives for Softswitch, C-AGW and TGW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06720" y="1341360"/>
            <a:ext cx="4929120" cy="48888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WW NGN Voice Equipment market  </a:t>
            </a:r>
            <a:r>
              <a:rPr b="1" lang="nl-BE" sz="1600" spc="-1" strike="noStrike" baseline="30000">
                <a:solidFill>
                  <a:srgbClr val="ffffff"/>
                </a:solidFill>
                <a:latin typeface="Arial"/>
              </a:rPr>
              <a:t>(1)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7560360" y="4168080"/>
            <a:ext cx="704880" cy="1976400"/>
          </a:xfrm>
          <a:custGeom>
            <a:avLst/>
            <a:gdLst>
              <a:gd name="textAreaLeft" fmla="*/ 0 w 704880"/>
              <a:gd name="textAreaRight" fmla="*/ 704880 w 70488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3440" y="4948200"/>
            <a:ext cx="203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FuturaA Bk BT"/>
              </a:rPr>
              <a:t>Voice over BB com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7397640" y="3195720"/>
            <a:ext cx="1030320" cy="197640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3440" y="3881520"/>
            <a:ext cx="203220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FuturaA Bk BT"/>
              </a:rPr>
              <a:t>New B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90000"/>
              </a:lnSpc>
              <a:buClr>
                <a:srgbClr val="ffffff"/>
              </a:buClr>
              <a:buFont typeface="Futura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FuturaA Bk BT"/>
              </a:rPr>
              <a:t>Managed commun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90000"/>
              </a:lnSpc>
              <a:buClr>
                <a:srgbClr val="ffffff"/>
              </a:buClr>
              <a:buFont typeface="Futura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FuturaA Bk BT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1080" y="2830680"/>
            <a:ext cx="1976400" cy="664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13440" y="2913120"/>
            <a:ext cx="203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FuturaA Bk BT"/>
              </a:rPr>
              <a:t>PSTN &amp; BB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3240" y="6183360"/>
            <a:ext cx="345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1) Regulation, competition offering and perceived end-users 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</a:t>
            </a:r>
            <a:r>
              <a:rPr b="0" i="1" lang="nl-BE" sz="2200" spc="-1" strike="noStrike">
                <a:solidFill>
                  <a:srgbClr val="ffffff"/>
                </a:solidFill>
                <a:latin typeface="FuturaA Bk BT"/>
              </a:rPr>
              <a:t>Competitive Voice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An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early growing niche market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3560" y="1467000"/>
            <a:ext cx="8156880" cy="42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ong Distance Bypass: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proven NGN voice service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 Long Distance for Competitive operator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pass to out-of-region for incumbents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nternet (PC) Telephony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ployed in some countri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che service to High End residential or business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esidential Voice over Broadb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petition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ahoo BB Japan (1.6 Mio Subs), Voice over Cable (2.9 Mio Subs)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ap basic telephony bundled with High Speed Internet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ahoo example: $3.3/subs/month &amp; $0.06/3minutes (local, LD,US)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1520" y="1803240"/>
            <a:ext cx="6673680" cy="2897280"/>
          </a:xfrm>
          <a:prstGeom prst="rect">
            <a:avLst/>
          </a:prstGeom>
          <a:solidFill>
            <a:srgbClr val="dee0e0"/>
          </a:solidFill>
          <a:ln w="0">
            <a:noFill/>
          </a:ln>
          <a:effectLst>
            <a:outerShdw dist="17819" dir="2700000" blurRad="0" rotWithShape="0">
              <a:srgbClr val="84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 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Premises of a new Broadband Economy market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54" name=""/>
          <p:cNvSpPr/>
          <p:nvPr/>
        </p:nvSpPr>
        <p:spPr>
          <a:xfrm>
            <a:off x="-12960" y="6171120"/>
            <a:ext cx="28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Source:  Jefferies &amp; Company, RHK, Yankee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-64440" y="3052440"/>
            <a:ext cx="1409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Subscribers 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0640" y="1318680"/>
            <a:ext cx="2161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FuturaA Bk BT"/>
              </a:rPr>
              <a:t>Total CAGR = 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47600" y="3584520"/>
            <a:ext cx="665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4520" y="2403360"/>
            <a:ext cx="6760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65200" y="2125800"/>
            <a:ext cx="6750000" cy="2252520"/>
            <a:chOff x="1465200" y="2125800"/>
            <a:chExt cx="6750000" cy="2252520"/>
          </a:xfrm>
        </p:grpSpPr>
        <p:sp>
          <p:nvSpPr>
            <p:cNvPr id="260" name=""/>
            <p:cNvSpPr/>
            <p:nvPr/>
          </p:nvSpPr>
          <p:spPr>
            <a:xfrm>
              <a:off x="1465200" y="437688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5200" y="4054320"/>
              <a:ext cx="6750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65200" y="373068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65200" y="340848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65200" y="309564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65200" y="2771640"/>
              <a:ext cx="6750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65200" y="2449440"/>
              <a:ext cx="6750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65200" y="212580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866960" y="4395960"/>
            <a:ext cx="542880" cy="304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19480" y="4159080"/>
            <a:ext cx="534960" cy="541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64080" y="3863880"/>
            <a:ext cx="544320" cy="8366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18040" y="3541680"/>
            <a:ext cx="535320" cy="1158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3227400"/>
            <a:ext cx="543240" cy="1473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6960" y="4159080"/>
            <a:ext cx="542880" cy="236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19480" y="3768840"/>
            <a:ext cx="534960" cy="390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64080" y="3255840"/>
            <a:ext cx="544320" cy="608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18040" y="2724120"/>
            <a:ext cx="535320" cy="817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62640" y="2268360"/>
            <a:ext cx="543240" cy="959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4149720"/>
            <a:ext cx="542880" cy="93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50000">
                <a:srgbClr val="8ac4c4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9480" y="3740040"/>
            <a:ext cx="534960" cy="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64080" y="3198960"/>
            <a:ext cx="544320" cy="56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18040" y="2638440"/>
            <a:ext cx="535320" cy="85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62640" y="2135160"/>
            <a:ext cx="543240" cy="133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19480" y="3730680"/>
            <a:ext cx="534960" cy="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64080" y="3179880"/>
            <a:ext cx="544320" cy="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18040" y="2610000"/>
            <a:ext cx="53532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62640" y="2106720"/>
            <a:ext cx="5432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66960" y="4130640"/>
            <a:ext cx="542880" cy="19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19480" y="3711600"/>
            <a:ext cx="534960" cy="19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64080" y="3151080"/>
            <a:ext cx="544320" cy="288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18040" y="2571840"/>
            <a:ext cx="535320" cy="3816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62640" y="2049480"/>
            <a:ext cx="543240" cy="57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55760" y="4621320"/>
            <a:ext cx="8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42973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39751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4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36529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6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33289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8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86320" y="301608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0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86320" y="26924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2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86320" y="23702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4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6320" y="20462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6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6320" y="17240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8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5804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0264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5660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092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5552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89120" y="1938240"/>
            <a:ext cx="12445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3880" y="2058840"/>
            <a:ext cx="117360" cy="11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45160" y="2033640"/>
            <a:ext cx="275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32200" y="2230560"/>
            <a:ext cx="401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06280" y="2427120"/>
            <a:ext cx="569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32560" y="2624040"/>
            <a:ext cx="3193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F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15640" y="2820960"/>
            <a:ext cx="834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FTTU/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3880" y="2252520"/>
            <a:ext cx="117360" cy="111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2446200"/>
            <a:ext cx="117360" cy="11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3880" y="2639880"/>
            <a:ext cx="117360" cy="11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3880" y="2833560"/>
            <a:ext cx="117360" cy="111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1320" y="5095800"/>
            <a:ext cx="7208640" cy="94932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L annualized service provider revenue end 2002 &gt; 14 Bn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rts to compensate for voice revenues ero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wth rate continues at &gt; 2M lines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5200" y="1633680"/>
            <a:ext cx="7392960" cy="3074760"/>
          </a:xfrm>
          <a:custGeom>
            <a:avLst/>
            <a:gdLst/>
            <a:ahLst/>
            <a:rect l="l" t="t" r="r" b="b"/>
            <a:pathLst>
              <a:path w="3706" h="2097">
                <a:moveTo>
                  <a:pt x="0" y="2097"/>
                </a:moveTo>
                <a:lnTo>
                  <a:pt x="621" y="1651"/>
                </a:lnTo>
                <a:lnTo>
                  <a:pt x="1009" y="1204"/>
                </a:lnTo>
                <a:lnTo>
                  <a:pt x="1604" y="758"/>
                </a:lnTo>
                <a:lnTo>
                  <a:pt x="2354" y="376"/>
                </a:lnTo>
                <a:lnTo>
                  <a:pt x="3182" y="121"/>
                </a:lnTo>
                <a:lnTo>
                  <a:pt x="3703" y="0"/>
                </a:lnTo>
                <a:lnTo>
                  <a:pt x="3706" y="1713"/>
                </a:lnTo>
                <a:lnTo>
                  <a:pt x="0" y="2097"/>
                </a:lnTo>
                <a:close/>
              </a:path>
            </a:pathLst>
          </a:custGeom>
          <a:solidFill>
            <a:srgbClr val="fdd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0160" y="1922400"/>
            <a:ext cx="7331040" cy="2766960"/>
          </a:xfrm>
          <a:custGeom>
            <a:avLst/>
            <a:gdLst/>
            <a:ahLst/>
            <a:rect l="l" t="t" r="r" b="b"/>
            <a:pathLst>
              <a:path w="3706" h="2097">
                <a:moveTo>
                  <a:pt x="0" y="2097"/>
                </a:moveTo>
                <a:lnTo>
                  <a:pt x="621" y="1651"/>
                </a:lnTo>
                <a:lnTo>
                  <a:pt x="1009" y="1204"/>
                </a:lnTo>
                <a:lnTo>
                  <a:pt x="1604" y="758"/>
                </a:lnTo>
                <a:lnTo>
                  <a:pt x="2354" y="376"/>
                </a:lnTo>
                <a:lnTo>
                  <a:pt x="3182" y="121"/>
                </a:lnTo>
                <a:lnTo>
                  <a:pt x="3703" y="0"/>
                </a:lnTo>
                <a:lnTo>
                  <a:pt x="3706" y="1713"/>
                </a:lnTo>
                <a:lnTo>
                  <a:pt x="0" y="2097"/>
                </a:lnTo>
                <a:close/>
              </a:path>
            </a:pathLst>
          </a:custGeom>
          <a:solidFill>
            <a:srgbClr val="fee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1080" y="2346480"/>
            <a:ext cx="7413840" cy="2361960"/>
          </a:xfrm>
          <a:custGeom>
            <a:avLst/>
            <a:gdLst/>
            <a:ahLst/>
            <a:rect l="l" t="t" r="r" b="b"/>
            <a:pathLst>
              <a:path w="3706" h="2097">
                <a:moveTo>
                  <a:pt x="0" y="2097"/>
                </a:moveTo>
                <a:lnTo>
                  <a:pt x="621" y="1651"/>
                </a:lnTo>
                <a:lnTo>
                  <a:pt x="1009" y="1204"/>
                </a:lnTo>
                <a:lnTo>
                  <a:pt x="1604" y="758"/>
                </a:lnTo>
                <a:lnTo>
                  <a:pt x="2354" y="376"/>
                </a:lnTo>
                <a:lnTo>
                  <a:pt x="3182" y="121"/>
                </a:lnTo>
                <a:lnTo>
                  <a:pt x="3703" y="0"/>
                </a:lnTo>
                <a:lnTo>
                  <a:pt x="3706" y="1713"/>
                </a:lnTo>
                <a:lnTo>
                  <a:pt x="0" y="2097"/>
                </a:lnTo>
                <a:close/>
              </a:path>
            </a:pathLst>
          </a:custGeom>
          <a:solidFill>
            <a:srgbClr val="fee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7960" y="420480"/>
            <a:ext cx="7459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</a:t>
            </a:r>
            <a:br>
              <a:rPr sz="2200"/>
            </a:br>
            <a:r>
              <a:rPr b="0" lang="fr-FR" sz="2600" spc="-1" strike="noStrike">
                <a:solidFill>
                  <a:srgbClr val="ffffff"/>
                </a:solidFill>
                <a:latin typeface="FuturaA Bk BT"/>
              </a:rPr>
              <a:t>Grow Broadband services value </a:t>
            </a:r>
            <a:r>
              <a:rPr b="0" lang="fr-FR" sz="2600" spc="-1" strike="noStrike" u="sng">
                <a:solidFill>
                  <a:srgbClr val="ffffff"/>
                </a:solidFill>
                <a:uFillTx/>
                <a:latin typeface="FuturaA Bk BT"/>
              </a:rPr>
              <a:t>in three wav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23" name=""/>
          <p:cNvSpPr/>
          <p:nvPr/>
        </p:nvSpPr>
        <p:spPr>
          <a:xfrm>
            <a:off x="8170200" y="476856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3520" y="2567160"/>
            <a:ext cx="6837480" cy="2120760"/>
          </a:xfrm>
          <a:custGeom>
            <a:avLst/>
            <a:gdLst/>
            <a:ahLst/>
            <a:rect l="l" t="t" r="r" b="b"/>
            <a:pathLst>
              <a:path w="870" h="198">
                <a:moveTo>
                  <a:pt x="0" y="198"/>
                </a:moveTo>
                <a:lnTo>
                  <a:pt x="144" y="156"/>
                </a:lnTo>
                <a:lnTo>
                  <a:pt x="234" y="114"/>
                </a:lnTo>
                <a:lnTo>
                  <a:pt x="372" y="72"/>
                </a:lnTo>
                <a:lnTo>
                  <a:pt x="546" y="36"/>
                </a:lnTo>
                <a:lnTo>
                  <a:pt x="738" y="12"/>
                </a:lnTo>
                <a:lnTo>
                  <a:pt x="870" y="0"/>
                </a:lnTo>
                <a:lnTo>
                  <a:pt x="870" y="162"/>
                </a:lnTo>
                <a:lnTo>
                  <a:pt x="0" y="198"/>
                </a:lnTo>
                <a:close/>
              </a:path>
            </a:pathLst>
          </a:custGeom>
          <a:solidFill>
            <a:srgbClr val="f39f6b"/>
          </a:solidFill>
          <a:ln w="0">
            <a:noFill/>
          </a:ln>
          <a:effectLst>
            <a:outerShdw dist="17819" dir="2700000" blurRad="0" rotWithShape="0">
              <a:srgbClr val="915f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21400" y="2914560"/>
            <a:ext cx="24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Business 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96760" y="3263760"/>
            <a:ext cx="7378920" cy="1428840"/>
          </a:xfrm>
          <a:custGeom>
            <a:avLst/>
            <a:gdLst/>
            <a:ahLst/>
            <a:rect l="l" t="t" r="r" b="b"/>
            <a:pathLst>
              <a:path w="4757" h="900">
                <a:moveTo>
                  <a:pt x="0" y="895"/>
                </a:moveTo>
                <a:lnTo>
                  <a:pt x="791" y="698"/>
                </a:lnTo>
                <a:lnTo>
                  <a:pt x="1288" y="490"/>
                </a:lnTo>
                <a:lnTo>
                  <a:pt x="2046" y="290"/>
                </a:lnTo>
                <a:lnTo>
                  <a:pt x="2999" y="129"/>
                </a:lnTo>
                <a:lnTo>
                  <a:pt x="4046" y="34"/>
                </a:lnTo>
                <a:lnTo>
                  <a:pt x="4757" y="0"/>
                </a:lnTo>
                <a:lnTo>
                  <a:pt x="4755" y="900"/>
                </a:lnTo>
                <a:lnTo>
                  <a:pt x="0" y="895"/>
                </a:lnTo>
                <a:close/>
              </a:path>
            </a:pathLst>
          </a:custGeom>
          <a:solidFill>
            <a:srgbClr val="95c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66000" y="3875040"/>
            <a:ext cx="293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High Speed Interne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880" y="13176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27080" y="4641840"/>
            <a:ext cx="816120" cy="5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35640" y="2224080"/>
            <a:ext cx="270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Residential Multi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90640" y="4700520"/>
            <a:ext cx="797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644640" y="3440160"/>
            <a:ext cx="21960" cy="130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3560" y="47242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73000" y="1473120"/>
            <a:ext cx="0" cy="326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46720" y="2230560"/>
            <a:ext cx="482760" cy="49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8480" y="1599480"/>
            <a:ext cx="577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Address new audiences (PC, TV, console) with new services (gaming, personal communication, content sha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54000" y="3485160"/>
            <a:ext cx="1973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Move aggressively into H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52200" y="4111560"/>
            <a:ext cx="18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70440" y="3033720"/>
            <a:ext cx="53028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404080"/>
            <a:ext cx="3875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Build on existing infrastructure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start with underserved SOHO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09640" y="5140440"/>
            <a:ext cx="6197760" cy="89676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Observed timeframe to generate positiv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For an incremental Consumer: 12 to 1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For an incremental Business subscriber: 4 to 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6328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Raising Managed Communications for Small business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43" name=""/>
          <p:cNvSpPr/>
          <p:nvPr/>
        </p:nvSpPr>
        <p:spPr>
          <a:xfrm>
            <a:off x="398520" y="1400040"/>
            <a:ext cx="1935000" cy="48924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End-user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68920" y="1400040"/>
            <a:ext cx="3264120" cy="48924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32120" y="1400040"/>
            <a:ext cx="2378160" cy="48924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5120" y="3745080"/>
            <a:ext cx="7527960" cy="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1920" y="2492280"/>
            <a:ext cx="2068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ull hosting see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(4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97360" y="2004840"/>
            <a:ext cx="2373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sted IP PB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eb call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sted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P Video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 rot="16200000">
            <a:off x="1915560" y="2708280"/>
            <a:ext cx="1395360" cy="2142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 rot="16200000">
            <a:off x="4770000" y="2708280"/>
            <a:ext cx="1395360" cy="2142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08040" y="5051520"/>
            <a:ext cx="7441920" cy="962640"/>
            <a:chOff x="608040" y="5051520"/>
            <a:chExt cx="7441920" cy="962640"/>
          </a:xfrm>
        </p:grpSpPr>
        <p:sp>
          <p:nvSpPr>
            <p:cNvPr id="352" name=""/>
            <p:cNvSpPr/>
            <p:nvPr/>
          </p:nvSpPr>
          <p:spPr>
            <a:xfrm>
              <a:off x="608040" y="5181480"/>
              <a:ext cx="1517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Conserva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(25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97000" y="5211720"/>
              <a:ext cx="23529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Traditional 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High Speed 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2116800" y="544104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16200000">
              <a:off x="4969800" y="544104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18880" y="5211720"/>
              <a:ext cx="220716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Average access needs - no real leading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65120" y="3914640"/>
            <a:ext cx="7578360" cy="1063800"/>
            <a:chOff x="465120" y="3914640"/>
            <a:chExt cx="7578360" cy="1063800"/>
          </a:xfrm>
        </p:grpSpPr>
        <p:sp>
          <p:nvSpPr>
            <p:cNvPr id="358" name=""/>
            <p:cNvSpPr/>
            <p:nvPr/>
          </p:nvSpPr>
          <p:spPr>
            <a:xfrm>
              <a:off x="696240" y="4081320"/>
              <a:ext cx="13399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Networ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(3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7720" y="3986280"/>
              <a:ext cx="234576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IP &amp; Voice VP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Web call ce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IP Videoconferen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6200000">
              <a:off x="2117160" y="430416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5120" y="4978440"/>
              <a:ext cx="7555320" cy="0"/>
            </a:xfrm>
            <a:prstGeom prst="line">
              <a:avLst/>
            </a:prstGeom>
            <a:ln w="284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6200000">
              <a:off x="4970520" y="430416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49760" y="4108320"/>
              <a:ext cx="2345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Remote worker 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Multi site &amp; re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862360" y="2519280"/>
            <a:ext cx="2292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tronger interest in turn-key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196200" y="6176160"/>
            <a:ext cx="2427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b">
            <a:spAutoFit/>
          </a:bodyPr>
          <a:p>
            <a:pPr marL="235080" indent="-235080">
              <a:lnSpc>
                <a:spcPct val="90000"/>
              </a:lnSpc>
              <a:tabLst>
                <a:tab algn="l" pos="0"/>
                <a:tab algn="l" pos="37800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Source: Alcatel  end-users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102520" y="2039760"/>
            <a:ext cx="685800" cy="3910320"/>
            <a:chOff x="8102520" y="2039760"/>
            <a:chExt cx="685800" cy="3910320"/>
          </a:xfrm>
        </p:grpSpPr>
        <p:sp>
          <p:nvSpPr>
            <p:cNvPr id="367" name=""/>
            <p:cNvSpPr/>
            <p:nvPr/>
          </p:nvSpPr>
          <p:spPr>
            <a:xfrm>
              <a:off x="8102520" y="2039760"/>
              <a:ext cx="139680" cy="391032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101880 h 3910320"/>
                <a:gd name="textAreaBottom" fmla="*/ 3808440 h 391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7021440" y="3855960"/>
              <a:ext cx="32176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4320" indent="-1843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Security &amp; mobile off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9:06:28Z</dcterms:created>
  <dc:creator>Jean-Pierre Lartigue</dc:creator>
  <dc:description/>
  <dc:language>en-US</dc:language>
  <cp:lastModifiedBy>androucv</cp:lastModifiedBy>
  <dcterms:modified xsi:type="dcterms:W3CDTF">2003-07-08T12:34:21Z</dcterms:modified>
  <cp:revision>67</cp:revision>
  <dc:subject/>
  <dc:title>Introduction to NGN BB services Summary presentation</dc:title>
</cp:coreProperties>
</file>