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BEC-FA95-45B5-84C1-4ADE3712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1AA-2AFA-4164-A60B-1D6918FA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743-8801-46DB-839B-C16D7D84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8D1-558C-4098-A75D-3346DE62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D35-E243-40BA-BF00-E2FF004A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CD7-CF05-435F-8081-796E897A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CE5-1BF8-47A0-935B-C13FDF94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4E3-1AB2-484C-AD59-274A18E4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1A0-A5AC-4DAB-9A38-8B1E6F09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0B8-A3C7-41BC-8140-DF40C074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9F9-1C91-4C03-86D8-007CF88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381-2479-4639-A144-207928FC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1694-0142-4B87-922B-9767287081AB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ENUM Call Flow Scenarios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even D. Lind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T&amp;T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+1 973 236 6787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dlind@att.c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" name="attlogo88x31" descr=""/>
          <p:cNvPicPr/>
          <p:nvPr/>
        </p:nvPicPr>
        <p:blipFill>
          <a:blip r:embed="rId1"/>
          <a:stretch/>
        </p:blipFill>
        <p:spPr>
          <a:xfrm>
            <a:off x="4114800" y="6019920"/>
            <a:ext cx="1006560" cy="35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7720" y="228600"/>
            <a:ext cx="25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Workshop Document:</a:t>
            </a:r>
            <a:r>
              <a:rPr b="1" lang="en-GB" sz="1200" spc="-1" strike="noStrike">
                <a:solidFill>
                  <a:srgbClr val="003366"/>
                </a:solidFill>
                <a:latin typeface="Times New Roman"/>
              </a:rPr>
              <a:t> WS ENUM-8-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riginal: Engl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TU Telecommunication Standardization Burea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Document No. 8-E</a:t>
            </a:r>
            <a:br>
              <a:rPr sz="1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tudy Group 2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utorial Workshop on ENU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neva, 8 February 200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URCE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even D. Lin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ITLE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NUM Call Flow Scenari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ver 3 “call” scenari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P-based to IP-base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SN to IP-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P-based to CS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P-based origination of global services is a special c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sed on certain assump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pplications are only examples; others possi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9" name="attlogo88x31" descr=""/>
          <p:cNvPicPr/>
          <p:nvPr/>
        </p:nvPicPr>
        <p:blipFill>
          <a:blip r:embed="rId1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munication between IP-based terminal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9520" y="3048120"/>
            <a:ext cx="212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1. End user enters E.164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Number: 1-973-236-6787 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(e.g., in to: field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600" y="1447920"/>
            <a:ext cx="6172200" cy="5151240"/>
            <a:chOff x="1371600" y="1447920"/>
            <a:chExt cx="6172200" cy="5151240"/>
          </a:xfrm>
        </p:grpSpPr>
        <p:sp>
          <p:nvSpPr>
            <p:cNvPr id="53" name="Cloud"/>
            <p:cNvSpPr/>
            <p:nvPr/>
          </p:nvSpPr>
          <p:spPr>
            <a:xfrm>
              <a:off x="4289400" y="3124080"/>
              <a:ext cx="2603520" cy="18385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75480" y="1676520"/>
              <a:ext cx="868320" cy="1143000"/>
            </a:xfrm>
            <a:prstGeom prst="flowChartMagneticDisk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9480" y="3699000"/>
              <a:ext cx="13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P-based</a:t>
              </a:r>
              <a:br>
                <a:rPr sz="2400"/>
              </a:b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94160" y="2590920"/>
              <a:ext cx="1230120" cy="761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459480" y="2819520"/>
              <a:ext cx="43344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657600" y="4952520"/>
              <a:ext cx="2151000" cy="762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59" name="BS00580_" descr=""/>
            <p:cNvPicPr/>
            <p:nvPr/>
          </p:nvPicPr>
          <p:blipFill>
            <a:blip r:embed="rId1"/>
            <a:stretch/>
          </p:blipFill>
          <p:spPr>
            <a:xfrm>
              <a:off x="1371600" y="1447920"/>
              <a:ext cx="213516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BS00580_" descr=""/>
            <p:cNvPicPr/>
            <p:nvPr/>
          </p:nvPicPr>
          <p:blipFill>
            <a:blip r:embed="rId2"/>
            <a:stretch/>
          </p:blipFill>
          <p:spPr>
            <a:xfrm>
              <a:off x="1828800" y="4800600"/>
              <a:ext cx="213516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528120" y="2209680"/>
            <a:ext cx="6253200" cy="2546640"/>
            <a:chOff x="528120" y="2209680"/>
            <a:chExt cx="6253200" cy="2546640"/>
          </a:xfrm>
        </p:grpSpPr>
        <p:sp>
          <p:nvSpPr>
            <p:cNvPr id="62" name=""/>
            <p:cNvSpPr/>
            <p:nvPr/>
          </p:nvSpPr>
          <p:spPr>
            <a:xfrm>
              <a:off x="528120" y="3809880"/>
              <a:ext cx="246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. Application client formats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number into FQDN (e.g.,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7.8.7.6.6.3.2.3.7.9.1.e164.arpa)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and looks up name in D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76360" y="2209680"/>
              <a:ext cx="35049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352680" y="2286000"/>
            <a:ext cx="5562720" cy="1491120"/>
            <a:chOff x="3352680" y="2286000"/>
            <a:chExt cx="5562720" cy="1491120"/>
          </a:xfrm>
        </p:grpSpPr>
        <p:sp>
          <p:nvSpPr>
            <p:cNvPr id="65" name=""/>
            <p:cNvSpPr/>
            <p:nvPr/>
          </p:nvSpPr>
          <p:spPr>
            <a:xfrm>
              <a:off x="7147080" y="2830680"/>
              <a:ext cx="1768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3. DNS returns all</a:t>
              </a:r>
              <a:br>
                <a:rPr sz="1400"/>
              </a:b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NAPTR records</a:t>
              </a:r>
              <a:br>
                <a:rPr sz="1400"/>
              </a:b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associated wit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QD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352680" y="2286000"/>
              <a:ext cx="3276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352680" y="2743200"/>
            <a:ext cx="5181120" cy="3259080"/>
            <a:chOff x="3352680" y="2743200"/>
            <a:chExt cx="5181120" cy="3259080"/>
          </a:xfrm>
        </p:grpSpPr>
        <p:sp>
          <p:nvSpPr>
            <p:cNvPr id="68" name=""/>
            <p:cNvSpPr/>
            <p:nvPr/>
          </p:nvSpPr>
          <p:spPr>
            <a:xfrm>
              <a:off x="3352680" y="2743200"/>
              <a:ext cx="1371600" cy="12952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429000" y="4038480"/>
              <a:ext cx="1295280" cy="13716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31640" y="5268960"/>
              <a:ext cx="360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4. Application selects appropriate</a:t>
              </a:r>
              <a:br>
                <a:rPr sz="1400"/>
              </a:b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NAPTR record (e.g., mailto:sdlind@att.com)</a:t>
              </a:r>
              <a:br>
                <a:rPr sz="1400"/>
              </a:b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and completes processin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71" name="attlogo88x31" descr=""/>
          <p:cNvPicPr/>
          <p:nvPr/>
        </p:nvPicPr>
        <p:blipFill>
          <a:blip r:embed="rId3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all from CSN to IP-based Networ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7200" y="1676520"/>
            <a:ext cx="7086240" cy="4876560"/>
            <a:chOff x="457200" y="1676520"/>
            <a:chExt cx="7086240" cy="4876560"/>
          </a:xfrm>
        </p:grpSpPr>
        <p:pic>
          <p:nvPicPr>
            <p:cNvPr id="74" name="TELEPHON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30140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COMP8" descr=""/>
            <p:cNvPicPr/>
            <p:nvPr/>
          </p:nvPicPr>
          <p:blipFill>
            <a:blip r:embed="rId2"/>
            <a:stretch/>
          </p:blipFill>
          <p:spPr>
            <a:xfrm>
              <a:off x="2770920" y="1828800"/>
              <a:ext cx="83304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HONE1" descr=""/>
            <p:cNvPicPr/>
            <p:nvPr/>
          </p:nvPicPr>
          <p:blipFill>
            <a:blip r:embed="rId3"/>
            <a:stretch/>
          </p:blipFill>
          <p:spPr>
            <a:xfrm>
              <a:off x="673920" y="5257800"/>
              <a:ext cx="9972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Cloud"/>
            <p:cNvSpPr/>
            <p:nvPr/>
          </p:nvSpPr>
          <p:spPr>
            <a:xfrm>
              <a:off x="4289400" y="3124080"/>
              <a:ext cx="2603160" cy="18385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75840" y="1676520"/>
              <a:ext cx="867600" cy="1143000"/>
            </a:xfrm>
            <a:prstGeom prst="flowChartMagneticDisk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80600" y="5562720"/>
              <a:ext cx="1662840" cy="9903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Gatewa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88000" y="5257800"/>
              <a:ext cx="1590840" cy="1066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CS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9120" y="3699000"/>
              <a:ext cx="13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P-based</a:t>
              </a:r>
              <a:br>
                <a:rPr sz="2400"/>
              </a:b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0920" y="321156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IP Cli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0720" y="344016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IP Serv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686240" y="2743200"/>
              <a:ext cx="108468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94160" y="2590920"/>
              <a:ext cx="1229040" cy="761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458760" y="2819520"/>
              <a:ext cx="43380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469160" y="5867280"/>
              <a:ext cx="151848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8840" y="5791320"/>
              <a:ext cx="130140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5807880" y="4952880"/>
              <a:ext cx="939960" cy="609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289880" y="5943600"/>
            <a:ext cx="2084040" cy="748800"/>
            <a:chOff x="1289880" y="5943600"/>
            <a:chExt cx="2084040" cy="748800"/>
          </a:xfrm>
        </p:grpSpPr>
        <p:sp>
          <p:nvSpPr>
            <p:cNvPr id="91" name=""/>
            <p:cNvSpPr/>
            <p:nvPr/>
          </p:nvSpPr>
          <p:spPr>
            <a:xfrm>
              <a:off x="1289880" y="6172200"/>
              <a:ext cx="208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Times New Roman"/>
                </a:rPr>
                <a:t>1. End User dials E.164</a:t>
              </a:r>
              <a:br>
                <a:rPr sz="1400"/>
              </a:br>
              <a:r>
                <a:rPr b="1" lang="en-US" sz="1400" spc="-1" strike="noStrike">
                  <a:solidFill>
                    <a:srgbClr val="800000"/>
                  </a:solidFill>
                  <a:latin typeface="Times New Roman"/>
                </a:rPr>
                <a:t>Number: 1-973-236-678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447920" y="5943600"/>
              <a:ext cx="1600200" cy="76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16120" y="4952880"/>
            <a:ext cx="2027880" cy="1219320"/>
            <a:chOff x="4416120" y="4952880"/>
            <a:chExt cx="2027880" cy="1219320"/>
          </a:xfrm>
        </p:grpSpPr>
        <p:sp>
          <p:nvSpPr>
            <p:cNvPr id="94" name=""/>
            <p:cNvSpPr/>
            <p:nvPr/>
          </p:nvSpPr>
          <p:spPr>
            <a:xfrm>
              <a:off x="4416120" y="4952880"/>
              <a:ext cx="202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2. CSN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orwards to appropriat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Gatewa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5867280"/>
              <a:ext cx="1371600" cy="3049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943680" y="1447920"/>
            <a:ext cx="2200320" cy="4103640"/>
            <a:chOff x="6943680" y="1447920"/>
            <a:chExt cx="2200320" cy="4103640"/>
          </a:xfrm>
        </p:grpSpPr>
        <p:sp>
          <p:nvSpPr>
            <p:cNvPr id="97" name=""/>
            <p:cNvSpPr/>
            <p:nvPr/>
          </p:nvSpPr>
          <p:spPr>
            <a:xfrm>
              <a:off x="7238880" y="4191120"/>
              <a:ext cx="1905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a. G/W formats FQDN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7.8.7.6.6.3.2.3.8.9.1.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e164.arpa; looks up</a:t>
              </a:r>
              <a:br>
                <a:rPr sz="1400"/>
              </a:b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FQDN in D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943680" y="2732040"/>
              <a:ext cx="457200" cy="2819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43800" y="144792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b. DNS returns NAPTR recs, eg: sip:sdl@sip.att.ne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0" y="2144880"/>
            <a:ext cx="2286000" cy="4211640"/>
            <a:chOff x="6858000" y="2144880"/>
            <a:chExt cx="2286000" cy="4211640"/>
          </a:xfrm>
        </p:grpSpPr>
        <p:sp>
          <p:nvSpPr>
            <p:cNvPr id="101" name=""/>
            <p:cNvSpPr/>
            <p:nvPr/>
          </p:nvSpPr>
          <p:spPr>
            <a:xfrm flipH="1">
              <a:off x="6858000" y="2819520"/>
              <a:ext cx="457200" cy="27432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43800" y="541008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4a. G/W looks up host name for sip.att.net in D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04280" y="2144880"/>
              <a:ext cx="1539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4b. DNS returns IP address of  host (sip.att.net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504960" y="1839960"/>
            <a:ext cx="3276360" cy="3722760"/>
            <a:chOff x="3504960" y="1839960"/>
            <a:chExt cx="3276360" cy="3722760"/>
          </a:xfrm>
        </p:grpSpPr>
        <p:sp>
          <p:nvSpPr>
            <p:cNvPr id="105" name=""/>
            <p:cNvSpPr/>
            <p:nvPr/>
          </p:nvSpPr>
          <p:spPr>
            <a:xfrm flipH="1" flipV="1">
              <a:off x="3504960" y="2362320"/>
              <a:ext cx="3276360" cy="320040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65440" y="1839960"/>
              <a:ext cx="245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ff"/>
                  </a:solidFill>
                  <a:latin typeface="Times New Roman"/>
                </a:rPr>
                <a:t>5. Call is routed to designated IP addres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17680" y="1535040"/>
            <a:ext cx="2301480" cy="1131840"/>
            <a:chOff x="517680" y="1535040"/>
            <a:chExt cx="2301480" cy="1131840"/>
          </a:xfrm>
        </p:grpSpPr>
        <p:sp>
          <p:nvSpPr>
            <p:cNvPr id="108" name=""/>
            <p:cNvSpPr/>
            <p:nvPr/>
          </p:nvSpPr>
          <p:spPr>
            <a:xfrm>
              <a:off x="517680" y="1535040"/>
              <a:ext cx="222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cc"/>
                  </a:solidFill>
                  <a:latin typeface="Times New Roman"/>
                </a:rPr>
                <a:t>6. Call is completed to port of designated us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76160" y="2590920"/>
              <a:ext cx="1143000" cy="75960"/>
            </a:xfrm>
            <a:prstGeom prst="line">
              <a:avLst/>
            </a:prstGeom>
            <a:ln w="2844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10" name="attlogo88x31" descr=""/>
          <p:cNvPicPr/>
          <p:nvPr/>
        </p:nvPicPr>
        <p:blipFill>
          <a:blip r:embed="rId4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all from IP-based to CSN Networ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676520"/>
            <a:ext cx="7086240" cy="4876560"/>
            <a:chOff x="457200" y="1676520"/>
            <a:chExt cx="7086240" cy="4876560"/>
          </a:xfrm>
        </p:grpSpPr>
        <p:pic>
          <p:nvPicPr>
            <p:cNvPr id="113" name="TELEPHON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30140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COMP8" descr=""/>
            <p:cNvPicPr/>
            <p:nvPr/>
          </p:nvPicPr>
          <p:blipFill>
            <a:blip r:embed="rId2"/>
            <a:stretch/>
          </p:blipFill>
          <p:spPr>
            <a:xfrm>
              <a:off x="2770920" y="1828800"/>
              <a:ext cx="83304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HONE1" descr=""/>
            <p:cNvPicPr/>
            <p:nvPr/>
          </p:nvPicPr>
          <p:blipFill>
            <a:blip r:embed="rId3"/>
            <a:stretch/>
          </p:blipFill>
          <p:spPr>
            <a:xfrm>
              <a:off x="673920" y="5257800"/>
              <a:ext cx="9972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Cloud"/>
            <p:cNvSpPr/>
            <p:nvPr/>
          </p:nvSpPr>
          <p:spPr>
            <a:xfrm>
              <a:off x="4289400" y="3124080"/>
              <a:ext cx="2603160" cy="18385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75840" y="1676520"/>
              <a:ext cx="867600" cy="1143000"/>
            </a:xfrm>
            <a:prstGeom prst="flowChartMagneticDisk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0600" y="5562720"/>
              <a:ext cx="1662840" cy="9903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Gatewa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8000" y="5257800"/>
              <a:ext cx="1590840" cy="1066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CS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29120" y="3699000"/>
              <a:ext cx="13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P-based</a:t>
              </a:r>
              <a:br>
                <a:rPr sz="2400"/>
              </a:b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0920" y="321156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IP Cli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00720" y="344016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SIP Serv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686240" y="2743200"/>
              <a:ext cx="108468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94160" y="2590920"/>
              <a:ext cx="1229040" cy="761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458760" y="2819520"/>
              <a:ext cx="43380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9160" y="5867280"/>
              <a:ext cx="151848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8840" y="5791320"/>
              <a:ext cx="130140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5807880" y="4952880"/>
              <a:ext cx="939960" cy="609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23200" y="1752480"/>
            <a:ext cx="208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1. End user dials E.164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Number: 1-973-236-6787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8600" y="1371600"/>
            <a:ext cx="6477120" cy="2867040"/>
            <a:chOff x="228600" y="1371600"/>
            <a:chExt cx="6477120" cy="2867040"/>
          </a:xfrm>
        </p:grpSpPr>
        <p:sp>
          <p:nvSpPr>
            <p:cNvPr id="131" name=""/>
            <p:cNvSpPr/>
            <p:nvPr/>
          </p:nvSpPr>
          <p:spPr>
            <a:xfrm flipV="1">
              <a:off x="1752480" y="2286000"/>
              <a:ext cx="495324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3505320"/>
              <a:ext cx="2438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a. SIP Client formats number into FQDN and looks up in D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5520" y="137160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b. DNS returns NAPTR recs, eg: tel:+1973236678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5720" y="2819160"/>
            <a:ext cx="2609640" cy="1690200"/>
            <a:chOff x="225720" y="2819160"/>
            <a:chExt cx="2609640" cy="1690200"/>
          </a:xfrm>
        </p:grpSpPr>
        <p:sp>
          <p:nvSpPr>
            <p:cNvPr id="135" name=""/>
            <p:cNvSpPr/>
            <p:nvPr/>
          </p:nvSpPr>
          <p:spPr>
            <a:xfrm>
              <a:off x="225720" y="4202280"/>
              <a:ext cx="24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3. SIP Client initiates INVIT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768320" y="2819160"/>
              <a:ext cx="1067040" cy="759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725560" y="2666880"/>
            <a:ext cx="5504040" cy="1811520"/>
            <a:chOff x="2725560" y="2666880"/>
            <a:chExt cx="5504040" cy="1811520"/>
          </a:xfrm>
        </p:grpSpPr>
        <p:sp>
          <p:nvSpPr>
            <p:cNvPr id="138" name=""/>
            <p:cNvSpPr/>
            <p:nvPr/>
          </p:nvSpPr>
          <p:spPr>
            <a:xfrm>
              <a:off x="7543800" y="3200400"/>
              <a:ext cx="685800" cy="838080"/>
            </a:xfrm>
            <a:prstGeom prst="flowChartMagneticDisk">
              <a:avLst/>
            </a:prstGeom>
            <a:solidFill>
              <a:srgbClr val="3399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81680" y="3733920"/>
              <a:ext cx="7621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2666880"/>
              <a:ext cx="3962160" cy="7621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25560" y="3745080"/>
              <a:ext cx="176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4a. SIP Server looks </a:t>
              </a:r>
              <a:br>
                <a:rPr sz="1400"/>
              </a:b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up G/W address in</a:t>
              </a:r>
              <a:br>
                <a:rPr sz="1400"/>
              </a:br>
              <a:r>
                <a:rPr b="1" lang="en-US" sz="1400" spc="-1" strike="noStrike">
                  <a:solidFill>
                    <a:srgbClr val="33cc33"/>
                  </a:solidFill>
                  <a:latin typeface="Times New Roman"/>
                </a:rPr>
                <a:t>Location Serv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297560" y="4049640"/>
            <a:ext cx="168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Times New Roman"/>
              </a:rPr>
              <a:t>4b. Location Server</a:t>
            </a:r>
            <a:br>
              <a:rPr sz="1400"/>
            </a:br>
            <a:r>
              <a:rPr b="1" lang="en-US" sz="1400" spc="-1" strike="noStrike">
                <a:solidFill>
                  <a:srgbClr val="33cc33"/>
                </a:solidFill>
                <a:latin typeface="Times New Roman"/>
              </a:rPr>
              <a:t>returns IP address</a:t>
            </a:r>
            <a:br>
              <a:rPr sz="1400"/>
            </a:br>
            <a:r>
              <a:rPr b="1" lang="en-US" sz="1400" spc="-1" strike="noStrike">
                <a:solidFill>
                  <a:srgbClr val="33cc33"/>
                </a:solidFill>
                <a:latin typeface="Times New Roman"/>
              </a:rPr>
              <a:t>of G/W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22680" y="2819520"/>
            <a:ext cx="3678120" cy="2743200"/>
            <a:chOff x="2722680" y="2819520"/>
            <a:chExt cx="3678120" cy="2743200"/>
          </a:xfrm>
        </p:grpSpPr>
        <p:sp>
          <p:nvSpPr>
            <p:cNvPr id="144" name=""/>
            <p:cNvSpPr/>
            <p:nvPr/>
          </p:nvSpPr>
          <p:spPr>
            <a:xfrm>
              <a:off x="3505320" y="2819520"/>
              <a:ext cx="2895480" cy="274320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2680" y="4430880"/>
              <a:ext cx="201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ff"/>
                  </a:solidFill>
                  <a:latin typeface="Times New Roman"/>
                </a:rPr>
                <a:t>5. SIP Server routes</a:t>
              </a:r>
              <a:br>
                <a:rPr sz="1400"/>
              </a:br>
              <a:r>
                <a:rPr b="1" lang="en-US" sz="1400" spc="-1" strike="noStrike">
                  <a:solidFill>
                    <a:srgbClr val="cc00ff"/>
                  </a:solidFill>
                  <a:latin typeface="Times New Roman"/>
                </a:rPr>
                <a:t>call to appropriate G/W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447920" y="6019560"/>
            <a:ext cx="4440600" cy="623160"/>
            <a:chOff x="1447920" y="6019560"/>
            <a:chExt cx="4440600" cy="623160"/>
          </a:xfrm>
        </p:grpSpPr>
        <p:sp>
          <p:nvSpPr>
            <p:cNvPr id="147" name=""/>
            <p:cNvSpPr/>
            <p:nvPr/>
          </p:nvSpPr>
          <p:spPr>
            <a:xfrm flipH="1" flipV="1">
              <a:off x="1447920" y="6019560"/>
              <a:ext cx="4419360" cy="152280"/>
            </a:xfrm>
            <a:prstGeom prst="line">
              <a:avLst/>
            </a:prstGeom>
            <a:ln w="2844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82720" y="6335640"/>
              <a:ext cx="320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cc"/>
                  </a:solidFill>
                  <a:latin typeface="Times New Roman"/>
                </a:rPr>
                <a:t>6. Gateway completes call through CS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49" name="attlogo88x31" descr=""/>
          <p:cNvPicPr/>
          <p:nvPr/>
        </p:nvPicPr>
        <p:blipFill>
          <a:blip r:embed="rId4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UM can be used on application specific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ach application looks for a specific NAPTR record (or discreet set of records) that it can proc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tential for communication control appl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kes in all NAPTR records and uses application and priority information to make communication between two parties effici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bscriber can exert some control within the parameters of the defined NAPTR re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attlogo88x31" descr=""/>
          <p:cNvPicPr/>
          <p:nvPr/>
        </p:nvPicPr>
        <p:blipFill>
          <a:blip r:embed="rId1"/>
          <a:stretch/>
        </p:blipFill>
        <p:spPr>
          <a:xfrm>
            <a:off x="8137440" y="6324480"/>
            <a:ext cx="100656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21:12:12Z</dcterms:created>
  <dc:creator>Steven D. Lind</dc:creator>
  <dc:description/>
  <dc:language>en-US</dc:language>
  <cp:lastModifiedBy>ugale</cp:lastModifiedBy>
  <dcterms:modified xsi:type="dcterms:W3CDTF">2002-01-14T16:57:33Z</dcterms:modified>
  <cp:revision>10</cp:revision>
  <dc:subject/>
  <dc:title>ENUM Call Flow Scenarios</dc:title>
</cp:coreProperties>
</file>