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1829-C8A3-4F57-83B7-6820E6432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7C8E-8C16-4AF1-AE70-68BD4DA6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2F22-0014-42A8-AFEC-77072F0B0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949B-9F98-4F5A-B061-5F0732D5D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3715-F4D1-421E-80EA-CB67E58D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45AF-54F6-4CC8-9373-244D1C73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FB1D-A623-4DCF-8029-5F9F1FF3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9452-366C-4CC8-B598-F5DD3374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84F4F-5410-4249-96A7-B582A38E0B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66F5E-E6A0-438E-88CE-9DEB1653C8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52F6C-E43B-4037-A821-239747C14B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1FAC1-706B-41C8-9928-20B33DD714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47FC2-2C36-471D-9EDF-D39403F969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9836B-2F51-4400-8AC8-73BEB1F131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172A5-495A-4894-9BFC-FBFC5B729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ABC3-C07F-4167-ACBB-FA29DFA9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31ACC-62A8-449F-ABC0-A294C80398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B4AAC-054D-4B55-BA9C-ECB60A7279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F2DE4-F432-408F-8B45-FBB6AFD38C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AFBEC-3514-42A0-87A0-4493F8DE28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7F7DD-AD59-48A6-819C-CCBEC87D6E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AC4B-B7CE-42A2-89DB-09D2655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A48D-CC31-4BAF-A98B-6CE54B4C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1F82-A004-4B55-AC15-4E8E0CF0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352E-C5D4-4556-BD6E-802CBB6D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868F-B74D-4B05-9C82-F3667E38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43FE-074E-4779-AB0A-468D137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6EE6-AE03-4BB5-8C1C-AC607C29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5BF0-7035-4041-ACE6-95594CACA5C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222200" cy="6882840"/>
            <a:chOff x="0" y="0"/>
            <a:chExt cx="122220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22220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2220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logo-en" descr=""/>
          <p:cNvPicPr/>
          <p:nvPr/>
        </p:nvPicPr>
        <p:blipFill>
          <a:blip r:embed="rId3"/>
          <a:srcRect l="12710" t="0" r="17799" b="0"/>
          <a:stretch/>
        </p:blipFill>
        <p:spPr>
          <a:xfrm>
            <a:off x="0" y="0"/>
            <a:ext cx="1219320" cy="1293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DCC237C7-A490-49C1-B7B0-2D879B8A740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23-25 Ma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5f1ff"/>
                </a:solidFill>
                <a:latin typeface="Trebuchet MS"/>
              </a:rPr>
              <a:t>Security needs in telemedicine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5f1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5f1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5f1ff"/>
                </a:solidFill>
                <a:latin typeface="Trebuchet MS"/>
              </a:rPr>
              <a:t>Philippe Feuerstein, MD</a:t>
            </a:r>
            <a:endParaRPr b="0" lang="en-US" sz="2100" spc="-1" strike="noStrike">
              <a:solidFill>
                <a:srgbClr val="c5f1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5f1ff"/>
                </a:solidFill>
                <a:latin typeface="Trebuchet MS"/>
              </a:rPr>
              <a:t>Centre Hospitalier de Mulhouse, France</a:t>
            </a:r>
            <a:endParaRPr b="0" lang="en-US" sz="2100" spc="-1" strike="noStrike">
              <a:solidFill>
                <a:srgbClr val="c5f1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5f1ff"/>
                </a:solidFill>
                <a:latin typeface="Trebuchet MS"/>
              </a:rPr>
              <a:t>feuersteinp@ch-mulhouse.fr</a:t>
            </a:r>
            <a:endParaRPr b="0" lang="en-US" sz="21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fidentiality  (3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r most health professionals , confidentiality is an ethical du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most countries, confidentiality is a legal obligation, but demanded level is variable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tection A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uropean Data Protection Directive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95/46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alth Insurance Portability and Accountability A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fidentiality  (4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fidentiality can be obtained by use of cryptographic servi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many countries, legal restrictions apply to cryptography material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andardization challenge: to find a common algorithm, strong enough to be safe but law compliant in most if all countr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uthentication (1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r most documents, authenticity is bound to the presence of an authorized handwritten signatu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ven photocopies are worth noth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o find an equivalent of handwritten signature for a digital document is a difficult problem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uthentication (2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s necessary to find a system, dealing with digital document, having these capabiliti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eceiver can verify that the issuer is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eally  who he claims to b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issuer cannot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ubsequently refute the docu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eceiver, or any third party, cannot have made himself the docu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 date stamp of the document creation is recor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uthentication (3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symmetric public-key infrastructure (PKI) cryptography fulfills the needs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fortunately, no PKI standard is universally recogniz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more and more countries, the validity of digital signature is legally recognized if the system used meets defined criteria (e.g.: Electronic Signatures and Records Act)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grity (1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ring transfer or storage, data should not be modified voluntarily or accidentall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dification of conventional data are generally pretty obvious: erasing words in a letter, scratch on a plain film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ituation is different with numerical dat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grity (2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2080" y="1628640"/>
            <a:ext cx="750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al kidney stone or graphical trick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32080" y="4116240"/>
            <a:ext cx="750240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12680" y="2373480"/>
            <a:ext cx="8929440" cy="3791880"/>
            <a:chOff x="112680" y="2373480"/>
            <a:chExt cx="8929440" cy="379188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12680" y="2373480"/>
              <a:ext cx="4413240" cy="37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4628880" y="2373480"/>
              <a:ext cx="4413240" cy="379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grity (3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2080" y="1628640"/>
            <a:ext cx="750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ame document with 10% random nois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32080" y="4116240"/>
            <a:ext cx="750240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08000" y="2373480"/>
            <a:ext cx="8928000" cy="3792240"/>
            <a:chOff x="108000" y="2373480"/>
            <a:chExt cx="8928000" cy="379224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108000" y="2373480"/>
              <a:ext cx="4413240" cy="37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4633920" y="2373480"/>
              <a:ext cx="4402080" cy="377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grity (4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tegrity can be compared to sending a postcard on which a plastic cover has been applied: everybody can read it, but nobody can modify it without leaving a visible ma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tegrity of both data ( misc. recording, imaging) and medical report is needed; ideally, they should be attached and inseparabl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vail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Data must be accessible and usable upon demand by an authorised user, with an acceptable waiting tim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The time used include the whole cycle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retriev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Signature, encryp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cryption, integrity che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roduc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w technologies widely improve the ability to electronically record, store, transfer and share medical dat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haring data by telemedicine is fast and cheap (at least, compared to classical methods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ore and more participants are involved  in this electronic data flow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uditabil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the health multi-user environment, an authorized person may also access to information in situation when he is not concern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en transmitting, it is necessary to have a proof that sending, receiving and using data effectively occurr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imed chronology has also to be know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nonym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asily sharing data via telemedicine enable large scale multicentric stud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dividual patient data are used for common benefit; privacy must be preserved and data anonymization is a basic rule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 unique identifier is necessary but no standard exists on how to anonymize dat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Verdana"/>
              </a:rPr>
              <a:t>Copyright protection</a:t>
            </a:r>
            <a:endParaRPr b="1" lang="en-US" sz="31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r educational or informational purpose, more and more data are available onlin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t is often forgotten that something  available online should not be systematically freely used by anyon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atermarking of document is a possible solution against « cyberplagiarism »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ultimate security ?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w technologies should be better than old on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term of security, we wish a  ”data auto destruction mechanism” in case of attempt of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teration (voluntary or accidental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f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closure or any improper us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clus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urity issues are numerous and of primordial importance in telemedicin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ircumventing them is one of the key point for the success of telemedicin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ost of these issues can be addressed by cryptographic services and use of PKI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ack of standardization is a major drawbac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5f1ff"/>
                </a:solidFill>
                <a:latin typeface="Trebuchet MS"/>
              </a:rPr>
              <a:t>Thank you for your attention! </a:t>
            </a:r>
            <a:br>
              <a:rPr sz="4800"/>
            </a:b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-health channel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Physician 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Healthcare professional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Pati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Government agenc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Public health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Law enforcem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Insurance compan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ysician/Registry offi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tandardiz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en talking about standardization, hardware and software are taken into accou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ver underestimate the need of standardizing “manware”: if the different actors don’t have similar goals or expectations, nothing will have satisfactory results and security flaws will aris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y security needs?</a:t>
            </a:r>
            <a:r>
              <a:rPr b="1" lang="fr-FR" sz="3200" spc="-1" strike="noStrike">
                <a:solidFill>
                  <a:srgbClr val="000066"/>
                </a:solidFill>
                <a:latin typeface="Verdana"/>
              </a:rPr>
              <a:t> (1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-health must: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sure physical and logical data protectio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serve the use of data from obsolete technologies with a safe way to migrate from analog to numeric da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form to legal and ethical rules: privacy, consent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y security needs?</a:t>
            </a:r>
            <a:r>
              <a:rPr b="1" lang="fr-FR" sz="3200" spc="-1" strike="noStrike">
                <a:solidFill>
                  <a:srgbClr val="000066"/>
                </a:solidFill>
                <a:latin typeface="Verdana"/>
              </a:rPr>
              <a:t> (2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-health must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 health professionals whenever a medical case turns to a legal ca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al with the presence of third party: transfer operator, storage opera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 copyrig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ardware Security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ual safety measure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rdware prote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backu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fidentiality  (1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Keeping secure and secret information concerning an individual, guaranteeing his right to privac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atient information is confidential and should not be disclosed without consent unless justified for lawful purpos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fidentiality  (2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surance companies obtaining medical information on policyholders could misuse it to deny coverage or clai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tential employers obtaining health information on current or potential employees could misuse it to fire or not employ a per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litician obtaining health information on opponents could misuse it for unfair attack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8:57:16Z</dcterms:created>
  <dc:creator>Philippe</dc:creator>
  <dc:description/>
  <dc:language>en-US</dc:language>
  <cp:lastModifiedBy>Philippe</cp:lastModifiedBy>
  <dcterms:modified xsi:type="dcterms:W3CDTF">2003-05-21T21:16:03Z</dcterms:modified>
  <cp:revision>52</cp:revision>
  <dc:subject/>
  <dc:title>Diapositive 1</dc:title>
</cp:coreProperties>
</file>