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E44A-329D-43C8-82E6-872DE729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70AE-98D3-4ABD-A3B1-FFEDAF62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EE05-B804-457A-815E-1300A0C5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4198-1141-43D7-B234-A8C103F8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3E936-8380-475D-9D37-2554CEB396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0A839-CA92-41F6-90C3-0ECA3C05DB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192D3-C5DC-426F-A98A-A278770646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5B38D-1606-462E-A7F5-5623A64D28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AA321-4E8E-4A13-BA1C-3A45DB5A13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3BFCD-71A6-4170-BFF7-B3A3579265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032C7-E4CD-4875-9E12-213739A75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9488-342A-4635-9158-D0CD393A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AB453-2B23-432F-AF1A-9FFF2D9129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82228-E396-4CBE-B16C-A229A91FFB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09A05-1A77-4F75-BB11-FC80C180F7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9C1D3-26FA-4145-A4F9-577B9E00B3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C2E53-66C4-4E87-9D1F-E0DAFAC36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9321-DAA2-41A6-BEFA-C0CB90C0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FF89-F110-4AA3-900A-E5B43643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95D7-CAEA-4406-80E6-BE66CAE1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4B54-53B9-4BF9-B025-FBF21550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67AA-A214-4246-B243-AC43C13C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301A-4EC6-43AA-B1E5-A5F530C5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2E8C-EAE5-4DFE-95D0-D0AD7D6F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8211-9EE0-4221-BEC2-63E194E69EA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222200" cy="6882840"/>
            <a:chOff x="0" y="0"/>
            <a:chExt cx="1222200" cy="6882840"/>
          </a:xfrm>
        </p:grpSpPr>
        <p:sp>
          <p:nvSpPr>
            <p:cNvPr id="4" name=""/>
            <p:cNvSpPr/>
            <p:nvPr/>
          </p:nvSpPr>
          <p:spPr>
            <a:xfrm>
              <a:off x="0" y="1257480"/>
              <a:ext cx="122220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itulogo-en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2220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829880" y="6565680"/>
            <a:ext cx="6705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ulogo-en" descr=""/>
          <p:cNvPicPr/>
          <p:nvPr/>
        </p:nvPicPr>
        <p:blipFill>
          <a:blip r:embed="rId3"/>
          <a:srcRect l="12710" t="0" r="17799" b="0"/>
          <a:stretch/>
        </p:blipFill>
        <p:spPr>
          <a:xfrm>
            <a:off x="0" y="0"/>
            <a:ext cx="1219320" cy="1293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-141120" y="1074600"/>
            <a:ext cx="15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9709D3BA-1FB4-4CB8-A1E5-AD9E5BBA68C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Geneva, 23-25 Ma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958680"/>
            <a:ext cx="8413560" cy="32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Medical records and medical data:</a:t>
            </a:r>
            <a:br>
              <a:rPr sz="5400"/>
            </a:b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models of electronic data interchang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00280" y="4818240"/>
            <a:ext cx="76960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elvin Reynolds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nior Partner, AMS Consulting, UK</a:t>
            </a:r>
            <a:endParaRPr b="0" lang="en-US" sz="24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puty Chair ISO/TC215/WG2, Vice Chair IEEE1073, Convenor CEN/TC251/WG4 </a:t>
            </a:r>
            <a:endParaRPr b="0" lang="en-US" sz="24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therapy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3160" y="2235240"/>
            <a:ext cx="74818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report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stly text with, very rarely, a small amount of supporting information demonstrating a particularly difficult period or incidenrt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8F03-D7AE-413A-A97C-98BF485170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FC41232-1DB9-4E65-BF8B-F4CB741348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monitor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3160" y="2235240"/>
            <a:ext cx="74818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the data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Images, Biochemistry, Microbiology, Vital signs and waveforms (e.g. ECG), EEG, etc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F209-8602-4BD6-81A6-77BD2A46BC9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D2935D0-D9AB-45FF-9D23-86CA0D072E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monitor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3160" y="2247480"/>
            <a:ext cx="7481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report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Almost nothing unless there’s a significant event, when a some of supporting information such as a sample of ECG, or an image may accompany the main text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3E4B-B63B-4B3D-A3AA-C4DF09061D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58E0FC7-D43F-4D11-A2C8-569EEC61EC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Health care record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3160" y="2220840"/>
            <a:ext cx="74818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record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stly text and numeric values with, extremely rarely, a small piece of supporting information such as a sample of ECG, or an image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2971-230D-42E7-A1C1-F118FEBC76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54E239D-75EB-4BE5-8589-21B4E243AC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Patient’s healthspace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3160" y="2220840"/>
            <a:ext cx="74818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communicat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stly simple text and numeric values with, extremely rarely, a small piece of supporting information such as a sample of ECG, or an image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6499-4B1F-4D69-9EA9-15EA41BCF2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FC329F7-B6C3-44F0-8A96-AFA042F865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tatistical repository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3160" y="2220840"/>
            <a:ext cx="74818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deposit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stly anonymised coded text and numeric values with, for highly specialist registries, a small piece of supporting information such as a sample of ECG, or an image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7A9C-7A4D-4FCF-886C-29B942E481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C658140-A743-4E6E-99AF-9F0A684B51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Healthcare work stag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42920" y="1371240"/>
            <a:ext cx="697212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aling with information in healthcare is a multi-stage proces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33520" y="3247920"/>
          <a:ext cx="771048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3247920"/>
                    <a:ext cx="771048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EFDE-A47B-48FD-8FA2-02B2D7EACD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605D60E-9A44-4F68-875E-1C20FEF7E9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433520" y="1486080"/>
          <a:ext cx="771048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486080"/>
                    <a:ext cx="77104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ethods of information exchange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30480" y="2224080"/>
            <a:ext cx="38700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altime video, imaging or wavefo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ore and forward video, imaging or wavefo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mple numeric values in near realti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ore and forward of simple numeric valu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81680" y="2197080"/>
            <a:ext cx="4162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nsient messages to populate forms or databa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agments of clinical record to populate databa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lidated clinical ‘documents’ for reten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l above with, or w/o, complex data payload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9C40-EB69-4707-92C0-36E759E5AC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4362D0A-746C-42CB-9BD7-9931AF08FE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ultimedia report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r multimedia healthcare service procedure reports, four different levels of control over rendering of the non-textual content have been identified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2D05-5373-40A7-8CF4-0F3F6C1FF5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63A1312-6CBF-4DC5-88BA-F67EFAEF1E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ultimedia report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o possibility of adjustment of rende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12680" indent="-53316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terial can be presented only as specified by the creator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ing an x-ray as an example, this is analogous to supplying a hard-copy print or film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E18C-972E-4FFD-A0A9-ECDEF7A28E4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4F75B93-A364-4799-A40D-56D4210CC1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Overview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finitions and observ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health information spa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tages of health information manage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thods of information exchang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ultimedia report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cenarios &amp; use cas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5422-F699-4175-B18E-525CD9DDF7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055108F-F198-47D2-A56E-6C74B89C97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ultimedia report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trol of basic aspects of rende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12680" indent="-5331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asic object manipulation is possible, such as zoom and pan into image or curve, adjustment of video frame rate, cine loop cycle rate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owever, this only permits viewing of a product, the characteristics of which have already been determined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146E-CE8F-47C4-9D8A-1FCE4C61A5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58C4EE2-39BE-4EF9-BABC-7CFA90BEB9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ultimedia report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ultimedia with possibility of interactive adjustment of rende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96480" indent="-425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addition to the ability to manipulate the object, the specialist user has control over conversion of the object data into a presented graphical representation. In the case of medical images this rendering is often described as "windowing"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B973-336C-458C-A346-2E7650AE31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1B4C913-886F-4CE9-AEBB-6629B6D97B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ultimedia report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sibility to select other images and amend tex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06560" indent="-430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t can be necessary to produce, by collation, a new layout of material, including procedure products, not selected by the previous operator 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s capability might become important when a subsequent review of the results is needed, perhaps years later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D4CC-0645-4B41-9841-7DA0B4B77C8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A19682E-CA72-4B00-BCA8-C70354BA0A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Annotation of Multimedia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72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ynchronized Multimedia Integration Language (SMIL) is written as an XML application and is a current W3C recommendation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86400" indent="-42156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MIL supports the synchronized presentation of a set of images, sound and text objects within defined areas of a window of specified size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E82E-933C-4D1B-99F4-F3F488A56D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9732F29-E79D-4E2C-A736-63FC304ACF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Links to other sourc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72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text healthcare service procedure report may be in the form of simple text or may contain hyperlinks to image data files and associated text annotation and/or graphics annotation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86400" indent="-4215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.g. as regions of interest, that are superimposed upon the digital rendered procedure product by the end user system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718A-BFA8-475D-B7EB-5A3C37B0004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A151F31-8410-4339-997B-D6AD37516C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cenarios and use cas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72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e scenarios worth considering when defining a healthcare procedure report specification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rebuchet MS"/>
              </a:rPr>
              <a:t>include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the following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0FFD-208E-4D94-8DB8-5EBEC3FED1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92619D2-319E-4DFD-B1CB-CF6AC83BDB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cenarios and use cas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7026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06560" indent="-430200">
              <a:spcBef>
                <a:spcPts val="825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viewing of a healthcare procedure report and one or more procedure products by activation of hyperlinks;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1" marL="1006560" indent="-430200">
              <a:spcBef>
                <a:spcPts val="825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viewing of a healthcare procedure report and a set of procedure products and annotation by activation of hyperlinks;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FA1E-566C-4CDC-B2F9-C27624B80FF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B775F21-DDF2-4F87-A0A7-788BE64543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cenarios and use cas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69976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06560" indent="-430200">
              <a:spcBef>
                <a:spcPts val="825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addition of annotation to a single procedure product; 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1" marL="1006560" indent="-430200">
              <a:spcBef>
                <a:spcPts val="825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addition of annotation to a set of single procedure products laid out according to an existing layout specification;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82DF-8A98-4F7F-9D4E-92847EDB15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B7D4A07-A382-42F6-8F2A-FDDC196B7D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cenarios and use cas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6983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06560" indent="-430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reation of a procedure report that references selected previously received procedure product data files and associated annotation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1006560" indent="-430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reation of a procedure report that references selected previously received procedure product data files with associated annotation together with a layout specification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B6B7-578E-4939-AACB-50F696897CA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2383983-E41A-4FA0-86B4-54A15BA2DD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cenarios and use cas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72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s list is not intended to be exhaustive; indeed it is likely that further scenarios might emerge during consideration of a particular reporting relationship.  Identified scenarios should be used to create more formal use cases, from which to derive use profiles and specification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0E64-AE9B-489C-B31C-2A8058B3B11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794265F-0CB8-45A5-A948-9093A53376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28320" y="45684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Definitions and observation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42920" y="1860120"/>
            <a:ext cx="69721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Health  =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althca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acilitated b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lectronic mea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5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o what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5960" indent="-3459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Health  =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althca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acilitated b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uilt facilities!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FA00-0053-4994-B9DB-0B4B71910D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D3603BC-9028-4EEB-8B1C-592E5845CD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54080" y="282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tarting point for discussion?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57320" y="1762200"/>
            <a:ext cx="69976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cquiring and viewing multimedia is not today’s biggest problem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461880" indent="-461880">
              <a:lnSpc>
                <a:spcPct val="90000"/>
              </a:lnSpc>
              <a:spcBef>
                <a:spcPts val="9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Integrating the results of that interaction, together with relevant multimdedia data, into the patient record is the real problem.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1450-6BCF-46DE-B89C-022E194E715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8E971FF-D177-40AF-B42E-203F5B2224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Conclusion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42920" y="1404720"/>
            <a:ext cx="6970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Medical records and medical data: models of electronic data interchange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Text, and rarely with supplementary complex inform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As messages or document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Need to understand how to do information management and technology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Arial"/>
              </a:rPr>
              <a:t>what, why and how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Arial"/>
              </a:rPr>
              <a:t>by whom, and wh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3440" y="5149800"/>
            <a:ext cx="66405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what, why and how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by whom, and whe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F366-AF0C-4F55-86F7-B9E741302B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7CCF8EB-6D96-4942-85B9-5BA49457C1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958680"/>
            <a:ext cx="8413560" cy="32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End</a:t>
            </a:r>
            <a:br>
              <a:rPr sz="5400"/>
            </a:br>
            <a:br>
              <a:rPr sz="2400"/>
            </a:br>
            <a:r>
              <a:rPr b="1" lang="en-US" sz="2400" spc="-1" strike="noStrike">
                <a:solidFill>
                  <a:srgbClr val="c5f1ff"/>
                </a:solidFill>
                <a:latin typeface="Trebuchet MS"/>
              </a:rPr>
              <a:t>Medical records and medical data:</a:t>
            </a:r>
            <a:br>
              <a:rPr sz="2400"/>
            </a:br>
            <a:r>
              <a:rPr b="1" lang="en-US" sz="2400" spc="-1" strike="noStrike">
                <a:solidFill>
                  <a:srgbClr val="c5f1ff"/>
                </a:solidFill>
                <a:latin typeface="Trebuchet MS"/>
              </a:rPr>
              <a:t>models of electronic data interchange </a:t>
            </a:r>
            <a:br>
              <a:rPr sz="2400"/>
            </a:br>
            <a:br>
              <a:rPr sz="2400"/>
            </a:b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Thank you.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00280" y="4570560"/>
            <a:ext cx="76960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elvin Reynolds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elvinR@AMS-Consulting.co.u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MS Consulting, HR9 5PQ, UK</a:t>
            </a:r>
            <a:br>
              <a:rPr sz="2400"/>
            </a:br>
            <a:endParaRPr b="0" lang="en-US" sz="24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45684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Definitions and observation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3160" y="1912680"/>
            <a:ext cx="748188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ICT = Information and Communications Technolog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o that gives us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455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alth informatic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455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455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(Health information) communications technolog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13CB-4A8B-4D8B-8DC5-4BC667C76D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9FF6254-638B-4150-A74B-3941FA1F11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8320" y="45684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Definitions and observation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99760" y="1913040"/>
            <a:ext cx="76438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ICT = </a:t>
            </a:r>
            <a:br>
              <a:rPr sz="3600"/>
            </a:b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Information Management &amp; Technology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2379600" y="31989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4880" y="3178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04280" y="3141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36960" y="4848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0120" y="4105440"/>
            <a:ext cx="76438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?          Why?           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00120" y="5826240"/>
            <a:ext cx="76438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en, by wh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DA48-A4CA-4D95-B647-72607C711A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37E9D8B-27F1-430C-ABCF-26DF294AF2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Health information space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7C28-AB8D-4572-9F07-565BF01A644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8D9B21C-0952-41AF-9D62-DEC0A15373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diagnostic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3160" y="2220840"/>
            <a:ext cx="74818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the data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Text, Images, Vital signs and waveforms (e.g.ECG), EEG, Biochemistry, Microbiology, etc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6470-1617-4C5E-BEF3-17E21D79A6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E25B6A8-A04D-4CAE-B99B-E67A9E0938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diagnostic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3160" y="2220840"/>
            <a:ext cx="74818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report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stly text and numeric values with, rarely, a small piece of supporting information such as a sample of ECG, or an image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8790-B0AA-4CDD-8992-657DD307F4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80C6D72-C8BB-4A7A-B35F-D259354F90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therapy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3160" y="2222280"/>
            <a:ext cx="748188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the data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48284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ext, Images, Biochemistry, Microbiology, Vital signs and waveforms (e.g. ECG), EEG, etc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D383-DC02-40E3-B3A0-2A2729DF52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58A0DE6-6507-4A02-873E-A183CBFA89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M Reynolds</dc:creator>
  <dc:description/>
  <dc:language>en-US</dc:language>
  <cp:lastModifiedBy>Melvin Reynolds</cp:lastModifiedBy>
  <cp:lastPrinted>2001-03-15T13:10:50Z</cp:lastPrinted>
  <dcterms:modified xsi:type="dcterms:W3CDTF">2003-05-23T23:30:52Z</dcterms:modified>
  <cp:revision>132</cp:revision>
  <dc:subject>Session 4: Medical Record</dc:subject>
  <dc:title>Models of interchange</dc:title>
</cp:coreProperties>
</file>