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A2AEA-69AF-4E8C-A450-ABE5E85C3A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3350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4820A-1194-410E-A224-0506A0A2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05FFD-ED97-484D-B837-882610B9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3350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33350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33350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A5C64-E83E-4CDA-8F5C-9F0AE67ECB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F154-2A33-4DE9-ACF1-951039D3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83511-0FE5-43E9-9121-14B33352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D9621-DFC0-4920-B966-E8FEB2B0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C331E-D00F-4E11-9024-F2B0D11C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A39DA-C1B1-408C-B8B1-DB4867D2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38089-4076-4DD5-A42C-98A936FB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A8726-076C-4110-A2CB-EDB04A73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3350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4BDA5-87A5-4E9B-84B9-3EDADD92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5800" y="6095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1676520" y="5715000"/>
            <a:ext cx="5105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tandardization in E-health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609480" y="380880"/>
            <a:ext cx="7925040" cy="50292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90512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shop on Standardization in E-health, Geneva, 23-25 May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3808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D796-AD5E-47D3-B9AA-EB178BE490C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69339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Session 2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(Case Studies)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onclusions &amp; Recommendations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Ronald Welz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Director WDS Technologies SA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BCE9B-6E7B-4DFB-9389-3EDB521A35D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8CBFF-BAEB-4264-8DC7-7F07682B47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Follow-up action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Diffusion of synthesized and compact information on ITU web-sites with links to standards, projects &amp; compani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Publication of guidelines for e-Health implementer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Creation of a “Telemedicine Reference Model” ?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Creation of an expert committee to synthesized e-Health standard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Organisation of conferences in developing country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Linkage of national pilot projects to test interoperability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E993D-F323-4D99-9BE6-9FDA6542057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023F4-1937-48D2-A7C9-F3B06CAAF4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onclusio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E-Health is slowly but surely happening. Be patient, telemedicine will not happen before IT is integrated sufficiently within hospitals (happening now)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ime runs for consolidation and information rather then for new standard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pecial attention for developing countries is needed so that there is not only a digital divide between North and South but within these area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F5232-89A4-40D8-8365-86BD2630F1D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79163-26E8-4C29-BBD4-B778306993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esentations in Sessio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Overview of ITU-D case studies; P. Kantchev; BDT, ITU, Switzerland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Keneya blown : the telemedicine pilot project in Mali; O. Ly, Geneva University Hospital, Switzerland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Force Feedback Ultrasound Service; P. Thorel, France Telecom, R&amp;D Telemedicine Services, France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Argonaute 3D Virtual Medical Team; P. Thorel, France Telecom, R&amp;D Telemedicine Services, France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East Bhutan Tele-ECG Project; Subekti, Tokai University, Japan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7FF4B-86DC-42A6-B1FF-EDA8A1732D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32DD9-F3C7-4F08-9F0D-3A28EF04E0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64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Highlights from Presentation 1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Overview of ITU-D case studie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Evolving technologies enhance E-Health services.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Developing countries can benefit by using simple low-cost systems.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Success of implementation based on close and strong cooperation between medical and telecommunication sector.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Large scale projects and E-Health networks deployment depend on transparency, interoperability and world-wide standardization.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Ministries of public health and health insurers will become strongest E-Health proponents when the E-Health will make cheaper and widen the horizon of health services to citizens and customers.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E-Health interoperability standards are needed now!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9C2CB-F9A9-494F-B401-53520A487D0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92B6C-E0E8-4BE6-BAAB-B6A02B1547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Highlights from Presentation 2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“Telemedicine pilot project in Mali”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0033"/>
                </a:solidFill>
                <a:latin typeface="Times New Roman"/>
              </a:rPr>
              <a:t>Differents activities - be a provider, trainer, web hosting service, ...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Do not reinvent the wheel - use as background the work done by other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Do not work alone - Necessary to cooperate in the national, regional and international scale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Choose of adaptable technology - use of  free software and if available open source software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5EA57-C742-4709-8025-FDAB4D102DF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347A0-9BB1-4BD0-8E4E-3D2A4DD42D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64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Highlights from Presentation 3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fr-CH" sz="2800" spc="-1" strike="noStrike">
                <a:solidFill>
                  <a:srgbClr val="a50021"/>
                </a:solidFill>
                <a:latin typeface="Times New Roman"/>
              </a:rPr>
              <a:t>Force Feedback Ultrasound Service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”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2D22D-059B-4E3F-8A7A-BD6252FF482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073CE-A6D4-43FA-9A73-96BD26504D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Highlights from Presentation 4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fr-CH" sz="2800" spc="-1" strike="noStrike">
                <a:solidFill>
                  <a:srgbClr val="a50021"/>
                </a:solidFill>
                <a:latin typeface="Times New Roman"/>
              </a:rPr>
              <a:t>Argonaute 3D Virtual Medical Team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”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9A0DC-51A5-40D6-971F-3AA8D115646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F2957-DBC0-4BAF-9E3F-C9110F0ADD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764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Highlights from Presentation 5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fr-CH" sz="2800" spc="-1" strike="noStrike">
                <a:solidFill>
                  <a:srgbClr val="a50021"/>
                </a:solidFill>
                <a:latin typeface="Times New Roman"/>
              </a:rPr>
              <a:t>East Bhutan Tele-ECG Project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”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Telemedicine in Bhutan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MS PGothic"/>
              </a:rPr>
              <a:t>very useful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MS PGothic"/>
              </a:rPr>
              <a:t>step-by-step approach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MS PGothic"/>
              </a:rPr>
              <a:t>sustainability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Evaluation from our current project will become feedback to gain better result for the future project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Government of Bhutan and Health Professionals have high enthusiasms and welcome to this project which shows high potential sustainable of this project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4198-6ED3-44F6-9916-600F4EE50CD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B8E3A-67C8-40D7-9291-512F38D502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Overview of issues in the sessio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tandards are there but no one does cover the global complexity of e-Health application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Understandability/Complexity of some standards is low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Missing bandwidth slow implementation, particularly in developing countri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Large scale/Multi-vendor experiences is missing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Missing Interoperability scenarios make large-scale (=nation-wide) projects difficul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tandard for ECG encoding missing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Mobile telemedicine technology will probably have some impac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5AC82-8206-489D-B261-46B9C44B512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BE844-2F8E-411D-A018-A7EBD6162B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commendation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384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There is no need for a new big healthcare standard should be started; rather « Meta » standards (like IHE or HL7-RIM) are now important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Coordination between ITU/ISO/CEN/DICOM/HL7 to be promoted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Follow-up studies should give better feedback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Large scale projects should be promoted to test multi-vendor compatibility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Usage of XML should be promoted within the standards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Open Source/Royalties free standards are to be promoted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Special needs must be considered (for example: Standard for ECG encoding required)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8D20D-83AA-4653-B44C-6FC46E18C9A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118C8-0546-47FD-8013-5D96E50EF9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7:05:20Z</dcterms:created>
  <dc:creator>TSB</dc:creator>
  <dc:description/>
  <dc:language>en-US</dc:language>
  <cp:lastModifiedBy>TSB-Simao</cp:lastModifiedBy>
  <dcterms:modified xsi:type="dcterms:W3CDTF">2003-05-26T19:02:56Z</dcterms:modified>
  <cp:revision>70</cp:revision>
  <dc:subject/>
  <dc:title>PowerPoint Presentation</dc:title>
</cp:coreProperties>
</file>