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A0CC-E68C-468D-883F-FD3F15FF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7562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5844-16AC-48C3-A40F-BACDC11A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8800" y="37562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BD17-9E56-4830-A1B7-E08CF472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4520" y="14479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9920" y="14479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7562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4520" y="37562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9920" y="37562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E099-6F98-4F4E-B17D-4C1DA46E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2BE9-F87E-4532-96A3-85883CEC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910E-7DF4-4123-BB86-B378263B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CCB8-215E-4504-87FE-A79EFEC4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DA39-8996-43F6-9180-09DBADF8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62F8-3126-4F26-8490-FBDED6EA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125D-6E71-499C-8D99-CB0F0CE4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3C03-DD70-46BB-A9E5-DA7F5D0C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4D3C-9945-44BB-83F3-C407CB3F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708800" y="37562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5FB1-78F1-4C45-88D0-A4EFC338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93D1-DB09-4D2F-B552-7D0D4FAB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09120" y="37562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918F-4897-4634-9CB6-C34922A0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708800" y="37562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5E39-6478-4C6B-84A0-77C1B424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4520" y="14479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19920" y="14479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09120" y="37562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4520" y="37562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19920" y="37562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EA04-AE20-4D3F-B386-F6932050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04CC-AFA5-4FEB-8429-9639BD84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0756-D40E-4A8F-8F8A-D4706DB3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31B-B945-49D5-A4A5-593A110A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4F06-4747-4C00-BB7A-265EDA51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385-F4DE-4B87-8ACF-1791A930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8800" y="37562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76CE-A810-4704-884B-69E7CD6E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1C8-C814-4BBA-9F8D-FEF20A0B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066320" y="62485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ITU-T Study Group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66320" y="6324120"/>
            <a:ext cx="1676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324120"/>
            <a:ext cx="1600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EB8E-7B6B-478F-A19F-A923780E5F85}" type="slidenum">
              <a:rPr b="0" lang="en-GB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TU_Logo" descr=""/>
          <p:cNvPicPr/>
          <p:nvPr/>
        </p:nvPicPr>
        <p:blipFill>
          <a:blip r:embed="rId2"/>
          <a:stretch/>
        </p:blipFill>
        <p:spPr>
          <a:xfrm>
            <a:off x="304920" y="6100920"/>
            <a:ext cx="620640" cy="68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4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3A8A-F7B9-4541-919C-AAAF528206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ITU_Logo" descr=""/>
          <p:cNvPicPr/>
          <p:nvPr/>
        </p:nvPicPr>
        <p:blipFill>
          <a:blip r:embed="rId2"/>
          <a:stretch/>
        </p:blipFill>
        <p:spPr>
          <a:xfrm>
            <a:off x="4114800" y="533520"/>
            <a:ext cx="12492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  <a:p>
            <a:pPr lvl="1" marL="443160" indent="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2" marL="886680" algn="ctr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3" marL="1330200" algn="ctr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4" marL="1773720" algn="ctr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5" marL="17737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6" marL="17737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cc"/>
                </a:solidFill>
                <a:latin typeface="Times New Roman"/>
              </a:rPr>
              <a:t>Requirements on ITU-T Languages</a:t>
            </a:r>
            <a:endParaRPr b="0" lang="en-US" sz="3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828800" y="39625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Amardeo Sarma</a:t>
            </a:r>
            <a:br>
              <a:rPr sz="2800"/>
            </a:b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Co-Chairman, ITU-T Study Group 17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400" spc="-1" strike="noStrike">
                <a:solidFill>
                  <a:srgbClr val="0000cc"/>
                </a:solidFill>
                <a:latin typeface="Times New Roman"/>
              </a:rPr>
              <a:t>Input for Language developmen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Simplify ASN.1, SDL, MSC and TTCN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Regain intuitive (graphical) use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Abstract (more convenient) view for standards developers w.r.t. ASN.1, SDL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Combine ASN.1, SDL, MSC and TTCN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No more independent development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Same applies to eODL, URN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Provide professional support and more (free) tool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400" spc="-1" strike="noStrike">
                <a:solidFill>
                  <a:srgbClr val="0000cc"/>
                </a:solidFill>
                <a:latin typeface="Times New Roman"/>
              </a:rPr>
              <a:t>Strategic argument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660066"/>
                </a:solidFill>
                <a:latin typeface="Times New Roman"/>
              </a:rPr>
              <a:t>Use the crisis to push ASN.1, SDL, MSC and TTC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660066"/>
                </a:solidFill>
                <a:latin typeface="Times New Roman"/>
              </a:rPr>
              <a:t>Use the increased requirements on security (and dependability)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660066"/>
                </a:solidFill>
                <a:latin typeface="Times New Roman"/>
              </a:rPr>
              <a:t>Keep IPR even when people leav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660066"/>
                </a:solidFill>
                <a:latin typeface="Times New Roman"/>
              </a:rPr>
              <a:t>Do protocol modelling examples (ITU-T and IETF)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07:23:15Z</dcterms:created>
  <dc:creator>Roberto Wilson Meirelles de Castro</dc:creator>
  <dc:description/>
  <dc:language>en-US</dc:language>
  <cp:lastModifiedBy>Ansatt i</cp:lastModifiedBy>
  <dcterms:modified xsi:type="dcterms:W3CDTF">2002-11-26T12:39:26Z</dcterms:modified>
  <cp:revision>304</cp:revision>
  <dc:subject/>
  <dc:title>PowerPoint Presentation</dc:title>
</cp:coreProperties>
</file>