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217-FEAC-4001-9509-E418AD2F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7562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D44-D765-4DDD-B238-8970E0C1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880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35B-66CD-4315-8786-F65C751A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45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9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45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9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B8D-6E16-464A-8A36-7E373FB6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9FEF-43BD-43F5-BC15-60C1A10B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69C0-34F3-436E-90E8-2BE1C318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5B7B-9346-4CF3-AA14-E37CE92D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8389-C044-4EE3-A183-B6D5B195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658F-4B34-4964-ADDF-DC14A49C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4A9E-D59A-4E7A-89B4-16DB3F46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BB1E-9929-494C-97E1-48A8002F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EB5-B11D-4221-BAF0-34C76FDE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0880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26B8-41D9-41E3-B766-14C2C587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CF92-7D8D-4354-94E9-FB9B9FC9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09120" y="37562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6A11-719A-452C-83D3-899CC73F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70880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C037-5333-4B4F-8774-0B1F3E45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45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19920" y="14479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091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45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19920" y="37562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C1A7-352C-497F-AFBA-CCA9F395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10C-7ABF-4D76-A8B8-F6837DD8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E14-6F13-492D-8388-05689A79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CFB-CE97-493E-AFCB-3A70E34F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441-DE91-41A2-B63D-22935B60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A85-1F55-4B26-B7E5-8EB68E1C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8800" y="37562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6A1-3966-44EA-9695-D76DF6D5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800" y="14479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233-0AAD-415A-B366-F29AD33E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066320" y="62485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TU-T Study Group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66320" y="6324120"/>
            <a:ext cx="1676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324120"/>
            <a:ext cx="1600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835E-2EFC-4193-85B1-F29B9199B8C5}" type="slidenum">
              <a:rPr b="0" lang="en-GB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TU_Logo" descr=""/>
          <p:cNvPicPr/>
          <p:nvPr/>
        </p:nvPicPr>
        <p:blipFill>
          <a:blip r:embed="rId2"/>
          <a:stretch/>
        </p:blipFill>
        <p:spPr>
          <a:xfrm>
            <a:off x="304920" y="6100920"/>
            <a:ext cx="620640" cy="68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AD88-F5C3-45CB-96F5-C20AECD1D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TU_Logo" descr=""/>
          <p:cNvPicPr/>
          <p:nvPr/>
        </p:nvPicPr>
        <p:blipFill>
          <a:blip r:embed="rId2"/>
          <a:stretch/>
        </p:blipFill>
        <p:spPr>
          <a:xfrm>
            <a:off x="4114800" y="533520"/>
            <a:ext cx="12492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  <a:p>
            <a:pPr lvl="1" marL="443160" indent="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2" marL="886680" algn="ctr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3" marL="1330200" algn="ctr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4" marL="1773720" algn="ctr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5" marL="17737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6" marL="17737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cc"/>
                </a:solidFill>
                <a:latin typeface="Times New Roman"/>
              </a:rPr>
              <a:t>Requirements on ITU-T Languages</a:t>
            </a:r>
            <a:endParaRPr b="0" lang="en-US" sz="3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Amardeo Sarma</a:t>
            </a:r>
            <a:br>
              <a:rPr sz="2800"/>
            </a:b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Co-Chairman, ITU-T Study Group 17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cc"/>
                </a:solidFill>
                <a:latin typeface="Times New Roman"/>
              </a:rPr>
              <a:t>Input for Language developmen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Simplify ASN.1, SDL, MSC and TTCN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Regain intuitive (graphical) us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Abstract (more convenient) view for standards developers w.r.t. ASN.1, SDL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Combine ASN.1, SDL, MSC and TTCN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No more independent development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Same applies to eODL, URN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>
                <a:solidFill>
                  <a:srgbClr val="660066"/>
                </a:solidFill>
                <a:latin typeface="Times New Roman"/>
              </a:rPr>
              <a:t>Provide professional support and more (free) tool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cc"/>
                </a:solidFill>
                <a:latin typeface="Times New Roman"/>
              </a:rPr>
              <a:t>Strategic argument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660066"/>
                </a:solidFill>
                <a:latin typeface="Times New Roman"/>
              </a:rPr>
              <a:t>Use the crisis to push ASN.1, SDL, MSC and TTC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660066"/>
                </a:solidFill>
                <a:latin typeface="Times New Roman"/>
              </a:rPr>
              <a:t>Use the increased requirements on security (and dependability)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660066"/>
                </a:solidFill>
                <a:latin typeface="Times New Roman"/>
              </a:rPr>
              <a:t>Keep IPR even when people leav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660066"/>
                </a:solidFill>
                <a:latin typeface="Times New Roman"/>
              </a:rPr>
              <a:t>Do protocol modelling examples (ITU-T and IETF)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7:23:15Z</dcterms:created>
  <dc:creator>Roberto Wilson Meirelles de Castro</dc:creator>
  <dc:description/>
  <dc:language>en-US</dc:language>
  <cp:lastModifiedBy>Ansatt i</cp:lastModifiedBy>
  <dcterms:modified xsi:type="dcterms:W3CDTF">2002-11-26T12:39:26Z</dcterms:modified>
  <cp:revision>304</cp:revision>
  <dc:subject/>
  <dc:title>PowerPoint Presentation</dc:title>
</cp:coreProperties>
</file>