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14479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39952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39952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53352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4479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9952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995280"/>
            <a:ext cx="26985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53352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38188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366840"/>
            <a:ext cx="911844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480" y="6553080"/>
            <a:ext cx="911844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b7a5"/>
              </a:buClr>
              <a:buSzPct val="5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b7a5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83320"/>
            <a:ext cx="31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TU-T Workshop, Geneva, Nov.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3760" y="6580080"/>
            <a:ext cx="18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. Schieferdecker: TTCN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33920" y="63244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827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80" y="366840"/>
            <a:ext cx="911844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80" y="6419880"/>
            <a:ext cx="911844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551160" cy="55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b7a5"/>
              </a:buClr>
              <a:buSzPct val="55000"/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b7a5"/>
              </a:buClr>
              <a:buSzPct val="50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C:\Programme\XEmacs\XEmacs-21.1.9\i386-pc-win32\runemacs.exe &quot;D:\My Tutorials\2002\Concordia Summer School TTCN-3\DinoExample\EnhancedTests\dinolistTest.ttcn3&quot;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b61"/>
                </a:solidFill>
                <a:latin typeface="Arial"/>
              </a:rPr>
              <a:t>The Use of TTCN-3</a:t>
            </a:r>
            <a:br>
              <a:rPr sz="4000"/>
            </a:br>
            <a:r>
              <a:rPr b="0" lang="de-DE" sz="4000" spc="-1" strike="noStrike">
                <a:solidFill>
                  <a:srgbClr val="006b61"/>
                </a:solidFill>
                <a:latin typeface="Arial"/>
              </a:rPr>
              <a:t>for Software Testing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a Schieferd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KUS,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ieferdecker@fokus.fhg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96360" y="620640"/>
            <a:ext cx="126648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TTCN-3 and Software Testing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ssage-Base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 as Protocols, Messaging Services, Web site and Portal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ample technology i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2428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gnature-Base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 as Client-Server, Peer-to-Peer, Component-based Systems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ample technology is I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4797360"/>
            <a:ext cx="83818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33"/>
                </a:solidFill>
                <a:latin typeface="Arial"/>
              </a:rPr>
              <a:t>Reu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f XML/IDL/... data within TTCN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e a </a:t>
            </a:r>
            <a:r>
              <a:rPr b="0" lang="de-DE" sz="2400" spc="-1" strike="noStrike">
                <a:solidFill>
                  <a:srgbClr val="990033"/>
                </a:solidFill>
                <a:latin typeface="Arial"/>
              </a:rPr>
              <a:t>mapp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rom XML/IDL/... to TTCN-3 </a:t>
            </a:r>
            <a:r>
              <a:rPr b="0" lang="en-GB" sz="2400" spc="-1" strike="noStrike">
                <a:solidFill>
                  <a:srgbClr val="006b61"/>
                </a:solidFill>
                <a:latin typeface="Frutiger 55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 flipH="1">
            <a:off x="4571640" y="5508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550872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80120" y="5087880"/>
            <a:ext cx="127296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Presentation Format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Frutiger 55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533480" y="3809880"/>
            <a:ext cx="74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2712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2712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76920" y="4440240"/>
            <a:ext cx="0" cy="420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2103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92960" y="1914480"/>
            <a:ext cx="0" cy="3997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392960" y="4049640"/>
            <a:ext cx="496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0120" y="3389400"/>
            <a:ext cx="127296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400" spc="-1" strike="noStrike">
                <a:solidFill>
                  <a:srgbClr val="000000"/>
                </a:solidFill>
                <a:latin typeface="Frutiger 55 Roman"/>
              </a:rPr>
              <a:t>Graphical   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380988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80120" y="2328840"/>
            <a:ext cx="127296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 55 Roman"/>
              </a:rPr>
              <a:t>Tabula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956720" y="3573360"/>
            <a:ext cx="44892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1676520" y="2967120"/>
            <a:ext cx="1765080" cy="841320"/>
            <a:chOff x="1676520" y="2967120"/>
            <a:chExt cx="1765080" cy="841320"/>
          </a:xfrm>
        </p:grpSpPr>
        <p:sp>
          <p:nvSpPr>
            <p:cNvPr id="304" name=""/>
            <p:cNvSpPr/>
            <p:nvPr/>
          </p:nvSpPr>
          <p:spPr>
            <a:xfrm>
              <a:off x="1676520" y="2967120"/>
              <a:ext cx="1117440" cy="841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Other Types &amp; Value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Frutiger 55 Roman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93960" y="33876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676520" y="2968560"/>
            <a:ext cx="1765080" cy="841320"/>
            <a:chOff x="1676520" y="2968560"/>
            <a:chExt cx="1765080" cy="841320"/>
          </a:xfrm>
        </p:grpSpPr>
        <p:sp>
          <p:nvSpPr>
            <p:cNvPr id="307" name=""/>
            <p:cNvSpPr/>
            <p:nvPr/>
          </p:nvSpPr>
          <p:spPr>
            <a:xfrm>
              <a:off x="1676520" y="2968560"/>
              <a:ext cx="1117440" cy="8413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93960" y="3389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5522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533480" y="3809880"/>
            <a:ext cx="74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2960" y="1914480"/>
            <a:ext cx="0" cy="3997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978200"/>
            <a:ext cx="111744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 55 Roman"/>
              </a:rPr>
              <a:t>ASN.1 Types &amp;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5102280"/>
            <a:ext cx="111744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Other Types &amp; Value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Frutiger 55 Roman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73320" y="4440240"/>
            <a:ext cx="0" cy="420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93960" y="2398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41600" y="1946160"/>
            <a:ext cx="1206720" cy="3997440"/>
          </a:xfrm>
          <a:prstGeom prst="rect">
            <a:avLst/>
          </a:prstGeom>
          <a:solidFill>
            <a:srgbClr val="006b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TCN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648320" y="5508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280120" y="5087880"/>
            <a:ext cx="2017440" cy="841320"/>
            <a:chOff x="5280120" y="5087880"/>
            <a:chExt cx="2017440" cy="841320"/>
          </a:xfrm>
        </p:grpSpPr>
        <p:sp>
          <p:nvSpPr>
            <p:cNvPr id="319" name=""/>
            <p:cNvSpPr/>
            <p:nvPr/>
          </p:nvSpPr>
          <p:spPr>
            <a:xfrm>
              <a:off x="6553080" y="5508720"/>
              <a:ext cx="7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80120" y="5087880"/>
              <a:ext cx="1272960" cy="841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Presentation Format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Frutiger 55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776920" y="4440240"/>
            <a:ext cx="0" cy="420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TTCN-3 and Software Testing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5103720"/>
            <a:ext cx="1765080" cy="838440"/>
            <a:chOff x="1676520" y="5103720"/>
            <a:chExt cx="1765080" cy="838440"/>
          </a:xfrm>
        </p:grpSpPr>
        <p:sp>
          <p:nvSpPr>
            <p:cNvPr id="324" name=""/>
            <p:cNvSpPr/>
            <p:nvPr/>
          </p:nvSpPr>
          <p:spPr>
            <a:xfrm>
              <a:off x="1676520" y="5103720"/>
              <a:ext cx="1117440" cy="8384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, C++,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93960" y="55231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676520" y="4035600"/>
            <a:ext cx="1765080" cy="841320"/>
            <a:chOff x="1676520" y="4035600"/>
            <a:chExt cx="1765080" cy="841320"/>
          </a:xfrm>
        </p:grpSpPr>
        <p:sp>
          <p:nvSpPr>
            <p:cNvPr id="327" name=""/>
            <p:cNvSpPr/>
            <p:nvPr/>
          </p:nvSpPr>
          <p:spPr>
            <a:xfrm>
              <a:off x="1676520" y="4035600"/>
              <a:ext cx="1117440" cy="8413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93960" y="44564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Overview on TTCN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TTCN-3 applied t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TCN-3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Test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XML in Distributed Applications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ing number of distributed applications use XML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tion of messages in datacom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format between soft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description in Web-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 structured method for putting data into a textual presentation by marking up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have attribut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scribe additi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s both attribu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ntuitive and self descri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Mapping XML to TTCN-3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Arial"/>
              </a:rPr>
              <a:t>Ide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lement tags and attributes to TTCN-3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grammar definitions and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bedd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t-Catalog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 Typ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3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309" dur="1" fill="hold"/>
                                  <p:tgtEl>
                                    <p:spTgt spid="3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310" dur="1" fill="hold"/>
                                  <p:tgtEl>
                                    <p:spTgt spid="3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311" dur="1" fill="hold"/>
                                  <p:tgtEl>
                                    <p:spTgt spid="3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312" dur="1" fill="hold"/>
                                  <p:tgtEl>
                                    <p:spTgt spid="3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313" dur="1" fill="hold"/>
                                  <p:tgtEl>
                                    <p:spTgt spid="33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Frutiger 55 Roman"/>
              </a:rPr>
              <a:t>Example – The Dinosaur Database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1704960" cy="219564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1064880" y="3490560"/>
            <a:ext cx="4754880" cy="2011680"/>
            <a:chOff x="1064880" y="3490560"/>
            <a:chExt cx="4754880" cy="2011680"/>
          </a:xfrm>
        </p:grpSpPr>
        <p:cxnSp>
          <p:nvCxnSpPr>
            <p:cNvPr id="338" name=""/>
            <p:cNvCxnSpPr>
              <a:stCxn id="339" idx="1"/>
              <a:endCxn id="336" idx="2"/>
            </p:cNvCxnSpPr>
            <p:nvPr/>
          </p:nvCxnSpPr>
          <p:spPr>
            <a:xfrm rot="10800000">
              <a:off x="2299680" y="3490200"/>
              <a:ext cx="1510200" cy="1203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340" name=""/>
            <p:cNvGrpSpPr/>
            <p:nvPr/>
          </p:nvGrpSpPr>
          <p:grpSpPr>
            <a:xfrm>
              <a:off x="3809880" y="3886200"/>
              <a:ext cx="2009880" cy="1616040"/>
              <a:chOff x="3809880" y="3886200"/>
              <a:chExt cx="2009880" cy="161604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9880" y="3886200"/>
                <a:ext cx="2009880" cy="16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4419720" y="4495680"/>
                <a:ext cx="106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XM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064880" y="4419360"/>
              <a:ext cx="271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 55 Roman"/>
                </a:rPr>
                <a:t>Paleontologi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 55 Roman"/>
                </a:rPr>
                <a:t>feeding the 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819400" y="1676520"/>
            <a:ext cx="2800800" cy="3447000"/>
            <a:chOff x="5819400" y="1676520"/>
            <a:chExt cx="2800800" cy="34470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6477120" y="1676520"/>
              <a:ext cx="1811160" cy="1536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46" name=""/>
            <p:cNvCxnSpPr>
              <a:stCxn id="345" idx="2"/>
              <a:endCxn id="341" idx="3"/>
            </p:cNvCxnSpPr>
            <p:nvPr/>
          </p:nvCxnSpPr>
          <p:spPr>
            <a:xfrm rot="5400000">
              <a:off x="5860440" y="3171960"/>
              <a:ext cx="1481760" cy="1564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47" name=""/>
            <p:cNvSpPr/>
            <p:nvPr/>
          </p:nvSpPr>
          <p:spPr>
            <a:xfrm>
              <a:off x="6540480" y="4419720"/>
              <a:ext cx="207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 55 Roman"/>
                </a:rPr>
                <a:t>Stud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utiger 55 Roman"/>
                </a:rPr>
                <a:t>requesting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Frutiger 55 Roman"/>
              </a:rPr>
              <a:t>The Request Interface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295280" y="2041560"/>
            <a:ext cx="2009880" cy="1616040"/>
            <a:chOff x="1295280" y="2041560"/>
            <a:chExt cx="2009880" cy="161604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1295280" y="2041560"/>
              <a:ext cx="200988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905120" y="26510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XM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114800" y="16765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352680" y="1943280"/>
            <a:ext cx="152424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64960" y="1981080"/>
            <a:ext cx="4206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55 Roman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b61"/>
                </a:solidFill>
                <a:latin typeface="Frutiger 45 Light"/>
              </a:rPr>
              <a:t>http://www.testingtech.de/TTCN-3_Example/dinolist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352680" y="3086280"/>
            <a:ext cx="152424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952880" y="3124080"/>
            <a:ext cx="3814920" cy="3124440"/>
            <a:chOff x="4952880" y="3124080"/>
            <a:chExt cx="3814920" cy="312444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4952880" y="3497400"/>
              <a:ext cx="3814920" cy="27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971960" y="312408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rutiger 55 Roman"/>
                </a:rPr>
                <a:t>XML 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838080" y="4257720"/>
            <a:ext cx="2187720" cy="1985040"/>
            <a:chOff x="838080" y="4257720"/>
            <a:chExt cx="2187720" cy="1985040"/>
          </a:xfrm>
        </p:grpSpPr>
        <p:sp>
          <p:nvSpPr>
            <p:cNvPr id="361" name=""/>
            <p:cNvSpPr/>
            <p:nvPr/>
          </p:nvSpPr>
          <p:spPr>
            <a:xfrm>
              <a:off x="838080" y="4257720"/>
              <a:ext cx="2187720" cy="194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08240" y="5466240"/>
              <a:ext cx="13633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rutiger 55 Roman"/>
                </a:rPr>
                <a:t>Web 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Frutiger 55 Roman"/>
                </a:rPr>
                <a:t>Servi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180080" y="4313160"/>
              <a:ext cx="1458000" cy="9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2408400" y="1617840"/>
            <a:ext cx="3965400" cy="1000080"/>
            <a:chOff x="2408400" y="1617840"/>
            <a:chExt cx="3965400" cy="1000080"/>
          </a:xfrm>
        </p:grpSpPr>
        <p:grpSp>
          <p:nvGrpSpPr>
            <p:cNvPr id="365" name=""/>
            <p:cNvGrpSpPr/>
            <p:nvPr/>
          </p:nvGrpSpPr>
          <p:grpSpPr>
            <a:xfrm>
              <a:off x="4859280" y="1617840"/>
              <a:ext cx="1514520" cy="1000080"/>
              <a:chOff x="4859280" y="1617840"/>
              <a:chExt cx="1514520" cy="1000080"/>
            </a:xfrm>
          </p:grpSpPr>
          <p:pic>
            <p:nvPicPr>
              <p:cNvPr id="3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9280" y="1839960"/>
                <a:ext cx="1514520" cy="42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flipH="1" flipV="1">
                <a:off x="5417280" y="1617840"/>
                <a:ext cx="956160" cy="1000080"/>
              </a:xfrm>
              <a:prstGeom prst="foldedCorner">
                <a:avLst>
                  <a:gd name="adj" fmla="val 2326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408400" y="2117880"/>
              <a:ext cx="23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1240" y="1822320"/>
              <a:ext cx="16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Generation of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est data 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941720" y="2673360"/>
            <a:ext cx="2833920" cy="3753000"/>
            <a:chOff x="4941720" y="2673360"/>
            <a:chExt cx="2833920" cy="3753000"/>
          </a:xfrm>
        </p:grpSpPr>
        <p:grpSp>
          <p:nvGrpSpPr>
            <p:cNvPr id="371" name=""/>
            <p:cNvGrpSpPr/>
            <p:nvPr/>
          </p:nvGrpSpPr>
          <p:grpSpPr>
            <a:xfrm>
              <a:off x="4941720" y="4118040"/>
              <a:ext cx="2529000" cy="2308320"/>
              <a:chOff x="4941720" y="4118040"/>
              <a:chExt cx="2529000" cy="2308320"/>
            </a:xfrm>
          </p:grpSpPr>
          <p:sp>
            <p:nvSpPr>
              <p:cNvPr id="372" name=""/>
              <p:cNvSpPr/>
              <p:nvPr/>
            </p:nvSpPr>
            <p:spPr>
              <a:xfrm>
                <a:off x="4941720" y="4118040"/>
                <a:ext cx="2529000" cy="222300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410800" y="5735520"/>
                <a:ext cx="1387800" cy="6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Frutiger 55 Roman"/>
                  </a:rPr>
                  <a:t>Tes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Frutiger 55 Roman"/>
                  </a:rPr>
                  <a:t>Syste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14960" y="4229280"/>
                <a:ext cx="1708560" cy="1111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b61"/>
                    </a:solidFill>
                    <a:latin typeface="Frutiger 55 Roman"/>
                  </a:rPr>
                  <a:t>Te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b61"/>
                    </a:solidFill>
                    <a:latin typeface="Frutiger 55 Roman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51760" y="4284720"/>
                <a:ext cx="1708560" cy="1111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b61"/>
                    </a:solidFill>
                    <a:latin typeface="Frutiger 55 Roman"/>
                  </a:rPr>
                  <a:t>Te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b61"/>
                    </a:solidFill>
                    <a:latin typeface="Frutiger 55 Roman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488560" y="4395960"/>
                <a:ext cx="1708200" cy="1111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b61"/>
                    </a:solidFill>
                    <a:latin typeface="Frutiger 55 Roman"/>
                  </a:rPr>
                  <a:t>Te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b61"/>
                    </a:solidFill>
                    <a:latin typeface="Frutiger 55 Roman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25000" y="4506840"/>
                <a:ext cx="1708560" cy="1111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b61"/>
                    </a:solidFill>
                    <a:latin typeface="Frutiger 55 Roman"/>
                  </a:rPr>
                  <a:t>Te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b61"/>
                    </a:solidFill>
                    <a:latin typeface="Frutiger 55 Roman"/>
                  </a:rPr>
                  <a:t>Compon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5899320" y="2673360"/>
              <a:ext cx="0" cy="13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05520" y="3170160"/>
              <a:ext cx="177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ompi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o Executable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382400" y="1673280"/>
            <a:ext cx="957240" cy="2500200"/>
            <a:chOff x="1382400" y="1673280"/>
            <a:chExt cx="957240" cy="2500200"/>
          </a:xfrm>
        </p:grpSpPr>
        <p:sp>
          <p:nvSpPr>
            <p:cNvPr id="381" name=""/>
            <p:cNvSpPr/>
            <p:nvPr/>
          </p:nvSpPr>
          <p:spPr>
            <a:xfrm flipH="1" flipV="1">
              <a:off x="1382040" y="1673280"/>
              <a:ext cx="957240" cy="1000080"/>
            </a:xfrm>
            <a:prstGeom prst="foldedCorner">
              <a:avLst>
                <a:gd name="adj" fmla="val 232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27280" y="2784600"/>
              <a:ext cx="0" cy="1388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164040" y="2395440"/>
            <a:ext cx="2180520" cy="3722760"/>
            <a:chOff x="3164040" y="2395440"/>
            <a:chExt cx="2180520" cy="3722760"/>
          </a:xfrm>
        </p:grpSpPr>
        <p:grpSp>
          <p:nvGrpSpPr>
            <p:cNvPr id="384" name=""/>
            <p:cNvGrpSpPr/>
            <p:nvPr/>
          </p:nvGrpSpPr>
          <p:grpSpPr>
            <a:xfrm>
              <a:off x="3164040" y="4340160"/>
              <a:ext cx="1639800" cy="1778040"/>
              <a:chOff x="3164040" y="4340160"/>
              <a:chExt cx="1639800" cy="1778040"/>
            </a:xfrm>
          </p:grpSpPr>
          <p:sp>
            <p:nvSpPr>
              <p:cNvPr id="385" name=""/>
              <p:cNvSpPr/>
              <p:nvPr/>
            </p:nvSpPr>
            <p:spPr>
              <a:xfrm>
                <a:off x="3164040" y="5006880"/>
                <a:ext cx="1639800" cy="444240"/>
              </a:xfrm>
              <a:prstGeom prst="leftRightArrow">
                <a:avLst>
                  <a:gd name="adj1" fmla="val 50000"/>
                  <a:gd name="adj2" fmla="val 73483"/>
                </a:avLst>
              </a:prstGeom>
              <a:solidFill>
                <a:srgbClr val="00b7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313440" y="513756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10520" y="4340160"/>
                <a:ext cx="614880" cy="1778040"/>
              </a:xfrm>
              <a:prstGeom prst="rect">
                <a:avLst/>
              </a:prstGeom>
              <a:solidFill>
                <a:srgbClr val="67676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4010040" y="239544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07160" y="3029040"/>
              <a:ext cx="133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daptor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acc. to the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pping ru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373800" y="2117880"/>
            <a:ext cx="2459160" cy="612720"/>
            <a:chOff x="6373800" y="2117880"/>
            <a:chExt cx="2459160" cy="612720"/>
          </a:xfrm>
        </p:grpSpPr>
        <p:sp>
          <p:nvSpPr>
            <p:cNvPr id="391" name=""/>
            <p:cNvSpPr/>
            <p:nvPr/>
          </p:nvSpPr>
          <p:spPr>
            <a:xfrm flipH="1">
              <a:off x="6373800" y="2425680"/>
              <a:ext cx="198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11200" y="2136600"/>
              <a:ext cx="135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Generation of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est behav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8359920" y="2117880"/>
              <a:ext cx="473040" cy="61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6373800" y="1600200"/>
            <a:ext cx="2465280" cy="580680"/>
            <a:chOff x="6373800" y="1600200"/>
            <a:chExt cx="2465280" cy="580680"/>
          </a:xfrm>
        </p:grpSpPr>
        <p:sp>
          <p:nvSpPr>
            <p:cNvPr id="395" name=""/>
            <p:cNvSpPr/>
            <p:nvPr/>
          </p:nvSpPr>
          <p:spPr>
            <a:xfrm flipH="1">
              <a:off x="6373800" y="1895400"/>
              <a:ext cx="198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11200" y="1600200"/>
              <a:ext cx="135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Generation of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es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429760" y="1728720"/>
              <a:ext cx="409320" cy="2746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Frutiger 55 Roman"/>
              </a:rPr>
              <a:t>Principal Approach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b61"/>
                </a:solidFill>
                <a:latin typeface="Frutiger 55 Roman"/>
              </a:rPr>
              <a:t>Structured Type Defintions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36840" y="15318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55 Roman"/>
              </a:rPr>
              <a:t>XML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1447920"/>
            <a:ext cx="5638680" cy="236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dinolist (dinosaur*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dinosaur (name, len, mass, time, place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nam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len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mass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tim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ELEMENT place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15640" y="3068640"/>
            <a:ext cx="7939080" cy="32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7a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type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set of dinosaur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dinoli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type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record dinosaur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charstring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n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charstring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l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charstring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ma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charstring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ti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charstring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69000" y="3068640"/>
            <a:ext cx="2133720" cy="762120"/>
          </a:xfrm>
          <a:prstGeom prst="wedgeRoundRectCallout">
            <a:avLst>
              <a:gd name="adj1" fmla="val -90773"/>
              <a:gd name="adj2" fmla="val 6458"/>
              <a:gd name="adj3" fmla="val 16667"/>
            </a:avLst>
          </a:prstGeom>
          <a:solidFill>
            <a:srgbClr val="ffffff"/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Set of Typ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16720" y="4973760"/>
            <a:ext cx="2438280" cy="380880"/>
          </a:xfrm>
          <a:prstGeom prst="wedgeRoundRectCallout">
            <a:avLst>
              <a:gd name="adj1" fmla="val -125324"/>
              <a:gd name="adj2" fmla="val -57083"/>
              <a:gd name="adj3" fmla="val 16667"/>
            </a:avLst>
          </a:prstGeom>
          <a:solidFill>
            <a:srgbClr val="ffffff"/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Field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69000" y="4059360"/>
            <a:ext cx="2133720" cy="761760"/>
          </a:xfrm>
          <a:prstGeom prst="wedgeRoundRectCallout">
            <a:avLst>
              <a:gd name="adj1" fmla="val -137500"/>
              <a:gd name="adj2" fmla="val -28958"/>
              <a:gd name="adj3" fmla="val 16667"/>
            </a:avLst>
          </a:prstGeom>
          <a:solidFill>
            <a:srgbClr val="ffffff"/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Record Typ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Frutiger 55 Roman"/>
              </a:rPr>
              <a:t>Test Data Definitions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863720"/>
            <a:ext cx="8381880" cy="3581280"/>
          </a:xfrm>
          <a:prstGeom prst="rect">
            <a:avLst/>
          </a:prstGeom>
          <a:noFill/>
          <a:ln w="12600">
            <a:solidFill>
              <a:srgbClr val="00b7a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template</a:t>
            </a: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dinolist</a:t>
            </a: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00b7a5"/>
                </a:solidFill>
                <a:latin typeface="Frutiger 55 Roman"/>
              </a:rPr>
              <a:t>DinoList</a:t>
            </a: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: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{?, ?, Brachiosaurus, ?, ?, ?, ?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template</a:t>
            </a: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dinosaur</a:t>
            </a: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00b7a5"/>
                </a:solidFill>
                <a:latin typeface="Frutiger 55 Roman"/>
              </a:rPr>
              <a:t>Brachiosaurus</a:t>
            </a: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:=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name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:= "</a:t>
            </a:r>
            <a:r>
              <a:rPr b="0" lang="de-DE" sz="2400" spc="-1" strike="noStrike">
                <a:solidFill>
                  <a:srgbClr val="006600"/>
                </a:solidFill>
                <a:latin typeface="Frutiger 55 Roman"/>
              </a:rPr>
              <a:t>Brachiosaurus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len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:= ?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mass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:= ?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time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:= ?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place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: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48520" y="3159000"/>
            <a:ext cx="2133360" cy="381240"/>
          </a:xfrm>
          <a:prstGeom prst="wedgeRoundRectCallout">
            <a:avLst>
              <a:gd name="adj1" fmla="val -113689"/>
              <a:gd name="adj2" fmla="val -191666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An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verview on TTCN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TCN-3 applied t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TCN-3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Frutiger 55 Roman"/>
              </a:rPr>
              <a:t>Test Port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4360" y="2323800"/>
            <a:ext cx="7696080" cy="2544840"/>
          </a:xfrm>
          <a:prstGeom prst="rect">
            <a:avLst/>
          </a:prstGeom>
          <a:noFill/>
          <a:ln w="12600">
            <a:solidFill>
              <a:srgbClr val="00b7a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Frutiger 55 Roman"/>
              </a:rPr>
              <a:t>/** communication port type definition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type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port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httpTestPortType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message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out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ur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in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dinoli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4440" y="2171880"/>
            <a:ext cx="2438280" cy="380880"/>
          </a:xfrm>
          <a:prstGeom prst="wedgeRoundRectCallout">
            <a:avLst>
              <a:gd name="adj1" fmla="val -120703"/>
              <a:gd name="adj2" fmla="val 180833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Por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b61"/>
                </a:solidFill>
                <a:latin typeface="Frutiger 55 Roman"/>
              </a:rPr>
              <a:t>Test Component</a:t>
            </a:r>
            <a:r>
              <a:rPr b="0" lang="de-DE" sz="3600" spc="-1" strike="noStrike">
                <a:solidFill>
                  <a:srgbClr val="006b61"/>
                </a:solidFill>
                <a:latin typeface="Frutiger 55 Roman"/>
              </a:rPr>
              <a:t>s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305920" cy="3494160"/>
          </a:xfrm>
          <a:prstGeom prst="rect">
            <a:avLst/>
          </a:prstGeom>
          <a:noFill/>
          <a:ln w="12600">
            <a:solidFill>
              <a:srgbClr val="00b7a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Frutiger 55 Roman"/>
              </a:rPr>
              <a:t>/** component type definition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type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component httpTestComponent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port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 httpTestPortType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httpPo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timer 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localTimer := 3.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type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component httpTestSystemComponent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port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 httpTestPortType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httpTestSystemPo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48520" y="1700280"/>
            <a:ext cx="1904760" cy="685800"/>
          </a:xfrm>
          <a:prstGeom prst="wedgeRoundRectCallout">
            <a:avLst>
              <a:gd name="adj1" fmla="val -116333"/>
              <a:gd name="adj2" fmla="val 68055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Componen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05720" y="2843280"/>
            <a:ext cx="1904760" cy="457200"/>
          </a:xfrm>
          <a:prstGeom prst="wedgeRoundRectCallout">
            <a:avLst>
              <a:gd name="adj1" fmla="val -118750"/>
              <a:gd name="adj2" fmla="val -29513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Local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3605040"/>
            <a:ext cx="1904760" cy="457200"/>
          </a:xfrm>
          <a:prstGeom prst="wedgeRoundRectCallout">
            <a:avLst>
              <a:gd name="adj1" fmla="val -116750"/>
              <a:gd name="adj2" fmla="val -78819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Local 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Frutiger 55 Roman"/>
              </a:rPr>
              <a:t>Test Behavior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12600">
            <a:solidFill>
              <a:srgbClr val="00b7a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httpPor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send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(request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star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al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[] 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httpPor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receiv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(DinoLis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stop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setverdic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pass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[] 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httpPor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receiv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stop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setverdic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fail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[] 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imeou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setverdic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fail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1981080"/>
            <a:ext cx="1676520" cy="762120"/>
          </a:xfrm>
          <a:prstGeom prst="wedgeRoundRectCallout">
            <a:avLst>
              <a:gd name="adj1" fmla="val -259375"/>
              <a:gd name="adj2" fmla="val 16874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Alternative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1066680"/>
            <a:ext cx="1600200" cy="762120"/>
          </a:xfrm>
          <a:prstGeom prst="wedgeRoundRectCallout">
            <a:avLst>
              <a:gd name="adj1" fmla="val -107240"/>
              <a:gd name="adj2" fmla="val 44166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Sending a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1680" y="1066680"/>
            <a:ext cx="1600200" cy="762120"/>
          </a:xfrm>
          <a:prstGeom prst="wedgeRoundRectCallout">
            <a:avLst>
              <a:gd name="adj1" fmla="val -290375"/>
              <a:gd name="adj2" fmla="val 88750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Starting the 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24280" y="2819520"/>
            <a:ext cx="2057400" cy="761760"/>
          </a:xfrm>
          <a:prstGeom prst="wedgeRoundRectCallout">
            <a:avLst>
              <a:gd name="adj1" fmla="val -100078"/>
              <a:gd name="adj2" fmla="val -37500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The expecte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24280" y="3809880"/>
            <a:ext cx="2362320" cy="762120"/>
          </a:xfrm>
          <a:prstGeom prst="wedgeRoundRectCallout">
            <a:avLst>
              <a:gd name="adj1" fmla="val -104435"/>
              <a:gd name="adj2" fmla="val -21458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An unexpecte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00600" y="4952880"/>
            <a:ext cx="2057400" cy="533520"/>
          </a:xfrm>
          <a:prstGeom prst="wedgeRoundRectCallout">
            <a:avLst>
              <a:gd name="adj1" fmla="val -101004"/>
              <a:gd name="adj2" fmla="val 3569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A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6840" y="2096640"/>
            <a:ext cx="8381880" cy="3853080"/>
          </a:xfrm>
          <a:prstGeom prst="rect">
            <a:avLst/>
          </a:prstGeom>
          <a:noFill/>
          <a:ln w="12600">
            <a:solidFill>
              <a:srgbClr val="00b7a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altstep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DinoList_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Default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_1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runs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on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httpTestComponent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[] 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httpPor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receive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top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etverdic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fail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[] 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timeou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etverdic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fail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2859120"/>
            <a:ext cx="2057400" cy="1143000"/>
          </a:xfrm>
          <a:prstGeom prst="wedgeRoundRectCallout">
            <a:avLst>
              <a:gd name="adj1" fmla="val -147069"/>
              <a:gd name="adj2" fmla="val -35972"/>
              <a:gd name="adj3" fmla="val 16667"/>
            </a:avLst>
          </a:prstGeom>
          <a:solidFill>
            <a:srgbClr val="ffffff"/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Handling of unexpecte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Frutiger 55 Roman"/>
              </a:rPr>
              <a:t>Simplification: Altstep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1868400"/>
            <a:ext cx="2590920" cy="838440"/>
          </a:xfrm>
          <a:prstGeom prst="wedgeRoundRectCallout">
            <a:avLst>
              <a:gd name="adj1" fmla="val -85847"/>
              <a:gd name="adj2" fmla="val 35416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Test Componen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43600" y="4154400"/>
            <a:ext cx="2057400" cy="838440"/>
          </a:xfrm>
          <a:prstGeom prst="wedgeRoundRectCallout">
            <a:avLst>
              <a:gd name="adj1" fmla="val -132254"/>
              <a:gd name="adj2" fmla="val -12879"/>
              <a:gd name="adj3" fmla="val 16667"/>
            </a:avLst>
          </a:prstGeom>
          <a:solidFill>
            <a:srgbClr val="ffffff"/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Handling of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6840" y="2244600"/>
            <a:ext cx="8381880" cy="3129120"/>
          </a:xfrm>
          <a:prstGeom prst="rect">
            <a:avLst/>
          </a:prstGeom>
          <a:noFill/>
          <a:ln w="12600">
            <a:solidFill>
              <a:srgbClr val="00b7a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    </a:t>
            </a: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33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activate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DinoList_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Default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_1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httpPor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end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requestUR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httpPor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receive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DinoList)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top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etverdic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pass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68880" y="3500280"/>
            <a:ext cx="2895840" cy="2286000"/>
          </a:xfrm>
          <a:prstGeom prst="wedgeRoundRectCallout">
            <a:avLst>
              <a:gd name="adj1" fmla="val -98847"/>
              <a:gd name="adj2" fmla="val -30625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The expected response is given here on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All other cases are handled by the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Frutiger 55 Roman"/>
              </a:rPr>
              <a:t>Simplification: Use of the Altstep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84720" y="2184480"/>
            <a:ext cx="2590920" cy="380880"/>
          </a:xfrm>
          <a:prstGeom prst="wedgeRoundRectCallout">
            <a:avLst>
              <a:gd name="adj1" fmla="val -86273"/>
              <a:gd name="adj2" fmla="val 90416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Default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879200"/>
            <a:ext cx="8229600" cy="4429080"/>
          </a:xfrm>
          <a:prstGeom prst="rect">
            <a:avLst/>
          </a:prstGeom>
          <a:noFill/>
          <a:ln w="12600">
            <a:solidFill>
              <a:srgbClr val="00b7a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testcase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DinoList_Test_1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runs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on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httpTest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ystem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 httpTestSystemCompone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map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mtc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:httpPort,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ystem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:httpTestSystemPor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    </a:t>
            </a: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activate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DinoList_</a:t>
            </a: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Default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_1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Frutiger 55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httpPor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end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requestUR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66ff"/>
                </a:solidFill>
                <a:latin typeface="Frutiger 55 Roman"/>
              </a:rPr>
              <a:t>     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httpPor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receive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DinoList)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    </a:t>
            </a:r>
            <a:r>
              <a:rPr b="0" lang="en-GB" sz="2400" spc="-1" strike="noStrike">
                <a:solidFill>
                  <a:srgbClr val="6666ff"/>
                </a:solidFill>
                <a:latin typeface="Frutiger 55 Roman"/>
              </a:rPr>
              <a:t>localTimer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top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Frutiger 55 Roman"/>
              </a:rPr>
              <a:t>      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setverdict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(</a:t>
            </a:r>
            <a:r>
              <a:rPr b="0" lang="en-GB" sz="2400" spc="-1" strike="noStrike">
                <a:solidFill>
                  <a:srgbClr val="ff0000"/>
                </a:solidFill>
                <a:latin typeface="Frutiger 55 Roman"/>
              </a:rPr>
              <a:t>pass</a:t>
            </a: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Frutiger 55 Roman"/>
              </a:rPr>
              <a:t>A Test Case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24480" y="2108160"/>
            <a:ext cx="1981440" cy="380880"/>
          </a:xfrm>
          <a:prstGeom prst="wedgeRoundRectCallout">
            <a:avLst>
              <a:gd name="adj1" fmla="val -121314"/>
              <a:gd name="adj2" fmla="val 16666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MTC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24480" y="1270080"/>
            <a:ext cx="1981440" cy="761760"/>
          </a:xfrm>
          <a:prstGeom prst="wedgeRoundRectCallout">
            <a:avLst>
              <a:gd name="adj1" fmla="val -152722"/>
              <a:gd name="adj2" fmla="val 55833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Test Cas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324480" y="2641680"/>
            <a:ext cx="1981440" cy="380880"/>
          </a:xfrm>
          <a:prstGeom prst="wedgeRoundRectCallout">
            <a:avLst>
              <a:gd name="adj1" fmla="val -69472"/>
              <a:gd name="adj2" fmla="val -35000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TSI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00800" y="3860640"/>
            <a:ext cx="1981080" cy="838440"/>
          </a:xfrm>
          <a:prstGeom prst="wedgeRoundRectCallout">
            <a:avLst>
              <a:gd name="adj1" fmla="val -100319"/>
              <a:gd name="adj2" fmla="val -91666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Mapping the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Frutiger 55 Roman"/>
              </a:rPr>
              <a:t>Module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12600">
            <a:solidFill>
              <a:srgbClr val="00b7a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module</a:t>
            </a: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dinolistTes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rutiger 55 Roman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record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url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{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...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set of dinosaur dinolis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record dinosaur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{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...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emplat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url requestURL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:= {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...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emplat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dinolist DinoLis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:= {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...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emplat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dinosaur Brachiosaurus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:= {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...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port httpTestPortTyp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message {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...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component httpTestComponen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{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...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component httpTestSystemComponent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{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...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000" spc="-1" strike="noStrike">
                <a:solidFill>
                  <a:srgbClr val="ff0000"/>
                </a:solidFill>
                <a:latin typeface="Frutiger 55 Roman"/>
              </a:rPr>
              <a:t>altstep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DinoList_</a:t>
            </a:r>
            <a:r>
              <a:rPr b="0" lang="de-DE" sz="2000" spc="-1" strike="noStrike">
                <a:solidFill>
                  <a:srgbClr val="6666ff"/>
                </a:solidFill>
                <a:latin typeface="Frutiger 55 Roman"/>
              </a:rPr>
              <a:t>Default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_1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() runs on httpTestComponent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Frutiger 55 Roman"/>
              </a:rPr>
              <a:t>testcas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6666ff"/>
                </a:solidFill>
                <a:latin typeface="Frutiger 55 Roman"/>
              </a:rPr>
              <a:t>DinoList_Test_1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() runs on httpTest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system httpTestSystemComponent {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...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de-DE" sz="2000" spc="-1" strike="noStrike">
                <a:solidFill>
                  <a:srgbClr val="ff0000"/>
                </a:solidFill>
                <a:latin typeface="Frutiger 55 Roman"/>
              </a:rPr>
              <a:t>control</a:t>
            </a: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 { ... }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1066680"/>
            <a:ext cx="1981440" cy="762120"/>
          </a:xfrm>
          <a:prstGeom prst="wedgeRoundRectCallout">
            <a:avLst>
              <a:gd name="adj1" fmla="val -104805"/>
              <a:gd name="adj2" fmla="val 25833"/>
              <a:gd name="adj3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b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b61"/>
                </a:solidFill>
                <a:latin typeface="FormataBQ"/>
              </a:rPr>
              <a:t>Modu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2880" y="0"/>
            <a:ext cx="1299240" cy="45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006b61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1"/>
          </p:cNvPr>
          <p:cNvSpPr/>
          <p:nvPr/>
        </p:nvSpPr>
        <p:spPr>
          <a:xfrm>
            <a:off x="8089920" y="5486400"/>
            <a:ext cx="509400" cy="5857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34">
                <a:moveTo>
                  <a:pt x="0" y="0"/>
                </a:moveTo>
                <a:lnTo>
                  <a:pt x="21600" y="0"/>
                </a:lnTo>
                <a:lnTo>
                  <a:pt x="21600" y="24834"/>
                </a:lnTo>
                <a:lnTo>
                  <a:pt x="0" y="24834"/>
                </a:lnTo>
                <a:close/>
              </a:path>
              <a:path fill="lightenLess" w="21600" h="24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4">
                <a:moveTo>
                  <a:pt x="21600" y="0"/>
                </a:moveTo>
                <a:lnTo>
                  <a:pt x="21600" y="24834"/>
                </a:lnTo>
                <a:lnTo>
                  <a:pt x="20200" y="23434"/>
                </a:lnTo>
                <a:lnTo>
                  <a:pt x="20200" y="1400"/>
                </a:lnTo>
                <a:close/>
              </a:path>
              <a:path fill="darkenLess" w="21600" h="24834">
                <a:moveTo>
                  <a:pt x="21600" y="24834"/>
                </a:moveTo>
                <a:lnTo>
                  <a:pt x="0" y="24834"/>
                </a:lnTo>
                <a:lnTo>
                  <a:pt x="1400" y="23434"/>
                </a:lnTo>
                <a:lnTo>
                  <a:pt x="20200" y="23434"/>
                </a:lnTo>
                <a:close/>
              </a:path>
              <a:path fill="lighten" w="21600" h="24834">
                <a:moveTo>
                  <a:pt x="0" y="24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4"/>
                </a:lnTo>
                <a:close/>
              </a:path>
              <a:path fill="darken" w="21600" h="24834">
                <a:moveTo>
                  <a:pt x="10800" y="164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834">
                <a:moveTo>
                  <a:pt x="11905" y="15898"/>
                </a:moveTo>
                <a:lnTo>
                  <a:pt x="11905" y="13940"/>
                </a:lnTo>
                <a:cubicBezTo>
                  <a:pt x="11905" y="13113"/>
                  <a:pt x="12236" y="12417"/>
                  <a:pt x="12837" y="12417"/>
                </a:cubicBezTo>
                <a:cubicBezTo>
                  <a:pt x="13968" y="12417"/>
                  <a:pt x="14865" y="11050"/>
                  <a:pt x="14865" y="9466"/>
                </a:cubicBezTo>
                <a:cubicBezTo>
                  <a:pt x="14865" y="7151"/>
                  <a:pt x="13011" y="5410"/>
                  <a:pt x="10800" y="5410"/>
                </a:cubicBezTo>
                <a:cubicBezTo>
                  <a:pt x="8589" y="5410"/>
                  <a:pt x="6918" y="7151"/>
                  <a:pt x="6918" y="9466"/>
                </a:cubicBezTo>
                <a:lnTo>
                  <a:pt x="8772" y="9466"/>
                </a:lnTo>
                <a:cubicBezTo>
                  <a:pt x="8772" y="8326"/>
                  <a:pt x="9695" y="7438"/>
                  <a:pt x="10800" y="7438"/>
                </a:cubicBezTo>
                <a:cubicBezTo>
                  <a:pt x="11905" y="7438"/>
                  <a:pt x="12837" y="8326"/>
                  <a:pt x="12837" y="9466"/>
                </a:cubicBezTo>
                <a:cubicBezTo>
                  <a:pt x="12837" y="10206"/>
                  <a:pt x="12367" y="10937"/>
                  <a:pt x="11905" y="10937"/>
                </a:cubicBezTo>
                <a:cubicBezTo>
                  <a:pt x="10800" y="10937"/>
                  <a:pt x="9695" y="12417"/>
                  <a:pt x="9695" y="13940"/>
                </a:cubicBezTo>
                <a:lnTo>
                  <a:pt x="9695" y="15898"/>
                </a:lnTo>
                <a:close/>
              </a:path>
            </a:pathLst>
          </a:custGeom>
          <a:solidFill>
            <a:srgbClr val="006b6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07560" y="609588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he Complete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Graphical Format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042920" y="1181160"/>
            <a:ext cx="7772400" cy="5334120"/>
            <a:chOff x="1042920" y="1181160"/>
            <a:chExt cx="7772400" cy="5334120"/>
          </a:xfrm>
        </p:grpSpPr>
        <p:sp>
          <p:nvSpPr>
            <p:cNvPr id="456" name=""/>
            <p:cNvSpPr/>
            <p:nvPr/>
          </p:nvSpPr>
          <p:spPr>
            <a:xfrm>
              <a:off x="1042920" y="1181160"/>
              <a:ext cx="706752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42920" y="1181160"/>
              <a:ext cx="7772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testcase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DinoList_Test_1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uns on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httpTestComponent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system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httpTestSystemCompon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657520" y="1666800"/>
            <a:ext cx="1218960" cy="4724640"/>
            <a:chOff x="2657520" y="1666800"/>
            <a:chExt cx="1218960" cy="4724640"/>
          </a:xfrm>
        </p:grpSpPr>
        <p:sp>
          <p:nvSpPr>
            <p:cNvPr id="459" name=""/>
            <p:cNvSpPr/>
            <p:nvPr/>
          </p:nvSpPr>
          <p:spPr>
            <a:xfrm>
              <a:off x="2752560" y="1971720"/>
              <a:ext cx="10652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7520" y="197172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urier New"/>
                </a:rPr>
                <a:t>httpTest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Courier New"/>
                </a:rPr>
                <a:t>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51120" y="16668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m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266640" y="2276640"/>
              <a:ext cx="1764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267000" y="4152960"/>
            <a:ext cx="2819520" cy="665640"/>
            <a:chOff x="3267000" y="4152960"/>
            <a:chExt cx="2819520" cy="665640"/>
          </a:xfrm>
        </p:grpSpPr>
        <p:sp>
          <p:nvSpPr>
            <p:cNvPr id="464" name=""/>
            <p:cNvSpPr/>
            <p:nvPr/>
          </p:nvSpPr>
          <p:spPr>
            <a:xfrm>
              <a:off x="3267000" y="448632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67000" y="4152960"/>
              <a:ext cx="28195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67000" y="4486320"/>
              <a:ext cx="281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equestU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267000" y="4657680"/>
            <a:ext cx="2874960" cy="665640"/>
            <a:chOff x="3267000" y="4657680"/>
            <a:chExt cx="2874960" cy="665640"/>
          </a:xfrm>
        </p:grpSpPr>
        <p:sp>
          <p:nvSpPr>
            <p:cNvPr id="468" name=""/>
            <p:cNvSpPr/>
            <p:nvPr/>
          </p:nvSpPr>
          <p:spPr>
            <a:xfrm flipH="1">
              <a:off x="3267000" y="4991040"/>
              <a:ext cx="278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11560" y="4657680"/>
              <a:ext cx="10368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6520" y="4991040"/>
              <a:ext cx="1225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Dino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511600" y="1666800"/>
            <a:ext cx="1155960" cy="4724640"/>
            <a:chOff x="5511600" y="1666800"/>
            <a:chExt cx="1155960" cy="4724640"/>
          </a:xfrm>
        </p:grpSpPr>
        <p:sp>
          <p:nvSpPr>
            <p:cNvPr id="472" name=""/>
            <p:cNvSpPr/>
            <p:nvPr/>
          </p:nvSpPr>
          <p:spPr>
            <a:xfrm>
              <a:off x="5576760" y="1971720"/>
              <a:ext cx="1025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11600" y="19256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htt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29320" y="1666800"/>
              <a:ext cx="919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086520" y="2276640"/>
              <a:ext cx="2880" cy="411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692360" y="2941560"/>
            <a:ext cx="3190680" cy="533880"/>
            <a:chOff x="1692360" y="2941560"/>
            <a:chExt cx="3190680" cy="533880"/>
          </a:xfrm>
        </p:grpSpPr>
        <p:sp>
          <p:nvSpPr>
            <p:cNvPr id="477" name=""/>
            <p:cNvSpPr/>
            <p:nvPr/>
          </p:nvSpPr>
          <p:spPr>
            <a:xfrm>
              <a:off x="1692360" y="2941560"/>
              <a:ext cx="3190680" cy="5029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92360" y="2992680"/>
              <a:ext cx="3043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ctivate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DinoList_</a:t>
              </a: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Default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_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28920" y="5640480"/>
            <a:ext cx="1676160" cy="380880"/>
            <a:chOff x="2428920" y="5640480"/>
            <a:chExt cx="1676160" cy="380880"/>
          </a:xfrm>
        </p:grpSpPr>
        <p:sp>
          <p:nvSpPr>
            <p:cNvPr id="480" name=""/>
            <p:cNvSpPr/>
            <p:nvPr/>
          </p:nvSpPr>
          <p:spPr>
            <a:xfrm>
              <a:off x="2428920" y="5640480"/>
              <a:ext cx="1676160" cy="380880"/>
            </a:xfrm>
            <a:prstGeom prst="hexagon">
              <a:avLst>
                <a:gd name="adj" fmla="val 110019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28920" y="5640480"/>
              <a:ext cx="1676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819440" y="3860640"/>
            <a:ext cx="1672920" cy="1584000"/>
            <a:chOff x="1819440" y="3860640"/>
            <a:chExt cx="1672920" cy="1584000"/>
          </a:xfrm>
        </p:grpSpPr>
        <p:sp>
          <p:nvSpPr>
            <p:cNvPr id="483" name=""/>
            <p:cNvSpPr/>
            <p:nvPr/>
          </p:nvSpPr>
          <p:spPr>
            <a:xfrm>
              <a:off x="1819440" y="3976560"/>
              <a:ext cx="339480" cy="507240"/>
            </a:xfrm>
            <a:prstGeom prst="flowChartCollat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89000" y="4230360"/>
              <a:ext cx="127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89080" y="3860640"/>
              <a:ext cx="1403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calTi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5240" y="4484160"/>
              <a:ext cx="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820520" y="5123880"/>
              <a:ext cx="28908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20880" y="5123880"/>
              <a:ext cx="28908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65240" y="528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1701720" y="2421000"/>
            <a:ext cx="31575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mtc:httpPort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:httpTestSystemP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781360" y="6275520"/>
            <a:ext cx="3778200" cy="144360"/>
            <a:chOff x="2781360" y="6275520"/>
            <a:chExt cx="3778200" cy="144360"/>
          </a:xfrm>
        </p:grpSpPr>
        <p:sp>
          <p:nvSpPr>
            <p:cNvPr id="492" name=""/>
            <p:cNvSpPr/>
            <p:nvPr/>
          </p:nvSpPr>
          <p:spPr>
            <a:xfrm>
              <a:off x="2781360" y="6275520"/>
              <a:ext cx="936720" cy="1443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22840" y="6275520"/>
              <a:ext cx="936720" cy="1443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Overview on TTCN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TTCN-3 applied t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TTCN-3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1219320" y="5049720"/>
            <a:ext cx="6932880" cy="817560"/>
            <a:chOff x="1219320" y="5049720"/>
            <a:chExt cx="6932880" cy="817560"/>
          </a:xfrm>
        </p:grpSpPr>
        <p:sp>
          <p:nvSpPr>
            <p:cNvPr id="497" name=""/>
            <p:cNvSpPr/>
            <p:nvPr/>
          </p:nvSpPr>
          <p:spPr>
            <a:xfrm>
              <a:off x="1219320" y="5049720"/>
              <a:ext cx="6932880" cy="817560"/>
            </a:xfrm>
            <a:prstGeom prst="rect">
              <a:avLst/>
            </a:prstGeom>
            <a:solidFill>
              <a:srgbClr val="006b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85840" y="5253840"/>
              <a:ext cx="5132520" cy="40284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219320" y="4587840"/>
            <a:ext cx="6933960" cy="525600"/>
            <a:chOff x="1219320" y="4587840"/>
            <a:chExt cx="6933960" cy="525600"/>
          </a:xfrm>
        </p:grpSpPr>
        <p:sp>
          <p:nvSpPr>
            <p:cNvPr id="500" name=""/>
            <p:cNvSpPr/>
            <p:nvPr/>
          </p:nvSpPr>
          <p:spPr>
            <a:xfrm>
              <a:off x="1219320" y="4587840"/>
              <a:ext cx="6933960" cy="466920"/>
            </a:xfrm>
            <a:prstGeom prst="rect">
              <a:avLst/>
            </a:prstGeom>
            <a:solidFill>
              <a:srgbClr val="00b7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16040" y="4646520"/>
              <a:ext cx="62071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Courier New"/>
                </a:rPr>
                <a:t>Real Test System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838080" y="1523880"/>
            <a:ext cx="7620120" cy="312444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Test</a:t>
            </a: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 Execution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19320" y="1828800"/>
            <a:ext cx="6933960" cy="2298600"/>
            <a:chOff x="1219320" y="1828800"/>
            <a:chExt cx="6933960" cy="2298600"/>
          </a:xfrm>
        </p:grpSpPr>
        <p:sp>
          <p:nvSpPr>
            <p:cNvPr id="505" name=""/>
            <p:cNvSpPr/>
            <p:nvPr/>
          </p:nvSpPr>
          <p:spPr>
            <a:xfrm>
              <a:off x="1219320" y="1851120"/>
              <a:ext cx="6933960" cy="227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85920" y="1828800"/>
              <a:ext cx="19144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Test </a:t>
              </a: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219320" y="4121280"/>
            <a:ext cx="69339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Abstract Test System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482840" y="2357280"/>
            <a:ext cx="6076800" cy="1011240"/>
            <a:chOff x="1482840" y="2357280"/>
            <a:chExt cx="6076800" cy="1011240"/>
          </a:xfrm>
        </p:grpSpPr>
        <p:sp>
          <p:nvSpPr>
            <p:cNvPr id="509" name=""/>
            <p:cNvSpPr/>
            <p:nvPr/>
          </p:nvSpPr>
          <p:spPr>
            <a:xfrm>
              <a:off x="6200640" y="2357280"/>
              <a:ext cx="1359000" cy="1011240"/>
            </a:xfrm>
            <a:prstGeom prst="rect">
              <a:avLst/>
            </a:prstGeom>
            <a:solidFill>
              <a:srgbClr val="00b7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72360" y="2610000"/>
              <a:ext cx="1003320" cy="498240"/>
            </a:xfrm>
            <a:prstGeom prst="rect">
              <a:avLst/>
            </a:pr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1482840" y="2357280"/>
              <a:ext cx="1380960" cy="1010880"/>
              <a:chOff x="1482840" y="2357280"/>
              <a:chExt cx="1380960" cy="1010880"/>
            </a:xfrm>
          </p:grpSpPr>
          <p:sp>
            <p:nvSpPr>
              <p:cNvPr id="512" name=""/>
              <p:cNvSpPr/>
              <p:nvPr/>
            </p:nvSpPr>
            <p:spPr>
              <a:xfrm>
                <a:off x="1482840" y="2357280"/>
                <a:ext cx="1380960" cy="1010880"/>
              </a:xfrm>
              <a:prstGeom prst="rect">
                <a:avLst/>
              </a:prstGeom>
              <a:solidFill>
                <a:srgbClr val="00b7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55280" y="2610000"/>
                <a:ext cx="1022400" cy="49824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C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2606400" y="2073240"/>
            <a:ext cx="3875400" cy="1354320"/>
            <a:chOff x="2606400" y="2073240"/>
            <a:chExt cx="3875400" cy="1354320"/>
          </a:xfrm>
        </p:grpSpPr>
        <p:sp>
          <p:nvSpPr>
            <p:cNvPr id="515" name=""/>
            <p:cNvSpPr/>
            <p:nvPr/>
          </p:nvSpPr>
          <p:spPr>
            <a:xfrm>
              <a:off x="2936880" y="2209680"/>
              <a:ext cx="316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36880" y="3251160"/>
              <a:ext cx="330192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OUT                  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67000" y="2073240"/>
              <a:ext cx="2502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urier New"/>
                </a:rPr>
                <a:t>Connected 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5313240" y="2901960"/>
              <a:ext cx="1168560" cy="293760"/>
              <a:chOff x="5313240" y="2901960"/>
              <a:chExt cx="1168560" cy="293760"/>
            </a:xfrm>
          </p:grpSpPr>
          <p:sp>
            <p:nvSpPr>
              <p:cNvPr id="519" name=""/>
              <p:cNvSpPr/>
              <p:nvPr/>
            </p:nvSpPr>
            <p:spPr>
              <a:xfrm>
                <a:off x="5479920" y="2901960"/>
                <a:ext cx="166680" cy="29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646960" y="2901960"/>
                <a:ext cx="166680" cy="29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0" y="2901960"/>
                <a:ext cx="166680" cy="29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981040" y="2901960"/>
                <a:ext cx="166680" cy="29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47720" y="2901960"/>
                <a:ext cx="166680" cy="29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14760" y="2901960"/>
                <a:ext cx="166680" cy="29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313240" y="2901960"/>
                <a:ext cx="116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313240" y="3195720"/>
                <a:ext cx="116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flipH="1">
              <a:off x="3794040" y="2668680"/>
              <a:ext cx="2114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02040" y="3076560"/>
              <a:ext cx="2179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606400" y="2491920"/>
              <a:ext cx="1166760" cy="294840"/>
              <a:chOff x="2606400" y="2491920"/>
              <a:chExt cx="1166760" cy="294840"/>
            </a:xfrm>
          </p:grpSpPr>
          <p:sp>
            <p:nvSpPr>
              <p:cNvPr id="530" name=""/>
              <p:cNvSpPr/>
              <p:nvPr/>
            </p:nvSpPr>
            <p:spPr>
              <a:xfrm rot="10800000">
                <a:off x="3439800" y="2491920"/>
                <a:ext cx="166680" cy="29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0800000">
                <a:off x="3274200" y="2492640"/>
                <a:ext cx="166680" cy="29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0800000">
                <a:off x="3106440" y="2491920"/>
                <a:ext cx="166680" cy="29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0800000">
                <a:off x="2939760" y="2491920"/>
                <a:ext cx="166680" cy="29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0800000">
                <a:off x="2773080" y="2491920"/>
                <a:ext cx="166680" cy="29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0800000">
                <a:off x="2606400" y="2491920"/>
                <a:ext cx="166680" cy="29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606400" y="278640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2606400" y="2492280"/>
                <a:ext cx="11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4322880" y="3135240"/>
            <a:ext cx="3570120" cy="1568520"/>
            <a:chOff x="4322880" y="3135240"/>
            <a:chExt cx="3570120" cy="1568520"/>
          </a:xfrm>
        </p:grpSpPr>
        <p:grpSp>
          <p:nvGrpSpPr>
            <p:cNvPr id="539" name=""/>
            <p:cNvGrpSpPr/>
            <p:nvPr/>
          </p:nvGrpSpPr>
          <p:grpSpPr>
            <a:xfrm>
              <a:off x="7095960" y="3135240"/>
              <a:ext cx="330120" cy="725040"/>
              <a:chOff x="7095960" y="3135240"/>
              <a:chExt cx="330120" cy="725040"/>
            </a:xfrm>
          </p:grpSpPr>
          <p:sp>
            <p:nvSpPr>
              <p:cNvPr id="540" name=""/>
              <p:cNvSpPr/>
              <p:nvPr/>
            </p:nvSpPr>
            <p:spPr>
              <a:xfrm>
                <a:off x="7146720" y="3469680"/>
                <a:ext cx="108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95960" y="3135240"/>
                <a:ext cx="329400" cy="14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095960" y="3280320"/>
                <a:ext cx="329400" cy="14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95960" y="3424680"/>
                <a:ext cx="329400" cy="14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095960" y="3570120"/>
                <a:ext cx="329400" cy="14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95960" y="3715200"/>
                <a:ext cx="108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425360" y="3715200"/>
                <a:ext cx="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59640" y="3602160"/>
              <a:ext cx="3333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73840" y="3602160"/>
              <a:ext cx="500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70560" y="4529160"/>
              <a:ext cx="39528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95960" y="4529160"/>
              <a:ext cx="39708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22880" y="3776760"/>
              <a:ext cx="19159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600" spc="-1" strike="noStrike">
                  <a:solidFill>
                    <a:srgbClr val="000000"/>
                  </a:solidFill>
                  <a:latin typeface="Courier New"/>
                </a:rPr>
                <a:t>Mapped 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9640" y="4184640"/>
              <a:ext cx="3333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73840" y="4184640"/>
              <a:ext cx="5000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294680" y="3893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68920" y="3543480"/>
              <a:ext cx="0" cy="93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838080" y="4495680"/>
            <a:ext cx="7620120" cy="685800"/>
            <a:chOff x="838080" y="4495680"/>
            <a:chExt cx="7620120" cy="685800"/>
          </a:xfrm>
        </p:grpSpPr>
        <p:sp>
          <p:nvSpPr>
            <p:cNvPr id="557" name=""/>
            <p:cNvSpPr/>
            <p:nvPr/>
          </p:nvSpPr>
          <p:spPr>
            <a:xfrm>
              <a:off x="838080" y="4495680"/>
              <a:ext cx="7620120" cy="685800"/>
            </a:xfrm>
            <a:prstGeom prst="flowChartAlternate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1219320" y="4572000"/>
              <a:ext cx="6933960" cy="525600"/>
              <a:chOff x="1219320" y="4572000"/>
              <a:chExt cx="6933960" cy="525600"/>
            </a:xfrm>
          </p:grpSpPr>
          <p:sp>
            <p:nvSpPr>
              <p:cNvPr id="559" name=""/>
              <p:cNvSpPr/>
              <p:nvPr/>
            </p:nvSpPr>
            <p:spPr>
              <a:xfrm>
                <a:off x="1219320" y="4572000"/>
                <a:ext cx="6933960" cy="466920"/>
              </a:xfrm>
              <a:prstGeom prst="rect">
                <a:avLst/>
              </a:prstGeom>
              <a:solidFill>
                <a:srgbClr val="00b7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616040" y="4630680"/>
                <a:ext cx="62071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2000" spc="-1" strike="noStrike">
                    <a:solidFill>
                      <a:srgbClr val="000000"/>
                    </a:solidFill>
                    <a:latin typeface="Courier New"/>
                  </a:rPr>
                  <a:t>Real Test System 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1" name=""/>
          <p:cNvSpPr/>
          <p:nvPr/>
        </p:nvSpPr>
        <p:spPr>
          <a:xfrm>
            <a:off x="2514600" y="2057400"/>
            <a:ext cx="4038480" cy="1523880"/>
          </a:xfrm>
          <a:prstGeom prst="flowChartAlternateProcess">
            <a:avLst/>
          </a:prstGeom>
          <a:solidFill>
            <a:srgbClr val="ffcc99">
              <a:alpha val="50000"/>
            </a:srgbClr>
          </a:solidFill>
          <a:ln w="507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6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verview on TTCN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TTCN-3 applied t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TTCN-3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Test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TTCN-3 Execution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332000" y="2739960"/>
            <a:ext cx="7224480" cy="2854440"/>
          </a:xfrm>
          <a:prstGeom prst="roundRect">
            <a:avLst>
              <a:gd name="adj" fmla="val 16667"/>
            </a:avLst>
          </a:prstGeom>
          <a:solidFill>
            <a:srgbClr val="d3d1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32000" y="2133720"/>
            <a:ext cx="7224480" cy="54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System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95640" y="3692520"/>
            <a:ext cx="3600360" cy="12812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36640" y="2862360"/>
            <a:ext cx="6423120" cy="54612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M: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32000" y="5654520"/>
            <a:ext cx="7224480" cy="546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Under Test (S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6879240" y="3773880"/>
            <a:ext cx="1465560" cy="107964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D: Co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1515240" y="3802680"/>
            <a:ext cx="1455840" cy="101304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H: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682720" y="4156200"/>
            <a:ext cx="449280" cy="338040"/>
          </a:xfrm>
          <a:prstGeom prst="leftRightArrow">
            <a:avLst>
              <a:gd name="adj1" fmla="val 50000"/>
              <a:gd name="adj2" fmla="val 26458"/>
            </a:avLst>
          </a:prstGeom>
          <a:gradFill rotWithShape="0">
            <a:gsLst>
              <a:gs pos="0">
                <a:srgbClr val="00cc66"/>
              </a:gs>
              <a:gs pos="100000">
                <a:srgbClr val="a50021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659640" y="4156200"/>
            <a:ext cx="449280" cy="338040"/>
          </a:xfrm>
          <a:prstGeom prst="leftRightArrow">
            <a:avLst>
              <a:gd name="adj1" fmla="val 50000"/>
              <a:gd name="adj2" fmla="val 26458"/>
            </a:avLst>
          </a:prstGeom>
          <a:gradFill rotWithShape="0">
            <a:gsLst>
              <a:gs pos="0">
                <a:srgbClr val="a50021"/>
              </a:gs>
              <a:gs pos="100000">
                <a:srgbClr val="00cc6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rot="16200000">
            <a:off x="4692960" y="3362040"/>
            <a:ext cx="403200" cy="374760"/>
          </a:xfrm>
          <a:prstGeom prst="leftRightArrow">
            <a:avLst>
              <a:gd name="adj1" fmla="val 50000"/>
              <a:gd name="adj2" fmla="val 21418"/>
            </a:avLst>
          </a:prstGeom>
          <a:gradFill rotWithShape="0">
            <a:gsLst>
              <a:gs pos="0">
                <a:srgbClr val="a50021"/>
              </a:gs>
              <a:gs pos="100000">
                <a:srgbClr val="00cc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36640" y="5168880"/>
            <a:ext cx="3038400" cy="3650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A: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46840" y="5168880"/>
            <a:ext cx="3105000" cy="3650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A: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83200" y="4965840"/>
            <a:ext cx="299880" cy="25236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00cc99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334040" y="4965840"/>
            <a:ext cx="299880" cy="25236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00cc99"/>
              </a:gs>
              <a:gs pos="100000">
                <a:srgbClr val="3366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" y="1447920"/>
            <a:ext cx="8507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c XML adaptor that adheres to the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TTCN-3 Runtime Interface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daptation to the S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18040" y="2276640"/>
            <a:ext cx="7653960" cy="3995280"/>
            <a:chOff x="518040" y="2276640"/>
            <a:chExt cx="7653960" cy="3995280"/>
          </a:xfrm>
        </p:grpSpPr>
        <p:sp>
          <p:nvSpPr>
            <p:cNvPr id="581" name=""/>
            <p:cNvSpPr/>
            <p:nvPr/>
          </p:nvSpPr>
          <p:spPr>
            <a:xfrm>
              <a:off x="1439280" y="2872800"/>
              <a:ext cx="6732720" cy="2802960"/>
            </a:xfrm>
            <a:prstGeom prst="roundRect">
              <a:avLst>
                <a:gd name="adj" fmla="val 16667"/>
              </a:avLst>
            </a:prstGeom>
            <a:solidFill>
              <a:srgbClr val="d3d1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39280" y="2276640"/>
              <a:ext cx="6732720" cy="536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 System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82680" y="3808080"/>
              <a:ext cx="3356280" cy="1258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16560" y="2992680"/>
              <a:ext cx="5985360" cy="5353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M: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39280" y="5735160"/>
              <a:ext cx="6732720" cy="5367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stem Under Test (SU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6571440" y="3914280"/>
              <a:ext cx="1440360" cy="10065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CD: CoD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200000">
              <a:off x="1572840" y="3941280"/>
              <a:ext cx="1431000" cy="9435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CH: 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omponent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Hand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97840" y="4263840"/>
              <a:ext cx="419400" cy="330840"/>
            </a:xfrm>
            <a:prstGeom prst="leftRightArrow">
              <a:avLst>
                <a:gd name="adj1" fmla="val 50000"/>
                <a:gd name="adj2" fmla="val 25236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402960" y="4263840"/>
              <a:ext cx="419400" cy="330840"/>
            </a:xfrm>
            <a:prstGeom prst="leftRightArrow">
              <a:avLst>
                <a:gd name="adj1" fmla="val 50000"/>
                <a:gd name="adj2" fmla="val 25236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16200000">
              <a:off x="4561920" y="3493080"/>
              <a:ext cx="397440" cy="349200"/>
            </a:xfrm>
            <a:prstGeom prst="leftRightArrow">
              <a:avLst>
                <a:gd name="adj1" fmla="val 50000"/>
                <a:gd name="adj2" fmla="val 2265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816560" y="5257800"/>
              <a:ext cx="2831400" cy="3585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SA: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00320" y="5257800"/>
              <a:ext cx="2894400" cy="3585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PA: T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35600" y="5059080"/>
              <a:ext cx="279720" cy="248040"/>
            </a:xfrm>
            <a:prstGeom prst="upDownArrow">
              <a:avLst>
                <a:gd name="adj1" fmla="val 50000"/>
                <a:gd name="adj2" fmla="val 1990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3366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36120" y="5059080"/>
              <a:ext cx="279720" cy="248040"/>
            </a:xfrm>
            <a:prstGeom prst="upDownArrow">
              <a:avLst>
                <a:gd name="adj1" fmla="val 50000"/>
                <a:gd name="adj2" fmla="val 1990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3366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040" y="499248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T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46880" y="5191200"/>
              <a:ext cx="1957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59560" y="5191200"/>
              <a:ext cx="251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b61"/>
                </a:solidFill>
                <a:latin typeface="Arial"/>
              </a:rPr>
              <a:t>TTCN-3 Control Interface</a:t>
            </a: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daptation to the test platform/tes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70880" y="2133720"/>
            <a:ext cx="7869960" cy="4138200"/>
            <a:chOff x="470880" y="2133720"/>
            <a:chExt cx="7869960" cy="4138200"/>
          </a:xfrm>
        </p:grpSpPr>
        <p:sp>
          <p:nvSpPr>
            <p:cNvPr id="601" name=""/>
            <p:cNvSpPr/>
            <p:nvPr/>
          </p:nvSpPr>
          <p:spPr>
            <a:xfrm>
              <a:off x="1423440" y="2751120"/>
              <a:ext cx="6917400" cy="2903400"/>
            </a:xfrm>
            <a:prstGeom prst="roundRect">
              <a:avLst>
                <a:gd name="adj" fmla="val 16667"/>
              </a:avLst>
            </a:prstGeom>
            <a:solidFill>
              <a:srgbClr val="d3d1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23440" y="2133720"/>
              <a:ext cx="6917400" cy="5558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 System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11480" y="3720240"/>
              <a:ext cx="3448080" cy="1303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10800" y="2875320"/>
              <a:ext cx="6149520" cy="554400"/>
            </a:xfrm>
            <a:prstGeom prst="roundRect">
              <a:avLst>
                <a:gd name="adj" fmla="val 16667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M: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23440" y="5715720"/>
              <a:ext cx="6917400" cy="5562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stem Under Test (SU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6200000">
              <a:off x="6689520" y="3834720"/>
              <a:ext cx="1492200" cy="1033920"/>
            </a:xfrm>
            <a:prstGeom prst="roundRect">
              <a:avLst>
                <a:gd name="adj" fmla="val 16667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CD: CoD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6200000">
              <a:off x="1554120" y="3862440"/>
              <a:ext cx="1482480" cy="969480"/>
            </a:xfrm>
            <a:prstGeom prst="roundRect">
              <a:avLst>
                <a:gd name="adj" fmla="val 16667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CH: 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omponent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Hand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16560" y="4192200"/>
              <a:ext cx="430920" cy="342720"/>
            </a:xfrm>
            <a:prstGeom prst="leftRightArrow">
              <a:avLst>
                <a:gd name="adj1" fmla="val 50000"/>
                <a:gd name="adj2" fmla="val 25030"/>
              </a:avLst>
            </a:prstGeom>
            <a:gradFill rotWithShape="0">
              <a:gsLst>
                <a:gs pos="0">
                  <a:srgbClr val="00cc66"/>
                </a:gs>
                <a:gs pos="100000">
                  <a:srgbClr val="a5002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523200" y="4192200"/>
              <a:ext cx="430920" cy="342720"/>
            </a:xfrm>
            <a:prstGeom prst="leftRightArrow">
              <a:avLst>
                <a:gd name="adj1" fmla="val 50000"/>
                <a:gd name="adj2" fmla="val 25030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rot="16200000">
              <a:off x="4628880" y="3394800"/>
              <a:ext cx="411480" cy="358920"/>
            </a:xfrm>
            <a:prstGeom prst="leftRightArrow">
              <a:avLst>
                <a:gd name="adj1" fmla="val 50000"/>
                <a:gd name="adj2" fmla="val 22822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00cc6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10800" y="5221440"/>
              <a:ext cx="2909160" cy="371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SA: Commun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79160" y="5221440"/>
              <a:ext cx="2973600" cy="371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PA: Ti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15160" y="5015520"/>
              <a:ext cx="287280" cy="2570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96600" y="5015520"/>
              <a:ext cx="287280" cy="2570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31840" y="3531600"/>
              <a:ext cx="3807360" cy="1072080"/>
            </a:xfrm>
            <a:custGeom>
              <a:avLst/>
              <a:gdLst/>
              <a:ahLst/>
              <a:rect l="l" t="t" r="r" b="b"/>
              <a:pathLst>
                <a:path w="2544" h="1008">
                  <a:moveTo>
                    <a:pt x="0" y="1008"/>
                  </a:moveTo>
                  <a:lnTo>
                    <a:pt x="0" y="0"/>
                  </a:lnTo>
                  <a:lnTo>
                    <a:pt x="2544" y="0"/>
                  </a:lnTo>
                  <a:lnTo>
                    <a:pt x="2544" y="10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0880" y="330012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T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35800" y="3531600"/>
              <a:ext cx="186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Summary of TTCN-3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ersion of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he only standardized test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Moder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gramming-like test specification with flexible data support and various representation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Wider scop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 to many kinds of test applications not just conformance (development, system, integration, interoperability, scalability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 in the datacom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Harm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hoice for test specifiers, implementors and users both for standardized test suit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generic solution in industrial softwar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uccessfully sh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applicable to testing of IDL and XML interfaces, Java and C++ class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717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990033"/>
                </a:solidFill>
                <a:latin typeface="Arial"/>
              </a:rPr>
              <a:t>Thank You.</a:t>
            </a:r>
            <a:br>
              <a:rPr sz="6600"/>
            </a:br>
            <a:br>
              <a:rPr sz="6600"/>
            </a:br>
            <a:r>
              <a:rPr b="0" i="1" lang="de-DE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Frutiger 55 Roman"/>
              </a:rPr>
              <a:t>The TTCN-3 Set of Standards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TSI ES 201 873-1</a:t>
            </a:r>
            <a:r>
              <a:rPr b="0" lang="fr-FR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00b7a5"/>
                </a:solidFill>
                <a:latin typeface="Frutiger 55 Roman"/>
                <a:ea typeface="Arial"/>
              </a:rPr>
              <a:t>TTCN-3 Core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TSI ES 201 873-2</a:t>
            </a:r>
            <a:r>
              <a:rPr b="0" lang="fr-FR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00b7a5"/>
                </a:solidFill>
                <a:latin typeface="Frutiger 55 Roman"/>
                <a:ea typeface="Arial"/>
              </a:rPr>
              <a:t>TTCN-3 Tabular Presentatio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TSI </a:t>
            </a:r>
            <a:r>
              <a:rPr b="0" lang="fr-FR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S 201 </a:t>
            </a: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873-3</a:t>
            </a: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b7a5"/>
                </a:solidFill>
                <a:latin typeface="Frutiger 55 Roman"/>
                <a:ea typeface="Arial"/>
              </a:rPr>
              <a:t>TTCN-3 Graphical Presentatio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TSI </a:t>
            </a:r>
            <a:r>
              <a:rPr b="0" lang="fr-FR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S 201 </a:t>
            </a: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873-4</a:t>
            </a: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b7a5"/>
                </a:solidFill>
                <a:latin typeface="Frutiger 55 Roman"/>
                <a:ea typeface="Arial"/>
              </a:rPr>
              <a:t>TTCN-3 TTCN-3 Seman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TSI </a:t>
            </a:r>
            <a:r>
              <a:rPr b="0" lang="fr-FR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S 201 </a:t>
            </a: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873-5</a:t>
            </a: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b7a5"/>
                </a:solidFill>
                <a:latin typeface="Frutiger 55 Roman"/>
                <a:ea typeface="Arial"/>
              </a:rPr>
              <a:t>The TTCN-3 Runtim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TSI </a:t>
            </a:r>
            <a:r>
              <a:rPr b="0" lang="fr-FR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ES 201 </a:t>
            </a: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873-6</a:t>
            </a:r>
            <a:r>
              <a:rPr b="0" lang="en-US" sz="2400" spc="-1" strike="noStrike">
                <a:solidFill>
                  <a:srgbClr val="000000"/>
                </a:solidFill>
                <a:latin typeface="Frutiger 55 Roman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b7a5"/>
                </a:solidFill>
                <a:latin typeface="Frutiger 55 Roman"/>
                <a:ea typeface="Arial"/>
              </a:rPr>
              <a:t>The TTCN-3 Contro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TCN-3 is the Testing and Test Control No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w </a:t>
            </a: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standardi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st specification and test implementa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d from 1999 – 2002 at the European Telecommunications Standards Institute (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ed based on </a:t>
            </a: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experie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previous TTCN e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al of OSI specific concepts; Improvement of concepts; Introduction of new conce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ble for all kinds of </a:t>
            </a: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black-bo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sting for </a:t>
            </a: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reac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distribu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ystems, e.g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 systems (ISDN, ATM, GSM, UMTS); Internet (IP, IP based protocols and applications); Software systems (Java, XML); Middleware platforms and component-based systems (CORBA, .Net, EJB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Overview on TTCN-3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71640" y="5508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50872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80120" y="5087880"/>
            <a:ext cx="127296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Presentation Format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Frutiger 55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533480" y="3809880"/>
            <a:ext cx="74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712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2712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76920" y="4440240"/>
            <a:ext cx="0" cy="420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103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2960" y="1914480"/>
            <a:ext cx="0" cy="3997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92960" y="4049640"/>
            <a:ext cx="496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0120" y="3389400"/>
            <a:ext cx="127296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400" spc="-1" strike="noStrike">
                <a:solidFill>
                  <a:srgbClr val="000000"/>
                </a:solidFill>
                <a:latin typeface="Frutiger 55 Roman"/>
              </a:rPr>
              <a:t>Graphical   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73320" y="4440240"/>
            <a:ext cx="0" cy="420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380988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0120" y="2328840"/>
            <a:ext cx="127296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 55 Roman"/>
              </a:rPr>
              <a:t>Tabula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41600" y="1946160"/>
            <a:ext cx="1206720" cy="3997440"/>
          </a:xfrm>
          <a:prstGeom prst="rect">
            <a:avLst/>
          </a:prstGeom>
          <a:solidFill>
            <a:srgbClr val="006b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utiger 55 Roman"/>
              </a:rPr>
              <a:t>TTCN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utiger 55 Roman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utiger 55 Roman"/>
              </a:rPr>
              <a:t>Language</a:t>
            </a:r>
            <a:r>
              <a:rPr b="1" lang="en-US" sz="1400" spc="-1" strike="noStrike">
                <a:solidFill>
                  <a:srgbClr val="ffffff"/>
                </a:solidFill>
                <a:latin typeface="Frutiger 55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1600200"/>
            <a:ext cx="1981080" cy="4648320"/>
          </a:xfrm>
          <a:prstGeom prst="ellipse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1600200"/>
            <a:ext cx="1981440" cy="4648320"/>
          </a:xfrm>
          <a:prstGeom prst="ellipse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1600200"/>
            <a:ext cx="1981440" cy="4648320"/>
          </a:xfrm>
          <a:prstGeom prst="ellipse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55227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102280"/>
            <a:ext cx="111744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Other Types &amp; Value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Frutiger 55 Roman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1600200"/>
            <a:ext cx="1981080" cy="4648320"/>
          </a:xfrm>
          <a:prstGeom prst="ellipse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76520" y="2967120"/>
            <a:ext cx="1765080" cy="841320"/>
            <a:chOff x="1676520" y="2967120"/>
            <a:chExt cx="1765080" cy="841320"/>
          </a:xfrm>
        </p:grpSpPr>
        <p:sp>
          <p:nvSpPr>
            <p:cNvPr id="117" name=""/>
            <p:cNvSpPr/>
            <p:nvPr/>
          </p:nvSpPr>
          <p:spPr>
            <a:xfrm>
              <a:off x="1676520" y="2967120"/>
              <a:ext cx="1117440" cy="841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Other Types &amp; Value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Frutiger 55 Roman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3960" y="33876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676520" y="1978200"/>
            <a:ext cx="1117440" cy="84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 55 Roman"/>
              </a:rPr>
              <a:t>ASN.1 Types &amp;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93960" y="2398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956720" y="3573360"/>
            <a:ext cx="448920" cy="100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3352680"/>
            <a:ext cx="4952880" cy="3124440"/>
          </a:xfrm>
          <a:prstGeom prst="wedgeRoundRectCallout">
            <a:avLst>
              <a:gd name="adj1" fmla="val 22148"/>
              <a:gd name="adj2" fmla="val -59351"/>
              <a:gd name="adj3" fmla="val 16667"/>
            </a:avLst>
          </a:prstGeom>
          <a:solidFill>
            <a:srgbClr val="ffffff"/>
          </a:solidFill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testcase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 myTestcase () 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runs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on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 MTCType 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system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 TSI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{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mydefault := 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activate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 (OtherwiseFail); 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verdict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.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set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pass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);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connect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(PTC_ISAP1:CP_ISAP1,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mtc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:CP_ISAP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map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(PTC_ISAP1:ISAP1, 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system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:TSI_ISAP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PTC_ISAP1.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start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(func_PTC_ISAP1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PTC_MSAP2.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start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(func_PTC_MSAP2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Synchronization(); </a:t>
            </a:r>
            <a:br>
              <a:rPr sz="1000"/>
            </a:b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all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component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.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done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log</a:t>
            </a:r>
            <a:r>
              <a:rPr b="0" lang="en-US" sz="1000" spc="-1" strike="noStrike">
                <a:solidFill>
                  <a:srgbClr val="006b61"/>
                </a:solidFill>
                <a:latin typeface="Courier New"/>
              </a:rPr>
              <a:t>(”Correct Termination”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b61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b61"/>
                </a:solidFill>
                <a:latin typeface="Courier New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940360" y="1531800"/>
            <a:ext cx="2895840" cy="1752480"/>
            <a:chOff x="5940360" y="1531800"/>
            <a:chExt cx="2895840" cy="1752480"/>
          </a:xfrm>
        </p:grpSpPr>
        <p:sp>
          <p:nvSpPr>
            <p:cNvPr id="124" name=""/>
            <p:cNvSpPr/>
            <p:nvPr/>
          </p:nvSpPr>
          <p:spPr>
            <a:xfrm>
              <a:off x="5940360" y="1531800"/>
              <a:ext cx="2895840" cy="1752480"/>
            </a:xfrm>
            <a:prstGeom prst="wedgeRoundRectCallout">
              <a:avLst>
                <a:gd name="adj1" fmla="val -64037"/>
                <a:gd name="adj2" fmla="val 68930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093000" y="1684080"/>
              <a:ext cx="2590560" cy="1463400"/>
              <a:chOff x="6093000" y="1684080"/>
              <a:chExt cx="2590560" cy="1463400"/>
            </a:xfrm>
          </p:grpSpPr>
          <p:sp>
            <p:nvSpPr>
              <p:cNvPr id="126" name=""/>
              <p:cNvSpPr/>
              <p:nvPr/>
            </p:nvSpPr>
            <p:spPr>
              <a:xfrm>
                <a:off x="6093000" y="1684080"/>
                <a:ext cx="2590560" cy="1463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16760" y="1730160"/>
                <a:ext cx="174600" cy="9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msc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16920" y="1730160"/>
                <a:ext cx="613440" cy="9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i_synch1_conc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53200" y="1758600"/>
                <a:ext cx="2406600" cy="1314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99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72160" y="2358720"/>
                <a:ext cx="1001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571800" y="2661840"/>
                <a:ext cx="1001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72160" y="2107800"/>
                <a:ext cx="0" cy="85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33280" y="2022120"/>
                <a:ext cx="124200" cy="9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t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72160" y="2614320"/>
                <a:ext cx="86040" cy="950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180" y="180"/>
                    </a:moveTo>
                    <a:lnTo>
                      <a:pt x="0" y="92"/>
                    </a:lnTo>
                    <a:lnTo>
                      <a:pt x="18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81800" y="2914200"/>
                <a:ext cx="182520" cy="54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70800" y="2107800"/>
                <a:ext cx="1800" cy="85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83680" y="2022120"/>
                <a:ext cx="215640" cy="9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SAP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483680" y="2312640"/>
                <a:ext cx="87120" cy="9540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0" y="0"/>
                    </a:moveTo>
                    <a:lnTo>
                      <a:pt x="181" y="88"/>
                    </a:lnTo>
                    <a:lnTo>
                      <a:pt x="0" y="18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80440" y="2914200"/>
                <a:ext cx="185760" cy="54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88280" y="2106360"/>
                <a:ext cx="0" cy="85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199720" y="2022120"/>
                <a:ext cx="258120" cy="9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SAP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202600" y="2458800"/>
                <a:ext cx="87480" cy="9504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0" y="0"/>
                    </a:moveTo>
                    <a:lnTo>
                      <a:pt x="181" y="88"/>
                    </a:lnTo>
                    <a:lnTo>
                      <a:pt x="0" y="18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197920" y="2914200"/>
                <a:ext cx="185760" cy="54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570720" y="2501640"/>
                <a:ext cx="171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81800" y="2091960"/>
                <a:ext cx="182520" cy="52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480440" y="2091960"/>
                <a:ext cx="1857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97920" y="2090520"/>
                <a:ext cx="185760" cy="536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5943600" y="3068640"/>
            <a:ext cx="2895480" cy="1752480"/>
            <a:chOff x="5943600" y="3068640"/>
            <a:chExt cx="2895480" cy="1752480"/>
          </a:xfrm>
        </p:grpSpPr>
        <p:sp>
          <p:nvSpPr>
            <p:cNvPr id="149" name=""/>
            <p:cNvSpPr/>
            <p:nvPr/>
          </p:nvSpPr>
          <p:spPr>
            <a:xfrm>
              <a:off x="5943600" y="3068640"/>
              <a:ext cx="2895480" cy="1752480"/>
            </a:xfrm>
            <a:prstGeom prst="wedgeRoundRectCallout">
              <a:avLst>
                <a:gd name="adj1" fmla="val -42324"/>
                <a:gd name="adj2" fmla="val -72009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6057720" y="3182760"/>
              <a:ext cx="26665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28600" y="1736640"/>
            <a:ext cx="8458200" cy="2530440"/>
            <a:chOff x="228600" y="1736640"/>
            <a:chExt cx="8458200" cy="2530440"/>
          </a:xfrm>
        </p:grpSpPr>
        <p:sp>
          <p:nvSpPr>
            <p:cNvPr id="152" name=""/>
            <p:cNvSpPr/>
            <p:nvPr/>
          </p:nvSpPr>
          <p:spPr>
            <a:xfrm>
              <a:off x="228600" y="1752480"/>
              <a:ext cx="8458200" cy="2514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" y="1736640"/>
              <a:ext cx="2819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TCN-3 Test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Cas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TTCN-3</a:t>
            </a: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 – B</a:t>
            </a: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as</a:t>
            </a: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ed</a:t>
            </a: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 Black-Box Test</a:t>
            </a: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ing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5960" y="2425680"/>
            <a:ext cx="2972520" cy="1552680"/>
            <a:chOff x="435960" y="2425680"/>
            <a:chExt cx="2972520" cy="1552680"/>
          </a:xfrm>
        </p:grpSpPr>
        <p:sp>
          <p:nvSpPr>
            <p:cNvPr id="156" name=""/>
            <p:cNvSpPr/>
            <p:nvPr/>
          </p:nvSpPr>
          <p:spPr>
            <a:xfrm flipV="1">
              <a:off x="3408480" y="2894040"/>
              <a:ext cx="0" cy="1084320"/>
            </a:xfrm>
            <a:prstGeom prst="line">
              <a:avLst/>
            </a:prstGeom>
            <a:ln w="57240">
              <a:solidFill>
                <a:srgbClr val="00b7a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5960" y="2425680"/>
              <a:ext cx="28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rt.</a:t>
              </a:r>
              <a:r>
                <a:rPr b="0" lang="en-US" sz="2400" spc="-1" strike="noStrike">
                  <a:solidFill>
                    <a:srgbClr val="990033"/>
                  </a:solidFill>
                  <a:latin typeface="Arial"/>
                </a:rPr>
                <a:t>se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imulu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114080" y="2427120"/>
            <a:ext cx="3381480" cy="1550520"/>
            <a:chOff x="4114080" y="2427120"/>
            <a:chExt cx="3381480" cy="1550520"/>
          </a:xfrm>
        </p:grpSpPr>
        <p:sp>
          <p:nvSpPr>
            <p:cNvPr id="159" name=""/>
            <p:cNvSpPr/>
            <p:nvPr/>
          </p:nvSpPr>
          <p:spPr>
            <a:xfrm flipV="1">
              <a:off x="4475160" y="2910960"/>
              <a:ext cx="0" cy="1066680"/>
            </a:xfrm>
            <a:prstGeom prst="line">
              <a:avLst/>
            </a:prstGeom>
            <a:ln w="57240">
              <a:solidFill>
                <a:srgbClr val="00b7a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4080" y="2427120"/>
              <a:ext cx="33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rt.</a:t>
              </a:r>
              <a:r>
                <a:rPr b="0" lang="en-US" sz="2400" spc="-1" strike="noStrike">
                  <a:solidFill>
                    <a:srgbClr val="990033"/>
                  </a:solidFill>
                  <a:latin typeface="Arial"/>
                </a:rPr>
                <a:t>receiv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036880" y="3825720"/>
            <a:ext cx="3809880" cy="2362320"/>
            <a:chOff x="2036880" y="3825720"/>
            <a:chExt cx="3809880" cy="2362320"/>
          </a:xfrm>
        </p:grpSpPr>
        <p:sp>
          <p:nvSpPr>
            <p:cNvPr id="162" name=""/>
            <p:cNvSpPr/>
            <p:nvPr/>
          </p:nvSpPr>
          <p:spPr>
            <a:xfrm>
              <a:off x="2036880" y="4359240"/>
              <a:ext cx="380988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nder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7240" y="3825720"/>
              <a:ext cx="1828800" cy="1143000"/>
            </a:xfrm>
            <a:prstGeom prst="ellipse">
              <a:avLst/>
            </a:prstGeom>
            <a:solidFill>
              <a:srgbClr val="00b7a5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08480" y="4054320"/>
              <a:ext cx="1066680" cy="459720"/>
            </a:xfrm>
            <a:prstGeom prst="rect">
              <a:avLst/>
            </a:pr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324480" y="297036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Verd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514600"/>
            <a:ext cx="8686800" cy="3657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514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TCN-3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5638680"/>
            <a:ext cx="15228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886200" y="2590920"/>
            <a:ext cx="762120" cy="838080"/>
            <a:chOff x="3886200" y="2590920"/>
            <a:chExt cx="762120" cy="838080"/>
          </a:xfrm>
        </p:grpSpPr>
        <p:sp>
          <p:nvSpPr>
            <p:cNvPr id="170" name=""/>
            <p:cNvSpPr/>
            <p:nvPr/>
          </p:nvSpPr>
          <p:spPr>
            <a:xfrm>
              <a:off x="3886200" y="2590920"/>
              <a:ext cx="3808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2666880"/>
              <a:ext cx="763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19320" y="2590920"/>
            <a:ext cx="1981080" cy="2743200"/>
            <a:chOff x="1219320" y="2590920"/>
            <a:chExt cx="1981080" cy="2743200"/>
          </a:xfrm>
        </p:grpSpPr>
        <p:grpSp>
          <p:nvGrpSpPr>
            <p:cNvPr id="173" name=""/>
            <p:cNvGrpSpPr/>
            <p:nvPr/>
          </p:nvGrpSpPr>
          <p:grpSpPr>
            <a:xfrm>
              <a:off x="2209680" y="2590920"/>
              <a:ext cx="990720" cy="2743200"/>
              <a:chOff x="2209680" y="2590920"/>
              <a:chExt cx="990720" cy="2743200"/>
            </a:xfrm>
          </p:grpSpPr>
          <p:sp>
            <p:nvSpPr>
              <p:cNvPr id="174" name=""/>
              <p:cNvSpPr/>
              <p:nvPr/>
            </p:nvSpPr>
            <p:spPr>
              <a:xfrm flipH="1">
                <a:off x="2209680" y="2590920"/>
                <a:ext cx="99072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09680" y="4419720"/>
                <a:ext cx="53352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219320" y="3276720"/>
              <a:ext cx="1981080" cy="1252440"/>
              <a:chOff x="1219320" y="3276720"/>
              <a:chExt cx="1981080" cy="125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1219320" y="342900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81080" y="3276720"/>
                <a:ext cx="38124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43000" y="4300560"/>
                <a:ext cx="38124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2548080" y="2666880"/>
            <a:ext cx="5681520" cy="3200400"/>
            <a:chOff x="2548080" y="2666880"/>
            <a:chExt cx="5681520" cy="3200400"/>
          </a:xfrm>
        </p:grpSpPr>
        <p:grpSp>
          <p:nvGrpSpPr>
            <p:cNvPr id="181" name=""/>
            <p:cNvGrpSpPr/>
            <p:nvPr/>
          </p:nvGrpSpPr>
          <p:grpSpPr>
            <a:xfrm>
              <a:off x="5715000" y="3276720"/>
              <a:ext cx="2514600" cy="1600200"/>
              <a:chOff x="5715000" y="3276720"/>
              <a:chExt cx="2514600" cy="1600200"/>
            </a:xfrm>
          </p:grpSpPr>
          <p:sp>
            <p:nvSpPr>
              <p:cNvPr id="182" name=""/>
              <p:cNvSpPr/>
              <p:nvPr/>
            </p:nvSpPr>
            <p:spPr>
              <a:xfrm>
                <a:off x="5943600" y="358128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95880" y="3733920"/>
                <a:ext cx="1981440" cy="99036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48520" y="388620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91320" y="342900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600" y="32767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29400" y="32767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15000" y="38275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548080" y="4767120"/>
              <a:ext cx="2176200" cy="1100160"/>
              <a:chOff x="2548080" y="4767120"/>
              <a:chExt cx="2176200" cy="1100160"/>
            </a:xfrm>
          </p:grpSpPr>
          <p:sp>
            <p:nvSpPr>
              <p:cNvPr id="190" name=""/>
              <p:cNvSpPr/>
              <p:nvPr/>
            </p:nvSpPr>
            <p:spPr>
              <a:xfrm>
                <a:off x="2743200" y="4876920"/>
                <a:ext cx="1981080" cy="99036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14800" y="47671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00400" y="47671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48080" y="518148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800600" y="2666880"/>
              <a:ext cx="1600200" cy="2819520"/>
              <a:chOff x="4800600" y="2666880"/>
              <a:chExt cx="1600200" cy="28195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4800600" y="4434120"/>
                <a:ext cx="914400" cy="1052280"/>
                <a:chOff x="4800600" y="4434120"/>
                <a:chExt cx="914400" cy="1052280"/>
              </a:xfrm>
            </p:grpSpPr>
            <p:sp>
              <p:nvSpPr>
                <p:cNvPr id="196" name=""/>
                <p:cNvSpPr/>
                <p:nvPr/>
              </p:nvSpPr>
              <p:spPr>
                <a:xfrm rot="6104400">
                  <a:off x="4686120" y="4648320"/>
                  <a:ext cx="685800" cy="304560"/>
                </a:xfrm>
                <a:custGeom>
                  <a:avLst/>
                  <a:gdLst/>
                  <a:ahLst/>
                  <a:rect l="l" t="t" r="r" b="b"/>
                  <a:pathLst>
                    <a:path w="432" h="192">
                      <a:moveTo>
                        <a:pt x="0" y="192"/>
                      </a:moveTo>
                      <a:cubicBezTo>
                        <a:pt x="132" y="96"/>
                        <a:pt x="264" y="0"/>
                        <a:pt x="336" y="0"/>
                      </a:cubicBezTo>
                      <a:cubicBezTo>
                        <a:pt x="408" y="0"/>
                        <a:pt x="420" y="96"/>
                        <a:pt x="432" y="19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00600" y="5092560"/>
                  <a:ext cx="9144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rea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81480" y="2666880"/>
                <a:ext cx="1219320" cy="685800"/>
                <a:chOff x="5181480" y="2666880"/>
                <a:chExt cx="1219320" cy="6858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81480" y="3048120"/>
                  <a:ext cx="685800" cy="304560"/>
                </a:xfrm>
                <a:custGeom>
                  <a:avLst/>
                  <a:gdLst/>
                  <a:ahLst/>
                  <a:rect l="l" t="t" r="r" b="b"/>
                  <a:pathLst>
                    <a:path w="432" h="192">
                      <a:moveTo>
                        <a:pt x="0" y="192"/>
                      </a:moveTo>
                      <a:cubicBezTo>
                        <a:pt x="132" y="96"/>
                        <a:pt x="264" y="0"/>
                        <a:pt x="336" y="0"/>
                      </a:cubicBezTo>
                      <a:cubicBezTo>
                        <a:pt x="408" y="0"/>
                        <a:pt x="420" y="96"/>
                        <a:pt x="432" y="19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86400" y="2666880"/>
                  <a:ext cx="9144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rea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"/>
          <p:cNvGrpSpPr/>
          <p:nvPr/>
        </p:nvGrpSpPr>
        <p:grpSpPr>
          <a:xfrm>
            <a:off x="2548080" y="2514600"/>
            <a:ext cx="5681520" cy="3352680"/>
            <a:chOff x="2548080" y="2514600"/>
            <a:chExt cx="5681520" cy="3352680"/>
          </a:xfrm>
        </p:grpSpPr>
        <p:grpSp>
          <p:nvGrpSpPr>
            <p:cNvPr id="202" name=""/>
            <p:cNvGrpSpPr/>
            <p:nvPr/>
          </p:nvGrpSpPr>
          <p:grpSpPr>
            <a:xfrm>
              <a:off x="2548080" y="2514600"/>
              <a:ext cx="4309920" cy="3352680"/>
              <a:chOff x="2548080" y="2514600"/>
              <a:chExt cx="4309920" cy="335268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200040" y="2514600"/>
                <a:ext cx="3657960" cy="2362320"/>
                <a:chOff x="3200040" y="2514600"/>
                <a:chExt cx="3657960" cy="236232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4572000" y="2514600"/>
                  <a:ext cx="2286000" cy="1447920"/>
                  <a:chOff x="4572000" y="2514600"/>
                  <a:chExt cx="2286000" cy="144792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4572000" y="2514600"/>
                    <a:ext cx="2286000" cy="914400"/>
                    <a:chOff x="4572000" y="2514600"/>
                    <a:chExt cx="2286000" cy="91440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572000" y="2590920"/>
                      <a:ext cx="1676520" cy="838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5334120" y="2514600"/>
                      <a:ext cx="1523880" cy="9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8" name=""/>
                  <p:cNvSpPr/>
                  <p:nvPr/>
                </p:nvSpPr>
                <p:spPr>
                  <a:xfrm>
                    <a:off x="5486400" y="3962520"/>
                    <a:ext cx="30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3200040" y="2666520"/>
                  <a:ext cx="1295280" cy="2210400"/>
                  <a:chOff x="3200040" y="2666520"/>
                  <a:chExt cx="1295280" cy="22104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>
                    <a:off x="4266720" y="4419720"/>
                    <a:ext cx="228600" cy="457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flipV="1">
                    <a:off x="3200040" y="2666520"/>
                    <a:ext cx="152280" cy="2210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2548080" y="4767120"/>
                <a:ext cx="2176200" cy="1100160"/>
                <a:chOff x="2548080" y="4767120"/>
                <a:chExt cx="2176200" cy="1100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743200" y="4876920"/>
                  <a:ext cx="1981080" cy="990360"/>
                </a:xfrm>
                <a:prstGeom prst="rect">
                  <a:avLst/>
                </a:prstGeom>
                <a:solidFill>
                  <a:srgbClr val="00b7a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14800" y="4767120"/>
                  <a:ext cx="380880" cy="228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00400" y="4767120"/>
                  <a:ext cx="380880" cy="228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548080" y="5181480"/>
                  <a:ext cx="380880" cy="228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715000" y="3276720"/>
              <a:ext cx="2514600" cy="1600200"/>
              <a:chOff x="5715000" y="3276720"/>
              <a:chExt cx="2514600" cy="1600200"/>
            </a:xfrm>
          </p:grpSpPr>
          <p:sp>
            <p:nvSpPr>
              <p:cNvPr id="218" name=""/>
              <p:cNvSpPr/>
              <p:nvPr/>
            </p:nvSpPr>
            <p:spPr>
              <a:xfrm>
                <a:off x="5943600" y="358128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3733920"/>
                <a:ext cx="1981440" cy="99036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248520" y="388620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91320" y="342900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43600" y="32767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29400" y="32767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15000" y="38275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3505320" y="3276720"/>
            <a:ext cx="2133360" cy="1247760"/>
            <a:chOff x="3505320" y="3276720"/>
            <a:chExt cx="2133360" cy="1247760"/>
          </a:xfrm>
        </p:grpSpPr>
        <p:sp>
          <p:nvSpPr>
            <p:cNvPr id="226" name=""/>
            <p:cNvSpPr/>
            <p:nvPr/>
          </p:nvSpPr>
          <p:spPr>
            <a:xfrm>
              <a:off x="3505320" y="3429000"/>
              <a:ext cx="1981080" cy="9907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267080" y="3429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3276720"/>
              <a:ext cx="38124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5680" y="3276720"/>
              <a:ext cx="38124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57800" y="3825720"/>
              <a:ext cx="38088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00560" y="4295880"/>
              <a:ext cx="38088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19320" y="3276720"/>
            <a:ext cx="1981080" cy="2070000"/>
            <a:chOff x="1219320" y="3276720"/>
            <a:chExt cx="1981080" cy="2070000"/>
          </a:xfrm>
        </p:grpSpPr>
        <p:grpSp>
          <p:nvGrpSpPr>
            <p:cNvPr id="233" name=""/>
            <p:cNvGrpSpPr/>
            <p:nvPr/>
          </p:nvGrpSpPr>
          <p:grpSpPr>
            <a:xfrm>
              <a:off x="1523880" y="4628880"/>
              <a:ext cx="1053000" cy="717840"/>
              <a:chOff x="1523880" y="4628880"/>
              <a:chExt cx="1053000" cy="717840"/>
            </a:xfrm>
          </p:grpSpPr>
          <p:sp>
            <p:nvSpPr>
              <p:cNvPr id="234" name=""/>
              <p:cNvSpPr/>
              <p:nvPr/>
            </p:nvSpPr>
            <p:spPr>
              <a:xfrm rot="12942000">
                <a:off x="1866600" y="4799880"/>
                <a:ext cx="685800" cy="304920"/>
              </a:xfrm>
              <a:custGeom>
                <a:avLst/>
                <a:gdLst/>
                <a:ahLst/>
                <a:rect l="l" t="t" r="r" b="b"/>
                <a:pathLst>
                  <a:path w="432" h="192">
                    <a:moveTo>
                      <a:pt x="0" y="192"/>
                    </a:moveTo>
                    <a:cubicBezTo>
                      <a:pt x="132" y="96"/>
                      <a:pt x="264" y="0"/>
                      <a:pt x="336" y="0"/>
                    </a:cubicBezTo>
                    <a:cubicBezTo>
                      <a:pt x="408" y="0"/>
                      <a:pt x="420" y="96"/>
                      <a:pt x="432" y="19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523880" y="4952880"/>
                <a:ext cx="914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219320" y="3276720"/>
              <a:ext cx="1981080" cy="1252440"/>
              <a:chOff x="1219320" y="3276720"/>
              <a:chExt cx="1981080" cy="1252440"/>
            </a:xfrm>
          </p:grpSpPr>
          <p:sp>
            <p:nvSpPr>
              <p:cNvPr id="237" name=""/>
              <p:cNvSpPr/>
              <p:nvPr/>
            </p:nvSpPr>
            <p:spPr>
              <a:xfrm>
                <a:off x="1219320" y="342900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81080" y="3276720"/>
                <a:ext cx="38124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3000" y="4300560"/>
                <a:ext cx="38124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2819520" y="1600200"/>
            <a:ext cx="2819160" cy="1047600"/>
            <a:chOff x="2819520" y="1600200"/>
            <a:chExt cx="2819160" cy="1047600"/>
          </a:xfrm>
        </p:grpSpPr>
        <p:sp>
          <p:nvSpPr>
            <p:cNvPr id="241" name=""/>
            <p:cNvSpPr/>
            <p:nvPr/>
          </p:nvSpPr>
          <p:spPr>
            <a:xfrm>
              <a:off x="2819520" y="1600200"/>
              <a:ext cx="281916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971800" y="2405160"/>
              <a:ext cx="2437560" cy="242640"/>
              <a:chOff x="2971800" y="2405160"/>
              <a:chExt cx="2437560" cy="242640"/>
            </a:xfrm>
          </p:grpSpPr>
          <p:sp>
            <p:nvSpPr>
              <p:cNvPr id="243" name=""/>
              <p:cNvSpPr/>
              <p:nvPr/>
            </p:nvSpPr>
            <p:spPr>
              <a:xfrm>
                <a:off x="2971800" y="2419200"/>
                <a:ext cx="380520" cy="22860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57240" y="2419200"/>
                <a:ext cx="380520" cy="22860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3040" y="2405160"/>
                <a:ext cx="380520" cy="22860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28840" y="2405160"/>
                <a:ext cx="380520" cy="22860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2548080" y="2666880"/>
            <a:ext cx="5681520" cy="3200400"/>
            <a:chOff x="2548080" y="2666880"/>
            <a:chExt cx="5681520" cy="3200400"/>
          </a:xfrm>
        </p:grpSpPr>
        <p:grpSp>
          <p:nvGrpSpPr>
            <p:cNvPr id="248" name=""/>
            <p:cNvGrpSpPr/>
            <p:nvPr/>
          </p:nvGrpSpPr>
          <p:grpSpPr>
            <a:xfrm>
              <a:off x="5715000" y="3276720"/>
              <a:ext cx="2514600" cy="1600200"/>
              <a:chOff x="5715000" y="3276720"/>
              <a:chExt cx="2514600" cy="1600200"/>
            </a:xfrm>
          </p:grpSpPr>
          <p:sp>
            <p:nvSpPr>
              <p:cNvPr id="249" name=""/>
              <p:cNvSpPr/>
              <p:nvPr/>
            </p:nvSpPr>
            <p:spPr>
              <a:xfrm>
                <a:off x="5943600" y="358128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95880" y="3733920"/>
                <a:ext cx="1981440" cy="99036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48520" y="388620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91320" y="342900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943600" y="32767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29400" y="32767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15000" y="38275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548080" y="4767120"/>
              <a:ext cx="2176200" cy="1100160"/>
              <a:chOff x="2548080" y="4767120"/>
              <a:chExt cx="2176200" cy="1100160"/>
            </a:xfrm>
          </p:grpSpPr>
          <p:sp>
            <p:nvSpPr>
              <p:cNvPr id="257" name=""/>
              <p:cNvSpPr/>
              <p:nvPr/>
            </p:nvSpPr>
            <p:spPr>
              <a:xfrm>
                <a:off x="2743200" y="4876920"/>
                <a:ext cx="1981080" cy="99036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14800" y="47671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00400" y="476712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548080" y="5181480"/>
                <a:ext cx="38088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800600" y="2666880"/>
              <a:ext cx="1600200" cy="2819520"/>
              <a:chOff x="4800600" y="2666880"/>
              <a:chExt cx="1600200" cy="281952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4800600" y="4434120"/>
                <a:ext cx="914400" cy="1052280"/>
                <a:chOff x="4800600" y="4434120"/>
                <a:chExt cx="914400" cy="1052280"/>
              </a:xfrm>
            </p:grpSpPr>
            <p:sp>
              <p:nvSpPr>
                <p:cNvPr id="263" name=""/>
                <p:cNvSpPr/>
                <p:nvPr/>
              </p:nvSpPr>
              <p:spPr>
                <a:xfrm rot="6104400">
                  <a:off x="4686120" y="4648320"/>
                  <a:ext cx="685800" cy="304560"/>
                </a:xfrm>
                <a:custGeom>
                  <a:avLst/>
                  <a:gdLst/>
                  <a:ahLst/>
                  <a:rect l="l" t="t" r="r" b="b"/>
                  <a:pathLst>
                    <a:path w="432" h="192">
                      <a:moveTo>
                        <a:pt x="0" y="192"/>
                      </a:moveTo>
                      <a:cubicBezTo>
                        <a:pt x="132" y="96"/>
                        <a:pt x="264" y="0"/>
                        <a:pt x="336" y="0"/>
                      </a:cubicBezTo>
                      <a:cubicBezTo>
                        <a:pt x="408" y="0"/>
                        <a:pt x="420" y="96"/>
                        <a:pt x="432" y="19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800600" y="5092560"/>
                  <a:ext cx="9144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st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181480" y="2666880"/>
                <a:ext cx="1219320" cy="685800"/>
                <a:chOff x="5181480" y="2666880"/>
                <a:chExt cx="1219320" cy="6858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81480" y="3048120"/>
                  <a:ext cx="685800" cy="304560"/>
                </a:xfrm>
                <a:custGeom>
                  <a:avLst/>
                  <a:gdLst/>
                  <a:ahLst/>
                  <a:rect l="l" t="t" r="r" b="b"/>
                  <a:pathLst>
                    <a:path w="432" h="192">
                      <a:moveTo>
                        <a:pt x="0" y="192"/>
                      </a:moveTo>
                      <a:cubicBezTo>
                        <a:pt x="132" y="96"/>
                        <a:pt x="264" y="0"/>
                        <a:pt x="336" y="0"/>
                      </a:cubicBezTo>
                      <a:cubicBezTo>
                        <a:pt x="408" y="0"/>
                        <a:pt x="420" y="96"/>
                        <a:pt x="432" y="19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486400" y="2666880"/>
                  <a:ext cx="9144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st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8" name=""/>
          <p:cNvGrpSpPr/>
          <p:nvPr/>
        </p:nvGrpSpPr>
        <p:grpSpPr>
          <a:xfrm>
            <a:off x="1219320" y="3276720"/>
            <a:ext cx="1981080" cy="2070000"/>
            <a:chOff x="1219320" y="3276720"/>
            <a:chExt cx="1981080" cy="2070000"/>
          </a:xfrm>
        </p:grpSpPr>
        <p:grpSp>
          <p:nvGrpSpPr>
            <p:cNvPr id="269" name=""/>
            <p:cNvGrpSpPr/>
            <p:nvPr/>
          </p:nvGrpSpPr>
          <p:grpSpPr>
            <a:xfrm>
              <a:off x="1523880" y="4628880"/>
              <a:ext cx="1053000" cy="717840"/>
              <a:chOff x="1523880" y="4628880"/>
              <a:chExt cx="1053000" cy="717840"/>
            </a:xfrm>
          </p:grpSpPr>
          <p:sp>
            <p:nvSpPr>
              <p:cNvPr id="270" name=""/>
              <p:cNvSpPr/>
              <p:nvPr/>
            </p:nvSpPr>
            <p:spPr>
              <a:xfrm rot="12942000">
                <a:off x="1866600" y="4799880"/>
                <a:ext cx="685800" cy="304920"/>
              </a:xfrm>
              <a:custGeom>
                <a:avLst/>
                <a:gdLst/>
                <a:ahLst/>
                <a:rect l="l" t="t" r="r" b="b"/>
                <a:pathLst>
                  <a:path w="432" h="192">
                    <a:moveTo>
                      <a:pt x="0" y="192"/>
                    </a:moveTo>
                    <a:cubicBezTo>
                      <a:pt x="132" y="96"/>
                      <a:pt x="264" y="0"/>
                      <a:pt x="336" y="0"/>
                    </a:cubicBezTo>
                    <a:cubicBezTo>
                      <a:pt x="408" y="0"/>
                      <a:pt x="420" y="96"/>
                      <a:pt x="432" y="19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3880" y="4952880"/>
                <a:ext cx="914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219320" y="3276720"/>
              <a:ext cx="1981080" cy="1252440"/>
              <a:chOff x="1219320" y="3276720"/>
              <a:chExt cx="1981080" cy="1252440"/>
            </a:xfrm>
          </p:grpSpPr>
          <p:sp>
            <p:nvSpPr>
              <p:cNvPr id="273" name=""/>
              <p:cNvSpPr/>
              <p:nvPr/>
            </p:nvSpPr>
            <p:spPr>
              <a:xfrm>
                <a:off x="1219320" y="3429000"/>
                <a:ext cx="1981080" cy="990720"/>
              </a:xfrm>
              <a:prstGeom prst="rect">
                <a:avLst/>
              </a:prstGeom>
              <a:solidFill>
                <a:srgbClr val="00b7a5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81080" y="3276720"/>
                <a:ext cx="38124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043000" y="4300560"/>
                <a:ext cx="38124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Component-Based Test System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849480" y="2766600"/>
            <a:ext cx="365400" cy="243720"/>
            <a:chOff x="3849480" y="2766600"/>
            <a:chExt cx="365400" cy="243720"/>
          </a:xfrm>
        </p:grpSpPr>
        <p:sp>
          <p:nvSpPr>
            <p:cNvPr id="278" name=""/>
            <p:cNvSpPr/>
            <p:nvPr/>
          </p:nvSpPr>
          <p:spPr>
            <a:xfrm flipH="1">
              <a:off x="3849480" y="2784600"/>
              <a:ext cx="36540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61360" y="2766600"/>
              <a:ext cx="342000" cy="24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V="1">
            <a:off x="4284720" y="263664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Frutiger 55 Roman"/>
              </a:rPr>
              <a:t>Main Elements of TTCN-3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Frutiger 55 Roman"/>
              </a:rPr>
              <a:t>Module</a:t>
            </a:r>
            <a:r>
              <a:rPr b="0" lang="en-GB" sz="2800" spc="-1" strike="noStrike">
                <a:solidFill>
                  <a:srgbClr val="000000"/>
                </a:solidFill>
                <a:latin typeface="Frutiger 55 Roman"/>
              </a:rPr>
              <a:t> covers declarations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Frutiger 55 Roman"/>
              </a:rPr>
              <a:t>Templates</a:t>
            </a:r>
            <a:r>
              <a:rPr b="0" lang="en-GB" sz="2800" spc="-1" strike="noStrike">
                <a:solidFill>
                  <a:srgbClr val="000000"/>
                </a:solidFill>
                <a:latin typeface="Frutiger 55 Roman"/>
              </a:rPr>
              <a:t> (test data description) and </a:t>
            </a:r>
            <a:r>
              <a:rPr b="0" lang="en-GB" sz="2800" spc="-1" strike="noStrike">
                <a:solidFill>
                  <a:srgbClr val="990033"/>
                </a:solidFill>
                <a:latin typeface="Frutiger 55 Roman"/>
              </a:rPr>
              <a:t>matching</a:t>
            </a:r>
            <a:r>
              <a:rPr b="0" lang="en-GB" sz="2800" spc="-1" strike="noStrike">
                <a:solidFill>
                  <a:srgbClr val="000000"/>
                </a:solidFill>
                <a:latin typeface="Frutiger 55 Roman"/>
              </a:rPr>
              <a:t> mechanisms (pattern match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utiger 55 Roman"/>
              </a:rPr>
              <a:t>Test </a:t>
            </a:r>
            <a:r>
              <a:rPr b="0" lang="en-GB" sz="2800" spc="-1" strike="noStrike">
                <a:solidFill>
                  <a:srgbClr val="990033"/>
                </a:solidFill>
                <a:latin typeface="Frutiger 55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Formally defined interfaces to the S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Dynamic creation of tes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Concurrency to describe distributed test set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Frutiger 55 Roman"/>
              </a:rPr>
              <a:t>Te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Small (complete) separate compilable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55 Roman"/>
              </a:rPr>
              <a:t>Share (type and data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7a5"/>
              </a:buClr>
              <a:buSzPct val="65000"/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utiger 55 Roman"/>
              </a:rPr>
              <a:t>Test </a:t>
            </a:r>
            <a:r>
              <a:rPr b="0" lang="en-GB" sz="2800" spc="-1" strike="noStrike">
                <a:solidFill>
                  <a:srgbClr val="990033"/>
                </a:solidFill>
                <a:latin typeface="Frutiger 55 Roman"/>
              </a:rPr>
              <a:t>verd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7a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b61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Overview on TTCN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TCN-3 applied to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TTCN-3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7a5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dadada"/>
                </a:solidFill>
                <a:latin typeface="Arial"/>
              </a:rPr>
              <a:t>Test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21:09:50Z</dcterms:created>
  <dc:creator>Ina Schieferdecker</dc:creator>
  <dc:description/>
  <dc:language>en-US</dc:language>
  <cp:lastModifiedBy>Ina Schieferdecker</cp:lastModifiedBy>
  <dcterms:modified xsi:type="dcterms:W3CDTF">2002-11-23T13:12:29Z</dcterms:modified>
  <cp:revision>122</cp:revision>
  <dc:subject/>
  <dc:title>Das UML Testing Profile – ein Ansatz zur integrierten System- und Testentwicklung verteilter Systeme </dc:title>
</cp:coreProperties>
</file>