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9D5F-4118-4E60-876A-C46DDA14E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C3CD-265D-450C-8475-5C31CDCE5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67DB-DC73-434D-A202-B76BD837A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732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096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732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096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E04C-BB62-4995-9B07-0FC305BC5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2E1-7731-4F10-AC89-45D7B050A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3F2-DE04-4C8E-A0F0-0CB17C8B9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DFA-592E-460A-9EA4-AD591F6A87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867-BCC4-43FD-BB1C-7394786DF1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EDA-7161-427A-83FC-9EC7E3908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877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224-1373-4A3F-8290-142544F77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76A-813A-4907-B1D0-8576268F8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621D-756B-4F53-AFE4-6927DD51B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C61-7113-4AA4-AB6F-309E215DD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DDE-B725-4141-9D54-EEC19D9A29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30F-9A0D-4910-9559-A2B9734FAC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BC2-AC48-427E-96C4-5472AE1D27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732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096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732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096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313-FBB0-4B49-9B3E-B8F32A108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E017-EF85-4E74-93AA-E52CF302A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1298-26DA-47BA-B4B1-356D7AAA7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5E75-0D5B-4C7E-8721-FCD659321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877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C8B2-4B46-4D0B-AE78-FF0A2BC4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C215-4245-48F2-9515-1E8BA5A63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9E72-2CDE-45FB-A286-92D18DC5E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906C-1A76-4991-B8FF-95109D63B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Junge_CUT_small2" descr=""/>
          <p:cNvPicPr/>
          <p:nvPr/>
        </p:nvPicPr>
        <p:blipFill>
          <a:blip r:embed="rId2"/>
          <a:srcRect l="6644" t="0" r="6040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000" spc="-1" strike="noStrike">
                <a:solidFill>
                  <a:srgbClr val="353a90"/>
                </a:solidFill>
                <a:latin typeface="TheMixSemiLight"/>
              </a:rPr>
              <a:t>Click to edit the title text format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Click to edit the outline text format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econd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20816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Third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3" marL="164628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Four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4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Fif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5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ix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6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even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"/>
          <p:cNvSpPr/>
          <p:nvPr/>
        </p:nvSpPr>
        <p:spPr>
          <a:xfrm>
            <a:off x="743760" y="174600"/>
            <a:ext cx="491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1400" spc="-1" strike="noStrike">
                <a:solidFill>
                  <a:srgbClr val="353a90"/>
                </a:solidFill>
                <a:latin typeface="Frutiger 45 Light"/>
              </a:rPr>
              <a:t>Use of OOM and UML to define Signalling Requirements”</a:t>
            </a: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667640" y="6477120"/>
            <a:ext cx="11239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2CF2A397-4A8F-4B09-BDB9-C9121F7C9778}" type="slidenum">
              <a:rPr b="0" lang="en-GB" sz="1000" spc="-1" strike="noStrike">
                <a:solidFill>
                  <a:srgbClr val="00005a"/>
                </a:solidFill>
                <a:latin typeface="Frutiger 45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14040" y="6476760"/>
            <a:ext cx="323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cen_rgb1_POT" descr=""/>
          <p:cNvPicPr/>
          <p:nvPr/>
        </p:nvPicPr>
        <p:blipFill>
          <a:blip r:embed="rId3"/>
          <a:stretch/>
        </p:blipFill>
        <p:spPr>
          <a:xfrm>
            <a:off x="7161120" y="230040"/>
            <a:ext cx="1982880" cy="6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0" y="142920"/>
          <a:ext cx="693720" cy="771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42920"/>
                    <a:ext cx="693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unge_hell_CUT_smaller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257480"/>
            <a:ext cx="1766880" cy="5625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3a90"/>
              </a:solidFill>
              <a:latin typeface="Times New Roman"/>
            </a:endParaRPr>
          </a:p>
        </p:txBody>
      </p:sp>
      <p:pic>
        <p:nvPicPr>
          <p:cNvPr id="48" name="itulogo-en" descr=""/>
          <p:cNvPicPr/>
          <p:nvPr/>
        </p:nvPicPr>
        <p:blipFill>
          <a:blip r:embed="rId3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6000"/>
            <a:ext cx="6886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400" spc="-1" strike="noStrike">
                <a:solidFill>
                  <a:srgbClr val="353a90"/>
                </a:solidFill>
                <a:latin typeface="TheMixSemiLight"/>
              </a:rPr>
              <a:t>Click to edit the title text format</a:t>
            </a:r>
            <a:endParaRPr b="1" lang="en-US" sz="3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3"/>
          </p:nvPr>
        </p:nvSpPr>
        <p:spPr>
          <a:xfrm>
            <a:off x="7667640" y="6477120"/>
            <a:ext cx="11239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DFFC371-D5CA-4666-9EB5-100AAEA2D08B}" type="slidenum"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980720" y="6476760"/>
            <a:ext cx="323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353a90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353a90"/>
                </a:solidFill>
                <a:latin typeface="Frutiger 45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353a90"/>
                </a:solidFill>
                <a:latin typeface="Frutiger 45 Ligh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cen_rgb1" descr=""/>
          <p:cNvPicPr/>
          <p:nvPr/>
        </p:nvPicPr>
        <p:blipFill>
          <a:blip r:embed="rId4"/>
          <a:stretch/>
        </p:blipFill>
        <p:spPr>
          <a:xfrm>
            <a:off x="7161120" y="230040"/>
            <a:ext cx="1982880" cy="61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200" spc="-1" strike="noStrike">
                <a:solidFill>
                  <a:srgbClr val="353a90"/>
                </a:solidFill>
                <a:latin typeface="TheMixSemiLight"/>
              </a:rPr>
              <a:t>Click to edit the outline text format</a:t>
            </a: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  <a:p>
            <a:pPr lvl="1" marL="574560" indent="0" algn="ctr"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000" spc="-1" strike="noStrike">
                <a:solidFill>
                  <a:srgbClr val="353a90"/>
                </a:solidFill>
                <a:latin typeface="Frutiger 45 Light"/>
              </a:rPr>
              <a:t>Second Outline Leve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74600" algn="ctr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353a90"/>
                </a:solidFill>
                <a:latin typeface="Frutiger 45 Light"/>
              </a:rPr>
              <a:t>Third Outline Leve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3" marL="1512720" algn="ctr">
              <a:lnSpc>
                <a:spcPct val="94000"/>
              </a:lnSpc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Four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4" marL="1981080" algn="ctr">
              <a:lnSpc>
                <a:spcPct val="94000"/>
              </a:lnSpc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Fif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5" marL="1981080"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Six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6" marL="1981080"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Seven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dmagazine.com/articles/1999/0006/0006a/0006a.htm" TargetMode="External"/><Relationship Id="rId2" Type="http://schemas.openxmlformats.org/officeDocument/2006/relationships/hyperlink" Target="http://www.sdmagazine.com/articles/1999/0006/0006a/0006a.htm" TargetMode="External"/><Relationship Id="rId3" Type="http://schemas.openxmlformats.org/officeDocument/2006/relationships/hyperlink" Target="http://www.sdmagazine.com/articles/1999/0006/0006a/0006a.htm" TargetMode="External"/><Relationship Id="rId4" Type="http://schemas.openxmlformats.org/officeDocument/2006/relationships/hyperlink" Target="http://www.sdmagazine.com/articles/1999/0006/0006a/0006a.htm" TargetMode="External"/><Relationship Id="rId5" Type="http://schemas.openxmlformats.org/officeDocument/2006/relationships/hyperlink" Target="http://www.ambysoft.com/eCommerceArchitecture.html" TargetMode="External"/><Relationship Id="rId6" Type="http://schemas.openxmlformats.org/officeDocument/2006/relationships/hyperlink" Target="http://www.ambysoft.com/eCommerceArchitecture.html" TargetMode="External"/><Relationship Id="rId7" Type="http://schemas.openxmlformats.org/officeDocument/2006/relationships/hyperlink" Target="http://www.ambysoft.com/eCommerceArchitecture.html" TargetMode="External"/><Relationship Id="rId8" Type="http://schemas.openxmlformats.org/officeDocument/2006/relationships/hyperlink" Target="http://www.ambysoft.com/eCommerceArchitecture.html" TargetMode="External"/><Relationship Id="rId9" Type="http://schemas.openxmlformats.org/officeDocument/2006/relationships/hyperlink" Target="http://www.ambysoft.com/eCommerceArchitecture.html" TargetMode="Externa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mg.org/uml" TargetMode="External"/><Relationship Id="rId2" Type="http://schemas.openxmlformats.org/officeDocument/2006/relationships/hyperlink" Target="http://www.omg.org/uml" TargetMode="External"/><Relationship Id="rId3" Type="http://schemas.openxmlformats.org/officeDocument/2006/relationships/hyperlink" Target="http://www.omg.org/uml" TargetMode="External"/><Relationship Id="rId4" Type="http://schemas.openxmlformats.org/officeDocument/2006/relationships/hyperlink" Target="http://www.omg.org/uml" TargetMode="External"/><Relationship Id="rId5" Type="http://schemas.openxmlformats.org/officeDocument/2006/relationships/hyperlink" Target="http://www.rational.com/uml" TargetMode="External"/><Relationship Id="rId6" Type="http://schemas.openxmlformats.org/officeDocument/2006/relationships/hyperlink" Target="http://www.rational.com/uml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1752480"/>
            <a:ext cx="6657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he Use of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O-Modelling Principles (OOM) and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UML Notation to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Define Signalling Requirem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648320"/>
            <a:ext cx="6657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200" spc="-1" strike="noStrike">
                <a:solidFill>
                  <a:srgbClr val="353a90"/>
                </a:solidFill>
                <a:latin typeface="TheMixSemiLight"/>
              </a:rPr>
              <a:t>Raphael J. Schumacher, Rapporteur Q.8/11</a:t>
            </a:r>
            <a:br>
              <a:rPr sz="2200"/>
            </a:br>
            <a:r>
              <a:rPr b="1" lang="en-GB" sz="2200" spc="-1" strike="noStrike">
                <a:solidFill>
                  <a:srgbClr val="353a90"/>
                </a:solidFill>
                <a:latin typeface="TheMixSemiLight"/>
              </a:rPr>
              <a:t>Swisscom AG, Switzerland</a:t>
            </a: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905120"/>
            <a:ext cx="1600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ITU</a:t>
            </a:r>
            <a:br>
              <a:rPr sz="1800"/>
            </a:b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Workshop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"Use of Description Techniques"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610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Geneva,</a:t>
            </a:r>
            <a:br>
              <a:rPr sz="1800"/>
            </a:b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23. Nov. 2002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elecommunication vs. Computing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48400" indent="-2484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Telecommunication &amp; computing industry is converging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How will the demarcation line look like in - let’s say - 5 years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 grey area by best..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Who will be faced to communication standards in future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W developers incorporating telecom modules into vertical produc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Integrators struggling with service convergenc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munication services won’t remain stand-alone produc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s a consequence, the dominant customers of ITU standards will more and more be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oftware engineers for whom OOM has become everyday practis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providers which need to cope with the increased complex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Telecom services convergence, a long-term business need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consolidating portfolios require clean concepts, interfaces &amp; API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1EC-3A4F-4714-B757-724C8E1A2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62520" y="1066680"/>
            <a:ext cx="5790960" cy="449604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B1B3-92C8-4F08-A762-0030C0D29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OM @ BICC: Purpose and Benefi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M can be used to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efine processes and information flow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dentify relationships between processes and informa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crease the degree of reuse (protocol) requirements and compon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484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Benefits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urther refine the scope of BICC capabilities and their protocol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 the common understanding of terminology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d documentation of BICC and its evolution (CS1..CS3)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 quality control and consistency check on protocol desig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race protocol standardisation (from req’s to test specifications)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73AC-4316-4479-9E66-CAAF68BD91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05520" y="6172200"/>
            <a:ext cx="342720" cy="276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Existing BICC CS2 Signalling Requirem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1800" y="6172200"/>
            <a:ext cx="2815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3a90"/>
                </a:solidFill>
                <a:latin typeface="Arial"/>
              </a:rPr>
              <a:t>Scope of Signalling Requirements</a:t>
            </a: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828800"/>
            <a:ext cx="8105760" cy="4052880"/>
            <a:chOff x="762120" y="1828800"/>
            <a:chExt cx="8105760" cy="4052880"/>
          </a:xfrm>
        </p:grpSpPr>
        <p:sp>
          <p:nvSpPr>
            <p:cNvPr id="150" name=""/>
            <p:cNvSpPr/>
            <p:nvPr/>
          </p:nvSpPr>
          <p:spPr>
            <a:xfrm>
              <a:off x="1389240" y="1828800"/>
              <a:ext cx="7021440" cy="4921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4840" y="3492360"/>
              <a:ext cx="6283440" cy="1082880"/>
            </a:xfrm>
            <a:prstGeom prst="roundRect">
              <a:avLst>
                <a:gd name="adj" fmla="val 12486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59240" y="314964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Call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9280" y="314964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Bearer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23960" y="2160360"/>
              <a:ext cx="29052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501720" y="2169720"/>
              <a:ext cx="1260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03680" y="2176560"/>
              <a:ext cx="7207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70200" y="2196720"/>
              <a:ext cx="30492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43200" y="2177640"/>
              <a:ext cx="4428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95640" y="2176560"/>
              <a:ext cx="5461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29320" y="2187360"/>
              <a:ext cx="277560" cy="17859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18120" y="2185560"/>
              <a:ext cx="55440" cy="17859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1040" y="2176560"/>
              <a:ext cx="1364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318280" y="2179440"/>
              <a:ext cx="333360" cy="180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5979960" y="2182320"/>
              <a:ext cx="1296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9840" y="2181240"/>
              <a:ext cx="3398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095880" y="2190240"/>
              <a:ext cx="195480" cy="178452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797520" y="2182320"/>
              <a:ext cx="230400" cy="17766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86680" y="2181240"/>
              <a:ext cx="5187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116840" y="2155680"/>
              <a:ext cx="150840" cy="17733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772400" y="2174400"/>
              <a:ext cx="162000" cy="23652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70920" y="2163600"/>
              <a:ext cx="498240" cy="144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3720" y="1884240"/>
              <a:ext cx="2356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gnalling Transport Network</a:t>
              </a:r>
              <a:endParaRPr b="0" lang="en-US" sz="12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00880" y="4381560"/>
              <a:ext cx="331560" cy="446040"/>
            </a:xfrm>
            <a:custGeom>
              <a:avLst/>
              <a:gdLst>
                <a:gd name="textAreaLeft" fmla="*/ 15840 w 331560"/>
                <a:gd name="textAreaRight" fmla="*/ 315720 w 331560"/>
                <a:gd name="textAreaTop" fmla="*/ 15840 h 446040"/>
                <a:gd name="textAreaBottom" fmla="*/ 430200 h 446040"/>
              </a:gdLst>
              <a:ahLst/>
              <a:rect l="textAreaLeft" t="textAreaTop" r="textAreaRight" b="textAreaBottom"/>
              <a:pathLst>
                <a:path w="21600" h="29050">
                  <a:moveTo>
                    <a:pt x="3598" y="0"/>
                  </a:moveTo>
                  <a:arcTo wR="3598" hR="3598" stAng="16200000" swAng="-5400000"/>
                  <a:lnTo>
                    <a:pt x="0" y="25452"/>
                  </a:lnTo>
                  <a:arcTo wR="3598" hR="3598" stAng="10800000" swAng="-5400000"/>
                  <a:lnTo>
                    <a:pt x="18002" y="29050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51640" y="4425840"/>
              <a:ext cx="2347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J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3440" y="4653000"/>
              <a:ext cx="54000" cy="1285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51440" y="4653000"/>
              <a:ext cx="30240" cy="3636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1440" y="4746600"/>
              <a:ext cx="30240" cy="349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61000" y="4653000"/>
              <a:ext cx="28440" cy="3636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61000" y="4746600"/>
              <a:ext cx="28440" cy="349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5920" y="467028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5920" y="476424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805000" y="467028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805000" y="476424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2040" y="4995720"/>
              <a:ext cx="424080" cy="18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49560" y="4303800"/>
              <a:ext cx="325440" cy="5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0960" y="4427640"/>
              <a:ext cx="23508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3960" y="430524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2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016520" y="4654440"/>
              <a:ext cx="220320" cy="128520"/>
              <a:chOff x="4016520" y="4654440"/>
              <a:chExt cx="220320" cy="1285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00400" y="4654440"/>
                <a:ext cx="525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8760" y="465444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08760" y="4748760"/>
                <a:ext cx="2808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16520" y="465444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16520" y="4748760"/>
                <a:ext cx="2808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507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50720" y="476568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1587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158720" y="476568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032360" y="479736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956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673600" y="4788000"/>
              <a:ext cx="0" cy="2188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0520" y="47941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4680" y="4997520"/>
              <a:ext cx="35712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4040" y="4308480"/>
              <a:ext cx="327240" cy="57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8680" y="4425840"/>
              <a:ext cx="23796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4040" y="431316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3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175440" y="4653000"/>
              <a:ext cx="221760" cy="128520"/>
              <a:chOff x="6175440" y="4653000"/>
              <a:chExt cx="221760" cy="12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6260760" y="4653000"/>
                <a:ext cx="525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69120" y="465300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69120" y="4746960"/>
                <a:ext cx="280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75440" y="465300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5440" y="4746960"/>
                <a:ext cx="3132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13600" y="46713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13600" y="47642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3205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320520" y="47642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6189840" y="4791240"/>
              <a:ext cx="0" cy="2188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83160" y="4789440"/>
              <a:ext cx="0" cy="217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70560" y="4991040"/>
              <a:ext cx="46188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6000" y="3903840"/>
              <a:ext cx="561960" cy="981000"/>
            </a:xfrm>
            <a:custGeom>
              <a:avLst/>
              <a:gdLst>
                <a:gd name="textAreaLeft" fmla="*/ 27360 w 561960"/>
                <a:gd name="textAreaRight" fmla="*/ 534600 w 561960"/>
                <a:gd name="textAreaTop" fmla="*/ 27360 h 981000"/>
                <a:gd name="textAreaBottom" fmla="*/ 953640 h 981000"/>
              </a:gdLst>
              <a:ahLst/>
              <a:rect l="textAreaLeft" t="textAreaTop" r="textAreaRight" b="textAreaBottom"/>
              <a:pathLst>
                <a:path w="21600" h="37696">
                  <a:moveTo>
                    <a:pt x="3598" y="0"/>
                  </a:moveTo>
                  <a:arcTo wR="3598" hR="3598" stAng="16200000" swAng="-5400000"/>
                  <a:lnTo>
                    <a:pt x="0" y="34098"/>
                  </a:lnTo>
                  <a:arcTo wR="3598" hR="3598" stAng="10800000" swAng="-5400000"/>
                  <a:lnTo>
                    <a:pt x="18002" y="3769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4520" y="4330800"/>
              <a:ext cx="292320" cy="460440"/>
            </a:xfrm>
            <a:custGeom>
              <a:avLst/>
              <a:gdLst>
                <a:gd name="textAreaLeft" fmla="*/ 14040 w 292320"/>
                <a:gd name="textAreaRight" fmla="*/ 278280 w 29232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07">
                  <a:moveTo>
                    <a:pt x="3598" y="0"/>
                  </a:moveTo>
                  <a:arcTo wR="3598" hR="3598" stAng="16200000" swAng="-5400000"/>
                  <a:lnTo>
                    <a:pt x="0" y="30409"/>
                  </a:lnTo>
                  <a:arcTo wR="3598" hR="3598" stAng="10800000" swAng="-5400000"/>
                  <a:lnTo>
                    <a:pt x="18002" y="34007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16600" y="4029120"/>
              <a:ext cx="341280" cy="19692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6240" y="390060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ISN-B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91120" y="4230720"/>
              <a:ext cx="91800" cy="141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3280" y="423216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988320" y="4997520"/>
              <a:ext cx="541080" cy="1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3240" y="4378320"/>
              <a:ext cx="317520" cy="45864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8640"/>
                <a:gd name="textAreaBottom" fmla="*/ 443160 h 458640"/>
              </a:gdLst>
              <a:ahLst/>
              <a:rect l="textAreaLeft" t="textAreaTop" r="textAreaRight" b="textAreaBottom"/>
              <a:pathLst>
                <a:path w="21600" h="31189">
                  <a:moveTo>
                    <a:pt x="3598" y="0"/>
                  </a:moveTo>
                  <a:arcTo wR="3598" hR="3598" stAng="16200000" swAng="-5400000"/>
                  <a:lnTo>
                    <a:pt x="0" y="27591"/>
                  </a:lnTo>
                  <a:arcTo wR="3598" hR="3598" stAng="10800000" swAng="-5400000"/>
                  <a:lnTo>
                    <a:pt x="18002" y="3118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4425840"/>
              <a:ext cx="23508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N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z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799320" y="4659480"/>
              <a:ext cx="223560" cy="131760"/>
              <a:chOff x="6799320" y="4659480"/>
              <a:chExt cx="223560" cy="131760"/>
            </a:xfrm>
          </p:grpSpPr>
          <p:sp>
            <p:nvSpPr>
              <p:cNvPr id="229" name=""/>
              <p:cNvSpPr/>
              <p:nvPr/>
            </p:nvSpPr>
            <p:spPr>
              <a:xfrm>
                <a:off x="6886080" y="4659480"/>
                <a:ext cx="5112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93360" y="4659480"/>
                <a:ext cx="2952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93360" y="4753800"/>
                <a:ext cx="295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99320" y="4659480"/>
                <a:ext cx="3132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99320" y="475380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3748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3748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94476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4476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816600" y="47991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07400" y="4803840"/>
              <a:ext cx="144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4240" y="504360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8440" y="5005440"/>
              <a:ext cx="63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ackbone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Network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Connection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Link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5240" y="5419800"/>
              <a:ext cx="955440" cy="792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54000" y="5500800"/>
              <a:ext cx="207072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Backbone Network Connections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4600" y="5773680"/>
              <a:ext cx="7531200" cy="792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6000" y="5662440"/>
              <a:ext cx="259164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Network Bearer Connection (end to end) 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7920" y="3906720"/>
              <a:ext cx="606600" cy="978120"/>
            </a:xfrm>
            <a:custGeom>
              <a:avLst/>
              <a:gdLst>
                <a:gd name="textAreaLeft" fmla="*/ 29520 w 606600"/>
                <a:gd name="textAreaRight" fmla="*/ 577080 w 606600"/>
                <a:gd name="textAreaTop" fmla="*/ 29520 h 978120"/>
                <a:gd name="textAreaBottom" fmla="*/ 948600 h 978120"/>
              </a:gdLst>
              <a:ahLst/>
              <a:rect l="textAreaLeft" t="textAreaTop" r="textAreaRight" b="textAreaBottom"/>
              <a:pathLst>
                <a:path w="21600" h="34821">
                  <a:moveTo>
                    <a:pt x="3598" y="0"/>
                  </a:moveTo>
                  <a:arcTo wR="3598" hR="3598" stAng="16200000" swAng="-5400000"/>
                  <a:lnTo>
                    <a:pt x="0" y="31223"/>
                  </a:lnTo>
                  <a:arcTo wR="3598" hR="3598" stAng="10800000" swAng="-5400000"/>
                  <a:lnTo>
                    <a:pt x="18002" y="3482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59080" y="4332240"/>
              <a:ext cx="282600" cy="460440"/>
            </a:xfrm>
            <a:custGeom>
              <a:avLst/>
              <a:gdLst>
                <a:gd name="textAreaLeft" fmla="*/ 13680 w 282600"/>
                <a:gd name="textAreaRight" fmla="*/ 268920 w 282600"/>
                <a:gd name="textAreaTop" fmla="*/ 13680 h 460440"/>
                <a:gd name="textAreaBottom" fmla="*/ 446760 h 460440"/>
              </a:gdLst>
              <a:ahLst/>
              <a:rect l="textAreaLeft" t="textAreaTop" r="textAreaRight" b="textAreaBottom"/>
              <a:pathLst>
                <a:path w="21600" h="35176">
                  <a:moveTo>
                    <a:pt x="3598" y="0"/>
                  </a:moveTo>
                  <a:arcTo wR="3598" hR="3598" stAng="16200000" swAng="-5400000"/>
                  <a:lnTo>
                    <a:pt x="0" y="31578"/>
                  </a:lnTo>
                  <a:arcTo wR="3598" hR="3598" stAng="10800000" swAng="-5400000"/>
                  <a:lnTo>
                    <a:pt x="18002" y="3517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63680" y="4379760"/>
              <a:ext cx="319320" cy="459000"/>
            </a:xfrm>
            <a:custGeom>
              <a:avLst/>
              <a:gdLst>
                <a:gd name="textAreaLeft" fmla="*/ 15480 w 319320"/>
                <a:gd name="textAreaRight" fmla="*/ 303840 w 319320"/>
                <a:gd name="textAreaTop" fmla="*/ 15480 h 459000"/>
                <a:gd name="textAreaBottom" fmla="*/ 443520 h 459000"/>
              </a:gdLst>
              <a:ahLst/>
              <a:rect l="textAreaLeft" t="textAreaTop" r="textAreaRight" b="textAreaBottom"/>
              <a:pathLst>
                <a:path w="21600" h="31038">
                  <a:moveTo>
                    <a:pt x="3598" y="0"/>
                  </a:moveTo>
                  <a:arcTo wR="3598" hR="3598" stAng="16200000" swAng="-5400000"/>
                  <a:lnTo>
                    <a:pt x="0" y="27440"/>
                  </a:lnTo>
                  <a:arcTo wR="3598" hR="3598" stAng="10800000" swAng="-5400000"/>
                  <a:lnTo>
                    <a:pt x="18002" y="3103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1920" y="4046400"/>
              <a:ext cx="30816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4440" y="4427640"/>
              <a:ext cx="23832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N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v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37760" y="3911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ISN-A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8680" y="4232160"/>
              <a:ext cx="141480" cy="936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98680" y="4232160"/>
              <a:ext cx="9360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11560" y="4660920"/>
              <a:ext cx="225000" cy="131760"/>
              <a:chOff x="2311560" y="4660920"/>
              <a:chExt cx="225000" cy="131760"/>
            </a:xfrm>
          </p:grpSpPr>
          <p:sp>
            <p:nvSpPr>
              <p:cNvPr id="255" name=""/>
              <p:cNvSpPr/>
              <p:nvPr/>
            </p:nvSpPr>
            <p:spPr>
              <a:xfrm>
                <a:off x="2395440" y="4660920"/>
                <a:ext cx="5256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2360" y="4660920"/>
                <a:ext cx="3420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2360" y="4753800"/>
                <a:ext cx="3420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11560" y="466092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11560" y="4753800"/>
                <a:ext cx="2988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4864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4864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45556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45556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325600" y="4797360"/>
              <a:ext cx="0" cy="22392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114560" y="5002200"/>
              <a:ext cx="12189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9280" y="47991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09920" y="503388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0240" y="5172120"/>
              <a:ext cx="68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earer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Inter-workin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Functio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(BIWF)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5400" y="4514760"/>
              <a:ext cx="921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155320" y="4514760"/>
              <a:ext cx="9720" cy="657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0200" y="4997520"/>
              <a:ext cx="4082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4316400"/>
              <a:ext cx="325440" cy="5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0560" y="4425840"/>
              <a:ext cx="2365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38600" y="430524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1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876400" y="4665600"/>
              <a:ext cx="223560" cy="128520"/>
              <a:chOff x="2876400" y="4665600"/>
              <a:chExt cx="223560" cy="128520"/>
            </a:xfrm>
          </p:grpSpPr>
          <p:sp>
            <p:nvSpPr>
              <p:cNvPr id="276" name=""/>
              <p:cNvSpPr/>
              <p:nvPr/>
            </p:nvSpPr>
            <p:spPr>
              <a:xfrm>
                <a:off x="2960640" y="4665600"/>
                <a:ext cx="507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67200" y="4665600"/>
                <a:ext cx="3276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67200" y="4759560"/>
                <a:ext cx="3276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76400" y="4665600"/>
                <a:ext cx="298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76400" y="4759560"/>
                <a:ext cx="298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10600" y="468252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10600" y="4776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017520" y="468252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017520" y="4776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89360" y="48052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9160" y="47973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4040" y="5029200"/>
              <a:ext cx="0" cy="2332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502000" y="5171760"/>
              <a:ext cx="382320" cy="32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5400" y="3906720"/>
              <a:ext cx="487440" cy="978120"/>
            </a:xfrm>
            <a:custGeom>
              <a:avLst/>
              <a:gdLst>
                <a:gd name="textAreaLeft" fmla="*/ 23760 w 487440"/>
                <a:gd name="textAreaRight" fmla="*/ 463680 w 487440"/>
                <a:gd name="textAreaTop" fmla="*/ 23760 h 978120"/>
                <a:gd name="textAreaBottom" fmla="*/ 954360 h 978120"/>
              </a:gdLst>
              <a:ahLst/>
              <a:rect l="textAreaLeft" t="textAreaTop" r="textAreaRight" b="textAreaBottom"/>
              <a:pathLst>
                <a:path w="21600" h="43328">
                  <a:moveTo>
                    <a:pt x="3598" y="0"/>
                  </a:moveTo>
                  <a:arcTo wR="3598" hR="3598" stAng="16200000" swAng="-5400000"/>
                  <a:lnTo>
                    <a:pt x="0" y="39730"/>
                  </a:lnTo>
                  <a:arcTo wR="3598" hR="3598" stAng="10800000" swAng="-5400000"/>
                  <a:lnTo>
                    <a:pt x="18002" y="4332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63920" y="4332240"/>
              <a:ext cx="291960" cy="4604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49">
                  <a:moveTo>
                    <a:pt x="3598" y="0"/>
                  </a:moveTo>
                  <a:arcTo wR="3598" hR="3598" stAng="16200000" swAng="-5400000"/>
                  <a:lnTo>
                    <a:pt x="0" y="30451"/>
                  </a:lnTo>
                  <a:arcTo wR="3598" hR="3598" stAng="10800000" swAng="-5400000"/>
                  <a:lnTo>
                    <a:pt x="18002" y="3404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92640" y="4379760"/>
              <a:ext cx="317520" cy="4590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9000"/>
                <a:gd name="textAreaBottom" fmla="*/ 443520 h 459000"/>
              </a:gdLst>
              <a:ahLst/>
              <a:rect l="textAreaLeft" t="textAreaTop" r="textAreaRight" b="textAreaBottom"/>
              <a:pathLst>
                <a:path w="21600" h="31214">
                  <a:moveTo>
                    <a:pt x="3598" y="0"/>
                  </a:moveTo>
                  <a:arcTo wR="3598" hR="3598" stAng="16200000" swAng="-5400000"/>
                  <a:lnTo>
                    <a:pt x="0" y="27616"/>
                  </a:lnTo>
                  <a:arcTo wR="3598" hR="3598" stAng="10800000" swAng="-5400000"/>
                  <a:lnTo>
                    <a:pt x="18002" y="31214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0160" y="4046400"/>
              <a:ext cx="30780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T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4427640"/>
              <a:ext cx="23508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T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w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31880" y="3902040"/>
              <a:ext cx="3834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TS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525840" y="4232160"/>
              <a:ext cx="9360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22680" y="4232160"/>
              <a:ext cx="0" cy="936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440160" y="4660920"/>
              <a:ext cx="223560" cy="131760"/>
              <a:chOff x="3440160" y="4660920"/>
              <a:chExt cx="223560" cy="13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3525480" y="4660920"/>
                <a:ext cx="4968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30960" y="4660920"/>
                <a:ext cx="3276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30960" y="4753800"/>
                <a:ext cx="3276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0160" y="466092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0160" y="4753800"/>
                <a:ext cx="2988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74360" y="467784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4360" y="477396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58128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58128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45744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5000" y="47973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2160" y="4995720"/>
              <a:ext cx="4161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4511520"/>
              <a:ext cx="3286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22640" y="4514760"/>
              <a:ext cx="2793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8080" y="4511520"/>
              <a:ext cx="312480" cy="32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1800" y="3914640"/>
              <a:ext cx="485640" cy="978120"/>
            </a:xfrm>
            <a:custGeom>
              <a:avLst/>
              <a:gdLst>
                <a:gd name="textAreaLeft" fmla="*/ 23400 w 485640"/>
                <a:gd name="textAreaRight" fmla="*/ 462240 w 485640"/>
                <a:gd name="textAreaTop" fmla="*/ 23400 h 978120"/>
                <a:gd name="textAreaBottom" fmla="*/ 954720 h 978120"/>
              </a:gdLst>
              <a:ahLst/>
              <a:rect l="textAreaLeft" t="textAreaTop" r="textAreaRight" b="textAreaBottom"/>
              <a:pathLst>
                <a:path w="21600" h="43488">
                  <a:moveTo>
                    <a:pt x="3598" y="0"/>
                  </a:moveTo>
                  <a:arcTo wR="3598" hR="3598" stAng="16200000" swAng="-5400000"/>
                  <a:lnTo>
                    <a:pt x="0" y="39890"/>
                  </a:lnTo>
                  <a:arcTo wR="3598" hR="3598" stAng="10800000" swAng="-5400000"/>
                  <a:lnTo>
                    <a:pt x="18002" y="4348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40320" y="4338720"/>
              <a:ext cx="291960" cy="4586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58640"/>
                <a:gd name="textAreaBottom" fmla="*/ 444600 h 458640"/>
              </a:gdLst>
              <a:ahLst/>
              <a:rect l="textAreaLeft" t="textAreaTop" r="textAreaRight" b="textAreaBottom"/>
              <a:pathLst>
                <a:path w="21600" h="33916">
                  <a:moveTo>
                    <a:pt x="3598" y="0"/>
                  </a:moveTo>
                  <a:arcTo wR="3598" hR="3598" stAng="16200000" swAng="-5400000"/>
                  <a:lnTo>
                    <a:pt x="0" y="30318"/>
                  </a:lnTo>
                  <a:arcTo wR="3598" hR="3598" stAng="10800000" swAng="-5400000"/>
                  <a:lnTo>
                    <a:pt x="18002" y="3391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7240" y="4387680"/>
              <a:ext cx="317520" cy="4572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7200"/>
                <a:gd name="textAreaBottom" fmla="*/ 441720 h 457200"/>
              </a:gdLst>
              <a:ahLst/>
              <a:rect l="textAreaLeft" t="textAreaTop" r="textAreaRight" b="textAreaBottom"/>
              <a:pathLst>
                <a:path w="21600" h="31091">
                  <a:moveTo>
                    <a:pt x="3598" y="0"/>
                  </a:moveTo>
                  <a:arcTo wR="3598" hR="3598" stAng="16200000" swAng="-5400000"/>
                  <a:lnTo>
                    <a:pt x="0" y="27493"/>
                  </a:lnTo>
                  <a:arcTo wR="3598" hR="3598" stAng="10800000" swAng="-5400000"/>
                  <a:lnTo>
                    <a:pt x="18002" y="3109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13320" y="4054320"/>
              <a:ext cx="30960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3320" y="4421160"/>
              <a:ext cx="2347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G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x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3600" y="3911760"/>
              <a:ext cx="400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GS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03680" y="4240080"/>
              <a:ext cx="9216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840" y="424008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513320" y="4670280"/>
              <a:ext cx="225000" cy="127080"/>
              <a:chOff x="4513320" y="4670280"/>
              <a:chExt cx="225000" cy="12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4598640" y="4670280"/>
                <a:ext cx="51480" cy="12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07000" y="467028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07000" y="476316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13320" y="467028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13320" y="476316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51840" y="4687200"/>
                <a:ext cx="3960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51840" y="4780080"/>
                <a:ext cx="3960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655880" y="468720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655880" y="478008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527720" y="48085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22840" y="480996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91040" y="3905280"/>
              <a:ext cx="487440" cy="979560"/>
            </a:xfrm>
            <a:custGeom>
              <a:avLst/>
              <a:gdLst>
                <a:gd name="textAreaLeft" fmla="*/ 23760 w 487440"/>
                <a:gd name="textAreaRight" fmla="*/ 463680 w 487440"/>
                <a:gd name="textAreaTop" fmla="*/ 23760 h 979560"/>
                <a:gd name="textAreaBottom" fmla="*/ 955800 h 979560"/>
              </a:gdLst>
              <a:ahLst/>
              <a:rect l="textAreaLeft" t="textAreaTop" r="textAreaRight" b="textAreaBottom"/>
              <a:pathLst>
                <a:path w="21600" h="43391">
                  <a:moveTo>
                    <a:pt x="3598" y="0"/>
                  </a:moveTo>
                  <a:arcTo wR="3598" hR="3598" stAng="16200000" swAng="-5400000"/>
                  <a:lnTo>
                    <a:pt x="0" y="39793"/>
                  </a:lnTo>
                  <a:arcTo wR="3598" hR="3598" stAng="10800000" swAng="-5400000"/>
                  <a:lnTo>
                    <a:pt x="18002" y="4339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1360" y="4330800"/>
              <a:ext cx="291960" cy="4604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49">
                  <a:moveTo>
                    <a:pt x="3598" y="0"/>
                  </a:moveTo>
                  <a:arcTo wR="3598" hR="3598" stAng="16200000" swAng="-5400000"/>
                  <a:lnTo>
                    <a:pt x="0" y="30451"/>
                  </a:lnTo>
                  <a:arcTo wR="3598" hR="3598" stAng="10800000" swAng="-5400000"/>
                  <a:lnTo>
                    <a:pt x="18002" y="3404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48280" y="4378320"/>
              <a:ext cx="317520" cy="45864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8640"/>
                <a:gd name="textAreaBottom" fmla="*/ 443160 h 458640"/>
              </a:gdLst>
              <a:ahLst/>
              <a:rect l="textAreaLeft" t="textAreaTop" r="textAreaRight" b="textAreaBottom"/>
              <a:pathLst>
                <a:path w="21600" h="31189">
                  <a:moveTo>
                    <a:pt x="3598" y="0"/>
                  </a:moveTo>
                  <a:arcTo wR="3598" hR="3598" stAng="16200000" swAng="-5400000"/>
                  <a:lnTo>
                    <a:pt x="0" y="27591"/>
                  </a:lnTo>
                  <a:arcTo wR="3598" hR="3598" stAng="10800000" swAng="-5400000"/>
                  <a:lnTo>
                    <a:pt x="18002" y="3118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95800" y="4044960"/>
              <a:ext cx="309600" cy="18720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83200" y="4421160"/>
              <a:ext cx="2365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G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y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9960" y="3914640"/>
              <a:ext cx="400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GSN-y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184720" y="4230720"/>
              <a:ext cx="92160" cy="141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6880" y="423216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095800" y="4659480"/>
              <a:ext cx="220320" cy="131760"/>
              <a:chOff x="5095800" y="4659480"/>
              <a:chExt cx="220320" cy="131760"/>
            </a:xfrm>
          </p:grpSpPr>
          <p:sp>
            <p:nvSpPr>
              <p:cNvPr id="342" name=""/>
              <p:cNvSpPr/>
              <p:nvPr/>
            </p:nvSpPr>
            <p:spPr>
              <a:xfrm>
                <a:off x="5179680" y="4659480"/>
                <a:ext cx="5256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88040" y="465948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88040" y="475380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95800" y="465948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95800" y="4753800"/>
                <a:ext cx="298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3288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3288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239080" y="4677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239080" y="477396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103720" y="48085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388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32160" y="4502160"/>
              <a:ext cx="263520" cy="14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35440" y="4503600"/>
              <a:ext cx="344520" cy="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21160" y="4500720"/>
              <a:ext cx="32256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52680" y="4148280"/>
              <a:ext cx="9810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53000" y="4160880"/>
              <a:ext cx="7585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819680" y="4156200"/>
              <a:ext cx="270000" cy="2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40320" y="502272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97400" y="499896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07120" y="5429160"/>
              <a:ext cx="1519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2280" y="5006880"/>
              <a:ext cx="3506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07000" y="5006880"/>
              <a:ext cx="41580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88040" y="5002200"/>
              <a:ext cx="4064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710240" y="5415120"/>
              <a:ext cx="412560" cy="14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459240" y="4998960"/>
              <a:ext cx="1440" cy="4888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9960" y="5423040"/>
              <a:ext cx="8906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22640" y="5454720"/>
              <a:ext cx="0" cy="139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002200" y="5430960"/>
              <a:ext cx="0" cy="1029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62240" y="5437080"/>
              <a:ext cx="1800" cy="842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060960" y="5443200"/>
              <a:ext cx="0" cy="1364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03480" y="3441600"/>
              <a:ext cx="0" cy="684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24560" y="4498920"/>
              <a:ext cx="3556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0000" y="3854520"/>
              <a:ext cx="396720" cy="3506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97520" y="3981600"/>
              <a:ext cx="311040" cy="17748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C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1600" y="38466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CM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351320" y="3444480"/>
              <a:ext cx="0" cy="10270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22640" y="5595840"/>
              <a:ext cx="5619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14840" y="5583240"/>
              <a:ext cx="54792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936880" y="5251320"/>
              <a:ext cx="55440" cy="748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717640" y="5319720"/>
              <a:ext cx="22248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724120" y="5213520"/>
              <a:ext cx="0" cy="1029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7360" y="499896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11680" y="5027760"/>
              <a:ext cx="0" cy="4680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18120" y="500364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640" y="3510000"/>
              <a:ext cx="0" cy="116352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06600" y="352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2480" y="352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98720" y="3719520"/>
              <a:ext cx="43020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120" y="2527200"/>
              <a:ext cx="45072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440" y="296244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797120" y="2173320"/>
              <a:ext cx="117360" cy="442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36800" y="2171880"/>
              <a:ext cx="2761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87720" y="2187720"/>
              <a:ext cx="69840" cy="176364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9920" y="5092560"/>
              <a:ext cx="0" cy="789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20200" y="5054760"/>
              <a:ext cx="0" cy="7887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6080" y="4203720"/>
              <a:ext cx="9176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0640" y="3432240"/>
              <a:ext cx="1800" cy="12650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12240" y="32446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77280" y="325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88480" y="3427560"/>
              <a:ext cx="411120" cy="1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16800" y="2257560"/>
              <a:ext cx="45108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93840" y="267336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205840" y="2616120"/>
              <a:ext cx="2188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28600" y="481968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1480" y="3824280"/>
              <a:ext cx="450720" cy="108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26096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793520" y="4682880"/>
              <a:ext cx="507960" cy="46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69920" y="2905200"/>
              <a:ext cx="0" cy="11952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49040" y="4094280"/>
              <a:ext cx="1810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45680" y="4829040"/>
              <a:ext cx="0" cy="18756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16800" y="3835440"/>
              <a:ext cx="45108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84480" y="427212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31160" y="4678200"/>
              <a:ext cx="3380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295760" y="2601720"/>
              <a:ext cx="43668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96120" y="2602080"/>
              <a:ext cx="0" cy="123336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157880" y="3835440"/>
              <a:ext cx="138240" cy="2048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213920" y="2894040"/>
              <a:ext cx="2178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91560" y="3903840"/>
              <a:ext cx="31248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937640" y="4659480"/>
              <a:ext cx="223200" cy="131760"/>
              <a:chOff x="7937640" y="4659480"/>
              <a:chExt cx="223200" cy="131760"/>
            </a:xfrm>
          </p:grpSpPr>
          <p:sp>
            <p:nvSpPr>
              <p:cNvPr id="421" name=""/>
              <p:cNvSpPr/>
              <p:nvPr/>
            </p:nvSpPr>
            <p:spPr>
              <a:xfrm>
                <a:off x="8024400" y="4659480"/>
                <a:ext cx="5112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30960" y="465948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30960" y="4753800"/>
                <a:ext cx="298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37640" y="4659480"/>
                <a:ext cx="3096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37640" y="4753800"/>
                <a:ext cx="3096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75800" y="4677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75800" y="477396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08272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08272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959600" y="480996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45360" y="48052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31320" y="4994280"/>
              <a:ext cx="43812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83640" y="3903840"/>
              <a:ext cx="301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ACN-E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12080" y="505296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21440" y="5430960"/>
              <a:ext cx="9590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14840" y="5614920"/>
              <a:ext cx="205452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10080" y="4108320"/>
              <a:ext cx="4953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0640" y="4108320"/>
              <a:ext cx="6159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2200" y="4235400"/>
              <a:ext cx="395280" cy="139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864400" y="4280040"/>
              <a:ext cx="101520" cy="950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65920" y="4237200"/>
              <a:ext cx="1009440" cy="47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38800" y="5065560"/>
              <a:ext cx="988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Joint Domai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earer Inter-workin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Function (BIWF)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770440" y="4834080"/>
              <a:ext cx="0" cy="247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52720" y="3519360"/>
              <a:ext cx="864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Access Network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43680" y="3664080"/>
              <a:ext cx="0" cy="1364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51560" y="3429000"/>
              <a:ext cx="482760" cy="3240"/>
            </a:xfrm>
            <a:prstGeom prst="line">
              <a:avLst/>
            </a:prstGeom>
            <a:ln w="5724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823160" y="3315960"/>
              <a:ext cx="0" cy="136440"/>
            </a:xfrm>
            <a:prstGeom prst="line">
              <a:avLst/>
            </a:prstGeom>
            <a:ln w="5724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3440" y="4317840"/>
              <a:ext cx="326880" cy="57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97720" y="4435560"/>
              <a:ext cx="2383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3440" y="4324320"/>
              <a:ext cx="339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ACN-w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496280" y="4662360"/>
              <a:ext cx="221760" cy="128880"/>
              <a:chOff x="7496280" y="4662360"/>
              <a:chExt cx="221760" cy="128880"/>
            </a:xfrm>
          </p:grpSpPr>
          <p:sp>
            <p:nvSpPr>
              <p:cNvPr id="452" name=""/>
              <p:cNvSpPr/>
              <p:nvPr/>
            </p:nvSpPr>
            <p:spPr>
              <a:xfrm>
                <a:off x="7581600" y="4662360"/>
                <a:ext cx="52560" cy="1288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89960" y="466236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89960" y="4756680"/>
                <a:ext cx="280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496280" y="466236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496280" y="4756680"/>
                <a:ext cx="3132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34440" y="468072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3444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41360" y="468072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64136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50420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04000" y="4799160"/>
              <a:ext cx="0" cy="217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82040" y="4994280"/>
              <a:ext cx="2919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18200" y="4519440"/>
              <a:ext cx="476280" cy="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731000" y="4519080"/>
              <a:ext cx="192240" cy="82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84920" y="4502160"/>
              <a:ext cx="29520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461360" y="3838320"/>
              <a:ext cx="31680" cy="60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960" y="3835440"/>
              <a:ext cx="6573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50400" y="3825720"/>
              <a:ext cx="45720" cy="558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78680" y="5064120"/>
              <a:ext cx="0" cy="441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569360" y="5452560"/>
              <a:ext cx="0" cy="166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33520" y="2527200"/>
              <a:ext cx="45072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22360" y="2968560"/>
              <a:ext cx="468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63680" y="2732040"/>
              <a:ext cx="63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74880" y="2890800"/>
              <a:ext cx="119160" cy="64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7880" y="4186080"/>
              <a:ext cx="754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20000" y="4040280"/>
              <a:ext cx="252360" cy="18900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CS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7157520" y="4075200"/>
              <a:ext cx="754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85320" y="4108320"/>
              <a:ext cx="2552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48520" y="4229280"/>
              <a:ext cx="0" cy="204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20000" y="4425840"/>
              <a:ext cx="24768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A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a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89720" y="31464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Access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48640" y="2266920"/>
              <a:ext cx="450720" cy="107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53240" y="2484360"/>
              <a:ext cx="63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26320" y="2708280"/>
              <a:ext cx="468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089480" y="3424320"/>
              <a:ext cx="547560" cy="7524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71240" y="316080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Call &amp; Bear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(CBC) 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57680" y="3452760"/>
              <a:ext cx="0" cy="8906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5EF8-F50D-4F90-96F4-C8B381E59A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1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verall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se Cases -&gt; helps to refine scop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057400" y="1905120"/>
          <a:ext cx="66135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66135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55FD-FD3B-4B5D-BCEC-6F97FB47D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2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Flow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se Case -&gt; overview of scenario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362320" y="1981080"/>
          <a:ext cx="6400800" cy="38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64008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B8D4-CBB0-4FF7-8468-78A59C42B5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3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133720" y="2286000"/>
          <a:ext cx="651816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651816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198108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Model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lass diagrams -&gt; improve understanding the principle idea of BICC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F12C-16BD-4407-A9FA-EFE686AD76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4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Model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urther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fined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las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iagram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048120" y="1308240"/>
          <a:ext cx="571500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08240"/>
                    <a:ext cx="5715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F2E1-B590-49AD-AC09-C854E31480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5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198108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Zooming into individual BICC component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Play it again Sam!”, and: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2532240"/>
          <a:ext cx="822960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32240"/>
                    <a:ext cx="822960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A81F-24DA-441E-8FA2-464D3F8340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690480" y="2362320"/>
          <a:ext cx="4967280" cy="371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362320"/>
                    <a:ext cx="496728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5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648320" y="2286000"/>
          <a:ext cx="4430520" cy="408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443052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2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GB" sz="1800" spc="-1" strike="noStrike">
                <a:solidFill>
                  <a:srgbClr val="353a90"/>
                </a:solidFill>
                <a:latin typeface="Frutiger 45 Light"/>
              </a:rPr>
              <a:t>And there’d be much more to be modelled!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3031-39AF-414A-9ADD-B79CF8E546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A little story about a personal experience in...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ttempting to motivate the use of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bject-oriented modelling techniques in SG11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dvocating the advantages for the experts’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e attention achieved in the proces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bservations and conclusio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F7BE-DB25-41E3-926E-8C086AA5F7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037760" y="3886200"/>
            <a:ext cx="4953240" cy="31240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07D6-4983-453D-A3C0-7A0D7B14A3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Reception by the Meeting (of WP 2/11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Achieved Interest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markable interest shown by SG11 management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Moderate interest seen from participants progressing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Gap between S.P. and Supplie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Statement of Scepticis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Nice, but do we </a:t>
            </a: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really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 need this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earning curve steep enough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turn on investment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ML not a bit too formal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Possible Reasons for Spectisis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(Past) Experiences with Notatio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SDL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Widely adopted within SG11 (protocol standards, typically specifying the state machines), but applied in the right way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TCN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atio of sophistication vs. value was not perceived to be very promising to individual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ittle popularity of concept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With IP, everything is easier”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FA4A-307D-4ACF-9E82-AB965CC2F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Personal Observation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17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Contemporary” facto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ime pressur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et out standards fast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ittle resources availabl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duce efforts to the minimu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creased Fluctua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ople change,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know-how changes..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urrent quality control syste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iterative approach: changes to standards as implementers discover imperfect par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Hidden” facto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onceptual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enerally having a hard tim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enefits not convincing enough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TU “hidden law”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 playground for different parties with particular interests. Lobbying e.g. to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dvocate a specific solution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low down progress of work?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ften, full transparency is not necessarily desired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oisons top down approach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0656-F5D3-4D01-90C2-746E1E5C93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Personal Long-term View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Think positive!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omplexity in telecom will continue to increas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 common understanding of technical and conceptual issues is indispensa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Parties with particular interest in transparency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overnments: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gulation, lawful interception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Providers: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convergence challenge, cope with network complex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Summing up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Need for conceptual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till an indisputable necess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doption of new techniques  takes a lot of time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 patience with optimis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actors for success/failure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n actual participation (partie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market pressures (competition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mood of telecom busines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0" algn="ctr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GB" sz="2000" spc="-1" strike="noStrike">
                <a:solidFill>
                  <a:srgbClr val="353a90"/>
                </a:solidFill>
                <a:latin typeface="Wingdings"/>
                <a:ea typeface="Wingdings"/>
              </a:rPr>
              <a:t></a:t>
            </a:r>
            <a:br>
              <a:rPr sz="2000"/>
            </a:b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 </a:t>
            </a: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Better days will be coming agai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935C-25A7-4A76-BF17-BCCC937922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057400" y="1752480"/>
            <a:ext cx="4876920" cy="1752840"/>
          </a:xfrm>
          <a:prstGeom prst="cloudCallout">
            <a:avLst>
              <a:gd name="adj1" fmla="val -73666"/>
              <a:gd name="adj2" fmla="val 30708"/>
            </a:avLst>
          </a:prstGeom>
          <a:solidFill>
            <a:srgbClr val="cdcfed"/>
          </a:solidFill>
          <a:ln w="1260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3a90"/>
                </a:solidFill>
                <a:latin typeface="Times New Roman"/>
              </a:rPr>
              <a:t>Thank you!</a:t>
            </a:r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...and enjoy your stay in Switzerland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3733920"/>
            <a:ext cx="4267080" cy="1218960"/>
          </a:xfrm>
          <a:prstGeom prst="cloudCallout">
            <a:avLst>
              <a:gd name="adj1" fmla="val 54800"/>
              <a:gd name="adj2" fmla="val 96486"/>
            </a:avLst>
          </a:prstGeom>
          <a:solidFill>
            <a:srgbClr val="ccffff"/>
          </a:solidFill>
          <a:ln w="1260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Frutiger 45 Light"/>
              </a:rPr>
              <a:t>...despite the *?+!%ç&amp;*/ weather!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5334120"/>
            <a:ext cx="1752480" cy="914400"/>
          </a:xfrm>
          <a:prstGeom prst="cloudCallout">
            <a:avLst>
              <a:gd name="adj1" fmla="val -111865"/>
              <a:gd name="adj2" fmla="val 104513"/>
            </a:avLst>
          </a:prstGeom>
          <a:solidFill>
            <a:srgbClr val="ffffcc"/>
          </a:solidFill>
          <a:ln w="12600">
            <a:solidFill>
              <a:srgbClr val="cdcf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coffee break</a:t>
            </a:r>
            <a:br>
              <a:rPr sz="1800"/>
            </a:b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now?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943600"/>
            <a:ext cx="1066680" cy="609480"/>
          </a:xfrm>
          <a:prstGeom prst="cloudCallout">
            <a:avLst>
              <a:gd name="adj1" fmla="val 106847"/>
              <a:gd name="adj2" fmla="val 83333"/>
            </a:avLst>
          </a:prstGeom>
          <a:solidFill>
            <a:srgbClr val="ffffcc"/>
          </a:solidFill>
          <a:ln w="12600">
            <a:solidFill>
              <a:srgbClr val="cdcf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psst!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9CC-FA00-4852-8A97-2BC7E45285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al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GB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ACKUP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7FBA-82CB-403E-9FF4-FD59E19C5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15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Links &amp; Book References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1/2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200" spc="-1" strike="noStrike">
                <a:solidFill>
                  <a:srgbClr val="353a90"/>
                </a:solidFill>
                <a:latin typeface="Frutiger 45 Light"/>
              </a:rPr>
              <a:t>OOA/D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2"/>
              </a:rPr>
              <a:t>sdmagazine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3"/>
              </a:rPr>
              <a:t>.com/articles/1999/0006/0006a/0006a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4"/>
              </a:rPr>
              <a:t>ht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ilding Object Applications That Work: Your Step-By-Step Handbook for Developing Robust Systems with Object Technology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Scott W. Ambler (Cambridge University Press, 1998) 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200" spc="-1" strike="noStrike">
                <a:solidFill>
                  <a:srgbClr val="353a90"/>
                </a:solidFill>
                <a:latin typeface="Frutiger 45 Light"/>
              </a:rPr>
              <a:t>OOM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5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6"/>
              </a:rPr>
              <a:t>ambysoft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7"/>
              </a:rPr>
              <a:t>.com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8"/>
              </a:rPr>
              <a:t>eCommerceArchitecture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9"/>
              </a:rPr>
              <a:t>.ht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http://www.sdmagazine.com/articles/1999/0004/0004o/0004o.ht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siness Engineering With Object Technology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David Taylor (John Wiley and Sons, 1995) 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Enterprise Modelling with UML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Chris Marshall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DF23-4F0E-4F6A-A31E-566EED5E52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15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Links &amp; Book References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2/2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2"/>
              </a:rPr>
              <a:t>omg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3"/>
              </a:rPr>
              <a:t>.org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4"/>
              </a:rPr>
              <a:t>u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5"/>
              </a:rPr>
              <a:t>http://www.rational.com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6"/>
              </a:rPr>
              <a:t>u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he Unified Modeling Language Reference Manual”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y Grady Booch, James Rumbaugh, and Ivar Jacobson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he Unified Modeling Language User Guide”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y Grady Booch, James Rumbaugh, and Ivar Jacobson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2FF1-7F1E-44FB-953B-526B6430E8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Cont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bout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OOM Story in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D947-89F3-43B7-A2BA-3D28652291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bout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OOM Story in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 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600" y="914400"/>
            <a:ext cx="4952880" cy="35812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24E5-19FE-4820-B0B7-7594DC4FE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G11 Signalling Requirements - what’s this?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-2538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Question to be answered before protocol development starts:</a:t>
            </a:r>
            <a:br>
              <a:rPr sz="2200"/>
            </a:b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i="1" lang="en-GB" sz="2200" spc="-1" strike="noStrike">
                <a:solidFill>
                  <a:srgbClr val="353a90"/>
                </a:solidFill>
                <a:latin typeface="Frutiger 45 Light"/>
              </a:rPr>
              <a:t>What do we expect the particular signalling protocol to do?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”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A collection of functional requirements on a signalling protocol that is destined for specific purposes and applications: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at is, signalling requirements need to identify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context of usage (= equal to an applicability statement?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ll the scenarios that need to be applica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Hence signalling requirements would contai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ignalling [network] architecture and functional el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Description of network functions that are needed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Functional elements to be implemented ( != physical element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deally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A3A5-EEA3-4365-A2C1-065B93001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he Proposal for SG11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BICC Capability Set 3 (Bearer Independent Call Control)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BICC is a framework for providing ISDN services over transport technologies beyond simply TDM: ATM AAL1, AAL2, IP, MPLS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 the light of the starting BICC CS3 activity, further ways to improve the modelling techniques for envisaged signalling architecture were seeked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is resulted in a contribution brought into WP 2/11 at the SG11 meeting in Mai 2001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elayed Contribution </a:t>
            </a:r>
            <a:r>
              <a:rPr b="0" lang="de-DE" sz="2000" spc="-1" strike="noStrike">
                <a:solidFill>
                  <a:srgbClr val="353a90"/>
                </a:solidFill>
                <a:latin typeface="Frutiger 45 Light"/>
              </a:rPr>
              <a:t>D.229 – 2/11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im: to propagate the idea of using OOM and UML for the development of signalling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ABF8-6A58-4170-814F-98FA58DD9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 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4200" y="2743200"/>
            <a:ext cx="5181480" cy="35812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1C3E-E507-483E-9EB4-E94DCB862C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bject-Oriented Analysis &amp; Design (OOA/D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 very, very little history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ate 1980s: OO programming languages (Smalltalk, C++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arly 1990s: OOA/D techniques (Booch, Rumbaugh, Jacobson, ...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ate 1990s: joint effort to develop the UML standard; adopted by OM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&amp;D as conceptual tool was originally directly associated with software development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:</a:t>
            </a:r>
            <a:br>
              <a:rPr sz="20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nalysing a system and its environment, as well as the requirements on the system, seen from a user’s perspectiv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D:</a:t>
            </a:r>
            <a:br>
              <a:rPr sz="20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Documentation on the concept, and the design of the implementation (== the inside of the syste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ML: UML as notation standard;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UML tools with the purpose to automatically create program code out of the object-oriented models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3540-D1EB-4FBF-B5D0-46AE1D6C2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bject-Oriented Modelling (OOM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5520" indent="-24552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Simply going beyond the purpose of developing software :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0560" indent="-28152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, OOD &amp; UML are 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description techniques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, thus probably also applicable for other things than software development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0560" indent="-28152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Meanwhile, modelling is used in many areas, e.g.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siness engineering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modelling of enterprises in terms of purpose, processes and organisational entiti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Service development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service components and their associations amongst themselves as well to network capabiliti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Database design &amp; data warehouses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data structures, specifications for data mining and information exchange (XML/DT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elecom Operations Map (TOM)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a framework for a process architecture suitable to telecommunications service provider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Network Management Systems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managed objects (MIB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45520"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Why not make profit from OOM &amp; UML in ITU efforts as well?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94A5-2A8E-4201-A38A-3700B01913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1:25:30Z</dcterms:created>
  <dc:creator>Schumacher Raphael</dc:creator>
  <dc:description/>
  <dc:language>en-US</dc:language>
  <cp:lastModifiedBy>Schumacher Raphael</cp:lastModifiedBy>
  <cp:lastPrinted>2002-11-23T07:59:22Z</cp:lastPrinted>
  <dcterms:modified xsi:type="dcterms:W3CDTF">2002-11-23T08:30:51Z</dcterms:modified>
  <cp:revision>362</cp:revision>
  <dc:subject>ITU Workshop "Use Of Description Techniques"</dc:subject>
  <dc:title>Use of Object-Oriented Modelling (OOM) Principles and UML Notation to Define Signalling Requirements</dc:title>
</cp:coreProperties>
</file>